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278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28400" cy="984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05040" y="738360"/>
            <a:ext cx="4921200" cy="36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move the slide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896760" y="4674960"/>
            <a:ext cx="4935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934992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12760" y="934992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C89B-5289-4706-B90E-23F5C3571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9050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896760" y="4674960"/>
            <a:ext cx="4935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Encoding Text-based performance is slow due to text processing like string   concatenation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Encoding/Decoding of text-based protocol accounts to around .004 micro-seconds as compared to just .0008 micro-seconds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050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896760" y="4674960"/>
            <a:ext cx="4935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Front End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Back End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9050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896760" y="4674960"/>
            <a:ext cx="4935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- Illustrates one-to-one mapping of Abstract Syntax to Concrete Syntax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- Same example will be used to demonstrate working of ASN Compiler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050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896760" y="4674960"/>
            <a:ext cx="4935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Graph is converted to table using Depth First Algorithm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9050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96760" y="4674960"/>
            <a:ext cx="4935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Values within () indicate the value to be encoded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A488-1107-494E-BA95-429654FA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4844-352B-4E8E-BD13-DA4CE2E4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75C6-03E0-4815-ACC5-62D6460E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D85E-DC6E-47B8-BF76-B0373604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2AB8B-2CF5-4B42-BCB1-93CF6302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F11C2-41D4-4A6F-908E-DBE2C33B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B9373-3424-4F27-B071-FC334609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C750E-CA72-4B96-9692-7B0F91EE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9EFAD-F30B-4F8B-BA41-EB6D39C6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070BE-B403-473F-99EE-218F3671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36D3E-9E2B-49DA-A75D-4A5C4ADA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FD8B-9791-4207-B68F-185FDC16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4F89E-5845-4498-B69B-801769F4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5D74E-BB16-4AF7-B2B4-44DB4184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D0755-E7E9-4CD0-85FC-AEC173D0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A4CE1-479C-4236-B2EC-DA6DCD43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95CE8-DA53-43A0-89F1-7447EC08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6C2E-5F33-4BF9-8080-17819B6F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4464-3760-432E-B234-9CBB920A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0DA9-D989-463E-867C-FABA5773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657C-314A-4B08-909D-0F4232F7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5682-0133-47F6-BD08-5DEE94EB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8F55-B057-4F5B-AED3-2F401E23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7724-C53A-40C7-B242-4F269C15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EC50-B159-411B-8773-EA0E89C89E72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2938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0"/>
            <a:ext cx="1766880" cy="6882840"/>
            <a:chOff x="0" y="0"/>
            <a:chExt cx="1766880" cy="6882840"/>
          </a:xfrm>
        </p:grpSpPr>
        <p:sp>
          <p:nvSpPr>
            <p:cNvPr id="5" name=""/>
            <p:cNvSpPr/>
            <p:nvPr/>
          </p:nvSpPr>
          <p:spPr>
            <a:xfrm>
              <a:off x="0" y="1257480"/>
              <a:ext cx="176688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itulogo-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6688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FC52-D85A-4ABE-B526-3AE2FF28D2DE}" type="datetime">
              <a:rPr b="0" lang="fr-CH" sz="1000" spc="-1" strike="noStrike">
                <a:solidFill>
                  <a:srgbClr val="000000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1765440" y="6565680"/>
            <a:ext cx="6705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ITU-T and ITU-D Workshop - Bangalore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India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, 30-31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297000" y="5456160"/>
            <a:ext cx="1065240" cy="103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D8153BE5-3F8D-4CC0-8A71-A71A7BE4236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EA3F-0430-46CE-9868-E686919E4948}" type="datetime">
              <a:rPr b="0" lang="fr-CH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TU-T and ITU-D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Bangalore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ndia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)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, 30-31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9920" y="2584440"/>
            <a:ext cx="78008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ASN.1 Compiler for text-based protocols!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00280" y="481788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Raman Govindan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ftware Consultant, Wipro Technologies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95480" y="123840"/>
            <a:ext cx="699768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ase Study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ext-based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SN.1-based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71360" y="1260360"/>
            <a:ext cx="71722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se study is on a comparative study of text-based versus ASN.1-based protoc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tract of text-based protocol and its equivalent ASN.1 representation is taken as reference for the stud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919760" y="898560"/>
            <a:ext cx="907920" cy="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E369-79F9-48AE-AE0D-1B0C2049107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1DFA49A-3633-452F-859F-24F43D8BE1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17640" y="173160"/>
            <a:ext cx="732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971360" y="650880"/>
            <a:ext cx="7172280" cy="59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ime-fields                =   1*( "t=" start-time space stop-ti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*(CRLF repeat-fields) CRLF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[zone-adjustments CRLF]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peat-fields             =   "r=" repeat-interval space typed-ti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*(space typed-time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zone-adjustments    =   time space ["-"] typed-ti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*(space time space ["-"] typed-time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art-time                 =   time | "0"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op-time                 =   time | "0"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ime                         =   POS-DIGIT 9*(DIGIT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;sufficient for 2 more centuri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peat-fields            =   "r=" repeat-interval space typed-ti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*(space typed-time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peat-interval         =   typed-ti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yped-time               =   1*(DIGIT) [fixed-len-time-unit]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xed-len-time-unit    =   "d" | "h" | "m" | "s"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zone-adjustments    =   time space ["-"] typed-ti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*(space time space ["-"] typed-time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"/>
          <p:cNvSpPr/>
          <p:nvPr/>
        </p:nvSpPr>
        <p:spPr>
          <a:xfrm>
            <a:off x="2149560" y="114480"/>
            <a:ext cx="65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rebuchet MS"/>
              </a:rPr>
              <a:t>Extract of Text-based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2962-175E-49F9-B0C1-40783928577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4C94838-3DC6-4734-99EB-14C038FAFB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17640" y="173160"/>
            <a:ext cx="732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1971360" y="785520"/>
            <a:ext cx="717228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imeFields ::= SEQUENCE {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imeFields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QUENCE OF TimeFiel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zoneAdjustments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ZoneAdjustments OPTIONA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imeField ::= SEQUENCE {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artTime    NTPTimeStamp Optional  -- Optional means 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opTime    NTPTimeStamp Optional  -- Optional means 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peatFields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QUENCE OF RepeatField  OPTIONA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TPTimeStamp ::= INTEGER(1000000000..4294967295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sitiveNegativeNTPTimeStamp ::= INTEGER(1000000000..4294967295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peatFields ::= SEQUENCE {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peatInterval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ypedTi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ura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ypedTi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QUENCE OF typedTi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"/>
          <p:cNvSpPr/>
          <p:nvPr/>
        </p:nvSpPr>
        <p:spPr>
          <a:xfrm>
            <a:off x="1898640" y="173160"/>
            <a:ext cx="682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rebuchet MS"/>
              </a:rPr>
              <a:t>Equivalent ASN.1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266B-7699-4263-9570-6DAE4FB8645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7CEE2AF-4B97-4D1D-9F35-F35B3BE051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17640" y="173160"/>
            <a:ext cx="732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971360" y="699840"/>
            <a:ext cx="717228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zoneAdjustements ::= SEQUENCE {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ime     NTPTimeStamp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djust  positiveNegativetypedTi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ypedTime ::= CHOICE {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tpTimeStamp  NTPTimeStamp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ays                  INTEGER (1..73050)        -- Two centuri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urs                 INTEGER (1..8784)          -- One yea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inutes             INTEGER (1..527040)      -- One yea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onds            INTEGER (1..31622400)  -- One yea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sitiveNegativetypedTime ::= CHOICE {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tpTimeStamp          positiveNegativeNTPTimeStamp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ays                          INTEGER(-73050..73050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urs                         INTEGER(-8784..8784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inutes                     INTEGER(-527040..527040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onds                    INTEGER(-31622400..31622400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"/>
          <p:cNvSpPr/>
          <p:nvPr/>
        </p:nvSpPr>
        <p:spPr>
          <a:xfrm>
            <a:off x="1811160" y="187200"/>
            <a:ext cx="733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rebuchet MS"/>
              </a:rPr>
              <a:t>Equivalent ASN.1 Representation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F75C-8DF9-4A65-9436-41B7D1E2BCE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B800479-B36E-4160-B005-032ED81920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52200" y="-360"/>
            <a:ext cx="714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Benchmark Results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ext-based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SN.1-based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943280" y="1254240"/>
            <a:ext cx="34812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2800 Encoding - 1micro-second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280 Decoding - 1micro- second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 there a tool to optimize parser-generated code?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otprint is 100KB for entire grammar which includes the one in this case study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ext compression can be used for efficient bandwidth at the expense of performanc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460840" y="1282320"/>
            <a:ext cx="34531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23000 Encoding - 1micro-second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22000 Decoding -  1micro-second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Optimized ASN.1 Compiler leads to easier development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otprint is 45KB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ER can be used for efficient bandwidt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26B1-DBF0-4363-A1BE-C52913AA70A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1E81E3B-FA58-455E-8E93-0361C22FA8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urdles to ASN.1-based protoco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Availability of limited free ASN.1 tool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67000" y="2900520"/>
            <a:ext cx="61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rebuchet MS"/>
                <a:ea typeface="Arial"/>
              </a:rPr>
              <a:t>Contribute more and more tools in public doma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322360" y="4116240"/>
            <a:ext cx="642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rebuchet MS"/>
                <a:ea typeface="Arial"/>
              </a:rPr>
              <a:t>Tool to convert BNF to ASN.1 representation will promote text-based evangelists to consider ASN.1-based protoc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3668-7CF1-4C54-8893-079853850D7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20FD40B-0AB8-4D5B-9D03-3A1DAB4637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778040" y="460440"/>
            <a:ext cx="7205760" cy="540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778040" y="534960"/>
            <a:ext cx="7205760" cy="11415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778040" y="5576760"/>
            <a:ext cx="7205760" cy="28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67000" y="880920"/>
            <a:ext cx="2625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VoiceEngine for R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73160" y="655560"/>
            <a:ext cx="61246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57320" y="639720"/>
            <a:ext cx="6126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52960" y="866880"/>
            <a:ext cx="2625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VoiceEngine for R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78040" y="5562720"/>
            <a:ext cx="72057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48120" y="5592600"/>
            <a:ext cx="681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VoiceEngine Software provides the Voice Over Cable Capability to the dev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033640" y="1630440"/>
            <a:ext cx="1636560" cy="1230120"/>
            <a:chOff x="2033640" y="1630440"/>
            <a:chExt cx="1636560" cy="1230120"/>
          </a:xfrm>
        </p:grpSpPr>
        <p:grpSp>
          <p:nvGrpSpPr>
            <p:cNvPr id="439" name=""/>
            <p:cNvGrpSpPr/>
            <p:nvPr/>
          </p:nvGrpSpPr>
          <p:grpSpPr>
            <a:xfrm>
              <a:off x="2666880" y="1940040"/>
              <a:ext cx="300240" cy="664920"/>
              <a:chOff x="2666880" y="1940040"/>
              <a:chExt cx="300240" cy="664920"/>
            </a:xfrm>
          </p:grpSpPr>
          <p:sp>
            <p:nvSpPr>
              <p:cNvPr id="440" name=""/>
              <p:cNvSpPr/>
              <p:nvPr/>
            </p:nvSpPr>
            <p:spPr>
              <a:xfrm>
                <a:off x="2666880" y="1940040"/>
                <a:ext cx="300240" cy="664920"/>
              </a:xfrm>
              <a:custGeom>
                <a:avLst/>
                <a:gdLst/>
                <a:ahLst/>
                <a:rect l="l" t="t" r="r" b="b"/>
                <a:pathLst>
                  <a:path w="6440" h="15903">
                    <a:moveTo>
                      <a:pt x="1725" y="488"/>
                    </a:moveTo>
                    <a:lnTo>
                      <a:pt x="1737" y="422"/>
                    </a:lnTo>
                    <a:lnTo>
                      <a:pt x="1754" y="362"/>
                    </a:lnTo>
                    <a:lnTo>
                      <a:pt x="1776" y="305"/>
                    </a:lnTo>
                    <a:lnTo>
                      <a:pt x="1803" y="255"/>
                    </a:lnTo>
                    <a:lnTo>
                      <a:pt x="1834" y="208"/>
                    </a:lnTo>
                    <a:lnTo>
                      <a:pt x="1869" y="166"/>
                    </a:lnTo>
                    <a:lnTo>
                      <a:pt x="1908" y="129"/>
                    </a:lnTo>
                    <a:lnTo>
                      <a:pt x="1950" y="97"/>
                    </a:lnTo>
                    <a:lnTo>
                      <a:pt x="1994" y="70"/>
                    </a:lnTo>
                    <a:lnTo>
                      <a:pt x="2041" y="47"/>
                    </a:lnTo>
                    <a:lnTo>
                      <a:pt x="2090" y="28"/>
                    </a:lnTo>
                    <a:lnTo>
                      <a:pt x="2139" y="14"/>
                    </a:lnTo>
                    <a:lnTo>
                      <a:pt x="2191" y="5"/>
                    </a:lnTo>
                    <a:lnTo>
                      <a:pt x="2243" y="0"/>
                    </a:lnTo>
                    <a:lnTo>
                      <a:pt x="2295" y="0"/>
                    </a:lnTo>
                    <a:lnTo>
                      <a:pt x="2347" y="5"/>
                    </a:lnTo>
                    <a:lnTo>
                      <a:pt x="2399" y="13"/>
                    </a:lnTo>
                    <a:lnTo>
                      <a:pt x="2449" y="27"/>
                    </a:lnTo>
                    <a:lnTo>
                      <a:pt x="2499" y="45"/>
                    </a:lnTo>
                    <a:lnTo>
                      <a:pt x="2547" y="67"/>
                    </a:lnTo>
                    <a:lnTo>
                      <a:pt x="2593" y="93"/>
                    </a:lnTo>
                    <a:lnTo>
                      <a:pt x="2636" y="123"/>
                    </a:lnTo>
                    <a:lnTo>
                      <a:pt x="2676" y="158"/>
                    </a:lnTo>
                    <a:lnTo>
                      <a:pt x="2713" y="197"/>
                    </a:lnTo>
                    <a:lnTo>
                      <a:pt x="2747" y="240"/>
                    </a:lnTo>
                    <a:lnTo>
                      <a:pt x="2776" y="288"/>
                    </a:lnTo>
                    <a:lnTo>
                      <a:pt x="2801" y="339"/>
                    </a:lnTo>
                    <a:lnTo>
                      <a:pt x="2820" y="395"/>
                    </a:lnTo>
                    <a:lnTo>
                      <a:pt x="2835" y="454"/>
                    </a:lnTo>
                    <a:lnTo>
                      <a:pt x="2844" y="518"/>
                    </a:lnTo>
                    <a:lnTo>
                      <a:pt x="2847" y="587"/>
                    </a:lnTo>
                    <a:lnTo>
                      <a:pt x="2843" y="658"/>
                    </a:lnTo>
                    <a:lnTo>
                      <a:pt x="2786" y="1258"/>
                    </a:lnTo>
                    <a:lnTo>
                      <a:pt x="2794" y="1262"/>
                    </a:lnTo>
                    <a:lnTo>
                      <a:pt x="2803" y="1266"/>
                    </a:lnTo>
                    <a:lnTo>
                      <a:pt x="2811" y="1271"/>
                    </a:lnTo>
                    <a:lnTo>
                      <a:pt x="2818" y="1276"/>
                    </a:lnTo>
                    <a:lnTo>
                      <a:pt x="2824" y="1282"/>
                    </a:lnTo>
                    <a:lnTo>
                      <a:pt x="2831" y="1288"/>
                    </a:lnTo>
                    <a:lnTo>
                      <a:pt x="2836" y="1295"/>
                    </a:lnTo>
                    <a:lnTo>
                      <a:pt x="2840" y="1302"/>
                    </a:lnTo>
                    <a:lnTo>
                      <a:pt x="2844" y="1310"/>
                    </a:lnTo>
                    <a:lnTo>
                      <a:pt x="2847" y="1318"/>
                    </a:lnTo>
                    <a:lnTo>
                      <a:pt x="2850" y="1328"/>
                    </a:lnTo>
                    <a:lnTo>
                      <a:pt x="2852" y="1337"/>
                    </a:lnTo>
                    <a:lnTo>
                      <a:pt x="2853" y="1348"/>
                    </a:lnTo>
                    <a:lnTo>
                      <a:pt x="2853" y="1359"/>
                    </a:lnTo>
                    <a:lnTo>
                      <a:pt x="2853" y="1370"/>
                    </a:lnTo>
                    <a:lnTo>
                      <a:pt x="2852" y="1382"/>
                    </a:lnTo>
                    <a:lnTo>
                      <a:pt x="2815" y="1714"/>
                    </a:lnTo>
                    <a:lnTo>
                      <a:pt x="2862" y="1697"/>
                    </a:lnTo>
                    <a:lnTo>
                      <a:pt x="2909" y="1681"/>
                    </a:lnTo>
                    <a:lnTo>
                      <a:pt x="2956" y="1667"/>
                    </a:lnTo>
                    <a:lnTo>
                      <a:pt x="3005" y="1653"/>
                    </a:lnTo>
                    <a:lnTo>
                      <a:pt x="3052" y="1640"/>
                    </a:lnTo>
                    <a:lnTo>
                      <a:pt x="3100" y="1629"/>
                    </a:lnTo>
                    <a:lnTo>
                      <a:pt x="3150" y="1619"/>
                    </a:lnTo>
                    <a:lnTo>
                      <a:pt x="3198" y="1610"/>
                    </a:lnTo>
                    <a:lnTo>
                      <a:pt x="3248" y="1602"/>
                    </a:lnTo>
                    <a:lnTo>
                      <a:pt x="3297" y="1595"/>
                    </a:lnTo>
                    <a:lnTo>
                      <a:pt x="3348" y="1589"/>
                    </a:lnTo>
                    <a:lnTo>
                      <a:pt x="3397" y="1584"/>
                    </a:lnTo>
                    <a:lnTo>
                      <a:pt x="3448" y="1580"/>
                    </a:lnTo>
                    <a:lnTo>
                      <a:pt x="3497" y="1577"/>
                    </a:lnTo>
                    <a:lnTo>
                      <a:pt x="3548" y="1575"/>
                    </a:lnTo>
                    <a:lnTo>
                      <a:pt x="3598" y="1573"/>
                    </a:lnTo>
                    <a:lnTo>
                      <a:pt x="3648" y="1572"/>
                    </a:lnTo>
                    <a:lnTo>
                      <a:pt x="3699" y="1572"/>
                    </a:lnTo>
                    <a:lnTo>
                      <a:pt x="3749" y="1573"/>
                    </a:lnTo>
                    <a:lnTo>
                      <a:pt x="3800" y="1574"/>
                    </a:lnTo>
                    <a:lnTo>
                      <a:pt x="3850" y="1577"/>
                    </a:lnTo>
                    <a:lnTo>
                      <a:pt x="3901" y="1579"/>
                    </a:lnTo>
                    <a:lnTo>
                      <a:pt x="3951" y="1582"/>
                    </a:lnTo>
                    <a:lnTo>
                      <a:pt x="4002" y="1586"/>
                    </a:lnTo>
                    <a:lnTo>
                      <a:pt x="4102" y="1596"/>
                    </a:lnTo>
                    <a:lnTo>
                      <a:pt x="4201" y="1607"/>
                    </a:lnTo>
                    <a:lnTo>
                      <a:pt x="4300" y="1619"/>
                    </a:lnTo>
                    <a:lnTo>
                      <a:pt x="4396" y="1633"/>
                    </a:lnTo>
                    <a:lnTo>
                      <a:pt x="4481" y="1651"/>
                    </a:lnTo>
                    <a:lnTo>
                      <a:pt x="4567" y="1669"/>
                    </a:lnTo>
                    <a:lnTo>
                      <a:pt x="4657" y="1689"/>
                    </a:lnTo>
                    <a:lnTo>
                      <a:pt x="4748" y="1711"/>
                    </a:lnTo>
                    <a:lnTo>
                      <a:pt x="4840" y="1736"/>
                    </a:lnTo>
                    <a:lnTo>
                      <a:pt x="4935" y="1765"/>
                    </a:lnTo>
                    <a:lnTo>
                      <a:pt x="5029" y="1797"/>
                    </a:lnTo>
                    <a:lnTo>
                      <a:pt x="5124" y="1832"/>
                    </a:lnTo>
                    <a:lnTo>
                      <a:pt x="5218" y="1873"/>
                    </a:lnTo>
                    <a:lnTo>
                      <a:pt x="5313" y="1918"/>
                    </a:lnTo>
                    <a:lnTo>
                      <a:pt x="5406" y="1969"/>
                    </a:lnTo>
                    <a:lnTo>
                      <a:pt x="5499" y="2024"/>
                    </a:lnTo>
                    <a:lnTo>
                      <a:pt x="5588" y="2087"/>
                    </a:lnTo>
                    <a:lnTo>
                      <a:pt x="5676" y="2154"/>
                    </a:lnTo>
                    <a:lnTo>
                      <a:pt x="5761" y="2230"/>
                    </a:lnTo>
                    <a:lnTo>
                      <a:pt x="5844" y="2312"/>
                    </a:lnTo>
                    <a:lnTo>
                      <a:pt x="5922" y="2402"/>
                    </a:lnTo>
                    <a:lnTo>
                      <a:pt x="5997" y="2499"/>
                    </a:lnTo>
                    <a:lnTo>
                      <a:pt x="6067" y="2606"/>
                    </a:lnTo>
                    <a:lnTo>
                      <a:pt x="6133" y="2722"/>
                    </a:lnTo>
                    <a:lnTo>
                      <a:pt x="6193" y="2846"/>
                    </a:lnTo>
                    <a:lnTo>
                      <a:pt x="6249" y="2980"/>
                    </a:lnTo>
                    <a:lnTo>
                      <a:pt x="6297" y="3124"/>
                    </a:lnTo>
                    <a:lnTo>
                      <a:pt x="6339" y="3279"/>
                    </a:lnTo>
                    <a:lnTo>
                      <a:pt x="6375" y="3444"/>
                    </a:lnTo>
                    <a:lnTo>
                      <a:pt x="6403" y="3621"/>
                    </a:lnTo>
                    <a:lnTo>
                      <a:pt x="6424" y="3810"/>
                    </a:lnTo>
                    <a:lnTo>
                      <a:pt x="6436" y="4009"/>
                    </a:lnTo>
                    <a:lnTo>
                      <a:pt x="6440" y="4222"/>
                    </a:lnTo>
                    <a:lnTo>
                      <a:pt x="6435" y="4449"/>
                    </a:lnTo>
                    <a:lnTo>
                      <a:pt x="6422" y="4688"/>
                    </a:lnTo>
                    <a:lnTo>
                      <a:pt x="6397" y="4940"/>
                    </a:lnTo>
                    <a:lnTo>
                      <a:pt x="5295" y="14406"/>
                    </a:lnTo>
                    <a:lnTo>
                      <a:pt x="5281" y="14474"/>
                    </a:lnTo>
                    <a:lnTo>
                      <a:pt x="5267" y="14538"/>
                    </a:lnTo>
                    <a:lnTo>
                      <a:pt x="5251" y="14601"/>
                    </a:lnTo>
                    <a:lnTo>
                      <a:pt x="5237" y="14660"/>
                    </a:lnTo>
                    <a:lnTo>
                      <a:pt x="5220" y="14718"/>
                    </a:lnTo>
                    <a:lnTo>
                      <a:pt x="5204" y="14772"/>
                    </a:lnTo>
                    <a:lnTo>
                      <a:pt x="5186" y="14826"/>
                    </a:lnTo>
                    <a:lnTo>
                      <a:pt x="5168" y="14876"/>
                    </a:lnTo>
                    <a:lnTo>
                      <a:pt x="5149" y="14925"/>
                    </a:lnTo>
                    <a:lnTo>
                      <a:pt x="5130" y="14972"/>
                    </a:lnTo>
                    <a:lnTo>
                      <a:pt x="5109" y="15018"/>
                    </a:lnTo>
                    <a:lnTo>
                      <a:pt x="5088" y="15062"/>
                    </a:lnTo>
                    <a:lnTo>
                      <a:pt x="5065" y="15105"/>
                    </a:lnTo>
                    <a:lnTo>
                      <a:pt x="5041" y="15146"/>
                    </a:lnTo>
                    <a:lnTo>
                      <a:pt x="5017" y="15185"/>
                    </a:lnTo>
                    <a:lnTo>
                      <a:pt x="4991" y="15225"/>
                    </a:lnTo>
                    <a:lnTo>
                      <a:pt x="4964" y="15263"/>
                    </a:lnTo>
                    <a:lnTo>
                      <a:pt x="4936" y="15299"/>
                    </a:lnTo>
                    <a:lnTo>
                      <a:pt x="4906" y="15337"/>
                    </a:lnTo>
                    <a:lnTo>
                      <a:pt x="4875" y="15372"/>
                    </a:lnTo>
                    <a:lnTo>
                      <a:pt x="4843" y="15407"/>
                    </a:lnTo>
                    <a:lnTo>
                      <a:pt x="4809" y="15443"/>
                    </a:lnTo>
                    <a:lnTo>
                      <a:pt x="4775" y="15478"/>
                    </a:lnTo>
                    <a:lnTo>
                      <a:pt x="4738" y="15512"/>
                    </a:lnTo>
                    <a:lnTo>
                      <a:pt x="4700" y="15548"/>
                    </a:lnTo>
                    <a:lnTo>
                      <a:pt x="4661" y="15582"/>
                    </a:lnTo>
                    <a:lnTo>
                      <a:pt x="4620" y="15617"/>
                    </a:lnTo>
                    <a:lnTo>
                      <a:pt x="4578" y="15654"/>
                    </a:lnTo>
                    <a:lnTo>
                      <a:pt x="4487" y="15726"/>
                    </a:lnTo>
                    <a:lnTo>
                      <a:pt x="4389" y="15802"/>
                    </a:lnTo>
                    <a:lnTo>
                      <a:pt x="4378" y="15807"/>
                    </a:lnTo>
                    <a:lnTo>
                      <a:pt x="4366" y="15812"/>
                    </a:lnTo>
                    <a:lnTo>
                      <a:pt x="4355" y="15818"/>
                    </a:lnTo>
                    <a:lnTo>
                      <a:pt x="4345" y="15824"/>
                    </a:lnTo>
                    <a:lnTo>
                      <a:pt x="4334" y="15830"/>
                    </a:lnTo>
                    <a:lnTo>
                      <a:pt x="4322" y="15835"/>
                    </a:lnTo>
                    <a:lnTo>
                      <a:pt x="4311" y="15841"/>
                    </a:lnTo>
                    <a:lnTo>
                      <a:pt x="4298" y="15847"/>
                    </a:lnTo>
                    <a:lnTo>
                      <a:pt x="4277" y="15857"/>
                    </a:lnTo>
                    <a:lnTo>
                      <a:pt x="4255" y="15865"/>
                    </a:lnTo>
                    <a:lnTo>
                      <a:pt x="4235" y="15873"/>
                    </a:lnTo>
                    <a:lnTo>
                      <a:pt x="4213" y="15879"/>
                    </a:lnTo>
                    <a:lnTo>
                      <a:pt x="4192" y="15885"/>
                    </a:lnTo>
                    <a:lnTo>
                      <a:pt x="4172" y="15889"/>
                    </a:lnTo>
                    <a:lnTo>
                      <a:pt x="4151" y="15894"/>
                    </a:lnTo>
                    <a:lnTo>
                      <a:pt x="4131" y="15897"/>
                    </a:lnTo>
                    <a:lnTo>
                      <a:pt x="4110" y="15899"/>
                    </a:lnTo>
                    <a:lnTo>
                      <a:pt x="4090" y="15901"/>
                    </a:lnTo>
                    <a:lnTo>
                      <a:pt x="4070" y="15902"/>
                    </a:lnTo>
                    <a:lnTo>
                      <a:pt x="4050" y="15903"/>
                    </a:lnTo>
                    <a:lnTo>
                      <a:pt x="4031" y="15903"/>
                    </a:lnTo>
                    <a:lnTo>
                      <a:pt x="4011" y="15902"/>
                    </a:lnTo>
                    <a:lnTo>
                      <a:pt x="3992" y="15901"/>
                    </a:lnTo>
                    <a:lnTo>
                      <a:pt x="3972" y="15899"/>
                    </a:lnTo>
                    <a:lnTo>
                      <a:pt x="3938" y="15894"/>
                    </a:lnTo>
                    <a:lnTo>
                      <a:pt x="3904" y="15888"/>
                    </a:lnTo>
                    <a:lnTo>
                      <a:pt x="3869" y="15881"/>
                    </a:lnTo>
                    <a:lnTo>
                      <a:pt x="3833" y="15873"/>
                    </a:lnTo>
                    <a:lnTo>
                      <a:pt x="3797" y="15864"/>
                    </a:lnTo>
                    <a:lnTo>
                      <a:pt x="3759" y="15854"/>
                    </a:lnTo>
                    <a:lnTo>
                      <a:pt x="3720" y="15844"/>
                    </a:lnTo>
                    <a:lnTo>
                      <a:pt x="3678" y="15833"/>
                    </a:lnTo>
                    <a:lnTo>
                      <a:pt x="3311" y="15741"/>
                    </a:lnTo>
                    <a:lnTo>
                      <a:pt x="2946" y="15653"/>
                    </a:lnTo>
                    <a:lnTo>
                      <a:pt x="2583" y="15564"/>
                    </a:lnTo>
                    <a:lnTo>
                      <a:pt x="2222" y="15476"/>
                    </a:lnTo>
                    <a:lnTo>
                      <a:pt x="1860" y="15389"/>
                    </a:lnTo>
                    <a:lnTo>
                      <a:pt x="1498" y="15300"/>
                    </a:lnTo>
                    <a:lnTo>
                      <a:pt x="1133" y="15212"/>
                    </a:lnTo>
                    <a:lnTo>
                      <a:pt x="766" y="15120"/>
                    </a:lnTo>
                    <a:lnTo>
                      <a:pt x="682" y="15098"/>
                    </a:lnTo>
                    <a:lnTo>
                      <a:pt x="602" y="15078"/>
                    </a:lnTo>
                    <a:lnTo>
                      <a:pt x="565" y="15068"/>
                    </a:lnTo>
                    <a:lnTo>
                      <a:pt x="529" y="15057"/>
                    </a:lnTo>
                    <a:lnTo>
                      <a:pt x="493" y="15045"/>
                    </a:lnTo>
                    <a:lnTo>
                      <a:pt x="459" y="15032"/>
                    </a:lnTo>
                    <a:lnTo>
                      <a:pt x="425" y="15018"/>
                    </a:lnTo>
                    <a:lnTo>
                      <a:pt x="391" y="15002"/>
                    </a:lnTo>
                    <a:lnTo>
                      <a:pt x="358" y="14983"/>
                    </a:lnTo>
                    <a:lnTo>
                      <a:pt x="325" y="14963"/>
                    </a:lnTo>
                    <a:lnTo>
                      <a:pt x="293" y="14940"/>
                    </a:lnTo>
                    <a:lnTo>
                      <a:pt x="260" y="14914"/>
                    </a:lnTo>
                    <a:lnTo>
                      <a:pt x="244" y="14900"/>
                    </a:lnTo>
                    <a:lnTo>
                      <a:pt x="227" y="14884"/>
                    </a:lnTo>
                    <a:lnTo>
                      <a:pt x="211" y="14869"/>
                    </a:lnTo>
                    <a:lnTo>
                      <a:pt x="193" y="14852"/>
                    </a:lnTo>
                    <a:lnTo>
                      <a:pt x="171" y="14827"/>
                    </a:lnTo>
                    <a:lnTo>
                      <a:pt x="150" y="14801"/>
                    </a:lnTo>
                    <a:lnTo>
                      <a:pt x="131" y="14775"/>
                    </a:lnTo>
                    <a:lnTo>
                      <a:pt x="113" y="14749"/>
                    </a:lnTo>
                    <a:lnTo>
                      <a:pt x="97" y="14724"/>
                    </a:lnTo>
                    <a:lnTo>
                      <a:pt x="82" y="14698"/>
                    </a:lnTo>
                    <a:lnTo>
                      <a:pt x="69" y="14673"/>
                    </a:lnTo>
                    <a:lnTo>
                      <a:pt x="56" y="14646"/>
                    </a:lnTo>
                    <a:lnTo>
                      <a:pt x="46" y="14620"/>
                    </a:lnTo>
                    <a:lnTo>
                      <a:pt x="37" y="14595"/>
                    </a:lnTo>
                    <a:lnTo>
                      <a:pt x="29" y="14569"/>
                    </a:lnTo>
                    <a:lnTo>
                      <a:pt x="21" y="14542"/>
                    </a:lnTo>
                    <a:lnTo>
                      <a:pt x="15" y="14516"/>
                    </a:lnTo>
                    <a:lnTo>
                      <a:pt x="11" y="14490"/>
                    </a:lnTo>
                    <a:lnTo>
                      <a:pt x="7" y="14464"/>
                    </a:lnTo>
                    <a:lnTo>
                      <a:pt x="4" y="14436"/>
                    </a:lnTo>
                    <a:lnTo>
                      <a:pt x="2" y="14410"/>
                    </a:lnTo>
                    <a:lnTo>
                      <a:pt x="0" y="14383"/>
                    </a:lnTo>
                    <a:lnTo>
                      <a:pt x="0" y="14357"/>
                    </a:lnTo>
                    <a:lnTo>
                      <a:pt x="0" y="14329"/>
                    </a:lnTo>
                    <a:lnTo>
                      <a:pt x="1" y="14274"/>
                    </a:lnTo>
                    <a:lnTo>
                      <a:pt x="5" y="14218"/>
                    </a:lnTo>
                    <a:lnTo>
                      <a:pt x="16" y="14104"/>
                    </a:lnTo>
                    <a:lnTo>
                      <a:pt x="30" y="13985"/>
                    </a:lnTo>
                    <a:lnTo>
                      <a:pt x="171" y="12721"/>
                    </a:lnTo>
                    <a:lnTo>
                      <a:pt x="308" y="11468"/>
                    </a:lnTo>
                    <a:lnTo>
                      <a:pt x="444" y="10222"/>
                    </a:lnTo>
                    <a:lnTo>
                      <a:pt x="579" y="8981"/>
                    </a:lnTo>
                    <a:lnTo>
                      <a:pt x="713" y="7739"/>
                    </a:lnTo>
                    <a:lnTo>
                      <a:pt x="849" y="6495"/>
                    </a:lnTo>
                    <a:lnTo>
                      <a:pt x="986" y="5243"/>
                    </a:lnTo>
                    <a:lnTo>
                      <a:pt x="1127" y="3982"/>
                    </a:lnTo>
                    <a:lnTo>
                      <a:pt x="1134" y="3916"/>
                    </a:lnTo>
                    <a:lnTo>
                      <a:pt x="1142" y="3849"/>
                    </a:lnTo>
                    <a:lnTo>
                      <a:pt x="1151" y="3782"/>
                    </a:lnTo>
                    <a:lnTo>
                      <a:pt x="1162" y="3717"/>
                    </a:lnTo>
                    <a:lnTo>
                      <a:pt x="1172" y="3651"/>
                    </a:lnTo>
                    <a:lnTo>
                      <a:pt x="1183" y="3586"/>
                    </a:lnTo>
                    <a:lnTo>
                      <a:pt x="1195" y="3521"/>
                    </a:lnTo>
                    <a:lnTo>
                      <a:pt x="1207" y="3456"/>
                    </a:lnTo>
                    <a:lnTo>
                      <a:pt x="1220" y="3392"/>
                    </a:lnTo>
                    <a:lnTo>
                      <a:pt x="1235" y="3329"/>
                    </a:lnTo>
                    <a:lnTo>
                      <a:pt x="1250" y="3266"/>
                    </a:lnTo>
                    <a:lnTo>
                      <a:pt x="1266" y="3204"/>
                    </a:lnTo>
                    <a:lnTo>
                      <a:pt x="1283" y="3142"/>
                    </a:lnTo>
                    <a:lnTo>
                      <a:pt x="1301" y="3082"/>
                    </a:lnTo>
                    <a:lnTo>
                      <a:pt x="1319" y="3022"/>
                    </a:lnTo>
                    <a:lnTo>
                      <a:pt x="1339" y="2963"/>
                    </a:lnTo>
                    <a:lnTo>
                      <a:pt x="1364" y="2743"/>
                    </a:lnTo>
                    <a:lnTo>
                      <a:pt x="1387" y="2524"/>
                    </a:lnTo>
                    <a:lnTo>
                      <a:pt x="1412" y="2306"/>
                    </a:lnTo>
                    <a:lnTo>
                      <a:pt x="1436" y="2087"/>
                    </a:lnTo>
                    <a:lnTo>
                      <a:pt x="1459" y="1868"/>
                    </a:lnTo>
                    <a:lnTo>
                      <a:pt x="1484" y="1648"/>
                    </a:lnTo>
                    <a:lnTo>
                      <a:pt x="1509" y="1426"/>
                    </a:lnTo>
                    <a:lnTo>
                      <a:pt x="1534" y="1203"/>
                    </a:lnTo>
                    <a:lnTo>
                      <a:pt x="1537" y="1187"/>
                    </a:lnTo>
                    <a:lnTo>
                      <a:pt x="1540" y="1173"/>
                    </a:lnTo>
                    <a:lnTo>
                      <a:pt x="1544" y="1159"/>
                    </a:lnTo>
                    <a:lnTo>
                      <a:pt x="1549" y="1146"/>
                    </a:lnTo>
                    <a:lnTo>
                      <a:pt x="1555" y="1135"/>
                    </a:lnTo>
                    <a:lnTo>
                      <a:pt x="1562" y="1124"/>
                    </a:lnTo>
                    <a:lnTo>
                      <a:pt x="1571" y="1115"/>
                    </a:lnTo>
                    <a:lnTo>
                      <a:pt x="1580" y="1105"/>
                    </a:lnTo>
                    <a:lnTo>
                      <a:pt x="1589" y="1098"/>
                    </a:lnTo>
                    <a:lnTo>
                      <a:pt x="1600" y="1092"/>
                    </a:lnTo>
                    <a:lnTo>
                      <a:pt x="1610" y="1088"/>
                    </a:lnTo>
                    <a:lnTo>
                      <a:pt x="1621" y="1084"/>
                    </a:lnTo>
                    <a:lnTo>
                      <a:pt x="1632" y="1082"/>
                    </a:lnTo>
                    <a:lnTo>
                      <a:pt x="1645" y="1081"/>
                    </a:lnTo>
                    <a:lnTo>
                      <a:pt x="1658" y="1081"/>
                    </a:lnTo>
                    <a:lnTo>
                      <a:pt x="1671" y="1082"/>
                    </a:lnTo>
                    <a:lnTo>
                      <a:pt x="1725" y="4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755800" y="1951200"/>
                <a:ext cx="31680" cy="41040"/>
              </a:xfrm>
              <a:custGeom>
                <a:avLst/>
                <a:gdLst/>
                <a:ahLst/>
                <a:rect l="l" t="t" r="r" b="b"/>
                <a:pathLst>
                  <a:path w="656" h="989">
                    <a:moveTo>
                      <a:pt x="61" y="257"/>
                    </a:moveTo>
                    <a:lnTo>
                      <a:pt x="0" y="937"/>
                    </a:lnTo>
                    <a:lnTo>
                      <a:pt x="38" y="948"/>
                    </a:lnTo>
                    <a:lnTo>
                      <a:pt x="78" y="959"/>
                    </a:lnTo>
                    <a:lnTo>
                      <a:pt x="117" y="967"/>
                    </a:lnTo>
                    <a:lnTo>
                      <a:pt x="157" y="973"/>
                    </a:lnTo>
                    <a:lnTo>
                      <a:pt x="196" y="978"/>
                    </a:lnTo>
                    <a:lnTo>
                      <a:pt x="235" y="983"/>
                    </a:lnTo>
                    <a:lnTo>
                      <a:pt x="273" y="985"/>
                    </a:lnTo>
                    <a:lnTo>
                      <a:pt x="312" y="987"/>
                    </a:lnTo>
                    <a:lnTo>
                      <a:pt x="349" y="989"/>
                    </a:lnTo>
                    <a:lnTo>
                      <a:pt x="387" y="989"/>
                    </a:lnTo>
                    <a:lnTo>
                      <a:pt x="423" y="989"/>
                    </a:lnTo>
                    <a:lnTo>
                      <a:pt x="461" y="989"/>
                    </a:lnTo>
                    <a:lnTo>
                      <a:pt x="531" y="987"/>
                    </a:lnTo>
                    <a:lnTo>
                      <a:pt x="597" y="984"/>
                    </a:lnTo>
                    <a:lnTo>
                      <a:pt x="654" y="378"/>
                    </a:lnTo>
                    <a:lnTo>
                      <a:pt x="656" y="337"/>
                    </a:lnTo>
                    <a:lnTo>
                      <a:pt x="655" y="298"/>
                    </a:lnTo>
                    <a:lnTo>
                      <a:pt x="651" y="262"/>
                    </a:lnTo>
                    <a:lnTo>
                      <a:pt x="644" y="228"/>
                    </a:lnTo>
                    <a:lnTo>
                      <a:pt x="634" y="195"/>
                    </a:lnTo>
                    <a:lnTo>
                      <a:pt x="620" y="166"/>
                    </a:lnTo>
                    <a:lnTo>
                      <a:pt x="605" y="139"/>
                    </a:lnTo>
                    <a:lnTo>
                      <a:pt x="588" y="115"/>
                    </a:lnTo>
                    <a:lnTo>
                      <a:pt x="569" y="92"/>
                    </a:lnTo>
                    <a:lnTo>
                      <a:pt x="547" y="72"/>
                    </a:lnTo>
                    <a:lnTo>
                      <a:pt x="524" y="54"/>
                    </a:lnTo>
                    <a:lnTo>
                      <a:pt x="501" y="39"/>
                    </a:lnTo>
                    <a:lnTo>
                      <a:pt x="475" y="27"/>
                    </a:lnTo>
                    <a:lnTo>
                      <a:pt x="449" y="17"/>
                    </a:lnTo>
                    <a:lnTo>
                      <a:pt x="422" y="9"/>
                    </a:lnTo>
                    <a:lnTo>
                      <a:pt x="395" y="3"/>
                    </a:lnTo>
                    <a:lnTo>
                      <a:pt x="368" y="0"/>
                    </a:lnTo>
                    <a:lnTo>
                      <a:pt x="340" y="0"/>
                    </a:lnTo>
                    <a:lnTo>
                      <a:pt x="312" y="2"/>
                    </a:lnTo>
                    <a:lnTo>
                      <a:pt x="284" y="6"/>
                    </a:lnTo>
                    <a:lnTo>
                      <a:pt x="258" y="13"/>
                    </a:lnTo>
                    <a:lnTo>
                      <a:pt x="232" y="23"/>
                    </a:lnTo>
                    <a:lnTo>
                      <a:pt x="207" y="35"/>
                    </a:lnTo>
                    <a:lnTo>
                      <a:pt x="183" y="49"/>
                    </a:lnTo>
                    <a:lnTo>
                      <a:pt x="161" y="66"/>
                    </a:lnTo>
                    <a:lnTo>
                      <a:pt x="140" y="85"/>
                    </a:lnTo>
                    <a:lnTo>
                      <a:pt x="122" y="108"/>
                    </a:lnTo>
                    <a:lnTo>
                      <a:pt x="104" y="133"/>
                    </a:lnTo>
                    <a:lnTo>
                      <a:pt x="90" y="160"/>
                    </a:lnTo>
                    <a:lnTo>
                      <a:pt x="77" y="189"/>
                    </a:lnTo>
                    <a:lnTo>
                      <a:pt x="68" y="223"/>
                    </a:lnTo>
                    <a:lnTo>
                      <a:pt x="61" y="257"/>
                    </a:lnTo>
                    <a:close/>
                  </a:path>
                </a:pathLst>
              </a:custGeom>
              <a:solidFill>
                <a:srgbClr val="a5b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744640" y="2004840"/>
                <a:ext cx="41400" cy="32040"/>
              </a:xfrm>
              <a:custGeom>
                <a:avLst/>
                <a:gdLst/>
                <a:ahLst/>
                <a:rect l="l" t="t" r="r" b="b"/>
                <a:pathLst>
                  <a:path w="884" h="753">
                    <a:moveTo>
                      <a:pt x="884" y="73"/>
                    </a:moveTo>
                    <a:lnTo>
                      <a:pt x="868" y="215"/>
                    </a:lnTo>
                    <a:lnTo>
                      <a:pt x="832" y="222"/>
                    </a:lnTo>
                    <a:lnTo>
                      <a:pt x="798" y="230"/>
                    </a:lnTo>
                    <a:lnTo>
                      <a:pt x="764" y="239"/>
                    </a:lnTo>
                    <a:lnTo>
                      <a:pt x="730" y="248"/>
                    </a:lnTo>
                    <a:lnTo>
                      <a:pt x="697" y="258"/>
                    </a:lnTo>
                    <a:lnTo>
                      <a:pt x="665" y="268"/>
                    </a:lnTo>
                    <a:lnTo>
                      <a:pt x="633" y="280"/>
                    </a:lnTo>
                    <a:lnTo>
                      <a:pt x="602" y="291"/>
                    </a:lnTo>
                    <a:lnTo>
                      <a:pt x="571" y="305"/>
                    </a:lnTo>
                    <a:lnTo>
                      <a:pt x="541" y="318"/>
                    </a:lnTo>
                    <a:lnTo>
                      <a:pt x="512" y="332"/>
                    </a:lnTo>
                    <a:lnTo>
                      <a:pt x="482" y="346"/>
                    </a:lnTo>
                    <a:lnTo>
                      <a:pt x="453" y="361"/>
                    </a:lnTo>
                    <a:lnTo>
                      <a:pt x="425" y="377"/>
                    </a:lnTo>
                    <a:lnTo>
                      <a:pt x="397" y="393"/>
                    </a:lnTo>
                    <a:lnTo>
                      <a:pt x="371" y="411"/>
                    </a:lnTo>
                    <a:lnTo>
                      <a:pt x="344" y="428"/>
                    </a:lnTo>
                    <a:lnTo>
                      <a:pt x="318" y="446"/>
                    </a:lnTo>
                    <a:lnTo>
                      <a:pt x="292" y="464"/>
                    </a:lnTo>
                    <a:lnTo>
                      <a:pt x="267" y="483"/>
                    </a:lnTo>
                    <a:lnTo>
                      <a:pt x="242" y="503"/>
                    </a:lnTo>
                    <a:lnTo>
                      <a:pt x="218" y="524"/>
                    </a:lnTo>
                    <a:lnTo>
                      <a:pt x="193" y="544"/>
                    </a:lnTo>
                    <a:lnTo>
                      <a:pt x="171" y="565"/>
                    </a:lnTo>
                    <a:lnTo>
                      <a:pt x="148" y="587"/>
                    </a:lnTo>
                    <a:lnTo>
                      <a:pt x="125" y="609"/>
                    </a:lnTo>
                    <a:lnTo>
                      <a:pt x="104" y="632"/>
                    </a:lnTo>
                    <a:lnTo>
                      <a:pt x="82" y="655"/>
                    </a:lnTo>
                    <a:lnTo>
                      <a:pt x="61" y="678"/>
                    </a:lnTo>
                    <a:lnTo>
                      <a:pt x="40" y="702"/>
                    </a:lnTo>
                    <a:lnTo>
                      <a:pt x="20" y="727"/>
                    </a:lnTo>
                    <a:lnTo>
                      <a:pt x="0" y="753"/>
                    </a:lnTo>
                    <a:lnTo>
                      <a:pt x="83" y="0"/>
                    </a:lnTo>
                    <a:lnTo>
                      <a:pt x="884" y="73"/>
                    </a:lnTo>
                    <a:close/>
                  </a:path>
                </a:pathLst>
              </a:custGeom>
              <a:solidFill>
                <a:srgbClr val="609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820960" y="2014560"/>
                <a:ext cx="133200" cy="561960"/>
              </a:xfrm>
              <a:custGeom>
                <a:avLst/>
                <a:gdLst/>
                <a:ahLst/>
                <a:rect l="l" t="t" r="r" b="b"/>
                <a:pathLst>
                  <a:path w="2878" h="13470">
                    <a:moveTo>
                      <a:pt x="1346" y="13470"/>
                    </a:moveTo>
                    <a:lnTo>
                      <a:pt x="1381" y="13429"/>
                    </a:lnTo>
                    <a:lnTo>
                      <a:pt x="1415" y="13389"/>
                    </a:lnTo>
                    <a:lnTo>
                      <a:pt x="1447" y="13348"/>
                    </a:lnTo>
                    <a:lnTo>
                      <a:pt x="1477" y="13305"/>
                    </a:lnTo>
                    <a:lnTo>
                      <a:pt x="1505" y="13261"/>
                    </a:lnTo>
                    <a:lnTo>
                      <a:pt x="1532" y="13214"/>
                    </a:lnTo>
                    <a:lnTo>
                      <a:pt x="1558" y="13166"/>
                    </a:lnTo>
                    <a:lnTo>
                      <a:pt x="1583" y="13115"/>
                    </a:lnTo>
                    <a:lnTo>
                      <a:pt x="1605" y="13062"/>
                    </a:lnTo>
                    <a:lnTo>
                      <a:pt x="1626" y="13006"/>
                    </a:lnTo>
                    <a:lnTo>
                      <a:pt x="1646" y="12947"/>
                    </a:lnTo>
                    <a:lnTo>
                      <a:pt x="1666" y="12885"/>
                    </a:lnTo>
                    <a:lnTo>
                      <a:pt x="1685" y="12819"/>
                    </a:lnTo>
                    <a:lnTo>
                      <a:pt x="1702" y="12749"/>
                    </a:lnTo>
                    <a:lnTo>
                      <a:pt x="1719" y="12675"/>
                    </a:lnTo>
                    <a:lnTo>
                      <a:pt x="1735" y="12597"/>
                    </a:lnTo>
                    <a:lnTo>
                      <a:pt x="2836" y="3142"/>
                    </a:lnTo>
                    <a:lnTo>
                      <a:pt x="2859" y="2906"/>
                    </a:lnTo>
                    <a:lnTo>
                      <a:pt x="2872" y="2683"/>
                    </a:lnTo>
                    <a:lnTo>
                      <a:pt x="2878" y="2473"/>
                    </a:lnTo>
                    <a:lnTo>
                      <a:pt x="2875" y="2274"/>
                    </a:lnTo>
                    <a:lnTo>
                      <a:pt x="2865" y="2088"/>
                    </a:lnTo>
                    <a:lnTo>
                      <a:pt x="2848" y="1913"/>
                    </a:lnTo>
                    <a:lnTo>
                      <a:pt x="2823" y="1751"/>
                    </a:lnTo>
                    <a:lnTo>
                      <a:pt x="2792" y="1598"/>
                    </a:lnTo>
                    <a:lnTo>
                      <a:pt x="2754" y="1456"/>
                    </a:lnTo>
                    <a:lnTo>
                      <a:pt x="2712" y="1323"/>
                    </a:lnTo>
                    <a:lnTo>
                      <a:pt x="2662" y="1201"/>
                    </a:lnTo>
                    <a:lnTo>
                      <a:pt x="2609" y="1087"/>
                    </a:lnTo>
                    <a:lnTo>
                      <a:pt x="2551" y="982"/>
                    </a:lnTo>
                    <a:lnTo>
                      <a:pt x="2488" y="886"/>
                    </a:lnTo>
                    <a:lnTo>
                      <a:pt x="2421" y="797"/>
                    </a:lnTo>
                    <a:lnTo>
                      <a:pt x="2351" y="716"/>
                    </a:lnTo>
                    <a:lnTo>
                      <a:pt x="2278" y="642"/>
                    </a:lnTo>
                    <a:lnTo>
                      <a:pt x="2202" y="575"/>
                    </a:lnTo>
                    <a:lnTo>
                      <a:pt x="2122" y="514"/>
                    </a:lnTo>
                    <a:lnTo>
                      <a:pt x="2042" y="459"/>
                    </a:lnTo>
                    <a:lnTo>
                      <a:pt x="1960" y="409"/>
                    </a:lnTo>
                    <a:lnTo>
                      <a:pt x="1876" y="365"/>
                    </a:lnTo>
                    <a:lnTo>
                      <a:pt x="1791" y="326"/>
                    </a:lnTo>
                    <a:lnTo>
                      <a:pt x="1706" y="290"/>
                    </a:lnTo>
                    <a:lnTo>
                      <a:pt x="1621" y="260"/>
                    </a:lnTo>
                    <a:lnTo>
                      <a:pt x="1535" y="232"/>
                    </a:lnTo>
                    <a:lnTo>
                      <a:pt x="1451" y="208"/>
                    </a:lnTo>
                    <a:lnTo>
                      <a:pt x="1367" y="185"/>
                    </a:lnTo>
                    <a:lnTo>
                      <a:pt x="1285" y="166"/>
                    </a:lnTo>
                    <a:lnTo>
                      <a:pt x="1203" y="149"/>
                    </a:lnTo>
                    <a:lnTo>
                      <a:pt x="1125" y="133"/>
                    </a:lnTo>
                    <a:lnTo>
                      <a:pt x="1049" y="118"/>
                    </a:lnTo>
                    <a:lnTo>
                      <a:pt x="934" y="100"/>
                    </a:lnTo>
                    <a:lnTo>
                      <a:pt x="811" y="80"/>
                    </a:lnTo>
                    <a:lnTo>
                      <a:pt x="683" y="61"/>
                    </a:lnTo>
                    <a:lnTo>
                      <a:pt x="551" y="43"/>
                    </a:lnTo>
                    <a:lnTo>
                      <a:pt x="483" y="35"/>
                    </a:lnTo>
                    <a:lnTo>
                      <a:pt x="415" y="27"/>
                    </a:lnTo>
                    <a:lnTo>
                      <a:pt x="347" y="20"/>
                    </a:lnTo>
                    <a:lnTo>
                      <a:pt x="278" y="14"/>
                    </a:lnTo>
                    <a:lnTo>
                      <a:pt x="208" y="8"/>
                    </a:lnTo>
                    <a:lnTo>
                      <a:pt x="139" y="4"/>
                    </a:lnTo>
                    <a:lnTo>
                      <a:pt x="69" y="1"/>
                    </a:lnTo>
                    <a:lnTo>
                      <a:pt x="0" y="0"/>
                    </a:lnTo>
                    <a:lnTo>
                      <a:pt x="62" y="9"/>
                    </a:lnTo>
                    <a:lnTo>
                      <a:pt x="122" y="18"/>
                    </a:lnTo>
                    <a:lnTo>
                      <a:pt x="182" y="28"/>
                    </a:lnTo>
                    <a:lnTo>
                      <a:pt x="239" y="37"/>
                    </a:lnTo>
                    <a:lnTo>
                      <a:pt x="296" y="47"/>
                    </a:lnTo>
                    <a:lnTo>
                      <a:pt x="350" y="56"/>
                    </a:lnTo>
                    <a:lnTo>
                      <a:pt x="403" y="65"/>
                    </a:lnTo>
                    <a:lnTo>
                      <a:pt x="455" y="73"/>
                    </a:lnTo>
                    <a:lnTo>
                      <a:pt x="646" y="102"/>
                    </a:lnTo>
                    <a:lnTo>
                      <a:pt x="835" y="128"/>
                    </a:lnTo>
                    <a:lnTo>
                      <a:pt x="927" y="142"/>
                    </a:lnTo>
                    <a:lnTo>
                      <a:pt x="1019" y="158"/>
                    </a:lnTo>
                    <a:lnTo>
                      <a:pt x="1065" y="166"/>
                    </a:lnTo>
                    <a:lnTo>
                      <a:pt x="1111" y="175"/>
                    </a:lnTo>
                    <a:lnTo>
                      <a:pt x="1156" y="185"/>
                    </a:lnTo>
                    <a:lnTo>
                      <a:pt x="1200" y="195"/>
                    </a:lnTo>
                    <a:lnTo>
                      <a:pt x="1246" y="207"/>
                    </a:lnTo>
                    <a:lnTo>
                      <a:pt x="1290" y="219"/>
                    </a:lnTo>
                    <a:lnTo>
                      <a:pt x="1334" y="232"/>
                    </a:lnTo>
                    <a:lnTo>
                      <a:pt x="1379" y="245"/>
                    </a:lnTo>
                    <a:lnTo>
                      <a:pt x="1422" y="260"/>
                    </a:lnTo>
                    <a:lnTo>
                      <a:pt x="1465" y="276"/>
                    </a:lnTo>
                    <a:lnTo>
                      <a:pt x="1508" y="293"/>
                    </a:lnTo>
                    <a:lnTo>
                      <a:pt x="1552" y="312"/>
                    </a:lnTo>
                    <a:lnTo>
                      <a:pt x="1594" y="332"/>
                    </a:lnTo>
                    <a:lnTo>
                      <a:pt x="1636" y="352"/>
                    </a:lnTo>
                    <a:lnTo>
                      <a:pt x="1678" y="375"/>
                    </a:lnTo>
                    <a:lnTo>
                      <a:pt x="1721" y="398"/>
                    </a:lnTo>
                    <a:lnTo>
                      <a:pt x="1762" y="425"/>
                    </a:lnTo>
                    <a:lnTo>
                      <a:pt x="1803" y="452"/>
                    </a:lnTo>
                    <a:lnTo>
                      <a:pt x="1844" y="480"/>
                    </a:lnTo>
                    <a:lnTo>
                      <a:pt x="1884" y="511"/>
                    </a:lnTo>
                    <a:lnTo>
                      <a:pt x="1929" y="548"/>
                    </a:lnTo>
                    <a:lnTo>
                      <a:pt x="1973" y="586"/>
                    </a:lnTo>
                    <a:lnTo>
                      <a:pt x="2015" y="626"/>
                    </a:lnTo>
                    <a:lnTo>
                      <a:pt x="2056" y="669"/>
                    </a:lnTo>
                    <a:lnTo>
                      <a:pt x="2096" y="713"/>
                    </a:lnTo>
                    <a:lnTo>
                      <a:pt x="2135" y="761"/>
                    </a:lnTo>
                    <a:lnTo>
                      <a:pt x="2172" y="810"/>
                    </a:lnTo>
                    <a:lnTo>
                      <a:pt x="2208" y="862"/>
                    </a:lnTo>
                    <a:lnTo>
                      <a:pt x="2242" y="916"/>
                    </a:lnTo>
                    <a:lnTo>
                      <a:pt x="2275" y="973"/>
                    </a:lnTo>
                    <a:lnTo>
                      <a:pt x="2306" y="1031"/>
                    </a:lnTo>
                    <a:lnTo>
                      <a:pt x="2336" y="1094"/>
                    </a:lnTo>
                    <a:lnTo>
                      <a:pt x="2363" y="1157"/>
                    </a:lnTo>
                    <a:lnTo>
                      <a:pt x="2390" y="1225"/>
                    </a:lnTo>
                    <a:lnTo>
                      <a:pt x="2414" y="1295"/>
                    </a:lnTo>
                    <a:lnTo>
                      <a:pt x="2438" y="1367"/>
                    </a:lnTo>
                    <a:lnTo>
                      <a:pt x="2458" y="1443"/>
                    </a:lnTo>
                    <a:lnTo>
                      <a:pt x="2477" y="1522"/>
                    </a:lnTo>
                    <a:lnTo>
                      <a:pt x="2494" y="1604"/>
                    </a:lnTo>
                    <a:lnTo>
                      <a:pt x="2509" y="1687"/>
                    </a:lnTo>
                    <a:lnTo>
                      <a:pt x="2522" y="1775"/>
                    </a:lnTo>
                    <a:lnTo>
                      <a:pt x="2532" y="1866"/>
                    </a:lnTo>
                    <a:lnTo>
                      <a:pt x="2541" y="1960"/>
                    </a:lnTo>
                    <a:lnTo>
                      <a:pt x="2548" y="2058"/>
                    </a:lnTo>
                    <a:lnTo>
                      <a:pt x="2552" y="2159"/>
                    </a:lnTo>
                    <a:lnTo>
                      <a:pt x="2554" y="2263"/>
                    </a:lnTo>
                    <a:lnTo>
                      <a:pt x="2553" y="2370"/>
                    </a:lnTo>
                    <a:lnTo>
                      <a:pt x="2550" y="2481"/>
                    </a:lnTo>
                    <a:lnTo>
                      <a:pt x="2545" y="2596"/>
                    </a:lnTo>
                    <a:lnTo>
                      <a:pt x="2536" y="2714"/>
                    </a:lnTo>
                    <a:lnTo>
                      <a:pt x="2526" y="2836"/>
                    </a:lnTo>
                    <a:lnTo>
                      <a:pt x="2514" y="2961"/>
                    </a:lnTo>
                    <a:lnTo>
                      <a:pt x="2368" y="4264"/>
                    </a:lnTo>
                    <a:lnTo>
                      <a:pt x="2224" y="5556"/>
                    </a:lnTo>
                    <a:lnTo>
                      <a:pt x="2081" y="6841"/>
                    </a:lnTo>
                    <a:lnTo>
                      <a:pt x="1939" y="8123"/>
                    </a:lnTo>
                    <a:lnTo>
                      <a:pt x="1797" y="9405"/>
                    </a:lnTo>
                    <a:lnTo>
                      <a:pt x="1655" y="10691"/>
                    </a:lnTo>
                    <a:lnTo>
                      <a:pt x="1510" y="11984"/>
                    </a:lnTo>
                    <a:lnTo>
                      <a:pt x="1364" y="13288"/>
                    </a:lnTo>
                    <a:lnTo>
                      <a:pt x="1362" y="13311"/>
                    </a:lnTo>
                    <a:lnTo>
                      <a:pt x="1360" y="13334"/>
                    </a:lnTo>
                    <a:lnTo>
                      <a:pt x="1357" y="13356"/>
                    </a:lnTo>
                    <a:lnTo>
                      <a:pt x="1355" y="13379"/>
                    </a:lnTo>
                    <a:lnTo>
                      <a:pt x="1353" y="13401"/>
                    </a:lnTo>
                    <a:lnTo>
                      <a:pt x="1351" y="13424"/>
                    </a:lnTo>
                    <a:lnTo>
                      <a:pt x="1348" y="13447"/>
                    </a:lnTo>
                    <a:lnTo>
                      <a:pt x="1346" y="13470"/>
                    </a:lnTo>
                    <a:close/>
                  </a:path>
                </a:pathLst>
              </a:custGeom>
              <a:solidFill>
                <a:srgbClr val="609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678040" y="2316240"/>
                <a:ext cx="220680" cy="277560"/>
              </a:xfrm>
              <a:custGeom>
                <a:avLst/>
                <a:gdLst/>
                <a:ahLst/>
                <a:rect l="l" t="t" r="r" b="b"/>
                <a:pathLst>
                  <a:path w="4723" h="6651">
                    <a:moveTo>
                      <a:pt x="3740" y="6648"/>
                    </a:moveTo>
                    <a:lnTo>
                      <a:pt x="3763" y="6650"/>
                    </a:lnTo>
                    <a:lnTo>
                      <a:pt x="3786" y="6651"/>
                    </a:lnTo>
                    <a:lnTo>
                      <a:pt x="3809" y="6650"/>
                    </a:lnTo>
                    <a:lnTo>
                      <a:pt x="3831" y="6648"/>
                    </a:lnTo>
                    <a:lnTo>
                      <a:pt x="3854" y="6643"/>
                    </a:lnTo>
                    <a:lnTo>
                      <a:pt x="3878" y="6637"/>
                    </a:lnTo>
                    <a:lnTo>
                      <a:pt x="3903" y="6629"/>
                    </a:lnTo>
                    <a:lnTo>
                      <a:pt x="3927" y="6619"/>
                    </a:lnTo>
                    <a:lnTo>
                      <a:pt x="3946" y="6609"/>
                    </a:lnTo>
                    <a:lnTo>
                      <a:pt x="3962" y="6598"/>
                    </a:lnTo>
                    <a:lnTo>
                      <a:pt x="3978" y="6586"/>
                    </a:lnTo>
                    <a:lnTo>
                      <a:pt x="3993" y="6573"/>
                    </a:lnTo>
                    <a:lnTo>
                      <a:pt x="4007" y="6559"/>
                    </a:lnTo>
                    <a:lnTo>
                      <a:pt x="4019" y="6545"/>
                    </a:lnTo>
                    <a:lnTo>
                      <a:pt x="4031" y="6528"/>
                    </a:lnTo>
                    <a:lnTo>
                      <a:pt x="4042" y="6512"/>
                    </a:lnTo>
                    <a:lnTo>
                      <a:pt x="4052" y="6495"/>
                    </a:lnTo>
                    <a:lnTo>
                      <a:pt x="4061" y="6478"/>
                    </a:lnTo>
                    <a:lnTo>
                      <a:pt x="4069" y="6459"/>
                    </a:lnTo>
                    <a:lnTo>
                      <a:pt x="4077" y="6441"/>
                    </a:lnTo>
                    <a:lnTo>
                      <a:pt x="4084" y="6421"/>
                    </a:lnTo>
                    <a:lnTo>
                      <a:pt x="4090" y="6401"/>
                    </a:lnTo>
                    <a:lnTo>
                      <a:pt x="4096" y="6381"/>
                    </a:lnTo>
                    <a:lnTo>
                      <a:pt x="4101" y="6361"/>
                    </a:lnTo>
                    <a:lnTo>
                      <a:pt x="4110" y="6319"/>
                    </a:lnTo>
                    <a:lnTo>
                      <a:pt x="4117" y="6277"/>
                    </a:lnTo>
                    <a:lnTo>
                      <a:pt x="4122" y="6235"/>
                    </a:lnTo>
                    <a:lnTo>
                      <a:pt x="4126" y="6192"/>
                    </a:lnTo>
                    <a:lnTo>
                      <a:pt x="4133" y="6112"/>
                    </a:lnTo>
                    <a:lnTo>
                      <a:pt x="4141" y="6036"/>
                    </a:lnTo>
                    <a:lnTo>
                      <a:pt x="4215" y="5375"/>
                    </a:lnTo>
                    <a:lnTo>
                      <a:pt x="4289" y="4716"/>
                    </a:lnTo>
                    <a:lnTo>
                      <a:pt x="4361" y="4060"/>
                    </a:lnTo>
                    <a:lnTo>
                      <a:pt x="4434" y="3407"/>
                    </a:lnTo>
                    <a:lnTo>
                      <a:pt x="4506" y="2755"/>
                    </a:lnTo>
                    <a:lnTo>
                      <a:pt x="4578" y="2105"/>
                    </a:lnTo>
                    <a:lnTo>
                      <a:pt x="4650" y="1456"/>
                    </a:lnTo>
                    <a:lnTo>
                      <a:pt x="4723" y="808"/>
                    </a:lnTo>
                    <a:lnTo>
                      <a:pt x="4661" y="821"/>
                    </a:lnTo>
                    <a:lnTo>
                      <a:pt x="4599" y="834"/>
                    </a:lnTo>
                    <a:lnTo>
                      <a:pt x="4535" y="846"/>
                    </a:lnTo>
                    <a:lnTo>
                      <a:pt x="4469" y="858"/>
                    </a:lnTo>
                    <a:lnTo>
                      <a:pt x="4403" y="869"/>
                    </a:lnTo>
                    <a:lnTo>
                      <a:pt x="4335" y="880"/>
                    </a:lnTo>
                    <a:lnTo>
                      <a:pt x="4267" y="890"/>
                    </a:lnTo>
                    <a:lnTo>
                      <a:pt x="4198" y="900"/>
                    </a:lnTo>
                    <a:lnTo>
                      <a:pt x="4127" y="909"/>
                    </a:lnTo>
                    <a:lnTo>
                      <a:pt x="4056" y="917"/>
                    </a:lnTo>
                    <a:lnTo>
                      <a:pt x="3984" y="925"/>
                    </a:lnTo>
                    <a:lnTo>
                      <a:pt x="3911" y="932"/>
                    </a:lnTo>
                    <a:lnTo>
                      <a:pt x="3838" y="939"/>
                    </a:lnTo>
                    <a:lnTo>
                      <a:pt x="3763" y="945"/>
                    </a:lnTo>
                    <a:lnTo>
                      <a:pt x="3688" y="950"/>
                    </a:lnTo>
                    <a:lnTo>
                      <a:pt x="3613" y="954"/>
                    </a:lnTo>
                    <a:lnTo>
                      <a:pt x="3537" y="957"/>
                    </a:lnTo>
                    <a:lnTo>
                      <a:pt x="3462" y="960"/>
                    </a:lnTo>
                    <a:lnTo>
                      <a:pt x="3384" y="961"/>
                    </a:lnTo>
                    <a:lnTo>
                      <a:pt x="3308" y="961"/>
                    </a:lnTo>
                    <a:lnTo>
                      <a:pt x="3231" y="961"/>
                    </a:lnTo>
                    <a:lnTo>
                      <a:pt x="3155" y="959"/>
                    </a:lnTo>
                    <a:lnTo>
                      <a:pt x="3077" y="957"/>
                    </a:lnTo>
                    <a:lnTo>
                      <a:pt x="3000" y="953"/>
                    </a:lnTo>
                    <a:lnTo>
                      <a:pt x="2923" y="948"/>
                    </a:lnTo>
                    <a:lnTo>
                      <a:pt x="2847" y="942"/>
                    </a:lnTo>
                    <a:lnTo>
                      <a:pt x="2769" y="934"/>
                    </a:lnTo>
                    <a:lnTo>
                      <a:pt x="2693" y="926"/>
                    </a:lnTo>
                    <a:lnTo>
                      <a:pt x="2617" y="916"/>
                    </a:lnTo>
                    <a:lnTo>
                      <a:pt x="2541" y="905"/>
                    </a:lnTo>
                    <a:lnTo>
                      <a:pt x="2465" y="893"/>
                    </a:lnTo>
                    <a:lnTo>
                      <a:pt x="2391" y="879"/>
                    </a:lnTo>
                    <a:lnTo>
                      <a:pt x="2321" y="864"/>
                    </a:lnTo>
                    <a:lnTo>
                      <a:pt x="2253" y="848"/>
                    </a:lnTo>
                    <a:lnTo>
                      <a:pt x="2187" y="830"/>
                    </a:lnTo>
                    <a:lnTo>
                      <a:pt x="2122" y="812"/>
                    </a:lnTo>
                    <a:lnTo>
                      <a:pt x="2059" y="794"/>
                    </a:lnTo>
                    <a:lnTo>
                      <a:pt x="1996" y="774"/>
                    </a:lnTo>
                    <a:lnTo>
                      <a:pt x="1934" y="754"/>
                    </a:lnTo>
                    <a:lnTo>
                      <a:pt x="1874" y="732"/>
                    </a:lnTo>
                    <a:lnTo>
                      <a:pt x="1814" y="710"/>
                    </a:lnTo>
                    <a:lnTo>
                      <a:pt x="1756" y="687"/>
                    </a:lnTo>
                    <a:lnTo>
                      <a:pt x="1698" y="663"/>
                    </a:lnTo>
                    <a:lnTo>
                      <a:pt x="1641" y="639"/>
                    </a:lnTo>
                    <a:lnTo>
                      <a:pt x="1586" y="613"/>
                    </a:lnTo>
                    <a:lnTo>
                      <a:pt x="1530" y="587"/>
                    </a:lnTo>
                    <a:lnTo>
                      <a:pt x="1476" y="560"/>
                    </a:lnTo>
                    <a:lnTo>
                      <a:pt x="1422" y="533"/>
                    </a:lnTo>
                    <a:lnTo>
                      <a:pt x="1368" y="504"/>
                    </a:lnTo>
                    <a:lnTo>
                      <a:pt x="1315" y="475"/>
                    </a:lnTo>
                    <a:lnTo>
                      <a:pt x="1262" y="446"/>
                    </a:lnTo>
                    <a:lnTo>
                      <a:pt x="1210" y="415"/>
                    </a:lnTo>
                    <a:lnTo>
                      <a:pt x="1158" y="384"/>
                    </a:lnTo>
                    <a:lnTo>
                      <a:pt x="1106" y="352"/>
                    </a:lnTo>
                    <a:lnTo>
                      <a:pt x="1054" y="320"/>
                    </a:lnTo>
                    <a:lnTo>
                      <a:pt x="1002" y="286"/>
                    </a:lnTo>
                    <a:lnTo>
                      <a:pt x="899" y="219"/>
                    </a:lnTo>
                    <a:lnTo>
                      <a:pt x="794" y="148"/>
                    </a:lnTo>
                    <a:lnTo>
                      <a:pt x="688" y="75"/>
                    </a:lnTo>
                    <a:lnTo>
                      <a:pt x="581" y="0"/>
                    </a:lnTo>
                    <a:lnTo>
                      <a:pt x="513" y="623"/>
                    </a:lnTo>
                    <a:lnTo>
                      <a:pt x="446" y="1245"/>
                    </a:lnTo>
                    <a:lnTo>
                      <a:pt x="378" y="1869"/>
                    </a:lnTo>
                    <a:lnTo>
                      <a:pt x="310" y="2495"/>
                    </a:lnTo>
                    <a:lnTo>
                      <a:pt x="241" y="3122"/>
                    </a:lnTo>
                    <a:lnTo>
                      <a:pt x="172" y="3752"/>
                    </a:lnTo>
                    <a:lnTo>
                      <a:pt x="101" y="4384"/>
                    </a:lnTo>
                    <a:lnTo>
                      <a:pt x="31" y="5019"/>
                    </a:lnTo>
                    <a:lnTo>
                      <a:pt x="20" y="5108"/>
                    </a:lnTo>
                    <a:lnTo>
                      <a:pt x="9" y="5195"/>
                    </a:lnTo>
                    <a:lnTo>
                      <a:pt x="4" y="5238"/>
                    </a:lnTo>
                    <a:lnTo>
                      <a:pt x="1" y="5281"/>
                    </a:lnTo>
                    <a:lnTo>
                      <a:pt x="0" y="5324"/>
                    </a:lnTo>
                    <a:lnTo>
                      <a:pt x="0" y="5366"/>
                    </a:lnTo>
                    <a:lnTo>
                      <a:pt x="2" y="5387"/>
                    </a:lnTo>
                    <a:lnTo>
                      <a:pt x="3" y="5408"/>
                    </a:lnTo>
                    <a:lnTo>
                      <a:pt x="7" y="5428"/>
                    </a:lnTo>
                    <a:lnTo>
                      <a:pt x="10" y="5448"/>
                    </a:lnTo>
                    <a:lnTo>
                      <a:pt x="14" y="5470"/>
                    </a:lnTo>
                    <a:lnTo>
                      <a:pt x="19" y="5490"/>
                    </a:lnTo>
                    <a:lnTo>
                      <a:pt x="25" y="5510"/>
                    </a:lnTo>
                    <a:lnTo>
                      <a:pt x="31" y="5530"/>
                    </a:lnTo>
                    <a:lnTo>
                      <a:pt x="39" y="5549"/>
                    </a:lnTo>
                    <a:lnTo>
                      <a:pt x="49" y="5569"/>
                    </a:lnTo>
                    <a:lnTo>
                      <a:pt x="59" y="5589"/>
                    </a:lnTo>
                    <a:lnTo>
                      <a:pt x="70" y="5608"/>
                    </a:lnTo>
                    <a:lnTo>
                      <a:pt x="83" y="5628"/>
                    </a:lnTo>
                    <a:lnTo>
                      <a:pt x="96" y="5646"/>
                    </a:lnTo>
                    <a:lnTo>
                      <a:pt x="112" y="5665"/>
                    </a:lnTo>
                    <a:lnTo>
                      <a:pt x="128" y="5685"/>
                    </a:lnTo>
                    <a:lnTo>
                      <a:pt x="152" y="5708"/>
                    </a:lnTo>
                    <a:lnTo>
                      <a:pt x="178" y="5729"/>
                    </a:lnTo>
                    <a:lnTo>
                      <a:pt x="202" y="5747"/>
                    </a:lnTo>
                    <a:lnTo>
                      <a:pt x="228" y="5764"/>
                    </a:lnTo>
                    <a:lnTo>
                      <a:pt x="254" y="5778"/>
                    </a:lnTo>
                    <a:lnTo>
                      <a:pt x="280" y="5792"/>
                    </a:lnTo>
                    <a:lnTo>
                      <a:pt x="306" y="5803"/>
                    </a:lnTo>
                    <a:lnTo>
                      <a:pt x="333" y="5813"/>
                    </a:lnTo>
                    <a:lnTo>
                      <a:pt x="361" y="5822"/>
                    </a:lnTo>
                    <a:lnTo>
                      <a:pt x="389" y="5831"/>
                    </a:lnTo>
                    <a:lnTo>
                      <a:pt x="418" y="5838"/>
                    </a:lnTo>
                    <a:lnTo>
                      <a:pt x="446" y="5846"/>
                    </a:lnTo>
                    <a:lnTo>
                      <a:pt x="507" y="5860"/>
                    </a:lnTo>
                    <a:lnTo>
                      <a:pt x="571" y="5875"/>
                    </a:lnTo>
                    <a:lnTo>
                      <a:pt x="938" y="5967"/>
                    </a:lnTo>
                    <a:lnTo>
                      <a:pt x="1302" y="6057"/>
                    </a:lnTo>
                    <a:lnTo>
                      <a:pt x="1665" y="6145"/>
                    </a:lnTo>
                    <a:lnTo>
                      <a:pt x="2027" y="6233"/>
                    </a:lnTo>
                    <a:lnTo>
                      <a:pt x="2388" y="6319"/>
                    </a:lnTo>
                    <a:lnTo>
                      <a:pt x="2751" y="6408"/>
                    </a:lnTo>
                    <a:lnTo>
                      <a:pt x="3116" y="6498"/>
                    </a:lnTo>
                    <a:lnTo>
                      <a:pt x="3482" y="6589"/>
                    </a:lnTo>
                    <a:lnTo>
                      <a:pt x="3518" y="6599"/>
                    </a:lnTo>
                    <a:lnTo>
                      <a:pt x="3553" y="6608"/>
                    </a:lnTo>
                    <a:lnTo>
                      <a:pt x="3586" y="6616"/>
                    </a:lnTo>
                    <a:lnTo>
                      <a:pt x="3619" y="6624"/>
                    </a:lnTo>
                    <a:lnTo>
                      <a:pt x="3650" y="6632"/>
                    </a:lnTo>
                    <a:lnTo>
                      <a:pt x="3680" y="6638"/>
                    </a:lnTo>
                    <a:lnTo>
                      <a:pt x="3710" y="6643"/>
                    </a:lnTo>
                    <a:lnTo>
                      <a:pt x="3740" y="6648"/>
                    </a:lnTo>
                    <a:close/>
                  </a:path>
                </a:pathLst>
              </a:custGeom>
              <a:solidFill>
                <a:srgbClr val="a5b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06840" y="2023920"/>
                <a:ext cx="220680" cy="322560"/>
              </a:xfrm>
              <a:custGeom>
                <a:avLst/>
                <a:gdLst/>
                <a:ahLst/>
                <a:rect l="l" t="t" r="r" b="b"/>
                <a:pathLst>
                  <a:path w="4718" h="7700">
                    <a:moveTo>
                      <a:pt x="4139" y="7533"/>
                    </a:moveTo>
                    <a:lnTo>
                      <a:pt x="4205" y="6934"/>
                    </a:lnTo>
                    <a:lnTo>
                      <a:pt x="4272" y="6335"/>
                    </a:lnTo>
                    <a:lnTo>
                      <a:pt x="4338" y="5734"/>
                    </a:lnTo>
                    <a:lnTo>
                      <a:pt x="4405" y="5132"/>
                    </a:lnTo>
                    <a:lnTo>
                      <a:pt x="4472" y="4529"/>
                    </a:lnTo>
                    <a:lnTo>
                      <a:pt x="4540" y="3924"/>
                    </a:lnTo>
                    <a:lnTo>
                      <a:pt x="4608" y="3317"/>
                    </a:lnTo>
                    <a:lnTo>
                      <a:pt x="4677" y="2706"/>
                    </a:lnTo>
                    <a:lnTo>
                      <a:pt x="4687" y="2604"/>
                    </a:lnTo>
                    <a:lnTo>
                      <a:pt x="4697" y="2502"/>
                    </a:lnTo>
                    <a:lnTo>
                      <a:pt x="4705" y="2399"/>
                    </a:lnTo>
                    <a:lnTo>
                      <a:pt x="4711" y="2297"/>
                    </a:lnTo>
                    <a:lnTo>
                      <a:pt x="4715" y="2196"/>
                    </a:lnTo>
                    <a:lnTo>
                      <a:pt x="4718" y="2094"/>
                    </a:lnTo>
                    <a:lnTo>
                      <a:pt x="4718" y="1994"/>
                    </a:lnTo>
                    <a:lnTo>
                      <a:pt x="4716" y="1894"/>
                    </a:lnTo>
                    <a:lnTo>
                      <a:pt x="4711" y="1795"/>
                    </a:lnTo>
                    <a:lnTo>
                      <a:pt x="4704" y="1699"/>
                    </a:lnTo>
                    <a:lnTo>
                      <a:pt x="4694" y="1602"/>
                    </a:lnTo>
                    <a:lnTo>
                      <a:pt x="4680" y="1508"/>
                    </a:lnTo>
                    <a:lnTo>
                      <a:pt x="4664" y="1415"/>
                    </a:lnTo>
                    <a:lnTo>
                      <a:pt x="4643" y="1323"/>
                    </a:lnTo>
                    <a:lnTo>
                      <a:pt x="4619" y="1234"/>
                    </a:lnTo>
                    <a:lnTo>
                      <a:pt x="4593" y="1147"/>
                    </a:lnTo>
                    <a:lnTo>
                      <a:pt x="4561" y="1064"/>
                    </a:lnTo>
                    <a:lnTo>
                      <a:pt x="4525" y="982"/>
                    </a:lnTo>
                    <a:lnTo>
                      <a:pt x="4486" y="903"/>
                    </a:lnTo>
                    <a:lnTo>
                      <a:pt x="4441" y="826"/>
                    </a:lnTo>
                    <a:lnTo>
                      <a:pt x="4392" y="754"/>
                    </a:lnTo>
                    <a:lnTo>
                      <a:pt x="4337" y="683"/>
                    </a:lnTo>
                    <a:lnTo>
                      <a:pt x="4278" y="618"/>
                    </a:lnTo>
                    <a:lnTo>
                      <a:pt x="4215" y="554"/>
                    </a:lnTo>
                    <a:lnTo>
                      <a:pt x="4145" y="495"/>
                    </a:lnTo>
                    <a:lnTo>
                      <a:pt x="4070" y="440"/>
                    </a:lnTo>
                    <a:lnTo>
                      <a:pt x="3989" y="389"/>
                    </a:lnTo>
                    <a:lnTo>
                      <a:pt x="3902" y="342"/>
                    </a:lnTo>
                    <a:lnTo>
                      <a:pt x="3810" y="300"/>
                    </a:lnTo>
                    <a:lnTo>
                      <a:pt x="3711" y="262"/>
                    </a:lnTo>
                    <a:lnTo>
                      <a:pt x="3605" y="229"/>
                    </a:lnTo>
                    <a:lnTo>
                      <a:pt x="3494" y="201"/>
                    </a:lnTo>
                    <a:lnTo>
                      <a:pt x="3448" y="192"/>
                    </a:lnTo>
                    <a:lnTo>
                      <a:pt x="3404" y="182"/>
                    </a:lnTo>
                    <a:lnTo>
                      <a:pt x="3360" y="174"/>
                    </a:lnTo>
                    <a:lnTo>
                      <a:pt x="3316" y="167"/>
                    </a:lnTo>
                    <a:lnTo>
                      <a:pt x="3230" y="154"/>
                    </a:lnTo>
                    <a:lnTo>
                      <a:pt x="3145" y="142"/>
                    </a:lnTo>
                    <a:lnTo>
                      <a:pt x="3064" y="132"/>
                    </a:lnTo>
                    <a:lnTo>
                      <a:pt x="2986" y="122"/>
                    </a:lnTo>
                    <a:lnTo>
                      <a:pt x="2910" y="112"/>
                    </a:lnTo>
                    <a:lnTo>
                      <a:pt x="2838" y="102"/>
                    </a:lnTo>
                    <a:lnTo>
                      <a:pt x="2672" y="74"/>
                    </a:lnTo>
                    <a:lnTo>
                      <a:pt x="2505" y="47"/>
                    </a:lnTo>
                    <a:lnTo>
                      <a:pt x="2420" y="34"/>
                    </a:lnTo>
                    <a:lnTo>
                      <a:pt x="2336" y="22"/>
                    </a:lnTo>
                    <a:lnTo>
                      <a:pt x="2251" y="13"/>
                    </a:lnTo>
                    <a:lnTo>
                      <a:pt x="2167" y="6"/>
                    </a:lnTo>
                    <a:lnTo>
                      <a:pt x="2124" y="3"/>
                    </a:lnTo>
                    <a:lnTo>
                      <a:pt x="2082" y="1"/>
                    </a:lnTo>
                    <a:lnTo>
                      <a:pt x="2040" y="0"/>
                    </a:lnTo>
                    <a:lnTo>
                      <a:pt x="1998" y="0"/>
                    </a:lnTo>
                    <a:lnTo>
                      <a:pt x="1955" y="1"/>
                    </a:lnTo>
                    <a:lnTo>
                      <a:pt x="1913" y="3"/>
                    </a:lnTo>
                    <a:lnTo>
                      <a:pt x="1871" y="6"/>
                    </a:lnTo>
                    <a:lnTo>
                      <a:pt x="1830" y="10"/>
                    </a:lnTo>
                    <a:lnTo>
                      <a:pt x="1788" y="15"/>
                    </a:lnTo>
                    <a:lnTo>
                      <a:pt x="1746" y="22"/>
                    </a:lnTo>
                    <a:lnTo>
                      <a:pt x="1705" y="29"/>
                    </a:lnTo>
                    <a:lnTo>
                      <a:pt x="1663" y="39"/>
                    </a:lnTo>
                    <a:lnTo>
                      <a:pt x="1622" y="49"/>
                    </a:lnTo>
                    <a:lnTo>
                      <a:pt x="1581" y="62"/>
                    </a:lnTo>
                    <a:lnTo>
                      <a:pt x="1539" y="75"/>
                    </a:lnTo>
                    <a:lnTo>
                      <a:pt x="1499" y="92"/>
                    </a:lnTo>
                    <a:lnTo>
                      <a:pt x="1459" y="109"/>
                    </a:lnTo>
                    <a:lnTo>
                      <a:pt x="1420" y="127"/>
                    </a:lnTo>
                    <a:lnTo>
                      <a:pt x="1381" y="148"/>
                    </a:lnTo>
                    <a:lnTo>
                      <a:pt x="1342" y="170"/>
                    </a:lnTo>
                    <a:lnTo>
                      <a:pt x="1302" y="196"/>
                    </a:lnTo>
                    <a:lnTo>
                      <a:pt x="1263" y="223"/>
                    </a:lnTo>
                    <a:lnTo>
                      <a:pt x="1225" y="252"/>
                    </a:lnTo>
                    <a:lnTo>
                      <a:pt x="1187" y="284"/>
                    </a:lnTo>
                    <a:lnTo>
                      <a:pt x="1149" y="319"/>
                    </a:lnTo>
                    <a:lnTo>
                      <a:pt x="1112" y="356"/>
                    </a:lnTo>
                    <a:lnTo>
                      <a:pt x="1076" y="395"/>
                    </a:lnTo>
                    <a:lnTo>
                      <a:pt x="1040" y="438"/>
                    </a:lnTo>
                    <a:lnTo>
                      <a:pt x="1004" y="483"/>
                    </a:lnTo>
                    <a:lnTo>
                      <a:pt x="969" y="532"/>
                    </a:lnTo>
                    <a:lnTo>
                      <a:pt x="935" y="583"/>
                    </a:lnTo>
                    <a:lnTo>
                      <a:pt x="902" y="638"/>
                    </a:lnTo>
                    <a:lnTo>
                      <a:pt x="870" y="696"/>
                    </a:lnTo>
                    <a:lnTo>
                      <a:pt x="838" y="757"/>
                    </a:lnTo>
                    <a:lnTo>
                      <a:pt x="807" y="821"/>
                    </a:lnTo>
                    <a:lnTo>
                      <a:pt x="777" y="890"/>
                    </a:lnTo>
                    <a:lnTo>
                      <a:pt x="748" y="962"/>
                    </a:lnTo>
                    <a:lnTo>
                      <a:pt x="721" y="1036"/>
                    </a:lnTo>
                    <a:lnTo>
                      <a:pt x="695" y="1116"/>
                    </a:lnTo>
                    <a:lnTo>
                      <a:pt x="669" y="1199"/>
                    </a:lnTo>
                    <a:lnTo>
                      <a:pt x="645" y="1286"/>
                    </a:lnTo>
                    <a:lnTo>
                      <a:pt x="622" y="1378"/>
                    </a:lnTo>
                    <a:lnTo>
                      <a:pt x="601" y="1472"/>
                    </a:lnTo>
                    <a:lnTo>
                      <a:pt x="580" y="1571"/>
                    </a:lnTo>
                    <a:lnTo>
                      <a:pt x="562" y="1675"/>
                    </a:lnTo>
                    <a:lnTo>
                      <a:pt x="544" y="1783"/>
                    </a:lnTo>
                    <a:lnTo>
                      <a:pt x="529" y="1896"/>
                    </a:lnTo>
                    <a:lnTo>
                      <a:pt x="514" y="2013"/>
                    </a:lnTo>
                    <a:lnTo>
                      <a:pt x="448" y="2606"/>
                    </a:lnTo>
                    <a:lnTo>
                      <a:pt x="382" y="3196"/>
                    </a:lnTo>
                    <a:lnTo>
                      <a:pt x="318" y="3784"/>
                    </a:lnTo>
                    <a:lnTo>
                      <a:pt x="254" y="4369"/>
                    </a:lnTo>
                    <a:lnTo>
                      <a:pt x="190" y="4954"/>
                    </a:lnTo>
                    <a:lnTo>
                      <a:pt x="126" y="5537"/>
                    </a:lnTo>
                    <a:lnTo>
                      <a:pt x="63" y="6119"/>
                    </a:lnTo>
                    <a:lnTo>
                      <a:pt x="0" y="6701"/>
                    </a:lnTo>
                    <a:lnTo>
                      <a:pt x="111" y="6780"/>
                    </a:lnTo>
                    <a:lnTo>
                      <a:pt x="220" y="6856"/>
                    </a:lnTo>
                    <a:lnTo>
                      <a:pt x="327" y="6930"/>
                    </a:lnTo>
                    <a:lnTo>
                      <a:pt x="432" y="7002"/>
                    </a:lnTo>
                    <a:lnTo>
                      <a:pt x="538" y="7070"/>
                    </a:lnTo>
                    <a:lnTo>
                      <a:pt x="643" y="7137"/>
                    </a:lnTo>
                    <a:lnTo>
                      <a:pt x="696" y="7169"/>
                    </a:lnTo>
                    <a:lnTo>
                      <a:pt x="749" y="7201"/>
                    </a:lnTo>
                    <a:lnTo>
                      <a:pt x="802" y="7231"/>
                    </a:lnTo>
                    <a:lnTo>
                      <a:pt x="856" y="7261"/>
                    </a:lnTo>
                    <a:lnTo>
                      <a:pt x="910" y="7290"/>
                    </a:lnTo>
                    <a:lnTo>
                      <a:pt x="966" y="7319"/>
                    </a:lnTo>
                    <a:lnTo>
                      <a:pt x="1020" y="7346"/>
                    </a:lnTo>
                    <a:lnTo>
                      <a:pt x="1077" y="7372"/>
                    </a:lnTo>
                    <a:lnTo>
                      <a:pt x="1133" y="7398"/>
                    </a:lnTo>
                    <a:lnTo>
                      <a:pt x="1191" y="7424"/>
                    </a:lnTo>
                    <a:lnTo>
                      <a:pt x="1250" y="7448"/>
                    </a:lnTo>
                    <a:lnTo>
                      <a:pt x="1310" y="7471"/>
                    </a:lnTo>
                    <a:lnTo>
                      <a:pt x="1370" y="7493"/>
                    </a:lnTo>
                    <a:lnTo>
                      <a:pt x="1432" y="7515"/>
                    </a:lnTo>
                    <a:lnTo>
                      <a:pt x="1495" y="7535"/>
                    </a:lnTo>
                    <a:lnTo>
                      <a:pt x="1559" y="7555"/>
                    </a:lnTo>
                    <a:lnTo>
                      <a:pt x="1625" y="7573"/>
                    </a:lnTo>
                    <a:lnTo>
                      <a:pt x="1692" y="7591"/>
                    </a:lnTo>
                    <a:lnTo>
                      <a:pt x="1760" y="7607"/>
                    </a:lnTo>
                    <a:lnTo>
                      <a:pt x="1830" y="7623"/>
                    </a:lnTo>
                    <a:lnTo>
                      <a:pt x="1904" y="7637"/>
                    </a:lnTo>
                    <a:lnTo>
                      <a:pt x="1978" y="7649"/>
                    </a:lnTo>
                    <a:lnTo>
                      <a:pt x="2053" y="7659"/>
                    </a:lnTo>
                    <a:lnTo>
                      <a:pt x="2130" y="7669"/>
                    </a:lnTo>
                    <a:lnTo>
                      <a:pt x="2205" y="7677"/>
                    </a:lnTo>
                    <a:lnTo>
                      <a:pt x="2281" y="7683"/>
                    </a:lnTo>
                    <a:lnTo>
                      <a:pt x="2357" y="7689"/>
                    </a:lnTo>
                    <a:lnTo>
                      <a:pt x="2435" y="7693"/>
                    </a:lnTo>
                    <a:lnTo>
                      <a:pt x="2511" y="7697"/>
                    </a:lnTo>
                    <a:lnTo>
                      <a:pt x="2588" y="7699"/>
                    </a:lnTo>
                    <a:lnTo>
                      <a:pt x="2664" y="7700"/>
                    </a:lnTo>
                    <a:lnTo>
                      <a:pt x="2740" y="7700"/>
                    </a:lnTo>
                    <a:lnTo>
                      <a:pt x="2817" y="7699"/>
                    </a:lnTo>
                    <a:lnTo>
                      <a:pt x="2893" y="7697"/>
                    </a:lnTo>
                    <a:lnTo>
                      <a:pt x="2969" y="7694"/>
                    </a:lnTo>
                    <a:lnTo>
                      <a:pt x="3044" y="7690"/>
                    </a:lnTo>
                    <a:lnTo>
                      <a:pt x="3120" y="7685"/>
                    </a:lnTo>
                    <a:lnTo>
                      <a:pt x="3194" y="7680"/>
                    </a:lnTo>
                    <a:lnTo>
                      <a:pt x="3268" y="7673"/>
                    </a:lnTo>
                    <a:lnTo>
                      <a:pt x="3341" y="7666"/>
                    </a:lnTo>
                    <a:lnTo>
                      <a:pt x="3413" y="7658"/>
                    </a:lnTo>
                    <a:lnTo>
                      <a:pt x="3484" y="7650"/>
                    </a:lnTo>
                    <a:lnTo>
                      <a:pt x="3555" y="7641"/>
                    </a:lnTo>
                    <a:lnTo>
                      <a:pt x="3624" y="7631"/>
                    </a:lnTo>
                    <a:lnTo>
                      <a:pt x="3693" y="7621"/>
                    </a:lnTo>
                    <a:lnTo>
                      <a:pt x="3761" y="7609"/>
                    </a:lnTo>
                    <a:lnTo>
                      <a:pt x="3827" y="7597"/>
                    </a:lnTo>
                    <a:lnTo>
                      <a:pt x="3892" y="7585"/>
                    </a:lnTo>
                    <a:lnTo>
                      <a:pt x="3956" y="7573"/>
                    </a:lnTo>
                    <a:lnTo>
                      <a:pt x="4019" y="7560"/>
                    </a:lnTo>
                    <a:lnTo>
                      <a:pt x="4080" y="7547"/>
                    </a:lnTo>
                    <a:lnTo>
                      <a:pt x="4139" y="7533"/>
                    </a:lnTo>
                    <a:close/>
                  </a:path>
                </a:pathLst>
              </a:custGeom>
              <a:solidFill>
                <a:srgbClr val="a5b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784600" y="2300400"/>
                <a:ext cx="39600" cy="34920"/>
              </a:xfrm>
              <a:custGeom>
                <a:avLst/>
                <a:gdLst/>
                <a:ahLst/>
                <a:rect l="l" t="t" r="r" b="b"/>
                <a:pathLst>
                  <a:path w="842" h="842">
                    <a:moveTo>
                      <a:pt x="476" y="8"/>
                    </a:moveTo>
                    <a:lnTo>
                      <a:pt x="497" y="13"/>
                    </a:lnTo>
                    <a:lnTo>
                      <a:pt x="518" y="19"/>
                    </a:lnTo>
                    <a:lnTo>
                      <a:pt x="539" y="25"/>
                    </a:lnTo>
                    <a:lnTo>
                      <a:pt x="559" y="33"/>
                    </a:lnTo>
                    <a:lnTo>
                      <a:pt x="578" y="42"/>
                    </a:lnTo>
                    <a:lnTo>
                      <a:pt x="597" y="51"/>
                    </a:lnTo>
                    <a:lnTo>
                      <a:pt x="616" y="61"/>
                    </a:lnTo>
                    <a:lnTo>
                      <a:pt x="633" y="72"/>
                    </a:lnTo>
                    <a:lnTo>
                      <a:pt x="651" y="84"/>
                    </a:lnTo>
                    <a:lnTo>
                      <a:pt x="667" y="96"/>
                    </a:lnTo>
                    <a:lnTo>
                      <a:pt x="683" y="109"/>
                    </a:lnTo>
                    <a:lnTo>
                      <a:pt x="698" y="123"/>
                    </a:lnTo>
                    <a:lnTo>
                      <a:pt x="713" y="138"/>
                    </a:lnTo>
                    <a:lnTo>
                      <a:pt x="727" y="154"/>
                    </a:lnTo>
                    <a:lnTo>
                      <a:pt x="740" y="169"/>
                    </a:lnTo>
                    <a:lnTo>
                      <a:pt x="753" y="185"/>
                    </a:lnTo>
                    <a:lnTo>
                      <a:pt x="764" y="202"/>
                    </a:lnTo>
                    <a:lnTo>
                      <a:pt x="776" y="219"/>
                    </a:lnTo>
                    <a:lnTo>
                      <a:pt x="786" y="237"/>
                    </a:lnTo>
                    <a:lnTo>
                      <a:pt x="795" y="256"/>
                    </a:lnTo>
                    <a:lnTo>
                      <a:pt x="804" y="274"/>
                    </a:lnTo>
                    <a:lnTo>
                      <a:pt x="812" y="293"/>
                    </a:lnTo>
                    <a:lnTo>
                      <a:pt x="819" y="312"/>
                    </a:lnTo>
                    <a:lnTo>
                      <a:pt x="825" y="331"/>
                    </a:lnTo>
                    <a:lnTo>
                      <a:pt x="830" y="351"/>
                    </a:lnTo>
                    <a:lnTo>
                      <a:pt x="834" y="372"/>
                    </a:lnTo>
                    <a:lnTo>
                      <a:pt x="837" y="392"/>
                    </a:lnTo>
                    <a:lnTo>
                      <a:pt x="840" y="412"/>
                    </a:lnTo>
                    <a:lnTo>
                      <a:pt x="841" y="432"/>
                    </a:lnTo>
                    <a:lnTo>
                      <a:pt x="842" y="453"/>
                    </a:lnTo>
                    <a:lnTo>
                      <a:pt x="841" y="474"/>
                    </a:lnTo>
                    <a:lnTo>
                      <a:pt x="840" y="495"/>
                    </a:lnTo>
                    <a:lnTo>
                      <a:pt x="837" y="516"/>
                    </a:lnTo>
                    <a:lnTo>
                      <a:pt x="832" y="537"/>
                    </a:lnTo>
                    <a:lnTo>
                      <a:pt x="827" y="557"/>
                    </a:lnTo>
                    <a:lnTo>
                      <a:pt x="821" y="576"/>
                    </a:lnTo>
                    <a:lnTo>
                      <a:pt x="814" y="597"/>
                    </a:lnTo>
                    <a:lnTo>
                      <a:pt x="805" y="615"/>
                    </a:lnTo>
                    <a:lnTo>
                      <a:pt x="797" y="633"/>
                    </a:lnTo>
                    <a:lnTo>
                      <a:pt x="787" y="651"/>
                    </a:lnTo>
                    <a:lnTo>
                      <a:pt x="777" y="668"/>
                    </a:lnTo>
                    <a:lnTo>
                      <a:pt x="765" y="684"/>
                    </a:lnTo>
                    <a:lnTo>
                      <a:pt x="753" y="700"/>
                    </a:lnTo>
                    <a:lnTo>
                      <a:pt x="739" y="715"/>
                    </a:lnTo>
                    <a:lnTo>
                      <a:pt x="726" y="729"/>
                    </a:lnTo>
                    <a:lnTo>
                      <a:pt x="712" y="743"/>
                    </a:lnTo>
                    <a:lnTo>
                      <a:pt x="696" y="755"/>
                    </a:lnTo>
                    <a:lnTo>
                      <a:pt x="681" y="767"/>
                    </a:lnTo>
                    <a:lnTo>
                      <a:pt x="664" y="778"/>
                    </a:lnTo>
                    <a:lnTo>
                      <a:pt x="648" y="789"/>
                    </a:lnTo>
                    <a:lnTo>
                      <a:pt x="630" y="799"/>
                    </a:lnTo>
                    <a:lnTo>
                      <a:pt x="613" y="808"/>
                    </a:lnTo>
                    <a:lnTo>
                      <a:pt x="594" y="815"/>
                    </a:lnTo>
                    <a:lnTo>
                      <a:pt x="575" y="822"/>
                    </a:lnTo>
                    <a:lnTo>
                      <a:pt x="556" y="828"/>
                    </a:lnTo>
                    <a:lnTo>
                      <a:pt x="537" y="833"/>
                    </a:lnTo>
                    <a:lnTo>
                      <a:pt x="516" y="837"/>
                    </a:lnTo>
                    <a:lnTo>
                      <a:pt x="495" y="840"/>
                    </a:lnTo>
                    <a:lnTo>
                      <a:pt x="475" y="841"/>
                    </a:lnTo>
                    <a:lnTo>
                      <a:pt x="453" y="842"/>
                    </a:lnTo>
                    <a:lnTo>
                      <a:pt x="431" y="842"/>
                    </a:lnTo>
                    <a:lnTo>
                      <a:pt x="410" y="841"/>
                    </a:lnTo>
                    <a:lnTo>
                      <a:pt x="388" y="838"/>
                    </a:lnTo>
                    <a:lnTo>
                      <a:pt x="367" y="834"/>
                    </a:lnTo>
                    <a:lnTo>
                      <a:pt x="345" y="830"/>
                    </a:lnTo>
                    <a:lnTo>
                      <a:pt x="323" y="824"/>
                    </a:lnTo>
                    <a:lnTo>
                      <a:pt x="303" y="817"/>
                    </a:lnTo>
                    <a:lnTo>
                      <a:pt x="283" y="810"/>
                    </a:lnTo>
                    <a:lnTo>
                      <a:pt x="264" y="802"/>
                    </a:lnTo>
                    <a:lnTo>
                      <a:pt x="245" y="791"/>
                    </a:lnTo>
                    <a:lnTo>
                      <a:pt x="226" y="781"/>
                    </a:lnTo>
                    <a:lnTo>
                      <a:pt x="209" y="770"/>
                    </a:lnTo>
                    <a:lnTo>
                      <a:pt x="191" y="759"/>
                    </a:lnTo>
                    <a:lnTo>
                      <a:pt x="175" y="746"/>
                    </a:lnTo>
                    <a:lnTo>
                      <a:pt x="158" y="733"/>
                    </a:lnTo>
                    <a:lnTo>
                      <a:pt x="143" y="719"/>
                    </a:lnTo>
                    <a:lnTo>
                      <a:pt x="129" y="705"/>
                    </a:lnTo>
                    <a:lnTo>
                      <a:pt x="115" y="690"/>
                    </a:lnTo>
                    <a:lnTo>
                      <a:pt x="102" y="673"/>
                    </a:lnTo>
                    <a:lnTo>
                      <a:pt x="89" y="657"/>
                    </a:lnTo>
                    <a:lnTo>
                      <a:pt x="77" y="640"/>
                    </a:lnTo>
                    <a:lnTo>
                      <a:pt x="66" y="623"/>
                    </a:lnTo>
                    <a:lnTo>
                      <a:pt x="55" y="606"/>
                    </a:lnTo>
                    <a:lnTo>
                      <a:pt x="46" y="588"/>
                    </a:lnTo>
                    <a:lnTo>
                      <a:pt x="38" y="568"/>
                    </a:lnTo>
                    <a:lnTo>
                      <a:pt x="30" y="550"/>
                    </a:lnTo>
                    <a:lnTo>
                      <a:pt x="22" y="531"/>
                    </a:lnTo>
                    <a:lnTo>
                      <a:pt x="17" y="511"/>
                    </a:lnTo>
                    <a:lnTo>
                      <a:pt x="11" y="492"/>
                    </a:lnTo>
                    <a:lnTo>
                      <a:pt x="7" y="472"/>
                    </a:lnTo>
                    <a:lnTo>
                      <a:pt x="4" y="451"/>
                    </a:lnTo>
                    <a:lnTo>
                      <a:pt x="2" y="430"/>
                    </a:lnTo>
                    <a:lnTo>
                      <a:pt x="0" y="390"/>
                    </a:lnTo>
                    <a:lnTo>
                      <a:pt x="2" y="348"/>
                    </a:lnTo>
                    <a:lnTo>
                      <a:pt x="5" y="327"/>
                    </a:lnTo>
                    <a:lnTo>
                      <a:pt x="9" y="306"/>
                    </a:lnTo>
                    <a:lnTo>
                      <a:pt x="14" y="286"/>
                    </a:lnTo>
                    <a:lnTo>
                      <a:pt x="20" y="267"/>
                    </a:lnTo>
                    <a:lnTo>
                      <a:pt x="28" y="247"/>
                    </a:lnTo>
                    <a:lnTo>
                      <a:pt x="36" y="228"/>
                    </a:lnTo>
                    <a:lnTo>
                      <a:pt x="44" y="210"/>
                    </a:lnTo>
                    <a:lnTo>
                      <a:pt x="54" y="193"/>
                    </a:lnTo>
                    <a:lnTo>
                      <a:pt x="65" y="176"/>
                    </a:lnTo>
                    <a:lnTo>
                      <a:pt x="76" y="160"/>
                    </a:lnTo>
                    <a:lnTo>
                      <a:pt x="88" y="143"/>
                    </a:lnTo>
                    <a:lnTo>
                      <a:pt x="101" y="128"/>
                    </a:lnTo>
                    <a:lnTo>
                      <a:pt x="114" y="114"/>
                    </a:lnTo>
                    <a:lnTo>
                      <a:pt x="129" y="101"/>
                    </a:lnTo>
                    <a:lnTo>
                      <a:pt x="144" y="88"/>
                    </a:lnTo>
                    <a:lnTo>
                      <a:pt x="159" y="76"/>
                    </a:lnTo>
                    <a:lnTo>
                      <a:pt x="176" y="65"/>
                    </a:lnTo>
                    <a:lnTo>
                      <a:pt x="192" y="54"/>
                    </a:lnTo>
                    <a:lnTo>
                      <a:pt x="210" y="45"/>
                    </a:lnTo>
                    <a:lnTo>
                      <a:pt x="227" y="35"/>
                    </a:lnTo>
                    <a:lnTo>
                      <a:pt x="246" y="28"/>
                    </a:lnTo>
                    <a:lnTo>
                      <a:pt x="266" y="21"/>
                    </a:lnTo>
                    <a:lnTo>
                      <a:pt x="284" y="15"/>
                    </a:lnTo>
                    <a:lnTo>
                      <a:pt x="305" y="10"/>
                    </a:lnTo>
                    <a:lnTo>
                      <a:pt x="324" y="6"/>
                    </a:lnTo>
                    <a:lnTo>
                      <a:pt x="345" y="3"/>
                    </a:lnTo>
                    <a:lnTo>
                      <a:pt x="367" y="1"/>
                    </a:lnTo>
                    <a:lnTo>
                      <a:pt x="387" y="0"/>
                    </a:lnTo>
                    <a:lnTo>
                      <a:pt x="409" y="1"/>
                    </a:lnTo>
                    <a:lnTo>
                      <a:pt x="431" y="2"/>
                    </a:lnTo>
                    <a:lnTo>
                      <a:pt x="453" y="5"/>
                    </a:lnTo>
                    <a:lnTo>
                      <a:pt x="47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722680" y="2279520"/>
                <a:ext cx="38160" cy="34920"/>
              </a:xfrm>
              <a:custGeom>
                <a:avLst/>
                <a:gdLst/>
                <a:ahLst/>
                <a:rect l="l" t="t" r="r" b="b"/>
                <a:pathLst>
                  <a:path w="839" h="838">
                    <a:moveTo>
                      <a:pt x="476" y="8"/>
                    </a:moveTo>
                    <a:lnTo>
                      <a:pt x="525" y="20"/>
                    </a:lnTo>
                    <a:lnTo>
                      <a:pt x="570" y="36"/>
                    </a:lnTo>
                    <a:lnTo>
                      <a:pt x="613" y="55"/>
                    </a:lnTo>
                    <a:lnTo>
                      <a:pt x="651" y="78"/>
                    </a:lnTo>
                    <a:lnTo>
                      <a:pt x="686" y="104"/>
                    </a:lnTo>
                    <a:lnTo>
                      <a:pt x="717" y="132"/>
                    </a:lnTo>
                    <a:lnTo>
                      <a:pt x="744" y="163"/>
                    </a:lnTo>
                    <a:lnTo>
                      <a:pt x="768" y="196"/>
                    </a:lnTo>
                    <a:lnTo>
                      <a:pt x="789" y="231"/>
                    </a:lnTo>
                    <a:lnTo>
                      <a:pt x="805" y="266"/>
                    </a:lnTo>
                    <a:lnTo>
                      <a:pt x="819" y="304"/>
                    </a:lnTo>
                    <a:lnTo>
                      <a:pt x="829" y="342"/>
                    </a:lnTo>
                    <a:lnTo>
                      <a:pt x="835" y="381"/>
                    </a:lnTo>
                    <a:lnTo>
                      <a:pt x="839" y="420"/>
                    </a:lnTo>
                    <a:lnTo>
                      <a:pt x="839" y="459"/>
                    </a:lnTo>
                    <a:lnTo>
                      <a:pt x="836" y="497"/>
                    </a:lnTo>
                    <a:lnTo>
                      <a:pt x="829" y="536"/>
                    </a:lnTo>
                    <a:lnTo>
                      <a:pt x="820" y="573"/>
                    </a:lnTo>
                    <a:lnTo>
                      <a:pt x="807" y="609"/>
                    </a:lnTo>
                    <a:lnTo>
                      <a:pt x="791" y="644"/>
                    </a:lnTo>
                    <a:lnTo>
                      <a:pt x="772" y="676"/>
                    </a:lnTo>
                    <a:lnTo>
                      <a:pt x="750" y="706"/>
                    </a:lnTo>
                    <a:lnTo>
                      <a:pt x="725" y="735"/>
                    </a:lnTo>
                    <a:lnTo>
                      <a:pt x="697" y="760"/>
                    </a:lnTo>
                    <a:lnTo>
                      <a:pt x="665" y="782"/>
                    </a:lnTo>
                    <a:lnTo>
                      <a:pt x="631" y="801"/>
                    </a:lnTo>
                    <a:lnTo>
                      <a:pt x="594" y="816"/>
                    </a:lnTo>
                    <a:lnTo>
                      <a:pt x="555" y="827"/>
                    </a:lnTo>
                    <a:lnTo>
                      <a:pt x="512" y="835"/>
                    </a:lnTo>
                    <a:lnTo>
                      <a:pt x="466" y="838"/>
                    </a:lnTo>
                    <a:lnTo>
                      <a:pt x="418" y="836"/>
                    </a:lnTo>
                    <a:lnTo>
                      <a:pt x="367" y="827"/>
                    </a:lnTo>
                    <a:lnTo>
                      <a:pt x="346" y="823"/>
                    </a:lnTo>
                    <a:lnTo>
                      <a:pt x="325" y="817"/>
                    </a:lnTo>
                    <a:lnTo>
                      <a:pt x="305" y="811"/>
                    </a:lnTo>
                    <a:lnTo>
                      <a:pt x="284" y="803"/>
                    </a:lnTo>
                    <a:lnTo>
                      <a:pt x="264" y="795"/>
                    </a:lnTo>
                    <a:lnTo>
                      <a:pt x="246" y="786"/>
                    </a:lnTo>
                    <a:lnTo>
                      <a:pt x="227" y="776"/>
                    </a:lnTo>
                    <a:lnTo>
                      <a:pt x="210" y="766"/>
                    </a:lnTo>
                    <a:lnTo>
                      <a:pt x="192" y="755"/>
                    </a:lnTo>
                    <a:lnTo>
                      <a:pt x="176" y="742"/>
                    </a:lnTo>
                    <a:lnTo>
                      <a:pt x="159" y="730"/>
                    </a:lnTo>
                    <a:lnTo>
                      <a:pt x="144" y="715"/>
                    </a:lnTo>
                    <a:lnTo>
                      <a:pt x="129" y="701"/>
                    </a:lnTo>
                    <a:lnTo>
                      <a:pt x="115" y="687"/>
                    </a:lnTo>
                    <a:lnTo>
                      <a:pt x="102" y="672"/>
                    </a:lnTo>
                    <a:lnTo>
                      <a:pt x="89" y="656"/>
                    </a:lnTo>
                    <a:lnTo>
                      <a:pt x="78" y="639"/>
                    </a:lnTo>
                    <a:lnTo>
                      <a:pt x="67" y="623"/>
                    </a:lnTo>
                    <a:lnTo>
                      <a:pt x="56" y="604"/>
                    </a:lnTo>
                    <a:lnTo>
                      <a:pt x="47" y="587"/>
                    </a:lnTo>
                    <a:lnTo>
                      <a:pt x="38" y="568"/>
                    </a:lnTo>
                    <a:lnTo>
                      <a:pt x="31" y="550"/>
                    </a:lnTo>
                    <a:lnTo>
                      <a:pt x="23" y="531"/>
                    </a:lnTo>
                    <a:lnTo>
                      <a:pt x="17" y="511"/>
                    </a:lnTo>
                    <a:lnTo>
                      <a:pt x="12" y="491"/>
                    </a:lnTo>
                    <a:lnTo>
                      <a:pt x="8" y="471"/>
                    </a:lnTo>
                    <a:lnTo>
                      <a:pt x="5" y="451"/>
                    </a:lnTo>
                    <a:lnTo>
                      <a:pt x="2" y="430"/>
                    </a:lnTo>
                    <a:lnTo>
                      <a:pt x="1" y="409"/>
                    </a:lnTo>
                    <a:lnTo>
                      <a:pt x="0" y="387"/>
                    </a:lnTo>
                    <a:lnTo>
                      <a:pt x="1" y="366"/>
                    </a:lnTo>
                    <a:lnTo>
                      <a:pt x="2" y="345"/>
                    </a:lnTo>
                    <a:lnTo>
                      <a:pt x="6" y="324"/>
                    </a:lnTo>
                    <a:lnTo>
                      <a:pt x="10" y="304"/>
                    </a:lnTo>
                    <a:lnTo>
                      <a:pt x="15" y="283"/>
                    </a:lnTo>
                    <a:lnTo>
                      <a:pt x="21" y="263"/>
                    </a:lnTo>
                    <a:lnTo>
                      <a:pt x="28" y="244"/>
                    </a:lnTo>
                    <a:lnTo>
                      <a:pt x="36" y="226"/>
                    </a:lnTo>
                    <a:lnTo>
                      <a:pt x="45" y="208"/>
                    </a:lnTo>
                    <a:lnTo>
                      <a:pt x="54" y="191"/>
                    </a:lnTo>
                    <a:lnTo>
                      <a:pt x="66" y="173"/>
                    </a:lnTo>
                    <a:lnTo>
                      <a:pt x="77" y="157"/>
                    </a:lnTo>
                    <a:lnTo>
                      <a:pt x="88" y="142"/>
                    </a:lnTo>
                    <a:lnTo>
                      <a:pt x="102" y="127"/>
                    </a:lnTo>
                    <a:lnTo>
                      <a:pt x="115" y="113"/>
                    </a:lnTo>
                    <a:lnTo>
                      <a:pt x="129" y="99"/>
                    </a:lnTo>
                    <a:lnTo>
                      <a:pt x="145" y="87"/>
                    </a:lnTo>
                    <a:lnTo>
                      <a:pt x="160" y="74"/>
                    </a:lnTo>
                    <a:lnTo>
                      <a:pt x="176" y="63"/>
                    </a:lnTo>
                    <a:lnTo>
                      <a:pt x="193" y="53"/>
                    </a:lnTo>
                    <a:lnTo>
                      <a:pt x="211" y="43"/>
                    </a:lnTo>
                    <a:lnTo>
                      <a:pt x="228" y="35"/>
                    </a:lnTo>
                    <a:lnTo>
                      <a:pt x="247" y="27"/>
                    </a:lnTo>
                    <a:lnTo>
                      <a:pt x="265" y="20"/>
                    </a:lnTo>
                    <a:lnTo>
                      <a:pt x="285" y="14"/>
                    </a:lnTo>
                    <a:lnTo>
                      <a:pt x="305" y="10"/>
                    </a:lnTo>
                    <a:lnTo>
                      <a:pt x="325" y="6"/>
                    </a:lnTo>
                    <a:lnTo>
                      <a:pt x="346" y="3"/>
                    </a:lnTo>
                    <a:lnTo>
                      <a:pt x="366" y="1"/>
                    </a:lnTo>
                    <a:lnTo>
                      <a:pt x="388" y="0"/>
                    </a:lnTo>
                    <a:lnTo>
                      <a:pt x="410" y="1"/>
                    </a:lnTo>
                    <a:lnTo>
                      <a:pt x="431" y="2"/>
                    </a:lnTo>
                    <a:lnTo>
                      <a:pt x="454" y="5"/>
                    </a:lnTo>
                    <a:lnTo>
                      <a:pt x="47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49400" y="2301840"/>
                <a:ext cx="39960" cy="34920"/>
              </a:xfrm>
              <a:custGeom>
                <a:avLst/>
                <a:gdLst/>
                <a:ahLst/>
                <a:rect l="l" t="t" r="r" b="b"/>
                <a:pathLst>
                  <a:path w="845" h="846">
                    <a:moveTo>
                      <a:pt x="478" y="8"/>
                    </a:moveTo>
                    <a:lnTo>
                      <a:pt x="500" y="13"/>
                    </a:lnTo>
                    <a:lnTo>
                      <a:pt x="522" y="19"/>
                    </a:lnTo>
                    <a:lnTo>
                      <a:pt x="542" y="25"/>
                    </a:lnTo>
                    <a:lnTo>
                      <a:pt x="563" y="33"/>
                    </a:lnTo>
                    <a:lnTo>
                      <a:pt x="582" y="41"/>
                    </a:lnTo>
                    <a:lnTo>
                      <a:pt x="601" y="51"/>
                    </a:lnTo>
                    <a:lnTo>
                      <a:pt x="619" y="61"/>
                    </a:lnTo>
                    <a:lnTo>
                      <a:pt x="637" y="72"/>
                    </a:lnTo>
                    <a:lnTo>
                      <a:pt x="654" y="83"/>
                    </a:lnTo>
                    <a:lnTo>
                      <a:pt x="671" y="97"/>
                    </a:lnTo>
                    <a:lnTo>
                      <a:pt x="687" y="110"/>
                    </a:lnTo>
                    <a:lnTo>
                      <a:pt x="703" y="124"/>
                    </a:lnTo>
                    <a:lnTo>
                      <a:pt x="717" y="138"/>
                    </a:lnTo>
                    <a:lnTo>
                      <a:pt x="731" y="153"/>
                    </a:lnTo>
                    <a:lnTo>
                      <a:pt x="744" y="169"/>
                    </a:lnTo>
                    <a:lnTo>
                      <a:pt x="756" y="185"/>
                    </a:lnTo>
                    <a:lnTo>
                      <a:pt x="768" y="203"/>
                    </a:lnTo>
                    <a:lnTo>
                      <a:pt x="779" y="220"/>
                    </a:lnTo>
                    <a:lnTo>
                      <a:pt x="789" y="238"/>
                    </a:lnTo>
                    <a:lnTo>
                      <a:pt x="799" y="256"/>
                    </a:lnTo>
                    <a:lnTo>
                      <a:pt x="807" y="274"/>
                    </a:lnTo>
                    <a:lnTo>
                      <a:pt x="815" y="293"/>
                    </a:lnTo>
                    <a:lnTo>
                      <a:pt x="821" y="313"/>
                    </a:lnTo>
                    <a:lnTo>
                      <a:pt x="828" y="332"/>
                    </a:lnTo>
                    <a:lnTo>
                      <a:pt x="833" y="352"/>
                    </a:lnTo>
                    <a:lnTo>
                      <a:pt x="837" y="372"/>
                    </a:lnTo>
                    <a:lnTo>
                      <a:pt x="840" y="392"/>
                    </a:lnTo>
                    <a:lnTo>
                      <a:pt x="843" y="414"/>
                    </a:lnTo>
                    <a:lnTo>
                      <a:pt x="844" y="434"/>
                    </a:lnTo>
                    <a:lnTo>
                      <a:pt x="845" y="455"/>
                    </a:lnTo>
                    <a:lnTo>
                      <a:pt x="844" y="475"/>
                    </a:lnTo>
                    <a:lnTo>
                      <a:pt x="843" y="496"/>
                    </a:lnTo>
                    <a:lnTo>
                      <a:pt x="835" y="546"/>
                    </a:lnTo>
                    <a:lnTo>
                      <a:pt x="822" y="592"/>
                    </a:lnTo>
                    <a:lnTo>
                      <a:pt x="806" y="634"/>
                    </a:lnTo>
                    <a:lnTo>
                      <a:pt x="786" y="672"/>
                    </a:lnTo>
                    <a:lnTo>
                      <a:pt x="763" y="706"/>
                    </a:lnTo>
                    <a:lnTo>
                      <a:pt x="737" y="735"/>
                    </a:lnTo>
                    <a:lnTo>
                      <a:pt x="708" y="763"/>
                    </a:lnTo>
                    <a:lnTo>
                      <a:pt x="676" y="785"/>
                    </a:lnTo>
                    <a:lnTo>
                      <a:pt x="643" y="804"/>
                    </a:lnTo>
                    <a:lnTo>
                      <a:pt x="608" y="819"/>
                    </a:lnTo>
                    <a:lnTo>
                      <a:pt x="571" y="831"/>
                    </a:lnTo>
                    <a:lnTo>
                      <a:pt x="534" y="839"/>
                    </a:lnTo>
                    <a:lnTo>
                      <a:pt x="495" y="843"/>
                    </a:lnTo>
                    <a:lnTo>
                      <a:pt x="456" y="846"/>
                    </a:lnTo>
                    <a:lnTo>
                      <a:pt x="416" y="843"/>
                    </a:lnTo>
                    <a:lnTo>
                      <a:pt x="376" y="837"/>
                    </a:lnTo>
                    <a:lnTo>
                      <a:pt x="337" y="829"/>
                    </a:lnTo>
                    <a:lnTo>
                      <a:pt x="299" y="817"/>
                    </a:lnTo>
                    <a:lnTo>
                      <a:pt x="262" y="803"/>
                    </a:lnTo>
                    <a:lnTo>
                      <a:pt x="226" y="785"/>
                    </a:lnTo>
                    <a:lnTo>
                      <a:pt x="191" y="764"/>
                    </a:lnTo>
                    <a:lnTo>
                      <a:pt x="158" y="741"/>
                    </a:lnTo>
                    <a:lnTo>
                      <a:pt x="128" y="713"/>
                    </a:lnTo>
                    <a:lnTo>
                      <a:pt x="100" y="684"/>
                    </a:lnTo>
                    <a:lnTo>
                      <a:pt x="74" y="652"/>
                    </a:lnTo>
                    <a:lnTo>
                      <a:pt x="53" y="616"/>
                    </a:lnTo>
                    <a:lnTo>
                      <a:pt x="34" y="578"/>
                    </a:lnTo>
                    <a:lnTo>
                      <a:pt x="19" y="538"/>
                    </a:lnTo>
                    <a:lnTo>
                      <a:pt x="9" y="495"/>
                    </a:lnTo>
                    <a:lnTo>
                      <a:pt x="2" y="450"/>
                    </a:lnTo>
                    <a:lnTo>
                      <a:pt x="0" y="401"/>
                    </a:lnTo>
                    <a:lnTo>
                      <a:pt x="3" y="351"/>
                    </a:lnTo>
                    <a:lnTo>
                      <a:pt x="6" y="330"/>
                    </a:lnTo>
                    <a:lnTo>
                      <a:pt x="11" y="309"/>
                    </a:lnTo>
                    <a:lnTo>
                      <a:pt x="16" y="288"/>
                    </a:lnTo>
                    <a:lnTo>
                      <a:pt x="22" y="268"/>
                    </a:lnTo>
                    <a:lnTo>
                      <a:pt x="29" y="248"/>
                    </a:lnTo>
                    <a:lnTo>
                      <a:pt x="36" y="230"/>
                    </a:lnTo>
                    <a:lnTo>
                      <a:pt x="46" y="211"/>
                    </a:lnTo>
                    <a:lnTo>
                      <a:pt x="56" y="193"/>
                    </a:lnTo>
                    <a:lnTo>
                      <a:pt x="66" y="176"/>
                    </a:lnTo>
                    <a:lnTo>
                      <a:pt x="78" y="159"/>
                    </a:lnTo>
                    <a:lnTo>
                      <a:pt x="90" y="144"/>
                    </a:lnTo>
                    <a:lnTo>
                      <a:pt x="102" y="129"/>
                    </a:lnTo>
                    <a:lnTo>
                      <a:pt x="117" y="115"/>
                    </a:lnTo>
                    <a:lnTo>
                      <a:pt x="131" y="101"/>
                    </a:lnTo>
                    <a:lnTo>
                      <a:pt x="146" y="87"/>
                    </a:lnTo>
                    <a:lnTo>
                      <a:pt x="162" y="75"/>
                    </a:lnTo>
                    <a:lnTo>
                      <a:pt x="179" y="64"/>
                    </a:lnTo>
                    <a:lnTo>
                      <a:pt x="195" y="54"/>
                    </a:lnTo>
                    <a:lnTo>
                      <a:pt x="213" y="44"/>
                    </a:lnTo>
                    <a:lnTo>
                      <a:pt x="231" y="35"/>
                    </a:lnTo>
                    <a:lnTo>
                      <a:pt x="250" y="28"/>
                    </a:lnTo>
                    <a:lnTo>
                      <a:pt x="268" y="21"/>
                    </a:lnTo>
                    <a:lnTo>
                      <a:pt x="288" y="15"/>
                    </a:lnTo>
                    <a:lnTo>
                      <a:pt x="307" y="10"/>
                    </a:lnTo>
                    <a:lnTo>
                      <a:pt x="328" y="6"/>
                    </a:lnTo>
                    <a:lnTo>
                      <a:pt x="348" y="3"/>
                    </a:lnTo>
                    <a:lnTo>
                      <a:pt x="369" y="1"/>
                    </a:lnTo>
                    <a:lnTo>
                      <a:pt x="391" y="0"/>
                    </a:lnTo>
                    <a:lnTo>
                      <a:pt x="412" y="1"/>
                    </a:lnTo>
                    <a:lnTo>
                      <a:pt x="434" y="2"/>
                    </a:lnTo>
                    <a:lnTo>
                      <a:pt x="457" y="5"/>
                    </a:lnTo>
                    <a:lnTo>
                      <a:pt x="47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793960" y="230832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420" h="426">
                    <a:moveTo>
                      <a:pt x="224" y="4"/>
                    </a:moveTo>
                    <a:lnTo>
                      <a:pt x="203" y="1"/>
                    </a:lnTo>
                    <a:lnTo>
                      <a:pt x="182" y="0"/>
                    </a:lnTo>
                    <a:lnTo>
                      <a:pt x="163" y="1"/>
                    </a:lnTo>
                    <a:lnTo>
                      <a:pt x="143" y="3"/>
                    </a:lnTo>
                    <a:lnTo>
                      <a:pt x="125" y="8"/>
                    </a:lnTo>
                    <a:lnTo>
                      <a:pt x="107" y="14"/>
                    </a:lnTo>
                    <a:lnTo>
                      <a:pt x="91" y="22"/>
                    </a:lnTo>
                    <a:lnTo>
                      <a:pt x="75" y="32"/>
                    </a:lnTo>
                    <a:lnTo>
                      <a:pt x="61" y="43"/>
                    </a:lnTo>
                    <a:lnTo>
                      <a:pt x="48" y="57"/>
                    </a:lnTo>
                    <a:lnTo>
                      <a:pt x="36" y="71"/>
                    </a:lnTo>
                    <a:lnTo>
                      <a:pt x="27" y="86"/>
                    </a:lnTo>
                    <a:lnTo>
                      <a:pt x="18" y="103"/>
                    </a:lnTo>
                    <a:lnTo>
                      <a:pt x="10" y="121"/>
                    </a:lnTo>
                    <a:lnTo>
                      <a:pt x="5" y="140"/>
                    </a:lnTo>
                    <a:lnTo>
                      <a:pt x="1" y="161"/>
                    </a:lnTo>
                    <a:lnTo>
                      <a:pt x="0" y="186"/>
                    </a:lnTo>
                    <a:lnTo>
                      <a:pt x="1" y="210"/>
                    </a:lnTo>
                    <a:lnTo>
                      <a:pt x="4" y="233"/>
                    </a:lnTo>
                    <a:lnTo>
                      <a:pt x="9" y="255"/>
                    </a:lnTo>
                    <a:lnTo>
                      <a:pt x="16" y="277"/>
                    </a:lnTo>
                    <a:lnTo>
                      <a:pt x="26" y="296"/>
                    </a:lnTo>
                    <a:lnTo>
                      <a:pt x="37" y="315"/>
                    </a:lnTo>
                    <a:lnTo>
                      <a:pt x="49" y="332"/>
                    </a:lnTo>
                    <a:lnTo>
                      <a:pt x="63" y="347"/>
                    </a:lnTo>
                    <a:lnTo>
                      <a:pt x="78" y="362"/>
                    </a:lnTo>
                    <a:lnTo>
                      <a:pt x="94" y="376"/>
                    </a:lnTo>
                    <a:lnTo>
                      <a:pt x="111" y="387"/>
                    </a:lnTo>
                    <a:lnTo>
                      <a:pt x="129" y="397"/>
                    </a:lnTo>
                    <a:lnTo>
                      <a:pt x="147" y="406"/>
                    </a:lnTo>
                    <a:lnTo>
                      <a:pt x="166" y="413"/>
                    </a:lnTo>
                    <a:lnTo>
                      <a:pt x="185" y="419"/>
                    </a:lnTo>
                    <a:lnTo>
                      <a:pt x="205" y="423"/>
                    </a:lnTo>
                    <a:lnTo>
                      <a:pt x="225" y="425"/>
                    </a:lnTo>
                    <a:lnTo>
                      <a:pt x="243" y="426"/>
                    </a:lnTo>
                    <a:lnTo>
                      <a:pt x="263" y="425"/>
                    </a:lnTo>
                    <a:lnTo>
                      <a:pt x="281" y="422"/>
                    </a:lnTo>
                    <a:lnTo>
                      <a:pt x="300" y="418"/>
                    </a:lnTo>
                    <a:lnTo>
                      <a:pt x="317" y="411"/>
                    </a:lnTo>
                    <a:lnTo>
                      <a:pt x="334" y="403"/>
                    </a:lnTo>
                    <a:lnTo>
                      <a:pt x="349" y="393"/>
                    </a:lnTo>
                    <a:lnTo>
                      <a:pt x="364" y="381"/>
                    </a:lnTo>
                    <a:lnTo>
                      <a:pt x="377" y="366"/>
                    </a:lnTo>
                    <a:lnTo>
                      <a:pt x="388" y="350"/>
                    </a:lnTo>
                    <a:lnTo>
                      <a:pt x="399" y="332"/>
                    </a:lnTo>
                    <a:lnTo>
                      <a:pt x="408" y="313"/>
                    </a:lnTo>
                    <a:lnTo>
                      <a:pt x="414" y="290"/>
                    </a:lnTo>
                    <a:lnTo>
                      <a:pt x="419" y="266"/>
                    </a:lnTo>
                    <a:lnTo>
                      <a:pt x="420" y="243"/>
                    </a:lnTo>
                    <a:lnTo>
                      <a:pt x="419" y="221"/>
                    </a:lnTo>
                    <a:lnTo>
                      <a:pt x="415" y="199"/>
                    </a:lnTo>
                    <a:lnTo>
                      <a:pt x="410" y="177"/>
                    </a:lnTo>
                    <a:lnTo>
                      <a:pt x="403" y="156"/>
                    </a:lnTo>
                    <a:lnTo>
                      <a:pt x="394" y="135"/>
                    </a:lnTo>
                    <a:lnTo>
                      <a:pt x="383" y="116"/>
                    </a:lnTo>
                    <a:lnTo>
                      <a:pt x="371" y="98"/>
                    </a:lnTo>
                    <a:lnTo>
                      <a:pt x="356" y="81"/>
                    </a:lnTo>
                    <a:lnTo>
                      <a:pt x="341" y="65"/>
                    </a:lnTo>
                    <a:lnTo>
                      <a:pt x="324" y="51"/>
                    </a:lnTo>
                    <a:lnTo>
                      <a:pt x="307" y="37"/>
                    </a:lnTo>
                    <a:lnTo>
                      <a:pt x="287" y="26"/>
                    </a:lnTo>
                    <a:lnTo>
                      <a:pt x="267" y="16"/>
                    </a:lnTo>
                    <a:lnTo>
                      <a:pt x="246" y="9"/>
                    </a:lnTo>
                    <a:lnTo>
                      <a:pt x="224" y="4"/>
                    </a:lnTo>
                    <a:close/>
                  </a:path>
                </a:pathLst>
              </a:custGeom>
              <a:solidFill>
                <a:srgbClr val="5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32040" y="228924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421" h="421">
                    <a:moveTo>
                      <a:pt x="224" y="4"/>
                    </a:moveTo>
                    <a:lnTo>
                      <a:pt x="203" y="1"/>
                    </a:lnTo>
                    <a:lnTo>
                      <a:pt x="182" y="0"/>
                    </a:lnTo>
                    <a:lnTo>
                      <a:pt x="163" y="0"/>
                    </a:lnTo>
                    <a:lnTo>
                      <a:pt x="143" y="3"/>
                    </a:lnTo>
                    <a:lnTo>
                      <a:pt x="124" y="8"/>
                    </a:lnTo>
                    <a:lnTo>
                      <a:pt x="107" y="14"/>
                    </a:lnTo>
                    <a:lnTo>
                      <a:pt x="90" y="22"/>
                    </a:lnTo>
                    <a:lnTo>
                      <a:pt x="76" y="31"/>
                    </a:lnTo>
                    <a:lnTo>
                      <a:pt x="62" y="43"/>
                    </a:lnTo>
                    <a:lnTo>
                      <a:pt x="48" y="55"/>
                    </a:lnTo>
                    <a:lnTo>
                      <a:pt x="37" y="69"/>
                    </a:lnTo>
                    <a:lnTo>
                      <a:pt x="27" y="84"/>
                    </a:lnTo>
                    <a:lnTo>
                      <a:pt x="17" y="102"/>
                    </a:lnTo>
                    <a:lnTo>
                      <a:pt x="11" y="119"/>
                    </a:lnTo>
                    <a:lnTo>
                      <a:pt x="5" y="138"/>
                    </a:lnTo>
                    <a:lnTo>
                      <a:pt x="2" y="158"/>
                    </a:lnTo>
                    <a:lnTo>
                      <a:pt x="0" y="183"/>
                    </a:lnTo>
                    <a:lnTo>
                      <a:pt x="1" y="208"/>
                    </a:lnTo>
                    <a:lnTo>
                      <a:pt x="5" y="232"/>
                    </a:lnTo>
                    <a:lnTo>
                      <a:pt x="10" y="253"/>
                    </a:lnTo>
                    <a:lnTo>
                      <a:pt x="18" y="274"/>
                    </a:lnTo>
                    <a:lnTo>
                      <a:pt x="28" y="294"/>
                    </a:lnTo>
                    <a:lnTo>
                      <a:pt x="39" y="313"/>
                    </a:lnTo>
                    <a:lnTo>
                      <a:pt x="51" y="330"/>
                    </a:lnTo>
                    <a:lnTo>
                      <a:pt x="65" y="345"/>
                    </a:lnTo>
                    <a:lnTo>
                      <a:pt x="80" y="359"/>
                    </a:lnTo>
                    <a:lnTo>
                      <a:pt x="97" y="372"/>
                    </a:lnTo>
                    <a:lnTo>
                      <a:pt x="114" y="383"/>
                    </a:lnTo>
                    <a:lnTo>
                      <a:pt x="132" y="393"/>
                    </a:lnTo>
                    <a:lnTo>
                      <a:pt x="150" y="402"/>
                    </a:lnTo>
                    <a:lnTo>
                      <a:pt x="170" y="408"/>
                    </a:lnTo>
                    <a:lnTo>
                      <a:pt x="189" y="415"/>
                    </a:lnTo>
                    <a:lnTo>
                      <a:pt x="209" y="418"/>
                    </a:lnTo>
                    <a:lnTo>
                      <a:pt x="228" y="420"/>
                    </a:lnTo>
                    <a:lnTo>
                      <a:pt x="248" y="421"/>
                    </a:lnTo>
                    <a:lnTo>
                      <a:pt x="267" y="420"/>
                    </a:lnTo>
                    <a:lnTo>
                      <a:pt x="286" y="417"/>
                    </a:lnTo>
                    <a:lnTo>
                      <a:pt x="304" y="412"/>
                    </a:lnTo>
                    <a:lnTo>
                      <a:pt x="321" y="404"/>
                    </a:lnTo>
                    <a:lnTo>
                      <a:pt x="338" y="396"/>
                    </a:lnTo>
                    <a:lnTo>
                      <a:pt x="353" y="386"/>
                    </a:lnTo>
                    <a:lnTo>
                      <a:pt x="368" y="374"/>
                    </a:lnTo>
                    <a:lnTo>
                      <a:pt x="381" y="360"/>
                    </a:lnTo>
                    <a:lnTo>
                      <a:pt x="392" y="344"/>
                    </a:lnTo>
                    <a:lnTo>
                      <a:pt x="402" y="326"/>
                    </a:lnTo>
                    <a:lnTo>
                      <a:pt x="410" y="307"/>
                    </a:lnTo>
                    <a:lnTo>
                      <a:pt x="416" y="284"/>
                    </a:lnTo>
                    <a:lnTo>
                      <a:pt x="420" y="260"/>
                    </a:lnTo>
                    <a:lnTo>
                      <a:pt x="421" y="239"/>
                    </a:lnTo>
                    <a:lnTo>
                      <a:pt x="420" y="217"/>
                    </a:lnTo>
                    <a:lnTo>
                      <a:pt x="417" y="196"/>
                    </a:lnTo>
                    <a:lnTo>
                      <a:pt x="412" y="174"/>
                    </a:lnTo>
                    <a:lnTo>
                      <a:pt x="405" y="154"/>
                    </a:lnTo>
                    <a:lnTo>
                      <a:pt x="395" y="134"/>
                    </a:lnTo>
                    <a:lnTo>
                      <a:pt x="385" y="116"/>
                    </a:lnTo>
                    <a:lnTo>
                      <a:pt x="373" y="98"/>
                    </a:lnTo>
                    <a:lnTo>
                      <a:pt x="358" y="80"/>
                    </a:lnTo>
                    <a:lnTo>
                      <a:pt x="343" y="64"/>
                    </a:lnTo>
                    <a:lnTo>
                      <a:pt x="326" y="50"/>
                    </a:lnTo>
                    <a:lnTo>
                      <a:pt x="308" y="37"/>
                    </a:lnTo>
                    <a:lnTo>
                      <a:pt x="288" y="26"/>
                    </a:lnTo>
                    <a:lnTo>
                      <a:pt x="268" y="17"/>
                    </a:lnTo>
                    <a:lnTo>
                      <a:pt x="246" y="9"/>
                    </a:lnTo>
                    <a:lnTo>
                      <a:pt x="224" y="4"/>
                    </a:lnTo>
                    <a:close/>
                  </a:path>
                </a:pathLst>
              </a:custGeom>
              <a:solidFill>
                <a:srgbClr val="5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859120" y="231156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420" h="434">
                    <a:moveTo>
                      <a:pt x="223" y="5"/>
                    </a:moveTo>
                    <a:lnTo>
                      <a:pt x="198" y="1"/>
                    </a:lnTo>
                    <a:lnTo>
                      <a:pt x="175" y="0"/>
                    </a:lnTo>
                    <a:lnTo>
                      <a:pt x="153" y="2"/>
                    </a:lnTo>
                    <a:lnTo>
                      <a:pt x="132" y="6"/>
                    </a:lnTo>
                    <a:lnTo>
                      <a:pt x="113" y="12"/>
                    </a:lnTo>
                    <a:lnTo>
                      <a:pt x="95" y="19"/>
                    </a:lnTo>
                    <a:lnTo>
                      <a:pt x="79" y="29"/>
                    </a:lnTo>
                    <a:lnTo>
                      <a:pt x="63" y="41"/>
                    </a:lnTo>
                    <a:lnTo>
                      <a:pt x="50" y="54"/>
                    </a:lnTo>
                    <a:lnTo>
                      <a:pt x="39" y="68"/>
                    </a:lnTo>
                    <a:lnTo>
                      <a:pt x="28" y="84"/>
                    </a:lnTo>
                    <a:lnTo>
                      <a:pt x="19" y="102"/>
                    </a:lnTo>
                    <a:lnTo>
                      <a:pt x="12" y="119"/>
                    </a:lnTo>
                    <a:lnTo>
                      <a:pt x="7" y="138"/>
                    </a:lnTo>
                    <a:lnTo>
                      <a:pt x="3" y="157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17"/>
                    </a:lnTo>
                    <a:lnTo>
                      <a:pt x="4" y="237"/>
                    </a:lnTo>
                    <a:lnTo>
                      <a:pt x="8" y="257"/>
                    </a:lnTo>
                    <a:lnTo>
                      <a:pt x="14" y="277"/>
                    </a:lnTo>
                    <a:lnTo>
                      <a:pt x="21" y="296"/>
                    </a:lnTo>
                    <a:lnTo>
                      <a:pt x="30" y="315"/>
                    </a:lnTo>
                    <a:lnTo>
                      <a:pt x="42" y="333"/>
                    </a:lnTo>
                    <a:lnTo>
                      <a:pt x="54" y="350"/>
                    </a:lnTo>
                    <a:lnTo>
                      <a:pt x="69" y="366"/>
                    </a:lnTo>
                    <a:lnTo>
                      <a:pt x="85" y="380"/>
                    </a:lnTo>
                    <a:lnTo>
                      <a:pt x="104" y="393"/>
                    </a:lnTo>
                    <a:lnTo>
                      <a:pt x="123" y="405"/>
                    </a:lnTo>
                    <a:lnTo>
                      <a:pt x="146" y="415"/>
                    </a:lnTo>
                    <a:lnTo>
                      <a:pt x="170" y="424"/>
                    </a:lnTo>
                    <a:lnTo>
                      <a:pt x="194" y="430"/>
                    </a:lnTo>
                    <a:lnTo>
                      <a:pt x="216" y="433"/>
                    </a:lnTo>
                    <a:lnTo>
                      <a:pt x="238" y="434"/>
                    </a:lnTo>
                    <a:lnTo>
                      <a:pt x="257" y="434"/>
                    </a:lnTo>
                    <a:lnTo>
                      <a:pt x="277" y="431"/>
                    </a:lnTo>
                    <a:lnTo>
                      <a:pt x="295" y="427"/>
                    </a:lnTo>
                    <a:lnTo>
                      <a:pt x="313" y="420"/>
                    </a:lnTo>
                    <a:lnTo>
                      <a:pt x="329" y="412"/>
                    </a:lnTo>
                    <a:lnTo>
                      <a:pt x="345" y="402"/>
                    </a:lnTo>
                    <a:lnTo>
                      <a:pt x="359" y="391"/>
                    </a:lnTo>
                    <a:lnTo>
                      <a:pt x="372" y="378"/>
                    </a:lnTo>
                    <a:lnTo>
                      <a:pt x="384" y="364"/>
                    </a:lnTo>
                    <a:lnTo>
                      <a:pt x="394" y="348"/>
                    </a:lnTo>
                    <a:lnTo>
                      <a:pt x="402" y="330"/>
                    </a:lnTo>
                    <a:lnTo>
                      <a:pt x="410" y="310"/>
                    </a:lnTo>
                    <a:lnTo>
                      <a:pt x="415" y="290"/>
                    </a:lnTo>
                    <a:lnTo>
                      <a:pt x="418" y="269"/>
                    </a:lnTo>
                    <a:lnTo>
                      <a:pt x="420" y="246"/>
                    </a:lnTo>
                    <a:lnTo>
                      <a:pt x="418" y="223"/>
                    </a:lnTo>
                    <a:lnTo>
                      <a:pt x="415" y="200"/>
                    </a:lnTo>
                    <a:lnTo>
                      <a:pt x="410" y="178"/>
                    </a:lnTo>
                    <a:lnTo>
                      <a:pt x="402" y="157"/>
                    </a:lnTo>
                    <a:lnTo>
                      <a:pt x="394" y="137"/>
                    </a:lnTo>
                    <a:lnTo>
                      <a:pt x="383" y="118"/>
                    </a:lnTo>
                    <a:lnTo>
                      <a:pt x="370" y="99"/>
                    </a:lnTo>
                    <a:lnTo>
                      <a:pt x="357" y="81"/>
                    </a:lnTo>
                    <a:lnTo>
                      <a:pt x="342" y="65"/>
                    </a:lnTo>
                    <a:lnTo>
                      <a:pt x="325" y="51"/>
                    </a:lnTo>
                    <a:lnTo>
                      <a:pt x="307" y="38"/>
                    </a:lnTo>
                    <a:lnTo>
                      <a:pt x="287" y="27"/>
                    </a:lnTo>
                    <a:lnTo>
                      <a:pt x="267" y="17"/>
                    </a:lnTo>
                    <a:lnTo>
                      <a:pt x="246" y="10"/>
                    </a:lnTo>
                    <a:lnTo>
                      <a:pt x="223" y="5"/>
                    </a:lnTo>
                    <a:close/>
                  </a:path>
                </a:pathLst>
              </a:custGeom>
              <a:solidFill>
                <a:srgbClr val="5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20880" y="2108160"/>
                <a:ext cx="198360" cy="189000"/>
              </a:xfrm>
              <a:custGeom>
                <a:avLst/>
                <a:gdLst/>
                <a:ahLst/>
                <a:rect l="l" t="t" r="r" b="b"/>
                <a:pathLst>
                  <a:path w="4233" h="4513">
                    <a:moveTo>
                      <a:pt x="4231" y="1083"/>
                    </a:moveTo>
                    <a:lnTo>
                      <a:pt x="4195" y="1402"/>
                    </a:lnTo>
                    <a:lnTo>
                      <a:pt x="4160" y="1718"/>
                    </a:lnTo>
                    <a:lnTo>
                      <a:pt x="4125" y="2032"/>
                    </a:lnTo>
                    <a:lnTo>
                      <a:pt x="4090" y="2345"/>
                    </a:lnTo>
                    <a:lnTo>
                      <a:pt x="4056" y="2658"/>
                    </a:lnTo>
                    <a:lnTo>
                      <a:pt x="4021" y="2972"/>
                    </a:lnTo>
                    <a:lnTo>
                      <a:pt x="3986" y="3288"/>
                    </a:lnTo>
                    <a:lnTo>
                      <a:pt x="3950" y="3608"/>
                    </a:lnTo>
                    <a:lnTo>
                      <a:pt x="3938" y="3667"/>
                    </a:lnTo>
                    <a:lnTo>
                      <a:pt x="3920" y="3723"/>
                    </a:lnTo>
                    <a:lnTo>
                      <a:pt x="3896" y="3780"/>
                    </a:lnTo>
                    <a:lnTo>
                      <a:pt x="3867" y="3833"/>
                    </a:lnTo>
                    <a:lnTo>
                      <a:pt x="3832" y="3886"/>
                    </a:lnTo>
                    <a:lnTo>
                      <a:pt x="3792" y="3937"/>
                    </a:lnTo>
                    <a:lnTo>
                      <a:pt x="3747" y="3986"/>
                    </a:lnTo>
                    <a:lnTo>
                      <a:pt x="3697" y="4033"/>
                    </a:lnTo>
                    <a:lnTo>
                      <a:pt x="3644" y="4078"/>
                    </a:lnTo>
                    <a:lnTo>
                      <a:pt x="3586" y="4122"/>
                    </a:lnTo>
                    <a:lnTo>
                      <a:pt x="3524" y="4164"/>
                    </a:lnTo>
                    <a:lnTo>
                      <a:pt x="3459" y="4204"/>
                    </a:lnTo>
                    <a:lnTo>
                      <a:pt x="3391" y="4241"/>
                    </a:lnTo>
                    <a:lnTo>
                      <a:pt x="3320" y="4276"/>
                    </a:lnTo>
                    <a:lnTo>
                      <a:pt x="3246" y="4310"/>
                    </a:lnTo>
                    <a:lnTo>
                      <a:pt x="3170" y="4340"/>
                    </a:lnTo>
                    <a:lnTo>
                      <a:pt x="3090" y="4369"/>
                    </a:lnTo>
                    <a:lnTo>
                      <a:pt x="3010" y="4394"/>
                    </a:lnTo>
                    <a:lnTo>
                      <a:pt x="2928" y="4419"/>
                    </a:lnTo>
                    <a:lnTo>
                      <a:pt x="2844" y="4440"/>
                    </a:lnTo>
                    <a:lnTo>
                      <a:pt x="2760" y="4458"/>
                    </a:lnTo>
                    <a:lnTo>
                      <a:pt x="2674" y="4474"/>
                    </a:lnTo>
                    <a:lnTo>
                      <a:pt x="2588" y="4487"/>
                    </a:lnTo>
                    <a:lnTo>
                      <a:pt x="2502" y="4498"/>
                    </a:lnTo>
                    <a:lnTo>
                      <a:pt x="2416" y="4506"/>
                    </a:lnTo>
                    <a:lnTo>
                      <a:pt x="2329" y="4511"/>
                    </a:lnTo>
                    <a:lnTo>
                      <a:pt x="2243" y="4513"/>
                    </a:lnTo>
                    <a:lnTo>
                      <a:pt x="2158" y="4512"/>
                    </a:lnTo>
                    <a:lnTo>
                      <a:pt x="2074" y="4508"/>
                    </a:lnTo>
                    <a:lnTo>
                      <a:pt x="1991" y="4501"/>
                    </a:lnTo>
                    <a:lnTo>
                      <a:pt x="1910" y="4490"/>
                    </a:lnTo>
                    <a:lnTo>
                      <a:pt x="1831" y="4477"/>
                    </a:lnTo>
                    <a:lnTo>
                      <a:pt x="1751" y="4460"/>
                    </a:lnTo>
                    <a:lnTo>
                      <a:pt x="1671" y="4440"/>
                    </a:lnTo>
                    <a:lnTo>
                      <a:pt x="1591" y="4415"/>
                    </a:lnTo>
                    <a:lnTo>
                      <a:pt x="1509" y="4387"/>
                    </a:lnTo>
                    <a:lnTo>
                      <a:pt x="1427" y="4357"/>
                    </a:lnTo>
                    <a:lnTo>
                      <a:pt x="1345" y="4324"/>
                    </a:lnTo>
                    <a:lnTo>
                      <a:pt x="1264" y="4286"/>
                    </a:lnTo>
                    <a:lnTo>
                      <a:pt x="1184" y="4247"/>
                    </a:lnTo>
                    <a:lnTo>
                      <a:pt x="1103" y="4206"/>
                    </a:lnTo>
                    <a:lnTo>
                      <a:pt x="1024" y="4161"/>
                    </a:lnTo>
                    <a:lnTo>
                      <a:pt x="947" y="4115"/>
                    </a:lnTo>
                    <a:lnTo>
                      <a:pt x="869" y="4066"/>
                    </a:lnTo>
                    <a:lnTo>
                      <a:pt x="795" y="4016"/>
                    </a:lnTo>
                    <a:lnTo>
                      <a:pt x="722" y="3963"/>
                    </a:lnTo>
                    <a:lnTo>
                      <a:pt x="651" y="3910"/>
                    </a:lnTo>
                    <a:lnTo>
                      <a:pt x="583" y="3854"/>
                    </a:lnTo>
                    <a:lnTo>
                      <a:pt x="517" y="3798"/>
                    </a:lnTo>
                    <a:lnTo>
                      <a:pt x="453" y="3739"/>
                    </a:lnTo>
                    <a:lnTo>
                      <a:pt x="394" y="3681"/>
                    </a:lnTo>
                    <a:lnTo>
                      <a:pt x="337" y="3621"/>
                    </a:lnTo>
                    <a:lnTo>
                      <a:pt x="284" y="3561"/>
                    </a:lnTo>
                    <a:lnTo>
                      <a:pt x="235" y="3500"/>
                    </a:lnTo>
                    <a:lnTo>
                      <a:pt x="190" y="3438"/>
                    </a:lnTo>
                    <a:lnTo>
                      <a:pt x="148" y="3377"/>
                    </a:lnTo>
                    <a:lnTo>
                      <a:pt x="111" y="3315"/>
                    </a:lnTo>
                    <a:lnTo>
                      <a:pt x="79" y="3254"/>
                    </a:lnTo>
                    <a:lnTo>
                      <a:pt x="53" y="3192"/>
                    </a:lnTo>
                    <a:lnTo>
                      <a:pt x="31" y="3132"/>
                    </a:lnTo>
                    <a:lnTo>
                      <a:pt x="14" y="3071"/>
                    </a:lnTo>
                    <a:lnTo>
                      <a:pt x="4" y="3011"/>
                    </a:lnTo>
                    <a:lnTo>
                      <a:pt x="0" y="2953"/>
                    </a:lnTo>
                    <a:lnTo>
                      <a:pt x="1" y="2895"/>
                    </a:lnTo>
                    <a:lnTo>
                      <a:pt x="35" y="2587"/>
                    </a:lnTo>
                    <a:lnTo>
                      <a:pt x="69" y="2280"/>
                    </a:lnTo>
                    <a:lnTo>
                      <a:pt x="103" y="1975"/>
                    </a:lnTo>
                    <a:lnTo>
                      <a:pt x="136" y="1669"/>
                    </a:lnTo>
                    <a:lnTo>
                      <a:pt x="169" y="1364"/>
                    </a:lnTo>
                    <a:lnTo>
                      <a:pt x="202" y="1057"/>
                    </a:lnTo>
                    <a:lnTo>
                      <a:pt x="236" y="749"/>
                    </a:lnTo>
                    <a:lnTo>
                      <a:pt x="271" y="439"/>
                    </a:lnTo>
                    <a:lnTo>
                      <a:pt x="274" y="412"/>
                    </a:lnTo>
                    <a:lnTo>
                      <a:pt x="279" y="386"/>
                    </a:lnTo>
                    <a:lnTo>
                      <a:pt x="285" y="361"/>
                    </a:lnTo>
                    <a:lnTo>
                      <a:pt x="293" y="337"/>
                    </a:lnTo>
                    <a:lnTo>
                      <a:pt x="302" y="312"/>
                    </a:lnTo>
                    <a:lnTo>
                      <a:pt x="311" y="289"/>
                    </a:lnTo>
                    <a:lnTo>
                      <a:pt x="322" y="267"/>
                    </a:lnTo>
                    <a:lnTo>
                      <a:pt x="335" y="245"/>
                    </a:lnTo>
                    <a:lnTo>
                      <a:pt x="347" y="225"/>
                    </a:lnTo>
                    <a:lnTo>
                      <a:pt x="362" y="203"/>
                    </a:lnTo>
                    <a:lnTo>
                      <a:pt x="377" y="184"/>
                    </a:lnTo>
                    <a:lnTo>
                      <a:pt x="393" y="166"/>
                    </a:lnTo>
                    <a:lnTo>
                      <a:pt x="410" y="148"/>
                    </a:lnTo>
                    <a:lnTo>
                      <a:pt x="428" y="131"/>
                    </a:lnTo>
                    <a:lnTo>
                      <a:pt x="446" y="115"/>
                    </a:lnTo>
                    <a:lnTo>
                      <a:pt x="466" y="99"/>
                    </a:lnTo>
                    <a:lnTo>
                      <a:pt x="486" y="85"/>
                    </a:lnTo>
                    <a:lnTo>
                      <a:pt x="507" y="72"/>
                    </a:lnTo>
                    <a:lnTo>
                      <a:pt x="528" y="60"/>
                    </a:lnTo>
                    <a:lnTo>
                      <a:pt x="551" y="49"/>
                    </a:lnTo>
                    <a:lnTo>
                      <a:pt x="574" y="39"/>
                    </a:lnTo>
                    <a:lnTo>
                      <a:pt x="598" y="30"/>
                    </a:lnTo>
                    <a:lnTo>
                      <a:pt x="621" y="22"/>
                    </a:lnTo>
                    <a:lnTo>
                      <a:pt x="646" y="16"/>
                    </a:lnTo>
                    <a:lnTo>
                      <a:pt x="672" y="10"/>
                    </a:lnTo>
                    <a:lnTo>
                      <a:pt x="696" y="6"/>
                    </a:lnTo>
                    <a:lnTo>
                      <a:pt x="722" y="3"/>
                    </a:lnTo>
                    <a:lnTo>
                      <a:pt x="749" y="0"/>
                    </a:lnTo>
                    <a:lnTo>
                      <a:pt x="776" y="0"/>
                    </a:lnTo>
                    <a:lnTo>
                      <a:pt x="803" y="0"/>
                    </a:lnTo>
                    <a:lnTo>
                      <a:pt x="830" y="4"/>
                    </a:lnTo>
                    <a:lnTo>
                      <a:pt x="857" y="7"/>
                    </a:lnTo>
                    <a:lnTo>
                      <a:pt x="1225" y="64"/>
                    </a:lnTo>
                    <a:lnTo>
                      <a:pt x="1590" y="124"/>
                    </a:lnTo>
                    <a:lnTo>
                      <a:pt x="1952" y="183"/>
                    </a:lnTo>
                    <a:lnTo>
                      <a:pt x="2314" y="244"/>
                    </a:lnTo>
                    <a:lnTo>
                      <a:pt x="2674" y="304"/>
                    </a:lnTo>
                    <a:lnTo>
                      <a:pt x="3037" y="364"/>
                    </a:lnTo>
                    <a:lnTo>
                      <a:pt x="3401" y="422"/>
                    </a:lnTo>
                    <a:lnTo>
                      <a:pt x="3768" y="481"/>
                    </a:lnTo>
                    <a:lnTo>
                      <a:pt x="3796" y="485"/>
                    </a:lnTo>
                    <a:lnTo>
                      <a:pt x="3823" y="492"/>
                    </a:lnTo>
                    <a:lnTo>
                      <a:pt x="3849" y="499"/>
                    </a:lnTo>
                    <a:lnTo>
                      <a:pt x="3874" y="507"/>
                    </a:lnTo>
                    <a:lnTo>
                      <a:pt x="3899" y="517"/>
                    </a:lnTo>
                    <a:lnTo>
                      <a:pt x="3923" y="528"/>
                    </a:lnTo>
                    <a:lnTo>
                      <a:pt x="3947" y="541"/>
                    </a:lnTo>
                    <a:lnTo>
                      <a:pt x="3969" y="554"/>
                    </a:lnTo>
                    <a:lnTo>
                      <a:pt x="3991" y="568"/>
                    </a:lnTo>
                    <a:lnTo>
                      <a:pt x="4012" y="583"/>
                    </a:lnTo>
                    <a:lnTo>
                      <a:pt x="4032" y="598"/>
                    </a:lnTo>
                    <a:lnTo>
                      <a:pt x="4052" y="615"/>
                    </a:lnTo>
                    <a:lnTo>
                      <a:pt x="4070" y="633"/>
                    </a:lnTo>
                    <a:lnTo>
                      <a:pt x="4088" y="652"/>
                    </a:lnTo>
                    <a:lnTo>
                      <a:pt x="4105" y="671"/>
                    </a:lnTo>
                    <a:lnTo>
                      <a:pt x="4121" y="691"/>
                    </a:lnTo>
                    <a:lnTo>
                      <a:pt x="4135" y="711"/>
                    </a:lnTo>
                    <a:lnTo>
                      <a:pt x="4149" y="733"/>
                    </a:lnTo>
                    <a:lnTo>
                      <a:pt x="4162" y="756"/>
                    </a:lnTo>
                    <a:lnTo>
                      <a:pt x="4174" y="778"/>
                    </a:lnTo>
                    <a:lnTo>
                      <a:pt x="4186" y="801"/>
                    </a:lnTo>
                    <a:lnTo>
                      <a:pt x="4195" y="824"/>
                    </a:lnTo>
                    <a:lnTo>
                      <a:pt x="4204" y="849"/>
                    </a:lnTo>
                    <a:lnTo>
                      <a:pt x="4211" y="874"/>
                    </a:lnTo>
                    <a:lnTo>
                      <a:pt x="4218" y="899"/>
                    </a:lnTo>
                    <a:lnTo>
                      <a:pt x="4224" y="924"/>
                    </a:lnTo>
                    <a:lnTo>
                      <a:pt x="4228" y="949"/>
                    </a:lnTo>
                    <a:lnTo>
                      <a:pt x="4231" y="976"/>
                    </a:lnTo>
                    <a:lnTo>
                      <a:pt x="4233" y="1002"/>
                    </a:lnTo>
                    <a:lnTo>
                      <a:pt x="4233" y="1029"/>
                    </a:lnTo>
                    <a:lnTo>
                      <a:pt x="4233" y="1055"/>
                    </a:lnTo>
                    <a:lnTo>
                      <a:pt x="4231" y="10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730600" y="2116080"/>
                <a:ext cx="177840" cy="171360"/>
              </a:xfrm>
              <a:custGeom>
                <a:avLst/>
                <a:gdLst/>
                <a:ahLst/>
                <a:rect l="l" t="t" r="r" b="b"/>
                <a:pathLst>
                  <a:path w="3811" h="4102">
                    <a:moveTo>
                      <a:pt x="3810" y="854"/>
                    </a:moveTo>
                    <a:lnTo>
                      <a:pt x="3811" y="837"/>
                    </a:lnTo>
                    <a:lnTo>
                      <a:pt x="3811" y="820"/>
                    </a:lnTo>
                    <a:lnTo>
                      <a:pt x="3811" y="803"/>
                    </a:lnTo>
                    <a:lnTo>
                      <a:pt x="3810" y="787"/>
                    </a:lnTo>
                    <a:lnTo>
                      <a:pt x="3808" y="770"/>
                    </a:lnTo>
                    <a:lnTo>
                      <a:pt x="3805" y="753"/>
                    </a:lnTo>
                    <a:lnTo>
                      <a:pt x="3801" y="737"/>
                    </a:lnTo>
                    <a:lnTo>
                      <a:pt x="3797" y="721"/>
                    </a:lnTo>
                    <a:lnTo>
                      <a:pt x="3792" y="706"/>
                    </a:lnTo>
                    <a:lnTo>
                      <a:pt x="3787" y="691"/>
                    </a:lnTo>
                    <a:lnTo>
                      <a:pt x="3781" y="676"/>
                    </a:lnTo>
                    <a:lnTo>
                      <a:pt x="3774" y="661"/>
                    </a:lnTo>
                    <a:lnTo>
                      <a:pt x="3766" y="646"/>
                    </a:lnTo>
                    <a:lnTo>
                      <a:pt x="3758" y="633"/>
                    </a:lnTo>
                    <a:lnTo>
                      <a:pt x="3749" y="620"/>
                    </a:lnTo>
                    <a:lnTo>
                      <a:pt x="3740" y="607"/>
                    </a:lnTo>
                    <a:lnTo>
                      <a:pt x="3730" y="594"/>
                    </a:lnTo>
                    <a:lnTo>
                      <a:pt x="3719" y="583"/>
                    </a:lnTo>
                    <a:lnTo>
                      <a:pt x="3709" y="571"/>
                    </a:lnTo>
                    <a:lnTo>
                      <a:pt x="3697" y="561"/>
                    </a:lnTo>
                    <a:lnTo>
                      <a:pt x="3685" y="550"/>
                    </a:lnTo>
                    <a:lnTo>
                      <a:pt x="3673" y="540"/>
                    </a:lnTo>
                    <a:lnTo>
                      <a:pt x="3659" y="531"/>
                    </a:lnTo>
                    <a:lnTo>
                      <a:pt x="3646" y="522"/>
                    </a:lnTo>
                    <a:lnTo>
                      <a:pt x="3633" y="514"/>
                    </a:lnTo>
                    <a:lnTo>
                      <a:pt x="3618" y="507"/>
                    </a:lnTo>
                    <a:lnTo>
                      <a:pt x="3604" y="500"/>
                    </a:lnTo>
                    <a:lnTo>
                      <a:pt x="3588" y="494"/>
                    </a:lnTo>
                    <a:lnTo>
                      <a:pt x="3573" y="489"/>
                    </a:lnTo>
                    <a:lnTo>
                      <a:pt x="3557" y="485"/>
                    </a:lnTo>
                    <a:lnTo>
                      <a:pt x="3541" y="481"/>
                    </a:lnTo>
                    <a:lnTo>
                      <a:pt x="3524" y="478"/>
                    </a:lnTo>
                    <a:lnTo>
                      <a:pt x="3157" y="420"/>
                    </a:lnTo>
                    <a:lnTo>
                      <a:pt x="2793" y="362"/>
                    </a:lnTo>
                    <a:lnTo>
                      <a:pt x="2430" y="301"/>
                    </a:lnTo>
                    <a:lnTo>
                      <a:pt x="2070" y="242"/>
                    </a:lnTo>
                    <a:lnTo>
                      <a:pt x="1708" y="181"/>
                    </a:lnTo>
                    <a:lnTo>
                      <a:pt x="1347" y="121"/>
                    </a:lnTo>
                    <a:lnTo>
                      <a:pt x="982" y="62"/>
                    </a:lnTo>
                    <a:lnTo>
                      <a:pt x="614" y="4"/>
                    </a:lnTo>
                    <a:lnTo>
                      <a:pt x="597" y="2"/>
                    </a:lnTo>
                    <a:lnTo>
                      <a:pt x="580" y="0"/>
                    </a:lnTo>
                    <a:lnTo>
                      <a:pt x="565" y="0"/>
                    </a:lnTo>
                    <a:lnTo>
                      <a:pt x="548" y="0"/>
                    </a:lnTo>
                    <a:lnTo>
                      <a:pt x="533" y="1"/>
                    </a:lnTo>
                    <a:lnTo>
                      <a:pt x="517" y="3"/>
                    </a:lnTo>
                    <a:lnTo>
                      <a:pt x="502" y="5"/>
                    </a:lnTo>
                    <a:lnTo>
                      <a:pt x="487" y="8"/>
                    </a:lnTo>
                    <a:lnTo>
                      <a:pt x="473" y="13"/>
                    </a:lnTo>
                    <a:lnTo>
                      <a:pt x="459" y="18"/>
                    </a:lnTo>
                    <a:lnTo>
                      <a:pt x="445" y="23"/>
                    </a:lnTo>
                    <a:lnTo>
                      <a:pt x="432" y="29"/>
                    </a:lnTo>
                    <a:lnTo>
                      <a:pt x="418" y="35"/>
                    </a:lnTo>
                    <a:lnTo>
                      <a:pt x="406" y="42"/>
                    </a:lnTo>
                    <a:lnTo>
                      <a:pt x="394" y="50"/>
                    </a:lnTo>
                    <a:lnTo>
                      <a:pt x="382" y="58"/>
                    </a:lnTo>
                    <a:lnTo>
                      <a:pt x="371" y="67"/>
                    </a:lnTo>
                    <a:lnTo>
                      <a:pt x="360" y="76"/>
                    </a:lnTo>
                    <a:lnTo>
                      <a:pt x="349" y="86"/>
                    </a:lnTo>
                    <a:lnTo>
                      <a:pt x="340" y="96"/>
                    </a:lnTo>
                    <a:lnTo>
                      <a:pt x="331" y="107"/>
                    </a:lnTo>
                    <a:lnTo>
                      <a:pt x="322" y="119"/>
                    </a:lnTo>
                    <a:lnTo>
                      <a:pt x="314" y="131"/>
                    </a:lnTo>
                    <a:lnTo>
                      <a:pt x="306" y="143"/>
                    </a:lnTo>
                    <a:lnTo>
                      <a:pt x="300" y="155"/>
                    </a:lnTo>
                    <a:lnTo>
                      <a:pt x="293" y="168"/>
                    </a:lnTo>
                    <a:lnTo>
                      <a:pt x="288" y="182"/>
                    </a:lnTo>
                    <a:lnTo>
                      <a:pt x="282" y="195"/>
                    </a:lnTo>
                    <a:lnTo>
                      <a:pt x="278" y="209"/>
                    </a:lnTo>
                    <a:lnTo>
                      <a:pt x="275" y="224"/>
                    </a:lnTo>
                    <a:lnTo>
                      <a:pt x="272" y="239"/>
                    </a:lnTo>
                    <a:lnTo>
                      <a:pt x="270" y="254"/>
                    </a:lnTo>
                    <a:lnTo>
                      <a:pt x="235" y="565"/>
                    </a:lnTo>
                    <a:lnTo>
                      <a:pt x="201" y="873"/>
                    </a:lnTo>
                    <a:lnTo>
                      <a:pt x="168" y="1178"/>
                    </a:lnTo>
                    <a:lnTo>
                      <a:pt x="135" y="1482"/>
                    </a:lnTo>
                    <a:lnTo>
                      <a:pt x="102" y="1787"/>
                    </a:lnTo>
                    <a:lnTo>
                      <a:pt x="69" y="2092"/>
                    </a:lnTo>
                    <a:lnTo>
                      <a:pt x="35" y="2398"/>
                    </a:lnTo>
                    <a:lnTo>
                      <a:pt x="1" y="2707"/>
                    </a:lnTo>
                    <a:lnTo>
                      <a:pt x="0" y="2748"/>
                    </a:lnTo>
                    <a:lnTo>
                      <a:pt x="4" y="2791"/>
                    </a:lnTo>
                    <a:lnTo>
                      <a:pt x="14" y="2837"/>
                    </a:lnTo>
                    <a:lnTo>
                      <a:pt x="28" y="2883"/>
                    </a:lnTo>
                    <a:lnTo>
                      <a:pt x="48" y="2931"/>
                    </a:lnTo>
                    <a:lnTo>
                      <a:pt x="70" y="2980"/>
                    </a:lnTo>
                    <a:lnTo>
                      <a:pt x="98" y="3030"/>
                    </a:lnTo>
                    <a:lnTo>
                      <a:pt x="130" y="3080"/>
                    </a:lnTo>
                    <a:lnTo>
                      <a:pt x="165" y="3131"/>
                    </a:lnTo>
                    <a:lnTo>
                      <a:pt x="204" y="3183"/>
                    </a:lnTo>
                    <a:lnTo>
                      <a:pt x="247" y="3234"/>
                    </a:lnTo>
                    <a:lnTo>
                      <a:pt x="294" y="3286"/>
                    </a:lnTo>
                    <a:lnTo>
                      <a:pt x="343" y="3337"/>
                    </a:lnTo>
                    <a:lnTo>
                      <a:pt x="396" y="3389"/>
                    </a:lnTo>
                    <a:lnTo>
                      <a:pt x="450" y="3440"/>
                    </a:lnTo>
                    <a:lnTo>
                      <a:pt x="509" y="3490"/>
                    </a:lnTo>
                    <a:lnTo>
                      <a:pt x="570" y="3539"/>
                    </a:lnTo>
                    <a:lnTo>
                      <a:pt x="633" y="3588"/>
                    </a:lnTo>
                    <a:lnTo>
                      <a:pt x="698" y="3635"/>
                    </a:lnTo>
                    <a:lnTo>
                      <a:pt x="765" y="3682"/>
                    </a:lnTo>
                    <a:lnTo>
                      <a:pt x="834" y="3726"/>
                    </a:lnTo>
                    <a:lnTo>
                      <a:pt x="904" y="3768"/>
                    </a:lnTo>
                    <a:lnTo>
                      <a:pt x="976" y="3810"/>
                    </a:lnTo>
                    <a:lnTo>
                      <a:pt x="1049" y="3848"/>
                    </a:lnTo>
                    <a:lnTo>
                      <a:pt x="1123" y="3885"/>
                    </a:lnTo>
                    <a:lnTo>
                      <a:pt x="1198" y="3920"/>
                    </a:lnTo>
                    <a:lnTo>
                      <a:pt x="1274" y="3951"/>
                    </a:lnTo>
                    <a:lnTo>
                      <a:pt x="1352" y="3980"/>
                    </a:lnTo>
                    <a:lnTo>
                      <a:pt x="1428" y="4007"/>
                    </a:lnTo>
                    <a:lnTo>
                      <a:pt x="1505" y="4030"/>
                    </a:lnTo>
                    <a:lnTo>
                      <a:pt x="1584" y="4050"/>
                    </a:lnTo>
                    <a:lnTo>
                      <a:pt x="1661" y="4067"/>
                    </a:lnTo>
                    <a:lnTo>
                      <a:pt x="1738" y="4080"/>
                    </a:lnTo>
                    <a:lnTo>
                      <a:pt x="1816" y="4090"/>
                    </a:lnTo>
                    <a:lnTo>
                      <a:pt x="1895" y="4096"/>
                    </a:lnTo>
                    <a:lnTo>
                      <a:pt x="1974" y="4100"/>
                    </a:lnTo>
                    <a:lnTo>
                      <a:pt x="2053" y="4102"/>
                    </a:lnTo>
                    <a:lnTo>
                      <a:pt x="2133" y="4098"/>
                    </a:lnTo>
                    <a:lnTo>
                      <a:pt x="2212" y="4093"/>
                    </a:lnTo>
                    <a:lnTo>
                      <a:pt x="2290" y="4086"/>
                    </a:lnTo>
                    <a:lnTo>
                      <a:pt x="2369" y="4076"/>
                    </a:lnTo>
                    <a:lnTo>
                      <a:pt x="2445" y="4063"/>
                    </a:lnTo>
                    <a:lnTo>
                      <a:pt x="2521" y="4049"/>
                    </a:lnTo>
                    <a:lnTo>
                      <a:pt x="2596" y="4032"/>
                    </a:lnTo>
                    <a:lnTo>
                      <a:pt x="2669" y="4012"/>
                    </a:lnTo>
                    <a:lnTo>
                      <a:pt x="2740" y="3990"/>
                    </a:lnTo>
                    <a:lnTo>
                      <a:pt x="2810" y="3967"/>
                    </a:lnTo>
                    <a:lnTo>
                      <a:pt x="2878" y="3942"/>
                    </a:lnTo>
                    <a:lnTo>
                      <a:pt x="2944" y="3916"/>
                    </a:lnTo>
                    <a:lnTo>
                      <a:pt x="3007" y="3887"/>
                    </a:lnTo>
                    <a:lnTo>
                      <a:pt x="3068" y="3857"/>
                    </a:lnTo>
                    <a:lnTo>
                      <a:pt x="3126" y="3826"/>
                    </a:lnTo>
                    <a:lnTo>
                      <a:pt x="3180" y="3793"/>
                    </a:lnTo>
                    <a:lnTo>
                      <a:pt x="3232" y="3759"/>
                    </a:lnTo>
                    <a:lnTo>
                      <a:pt x="3280" y="3724"/>
                    </a:lnTo>
                    <a:lnTo>
                      <a:pt x="3324" y="3688"/>
                    </a:lnTo>
                    <a:lnTo>
                      <a:pt x="3366" y="3651"/>
                    </a:lnTo>
                    <a:lnTo>
                      <a:pt x="3403" y="3613"/>
                    </a:lnTo>
                    <a:lnTo>
                      <a:pt x="3435" y="3575"/>
                    </a:lnTo>
                    <a:lnTo>
                      <a:pt x="3464" y="3536"/>
                    </a:lnTo>
                    <a:lnTo>
                      <a:pt x="3487" y="3497"/>
                    </a:lnTo>
                    <a:lnTo>
                      <a:pt x="3506" y="3457"/>
                    </a:lnTo>
                    <a:lnTo>
                      <a:pt x="3520" y="3417"/>
                    </a:lnTo>
                    <a:lnTo>
                      <a:pt x="3528" y="3377"/>
                    </a:lnTo>
                    <a:lnTo>
                      <a:pt x="3565" y="3058"/>
                    </a:lnTo>
                    <a:lnTo>
                      <a:pt x="3600" y="2742"/>
                    </a:lnTo>
                    <a:lnTo>
                      <a:pt x="3635" y="2429"/>
                    </a:lnTo>
                    <a:lnTo>
                      <a:pt x="3669" y="2116"/>
                    </a:lnTo>
                    <a:lnTo>
                      <a:pt x="3704" y="1804"/>
                    </a:lnTo>
                    <a:lnTo>
                      <a:pt x="3739" y="1490"/>
                    </a:lnTo>
                    <a:lnTo>
                      <a:pt x="3774" y="1174"/>
                    </a:lnTo>
                    <a:lnTo>
                      <a:pt x="3810" y="854"/>
                    </a:lnTo>
                    <a:close/>
                  </a:path>
                </a:pathLst>
              </a:custGeom>
              <a:solidFill>
                <a:srgbClr val="b4ba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741760" y="2127240"/>
                <a:ext cx="156960" cy="128520"/>
              </a:xfrm>
              <a:custGeom>
                <a:avLst/>
                <a:gdLst/>
                <a:ahLst/>
                <a:rect l="l" t="t" r="r" b="b"/>
                <a:pathLst>
                  <a:path w="3343" h="3078">
                    <a:moveTo>
                      <a:pt x="2880" y="355"/>
                    </a:moveTo>
                    <a:lnTo>
                      <a:pt x="2907" y="361"/>
                    </a:lnTo>
                    <a:lnTo>
                      <a:pt x="2933" y="368"/>
                    </a:lnTo>
                    <a:lnTo>
                      <a:pt x="2959" y="376"/>
                    </a:lnTo>
                    <a:lnTo>
                      <a:pt x="2983" y="386"/>
                    </a:lnTo>
                    <a:lnTo>
                      <a:pt x="3008" y="396"/>
                    </a:lnTo>
                    <a:lnTo>
                      <a:pt x="3032" y="407"/>
                    </a:lnTo>
                    <a:lnTo>
                      <a:pt x="3054" y="419"/>
                    </a:lnTo>
                    <a:lnTo>
                      <a:pt x="3077" y="432"/>
                    </a:lnTo>
                    <a:lnTo>
                      <a:pt x="3099" y="446"/>
                    </a:lnTo>
                    <a:lnTo>
                      <a:pt x="3119" y="461"/>
                    </a:lnTo>
                    <a:lnTo>
                      <a:pt x="3140" y="477"/>
                    </a:lnTo>
                    <a:lnTo>
                      <a:pt x="3159" y="494"/>
                    </a:lnTo>
                    <a:lnTo>
                      <a:pt x="3178" y="512"/>
                    </a:lnTo>
                    <a:lnTo>
                      <a:pt x="3196" y="530"/>
                    </a:lnTo>
                    <a:lnTo>
                      <a:pt x="3212" y="549"/>
                    </a:lnTo>
                    <a:lnTo>
                      <a:pt x="3228" y="568"/>
                    </a:lnTo>
                    <a:lnTo>
                      <a:pt x="3244" y="588"/>
                    </a:lnTo>
                    <a:lnTo>
                      <a:pt x="3257" y="610"/>
                    </a:lnTo>
                    <a:lnTo>
                      <a:pt x="3271" y="632"/>
                    </a:lnTo>
                    <a:lnTo>
                      <a:pt x="3283" y="654"/>
                    </a:lnTo>
                    <a:lnTo>
                      <a:pt x="3293" y="677"/>
                    </a:lnTo>
                    <a:lnTo>
                      <a:pt x="3304" y="700"/>
                    </a:lnTo>
                    <a:lnTo>
                      <a:pt x="3313" y="725"/>
                    </a:lnTo>
                    <a:lnTo>
                      <a:pt x="3320" y="749"/>
                    </a:lnTo>
                    <a:lnTo>
                      <a:pt x="3327" y="773"/>
                    </a:lnTo>
                    <a:lnTo>
                      <a:pt x="3333" y="798"/>
                    </a:lnTo>
                    <a:lnTo>
                      <a:pt x="3337" y="825"/>
                    </a:lnTo>
                    <a:lnTo>
                      <a:pt x="3341" y="850"/>
                    </a:lnTo>
                    <a:lnTo>
                      <a:pt x="3342" y="876"/>
                    </a:lnTo>
                    <a:lnTo>
                      <a:pt x="3343" y="903"/>
                    </a:lnTo>
                    <a:lnTo>
                      <a:pt x="3342" y="930"/>
                    </a:lnTo>
                    <a:lnTo>
                      <a:pt x="3341" y="957"/>
                    </a:lnTo>
                    <a:lnTo>
                      <a:pt x="3317" y="1169"/>
                    </a:lnTo>
                    <a:lnTo>
                      <a:pt x="3293" y="1379"/>
                    </a:lnTo>
                    <a:lnTo>
                      <a:pt x="3270" y="1588"/>
                    </a:lnTo>
                    <a:lnTo>
                      <a:pt x="3247" y="1797"/>
                    </a:lnTo>
                    <a:lnTo>
                      <a:pt x="3224" y="2006"/>
                    </a:lnTo>
                    <a:lnTo>
                      <a:pt x="3201" y="2214"/>
                    </a:lnTo>
                    <a:lnTo>
                      <a:pt x="3178" y="2424"/>
                    </a:lnTo>
                    <a:lnTo>
                      <a:pt x="3154" y="2635"/>
                    </a:lnTo>
                    <a:lnTo>
                      <a:pt x="3150" y="2663"/>
                    </a:lnTo>
                    <a:lnTo>
                      <a:pt x="3144" y="2689"/>
                    </a:lnTo>
                    <a:lnTo>
                      <a:pt x="3138" y="2715"/>
                    </a:lnTo>
                    <a:lnTo>
                      <a:pt x="3130" y="2740"/>
                    </a:lnTo>
                    <a:lnTo>
                      <a:pt x="3121" y="2765"/>
                    </a:lnTo>
                    <a:lnTo>
                      <a:pt x="3111" y="2789"/>
                    </a:lnTo>
                    <a:lnTo>
                      <a:pt x="3100" y="2812"/>
                    </a:lnTo>
                    <a:lnTo>
                      <a:pt x="3087" y="2834"/>
                    </a:lnTo>
                    <a:lnTo>
                      <a:pt x="3074" y="2855"/>
                    </a:lnTo>
                    <a:lnTo>
                      <a:pt x="3061" y="2877"/>
                    </a:lnTo>
                    <a:lnTo>
                      <a:pt x="3045" y="2897"/>
                    </a:lnTo>
                    <a:lnTo>
                      <a:pt x="3029" y="2915"/>
                    </a:lnTo>
                    <a:lnTo>
                      <a:pt x="3012" y="2933"/>
                    </a:lnTo>
                    <a:lnTo>
                      <a:pt x="2994" y="2950"/>
                    </a:lnTo>
                    <a:lnTo>
                      <a:pt x="2975" y="2966"/>
                    </a:lnTo>
                    <a:lnTo>
                      <a:pt x="2955" y="2983"/>
                    </a:lnTo>
                    <a:lnTo>
                      <a:pt x="2936" y="2997"/>
                    </a:lnTo>
                    <a:lnTo>
                      <a:pt x="2914" y="3010"/>
                    </a:lnTo>
                    <a:lnTo>
                      <a:pt x="2893" y="3022"/>
                    </a:lnTo>
                    <a:lnTo>
                      <a:pt x="2871" y="3033"/>
                    </a:lnTo>
                    <a:lnTo>
                      <a:pt x="2847" y="3043"/>
                    </a:lnTo>
                    <a:lnTo>
                      <a:pt x="2824" y="3051"/>
                    </a:lnTo>
                    <a:lnTo>
                      <a:pt x="2800" y="3059"/>
                    </a:lnTo>
                    <a:lnTo>
                      <a:pt x="2775" y="3065"/>
                    </a:lnTo>
                    <a:lnTo>
                      <a:pt x="2750" y="3070"/>
                    </a:lnTo>
                    <a:lnTo>
                      <a:pt x="2725" y="3073"/>
                    </a:lnTo>
                    <a:lnTo>
                      <a:pt x="2698" y="3076"/>
                    </a:lnTo>
                    <a:lnTo>
                      <a:pt x="2672" y="3078"/>
                    </a:lnTo>
                    <a:lnTo>
                      <a:pt x="2644" y="3076"/>
                    </a:lnTo>
                    <a:lnTo>
                      <a:pt x="2618" y="3075"/>
                    </a:lnTo>
                    <a:lnTo>
                      <a:pt x="2590" y="3071"/>
                    </a:lnTo>
                    <a:lnTo>
                      <a:pt x="2562" y="3067"/>
                    </a:lnTo>
                    <a:lnTo>
                      <a:pt x="2297" y="3017"/>
                    </a:lnTo>
                    <a:lnTo>
                      <a:pt x="2035" y="2968"/>
                    </a:lnTo>
                    <a:lnTo>
                      <a:pt x="1773" y="2921"/>
                    </a:lnTo>
                    <a:lnTo>
                      <a:pt x="1512" y="2874"/>
                    </a:lnTo>
                    <a:lnTo>
                      <a:pt x="1252" y="2827"/>
                    </a:lnTo>
                    <a:lnTo>
                      <a:pt x="991" y="2779"/>
                    </a:lnTo>
                    <a:lnTo>
                      <a:pt x="727" y="2730"/>
                    </a:lnTo>
                    <a:lnTo>
                      <a:pt x="463" y="2680"/>
                    </a:lnTo>
                    <a:lnTo>
                      <a:pt x="436" y="2675"/>
                    </a:lnTo>
                    <a:lnTo>
                      <a:pt x="410" y="2668"/>
                    </a:lnTo>
                    <a:lnTo>
                      <a:pt x="384" y="2660"/>
                    </a:lnTo>
                    <a:lnTo>
                      <a:pt x="358" y="2651"/>
                    </a:lnTo>
                    <a:lnTo>
                      <a:pt x="335" y="2639"/>
                    </a:lnTo>
                    <a:lnTo>
                      <a:pt x="311" y="2628"/>
                    </a:lnTo>
                    <a:lnTo>
                      <a:pt x="287" y="2616"/>
                    </a:lnTo>
                    <a:lnTo>
                      <a:pt x="266" y="2603"/>
                    </a:lnTo>
                    <a:lnTo>
                      <a:pt x="244" y="2589"/>
                    </a:lnTo>
                    <a:lnTo>
                      <a:pt x="222" y="2574"/>
                    </a:lnTo>
                    <a:lnTo>
                      <a:pt x="203" y="2558"/>
                    </a:lnTo>
                    <a:lnTo>
                      <a:pt x="183" y="2541"/>
                    </a:lnTo>
                    <a:lnTo>
                      <a:pt x="165" y="2523"/>
                    </a:lnTo>
                    <a:lnTo>
                      <a:pt x="147" y="2505"/>
                    </a:lnTo>
                    <a:lnTo>
                      <a:pt x="131" y="2486"/>
                    </a:lnTo>
                    <a:lnTo>
                      <a:pt x="114" y="2466"/>
                    </a:lnTo>
                    <a:lnTo>
                      <a:pt x="100" y="2446"/>
                    </a:lnTo>
                    <a:lnTo>
                      <a:pt x="85" y="2424"/>
                    </a:lnTo>
                    <a:lnTo>
                      <a:pt x="72" y="2402"/>
                    </a:lnTo>
                    <a:lnTo>
                      <a:pt x="61" y="2380"/>
                    </a:lnTo>
                    <a:lnTo>
                      <a:pt x="49" y="2358"/>
                    </a:lnTo>
                    <a:lnTo>
                      <a:pt x="39" y="2335"/>
                    </a:lnTo>
                    <a:lnTo>
                      <a:pt x="30" y="2310"/>
                    </a:lnTo>
                    <a:lnTo>
                      <a:pt x="23" y="2286"/>
                    </a:lnTo>
                    <a:lnTo>
                      <a:pt x="15" y="2261"/>
                    </a:lnTo>
                    <a:lnTo>
                      <a:pt x="10" y="2237"/>
                    </a:lnTo>
                    <a:lnTo>
                      <a:pt x="6" y="2211"/>
                    </a:lnTo>
                    <a:lnTo>
                      <a:pt x="3" y="2185"/>
                    </a:lnTo>
                    <a:lnTo>
                      <a:pt x="1" y="2159"/>
                    </a:lnTo>
                    <a:lnTo>
                      <a:pt x="0" y="2133"/>
                    </a:lnTo>
                    <a:lnTo>
                      <a:pt x="1" y="2106"/>
                    </a:lnTo>
                    <a:lnTo>
                      <a:pt x="3" y="2080"/>
                    </a:lnTo>
                    <a:lnTo>
                      <a:pt x="26" y="1873"/>
                    </a:lnTo>
                    <a:lnTo>
                      <a:pt x="48" y="1668"/>
                    </a:lnTo>
                    <a:lnTo>
                      <a:pt x="71" y="1465"/>
                    </a:lnTo>
                    <a:lnTo>
                      <a:pt x="93" y="1261"/>
                    </a:lnTo>
                    <a:lnTo>
                      <a:pt x="115" y="1057"/>
                    </a:lnTo>
                    <a:lnTo>
                      <a:pt x="137" y="853"/>
                    </a:lnTo>
                    <a:lnTo>
                      <a:pt x="160" y="646"/>
                    </a:lnTo>
                    <a:lnTo>
                      <a:pt x="183" y="437"/>
                    </a:lnTo>
                    <a:lnTo>
                      <a:pt x="187" y="410"/>
                    </a:lnTo>
                    <a:lnTo>
                      <a:pt x="193" y="383"/>
                    </a:lnTo>
                    <a:lnTo>
                      <a:pt x="199" y="357"/>
                    </a:lnTo>
                    <a:lnTo>
                      <a:pt x="206" y="333"/>
                    </a:lnTo>
                    <a:lnTo>
                      <a:pt x="215" y="308"/>
                    </a:lnTo>
                    <a:lnTo>
                      <a:pt x="225" y="285"/>
                    </a:lnTo>
                    <a:lnTo>
                      <a:pt x="236" y="262"/>
                    </a:lnTo>
                    <a:lnTo>
                      <a:pt x="248" y="240"/>
                    </a:lnTo>
                    <a:lnTo>
                      <a:pt x="262" y="219"/>
                    </a:lnTo>
                    <a:lnTo>
                      <a:pt x="276" y="199"/>
                    </a:lnTo>
                    <a:lnTo>
                      <a:pt x="292" y="180"/>
                    </a:lnTo>
                    <a:lnTo>
                      <a:pt x="308" y="161"/>
                    </a:lnTo>
                    <a:lnTo>
                      <a:pt x="324" y="143"/>
                    </a:lnTo>
                    <a:lnTo>
                      <a:pt x="343" y="127"/>
                    </a:lnTo>
                    <a:lnTo>
                      <a:pt x="362" y="111"/>
                    </a:lnTo>
                    <a:lnTo>
                      <a:pt x="381" y="97"/>
                    </a:lnTo>
                    <a:lnTo>
                      <a:pt x="402" y="83"/>
                    </a:lnTo>
                    <a:lnTo>
                      <a:pt x="422" y="70"/>
                    </a:lnTo>
                    <a:lnTo>
                      <a:pt x="444" y="58"/>
                    </a:lnTo>
                    <a:lnTo>
                      <a:pt x="467" y="47"/>
                    </a:lnTo>
                    <a:lnTo>
                      <a:pt x="489" y="38"/>
                    </a:lnTo>
                    <a:lnTo>
                      <a:pt x="513" y="29"/>
                    </a:lnTo>
                    <a:lnTo>
                      <a:pt x="538" y="22"/>
                    </a:lnTo>
                    <a:lnTo>
                      <a:pt x="561" y="15"/>
                    </a:lnTo>
                    <a:lnTo>
                      <a:pt x="587" y="10"/>
                    </a:lnTo>
                    <a:lnTo>
                      <a:pt x="612" y="6"/>
                    </a:lnTo>
                    <a:lnTo>
                      <a:pt x="638" y="3"/>
                    </a:lnTo>
                    <a:lnTo>
                      <a:pt x="664" y="1"/>
                    </a:lnTo>
                    <a:lnTo>
                      <a:pt x="690" y="0"/>
                    </a:lnTo>
                    <a:lnTo>
                      <a:pt x="717" y="1"/>
                    </a:lnTo>
                    <a:lnTo>
                      <a:pt x="744" y="3"/>
                    </a:lnTo>
                    <a:lnTo>
                      <a:pt x="772" y="6"/>
                    </a:lnTo>
                    <a:lnTo>
                      <a:pt x="1037" y="51"/>
                    </a:lnTo>
                    <a:lnTo>
                      <a:pt x="1301" y="95"/>
                    </a:lnTo>
                    <a:lnTo>
                      <a:pt x="1564" y="138"/>
                    </a:lnTo>
                    <a:lnTo>
                      <a:pt x="1825" y="181"/>
                    </a:lnTo>
                    <a:lnTo>
                      <a:pt x="2087" y="223"/>
                    </a:lnTo>
                    <a:lnTo>
                      <a:pt x="2350" y="266"/>
                    </a:lnTo>
                    <a:lnTo>
                      <a:pt x="2613" y="310"/>
                    </a:lnTo>
                    <a:lnTo>
                      <a:pt x="2880" y="3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51120" y="2136600"/>
                <a:ext cx="136440" cy="111240"/>
              </a:xfrm>
              <a:custGeom>
                <a:avLst/>
                <a:gdLst/>
                <a:ahLst/>
                <a:rect l="l" t="t" r="r" b="b"/>
                <a:pathLst>
                  <a:path w="2921" h="2663">
                    <a:moveTo>
                      <a:pt x="2631" y="352"/>
                    </a:moveTo>
                    <a:lnTo>
                      <a:pt x="2365" y="307"/>
                    </a:lnTo>
                    <a:lnTo>
                      <a:pt x="2103" y="263"/>
                    </a:lnTo>
                    <a:lnTo>
                      <a:pt x="1841" y="220"/>
                    </a:lnTo>
                    <a:lnTo>
                      <a:pt x="1579" y="177"/>
                    </a:lnTo>
                    <a:lnTo>
                      <a:pt x="1319" y="135"/>
                    </a:lnTo>
                    <a:lnTo>
                      <a:pt x="1058" y="93"/>
                    </a:lnTo>
                    <a:lnTo>
                      <a:pt x="794" y="48"/>
                    </a:lnTo>
                    <a:lnTo>
                      <a:pt x="530" y="4"/>
                    </a:lnTo>
                    <a:lnTo>
                      <a:pt x="512" y="2"/>
                    </a:lnTo>
                    <a:lnTo>
                      <a:pt x="496" y="1"/>
                    </a:lnTo>
                    <a:lnTo>
                      <a:pt x="479" y="0"/>
                    </a:lnTo>
                    <a:lnTo>
                      <a:pt x="463" y="0"/>
                    </a:lnTo>
                    <a:lnTo>
                      <a:pt x="446" y="2"/>
                    </a:lnTo>
                    <a:lnTo>
                      <a:pt x="431" y="3"/>
                    </a:lnTo>
                    <a:lnTo>
                      <a:pt x="415" y="6"/>
                    </a:lnTo>
                    <a:lnTo>
                      <a:pt x="401" y="9"/>
                    </a:lnTo>
                    <a:lnTo>
                      <a:pt x="385" y="12"/>
                    </a:lnTo>
                    <a:lnTo>
                      <a:pt x="371" y="17"/>
                    </a:lnTo>
                    <a:lnTo>
                      <a:pt x="358" y="22"/>
                    </a:lnTo>
                    <a:lnTo>
                      <a:pt x="344" y="27"/>
                    </a:lnTo>
                    <a:lnTo>
                      <a:pt x="331" y="34"/>
                    </a:lnTo>
                    <a:lnTo>
                      <a:pt x="318" y="40"/>
                    </a:lnTo>
                    <a:lnTo>
                      <a:pt x="306" y="48"/>
                    </a:lnTo>
                    <a:lnTo>
                      <a:pt x="295" y="56"/>
                    </a:lnTo>
                    <a:lnTo>
                      <a:pt x="283" y="64"/>
                    </a:lnTo>
                    <a:lnTo>
                      <a:pt x="272" y="75"/>
                    </a:lnTo>
                    <a:lnTo>
                      <a:pt x="262" y="84"/>
                    </a:lnTo>
                    <a:lnTo>
                      <a:pt x="253" y="94"/>
                    </a:lnTo>
                    <a:lnTo>
                      <a:pt x="243" y="105"/>
                    </a:lnTo>
                    <a:lnTo>
                      <a:pt x="234" y="116"/>
                    </a:lnTo>
                    <a:lnTo>
                      <a:pt x="227" y="128"/>
                    </a:lnTo>
                    <a:lnTo>
                      <a:pt x="219" y="140"/>
                    </a:lnTo>
                    <a:lnTo>
                      <a:pt x="212" y="152"/>
                    </a:lnTo>
                    <a:lnTo>
                      <a:pt x="206" y="165"/>
                    </a:lnTo>
                    <a:lnTo>
                      <a:pt x="200" y="180"/>
                    </a:lnTo>
                    <a:lnTo>
                      <a:pt x="195" y="194"/>
                    </a:lnTo>
                    <a:lnTo>
                      <a:pt x="191" y="208"/>
                    </a:lnTo>
                    <a:lnTo>
                      <a:pt x="188" y="222"/>
                    </a:lnTo>
                    <a:lnTo>
                      <a:pt x="185" y="237"/>
                    </a:lnTo>
                    <a:lnTo>
                      <a:pt x="183" y="253"/>
                    </a:lnTo>
                    <a:lnTo>
                      <a:pt x="160" y="461"/>
                    </a:lnTo>
                    <a:lnTo>
                      <a:pt x="136" y="668"/>
                    </a:lnTo>
                    <a:lnTo>
                      <a:pt x="115" y="872"/>
                    </a:lnTo>
                    <a:lnTo>
                      <a:pt x="92" y="1076"/>
                    </a:lnTo>
                    <a:lnTo>
                      <a:pt x="70" y="1279"/>
                    </a:lnTo>
                    <a:lnTo>
                      <a:pt x="48" y="1483"/>
                    </a:lnTo>
                    <a:lnTo>
                      <a:pt x="25" y="1687"/>
                    </a:lnTo>
                    <a:lnTo>
                      <a:pt x="2" y="1893"/>
                    </a:lnTo>
                    <a:lnTo>
                      <a:pt x="0" y="1927"/>
                    </a:lnTo>
                    <a:lnTo>
                      <a:pt x="2" y="1959"/>
                    </a:lnTo>
                    <a:lnTo>
                      <a:pt x="4" y="1975"/>
                    </a:lnTo>
                    <a:lnTo>
                      <a:pt x="7" y="1991"/>
                    </a:lnTo>
                    <a:lnTo>
                      <a:pt x="10" y="2006"/>
                    </a:lnTo>
                    <a:lnTo>
                      <a:pt x="15" y="2022"/>
                    </a:lnTo>
                    <a:lnTo>
                      <a:pt x="20" y="2038"/>
                    </a:lnTo>
                    <a:lnTo>
                      <a:pt x="25" y="2052"/>
                    </a:lnTo>
                    <a:lnTo>
                      <a:pt x="31" y="2067"/>
                    </a:lnTo>
                    <a:lnTo>
                      <a:pt x="38" y="2081"/>
                    </a:lnTo>
                    <a:lnTo>
                      <a:pt x="45" y="2095"/>
                    </a:lnTo>
                    <a:lnTo>
                      <a:pt x="54" y="2108"/>
                    </a:lnTo>
                    <a:lnTo>
                      <a:pt x="63" y="2122"/>
                    </a:lnTo>
                    <a:lnTo>
                      <a:pt x="72" y="2135"/>
                    </a:lnTo>
                    <a:lnTo>
                      <a:pt x="83" y="2148"/>
                    </a:lnTo>
                    <a:lnTo>
                      <a:pt x="93" y="2159"/>
                    </a:lnTo>
                    <a:lnTo>
                      <a:pt x="104" y="2171"/>
                    </a:lnTo>
                    <a:lnTo>
                      <a:pt x="116" y="2182"/>
                    </a:lnTo>
                    <a:lnTo>
                      <a:pt x="128" y="2193"/>
                    </a:lnTo>
                    <a:lnTo>
                      <a:pt x="140" y="2202"/>
                    </a:lnTo>
                    <a:lnTo>
                      <a:pt x="154" y="2212"/>
                    </a:lnTo>
                    <a:lnTo>
                      <a:pt x="168" y="2221"/>
                    </a:lnTo>
                    <a:lnTo>
                      <a:pt x="181" y="2230"/>
                    </a:lnTo>
                    <a:lnTo>
                      <a:pt x="196" y="2238"/>
                    </a:lnTo>
                    <a:lnTo>
                      <a:pt x="211" y="2245"/>
                    </a:lnTo>
                    <a:lnTo>
                      <a:pt x="227" y="2251"/>
                    </a:lnTo>
                    <a:lnTo>
                      <a:pt x="242" y="2257"/>
                    </a:lnTo>
                    <a:lnTo>
                      <a:pt x="259" y="2262"/>
                    </a:lnTo>
                    <a:lnTo>
                      <a:pt x="275" y="2266"/>
                    </a:lnTo>
                    <a:lnTo>
                      <a:pt x="293" y="2270"/>
                    </a:lnTo>
                    <a:lnTo>
                      <a:pt x="557" y="2320"/>
                    </a:lnTo>
                    <a:lnTo>
                      <a:pt x="820" y="2369"/>
                    </a:lnTo>
                    <a:lnTo>
                      <a:pt x="1082" y="2416"/>
                    </a:lnTo>
                    <a:lnTo>
                      <a:pt x="1342" y="2464"/>
                    </a:lnTo>
                    <a:lnTo>
                      <a:pt x="1603" y="2510"/>
                    </a:lnTo>
                    <a:lnTo>
                      <a:pt x="1865" y="2558"/>
                    </a:lnTo>
                    <a:lnTo>
                      <a:pt x="2127" y="2607"/>
                    </a:lnTo>
                    <a:lnTo>
                      <a:pt x="2392" y="2657"/>
                    </a:lnTo>
                    <a:lnTo>
                      <a:pt x="2408" y="2660"/>
                    </a:lnTo>
                    <a:lnTo>
                      <a:pt x="2423" y="2662"/>
                    </a:lnTo>
                    <a:lnTo>
                      <a:pt x="2439" y="2663"/>
                    </a:lnTo>
                    <a:lnTo>
                      <a:pt x="2454" y="2663"/>
                    </a:lnTo>
                    <a:lnTo>
                      <a:pt x="2469" y="2663"/>
                    </a:lnTo>
                    <a:lnTo>
                      <a:pt x="2484" y="2662"/>
                    </a:lnTo>
                    <a:lnTo>
                      <a:pt x="2499" y="2660"/>
                    </a:lnTo>
                    <a:lnTo>
                      <a:pt x="2514" y="2657"/>
                    </a:lnTo>
                    <a:lnTo>
                      <a:pt x="2527" y="2653"/>
                    </a:lnTo>
                    <a:lnTo>
                      <a:pt x="2542" y="2649"/>
                    </a:lnTo>
                    <a:lnTo>
                      <a:pt x="2555" y="2644"/>
                    </a:lnTo>
                    <a:lnTo>
                      <a:pt x="2568" y="2639"/>
                    </a:lnTo>
                    <a:lnTo>
                      <a:pt x="2581" y="2633"/>
                    </a:lnTo>
                    <a:lnTo>
                      <a:pt x="2593" y="2626"/>
                    </a:lnTo>
                    <a:lnTo>
                      <a:pt x="2605" y="2619"/>
                    </a:lnTo>
                    <a:lnTo>
                      <a:pt x="2617" y="2611"/>
                    </a:lnTo>
                    <a:lnTo>
                      <a:pt x="2628" y="2602"/>
                    </a:lnTo>
                    <a:lnTo>
                      <a:pt x="2639" y="2593"/>
                    </a:lnTo>
                    <a:lnTo>
                      <a:pt x="2650" y="2583"/>
                    </a:lnTo>
                    <a:lnTo>
                      <a:pt x="2659" y="2573"/>
                    </a:lnTo>
                    <a:lnTo>
                      <a:pt x="2668" y="2562"/>
                    </a:lnTo>
                    <a:lnTo>
                      <a:pt x="2678" y="2550"/>
                    </a:lnTo>
                    <a:lnTo>
                      <a:pt x="2686" y="2537"/>
                    </a:lnTo>
                    <a:lnTo>
                      <a:pt x="2693" y="2525"/>
                    </a:lnTo>
                    <a:lnTo>
                      <a:pt x="2700" y="2512"/>
                    </a:lnTo>
                    <a:lnTo>
                      <a:pt x="2707" y="2498"/>
                    </a:lnTo>
                    <a:lnTo>
                      <a:pt x="2713" y="2484"/>
                    </a:lnTo>
                    <a:lnTo>
                      <a:pt x="2719" y="2469"/>
                    </a:lnTo>
                    <a:lnTo>
                      <a:pt x="2723" y="2454"/>
                    </a:lnTo>
                    <a:lnTo>
                      <a:pt x="2727" y="2438"/>
                    </a:lnTo>
                    <a:lnTo>
                      <a:pt x="2730" y="2422"/>
                    </a:lnTo>
                    <a:lnTo>
                      <a:pt x="2733" y="2405"/>
                    </a:lnTo>
                    <a:lnTo>
                      <a:pt x="2757" y="2194"/>
                    </a:lnTo>
                    <a:lnTo>
                      <a:pt x="2780" y="1985"/>
                    </a:lnTo>
                    <a:lnTo>
                      <a:pt x="2803" y="1776"/>
                    </a:lnTo>
                    <a:lnTo>
                      <a:pt x="2826" y="1567"/>
                    </a:lnTo>
                    <a:lnTo>
                      <a:pt x="2849" y="1359"/>
                    </a:lnTo>
                    <a:lnTo>
                      <a:pt x="2872" y="1151"/>
                    </a:lnTo>
                    <a:lnTo>
                      <a:pt x="2895" y="941"/>
                    </a:lnTo>
                    <a:lnTo>
                      <a:pt x="2919" y="730"/>
                    </a:lnTo>
                    <a:lnTo>
                      <a:pt x="2920" y="712"/>
                    </a:lnTo>
                    <a:lnTo>
                      <a:pt x="2921" y="696"/>
                    </a:lnTo>
                    <a:lnTo>
                      <a:pt x="2920" y="679"/>
                    </a:lnTo>
                    <a:lnTo>
                      <a:pt x="2919" y="663"/>
                    </a:lnTo>
                    <a:lnTo>
                      <a:pt x="2917" y="647"/>
                    </a:lnTo>
                    <a:lnTo>
                      <a:pt x="2914" y="631"/>
                    </a:lnTo>
                    <a:lnTo>
                      <a:pt x="2911" y="615"/>
                    </a:lnTo>
                    <a:lnTo>
                      <a:pt x="2907" y="599"/>
                    </a:lnTo>
                    <a:lnTo>
                      <a:pt x="2902" y="584"/>
                    </a:lnTo>
                    <a:lnTo>
                      <a:pt x="2897" y="569"/>
                    </a:lnTo>
                    <a:lnTo>
                      <a:pt x="2891" y="554"/>
                    </a:lnTo>
                    <a:lnTo>
                      <a:pt x="2884" y="540"/>
                    </a:lnTo>
                    <a:lnTo>
                      <a:pt x="2876" y="526"/>
                    </a:lnTo>
                    <a:lnTo>
                      <a:pt x="2868" y="513"/>
                    </a:lnTo>
                    <a:lnTo>
                      <a:pt x="2859" y="499"/>
                    </a:lnTo>
                    <a:lnTo>
                      <a:pt x="2850" y="486"/>
                    </a:lnTo>
                    <a:lnTo>
                      <a:pt x="2840" y="474"/>
                    </a:lnTo>
                    <a:lnTo>
                      <a:pt x="2829" y="462"/>
                    </a:lnTo>
                    <a:lnTo>
                      <a:pt x="2819" y="451"/>
                    </a:lnTo>
                    <a:lnTo>
                      <a:pt x="2806" y="440"/>
                    </a:lnTo>
                    <a:lnTo>
                      <a:pt x="2795" y="429"/>
                    </a:lnTo>
                    <a:lnTo>
                      <a:pt x="2782" y="420"/>
                    </a:lnTo>
                    <a:lnTo>
                      <a:pt x="2769" y="410"/>
                    </a:lnTo>
                    <a:lnTo>
                      <a:pt x="2756" y="401"/>
                    </a:lnTo>
                    <a:lnTo>
                      <a:pt x="2741" y="392"/>
                    </a:lnTo>
                    <a:lnTo>
                      <a:pt x="2727" y="385"/>
                    </a:lnTo>
                    <a:lnTo>
                      <a:pt x="2712" y="378"/>
                    </a:lnTo>
                    <a:lnTo>
                      <a:pt x="2696" y="371"/>
                    </a:lnTo>
                    <a:lnTo>
                      <a:pt x="2681" y="365"/>
                    </a:lnTo>
                    <a:lnTo>
                      <a:pt x="2664" y="360"/>
                    </a:lnTo>
                    <a:lnTo>
                      <a:pt x="2648" y="356"/>
                    </a:lnTo>
                    <a:lnTo>
                      <a:pt x="2631" y="352"/>
                    </a:lnTo>
                    <a:close/>
                  </a:path>
                </a:pathLst>
              </a:custGeom>
              <a:solidFill>
                <a:srgbClr val="5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14480" y="20779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817" h="279">
                    <a:moveTo>
                      <a:pt x="106" y="1"/>
                    </a:moveTo>
                    <a:lnTo>
                      <a:pt x="187" y="13"/>
                    </a:lnTo>
                    <a:lnTo>
                      <a:pt x="266" y="25"/>
                    </a:lnTo>
                    <a:lnTo>
                      <a:pt x="344" y="38"/>
                    </a:lnTo>
                    <a:lnTo>
                      <a:pt x="423" y="50"/>
                    </a:lnTo>
                    <a:lnTo>
                      <a:pt x="501" y="62"/>
                    </a:lnTo>
                    <a:lnTo>
                      <a:pt x="580" y="74"/>
                    </a:lnTo>
                    <a:lnTo>
                      <a:pt x="660" y="87"/>
                    </a:lnTo>
                    <a:lnTo>
                      <a:pt x="739" y="100"/>
                    </a:lnTo>
                    <a:lnTo>
                      <a:pt x="750" y="102"/>
                    </a:lnTo>
                    <a:lnTo>
                      <a:pt x="761" y="105"/>
                    </a:lnTo>
                    <a:lnTo>
                      <a:pt x="770" y="109"/>
                    </a:lnTo>
                    <a:lnTo>
                      <a:pt x="778" y="113"/>
                    </a:lnTo>
                    <a:lnTo>
                      <a:pt x="785" y="119"/>
                    </a:lnTo>
                    <a:lnTo>
                      <a:pt x="792" y="124"/>
                    </a:lnTo>
                    <a:lnTo>
                      <a:pt x="798" y="131"/>
                    </a:lnTo>
                    <a:lnTo>
                      <a:pt x="803" y="138"/>
                    </a:lnTo>
                    <a:lnTo>
                      <a:pt x="807" y="145"/>
                    </a:lnTo>
                    <a:lnTo>
                      <a:pt x="811" y="153"/>
                    </a:lnTo>
                    <a:lnTo>
                      <a:pt x="813" y="161"/>
                    </a:lnTo>
                    <a:lnTo>
                      <a:pt x="815" y="169"/>
                    </a:lnTo>
                    <a:lnTo>
                      <a:pt x="817" y="177"/>
                    </a:lnTo>
                    <a:lnTo>
                      <a:pt x="817" y="185"/>
                    </a:lnTo>
                    <a:lnTo>
                      <a:pt x="817" y="195"/>
                    </a:lnTo>
                    <a:lnTo>
                      <a:pt x="816" y="203"/>
                    </a:lnTo>
                    <a:lnTo>
                      <a:pt x="814" y="211"/>
                    </a:lnTo>
                    <a:lnTo>
                      <a:pt x="812" y="219"/>
                    </a:lnTo>
                    <a:lnTo>
                      <a:pt x="809" y="227"/>
                    </a:lnTo>
                    <a:lnTo>
                      <a:pt x="805" y="235"/>
                    </a:lnTo>
                    <a:lnTo>
                      <a:pt x="801" y="242"/>
                    </a:lnTo>
                    <a:lnTo>
                      <a:pt x="796" y="248"/>
                    </a:lnTo>
                    <a:lnTo>
                      <a:pt x="789" y="255"/>
                    </a:lnTo>
                    <a:lnTo>
                      <a:pt x="783" y="260"/>
                    </a:lnTo>
                    <a:lnTo>
                      <a:pt x="776" y="265"/>
                    </a:lnTo>
                    <a:lnTo>
                      <a:pt x="769" y="270"/>
                    </a:lnTo>
                    <a:lnTo>
                      <a:pt x="761" y="273"/>
                    </a:lnTo>
                    <a:lnTo>
                      <a:pt x="751" y="276"/>
                    </a:lnTo>
                    <a:lnTo>
                      <a:pt x="742" y="278"/>
                    </a:lnTo>
                    <a:lnTo>
                      <a:pt x="733" y="279"/>
                    </a:lnTo>
                    <a:lnTo>
                      <a:pt x="721" y="279"/>
                    </a:lnTo>
                    <a:lnTo>
                      <a:pt x="711" y="277"/>
                    </a:lnTo>
                    <a:lnTo>
                      <a:pt x="631" y="265"/>
                    </a:lnTo>
                    <a:lnTo>
                      <a:pt x="551" y="253"/>
                    </a:lnTo>
                    <a:lnTo>
                      <a:pt x="473" y="241"/>
                    </a:lnTo>
                    <a:lnTo>
                      <a:pt x="395" y="229"/>
                    </a:lnTo>
                    <a:lnTo>
                      <a:pt x="316" y="216"/>
                    </a:lnTo>
                    <a:lnTo>
                      <a:pt x="237" y="204"/>
                    </a:lnTo>
                    <a:lnTo>
                      <a:pt x="158" y="192"/>
                    </a:lnTo>
                    <a:lnTo>
                      <a:pt x="78" y="179"/>
                    </a:lnTo>
                    <a:lnTo>
                      <a:pt x="67" y="177"/>
                    </a:lnTo>
                    <a:lnTo>
                      <a:pt x="57" y="173"/>
                    </a:lnTo>
                    <a:lnTo>
                      <a:pt x="48" y="170"/>
                    </a:lnTo>
                    <a:lnTo>
                      <a:pt x="39" y="165"/>
                    </a:lnTo>
                    <a:lnTo>
                      <a:pt x="31" y="160"/>
                    </a:lnTo>
                    <a:lnTo>
                      <a:pt x="25" y="154"/>
                    </a:lnTo>
                    <a:lnTo>
                      <a:pt x="19" y="148"/>
                    </a:lnTo>
                    <a:lnTo>
                      <a:pt x="14" y="141"/>
                    </a:lnTo>
                    <a:lnTo>
                      <a:pt x="10" y="133"/>
                    </a:lnTo>
                    <a:lnTo>
                      <a:pt x="6" y="126"/>
                    </a:lnTo>
                    <a:lnTo>
                      <a:pt x="3" y="118"/>
                    </a:lnTo>
                    <a:lnTo>
                      <a:pt x="1" y="110"/>
                    </a:lnTo>
                    <a:lnTo>
                      <a:pt x="0" y="102"/>
                    </a:lnTo>
                    <a:lnTo>
                      <a:pt x="0" y="93"/>
                    </a:lnTo>
                    <a:lnTo>
                      <a:pt x="0" y="85"/>
                    </a:lnTo>
                    <a:lnTo>
                      <a:pt x="1" y="75"/>
                    </a:lnTo>
                    <a:lnTo>
                      <a:pt x="2" y="67"/>
                    </a:lnTo>
                    <a:lnTo>
                      <a:pt x="5" y="59"/>
                    </a:lnTo>
                    <a:lnTo>
                      <a:pt x="9" y="51"/>
                    </a:lnTo>
                    <a:lnTo>
                      <a:pt x="12" y="44"/>
                    </a:lnTo>
                    <a:lnTo>
                      <a:pt x="17" y="37"/>
                    </a:lnTo>
                    <a:lnTo>
                      <a:pt x="22" y="30"/>
                    </a:lnTo>
                    <a:lnTo>
                      <a:pt x="27" y="24"/>
                    </a:lnTo>
                    <a:lnTo>
                      <a:pt x="33" y="18"/>
                    </a:lnTo>
                    <a:lnTo>
                      <a:pt x="40" y="13"/>
                    </a:lnTo>
                    <a:lnTo>
                      <a:pt x="49" y="9"/>
                    </a:lnTo>
                    <a:lnTo>
                      <a:pt x="57" y="5"/>
                    </a:lnTo>
                    <a:lnTo>
                      <a:pt x="65" y="2"/>
                    </a:lnTo>
                    <a:lnTo>
                      <a:pt x="74" y="1"/>
                    </a:lnTo>
                    <a:lnTo>
                      <a:pt x="85" y="0"/>
                    </a:lnTo>
                    <a:lnTo>
                      <a:pt x="95" y="0"/>
                    </a:lnTo>
                    <a:lnTo>
                      <a:pt x="10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824200" y="206064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501" h="230">
                    <a:moveTo>
                      <a:pt x="106" y="2"/>
                    </a:moveTo>
                    <a:lnTo>
                      <a:pt x="423" y="51"/>
                    </a:lnTo>
                    <a:lnTo>
                      <a:pt x="434" y="53"/>
                    </a:lnTo>
                    <a:lnTo>
                      <a:pt x="444" y="56"/>
                    </a:lnTo>
                    <a:lnTo>
                      <a:pt x="454" y="60"/>
                    </a:lnTo>
                    <a:lnTo>
                      <a:pt x="462" y="64"/>
                    </a:lnTo>
                    <a:lnTo>
                      <a:pt x="469" y="70"/>
                    </a:lnTo>
                    <a:lnTo>
                      <a:pt x="475" y="75"/>
                    </a:lnTo>
                    <a:lnTo>
                      <a:pt x="481" y="82"/>
                    </a:lnTo>
                    <a:lnTo>
                      <a:pt x="486" y="89"/>
                    </a:lnTo>
                    <a:lnTo>
                      <a:pt x="491" y="96"/>
                    </a:lnTo>
                    <a:lnTo>
                      <a:pt x="495" y="104"/>
                    </a:lnTo>
                    <a:lnTo>
                      <a:pt x="497" y="111"/>
                    </a:lnTo>
                    <a:lnTo>
                      <a:pt x="499" y="120"/>
                    </a:lnTo>
                    <a:lnTo>
                      <a:pt x="500" y="128"/>
                    </a:lnTo>
                    <a:lnTo>
                      <a:pt x="501" y="136"/>
                    </a:lnTo>
                    <a:lnTo>
                      <a:pt x="501" y="145"/>
                    </a:lnTo>
                    <a:lnTo>
                      <a:pt x="500" y="154"/>
                    </a:lnTo>
                    <a:lnTo>
                      <a:pt x="498" y="162"/>
                    </a:lnTo>
                    <a:lnTo>
                      <a:pt x="496" y="170"/>
                    </a:lnTo>
                    <a:lnTo>
                      <a:pt x="493" y="178"/>
                    </a:lnTo>
                    <a:lnTo>
                      <a:pt x="489" y="185"/>
                    </a:lnTo>
                    <a:lnTo>
                      <a:pt x="484" y="193"/>
                    </a:lnTo>
                    <a:lnTo>
                      <a:pt x="479" y="199"/>
                    </a:lnTo>
                    <a:lnTo>
                      <a:pt x="473" y="206"/>
                    </a:lnTo>
                    <a:lnTo>
                      <a:pt x="467" y="211"/>
                    </a:lnTo>
                    <a:lnTo>
                      <a:pt x="460" y="216"/>
                    </a:lnTo>
                    <a:lnTo>
                      <a:pt x="453" y="221"/>
                    </a:lnTo>
                    <a:lnTo>
                      <a:pt x="444" y="224"/>
                    </a:lnTo>
                    <a:lnTo>
                      <a:pt x="436" y="227"/>
                    </a:lnTo>
                    <a:lnTo>
                      <a:pt x="426" y="229"/>
                    </a:lnTo>
                    <a:lnTo>
                      <a:pt x="416" y="230"/>
                    </a:lnTo>
                    <a:lnTo>
                      <a:pt x="405" y="230"/>
                    </a:lnTo>
                    <a:lnTo>
                      <a:pt x="395" y="228"/>
                    </a:lnTo>
                    <a:lnTo>
                      <a:pt x="78" y="181"/>
                    </a:lnTo>
                    <a:lnTo>
                      <a:pt x="67" y="178"/>
                    </a:lnTo>
                    <a:lnTo>
                      <a:pt x="57" y="175"/>
                    </a:lnTo>
                    <a:lnTo>
                      <a:pt x="48" y="172"/>
                    </a:lnTo>
                    <a:lnTo>
                      <a:pt x="39" y="167"/>
                    </a:lnTo>
                    <a:lnTo>
                      <a:pt x="32" y="162"/>
                    </a:lnTo>
                    <a:lnTo>
                      <a:pt x="25" y="156"/>
                    </a:lnTo>
                    <a:lnTo>
                      <a:pt x="19" y="148"/>
                    </a:lnTo>
                    <a:lnTo>
                      <a:pt x="14" y="142"/>
                    </a:lnTo>
                    <a:lnTo>
                      <a:pt x="10" y="134"/>
                    </a:lnTo>
                    <a:lnTo>
                      <a:pt x="6" y="127"/>
                    </a:lnTo>
                    <a:lnTo>
                      <a:pt x="3" y="119"/>
                    </a:lnTo>
                    <a:lnTo>
                      <a:pt x="1" y="111"/>
                    </a:lnTo>
                    <a:lnTo>
                      <a:pt x="0" y="102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1" y="77"/>
                    </a:lnTo>
                    <a:lnTo>
                      <a:pt x="2" y="69"/>
                    </a:lnTo>
                    <a:lnTo>
                      <a:pt x="5" y="61"/>
                    </a:lnTo>
                    <a:lnTo>
                      <a:pt x="9" y="53"/>
                    </a:lnTo>
                    <a:lnTo>
                      <a:pt x="12" y="46"/>
                    </a:lnTo>
                    <a:lnTo>
                      <a:pt x="17" y="38"/>
                    </a:lnTo>
                    <a:lnTo>
                      <a:pt x="22" y="31"/>
                    </a:lnTo>
                    <a:lnTo>
                      <a:pt x="27" y="25"/>
                    </a:lnTo>
                    <a:lnTo>
                      <a:pt x="33" y="19"/>
                    </a:lnTo>
                    <a:lnTo>
                      <a:pt x="40" y="14"/>
                    </a:lnTo>
                    <a:lnTo>
                      <a:pt x="49" y="10"/>
                    </a:lnTo>
                    <a:lnTo>
                      <a:pt x="56" y="6"/>
                    </a:lnTo>
                    <a:lnTo>
                      <a:pt x="65" y="3"/>
                    </a:lnTo>
                    <a:lnTo>
                      <a:pt x="74" y="1"/>
                    </a:lnTo>
                    <a:lnTo>
                      <a:pt x="85" y="0"/>
                    </a:lnTo>
                    <a:lnTo>
                      <a:pt x="95" y="1"/>
                    </a:lnTo>
                    <a:lnTo>
                      <a:pt x="10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59040" y="25527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681" h="360">
                    <a:moveTo>
                      <a:pt x="164" y="4"/>
                    </a:moveTo>
                    <a:lnTo>
                      <a:pt x="216" y="16"/>
                    </a:lnTo>
                    <a:lnTo>
                      <a:pt x="268" y="29"/>
                    </a:lnTo>
                    <a:lnTo>
                      <a:pt x="320" y="42"/>
                    </a:lnTo>
                    <a:lnTo>
                      <a:pt x="372" y="55"/>
                    </a:lnTo>
                    <a:lnTo>
                      <a:pt x="424" y="67"/>
                    </a:lnTo>
                    <a:lnTo>
                      <a:pt x="475" y="80"/>
                    </a:lnTo>
                    <a:lnTo>
                      <a:pt x="528" y="92"/>
                    </a:lnTo>
                    <a:lnTo>
                      <a:pt x="579" y="104"/>
                    </a:lnTo>
                    <a:lnTo>
                      <a:pt x="595" y="109"/>
                    </a:lnTo>
                    <a:lnTo>
                      <a:pt x="609" y="114"/>
                    </a:lnTo>
                    <a:lnTo>
                      <a:pt x="622" y="120"/>
                    </a:lnTo>
                    <a:lnTo>
                      <a:pt x="633" y="129"/>
                    </a:lnTo>
                    <a:lnTo>
                      <a:pt x="643" y="137"/>
                    </a:lnTo>
                    <a:lnTo>
                      <a:pt x="652" y="146"/>
                    </a:lnTo>
                    <a:lnTo>
                      <a:pt x="660" y="156"/>
                    </a:lnTo>
                    <a:lnTo>
                      <a:pt x="667" y="166"/>
                    </a:lnTo>
                    <a:lnTo>
                      <a:pt x="672" y="177"/>
                    </a:lnTo>
                    <a:lnTo>
                      <a:pt x="676" y="188"/>
                    </a:lnTo>
                    <a:lnTo>
                      <a:pt x="679" y="200"/>
                    </a:lnTo>
                    <a:lnTo>
                      <a:pt x="680" y="212"/>
                    </a:lnTo>
                    <a:lnTo>
                      <a:pt x="681" y="224"/>
                    </a:lnTo>
                    <a:lnTo>
                      <a:pt x="681" y="237"/>
                    </a:lnTo>
                    <a:lnTo>
                      <a:pt x="680" y="249"/>
                    </a:lnTo>
                    <a:lnTo>
                      <a:pt x="677" y="260"/>
                    </a:lnTo>
                    <a:lnTo>
                      <a:pt x="674" y="272"/>
                    </a:lnTo>
                    <a:lnTo>
                      <a:pt x="670" y="283"/>
                    </a:lnTo>
                    <a:lnTo>
                      <a:pt x="665" y="294"/>
                    </a:lnTo>
                    <a:lnTo>
                      <a:pt x="659" y="304"/>
                    </a:lnTo>
                    <a:lnTo>
                      <a:pt x="651" y="314"/>
                    </a:lnTo>
                    <a:lnTo>
                      <a:pt x="643" y="323"/>
                    </a:lnTo>
                    <a:lnTo>
                      <a:pt x="634" y="331"/>
                    </a:lnTo>
                    <a:lnTo>
                      <a:pt x="625" y="338"/>
                    </a:lnTo>
                    <a:lnTo>
                      <a:pt x="614" y="346"/>
                    </a:lnTo>
                    <a:lnTo>
                      <a:pt x="603" y="351"/>
                    </a:lnTo>
                    <a:lnTo>
                      <a:pt x="591" y="356"/>
                    </a:lnTo>
                    <a:lnTo>
                      <a:pt x="577" y="359"/>
                    </a:lnTo>
                    <a:lnTo>
                      <a:pt x="564" y="360"/>
                    </a:lnTo>
                    <a:lnTo>
                      <a:pt x="549" y="360"/>
                    </a:lnTo>
                    <a:lnTo>
                      <a:pt x="535" y="359"/>
                    </a:lnTo>
                    <a:lnTo>
                      <a:pt x="519" y="356"/>
                    </a:lnTo>
                    <a:lnTo>
                      <a:pt x="467" y="344"/>
                    </a:lnTo>
                    <a:lnTo>
                      <a:pt x="415" y="331"/>
                    </a:lnTo>
                    <a:lnTo>
                      <a:pt x="363" y="318"/>
                    </a:lnTo>
                    <a:lnTo>
                      <a:pt x="311" y="305"/>
                    </a:lnTo>
                    <a:lnTo>
                      <a:pt x="259" y="293"/>
                    </a:lnTo>
                    <a:lnTo>
                      <a:pt x="207" y="280"/>
                    </a:lnTo>
                    <a:lnTo>
                      <a:pt x="155" y="268"/>
                    </a:lnTo>
                    <a:lnTo>
                      <a:pt x="102" y="256"/>
                    </a:lnTo>
                    <a:lnTo>
                      <a:pt x="87" y="251"/>
                    </a:lnTo>
                    <a:lnTo>
                      <a:pt x="74" y="246"/>
                    </a:lnTo>
                    <a:lnTo>
                      <a:pt x="60" y="240"/>
                    </a:lnTo>
                    <a:lnTo>
                      <a:pt x="49" y="231"/>
                    </a:lnTo>
                    <a:lnTo>
                      <a:pt x="40" y="223"/>
                    </a:lnTo>
                    <a:lnTo>
                      <a:pt x="30" y="214"/>
                    </a:lnTo>
                    <a:lnTo>
                      <a:pt x="22" y="204"/>
                    </a:lnTo>
                    <a:lnTo>
                      <a:pt x="16" y="194"/>
                    </a:lnTo>
                    <a:lnTo>
                      <a:pt x="11" y="183"/>
                    </a:lnTo>
                    <a:lnTo>
                      <a:pt x="7" y="172"/>
                    </a:lnTo>
                    <a:lnTo>
                      <a:pt x="3" y="160"/>
                    </a:lnTo>
                    <a:lnTo>
                      <a:pt x="1" y="148"/>
                    </a:lnTo>
                    <a:lnTo>
                      <a:pt x="0" y="136"/>
                    </a:lnTo>
                    <a:lnTo>
                      <a:pt x="1" y="123"/>
                    </a:lnTo>
                    <a:lnTo>
                      <a:pt x="2" y="112"/>
                    </a:lnTo>
                    <a:lnTo>
                      <a:pt x="5" y="100"/>
                    </a:lnTo>
                    <a:lnTo>
                      <a:pt x="9" y="88"/>
                    </a:lnTo>
                    <a:lnTo>
                      <a:pt x="13" y="77"/>
                    </a:lnTo>
                    <a:lnTo>
                      <a:pt x="18" y="66"/>
                    </a:lnTo>
                    <a:lnTo>
                      <a:pt x="24" y="56"/>
                    </a:lnTo>
                    <a:lnTo>
                      <a:pt x="31" y="46"/>
                    </a:lnTo>
                    <a:lnTo>
                      <a:pt x="40" y="37"/>
                    </a:lnTo>
                    <a:lnTo>
                      <a:pt x="48" y="29"/>
                    </a:lnTo>
                    <a:lnTo>
                      <a:pt x="58" y="22"/>
                    </a:lnTo>
                    <a:lnTo>
                      <a:pt x="68" y="14"/>
                    </a:lnTo>
                    <a:lnTo>
                      <a:pt x="80" y="9"/>
                    </a:lnTo>
                    <a:lnTo>
                      <a:pt x="92" y="5"/>
                    </a:lnTo>
                    <a:lnTo>
                      <a:pt x="104" y="2"/>
                    </a:lnTo>
                    <a:lnTo>
                      <a:pt x="119" y="0"/>
                    </a:lnTo>
                    <a:lnTo>
                      <a:pt x="133" y="0"/>
                    </a:lnTo>
                    <a:lnTo>
                      <a:pt x="148" y="1"/>
                    </a:lnTo>
                    <a:lnTo>
                      <a:pt x="16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733840" y="2527200"/>
                <a:ext cx="128520" cy="31680"/>
              </a:xfrm>
              <a:custGeom>
                <a:avLst/>
                <a:gdLst/>
                <a:ahLst/>
                <a:rect l="l" t="t" r="r" b="b"/>
                <a:pathLst>
                  <a:path w="2767" h="753">
                    <a:moveTo>
                      <a:pt x="2767" y="494"/>
                    </a:moveTo>
                    <a:lnTo>
                      <a:pt x="2715" y="753"/>
                    </a:lnTo>
                    <a:lnTo>
                      <a:pt x="0" y="0"/>
                    </a:lnTo>
                    <a:lnTo>
                      <a:pt x="2767" y="4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44640" y="2513160"/>
                <a:ext cx="119160" cy="28440"/>
              </a:xfrm>
              <a:custGeom>
                <a:avLst/>
                <a:gdLst/>
                <a:ahLst/>
                <a:rect l="l" t="t" r="r" b="b"/>
                <a:pathLst>
                  <a:path w="2575" h="693">
                    <a:moveTo>
                      <a:pt x="0" y="0"/>
                    </a:moveTo>
                    <a:lnTo>
                      <a:pt x="2575" y="448"/>
                    </a:lnTo>
                    <a:lnTo>
                      <a:pt x="2527" y="6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55800" y="2498760"/>
                <a:ext cx="111240" cy="25200"/>
              </a:xfrm>
              <a:custGeom>
                <a:avLst/>
                <a:gdLst/>
                <a:ahLst/>
                <a:rect l="l" t="t" r="r" b="b"/>
                <a:pathLst>
                  <a:path w="2381" h="631">
                    <a:moveTo>
                      <a:pt x="0" y="0"/>
                    </a:moveTo>
                    <a:lnTo>
                      <a:pt x="2381" y="400"/>
                    </a:lnTo>
                    <a:lnTo>
                      <a:pt x="2339" y="6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766960" y="2484360"/>
                <a:ext cx="101520" cy="23760"/>
              </a:xfrm>
              <a:custGeom>
                <a:avLst/>
                <a:gdLst/>
                <a:ahLst/>
                <a:rect l="l" t="t" r="r" b="b"/>
                <a:pathLst>
                  <a:path w="2187" h="570">
                    <a:moveTo>
                      <a:pt x="0" y="0"/>
                    </a:moveTo>
                    <a:lnTo>
                      <a:pt x="2187" y="351"/>
                    </a:lnTo>
                    <a:lnTo>
                      <a:pt x="2149" y="5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778120" y="2468520"/>
                <a:ext cx="92160" cy="22320"/>
              </a:xfrm>
              <a:custGeom>
                <a:avLst/>
                <a:gdLst/>
                <a:ahLst/>
                <a:rect l="l" t="t" r="r" b="b"/>
                <a:pathLst>
                  <a:path w="1995" h="510">
                    <a:moveTo>
                      <a:pt x="0" y="0"/>
                    </a:moveTo>
                    <a:lnTo>
                      <a:pt x="1995" y="304"/>
                    </a:lnTo>
                    <a:lnTo>
                      <a:pt x="1962" y="5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89280" y="245412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1800" h="448">
                    <a:moveTo>
                      <a:pt x="0" y="0"/>
                    </a:moveTo>
                    <a:lnTo>
                      <a:pt x="1800" y="255"/>
                    </a:lnTo>
                    <a:lnTo>
                      <a:pt x="1772" y="4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800440" y="2440080"/>
                <a:ext cx="74520" cy="17280"/>
              </a:xfrm>
              <a:custGeom>
                <a:avLst/>
                <a:gdLst/>
                <a:ahLst/>
                <a:rect l="l" t="t" r="r" b="b"/>
                <a:pathLst>
                  <a:path w="1607" h="388">
                    <a:moveTo>
                      <a:pt x="0" y="0"/>
                    </a:moveTo>
                    <a:lnTo>
                      <a:pt x="1607" y="208"/>
                    </a:lnTo>
                    <a:lnTo>
                      <a:pt x="1583" y="3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811600" y="2425680"/>
                <a:ext cx="66600" cy="14400"/>
              </a:xfrm>
              <a:custGeom>
                <a:avLst/>
                <a:gdLst/>
                <a:ahLst/>
                <a:rect l="l" t="t" r="r" b="b"/>
                <a:pathLst>
                  <a:path w="1414" h="327">
                    <a:moveTo>
                      <a:pt x="0" y="0"/>
                    </a:moveTo>
                    <a:lnTo>
                      <a:pt x="1414" y="161"/>
                    </a:lnTo>
                    <a:lnTo>
                      <a:pt x="1395" y="3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822400" y="241128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1221" h="265">
                    <a:moveTo>
                      <a:pt x="0" y="0"/>
                    </a:moveTo>
                    <a:lnTo>
                      <a:pt x="1221" y="112"/>
                    </a:lnTo>
                    <a:lnTo>
                      <a:pt x="1207" y="2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33560" y="2397240"/>
                <a:ext cx="47880" cy="7920"/>
              </a:xfrm>
              <a:custGeom>
                <a:avLst/>
                <a:gdLst/>
                <a:ahLst/>
                <a:rect l="l" t="t" r="r" b="b"/>
                <a:pathLst>
                  <a:path w="1027" h="205">
                    <a:moveTo>
                      <a:pt x="0" y="0"/>
                    </a:moveTo>
                    <a:lnTo>
                      <a:pt x="1027" y="64"/>
                    </a:lnTo>
                    <a:lnTo>
                      <a:pt x="1017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844720" y="2382840"/>
                <a:ext cx="39600" cy="6480"/>
              </a:xfrm>
              <a:custGeom>
                <a:avLst/>
                <a:gdLst/>
                <a:ahLst/>
                <a:rect l="l" t="t" r="r" b="b"/>
                <a:pathLst>
                  <a:path w="834" h="144">
                    <a:moveTo>
                      <a:pt x="0" y="0"/>
                    </a:moveTo>
                    <a:lnTo>
                      <a:pt x="834" y="17"/>
                    </a:lnTo>
                    <a:lnTo>
                      <a:pt x="829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855880" y="2367000"/>
                <a:ext cx="30240" cy="4680"/>
              </a:xfrm>
              <a:custGeom>
                <a:avLst/>
                <a:gdLst/>
                <a:ahLst/>
                <a:rect l="l" t="t" r="r" b="b"/>
                <a:pathLst>
                  <a:path w="641" h="114">
                    <a:moveTo>
                      <a:pt x="641" y="0"/>
                    </a:moveTo>
                    <a:lnTo>
                      <a:pt x="641" y="114"/>
                    </a:lnTo>
                    <a:lnTo>
                      <a:pt x="0" y="31"/>
                    </a:lnTo>
                    <a:lnTo>
                      <a:pt x="6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2889360" y="2530440"/>
              <a:ext cx="780840" cy="330120"/>
              <a:chOff x="2889360" y="2530440"/>
              <a:chExt cx="780840" cy="330120"/>
            </a:xfrm>
          </p:grpSpPr>
          <p:sp>
            <p:nvSpPr>
              <p:cNvPr id="472" name=""/>
              <p:cNvSpPr/>
              <p:nvPr/>
            </p:nvSpPr>
            <p:spPr>
              <a:xfrm>
                <a:off x="2933640" y="2576520"/>
                <a:ext cx="690480" cy="239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889360" y="2530440"/>
                <a:ext cx="90360" cy="76320"/>
              </a:xfrm>
              <a:custGeom>
                <a:avLst/>
                <a:gdLst/>
                <a:ahLst/>
                <a:rect l="l" t="t" r="r" b="b"/>
                <a:pathLst>
                  <a:path w="57" h="48">
                    <a:moveTo>
                      <a:pt x="57" y="0"/>
                    </a:moveTo>
                    <a:lnTo>
                      <a:pt x="0" y="10"/>
                    </a:lnTo>
                    <a:lnTo>
                      <a:pt x="38" y="4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79840" y="2786040"/>
                <a:ext cx="90360" cy="74520"/>
              </a:xfrm>
              <a:custGeom>
                <a:avLst/>
                <a:gdLst/>
                <a:ahLst/>
                <a:rect l="l" t="t" r="r" b="b"/>
                <a:pathLst>
                  <a:path w="57" h="47">
                    <a:moveTo>
                      <a:pt x="0" y="47"/>
                    </a:moveTo>
                    <a:lnTo>
                      <a:pt x="57" y="38"/>
                    </a:lnTo>
                    <a:lnTo>
                      <a:pt x="19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033640" y="1630440"/>
              <a:ext cx="109548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46680" y="1676520"/>
              <a:ext cx="50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826160" y="2876400"/>
            <a:ext cx="85536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44680" y="2935440"/>
            <a:ext cx="486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FC 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14840" y="2665440"/>
            <a:ext cx="2266920" cy="11858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8880" y="3048120"/>
            <a:ext cx="93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ettop Box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196520" y="3273480"/>
            <a:ext cx="130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ome Gateway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13280" y="3486240"/>
            <a:ext cx="183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AN 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220920"/>
            <a:ext cx="2101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81760" y="3281400"/>
            <a:ext cx="2101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445000" y="4002120"/>
            <a:ext cx="849600" cy="552240"/>
            <a:chOff x="5445000" y="4002120"/>
            <a:chExt cx="849600" cy="552240"/>
          </a:xfrm>
        </p:grpSpPr>
        <p:sp>
          <p:nvSpPr>
            <p:cNvPr id="486" name=""/>
            <p:cNvSpPr/>
            <p:nvPr/>
          </p:nvSpPr>
          <p:spPr>
            <a:xfrm>
              <a:off x="5445000" y="4295880"/>
              <a:ext cx="507960" cy="25848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45000" y="4295880"/>
              <a:ext cx="505080" cy="255600"/>
            </a:xfrm>
            <a:prstGeom prst="rect">
              <a:avLst/>
            </a:prstGeom>
            <a:solidFill>
              <a:srgbClr val="b7b79d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45000" y="4133880"/>
              <a:ext cx="631800" cy="162000"/>
            </a:xfrm>
            <a:custGeom>
              <a:avLst/>
              <a:gdLst/>
              <a:ahLst/>
              <a:rect l="l" t="t" r="r" b="b"/>
              <a:pathLst>
                <a:path w="1993" h="411">
                  <a:moveTo>
                    <a:pt x="0" y="411"/>
                  </a:moveTo>
                  <a:lnTo>
                    <a:pt x="401" y="0"/>
                  </a:lnTo>
                  <a:lnTo>
                    <a:pt x="1993" y="0"/>
                  </a:lnTo>
                  <a:lnTo>
                    <a:pt x="1599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45000" y="4133880"/>
              <a:ext cx="631800" cy="162000"/>
            </a:xfrm>
            <a:custGeom>
              <a:avLst/>
              <a:gdLst/>
              <a:ahLst/>
              <a:rect l="l" t="t" r="r" b="b"/>
              <a:pathLst>
                <a:path w="1993" h="411">
                  <a:moveTo>
                    <a:pt x="0" y="411"/>
                  </a:moveTo>
                  <a:lnTo>
                    <a:pt x="401" y="0"/>
                  </a:lnTo>
                  <a:lnTo>
                    <a:pt x="1993" y="0"/>
                  </a:lnTo>
                  <a:lnTo>
                    <a:pt x="1599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52960" y="4133880"/>
              <a:ext cx="123840" cy="420480"/>
            </a:xfrm>
            <a:custGeom>
              <a:avLst/>
              <a:gdLst/>
              <a:ahLst/>
              <a:rect l="l" t="t" r="r" b="b"/>
              <a:pathLst>
                <a:path w="394" h="1061">
                  <a:moveTo>
                    <a:pt x="0" y="1061"/>
                  </a:moveTo>
                  <a:lnTo>
                    <a:pt x="394" y="643"/>
                  </a:lnTo>
                  <a:lnTo>
                    <a:pt x="394" y="0"/>
                  </a:lnTo>
                  <a:lnTo>
                    <a:pt x="0" y="411"/>
                  </a:lnTo>
                  <a:lnTo>
                    <a:pt x="0" y="106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52960" y="4133880"/>
              <a:ext cx="123840" cy="420480"/>
            </a:xfrm>
            <a:custGeom>
              <a:avLst/>
              <a:gdLst/>
              <a:ahLst/>
              <a:rect l="l" t="t" r="r" b="b"/>
              <a:pathLst>
                <a:path w="394" h="1061">
                  <a:moveTo>
                    <a:pt x="0" y="1061"/>
                  </a:moveTo>
                  <a:lnTo>
                    <a:pt x="394" y="643"/>
                  </a:lnTo>
                  <a:lnTo>
                    <a:pt x="394" y="0"/>
                  </a:lnTo>
                  <a:lnTo>
                    <a:pt x="0" y="411"/>
                  </a:lnTo>
                  <a:lnTo>
                    <a:pt x="0" y="106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84920" y="4160880"/>
              <a:ext cx="31680" cy="2844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0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3"/>
                  </a:lnTo>
                  <a:lnTo>
                    <a:pt x="26" y="53"/>
                  </a:lnTo>
                  <a:lnTo>
                    <a:pt x="77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84920" y="4160880"/>
              <a:ext cx="31680" cy="2844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0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3"/>
                  </a:lnTo>
                  <a:lnTo>
                    <a:pt x="26" y="53"/>
                  </a:lnTo>
                  <a:lnTo>
                    <a:pt x="77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19840" y="4160880"/>
              <a:ext cx="33120" cy="2844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0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3"/>
                  </a:lnTo>
                  <a:lnTo>
                    <a:pt x="26" y="53"/>
                  </a:lnTo>
                  <a:lnTo>
                    <a:pt x="77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19840" y="4160880"/>
              <a:ext cx="33120" cy="2844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0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3"/>
                  </a:lnTo>
                  <a:lnTo>
                    <a:pt x="26" y="53"/>
                  </a:lnTo>
                  <a:lnTo>
                    <a:pt x="77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54760" y="4160880"/>
              <a:ext cx="33120" cy="28440"/>
            </a:xfrm>
            <a:custGeom>
              <a:avLst/>
              <a:gdLst/>
              <a:ahLst/>
              <a:rect l="l" t="t" r="r" b="b"/>
              <a:pathLst>
                <a:path w="102" h="71">
                  <a:moveTo>
                    <a:pt x="59" y="0"/>
                  </a:moveTo>
                  <a:lnTo>
                    <a:pt x="0" y="71"/>
                  </a:lnTo>
                  <a:lnTo>
                    <a:pt x="102" y="71"/>
                  </a:lnTo>
                  <a:lnTo>
                    <a:pt x="102" y="53"/>
                  </a:lnTo>
                  <a:lnTo>
                    <a:pt x="25" y="53"/>
                  </a:lnTo>
                  <a:lnTo>
                    <a:pt x="77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54760" y="4160880"/>
              <a:ext cx="33120" cy="28440"/>
            </a:xfrm>
            <a:custGeom>
              <a:avLst/>
              <a:gdLst/>
              <a:ahLst/>
              <a:rect l="l" t="t" r="r" b="b"/>
              <a:pathLst>
                <a:path w="102" h="71">
                  <a:moveTo>
                    <a:pt x="59" y="0"/>
                  </a:moveTo>
                  <a:lnTo>
                    <a:pt x="0" y="71"/>
                  </a:lnTo>
                  <a:lnTo>
                    <a:pt x="102" y="71"/>
                  </a:lnTo>
                  <a:lnTo>
                    <a:pt x="102" y="53"/>
                  </a:lnTo>
                  <a:lnTo>
                    <a:pt x="25" y="53"/>
                  </a:lnTo>
                  <a:lnTo>
                    <a:pt x="77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991120" y="4160880"/>
              <a:ext cx="31680" cy="2844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0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3"/>
                  </a:lnTo>
                  <a:lnTo>
                    <a:pt x="26" y="53"/>
                  </a:lnTo>
                  <a:lnTo>
                    <a:pt x="77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91120" y="4160880"/>
              <a:ext cx="31680" cy="2844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0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3"/>
                  </a:lnTo>
                  <a:lnTo>
                    <a:pt x="26" y="53"/>
                  </a:lnTo>
                  <a:lnTo>
                    <a:pt x="77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54680" y="4200480"/>
              <a:ext cx="33480" cy="288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8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3"/>
                  </a:lnTo>
                  <a:lnTo>
                    <a:pt x="34" y="53"/>
                  </a:lnTo>
                  <a:lnTo>
                    <a:pt x="77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54680" y="4200480"/>
              <a:ext cx="33480" cy="288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8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3"/>
                  </a:lnTo>
                  <a:lnTo>
                    <a:pt x="34" y="53"/>
                  </a:lnTo>
                  <a:lnTo>
                    <a:pt x="77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89600" y="4200480"/>
              <a:ext cx="33480" cy="288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9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3"/>
                  </a:lnTo>
                  <a:lnTo>
                    <a:pt x="34" y="53"/>
                  </a:lnTo>
                  <a:lnTo>
                    <a:pt x="77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89600" y="4200480"/>
              <a:ext cx="33480" cy="288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9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3"/>
                  </a:lnTo>
                  <a:lnTo>
                    <a:pt x="34" y="53"/>
                  </a:lnTo>
                  <a:lnTo>
                    <a:pt x="77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24520" y="4200480"/>
              <a:ext cx="33480" cy="288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9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3"/>
                  </a:lnTo>
                  <a:lnTo>
                    <a:pt x="35" y="53"/>
                  </a:lnTo>
                  <a:lnTo>
                    <a:pt x="77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24520" y="4200480"/>
              <a:ext cx="33480" cy="288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9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3"/>
                  </a:lnTo>
                  <a:lnTo>
                    <a:pt x="35" y="53"/>
                  </a:lnTo>
                  <a:lnTo>
                    <a:pt x="77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961240" y="4200480"/>
              <a:ext cx="31680" cy="28800"/>
            </a:xfrm>
            <a:custGeom>
              <a:avLst/>
              <a:gdLst/>
              <a:ahLst/>
              <a:rect l="l" t="t" r="r" b="b"/>
              <a:pathLst>
                <a:path w="102" h="71">
                  <a:moveTo>
                    <a:pt x="68" y="0"/>
                  </a:moveTo>
                  <a:lnTo>
                    <a:pt x="0" y="71"/>
                  </a:lnTo>
                  <a:lnTo>
                    <a:pt x="102" y="71"/>
                  </a:lnTo>
                  <a:lnTo>
                    <a:pt x="102" y="53"/>
                  </a:lnTo>
                  <a:lnTo>
                    <a:pt x="34" y="53"/>
                  </a:lnTo>
                  <a:lnTo>
                    <a:pt x="77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61240" y="4200480"/>
              <a:ext cx="31680" cy="28800"/>
            </a:xfrm>
            <a:custGeom>
              <a:avLst/>
              <a:gdLst/>
              <a:ahLst/>
              <a:rect l="l" t="t" r="r" b="b"/>
              <a:pathLst>
                <a:path w="102" h="71">
                  <a:moveTo>
                    <a:pt x="68" y="0"/>
                  </a:moveTo>
                  <a:lnTo>
                    <a:pt x="0" y="71"/>
                  </a:lnTo>
                  <a:lnTo>
                    <a:pt x="102" y="71"/>
                  </a:lnTo>
                  <a:lnTo>
                    <a:pt x="102" y="53"/>
                  </a:lnTo>
                  <a:lnTo>
                    <a:pt x="34" y="53"/>
                  </a:lnTo>
                  <a:lnTo>
                    <a:pt x="77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27680" y="4235400"/>
              <a:ext cx="31680" cy="288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0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4"/>
                  </a:lnTo>
                  <a:lnTo>
                    <a:pt x="26" y="54"/>
                  </a:lnTo>
                  <a:lnTo>
                    <a:pt x="77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27680" y="4235400"/>
              <a:ext cx="31680" cy="288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0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4"/>
                  </a:lnTo>
                  <a:lnTo>
                    <a:pt x="26" y="54"/>
                  </a:lnTo>
                  <a:lnTo>
                    <a:pt x="77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62600" y="4235400"/>
              <a:ext cx="33480" cy="28800"/>
            </a:xfrm>
            <a:custGeom>
              <a:avLst/>
              <a:gdLst/>
              <a:ahLst/>
              <a:rect l="l" t="t" r="r" b="b"/>
              <a:pathLst>
                <a:path w="102" h="71">
                  <a:moveTo>
                    <a:pt x="59" y="0"/>
                  </a:moveTo>
                  <a:lnTo>
                    <a:pt x="0" y="71"/>
                  </a:lnTo>
                  <a:lnTo>
                    <a:pt x="102" y="71"/>
                  </a:lnTo>
                  <a:lnTo>
                    <a:pt x="102" y="54"/>
                  </a:lnTo>
                  <a:lnTo>
                    <a:pt x="25" y="54"/>
                  </a:lnTo>
                  <a:lnTo>
                    <a:pt x="77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62600" y="4235400"/>
              <a:ext cx="33480" cy="28800"/>
            </a:xfrm>
            <a:custGeom>
              <a:avLst/>
              <a:gdLst/>
              <a:ahLst/>
              <a:rect l="l" t="t" r="r" b="b"/>
              <a:pathLst>
                <a:path w="102" h="71">
                  <a:moveTo>
                    <a:pt x="59" y="0"/>
                  </a:moveTo>
                  <a:lnTo>
                    <a:pt x="0" y="71"/>
                  </a:lnTo>
                  <a:lnTo>
                    <a:pt x="102" y="71"/>
                  </a:lnTo>
                  <a:lnTo>
                    <a:pt x="102" y="54"/>
                  </a:lnTo>
                  <a:lnTo>
                    <a:pt x="25" y="54"/>
                  </a:lnTo>
                  <a:lnTo>
                    <a:pt x="77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97520" y="4235400"/>
              <a:ext cx="33480" cy="288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0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4"/>
                  </a:lnTo>
                  <a:lnTo>
                    <a:pt x="26" y="54"/>
                  </a:lnTo>
                  <a:lnTo>
                    <a:pt x="77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97520" y="4235400"/>
              <a:ext cx="33480" cy="288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0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4"/>
                  </a:lnTo>
                  <a:lnTo>
                    <a:pt x="26" y="54"/>
                  </a:lnTo>
                  <a:lnTo>
                    <a:pt x="77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34240" y="4235400"/>
              <a:ext cx="31680" cy="288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0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4"/>
                  </a:lnTo>
                  <a:lnTo>
                    <a:pt x="26" y="54"/>
                  </a:lnTo>
                  <a:lnTo>
                    <a:pt x="77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34240" y="4235400"/>
              <a:ext cx="31680" cy="288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60" y="0"/>
                  </a:moveTo>
                  <a:lnTo>
                    <a:pt x="0" y="71"/>
                  </a:lnTo>
                  <a:lnTo>
                    <a:pt x="103" y="71"/>
                  </a:lnTo>
                  <a:lnTo>
                    <a:pt x="103" y="54"/>
                  </a:lnTo>
                  <a:lnTo>
                    <a:pt x="26" y="54"/>
                  </a:lnTo>
                  <a:lnTo>
                    <a:pt x="77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9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10320" y="4151160"/>
              <a:ext cx="171360" cy="115920"/>
            </a:xfrm>
            <a:custGeom>
              <a:avLst/>
              <a:gdLst/>
              <a:ahLst/>
              <a:rect l="l" t="t" r="r" b="b"/>
              <a:pathLst>
                <a:path w="539" h="294">
                  <a:moveTo>
                    <a:pt x="0" y="294"/>
                  </a:moveTo>
                  <a:lnTo>
                    <a:pt x="283" y="0"/>
                  </a:lnTo>
                  <a:lnTo>
                    <a:pt x="539" y="0"/>
                  </a:lnTo>
                  <a:lnTo>
                    <a:pt x="257" y="294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10320" y="4151160"/>
              <a:ext cx="171360" cy="115920"/>
            </a:xfrm>
            <a:custGeom>
              <a:avLst/>
              <a:gdLst/>
              <a:ahLst/>
              <a:rect l="l" t="t" r="r" b="b"/>
              <a:pathLst>
                <a:path w="539" h="294">
                  <a:moveTo>
                    <a:pt x="0" y="294"/>
                  </a:moveTo>
                  <a:lnTo>
                    <a:pt x="283" y="0"/>
                  </a:lnTo>
                  <a:lnTo>
                    <a:pt x="539" y="0"/>
                  </a:lnTo>
                  <a:lnTo>
                    <a:pt x="257" y="294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06920" y="4114800"/>
              <a:ext cx="141480" cy="128520"/>
            </a:xfrm>
            <a:custGeom>
              <a:avLst/>
              <a:gdLst/>
              <a:ahLst/>
              <a:rect l="l" t="t" r="r" b="b"/>
              <a:pathLst>
                <a:path w="444" h="321">
                  <a:moveTo>
                    <a:pt x="0" y="321"/>
                  </a:moveTo>
                  <a:lnTo>
                    <a:pt x="69" y="223"/>
                  </a:lnTo>
                  <a:lnTo>
                    <a:pt x="179" y="98"/>
                  </a:lnTo>
                  <a:lnTo>
                    <a:pt x="239" y="35"/>
                  </a:lnTo>
                  <a:lnTo>
                    <a:pt x="299" y="0"/>
                  </a:lnTo>
                  <a:lnTo>
                    <a:pt x="444" y="0"/>
                  </a:lnTo>
                  <a:lnTo>
                    <a:pt x="307" y="107"/>
                  </a:lnTo>
                  <a:lnTo>
                    <a:pt x="179" y="232"/>
                  </a:lnTo>
                  <a:lnTo>
                    <a:pt x="136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dbd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06920" y="4114800"/>
              <a:ext cx="141480" cy="128520"/>
            </a:xfrm>
            <a:custGeom>
              <a:avLst/>
              <a:gdLst/>
              <a:ahLst/>
              <a:rect l="l" t="t" r="r" b="b"/>
              <a:pathLst>
                <a:path w="444" h="321">
                  <a:moveTo>
                    <a:pt x="0" y="321"/>
                  </a:moveTo>
                  <a:lnTo>
                    <a:pt x="69" y="223"/>
                  </a:lnTo>
                  <a:lnTo>
                    <a:pt x="179" y="98"/>
                  </a:lnTo>
                  <a:lnTo>
                    <a:pt x="239" y="35"/>
                  </a:lnTo>
                  <a:lnTo>
                    <a:pt x="299" y="0"/>
                  </a:lnTo>
                  <a:lnTo>
                    <a:pt x="444" y="0"/>
                  </a:lnTo>
                  <a:lnTo>
                    <a:pt x="307" y="107"/>
                  </a:lnTo>
                  <a:lnTo>
                    <a:pt x="179" y="232"/>
                  </a:lnTo>
                  <a:lnTo>
                    <a:pt x="136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dbdbce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506920" y="4243320"/>
              <a:ext cx="42840" cy="3816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08720" y="4245120"/>
              <a:ext cx="39600" cy="34920"/>
            </a:xfrm>
            <a:prstGeom prst="rect">
              <a:avLst/>
            </a:prstGeom>
            <a:solidFill>
              <a:srgbClr val="b7b79d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49760" y="4114800"/>
              <a:ext cx="98640" cy="166680"/>
            </a:xfrm>
            <a:custGeom>
              <a:avLst/>
              <a:gdLst/>
              <a:ahLst/>
              <a:rect l="l" t="t" r="r" b="b"/>
              <a:pathLst>
                <a:path w="308" h="419">
                  <a:moveTo>
                    <a:pt x="308" y="0"/>
                  </a:moveTo>
                  <a:lnTo>
                    <a:pt x="308" y="80"/>
                  </a:lnTo>
                  <a:lnTo>
                    <a:pt x="266" y="160"/>
                  </a:lnTo>
                  <a:lnTo>
                    <a:pt x="248" y="142"/>
                  </a:lnTo>
                  <a:lnTo>
                    <a:pt x="214" y="133"/>
                  </a:lnTo>
                  <a:lnTo>
                    <a:pt x="146" y="187"/>
                  </a:lnTo>
                  <a:lnTo>
                    <a:pt x="94" y="249"/>
                  </a:lnTo>
                  <a:lnTo>
                    <a:pt x="69" y="285"/>
                  </a:lnTo>
                  <a:lnTo>
                    <a:pt x="69" y="348"/>
                  </a:lnTo>
                  <a:lnTo>
                    <a:pt x="0" y="419"/>
                  </a:lnTo>
                  <a:lnTo>
                    <a:pt x="0" y="321"/>
                  </a:lnTo>
                  <a:lnTo>
                    <a:pt x="43" y="232"/>
                  </a:lnTo>
                  <a:lnTo>
                    <a:pt x="171" y="10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49760" y="4114800"/>
              <a:ext cx="98640" cy="166680"/>
            </a:xfrm>
            <a:custGeom>
              <a:avLst/>
              <a:gdLst/>
              <a:ahLst/>
              <a:rect l="l" t="t" r="r" b="b"/>
              <a:pathLst>
                <a:path w="308" h="419">
                  <a:moveTo>
                    <a:pt x="308" y="0"/>
                  </a:moveTo>
                  <a:lnTo>
                    <a:pt x="308" y="80"/>
                  </a:lnTo>
                  <a:lnTo>
                    <a:pt x="266" y="160"/>
                  </a:lnTo>
                  <a:lnTo>
                    <a:pt x="248" y="142"/>
                  </a:lnTo>
                  <a:lnTo>
                    <a:pt x="214" y="133"/>
                  </a:lnTo>
                  <a:lnTo>
                    <a:pt x="146" y="187"/>
                  </a:lnTo>
                  <a:lnTo>
                    <a:pt x="94" y="249"/>
                  </a:lnTo>
                  <a:lnTo>
                    <a:pt x="69" y="285"/>
                  </a:lnTo>
                  <a:lnTo>
                    <a:pt x="69" y="348"/>
                  </a:lnTo>
                  <a:lnTo>
                    <a:pt x="0" y="419"/>
                  </a:lnTo>
                  <a:lnTo>
                    <a:pt x="0" y="321"/>
                  </a:lnTo>
                  <a:lnTo>
                    <a:pt x="43" y="232"/>
                  </a:lnTo>
                  <a:lnTo>
                    <a:pt x="171" y="10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52960" y="4160880"/>
              <a:ext cx="341640" cy="258840"/>
            </a:xfrm>
            <a:custGeom>
              <a:avLst/>
              <a:gdLst/>
              <a:ahLst/>
              <a:rect l="l" t="t" r="r" b="b"/>
              <a:pathLst>
                <a:path w="1078" h="650">
                  <a:moveTo>
                    <a:pt x="0" y="650"/>
                  </a:moveTo>
                  <a:lnTo>
                    <a:pt x="394" y="241"/>
                  </a:lnTo>
                  <a:lnTo>
                    <a:pt x="1078" y="0"/>
                  </a:lnTo>
                  <a:lnTo>
                    <a:pt x="710" y="374"/>
                  </a:lnTo>
                  <a:lnTo>
                    <a:pt x="0" y="65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52960" y="4160880"/>
              <a:ext cx="341640" cy="258840"/>
            </a:xfrm>
            <a:custGeom>
              <a:avLst/>
              <a:gdLst/>
              <a:ahLst/>
              <a:rect l="l" t="t" r="r" b="b"/>
              <a:pathLst>
                <a:path w="1078" h="650">
                  <a:moveTo>
                    <a:pt x="0" y="650"/>
                  </a:moveTo>
                  <a:lnTo>
                    <a:pt x="394" y="241"/>
                  </a:lnTo>
                  <a:lnTo>
                    <a:pt x="1078" y="0"/>
                  </a:lnTo>
                  <a:lnTo>
                    <a:pt x="710" y="374"/>
                  </a:lnTo>
                  <a:lnTo>
                    <a:pt x="0" y="65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52960" y="4309920"/>
              <a:ext cx="225720" cy="130320"/>
            </a:xfrm>
            <a:custGeom>
              <a:avLst/>
              <a:gdLst/>
              <a:ahLst/>
              <a:rect l="l" t="t" r="r" b="b"/>
              <a:pathLst>
                <a:path w="710" h="329">
                  <a:moveTo>
                    <a:pt x="0" y="276"/>
                  </a:moveTo>
                  <a:lnTo>
                    <a:pt x="0" y="329"/>
                  </a:lnTo>
                  <a:lnTo>
                    <a:pt x="710" y="54"/>
                  </a:lnTo>
                  <a:lnTo>
                    <a:pt x="710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52960" y="4309920"/>
              <a:ext cx="225720" cy="130320"/>
            </a:xfrm>
            <a:custGeom>
              <a:avLst/>
              <a:gdLst/>
              <a:ahLst/>
              <a:rect l="l" t="t" r="r" b="b"/>
              <a:pathLst>
                <a:path w="710" h="329">
                  <a:moveTo>
                    <a:pt x="0" y="276"/>
                  </a:moveTo>
                  <a:lnTo>
                    <a:pt x="0" y="329"/>
                  </a:lnTo>
                  <a:lnTo>
                    <a:pt x="710" y="54"/>
                  </a:lnTo>
                  <a:lnTo>
                    <a:pt x="710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93936c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78680" y="4160880"/>
              <a:ext cx="115920" cy="169920"/>
            </a:xfrm>
            <a:custGeom>
              <a:avLst/>
              <a:gdLst/>
              <a:ahLst/>
              <a:rect l="l" t="t" r="r" b="b"/>
              <a:pathLst>
                <a:path w="368" h="428">
                  <a:moveTo>
                    <a:pt x="368" y="0"/>
                  </a:moveTo>
                  <a:lnTo>
                    <a:pt x="368" y="44"/>
                  </a:lnTo>
                  <a:lnTo>
                    <a:pt x="0" y="428"/>
                  </a:lnTo>
                  <a:lnTo>
                    <a:pt x="0" y="374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626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78680" y="4160880"/>
              <a:ext cx="115920" cy="169920"/>
            </a:xfrm>
            <a:custGeom>
              <a:avLst/>
              <a:gdLst/>
              <a:ahLst/>
              <a:rect l="l" t="t" r="r" b="b"/>
              <a:pathLst>
                <a:path w="368" h="428">
                  <a:moveTo>
                    <a:pt x="368" y="0"/>
                  </a:moveTo>
                  <a:lnTo>
                    <a:pt x="368" y="44"/>
                  </a:lnTo>
                  <a:lnTo>
                    <a:pt x="0" y="428"/>
                  </a:lnTo>
                  <a:lnTo>
                    <a:pt x="0" y="374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626248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14920" y="4002120"/>
              <a:ext cx="182520" cy="293760"/>
            </a:xfrm>
            <a:custGeom>
              <a:avLst/>
              <a:gdLst/>
              <a:ahLst/>
              <a:rect l="l" t="t" r="r" b="b"/>
              <a:pathLst>
                <a:path w="573" h="741">
                  <a:moveTo>
                    <a:pt x="171" y="741"/>
                  </a:moveTo>
                  <a:lnTo>
                    <a:pt x="573" y="330"/>
                  </a:lnTo>
                  <a:lnTo>
                    <a:pt x="393" y="0"/>
                  </a:lnTo>
                  <a:lnTo>
                    <a:pt x="0" y="419"/>
                  </a:lnTo>
                  <a:lnTo>
                    <a:pt x="171" y="741"/>
                  </a:lnTo>
                  <a:close/>
                </a:path>
              </a:pathLst>
            </a:custGeom>
            <a:solidFill>
              <a:srgbClr val="626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14920" y="4002120"/>
              <a:ext cx="182520" cy="293760"/>
            </a:xfrm>
            <a:custGeom>
              <a:avLst/>
              <a:gdLst/>
              <a:ahLst/>
              <a:rect l="l" t="t" r="r" b="b"/>
              <a:pathLst>
                <a:path w="573" h="741">
                  <a:moveTo>
                    <a:pt x="171" y="741"/>
                  </a:moveTo>
                  <a:lnTo>
                    <a:pt x="573" y="330"/>
                  </a:lnTo>
                  <a:lnTo>
                    <a:pt x="393" y="0"/>
                  </a:lnTo>
                  <a:lnTo>
                    <a:pt x="0" y="419"/>
                  </a:lnTo>
                  <a:lnTo>
                    <a:pt x="171" y="741"/>
                  </a:lnTo>
                  <a:close/>
                </a:path>
              </a:pathLst>
            </a:custGeom>
            <a:solidFill>
              <a:srgbClr val="626248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40480" y="4137120"/>
              <a:ext cx="56880" cy="129960"/>
            </a:xfrm>
            <a:prstGeom prst="line">
              <a:avLst/>
            </a:prstGeom>
            <a:ln w="4680">
              <a:solidFill>
                <a:srgbClr val="b7b7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64240" y="4105440"/>
              <a:ext cx="57240" cy="126720"/>
            </a:xfrm>
            <a:prstGeom prst="line">
              <a:avLst/>
            </a:prstGeom>
            <a:ln w="4680">
              <a:solidFill>
                <a:srgbClr val="b7b7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91240" y="4068720"/>
              <a:ext cx="57240" cy="131760"/>
            </a:xfrm>
            <a:prstGeom prst="line">
              <a:avLst/>
            </a:prstGeom>
            <a:ln w="4680">
              <a:solidFill>
                <a:srgbClr val="b7b7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716440" y="4037040"/>
              <a:ext cx="59040" cy="131760"/>
            </a:xfrm>
            <a:prstGeom prst="line">
              <a:avLst/>
            </a:prstGeom>
            <a:ln w="4680">
              <a:solidFill>
                <a:srgbClr val="b7b7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14920" y="4002120"/>
              <a:ext cx="182520" cy="293760"/>
            </a:xfrm>
            <a:custGeom>
              <a:avLst/>
              <a:gdLst/>
              <a:ahLst/>
              <a:rect l="l" t="t" r="r" b="b"/>
              <a:pathLst>
                <a:path w="573" h="741">
                  <a:moveTo>
                    <a:pt x="171" y="741"/>
                  </a:moveTo>
                  <a:lnTo>
                    <a:pt x="573" y="330"/>
                  </a:lnTo>
                  <a:lnTo>
                    <a:pt x="393" y="0"/>
                  </a:lnTo>
                  <a:lnTo>
                    <a:pt x="0" y="419"/>
                  </a:lnTo>
                  <a:lnTo>
                    <a:pt x="171" y="741"/>
                  </a:lnTo>
                  <a:close/>
                </a:path>
              </a:pathLst>
            </a:custGeom>
            <a:noFill/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10240" y="4168800"/>
              <a:ext cx="60480" cy="127080"/>
            </a:xfrm>
            <a:custGeom>
              <a:avLst/>
              <a:gdLst/>
              <a:ahLst/>
              <a:rect l="l" t="t" r="r" b="b"/>
              <a:pathLst>
                <a:path w="188" h="322">
                  <a:moveTo>
                    <a:pt x="188" y="322"/>
                  </a:moveTo>
                  <a:lnTo>
                    <a:pt x="162" y="313"/>
                  </a:lnTo>
                  <a:lnTo>
                    <a:pt x="0" y="27"/>
                  </a:lnTo>
                  <a:lnTo>
                    <a:pt x="17" y="0"/>
                  </a:lnTo>
                  <a:lnTo>
                    <a:pt x="188" y="322"/>
                  </a:lnTo>
                  <a:close/>
                </a:path>
              </a:pathLst>
            </a:cu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610240" y="4168800"/>
              <a:ext cx="60480" cy="127080"/>
            </a:xfrm>
            <a:custGeom>
              <a:avLst/>
              <a:gdLst/>
              <a:ahLst/>
              <a:rect l="l" t="t" r="r" b="b"/>
              <a:pathLst>
                <a:path w="188" h="322">
                  <a:moveTo>
                    <a:pt x="188" y="322"/>
                  </a:moveTo>
                  <a:lnTo>
                    <a:pt x="162" y="313"/>
                  </a:lnTo>
                  <a:lnTo>
                    <a:pt x="0" y="27"/>
                  </a:lnTo>
                  <a:lnTo>
                    <a:pt x="17" y="0"/>
                  </a:lnTo>
                  <a:lnTo>
                    <a:pt x="188" y="322"/>
                  </a:lnTo>
                  <a:close/>
                </a:path>
              </a:pathLst>
            </a:custGeom>
            <a:solidFill>
              <a:srgbClr val="a5a585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4195800" y="3851280"/>
            <a:ext cx="1440" cy="345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005440" y="3851280"/>
            <a:ext cx="1440" cy="345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51640" y="3851280"/>
            <a:ext cx="1440" cy="345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865680" y="4167360"/>
            <a:ext cx="598320" cy="522000"/>
            <a:chOff x="3865680" y="4167360"/>
            <a:chExt cx="598320" cy="522000"/>
          </a:xfrm>
        </p:grpSpPr>
        <p:sp>
          <p:nvSpPr>
            <p:cNvPr id="543" name=""/>
            <p:cNvSpPr/>
            <p:nvPr/>
          </p:nvSpPr>
          <p:spPr>
            <a:xfrm>
              <a:off x="3871800" y="4175280"/>
              <a:ext cx="584280" cy="164880"/>
            </a:xfrm>
            <a:custGeom>
              <a:avLst/>
              <a:gdLst/>
              <a:ahLst/>
              <a:rect l="l" t="t" r="r" b="b"/>
              <a:pathLst>
                <a:path w="736" h="208">
                  <a:moveTo>
                    <a:pt x="57" y="37"/>
                  </a:moveTo>
                  <a:lnTo>
                    <a:pt x="0" y="123"/>
                  </a:lnTo>
                  <a:lnTo>
                    <a:pt x="11" y="196"/>
                  </a:lnTo>
                  <a:lnTo>
                    <a:pt x="172" y="159"/>
                  </a:lnTo>
                  <a:lnTo>
                    <a:pt x="172" y="86"/>
                  </a:lnTo>
                  <a:lnTo>
                    <a:pt x="172" y="86"/>
                  </a:lnTo>
                  <a:lnTo>
                    <a:pt x="425" y="147"/>
                  </a:lnTo>
                  <a:lnTo>
                    <a:pt x="425" y="208"/>
                  </a:lnTo>
                  <a:lnTo>
                    <a:pt x="575" y="159"/>
                  </a:lnTo>
                  <a:lnTo>
                    <a:pt x="713" y="208"/>
                  </a:lnTo>
                  <a:lnTo>
                    <a:pt x="736" y="147"/>
                  </a:lnTo>
                  <a:lnTo>
                    <a:pt x="655" y="25"/>
                  </a:lnTo>
                  <a:lnTo>
                    <a:pt x="483" y="0"/>
                  </a:lnTo>
                  <a:lnTo>
                    <a:pt x="253" y="0"/>
                  </a:lnTo>
                  <a:lnTo>
                    <a:pt x="57" y="25"/>
                  </a:lnTo>
                  <a:lnTo>
                    <a:pt x="5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3873600" y="4203720"/>
              <a:ext cx="507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76840" y="4276800"/>
              <a:ext cx="936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886200" y="4306680"/>
              <a:ext cx="13176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013280" y="4175280"/>
              <a:ext cx="144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13280" y="4248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13280" y="4246560"/>
              <a:ext cx="20484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14880" y="4290840"/>
              <a:ext cx="144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4216320" y="4306680"/>
              <a:ext cx="1206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38720" y="4305240"/>
              <a:ext cx="10296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4443480" y="4298760"/>
              <a:ext cx="1584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94160" y="4194000"/>
              <a:ext cx="69840" cy="1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4255920" y="4179600"/>
              <a:ext cx="136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073400" y="4179960"/>
              <a:ext cx="19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3917880" y="4178160"/>
              <a:ext cx="15408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22560" y="4194000"/>
              <a:ext cx="180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00600" y="4232160"/>
              <a:ext cx="519120" cy="331920"/>
            </a:xfrm>
            <a:custGeom>
              <a:avLst/>
              <a:gdLst/>
              <a:ahLst/>
              <a:rect l="l" t="t" r="r" b="b"/>
              <a:pathLst>
                <a:path w="656" h="416">
                  <a:moveTo>
                    <a:pt x="127" y="12"/>
                  </a:moveTo>
                  <a:lnTo>
                    <a:pt x="0" y="269"/>
                  </a:lnTo>
                  <a:lnTo>
                    <a:pt x="0" y="416"/>
                  </a:lnTo>
                  <a:lnTo>
                    <a:pt x="656" y="416"/>
                  </a:lnTo>
                  <a:lnTo>
                    <a:pt x="656" y="269"/>
                  </a:lnTo>
                  <a:lnTo>
                    <a:pt x="506" y="12"/>
                  </a:lnTo>
                  <a:lnTo>
                    <a:pt x="495" y="12"/>
                  </a:lnTo>
                  <a:lnTo>
                    <a:pt x="472" y="0"/>
                  </a:lnTo>
                  <a:lnTo>
                    <a:pt x="437" y="0"/>
                  </a:lnTo>
                  <a:lnTo>
                    <a:pt x="437" y="12"/>
                  </a:lnTo>
                  <a:lnTo>
                    <a:pt x="207" y="12"/>
                  </a:lnTo>
                  <a:lnTo>
                    <a:pt x="196" y="0"/>
                  </a:lnTo>
                  <a:lnTo>
                    <a:pt x="150" y="0"/>
                  </a:lnTo>
                  <a:lnTo>
                    <a:pt x="150" y="12"/>
                  </a:lnTo>
                  <a:lnTo>
                    <a:pt x="127" y="12"/>
                  </a:lnTo>
                  <a:lnTo>
                    <a:pt x="1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3900600" y="4241520"/>
              <a:ext cx="10476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03840" y="4446720"/>
              <a:ext cx="144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00600" y="4568760"/>
              <a:ext cx="52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4424400" y="4446720"/>
              <a:ext cx="144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02000" y="4241880"/>
              <a:ext cx="1238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4292640" y="4248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73560" y="4233960"/>
              <a:ext cx="270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4246200" y="42372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51240" y="423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4063680" y="4248000"/>
              <a:ext cx="190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54320" y="4232160"/>
              <a:ext cx="1764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4017600" y="4237200"/>
              <a:ext cx="44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22640" y="423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000680" y="4248000"/>
              <a:ext cx="2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05360" y="4248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44880" y="4562640"/>
              <a:ext cx="66600" cy="2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35480" y="4562640"/>
              <a:ext cx="65160" cy="2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5680" y="4167360"/>
              <a:ext cx="583920" cy="164880"/>
            </a:xfrm>
            <a:custGeom>
              <a:avLst/>
              <a:gdLst/>
              <a:ahLst/>
              <a:rect l="l" t="t" r="r" b="b"/>
              <a:pathLst>
                <a:path w="736" h="208">
                  <a:moveTo>
                    <a:pt x="57" y="37"/>
                  </a:moveTo>
                  <a:lnTo>
                    <a:pt x="0" y="122"/>
                  </a:lnTo>
                  <a:lnTo>
                    <a:pt x="11" y="196"/>
                  </a:lnTo>
                  <a:lnTo>
                    <a:pt x="172" y="159"/>
                  </a:lnTo>
                  <a:lnTo>
                    <a:pt x="172" y="86"/>
                  </a:lnTo>
                  <a:lnTo>
                    <a:pt x="172" y="86"/>
                  </a:lnTo>
                  <a:lnTo>
                    <a:pt x="425" y="147"/>
                  </a:lnTo>
                  <a:lnTo>
                    <a:pt x="425" y="208"/>
                  </a:lnTo>
                  <a:lnTo>
                    <a:pt x="575" y="159"/>
                  </a:lnTo>
                  <a:lnTo>
                    <a:pt x="713" y="208"/>
                  </a:lnTo>
                  <a:lnTo>
                    <a:pt x="736" y="147"/>
                  </a:lnTo>
                  <a:lnTo>
                    <a:pt x="655" y="24"/>
                  </a:lnTo>
                  <a:lnTo>
                    <a:pt x="483" y="0"/>
                  </a:lnTo>
                  <a:lnTo>
                    <a:pt x="253" y="0"/>
                  </a:lnTo>
                  <a:lnTo>
                    <a:pt x="57" y="24"/>
                  </a:lnTo>
                  <a:lnTo>
                    <a:pt x="57" y="37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3865680" y="4195800"/>
              <a:ext cx="50760" cy="7776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68560" y="4268880"/>
              <a:ext cx="8280" cy="5868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879720" y="4298760"/>
              <a:ext cx="130320" cy="28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006800" y="4235040"/>
              <a:ext cx="1800" cy="666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006800" y="4240080"/>
              <a:ext cx="180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006800" y="4238640"/>
              <a:ext cx="204840" cy="4752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08400" y="4282920"/>
              <a:ext cx="1800" cy="572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4210200" y="4300560"/>
              <a:ext cx="118800" cy="38160"/>
            </a:xfrm>
            <a:prstGeom prst="line">
              <a:avLst/>
            </a:prstGeom>
            <a:ln w="792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32240" y="4299120"/>
              <a:ext cx="103320" cy="3636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4435560" y="4292280"/>
              <a:ext cx="15840" cy="428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86240" y="4186080"/>
              <a:ext cx="69840" cy="10656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flipV="1">
              <a:off x="4248000" y="4173120"/>
              <a:ext cx="138240" cy="1908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4065120" y="4172040"/>
              <a:ext cx="190440" cy="1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3911400" y="4172040"/>
              <a:ext cx="153720" cy="1728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916440" y="4186080"/>
              <a:ext cx="1440" cy="1908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92680" y="4226040"/>
              <a:ext cx="520560" cy="330120"/>
            </a:xfrm>
            <a:custGeom>
              <a:avLst/>
              <a:gdLst/>
              <a:ahLst/>
              <a:rect l="l" t="t" r="r" b="b"/>
              <a:pathLst>
                <a:path w="656" h="417">
                  <a:moveTo>
                    <a:pt x="127" y="13"/>
                  </a:moveTo>
                  <a:lnTo>
                    <a:pt x="0" y="270"/>
                  </a:lnTo>
                  <a:lnTo>
                    <a:pt x="0" y="417"/>
                  </a:lnTo>
                  <a:lnTo>
                    <a:pt x="656" y="417"/>
                  </a:lnTo>
                  <a:lnTo>
                    <a:pt x="656" y="270"/>
                  </a:lnTo>
                  <a:lnTo>
                    <a:pt x="506" y="13"/>
                  </a:lnTo>
                  <a:lnTo>
                    <a:pt x="495" y="13"/>
                  </a:lnTo>
                  <a:lnTo>
                    <a:pt x="472" y="0"/>
                  </a:lnTo>
                  <a:lnTo>
                    <a:pt x="437" y="0"/>
                  </a:lnTo>
                  <a:lnTo>
                    <a:pt x="437" y="13"/>
                  </a:lnTo>
                  <a:lnTo>
                    <a:pt x="207" y="13"/>
                  </a:lnTo>
                  <a:lnTo>
                    <a:pt x="196" y="0"/>
                  </a:lnTo>
                  <a:lnTo>
                    <a:pt x="150" y="0"/>
                  </a:lnTo>
                  <a:lnTo>
                    <a:pt x="150" y="13"/>
                  </a:lnTo>
                  <a:lnTo>
                    <a:pt x="127" y="13"/>
                  </a:lnTo>
                  <a:lnTo>
                    <a:pt x="127" y="13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892680" y="4235040"/>
              <a:ext cx="104760" cy="21276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897360" y="4314960"/>
              <a:ext cx="1440" cy="3744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92680" y="4560840"/>
              <a:ext cx="52848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417920" y="4438800"/>
              <a:ext cx="1800" cy="12528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95880" y="4235400"/>
              <a:ext cx="123840" cy="21276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4284720" y="4240080"/>
              <a:ext cx="1728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267080" y="4226040"/>
              <a:ext cx="25560" cy="140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4239720" y="4230720"/>
              <a:ext cx="34920" cy="1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45120" y="4226040"/>
              <a:ext cx="1440" cy="1728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4057200" y="4240080"/>
              <a:ext cx="19044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048200" y="4226040"/>
              <a:ext cx="14040" cy="1728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011480" y="4230720"/>
              <a:ext cx="44640" cy="1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16520" y="4206960"/>
              <a:ext cx="1440" cy="55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992040" y="4240080"/>
              <a:ext cx="2700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97440" y="4240080"/>
              <a:ext cx="144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30480" y="4562640"/>
              <a:ext cx="65160" cy="20520"/>
            </a:xfrm>
            <a:prstGeom prst="rect">
              <a:avLst/>
            </a:prstGeom>
            <a:solidFill>
              <a:srgbClr val="93936c"/>
            </a:solidFill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35480" y="4562640"/>
              <a:ext cx="65160" cy="20520"/>
            </a:xfrm>
            <a:prstGeom prst="rect">
              <a:avLst/>
            </a:prstGeom>
            <a:solidFill>
              <a:srgbClr val="93936c"/>
            </a:solidFill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35600" y="4307040"/>
              <a:ext cx="230040" cy="185760"/>
            </a:xfrm>
            <a:prstGeom prst="ellipse">
              <a:avLst/>
            </a:prstGeom>
            <a:solidFill>
              <a:srgbClr val="494936"/>
            </a:solidFill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35600" y="4307040"/>
              <a:ext cx="215640" cy="169560"/>
            </a:xfrm>
            <a:prstGeom prst="ellipse">
              <a:avLst/>
            </a:prstGeom>
            <a:solidFill>
              <a:srgbClr val="b7b79d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35320" y="4332240"/>
              <a:ext cx="15840" cy="180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84640" y="4336920"/>
              <a:ext cx="20520" cy="504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95720" y="4336920"/>
              <a:ext cx="4680" cy="504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51440" y="4365720"/>
              <a:ext cx="19080" cy="612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10200" y="4422600"/>
              <a:ext cx="15840" cy="180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60800" y="4422600"/>
              <a:ext cx="14400" cy="180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91040" y="4452840"/>
              <a:ext cx="14400" cy="180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40360" y="4457880"/>
              <a:ext cx="6120" cy="468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30720" y="4365720"/>
              <a:ext cx="4680" cy="612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92560" y="4437000"/>
              <a:ext cx="33480" cy="4284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3" y="0"/>
                  </a:moveTo>
                  <a:lnTo>
                    <a:pt x="0" y="9"/>
                  </a:lnTo>
                  <a:lnTo>
                    <a:pt x="0" y="21"/>
                  </a:lnTo>
                  <a:lnTo>
                    <a:pt x="3" y="30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43"/>
                  </a:lnTo>
                  <a:lnTo>
                    <a:pt x="9" y="49"/>
                  </a:lnTo>
                  <a:lnTo>
                    <a:pt x="12" y="55"/>
                  </a:lnTo>
                  <a:lnTo>
                    <a:pt x="17" y="52"/>
                  </a:lnTo>
                  <a:lnTo>
                    <a:pt x="26" y="49"/>
                  </a:lnTo>
                  <a:lnTo>
                    <a:pt x="29" y="46"/>
                  </a:lnTo>
                  <a:lnTo>
                    <a:pt x="35" y="43"/>
                  </a:lnTo>
                  <a:lnTo>
                    <a:pt x="37" y="40"/>
                  </a:lnTo>
                  <a:lnTo>
                    <a:pt x="43" y="37"/>
                  </a:lnTo>
                  <a:lnTo>
                    <a:pt x="32" y="30"/>
                  </a:lnTo>
                  <a:lnTo>
                    <a:pt x="29" y="27"/>
                  </a:lnTo>
                  <a:lnTo>
                    <a:pt x="26" y="2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26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97240" y="4444920"/>
              <a:ext cx="1800" cy="1800"/>
            </a:xfrm>
            <a:prstGeom prst="line">
              <a:avLst/>
            </a:prstGeom>
            <a:ln w="111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95800" y="4425840"/>
              <a:ext cx="1440" cy="5400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97240" y="4462560"/>
              <a:ext cx="1800" cy="1440"/>
            </a:xfrm>
            <a:prstGeom prst="line">
              <a:avLst/>
            </a:prstGeom>
            <a:ln w="111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99040" y="4460760"/>
              <a:ext cx="1440" cy="1440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95800" y="4465800"/>
              <a:ext cx="4680" cy="1404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00480" y="4473720"/>
              <a:ext cx="1800" cy="612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200480" y="4473360"/>
              <a:ext cx="1800" cy="612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4470480"/>
              <a:ext cx="5040" cy="1404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00480" y="4473720"/>
              <a:ext cx="6480" cy="1728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4203720" y="4482720"/>
              <a:ext cx="9360" cy="324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216320" y="4481640"/>
              <a:ext cx="1800" cy="1440"/>
            </a:xfrm>
            <a:prstGeom prst="line">
              <a:avLst/>
            </a:prstGeom>
            <a:ln w="144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4214880" y="4475160"/>
              <a:ext cx="6120" cy="792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4216320" y="4474800"/>
              <a:ext cx="11160" cy="468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4221000" y="4470480"/>
              <a:ext cx="8280" cy="792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4224240" y="4470120"/>
              <a:ext cx="9720" cy="468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4209840" y="4460760"/>
              <a:ext cx="29880" cy="1440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4214880" y="4458960"/>
              <a:ext cx="9360" cy="1116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4214520" y="4464000"/>
              <a:ext cx="6120" cy="180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94000" y="4437000"/>
              <a:ext cx="25560" cy="2880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95720" y="4351320"/>
              <a:ext cx="95400" cy="81000"/>
            </a:xfrm>
            <a:prstGeom prst="ellipse">
              <a:avLst/>
            </a:prstGeom>
            <a:solidFill>
              <a:srgbClr val="494936"/>
            </a:solidFill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095720" y="4365720"/>
              <a:ext cx="95400" cy="66600"/>
            </a:xfrm>
            <a:prstGeom prst="ellipse">
              <a:avLst/>
            </a:prstGeom>
            <a:solidFill>
              <a:srgbClr val="c9c9b6"/>
            </a:solidFill>
            <a:ln w="9360">
              <a:solidFill>
                <a:srgbClr val="c9c9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675320" y="4167360"/>
            <a:ext cx="598320" cy="522000"/>
            <a:chOff x="4675320" y="4167360"/>
            <a:chExt cx="598320" cy="522000"/>
          </a:xfrm>
        </p:grpSpPr>
        <p:sp>
          <p:nvSpPr>
            <p:cNvPr id="645" name=""/>
            <p:cNvSpPr/>
            <p:nvPr/>
          </p:nvSpPr>
          <p:spPr>
            <a:xfrm>
              <a:off x="4681440" y="4175280"/>
              <a:ext cx="584280" cy="164880"/>
            </a:xfrm>
            <a:custGeom>
              <a:avLst/>
              <a:gdLst/>
              <a:ahLst/>
              <a:rect l="l" t="t" r="r" b="b"/>
              <a:pathLst>
                <a:path w="736" h="208">
                  <a:moveTo>
                    <a:pt x="57" y="37"/>
                  </a:moveTo>
                  <a:lnTo>
                    <a:pt x="0" y="123"/>
                  </a:lnTo>
                  <a:lnTo>
                    <a:pt x="11" y="196"/>
                  </a:lnTo>
                  <a:lnTo>
                    <a:pt x="172" y="159"/>
                  </a:lnTo>
                  <a:lnTo>
                    <a:pt x="172" y="86"/>
                  </a:lnTo>
                  <a:lnTo>
                    <a:pt x="172" y="86"/>
                  </a:lnTo>
                  <a:lnTo>
                    <a:pt x="425" y="147"/>
                  </a:lnTo>
                  <a:lnTo>
                    <a:pt x="425" y="208"/>
                  </a:lnTo>
                  <a:lnTo>
                    <a:pt x="575" y="159"/>
                  </a:lnTo>
                  <a:lnTo>
                    <a:pt x="713" y="208"/>
                  </a:lnTo>
                  <a:lnTo>
                    <a:pt x="736" y="147"/>
                  </a:lnTo>
                  <a:lnTo>
                    <a:pt x="655" y="25"/>
                  </a:lnTo>
                  <a:lnTo>
                    <a:pt x="483" y="0"/>
                  </a:lnTo>
                  <a:lnTo>
                    <a:pt x="253" y="0"/>
                  </a:lnTo>
                  <a:lnTo>
                    <a:pt x="57" y="25"/>
                  </a:lnTo>
                  <a:lnTo>
                    <a:pt x="5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683240" y="4203720"/>
              <a:ext cx="507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86480" y="4276800"/>
              <a:ext cx="936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695840" y="4306680"/>
              <a:ext cx="13176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4822920" y="4175280"/>
              <a:ext cx="144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22920" y="4248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22920" y="4246560"/>
              <a:ext cx="20484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24520" y="4290840"/>
              <a:ext cx="144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5025960" y="4306680"/>
              <a:ext cx="1206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148360" y="4305240"/>
              <a:ext cx="10296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5253120" y="4298760"/>
              <a:ext cx="1584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03800" y="4194000"/>
              <a:ext cx="69840" cy="1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5065560" y="4179600"/>
              <a:ext cx="136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4882680" y="4179960"/>
              <a:ext cx="190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4727520" y="4178160"/>
              <a:ext cx="15408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32200" y="4194000"/>
              <a:ext cx="180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10240" y="4232160"/>
              <a:ext cx="519120" cy="331920"/>
            </a:xfrm>
            <a:custGeom>
              <a:avLst/>
              <a:gdLst/>
              <a:ahLst/>
              <a:rect l="l" t="t" r="r" b="b"/>
              <a:pathLst>
                <a:path w="656" h="416">
                  <a:moveTo>
                    <a:pt x="127" y="12"/>
                  </a:moveTo>
                  <a:lnTo>
                    <a:pt x="0" y="269"/>
                  </a:lnTo>
                  <a:lnTo>
                    <a:pt x="0" y="416"/>
                  </a:lnTo>
                  <a:lnTo>
                    <a:pt x="656" y="416"/>
                  </a:lnTo>
                  <a:lnTo>
                    <a:pt x="656" y="269"/>
                  </a:lnTo>
                  <a:lnTo>
                    <a:pt x="506" y="12"/>
                  </a:lnTo>
                  <a:lnTo>
                    <a:pt x="495" y="12"/>
                  </a:lnTo>
                  <a:lnTo>
                    <a:pt x="472" y="0"/>
                  </a:lnTo>
                  <a:lnTo>
                    <a:pt x="437" y="0"/>
                  </a:lnTo>
                  <a:lnTo>
                    <a:pt x="437" y="12"/>
                  </a:lnTo>
                  <a:lnTo>
                    <a:pt x="207" y="12"/>
                  </a:lnTo>
                  <a:lnTo>
                    <a:pt x="196" y="0"/>
                  </a:lnTo>
                  <a:lnTo>
                    <a:pt x="150" y="0"/>
                  </a:lnTo>
                  <a:lnTo>
                    <a:pt x="150" y="12"/>
                  </a:lnTo>
                  <a:lnTo>
                    <a:pt x="127" y="12"/>
                  </a:lnTo>
                  <a:lnTo>
                    <a:pt x="1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4710240" y="4241520"/>
              <a:ext cx="10476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13120" y="4446720"/>
              <a:ext cx="180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710240" y="4568760"/>
              <a:ext cx="52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234040" y="4446720"/>
              <a:ext cx="144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11640" y="4241880"/>
              <a:ext cx="1238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5102280" y="4248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83200" y="4233960"/>
              <a:ext cx="270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5055840" y="42372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60880" y="423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4873320" y="4248000"/>
              <a:ext cx="190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63960" y="4232160"/>
              <a:ext cx="1764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827240" y="4237200"/>
              <a:ext cx="44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832280" y="423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4809600" y="4248000"/>
              <a:ext cx="25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815000" y="4248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54520" y="4562640"/>
              <a:ext cx="66600" cy="2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45120" y="4562640"/>
              <a:ext cx="65160" cy="2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75320" y="4167360"/>
              <a:ext cx="583920" cy="164880"/>
            </a:xfrm>
            <a:custGeom>
              <a:avLst/>
              <a:gdLst/>
              <a:ahLst/>
              <a:rect l="l" t="t" r="r" b="b"/>
              <a:pathLst>
                <a:path w="736" h="208">
                  <a:moveTo>
                    <a:pt x="57" y="37"/>
                  </a:moveTo>
                  <a:lnTo>
                    <a:pt x="0" y="122"/>
                  </a:lnTo>
                  <a:lnTo>
                    <a:pt x="11" y="196"/>
                  </a:lnTo>
                  <a:lnTo>
                    <a:pt x="172" y="159"/>
                  </a:lnTo>
                  <a:lnTo>
                    <a:pt x="172" y="86"/>
                  </a:lnTo>
                  <a:lnTo>
                    <a:pt x="172" y="86"/>
                  </a:lnTo>
                  <a:lnTo>
                    <a:pt x="425" y="147"/>
                  </a:lnTo>
                  <a:lnTo>
                    <a:pt x="425" y="208"/>
                  </a:lnTo>
                  <a:lnTo>
                    <a:pt x="575" y="159"/>
                  </a:lnTo>
                  <a:lnTo>
                    <a:pt x="713" y="208"/>
                  </a:lnTo>
                  <a:lnTo>
                    <a:pt x="736" y="147"/>
                  </a:lnTo>
                  <a:lnTo>
                    <a:pt x="655" y="24"/>
                  </a:lnTo>
                  <a:lnTo>
                    <a:pt x="483" y="0"/>
                  </a:lnTo>
                  <a:lnTo>
                    <a:pt x="253" y="0"/>
                  </a:lnTo>
                  <a:lnTo>
                    <a:pt x="57" y="24"/>
                  </a:lnTo>
                  <a:lnTo>
                    <a:pt x="57" y="37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675320" y="4195800"/>
              <a:ext cx="50760" cy="7776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78200" y="4268880"/>
              <a:ext cx="8280" cy="5868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4689360" y="4298760"/>
              <a:ext cx="130320" cy="28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816440" y="4235040"/>
              <a:ext cx="1800" cy="666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16440" y="4240080"/>
              <a:ext cx="180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816440" y="4238640"/>
              <a:ext cx="204840" cy="4752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18040" y="4282920"/>
              <a:ext cx="1800" cy="572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019840" y="4300560"/>
              <a:ext cx="118800" cy="38160"/>
            </a:xfrm>
            <a:prstGeom prst="line">
              <a:avLst/>
            </a:prstGeom>
            <a:ln w="792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41880" y="4299120"/>
              <a:ext cx="103320" cy="3636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5245200" y="4292280"/>
              <a:ext cx="15840" cy="428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195880" y="4186080"/>
              <a:ext cx="69840" cy="10656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flipV="1">
              <a:off x="5057640" y="4173120"/>
              <a:ext cx="138240" cy="1908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4874760" y="4172040"/>
              <a:ext cx="190440" cy="1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4721040" y="4172040"/>
              <a:ext cx="153720" cy="1728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26080" y="4186080"/>
              <a:ext cx="1440" cy="1908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02320" y="4226040"/>
              <a:ext cx="520560" cy="330120"/>
            </a:xfrm>
            <a:custGeom>
              <a:avLst/>
              <a:gdLst/>
              <a:ahLst/>
              <a:rect l="l" t="t" r="r" b="b"/>
              <a:pathLst>
                <a:path w="656" h="417">
                  <a:moveTo>
                    <a:pt x="127" y="13"/>
                  </a:moveTo>
                  <a:lnTo>
                    <a:pt x="0" y="270"/>
                  </a:lnTo>
                  <a:lnTo>
                    <a:pt x="0" y="417"/>
                  </a:lnTo>
                  <a:lnTo>
                    <a:pt x="656" y="417"/>
                  </a:lnTo>
                  <a:lnTo>
                    <a:pt x="656" y="270"/>
                  </a:lnTo>
                  <a:lnTo>
                    <a:pt x="506" y="13"/>
                  </a:lnTo>
                  <a:lnTo>
                    <a:pt x="495" y="13"/>
                  </a:lnTo>
                  <a:lnTo>
                    <a:pt x="472" y="0"/>
                  </a:lnTo>
                  <a:lnTo>
                    <a:pt x="437" y="0"/>
                  </a:lnTo>
                  <a:lnTo>
                    <a:pt x="437" y="13"/>
                  </a:lnTo>
                  <a:lnTo>
                    <a:pt x="207" y="13"/>
                  </a:lnTo>
                  <a:lnTo>
                    <a:pt x="196" y="0"/>
                  </a:lnTo>
                  <a:lnTo>
                    <a:pt x="150" y="0"/>
                  </a:lnTo>
                  <a:lnTo>
                    <a:pt x="150" y="13"/>
                  </a:lnTo>
                  <a:lnTo>
                    <a:pt x="127" y="13"/>
                  </a:lnTo>
                  <a:lnTo>
                    <a:pt x="127" y="13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4702320" y="4235040"/>
              <a:ext cx="104760" cy="21276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07000" y="4314960"/>
              <a:ext cx="1440" cy="3744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02320" y="4560840"/>
              <a:ext cx="52848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5227560" y="4438800"/>
              <a:ext cx="1800" cy="12528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105520" y="4235400"/>
              <a:ext cx="123840" cy="21276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094360" y="4240080"/>
              <a:ext cx="1728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76720" y="4226040"/>
              <a:ext cx="25560" cy="140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049360" y="4230720"/>
              <a:ext cx="34920" cy="1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54760" y="4226040"/>
              <a:ext cx="1440" cy="1728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4866840" y="4240080"/>
              <a:ext cx="19044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57840" y="4226040"/>
              <a:ext cx="14040" cy="1728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4821120" y="4230720"/>
              <a:ext cx="44640" cy="1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826160" y="4206960"/>
              <a:ext cx="1440" cy="55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4801680" y="4240080"/>
              <a:ext cx="2700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07080" y="4240080"/>
              <a:ext cx="144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740120" y="4562640"/>
              <a:ext cx="65160" cy="20520"/>
            </a:xfrm>
            <a:prstGeom prst="rect">
              <a:avLst/>
            </a:prstGeom>
            <a:solidFill>
              <a:srgbClr val="93936c"/>
            </a:solidFill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45120" y="4562640"/>
              <a:ext cx="65160" cy="20520"/>
            </a:xfrm>
            <a:prstGeom prst="rect">
              <a:avLst/>
            </a:prstGeom>
            <a:solidFill>
              <a:srgbClr val="93936c"/>
            </a:solidFill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44880" y="4307040"/>
              <a:ext cx="230400" cy="185760"/>
            </a:xfrm>
            <a:prstGeom prst="ellipse">
              <a:avLst/>
            </a:prstGeom>
            <a:solidFill>
              <a:srgbClr val="494936"/>
            </a:solidFill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44880" y="4307040"/>
              <a:ext cx="216000" cy="169560"/>
            </a:xfrm>
            <a:prstGeom prst="ellipse">
              <a:avLst/>
            </a:prstGeom>
            <a:solidFill>
              <a:srgbClr val="b7b79d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44960" y="4332240"/>
              <a:ext cx="15840" cy="180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994280" y="4336920"/>
              <a:ext cx="20520" cy="504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05360" y="4336920"/>
              <a:ext cx="4680" cy="504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61080" y="4365720"/>
              <a:ext cx="18720" cy="612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019840" y="4422600"/>
              <a:ext cx="15840" cy="180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70440" y="4422600"/>
              <a:ext cx="14400" cy="180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900680" y="4452840"/>
              <a:ext cx="14400" cy="180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50000" y="4457880"/>
              <a:ext cx="6120" cy="468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40360" y="4365720"/>
              <a:ext cx="4680" cy="6120"/>
            </a:xfrm>
            <a:prstGeom prst="ellipse">
              <a:avLst/>
            </a:prstGeom>
            <a:solidFill>
              <a:srgbClr val="626248"/>
            </a:solidFill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02200" y="4437000"/>
              <a:ext cx="33480" cy="4284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3" y="0"/>
                  </a:moveTo>
                  <a:lnTo>
                    <a:pt x="0" y="9"/>
                  </a:lnTo>
                  <a:lnTo>
                    <a:pt x="0" y="21"/>
                  </a:lnTo>
                  <a:lnTo>
                    <a:pt x="3" y="30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43"/>
                  </a:lnTo>
                  <a:lnTo>
                    <a:pt x="9" y="49"/>
                  </a:lnTo>
                  <a:lnTo>
                    <a:pt x="12" y="55"/>
                  </a:lnTo>
                  <a:lnTo>
                    <a:pt x="17" y="52"/>
                  </a:lnTo>
                  <a:lnTo>
                    <a:pt x="26" y="49"/>
                  </a:lnTo>
                  <a:lnTo>
                    <a:pt x="29" y="46"/>
                  </a:lnTo>
                  <a:lnTo>
                    <a:pt x="35" y="43"/>
                  </a:lnTo>
                  <a:lnTo>
                    <a:pt x="37" y="40"/>
                  </a:lnTo>
                  <a:lnTo>
                    <a:pt x="43" y="37"/>
                  </a:lnTo>
                  <a:lnTo>
                    <a:pt x="32" y="30"/>
                  </a:lnTo>
                  <a:lnTo>
                    <a:pt x="29" y="27"/>
                  </a:lnTo>
                  <a:lnTo>
                    <a:pt x="26" y="2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26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06880" y="4444920"/>
              <a:ext cx="1800" cy="1800"/>
            </a:xfrm>
            <a:prstGeom prst="line">
              <a:avLst/>
            </a:prstGeom>
            <a:ln w="111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05440" y="4425840"/>
              <a:ext cx="1440" cy="5400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06880" y="4462560"/>
              <a:ext cx="1800" cy="1440"/>
            </a:xfrm>
            <a:prstGeom prst="line">
              <a:avLst/>
            </a:prstGeom>
            <a:ln w="111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008680" y="4460760"/>
              <a:ext cx="1440" cy="1440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05440" y="4465800"/>
              <a:ext cx="4680" cy="1404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10120" y="4473720"/>
              <a:ext cx="1440" cy="612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5010120" y="4473360"/>
              <a:ext cx="1440" cy="612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06880" y="4470480"/>
              <a:ext cx="4680" cy="1404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10120" y="4473720"/>
              <a:ext cx="6480" cy="1728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5013360" y="4482720"/>
              <a:ext cx="9360" cy="324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25960" y="4481640"/>
              <a:ext cx="1800" cy="1440"/>
            </a:xfrm>
            <a:prstGeom prst="line">
              <a:avLst/>
            </a:prstGeom>
            <a:ln w="144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024520" y="4475160"/>
              <a:ext cx="6120" cy="792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5025960" y="4474800"/>
              <a:ext cx="11160" cy="468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5030640" y="4470480"/>
              <a:ext cx="7920" cy="792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5033880" y="4470120"/>
              <a:ext cx="9720" cy="468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5019480" y="4460760"/>
              <a:ext cx="29880" cy="1440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5024520" y="4458960"/>
              <a:ext cx="9360" cy="1116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5024160" y="4464000"/>
              <a:ext cx="6120" cy="180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03640" y="4437000"/>
              <a:ext cx="25560" cy="28800"/>
            </a:xfrm>
            <a:prstGeom prst="line">
              <a:avLst/>
            </a:prstGeom>
            <a:ln w="936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05360" y="4351320"/>
              <a:ext cx="95400" cy="81000"/>
            </a:xfrm>
            <a:prstGeom prst="ellipse">
              <a:avLst/>
            </a:prstGeom>
            <a:solidFill>
              <a:srgbClr val="494936"/>
            </a:solidFill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05360" y="4365720"/>
              <a:ext cx="95400" cy="66600"/>
            </a:xfrm>
            <a:prstGeom prst="ellipse">
              <a:avLst/>
            </a:prstGeom>
            <a:solidFill>
              <a:srgbClr val="c9c9b6"/>
            </a:solidFill>
            <a:ln w="9360">
              <a:solidFill>
                <a:srgbClr val="c9c9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5048280" y="1522440"/>
            <a:ext cx="2112480" cy="928800"/>
            <a:chOff x="5048280" y="1522440"/>
            <a:chExt cx="2112480" cy="928800"/>
          </a:xfrm>
        </p:grpSpPr>
        <p:sp>
          <p:nvSpPr>
            <p:cNvPr id="747" name=""/>
            <p:cNvSpPr/>
            <p:nvPr/>
          </p:nvSpPr>
          <p:spPr>
            <a:xfrm>
              <a:off x="5773320" y="1530360"/>
              <a:ext cx="901440" cy="37296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263920" y="1620720"/>
              <a:ext cx="688680" cy="37332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52600" y="1860480"/>
              <a:ext cx="464760" cy="30024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89400" y="1994040"/>
              <a:ext cx="704520" cy="33156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698800" y="2038320"/>
              <a:ext cx="1050480" cy="38880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73440" y="1631880"/>
              <a:ext cx="676080" cy="30312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80000" y="1828800"/>
              <a:ext cx="659880" cy="28404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18080" y="1888920"/>
              <a:ext cx="663120" cy="47952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29160" y="1738440"/>
              <a:ext cx="1350360" cy="48096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94200" y="1522440"/>
              <a:ext cx="869400" cy="191880"/>
            </a:xfrm>
            <a:custGeom>
              <a:avLst/>
              <a:gdLst/>
              <a:ahLst/>
              <a:rect l="l" t="t" r="r" b="b"/>
              <a:pathLst>
                <a:path w="548" h="121">
                  <a:moveTo>
                    <a:pt x="0" y="82"/>
                  </a:moveTo>
                  <a:lnTo>
                    <a:pt x="18" y="64"/>
                  </a:lnTo>
                  <a:lnTo>
                    <a:pt x="43" y="47"/>
                  </a:lnTo>
                  <a:lnTo>
                    <a:pt x="71" y="35"/>
                  </a:lnTo>
                  <a:lnTo>
                    <a:pt x="106" y="22"/>
                  </a:lnTo>
                  <a:lnTo>
                    <a:pt x="143" y="12"/>
                  </a:lnTo>
                  <a:lnTo>
                    <a:pt x="186" y="5"/>
                  </a:lnTo>
                  <a:lnTo>
                    <a:pt x="229" y="2"/>
                  </a:lnTo>
                  <a:lnTo>
                    <a:pt x="276" y="0"/>
                  </a:lnTo>
                  <a:lnTo>
                    <a:pt x="320" y="2"/>
                  </a:lnTo>
                  <a:lnTo>
                    <a:pt x="362" y="5"/>
                  </a:lnTo>
                  <a:lnTo>
                    <a:pt x="403" y="12"/>
                  </a:lnTo>
                  <a:lnTo>
                    <a:pt x="440" y="20"/>
                  </a:lnTo>
                  <a:lnTo>
                    <a:pt x="473" y="32"/>
                  </a:lnTo>
                  <a:lnTo>
                    <a:pt x="503" y="45"/>
                  </a:lnTo>
                  <a:lnTo>
                    <a:pt x="528" y="59"/>
                  </a:lnTo>
                  <a:lnTo>
                    <a:pt x="548" y="77"/>
                  </a:lnTo>
                  <a:lnTo>
                    <a:pt x="276" y="121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98880" y="1530360"/>
              <a:ext cx="858600" cy="183960"/>
            </a:xfrm>
            <a:custGeom>
              <a:avLst/>
              <a:gdLst/>
              <a:ahLst/>
              <a:rect l="l" t="t" r="r" b="b"/>
              <a:pathLst>
                <a:path w="541" h="116">
                  <a:moveTo>
                    <a:pt x="0" y="77"/>
                  </a:moveTo>
                  <a:lnTo>
                    <a:pt x="19" y="59"/>
                  </a:lnTo>
                  <a:lnTo>
                    <a:pt x="41" y="45"/>
                  </a:lnTo>
                  <a:lnTo>
                    <a:pt x="71" y="32"/>
                  </a:lnTo>
                  <a:lnTo>
                    <a:pt x="105" y="20"/>
                  </a:lnTo>
                  <a:lnTo>
                    <a:pt x="142" y="12"/>
                  </a:lnTo>
                  <a:lnTo>
                    <a:pt x="183" y="5"/>
                  </a:lnTo>
                  <a:lnTo>
                    <a:pt x="228" y="2"/>
                  </a:lnTo>
                  <a:lnTo>
                    <a:pt x="273" y="0"/>
                  </a:lnTo>
                  <a:lnTo>
                    <a:pt x="316" y="2"/>
                  </a:lnTo>
                  <a:lnTo>
                    <a:pt x="359" y="5"/>
                  </a:lnTo>
                  <a:lnTo>
                    <a:pt x="398" y="10"/>
                  </a:lnTo>
                  <a:lnTo>
                    <a:pt x="435" y="20"/>
                  </a:lnTo>
                  <a:lnTo>
                    <a:pt x="469" y="30"/>
                  </a:lnTo>
                  <a:lnTo>
                    <a:pt x="497" y="42"/>
                  </a:lnTo>
                  <a:lnTo>
                    <a:pt x="523" y="57"/>
                  </a:lnTo>
                  <a:lnTo>
                    <a:pt x="541" y="72"/>
                  </a:lnTo>
                  <a:lnTo>
                    <a:pt x="273" y="116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98880" y="1530360"/>
              <a:ext cx="858600" cy="122040"/>
            </a:xfrm>
            <a:custGeom>
              <a:avLst/>
              <a:gdLst/>
              <a:ahLst/>
              <a:rect l="l" t="t" r="r" b="b"/>
              <a:pathLst>
                <a:path w="541" h="77">
                  <a:moveTo>
                    <a:pt x="0" y="77"/>
                  </a:moveTo>
                  <a:lnTo>
                    <a:pt x="19" y="59"/>
                  </a:lnTo>
                  <a:lnTo>
                    <a:pt x="41" y="45"/>
                  </a:lnTo>
                  <a:lnTo>
                    <a:pt x="71" y="32"/>
                  </a:lnTo>
                  <a:lnTo>
                    <a:pt x="105" y="20"/>
                  </a:lnTo>
                  <a:lnTo>
                    <a:pt x="142" y="12"/>
                  </a:lnTo>
                  <a:lnTo>
                    <a:pt x="183" y="5"/>
                  </a:lnTo>
                  <a:lnTo>
                    <a:pt x="228" y="2"/>
                  </a:lnTo>
                  <a:lnTo>
                    <a:pt x="273" y="0"/>
                  </a:lnTo>
                  <a:lnTo>
                    <a:pt x="316" y="2"/>
                  </a:lnTo>
                  <a:lnTo>
                    <a:pt x="359" y="5"/>
                  </a:lnTo>
                  <a:lnTo>
                    <a:pt x="398" y="10"/>
                  </a:lnTo>
                  <a:lnTo>
                    <a:pt x="435" y="20"/>
                  </a:lnTo>
                  <a:lnTo>
                    <a:pt x="469" y="30"/>
                  </a:lnTo>
                  <a:lnTo>
                    <a:pt x="497" y="42"/>
                  </a:lnTo>
                  <a:lnTo>
                    <a:pt x="523" y="57"/>
                  </a:lnTo>
                  <a:lnTo>
                    <a:pt x="541" y="72"/>
                  </a:lnTo>
                </a:path>
              </a:pathLst>
            </a:custGeom>
            <a:noFill/>
            <a:ln w="9360">
              <a:solidFill>
                <a:srgbClr val="6c8f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263920" y="1620720"/>
              <a:ext cx="537840" cy="236520"/>
            </a:xfrm>
            <a:custGeom>
              <a:avLst/>
              <a:gdLst/>
              <a:ahLst/>
              <a:rect l="l" t="t" r="r" b="b"/>
              <a:pathLst>
                <a:path w="339" h="149">
                  <a:moveTo>
                    <a:pt x="5" y="149"/>
                  </a:moveTo>
                  <a:lnTo>
                    <a:pt x="2" y="136"/>
                  </a:lnTo>
                  <a:lnTo>
                    <a:pt x="0" y="121"/>
                  </a:lnTo>
                  <a:lnTo>
                    <a:pt x="2" y="109"/>
                  </a:lnTo>
                  <a:lnTo>
                    <a:pt x="3" y="97"/>
                  </a:lnTo>
                  <a:lnTo>
                    <a:pt x="9" y="84"/>
                  </a:lnTo>
                  <a:lnTo>
                    <a:pt x="17" y="74"/>
                  </a:lnTo>
                  <a:lnTo>
                    <a:pt x="26" y="64"/>
                  </a:lnTo>
                  <a:lnTo>
                    <a:pt x="37" y="54"/>
                  </a:lnTo>
                  <a:lnTo>
                    <a:pt x="65" y="35"/>
                  </a:lnTo>
                  <a:lnTo>
                    <a:pt x="99" y="20"/>
                  </a:lnTo>
                  <a:lnTo>
                    <a:pt x="136" y="10"/>
                  </a:lnTo>
                  <a:lnTo>
                    <a:pt x="179" y="2"/>
                  </a:lnTo>
                  <a:lnTo>
                    <a:pt x="224" y="0"/>
                  </a:lnTo>
                  <a:lnTo>
                    <a:pt x="253" y="2"/>
                  </a:lnTo>
                  <a:lnTo>
                    <a:pt x="283" y="5"/>
                  </a:lnTo>
                  <a:lnTo>
                    <a:pt x="339" y="20"/>
                  </a:lnTo>
                  <a:lnTo>
                    <a:pt x="224" y="121"/>
                  </a:lnTo>
                  <a:lnTo>
                    <a:pt x="5" y="149"/>
                  </a:lnTo>
                  <a:close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67160" y="1628640"/>
              <a:ext cx="531360" cy="228600"/>
            </a:xfrm>
            <a:custGeom>
              <a:avLst/>
              <a:gdLst/>
              <a:ahLst/>
              <a:rect l="l" t="t" r="r" b="b"/>
              <a:pathLst>
                <a:path w="335" h="144">
                  <a:moveTo>
                    <a:pt x="5" y="144"/>
                  </a:moveTo>
                  <a:lnTo>
                    <a:pt x="1" y="131"/>
                  </a:lnTo>
                  <a:lnTo>
                    <a:pt x="0" y="116"/>
                  </a:lnTo>
                  <a:lnTo>
                    <a:pt x="1" y="104"/>
                  </a:lnTo>
                  <a:lnTo>
                    <a:pt x="3" y="94"/>
                  </a:lnTo>
                  <a:lnTo>
                    <a:pt x="9" y="82"/>
                  </a:lnTo>
                  <a:lnTo>
                    <a:pt x="16" y="72"/>
                  </a:lnTo>
                  <a:lnTo>
                    <a:pt x="26" y="62"/>
                  </a:lnTo>
                  <a:lnTo>
                    <a:pt x="37" y="52"/>
                  </a:lnTo>
                  <a:lnTo>
                    <a:pt x="65" y="35"/>
                  </a:lnTo>
                  <a:lnTo>
                    <a:pt x="97" y="20"/>
                  </a:lnTo>
                  <a:lnTo>
                    <a:pt x="136" y="10"/>
                  </a:lnTo>
                  <a:lnTo>
                    <a:pt x="177" y="2"/>
                  </a:lnTo>
                  <a:lnTo>
                    <a:pt x="222" y="0"/>
                  </a:lnTo>
                  <a:lnTo>
                    <a:pt x="251" y="2"/>
                  </a:lnTo>
                  <a:lnTo>
                    <a:pt x="279" y="5"/>
                  </a:lnTo>
                  <a:lnTo>
                    <a:pt x="335" y="17"/>
                  </a:lnTo>
                  <a:lnTo>
                    <a:pt x="222" y="116"/>
                  </a:lnTo>
                  <a:lnTo>
                    <a:pt x="5" y="144"/>
                  </a:lnTo>
                  <a:close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67160" y="1628640"/>
              <a:ext cx="531360" cy="228600"/>
            </a:xfrm>
            <a:custGeom>
              <a:avLst/>
              <a:gdLst/>
              <a:ahLst/>
              <a:rect l="l" t="t" r="r" b="b"/>
              <a:pathLst>
                <a:path w="335" h="144">
                  <a:moveTo>
                    <a:pt x="5" y="144"/>
                  </a:moveTo>
                  <a:lnTo>
                    <a:pt x="1" y="131"/>
                  </a:lnTo>
                  <a:lnTo>
                    <a:pt x="0" y="116"/>
                  </a:lnTo>
                  <a:lnTo>
                    <a:pt x="1" y="104"/>
                  </a:lnTo>
                  <a:lnTo>
                    <a:pt x="3" y="94"/>
                  </a:lnTo>
                  <a:lnTo>
                    <a:pt x="9" y="82"/>
                  </a:lnTo>
                  <a:lnTo>
                    <a:pt x="16" y="72"/>
                  </a:lnTo>
                  <a:lnTo>
                    <a:pt x="26" y="62"/>
                  </a:lnTo>
                  <a:lnTo>
                    <a:pt x="37" y="52"/>
                  </a:lnTo>
                  <a:lnTo>
                    <a:pt x="65" y="35"/>
                  </a:lnTo>
                  <a:lnTo>
                    <a:pt x="97" y="20"/>
                  </a:lnTo>
                  <a:lnTo>
                    <a:pt x="136" y="10"/>
                  </a:lnTo>
                  <a:lnTo>
                    <a:pt x="177" y="2"/>
                  </a:lnTo>
                  <a:lnTo>
                    <a:pt x="222" y="0"/>
                  </a:lnTo>
                  <a:lnTo>
                    <a:pt x="251" y="2"/>
                  </a:lnTo>
                  <a:lnTo>
                    <a:pt x="279" y="5"/>
                  </a:lnTo>
                  <a:lnTo>
                    <a:pt x="335" y="17"/>
                  </a:lnTo>
                </a:path>
              </a:pathLst>
            </a:custGeom>
            <a:noFill/>
            <a:ln w="9360">
              <a:solidFill>
                <a:srgbClr val="6c8f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186160" y="2152440"/>
              <a:ext cx="543960" cy="181080"/>
            </a:xfrm>
            <a:custGeom>
              <a:avLst/>
              <a:gdLst/>
              <a:ahLst/>
              <a:rect l="l" t="t" r="r" b="b"/>
              <a:pathLst>
                <a:path w="343" h="114">
                  <a:moveTo>
                    <a:pt x="343" y="99"/>
                  </a:moveTo>
                  <a:lnTo>
                    <a:pt x="317" y="106"/>
                  </a:lnTo>
                  <a:lnTo>
                    <a:pt x="289" y="111"/>
                  </a:lnTo>
                  <a:lnTo>
                    <a:pt x="232" y="114"/>
                  </a:lnTo>
                  <a:lnTo>
                    <a:pt x="185" y="111"/>
                  </a:lnTo>
                  <a:lnTo>
                    <a:pt x="142" y="106"/>
                  </a:lnTo>
                  <a:lnTo>
                    <a:pt x="101" y="94"/>
                  </a:lnTo>
                  <a:lnTo>
                    <a:pt x="67" y="81"/>
                  </a:lnTo>
                  <a:lnTo>
                    <a:pt x="39" y="67"/>
                  </a:lnTo>
                  <a:lnTo>
                    <a:pt x="28" y="57"/>
                  </a:lnTo>
                  <a:lnTo>
                    <a:pt x="19" y="47"/>
                  </a:lnTo>
                  <a:lnTo>
                    <a:pt x="11" y="37"/>
                  </a:lnTo>
                  <a:lnTo>
                    <a:pt x="6" y="27"/>
                  </a:lnTo>
                  <a:lnTo>
                    <a:pt x="2" y="1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2" y="5"/>
                  </a:lnTo>
                  <a:lnTo>
                    <a:pt x="343" y="99"/>
                  </a:lnTo>
                  <a:close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92280" y="2152440"/>
              <a:ext cx="533160" cy="173160"/>
            </a:xfrm>
            <a:custGeom>
              <a:avLst/>
              <a:gdLst/>
              <a:ahLst/>
              <a:rect l="l" t="t" r="r" b="b"/>
              <a:pathLst>
                <a:path w="336" h="109">
                  <a:moveTo>
                    <a:pt x="336" y="96"/>
                  </a:moveTo>
                  <a:lnTo>
                    <a:pt x="284" y="106"/>
                  </a:lnTo>
                  <a:lnTo>
                    <a:pt x="228" y="109"/>
                  </a:lnTo>
                  <a:lnTo>
                    <a:pt x="181" y="106"/>
                  </a:lnTo>
                  <a:lnTo>
                    <a:pt x="138" y="101"/>
                  </a:lnTo>
                  <a:lnTo>
                    <a:pt x="101" y="91"/>
                  </a:lnTo>
                  <a:lnTo>
                    <a:pt x="67" y="79"/>
                  </a:lnTo>
                  <a:lnTo>
                    <a:pt x="39" y="62"/>
                  </a:lnTo>
                  <a:lnTo>
                    <a:pt x="28" y="54"/>
                  </a:lnTo>
                  <a:lnTo>
                    <a:pt x="19" y="44"/>
                  </a:lnTo>
                  <a:lnTo>
                    <a:pt x="9" y="34"/>
                  </a:lnTo>
                  <a:lnTo>
                    <a:pt x="4" y="24"/>
                  </a:lnTo>
                  <a:lnTo>
                    <a:pt x="2" y="1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8" y="5"/>
                  </a:lnTo>
                  <a:lnTo>
                    <a:pt x="336" y="96"/>
                  </a:lnTo>
                  <a:close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92280" y="2152440"/>
              <a:ext cx="533160" cy="173160"/>
            </a:xfrm>
            <a:custGeom>
              <a:avLst/>
              <a:gdLst/>
              <a:ahLst/>
              <a:rect l="l" t="t" r="r" b="b"/>
              <a:pathLst>
                <a:path w="336" h="109">
                  <a:moveTo>
                    <a:pt x="336" y="96"/>
                  </a:moveTo>
                  <a:lnTo>
                    <a:pt x="284" y="106"/>
                  </a:lnTo>
                  <a:lnTo>
                    <a:pt x="228" y="109"/>
                  </a:lnTo>
                  <a:lnTo>
                    <a:pt x="181" y="106"/>
                  </a:lnTo>
                  <a:lnTo>
                    <a:pt x="138" y="101"/>
                  </a:lnTo>
                  <a:lnTo>
                    <a:pt x="101" y="91"/>
                  </a:lnTo>
                  <a:lnTo>
                    <a:pt x="67" y="79"/>
                  </a:lnTo>
                  <a:lnTo>
                    <a:pt x="39" y="62"/>
                  </a:lnTo>
                  <a:lnTo>
                    <a:pt x="28" y="54"/>
                  </a:lnTo>
                  <a:lnTo>
                    <a:pt x="19" y="44"/>
                  </a:lnTo>
                  <a:lnTo>
                    <a:pt x="9" y="34"/>
                  </a:lnTo>
                  <a:lnTo>
                    <a:pt x="4" y="24"/>
                  </a:lnTo>
                  <a:lnTo>
                    <a:pt x="2" y="1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6c8f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52800" y="1631880"/>
              <a:ext cx="411120" cy="225360"/>
            </a:xfrm>
            <a:custGeom>
              <a:avLst/>
              <a:gdLst/>
              <a:ahLst/>
              <a:rect l="l" t="t" r="r" b="b"/>
              <a:pathLst>
                <a:path w="259" h="142">
                  <a:moveTo>
                    <a:pt x="0" y="3"/>
                  </a:moveTo>
                  <a:lnTo>
                    <a:pt x="22" y="0"/>
                  </a:lnTo>
                  <a:lnTo>
                    <a:pt x="42" y="0"/>
                  </a:lnTo>
                  <a:lnTo>
                    <a:pt x="85" y="3"/>
                  </a:lnTo>
                  <a:lnTo>
                    <a:pt x="126" y="8"/>
                  </a:lnTo>
                  <a:lnTo>
                    <a:pt x="164" y="18"/>
                  </a:lnTo>
                  <a:lnTo>
                    <a:pt x="195" y="28"/>
                  </a:lnTo>
                  <a:lnTo>
                    <a:pt x="222" y="43"/>
                  </a:lnTo>
                  <a:lnTo>
                    <a:pt x="242" y="57"/>
                  </a:lnTo>
                  <a:lnTo>
                    <a:pt x="250" y="67"/>
                  </a:lnTo>
                  <a:lnTo>
                    <a:pt x="255" y="75"/>
                  </a:lnTo>
                  <a:lnTo>
                    <a:pt x="257" y="85"/>
                  </a:lnTo>
                  <a:lnTo>
                    <a:pt x="259" y="95"/>
                  </a:lnTo>
                  <a:lnTo>
                    <a:pt x="257" y="107"/>
                  </a:lnTo>
                  <a:lnTo>
                    <a:pt x="251" y="119"/>
                  </a:lnTo>
                  <a:lnTo>
                    <a:pt x="244" y="132"/>
                  </a:lnTo>
                  <a:lnTo>
                    <a:pt x="231" y="142"/>
                  </a:lnTo>
                  <a:lnTo>
                    <a:pt x="42" y="9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54600" y="1639800"/>
              <a:ext cx="402840" cy="217440"/>
            </a:xfrm>
            <a:custGeom>
              <a:avLst/>
              <a:gdLst/>
              <a:ahLst/>
              <a:rect l="l" t="t" r="r" b="b"/>
              <a:pathLst>
                <a:path w="254" h="137">
                  <a:moveTo>
                    <a:pt x="0" y="0"/>
                  </a:moveTo>
                  <a:lnTo>
                    <a:pt x="21" y="0"/>
                  </a:lnTo>
                  <a:lnTo>
                    <a:pt x="41" y="0"/>
                  </a:lnTo>
                  <a:lnTo>
                    <a:pt x="84" y="3"/>
                  </a:lnTo>
                  <a:lnTo>
                    <a:pt x="124" y="8"/>
                  </a:lnTo>
                  <a:lnTo>
                    <a:pt x="161" y="15"/>
                  </a:lnTo>
                  <a:lnTo>
                    <a:pt x="193" y="28"/>
                  </a:lnTo>
                  <a:lnTo>
                    <a:pt x="219" y="40"/>
                  </a:lnTo>
                  <a:lnTo>
                    <a:pt x="237" y="55"/>
                  </a:lnTo>
                  <a:lnTo>
                    <a:pt x="245" y="62"/>
                  </a:lnTo>
                  <a:lnTo>
                    <a:pt x="250" y="72"/>
                  </a:lnTo>
                  <a:lnTo>
                    <a:pt x="252" y="80"/>
                  </a:lnTo>
                  <a:lnTo>
                    <a:pt x="254" y="90"/>
                  </a:lnTo>
                  <a:lnTo>
                    <a:pt x="252" y="102"/>
                  </a:lnTo>
                  <a:lnTo>
                    <a:pt x="247" y="114"/>
                  </a:lnTo>
                  <a:lnTo>
                    <a:pt x="239" y="127"/>
                  </a:lnTo>
                  <a:lnTo>
                    <a:pt x="226" y="137"/>
                  </a:lnTo>
                  <a:lnTo>
                    <a:pt x="41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54600" y="1639800"/>
              <a:ext cx="402840" cy="217440"/>
            </a:xfrm>
            <a:custGeom>
              <a:avLst/>
              <a:gdLst/>
              <a:ahLst/>
              <a:rect l="l" t="t" r="r" b="b"/>
              <a:pathLst>
                <a:path w="254" h="137">
                  <a:moveTo>
                    <a:pt x="0" y="0"/>
                  </a:moveTo>
                  <a:lnTo>
                    <a:pt x="21" y="0"/>
                  </a:lnTo>
                  <a:lnTo>
                    <a:pt x="41" y="0"/>
                  </a:lnTo>
                  <a:lnTo>
                    <a:pt x="84" y="3"/>
                  </a:lnTo>
                  <a:lnTo>
                    <a:pt x="124" y="8"/>
                  </a:lnTo>
                  <a:lnTo>
                    <a:pt x="161" y="15"/>
                  </a:lnTo>
                  <a:lnTo>
                    <a:pt x="193" y="28"/>
                  </a:lnTo>
                  <a:lnTo>
                    <a:pt x="219" y="40"/>
                  </a:lnTo>
                  <a:lnTo>
                    <a:pt x="237" y="55"/>
                  </a:lnTo>
                  <a:lnTo>
                    <a:pt x="245" y="62"/>
                  </a:lnTo>
                  <a:lnTo>
                    <a:pt x="250" y="72"/>
                  </a:lnTo>
                  <a:lnTo>
                    <a:pt x="252" y="80"/>
                  </a:lnTo>
                  <a:lnTo>
                    <a:pt x="254" y="90"/>
                  </a:lnTo>
                  <a:lnTo>
                    <a:pt x="252" y="102"/>
                  </a:lnTo>
                  <a:lnTo>
                    <a:pt x="247" y="114"/>
                  </a:lnTo>
                  <a:lnTo>
                    <a:pt x="239" y="127"/>
                  </a:lnTo>
                  <a:lnTo>
                    <a:pt x="226" y="137"/>
                  </a:lnTo>
                </a:path>
              </a:pathLst>
            </a:custGeom>
            <a:noFill/>
            <a:ln w="9360">
              <a:solidFill>
                <a:srgbClr val="6c8f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67280" y="1852560"/>
              <a:ext cx="393480" cy="225360"/>
            </a:xfrm>
            <a:custGeom>
              <a:avLst/>
              <a:gdLst/>
              <a:ahLst/>
              <a:rect l="l" t="t" r="r" b="b"/>
              <a:pathLst>
                <a:path w="248" h="142">
                  <a:moveTo>
                    <a:pt x="155" y="0"/>
                  </a:moveTo>
                  <a:lnTo>
                    <a:pt x="176" y="8"/>
                  </a:lnTo>
                  <a:lnTo>
                    <a:pt x="194" y="18"/>
                  </a:lnTo>
                  <a:lnTo>
                    <a:pt x="211" y="27"/>
                  </a:lnTo>
                  <a:lnTo>
                    <a:pt x="224" y="37"/>
                  </a:lnTo>
                  <a:lnTo>
                    <a:pt x="235" y="47"/>
                  </a:lnTo>
                  <a:lnTo>
                    <a:pt x="243" y="60"/>
                  </a:lnTo>
                  <a:lnTo>
                    <a:pt x="247" y="70"/>
                  </a:lnTo>
                  <a:lnTo>
                    <a:pt x="248" y="82"/>
                  </a:lnTo>
                  <a:lnTo>
                    <a:pt x="245" y="97"/>
                  </a:lnTo>
                  <a:lnTo>
                    <a:pt x="237" y="112"/>
                  </a:lnTo>
                  <a:lnTo>
                    <a:pt x="222" y="127"/>
                  </a:lnTo>
                  <a:lnTo>
                    <a:pt x="202" y="142"/>
                  </a:lnTo>
                  <a:lnTo>
                    <a:pt x="0" y="8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767280" y="1857240"/>
              <a:ext cx="388440" cy="216000"/>
            </a:xfrm>
            <a:custGeom>
              <a:avLst/>
              <a:gdLst/>
              <a:ahLst/>
              <a:rect l="l" t="t" r="r" b="b"/>
              <a:pathLst>
                <a:path w="245" h="136">
                  <a:moveTo>
                    <a:pt x="151" y="0"/>
                  </a:moveTo>
                  <a:lnTo>
                    <a:pt x="172" y="7"/>
                  </a:lnTo>
                  <a:lnTo>
                    <a:pt x="191" y="17"/>
                  </a:lnTo>
                  <a:lnTo>
                    <a:pt x="207" y="27"/>
                  </a:lnTo>
                  <a:lnTo>
                    <a:pt x="220" y="37"/>
                  </a:lnTo>
                  <a:lnTo>
                    <a:pt x="232" y="47"/>
                  </a:lnTo>
                  <a:lnTo>
                    <a:pt x="239" y="57"/>
                  </a:lnTo>
                  <a:lnTo>
                    <a:pt x="243" y="69"/>
                  </a:lnTo>
                  <a:lnTo>
                    <a:pt x="245" y="79"/>
                  </a:lnTo>
                  <a:lnTo>
                    <a:pt x="241" y="94"/>
                  </a:lnTo>
                  <a:lnTo>
                    <a:pt x="233" y="109"/>
                  </a:lnTo>
                  <a:lnTo>
                    <a:pt x="219" y="124"/>
                  </a:lnTo>
                  <a:lnTo>
                    <a:pt x="198" y="136"/>
                  </a:lnTo>
                  <a:lnTo>
                    <a:pt x="0" y="79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07040" y="1857240"/>
              <a:ext cx="148680" cy="216000"/>
            </a:xfrm>
            <a:custGeom>
              <a:avLst/>
              <a:gdLst/>
              <a:ahLst/>
              <a:rect l="l" t="t" r="r" b="b"/>
              <a:pathLst>
                <a:path w="94" h="136">
                  <a:moveTo>
                    <a:pt x="0" y="0"/>
                  </a:moveTo>
                  <a:lnTo>
                    <a:pt x="21" y="7"/>
                  </a:lnTo>
                  <a:lnTo>
                    <a:pt x="40" y="17"/>
                  </a:lnTo>
                  <a:lnTo>
                    <a:pt x="56" y="27"/>
                  </a:lnTo>
                  <a:lnTo>
                    <a:pt x="69" y="37"/>
                  </a:lnTo>
                  <a:lnTo>
                    <a:pt x="81" y="47"/>
                  </a:lnTo>
                  <a:lnTo>
                    <a:pt x="88" y="57"/>
                  </a:lnTo>
                  <a:lnTo>
                    <a:pt x="92" y="69"/>
                  </a:lnTo>
                  <a:lnTo>
                    <a:pt x="94" y="79"/>
                  </a:lnTo>
                  <a:lnTo>
                    <a:pt x="90" y="94"/>
                  </a:lnTo>
                  <a:lnTo>
                    <a:pt x="82" y="109"/>
                  </a:lnTo>
                  <a:lnTo>
                    <a:pt x="68" y="124"/>
                  </a:lnTo>
                  <a:lnTo>
                    <a:pt x="47" y="136"/>
                  </a:lnTo>
                </a:path>
              </a:pathLst>
            </a:custGeom>
            <a:noFill/>
            <a:ln w="9360">
              <a:solidFill>
                <a:srgbClr val="6c8f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640200" y="2073240"/>
              <a:ext cx="458640" cy="318960"/>
            </a:xfrm>
            <a:custGeom>
              <a:avLst/>
              <a:gdLst/>
              <a:ahLst/>
              <a:rect l="l" t="t" r="r" b="b"/>
              <a:pathLst>
                <a:path w="289" h="201">
                  <a:moveTo>
                    <a:pt x="280" y="0"/>
                  </a:moveTo>
                  <a:lnTo>
                    <a:pt x="287" y="22"/>
                  </a:lnTo>
                  <a:lnTo>
                    <a:pt x="289" y="45"/>
                  </a:lnTo>
                  <a:lnTo>
                    <a:pt x="287" y="62"/>
                  </a:lnTo>
                  <a:lnTo>
                    <a:pt x="286" y="77"/>
                  </a:lnTo>
                  <a:lnTo>
                    <a:pt x="280" y="92"/>
                  </a:lnTo>
                  <a:lnTo>
                    <a:pt x="272" y="107"/>
                  </a:lnTo>
                  <a:lnTo>
                    <a:pt x="252" y="131"/>
                  </a:lnTo>
                  <a:lnTo>
                    <a:pt x="226" y="156"/>
                  </a:lnTo>
                  <a:lnTo>
                    <a:pt x="192" y="174"/>
                  </a:lnTo>
                  <a:lnTo>
                    <a:pt x="155" y="188"/>
                  </a:lnTo>
                  <a:lnTo>
                    <a:pt x="114" y="198"/>
                  </a:lnTo>
                  <a:lnTo>
                    <a:pt x="71" y="201"/>
                  </a:lnTo>
                  <a:lnTo>
                    <a:pt x="36" y="198"/>
                  </a:lnTo>
                  <a:lnTo>
                    <a:pt x="0" y="193"/>
                  </a:lnTo>
                  <a:lnTo>
                    <a:pt x="71" y="45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643440" y="2073240"/>
              <a:ext cx="450360" cy="311040"/>
            </a:xfrm>
            <a:custGeom>
              <a:avLst/>
              <a:gdLst/>
              <a:ahLst/>
              <a:rect l="l" t="t" r="r" b="b"/>
              <a:pathLst>
                <a:path w="284" h="196">
                  <a:moveTo>
                    <a:pt x="274" y="0"/>
                  </a:moveTo>
                  <a:lnTo>
                    <a:pt x="280" y="12"/>
                  </a:lnTo>
                  <a:lnTo>
                    <a:pt x="282" y="22"/>
                  </a:lnTo>
                  <a:lnTo>
                    <a:pt x="284" y="45"/>
                  </a:lnTo>
                  <a:lnTo>
                    <a:pt x="282" y="60"/>
                  </a:lnTo>
                  <a:lnTo>
                    <a:pt x="280" y="74"/>
                  </a:lnTo>
                  <a:lnTo>
                    <a:pt x="274" y="89"/>
                  </a:lnTo>
                  <a:lnTo>
                    <a:pt x="267" y="104"/>
                  </a:lnTo>
                  <a:lnTo>
                    <a:pt x="248" y="129"/>
                  </a:lnTo>
                  <a:lnTo>
                    <a:pt x="222" y="151"/>
                  </a:lnTo>
                  <a:lnTo>
                    <a:pt x="190" y="171"/>
                  </a:lnTo>
                  <a:lnTo>
                    <a:pt x="153" y="184"/>
                  </a:lnTo>
                  <a:lnTo>
                    <a:pt x="112" y="193"/>
                  </a:lnTo>
                  <a:lnTo>
                    <a:pt x="69" y="196"/>
                  </a:lnTo>
                  <a:lnTo>
                    <a:pt x="34" y="193"/>
                  </a:lnTo>
                  <a:lnTo>
                    <a:pt x="0" y="188"/>
                  </a:lnTo>
                  <a:lnTo>
                    <a:pt x="69" y="45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643440" y="2073240"/>
              <a:ext cx="450360" cy="311040"/>
            </a:xfrm>
            <a:custGeom>
              <a:avLst/>
              <a:gdLst/>
              <a:ahLst/>
              <a:rect l="l" t="t" r="r" b="b"/>
              <a:pathLst>
                <a:path w="284" h="196">
                  <a:moveTo>
                    <a:pt x="274" y="0"/>
                  </a:moveTo>
                  <a:lnTo>
                    <a:pt x="280" y="12"/>
                  </a:lnTo>
                  <a:lnTo>
                    <a:pt x="282" y="22"/>
                  </a:lnTo>
                  <a:lnTo>
                    <a:pt x="284" y="45"/>
                  </a:lnTo>
                  <a:lnTo>
                    <a:pt x="282" y="60"/>
                  </a:lnTo>
                  <a:lnTo>
                    <a:pt x="280" y="74"/>
                  </a:lnTo>
                  <a:lnTo>
                    <a:pt x="274" y="89"/>
                  </a:lnTo>
                  <a:lnTo>
                    <a:pt x="267" y="104"/>
                  </a:lnTo>
                  <a:lnTo>
                    <a:pt x="248" y="129"/>
                  </a:lnTo>
                  <a:lnTo>
                    <a:pt x="222" y="151"/>
                  </a:lnTo>
                  <a:lnTo>
                    <a:pt x="190" y="171"/>
                  </a:lnTo>
                  <a:lnTo>
                    <a:pt x="153" y="184"/>
                  </a:lnTo>
                  <a:lnTo>
                    <a:pt x="112" y="193"/>
                  </a:lnTo>
                  <a:lnTo>
                    <a:pt x="69" y="196"/>
                  </a:lnTo>
                  <a:lnTo>
                    <a:pt x="34" y="193"/>
                  </a:lnTo>
                  <a:lnTo>
                    <a:pt x="0" y="188"/>
                  </a:lnTo>
                </a:path>
              </a:pathLst>
            </a:custGeom>
            <a:noFill/>
            <a:ln w="9360">
              <a:solidFill>
                <a:srgbClr val="6c8f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048280" y="1852560"/>
              <a:ext cx="250560" cy="303120"/>
            </a:xfrm>
            <a:custGeom>
              <a:avLst/>
              <a:gdLst/>
              <a:ahLst/>
              <a:rect l="l" t="t" r="r" b="b"/>
              <a:pathLst>
                <a:path w="158" h="191">
                  <a:moveTo>
                    <a:pt x="93" y="191"/>
                  </a:moveTo>
                  <a:lnTo>
                    <a:pt x="72" y="184"/>
                  </a:lnTo>
                  <a:lnTo>
                    <a:pt x="56" y="176"/>
                  </a:lnTo>
                  <a:lnTo>
                    <a:pt x="39" y="164"/>
                  </a:lnTo>
                  <a:lnTo>
                    <a:pt x="26" y="154"/>
                  </a:lnTo>
                  <a:lnTo>
                    <a:pt x="15" y="142"/>
                  </a:lnTo>
                  <a:lnTo>
                    <a:pt x="7" y="129"/>
                  </a:lnTo>
                  <a:lnTo>
                    <a:pt x="1" y="114"/>
                  </a:lnTo>
                  <a:lnTo>
                    <a:pt x="0" y="99"/>
                  </a:lnTo>
                  <a:lnTo>
                    <a:pt x="3" y="80"/>
                  </a:lnTo>
                  <a:lnTo>
                    <a:pt x="11" y="62"/>
                  </a:lnTo>
                  <a:lnTo>
                    <a:pt x="24" y="45"/>
                  </a:lnTo>
                  <a:lnTo>
                    <a:pt x="42" y="32"/>
                  </a:lnTo>
                  <a:lnTo>
                    <a:pt x="65" y="20"/>
                  </a:lnTo>
                  <a:lnTo>
                    <a:pt x="91" y="10"/>
                  </a:lnTo>
                  <a:lnTo>
                    <a:pt x="119" y="3"/>
                  </a:lnTo>
                  <a:lnTo>
                    <a:pt x="149" y="0"/>
                  </a:lnTo>
                  <a:lnTo>
                    <a:pt x="158" y="99"/>
                  </a:lnTo>
                  <a:lnTo>
                    <a:pt x="93" y="191"/>
                  </a:lnTo>
                  <a:close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052600" y="1857240"/>
              <a:ext cx="245880" cy="295200"/>
            </a:xfrm>
            <a:custGeom>
              <a:avLst/>
              <a:gdLst/>
              <a:ahLst/>
              <a:rect l="l" t="t" r="r" b="b"/>
              <a:pathLst>
                <a:path w="155" h="186">
                  <a:moveTo>
                    <a:pt x="94" y="186"/>
                  </a:moveTo>
                  <a:lnTo>
                    <a:pt x="73" y="178"/>
                  </a:lnTo>
                  <a:lnTo>
                    <a:pt x="56" y="171"/>
                  </a:lnTo>
                  <a:lnTo>
                    <a:pt x="39" y="161"/>
                  </a:lnTo>
                  <a:lnTo>
                    <a:pt x="26" y="151"/>
                  </a:lnTo>
                  <a:lnTo>
                    <a:pt x="15" y="139"/>
                  </a:lnTo>
                  <a:lnTo>
                    <a:pt x="8" y="126"/>
                  </a:lnTo>
                  <a:lnTo>
                    <a:pt x="2" y="111"/>
                  </a:lnTo>
                  <a:lnTo>
                    <a:pt x="0" y="96"/>
                  </a:lnTo>
                  <a:lnTo>
                    <a:pt x="4" y="79"/>
                  </a:lnTo>
                  <a:lnTo>
                    <a:pt x="12" y="62"/>
                  </a:lnTo>
                  <a:lnTo>
                    <a:pt x="25" y="44"/>
                  </a:lnTo>
                  <a:lnTo>
                    <a:pt x="43" y="32"/>
                  </a:lnTo>
                  <a:lnTo>
                    <a:pt x="64" y="20"/>
                  </a:lnTo>
                  <a:lnTo>
                    <a:pt x="88" y="10"/>
                  </a:lnTo>
                  <a:lnTo>
                    <a:pt x="116" y="2"/>
                  </a:lnTo>
                  <a:lnTo>
                    <a:pt x="146" y="0"/>
                  </a:lnTo>
                  <a:lnTo>
                    <a:pt x="155" y="96"/>
                  </a:lnTo>
                  <a:lnTo>
                    <a:pt x="94" y="186"/>
                  </a:lnTo>
                  <a:close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052600" y="1857240"/>
              <a:ext cx="231480" cy="295200"/>
            </a:xfrm>
            <a:custGeom>
              <a:avLst/>
              <a:gdLst/>
              <a:ahLst/>
              <a:rect l="l" t="t" r="r" b="b"/>
              <a:pathLst>
                <a:path w="146" h="186">
                  <a:moveTo>
                    <a:pt x="94" y="186"/>
                  </a:moveTo>
                  <a:lnTo>
                    <a:pt x="73" y="178"/>
                  </a:lnTo>
                  <a:lnTo>
                    <a:pt x="56" y="171"/>
                  </a:lnTo>
                  <a:lnTo>
                    <a:pt x="39" y="161"/>
                  </a:lnTo>
                  <a:lnTo>
                    <a:pt x="26" y="151"/>
                  </a:lnTo>
                  <a:lnTo>
                    <a:pt x="15" y="139"/>
                  </a:lnTo>
                  <a:lnTo>
                    <a:pt x="8" y="126"/>
                  </a:lnTo>
                  <a:lnTo>
                    <a:pt x="2" y="111"/>
                  </a:lnTo>
                  <a:lnTo>
                    <a:pt x="0" y="96"/>
                  </a:lnTo>
                  <a:lnTo>
                    <a:pt x="4" y="79"/>
                  </a:lnTo>
                  <a:lnTo>
                    <a:pt x="12" y="62"/>
                  </a:lnTo>
                  <a:lnTo>
                    <a:pt x="25" y="44"/>
                  </a:lnTo>
                  <a:lnTo>
                    <a:pt x="43" y="32"/>
                  </a:lnTo>
                  <a:lnTo>
                    <a:pt x="64" y="20"/>
                  </a:lnTo>
                  <a:lnTo>
                    <a:pt x="88" y="10"/>
                  </a:lnTo>
                  <a:lnTo>
                    <a:pt x="116" y="2"/>
                  </a:lnTo>
                  <a:lnTo>
                    <a:pt x="146" y="0"/>
                  </a:lnTo>
                </a:path>
              </a:pathLst>
            </a:custGeom>
            <a:noFill/>
            <a:ln w="9360">
              <a:solidFill>
                <a:srgbClr val="6c8f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709960" y="2266920"/>
              <a:ext cx="942480" cy="184320"/>
            </a:xfrm>
            <a:custGeom>
              <a:avLst/>
              <a:gdLst/>
              <a:ahLst/>
              <a:rect l="l" t="t" r="r" b="b"/>
              <a:pathLst>
                <a:path w="594" h="116">
                  <a:moveTo>
                    <a:pt x="594" y="66"/>
                  </a:moveTo>
                  <a:lnTo>
                    <a:pt x="569" y="79"/>
                  </a:lnTo>
                  <a:lnTo>
                    <a:pt x="541" y="89"/>
                  </a:lnTo>
                  <a:lnTo>
                    <a:pt x="510" y="96"/>
                  </a:lnTo>
                  <a:lnTo>
                    <a:pt x="476" y="104"/>
                  </a:lnTo>
                  <a:lnTo>
                    <a:pt x="441" y="109"/>
                  </a:lnTo>
                  <a:lnTo>
                    <a:pt x="403" y="114"/>
                  </a:lnTo>
                  <a:lnTo>
                    <a:pt x="323" y="116"/>
                  </a:lnTo>
                  <a:lnTo>
                    <a:pt x="265" y="114"/>
                  </a:lnTo>
                  <a:lnTo>
                    <a:pt x="211" y="109"/>
                  </a:lnTo>
                  <a:lnTo>
                    <a:pt x="161" y="101"/>
                  </a:lnTo>
                  <a:lnTo>
                    <a:pt x="114" y="91"/>
                  </a:lnTo>
                  <a:lnTo>
                    <a:pt x="75" y="76"/>
                  </a:lnTo>
                  <a:lnTo>
                    <a:pt x="58" y="69"/>
                  </a:lnTo>
                  <a:lnTo>
                    <a:pt x="41" y="62"/>
                  </a:lnTo>
                  <a:lnTo>
                    <a:pt x="28" y="54"/>
                  </a:lnTo>
                  <a:lnTo>
                    <a:pt x="17" y="44"/>
                  </a:lnTo>
                  <a:lnTo>
                    <a:pt x="8" y="34"/>
                  </a:lnTo>
                  <a:lnTo>
                    <a:pt x="0" y="24"/>
                  </a:lnTo>
                  <a:lnTo>
                    <a:pt x="323" y="0"/>
                  </a:lnTo>
                  <a:lnTo>
                    <a:pt x="594" y="66"/>
                  </a:lnTo>
                  <a:close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716440" y="2266920"/>
              <a:ext cx="929880" cy="181080"/>
            </a:xfrm>
            <a:custGeom>
              <a:avLst/>
              <a:gdLst/>
              <a:ahLst/>
              <a:rect l="l" t="t" r="r" b="b"/>
              <a:pathLst>
                <a:path w="586" h="114">
                  <a:moveTo>
                    <a:pt x="586" y="66"/>
                  </a:moveTo>
                  <a:lnTo>
                    <a:pt x="562" y="76"/>
                  </a:lnTo>
                  <a:lnTo>
                    <a:pt x="534" y="86"/>
                  </a:lnTo>
                  <a:lnTo>
                    <a:pt x="502" y="94"/>
                  </a:lnTo>
                  <a:lnTo>
                    <a:pt x="470" y="101"/>
                  </a:lnTo>
                  <a:lnTo>
                    <a:pt x="435" y="106"/>
                  </a:lnTo>
                  <a:lnTo>
                    <a:pt x="397" y="111"/>
                  </a:lnTo>
                  <a:lnTo>
                    <a:pt x="321" y="114"/>
                  </a:lnTo>
                  <a:lnTo>
                    <a:pt x="265" y="111"/>
                  </a:lnTo>
                  <a:lnTo>
                    <a:pt x="211" y="106"/>
                  </a:lnTo>
                  <a:lnTo>
                    <a:pt x="161" y="99"/>
                  </a:lnTo>
                  <a:lnTo>
                    <a:pt x="114" y="89"/>
                  </a:lnTo>
                  <a:lnTo>
                    <a:pt x="75" y="74"/>
                  </a:lnTo>
                  <a:lnTo>
                    <a:pt x="58" y="66"/>
                  </a:lnTo>
                  <a:lnTo>
                    <a:pt x="41" y="59"/>
                  </a:lnTo>
                  <a:lnTo>
                    <a:pt x="28" y="52"/>
                  </a:lnTo>
                  <a:lnTo>
                    <a:pt x="17" y="42"/>
                  </a:lnTo>
                  <a:lnTo>
                    <a:pt x="8" y="32"/>
                  </a:lnTo>
                  <a:lnTo>
                    <a:pt x="0" y="22"/>
                  </a:lnTo>
                  <a:lnTo>
                    <a:pt x="321" y="0"/>
                  </a:lnTo>
                  <a:lnTo>
                    <a:pt x="586" y="66"/>
                  </a:lnTo>
                  <a:close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16440" y="2301840"/>
              <a:ext cx="929880" cy="146160"/>
            </a:xfrm>
            <a:custGeom>
              <a:avLst/>
              <a:gdLst/>
              <a:ahLst/>
              <a:rect l="l" t="t" r="r" b="b"/>
              <a:pathLst>
                <a:path w="586" h="92">
                  <a:moveTo>
                    <a:pt x="586" y="44"/>
                  </a:moveTo>
                  <a:lnTo>
                    <a:pt x="562" y="54"/>
                  </a:lnTo>
                  <a:lnTo>
                    <a:pt x="534" y="64"/>
                  </a:lnTo>
                  <a:lnTo>
                    <a:pt x="502" y="72"/>
                  </a:lnTo>
                  <a:lnTo>
                    <a:pt x="470" y="79"/>
                  </a:lnTo>
                  <a:lnTo>
                    <a:pt x="435" y="84"/>
                  </a:lnTo>
                  <a:lnTo>
                    <a:pt x="397" y="89"/>
                  </a:lnTo>
                  <a:lnTo>
                    <a:pt x="321" y="92"/>
                  </a:lnTo>
                  <a:lnTo>
                    <a:pt x="265" y="89"/>
                  </a:lnTo>
                  <a:lnTo>
                    <a:pt x="211" y="84"/>
                  </a:lnTo>
                  <a:lnTo>
                    <a:pt x="161" y="77"/>
                  </a:lnTo>
                  <a:lnTo>
                    <a:pt x="114" y="67"/>
                  </a:lnTo>
                  <a:lnTo>
                    <a:pt x="75" y="52"/>
                  </a:lnTo>
                  <a:lnTo>
                    <a:pt x="58" y="44"/>
                  </a:lnTo>
                  <a:lnTo>
                    <a:pt x="41" y="37"/>
                  </a:lnTo>
                  <a:lnTo>
                    <a:pt x="28" y="30"/>
                  </a:lnTo>
                  <a:lnTo>
                    <a:pt x="17" y="2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6c8f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4896000" y="1665360"/>
            <a:ext cx="1831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78960" y="187488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00"/>
                </a:solidFill>
                <a:latin typeface="Arial"/>
              </a:rPr>
              <a:t>Wip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630400" y="187488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800000"/>
                </a:solidFill>
                <a:latin typeface="Arial"/>
              </a:rPr>
              <a:t>VoiceEng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2017800" y="2846520"/>
            <a:ext cx="1680840" cy="1380960"/>
            <a:chOff x="2017800" y="2846520"/>
            <a:chExt cx="1680840" cy="1380960"/>
          </a:xfrm>
        </p:grpSpPr>
        <p:grpSp>
          <p:nvGrpSpPr>
            <p:cNvPr id="784" name=""/>
            <p:cNvGrpSpPr/>
            <p:nvPr/>
          </p:nvGrpSpPr>
          <p:grpSpPr>
            <a:xfrm>
              <a:off x="2185920" y="3449520"/>
              <a:ext cx="414360" cy="398520"/>
              <a:chOff x="2185920" y="3449520"/>
              <a:chExt cx="414360" cy="398520"/>
            </a:xfrm>
          </p:grpSpPr>
          <p:sp>
            <p:nvSpPr>
              <p:cNvPr id="785" name=""/>
              <p:cNvSpPr/>
              <p:nvPr/>
            </p:nvSpPr>
            <p:spPr>
              <a:xfrm>
                <a:off x="2185920" y="3765600"/>
                <a:ext cx="279360" cy="82440"/>
              </a:xfrm>
              <a:prstGeom prst="rect">
                <a:avLst/>
              </a:pr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185920" y="3765600"/>
                <a:ext cx="276120" cy="79200"/>
              </a:xfrm>
              <a:prstGeom prst="rect">
                <a:avLst/>
              </a:prstGeom>
              <a:solidFill>
                <a:srgbClr val="b7b79d"/>
              </a:solidFill>
              <a:ln w="324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185920" y="3497400"/>
                <a:ext cx="414360" cy="268200"/>
              </a:xfrm>
              <a:custGeom>
                <a:avLst/>
                <a:gdLst/>
                <a:ahLst/>
                <a:rect l="l" t="t" r="r" b="b"/>
                <a:pathLst>
                  <a:path w="1307" h="676">
                    <a:moveTo>
                      <a:pt x="0" y="676"/>
                    </a:moveTo>
                    <a:lnTo>
                      <a:pt x="427" y="0"/>
                    </a:lnTo>
                    <a:lnTo>
                      <a:pt x="1307" y="0"/>
                    </a:lnTo>
                    <a:lnTo>
                      <a:pt x="880" y="676"/>
                    </a:lnTo>
                    <a:lnTo>
                      <a:pt x="0" y="676"/>
                    </a:lnTo>
                    <a:close/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185920" y="3497400"/>
                <a:ext cx="414360" cy="268200"/>
              </a:xfrm>
              <a:custGeom>
                <a:avLst/>
                <a:gdLst/>
                <a:ahLst/>
                <a:rect l="l" t="t" r="r" b="b"/>
                <a:pathLst>
                  <a:path w="1307" h="676">
                    <a:moveTo>
                      <a:pt x="0" y="676"/>
                    </a:moveTo>
                    <a:lnTo>
                      <a:pt x="427" y="0"/>
                    </a:lnTo>
                    <a:lnTo>
                      <a:pt x="1307" y="0"/>
                    </a:lnTo>
                    <a:lnTo>
                      <a:pt x="880" y="676"/>
                    </a:lnTo>
                    <a:lnTo>
                      <a:pt x="0" y="676"/>
                    </a:lnTo>
                    <a:close/>
                  </a:path>
                </a:pathLst>
              </a:custGeom>
              <a:solidFill>
                <a:srgbClr val="c9c9b6"/>
              </a:solidFill>
              <a:ln w="32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465280" y="3497400"/>
                <a:ext cx="135000" cy="350640"/>
              </a:xfrm>
              <a:custGeom>
                <a:avLst/>
                <a:gdLst/>
                <a:ahLst/>
                <a:rect l="l" t="t" r="r" b="b"/>
                <a:pathLst>
                  <a:path w="427" h="884">
                    <a:moveTo>
                      <a:pt x="0" y="884"/>
                    </a:moveTo>
                    <a:lnTo>
                      <a:pt x="427" y="459"/>
                    </a:lnTo>
                    <a:lnTo>
                      <a:pt x="427" y="0"/>
                    </a:lnTo>
                    <a:lnTo>
                      <a:pt x="0" y="676"/>
                    </a:lnTo>
                    <a:lnTo>
                      <a:pt x="0" y="884"/>
                    </a:lnTo>
                    <a:close/>
                  </a:path>
                </a:pathLst>
              </a:cu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465280" y="3497400"/>
                <a:ext cx="135000" cy="350640"/>
              </a:xfrm>
              <a:custGeom>
                <a:avLst/>
                <a:gdLst/>
                <a:ahLst/>
                <a:rect l="l" t="t" r="r" b="b"/>
                <a:pathLst>
                  <a:path w="427" h="884">
                    <a:moveTo>
                      <a:pt x="0" y="884"/>
                    </a:moveTo>
                    <a:lnTo>
                      <a:pt x="427" y="459"/>
                    </a:lnTo>
                    <a:lnTo>
                      <a:pt x="427" y="0"/>
                    </a:lnTo>
                    <a:lnTo>
                      <a:pt x="0" y="676"/>
                    </a:lnTo>
                    <a:lnTo>
                      <a:pt x="0" y="884"/>
                    </a:lnTo>
                    <a:close/>
                  </a:path>
                </a:pathLst>
              </a:custGeom>
              <a:solidFill>
                <a:srgbClr val="7a7a5a"/>
              </a:solidFill>
              <a:ln w="32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252520" y="3449520"/>
                <a:ext cx="201600" cy="239760"/>
              </a:xfrm>
              <a:custGeom>
                <a:avLst/>
                <a:gdLst/>
                <a:ahLst/>
                <a:rect l="l" t="t" r="r" b="b"/>
                <a:pathLst>
                  <a:path w="635" h="604">
                    <a:moveTo>
                      <a:pt x="0" y="604"/>
                    </a:moveTo>
                    <a:lnTo>
                      <a:pt x="100" y="415"/>
                    </a:lnTo>
                    <a:lnTo>
                      <a:pt x="282" y="190"/>
                    </a:lnTo>
                    <a:lnTo>
                      <a:pt x="454" y="0"/>
                    </a:lnTo>
                    <a:lnTo>
                      <a:pt x="635" y="0"/>
                    </a:lnTo>
                    <a:lnTo>
                      <a:pt x="445" y="199"/>
                    </a:lnTo>
                    <a:lnTo>
                      <a:pt x="263" y="433"/>
                    </a:lnTo>
                    <a:lnTo>
                      <a:pt x="173" y="604"/>
                    </a:lnTo>
                    <a:lnTo>
                      <a:pt x="0" y="604"/>
                    </a:lnTo>
                    <a:close/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252520" y="3449520"/>
                <a:ext cx="201600" cy="239760"/>
              </a:xfrm>
              <a:custGeom>
                <a:avLst/>
                <a:gdLst/>
                <a:ahLst/>
                <a:rect l="l" t="t" r="r" b="b"/>
                <a:pathLst>
                  <a:path w="635" h="604">
                    <a:moveTo>
                      <a:pt x="0" y="604"/>
                    </a:moveTo>
                    <a:lnTo>
                      <a:pt x="100" y="415"/>
                    </a:lnTo>
                    <a:lnTo>
                      <a:pt x="282" y="190"/>
                    </a:lnTo>
                    <a:lnTo>
                      <a:pt x="454" y="0"/>
                    </a:lnTo>
                    <a:lnTo>
                      <a:pt x="635" y="0"/>
                    </a:lnTo>
                    <a:lnTo>
                      <a:pt x="445" y="199"/>
                    </a:lnTo>
                    <a:lnTo>
                      <a:pt x="263" y="433"/>
                    </a:lnTo>
                    <a:lnTo>
                      <a:pt x="173" y="604"/>
                    </a:lnTo>
                    <a:lnTo>
                      <a:pt x="0" y="604"/>
                    </a:lnTo>
                    <a:close/>
                  </a:path>
                </a:pathLst>
              </a:custGeom>
              <a:solidFill>
                <a:srgbClr val="c9c9b6"/>
              </a:solidFill>
              <a:ln w="32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252520" y="368928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191" h="145">
                    <a:moveTo>
                      <a:pt x="0" y="0"/>
                    </a:moveTo>
                    <a:lnTo>
                      <a:pt x="0" y="145"/>
                    </a:lnTo>
                    <a:lnTo>
                      <a:pt x="191" y="145"/>
                    </a:lnTo>
                    <a:lnTo>
                      <a:pt x="1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52520" y="368928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191" h="145">
                    <a:moveTo>
                      <a:pt x="0" y="0"/>
                    </a:moveTo>
                    <a:lnTo>
                      <a:pt x="0" y="145"/>
                    </a:lnTo>
                    <a:lnTo>
                      <a:pt x="191" y="145"/>
                    </a:lnTo>
                    <a:lnTo>
                      <a:pt x="1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79d"/>
              </a:solidFill>
              <a:ln w="32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306520" y="3449520"/>
                <a:ext cx="152640" cy="297000"/>
              </a:xfrm>
              <a:custGeom>
                <a:avLst/>
                <a:gdLst/>
                <a:ahLst/>
                <a:rect l="l" t="t" r="r" b="b"/>
                <a:pathLst>
                  <a:path w="480" h="749">
                    <a:moveTo>
                      <a:pt x="462" y="0"/>
                    </a:moveTo>
                    <a:lnTo>
                      <a:pt x="480" y="145"/>
                    </a:lnTo>
                    <a:lnTo>
                      <a:pt x="354" y="298"/>
                    </a:lnTo>
                    <a:lnTo>
                      <a:pt x="345" y="253"/>
                    </a:lnTo>
                    <a:lnTo>
                      <a:pt x="172" y="460"/>
                    </a:lnTo>
                    <a:lnTo>
                      <a:pt x="172" y="505"/>
                    </a:lnTo>
                    <a:lnTo>
                      <a:pt x="18" y="749"/>
                    </a:lnTo>
                    <a:lnTo>
                      <a:pt x="0" y="604"/>
                    </a:lnTo>
                    <a:lnTo>
                      <a:pt x="90" y="433"/>
                    </a:lnTo>
                    <a:lnTo>
                      <a:pt x="272" y="199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306520" y="3449520"/>
                <a:ext cx="152640" cy="297000"/>
              </a:xfrm>
              <a:custGeom>
                <a:avLst/>
                <a:gdLst/>
                <a:ahLst/>
                <a:rect l="l" t="t" r="r" b="b"/>
                <a:pathLst>
                  <a:path w="480" h="749">
                    <a:moveTo>
                      <a:pt x="462" y="0"/>
                    </a:moveTo>
                    <a:lnTo>
                      <a:pt x="480" y="145"/>
                    </a:lnTo>
                    <a:lnTo>
                      <a:pt x="354" y="298"/>
                    </a:lnTo>
                    <a:lnTo>
                      <a:pt x="345" y="253"/>
                    </a:lnTo>
                    <a:lnTo>
                      <a:pt x="172" y="460"/>
                    </a:lnTo>
                    <a:lnTo>
                      <a:pt x="172" y="505"/>
                    </a:lnTo>
                    <a:lnTo>
                      <a:pt x="18" y="749"/>
                    </a:lnTo>
                    <a:lnTo>
                      <a:pt x="0" y="604"/>
                    </a:lnTo>
                    <a:lnTo>
                      <a:pt x="90" y="433"/>
                    </a:lnTo>
                    <a:lnTo>
                      <a:pt x="272" y="199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7a7a5a"/>
              </a:solidFill>
              <a:ln w="32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355840" y="3618000"/>
                <a:ext cx="141120" cy="114120"/>
              </a:xfrm>
              <a:custGeom>
                <a:avLst/>
                <a:gdLst/>
                <a:ahLst/>
                <a:rect l="l" t="t" r="r" b="b"/>
                <a:pathLst>
                  <a:path w="444" h="289">
                    <a:moveTo>
                      <a:pt x="0" y="289"/>
                    </a:moveTo>
                    <a:lnTo>
                      <a:pt x="182" y="0"/>
                    </a:lnTo>
                    <a:lnTo>
                      <a:pt x="444" y="0"/>
                    </a:lnTo>
                    <a:lnTo>
                      <a:pt x="263" y="289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357280" y="3619440"/>
                <a:ext cx="141480" cy="115920"/>
              </a:xfrm>
              <a:custGeom>
                <a:avLst/>
                <a:gdLst/>
                <a:ahLst/>
                <a:rect l="l" t="t" r="r" b="b"/>
                <a:pathLst>
                  <a:path w="443" h="289">
                    <a:moveTo>
                      <a:pt x="0" y="289"/>
                    </a:moveTo>
                    <a:lnTo>
                      <a:pt x="181" y="0"/>
                    </a:lnTo>
                    <a:lnTo>
                      <a:pt x="443" y="0"/>
                    </a:lnTo>
                    <a:lnTo>
                      <a:pt x="263" y="289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7a7a5a"/>
              </a:solidFill>
              <a:ln w="6480">
                <a:solidFill>
                  <a:srgbClr val="eded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2384280" y="3617640"/>
                <a:ext cx="61920" cy="122040"/>
              </a:xfrm>
              <a:prstGeom prst="line">
                <a:avLst/>
              </a:prstGeom>
              <a:ln w="4680">
                <a:solidFill>
                  <a:srgbClr val="ede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2413080" y="3617640"/>
                <a:ext cx="61920" cy="122040"/>
              </a:xfrm>
              <a:prstGeom prst="line">
                <a:avLst/>
              </a:prstGeom>
              <a:ln w="4680">
                <a:solidFill>
                  <a:srgbClr val="ede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2398680" y="3649680"/>
                <a:ext cx="85680" cy="1440"/>
              </a:xfrm>
              <a:prstGeom prst="line">
                <a:avLst/>
              </a:prstGeom>
              <a:ln w="6480">
                <a:solidFill>
                  <a:srgbClr val="ede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2387520" y="3679920"/>
                <a:ext cx="82800" cy="1440"/>
              </a:xfrm>
              <a:prstGeom prst="line">
                <a:avLst/>
              </a:prstGeom>
              <a:ln w="6480">
                <a:solidFill>
                  <a:srgbClr val="ede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373120" y="3708360"/>
                <a:ext cx="82440" cy="1800"/>
              </a:xfrm>
              <a:prstGeom prst="line">
                <a:avLst/>
              </a:prstGeom>
              <a:ln w="6480">
                <a:solidFill>
                  <a:srgbClr val="ede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2744640" y="3448080"/>
              <a:ext cx="704520" cy="533160"/>
              <a:chOff x="2744640" y="3448080"/>
              <a:chExt cx="704520" cy="533160"/>
            </a:xfrm>
          </p:grpSpPr>
          <p:grpSp>
            <p:nvGrpSpPr>
              <p:cNvPr id="805" name=""/>
              <p:cNvGrpSpPr/>
              <p:nvPr/>
            </p:nvGrpSpPr>
            <p:grpSpPr>
              <a:xfrm>
                <a:off x="2965320" y="3448080"/>
                <a:ext cx="483840" cy="339840"/>
                <a:chOff x="2965320" y="3448080"/>
                <a:chExt cx="483840" cy="33984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2965320" y="3675240"/>
                  <a:ext cx="414360" cy="63360"/>
                </a:xfrm>
                <a:prstGeom prst="rect">
                  <a:avLst/>
                </a:pr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2965320" y="3675240"/>
                  <a:ext cx="414360" cy="63360"/>
                </a:xfrm>
                <a:prstGeom prst="rect">
                  <a:avLst/>
                </a:prstGeom>
                <a:solidFill>
                  <a:srgbClr val="b7b79d"/>
                </a:solidFill>
                <a:ln w="144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2965320" y="3641760"/>
                  <a:ext cx="459000" cy="33480"/>
                </a:xfrm>
                <a:custGeom>
                  <a:avLst/>
                  <a:gdLst/>
                  <a:ahLst/>
                  <a:rect l="l" t="t" r="r" b="b"/>
                  <a:pathLst>
                    <a:path w="289" h="21">
                      <a:moveTo>
                        <a:pt x="0" y="21"/>
                      </a:moveTo>
                      <a:lnTo>
                        <a:pt x="28" y="0"/>
                      </a:lnTo>
                      <a:lnTo>
                        <a:pt x="289" y="0"/>
                      </a:lnTo>
                      <a:lnTo>
                        <a:pt x="261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2965320" y="3641760"/>
                  <a:ext cx="459000" cy="33480"/>
                </a:xfrm>
                <a:custGeom>
                  <a:avLst/>
                  <a:gdLst/>
                  <a:ahLst/>
                  <a:rect l="l" t="t" r="r" b="b"/>
                  <a:pathLst>
                    <a:path w="289" h="21">
                      <a:moveTo>
                        <a:pt x="0" y="21"/>
                      </a:moveTo>
                      <a:lnTo>
                        <a:pt x="28" y="0"/>
                      </a:lnTo>
                      <a:lnTo>
                        <a:pt x="289" y="0"/>
                      </a:lnTo>
                      <a:lnTo>
                        <a:pt x="261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144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H="1">
                  <a:off x="3165120" y="3703680"/>
                  <a:ext cx="28404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379680" y="3641760"/>
                  <a:ext cx="44640" cy="96840"/>
                </a:xfrm>
                <a:custGeom>
                  <a:avLst/>
                  <a:gdLst/>
                  <a:ahLst/>
                  <a:rect l="l" t="t" r="r" b="b"/>
                  <a:pathLst>
                    <a:path w="28" h="61">
                      <a:moveTo>
                        <a:pt x="0" y="61"/>
                      </a:moveTo>
                      <a:lnTo>
                        <a:pt x="28" y="38"/>
                      </a:lnTo>
                      <a:lnTo>
                        <a:pt x="28" y="0"/>
                      </a:lnTo>
                      <a:lnTo>
                        <a:pt x="0" y="21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3379680" y="3641760"/>
                  <a:ext cx="44640" cy="96840"/>
                </a:xfrm>
                <a:custGeom>
                  <a:avLst/>
                  <a:gdLst/>
                  <a:ahLst/>
                  <a:rect l="l" t="t" r="r" b="b"/>
                  <a:pathLst>
                    <a:path w="28" h="61">
                      <a:moveTo>
                        <a:pt x="0" y="61"/>
                      </a:moveTo>
                      <a:lnTo>
                        <a:pt x="28" y="38"/>
                      </a:lnTo>
                      <a:lnTo>
                        <a:pt x="28" y="0"/>
                      </a:lnTo>
                      <a:lnTo>
                        <a:pt x="0" y="21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144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968560" y="3730680"/>
                  <a:ext cx="365040" cy="47520"/>
                </a:xfrm>
                <a:custGeom>
                  <a:avLst/>
                  <a:gdLst/>
                  <a:ahLst/>
                  <a:rect l="l" t="t" r="r" b="b"/>
                  <a:pathLst>
                    <a:path w="230" h="30">
                      <a:moveTo>
                        <a:pt x="0" y="30"/>
                      </a:moveTo>
                      <a:lnTo>
                        <a:pt x="29" y="0"/>
                      </a:lnTo>
                      <a:lnTo>
                        <a:pt x="230" y="0"/>
                      </a:lnTo>
                      <a:lnTo>
                        <a:pt x="201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968560" y="3730680"/>
                  <a:ext cx="365040" cy="47520"/>
                </a:xfrm>
                <a:custGeom>
                  <a:avLst/>
                  <a:gdLst/>
                  <a:ahLst/>
                  <a:rect l="l" t="t" r="r" b="b"/>
                  <a:pathLst>
                    <a:path w="230" h="30">
                      <a:moveTo>
                        <a:pt x="0" y="30"/>
                      </a:moveTo>
                      <a:lnTo>
                        <a:pt x="29" y="0"/>
                      </a:lnTo>
                      <a:lnTo>
                        <a:pt x="230" y="0"/>
                      </a:lnTo>
                      <a:lnTo>
                        <a:pt x="201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144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287880" y="3730680"/>
                  <a:ext cx="45720" cy="57240"/>
                </a:xfrm>
                <a:custGeom>
                  <a:avLst/>
                  <a:gdLst/>
                  <a:ahLst/>
                  <a:rect l="l" t="t" r="r" b="b"/>
                  <a:pathLst>
                    <a:path w="29" h="36">
                      <a:moveTo>
                        <a:pt x="0" y="36"/>
                      </a:moveTo>
                      <a:lnTo>
                        <a:pt x="29" y="11"/>
                      </a:lnTo>
                      <a:lnTo>
                        <a:pt x="29" y="0"/>
                      </a:lnTo>
                      <a:lnTo>
                        <a:pt x="0" y="30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3287880" y="3730680"/>
                  <a:ext cx="45720" cy="57240"/>
                </a:xfrm>
                <a:custGeom>
                  <a:avLst/>
                  <a:gdLst/>
                  <a:ahLst/>
                  <a:rect l="l" t="t" r="r" b="b"/>
                  <a:pathLst>
                    <a:path w="29" h="36">
                      <a:moveTo>
                        <a:pt x="0" y="36"/>
                      </a:moveTo>
                      <a:lnTo>
                        <a:pt x="29" y="11"/>
                      </a:lnTo>
                      <a:lnTo>
                        <a:pt x="29" y="0"/>
                      </a:lnTo>
                      <a:lnTo>
                        <a:pt x="0" y="30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144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968560" y="3778200"/>
                  <a:ext cx="319320" cy="9720"/>
                </a:xfrm>
                <a:prstGeom prst="rect">
                  <a:avLst/>
                </a:pr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2968560" y="3778200"/>
                  <a:ext cx="319320" cy="9720"/>
                </a:xfrm>
                <a:prstGeom prst="rect">
                  <a:avLst/>
                </a:prstGeom>
                <a:solidFill>
                  <a:srgbClr val="b7b79d"/>
                </a:solidFill>
                <a:ln w="144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029040" y="3641760"/>
                  <a:ext cx="328680" cy="27000"/>
                </a:xfrm>
                <a:custGeom>
                  <a:avLst/>
                  <a:gdLst/>
                  <a:ahLst/>
                  <a:rect l="l" t="t" r="r" b="b"/>
                  <a:pathLst>
                    <a:path w="207" h="17">
                      <a:moveTo>
                        <a:pt x="0" y="17"/>
                      </a:moveTo>
                      <a:lnTo>
                        <a:pt x="22" y="0"/>
                      </a:lnTo>
                      <a:lnTo>
                        <a:pt x="207" y="0"/>
                      </a:lnTo>
                      <a:lnTo>
                        <a:pt x="186" y="1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029040" y="3641760"/>
                  <a:ext cx="328680" cy="27000"/>
                </a:xfrm>
                <a:custGeom>
                  <a:avLst/>
                  <a:gdLst/>
                  <a:ahLst/>
                  <a:rect l="l" t="t" r="r" b="b"/>
                  <a:pathLst>
                    <a:path w="207" h="17">
                      <a:moveTo>
                        <a:pt x="0" y="17"/>
                      </a:moveTo>
                      <a:lnTo>
                        <a:pt x="22" y="0"/>
                      </a:lnTo>
                      <a:lnTo>
                        <a:pt x="207" y="0"/>
                      </a:lnTo>
                      <a:lnTo>
                        <a:pt x="186" y="1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025800" y="3448080"/>
                  <a:ext cx="326880" cy="25200"/>
                </a:xfrm>
                <a:custGeom>
                  <a:avLst/>
                  <a:gdLst/>
                  <a:ahLst/>
                  <a:rect l="l" t="t" r="r" b="b"/>
                  <a:pathLst>
                    <a:path w="206" h="16">
                      <a:moveTo>
                        <a:pt x="0" y="16"/>
                      </a:moveTo>
                      <a:lnTo>
                        <a:pt x="21" y="0"/>
                      </a:lnTo>
                      <a:lnTo>
                        <a:pt x="206" y="0"/>
                      </a:lnTo>
                      <a:lnTo>
                        <a:pt x="185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025800" y="3448080"/>
                  <a:ext cx="326880" cy="25200"/>
                </a:xfrm>
                <a:custGeom>
                  <a:avLst/>
                  <a:gdLst/>
                  <a:ahLst/>
                  <a:rect l="l" t="t" r="r" b="b"/>
                  <a:pathLst>
                    <a:path w="206" h="16">
                      <a:moveTo>
                        <a:pt x="0" y="16"/>
                      </a:moveTo>
                      <a:lnTo>
                        <a:pt x="21" y="0"/>
                      </a:lnTo>
                      <a:lnTo>
                        <a:pt x="206" y="0"/>
                      </a:lnTo>
                      <a:lnTo>
                        <a:pt x="185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144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024360" y="3476520"/>
                  <a:ext cx="284040" cy="179640"/>
                </a:xfrm>
                <a:prstGeom prst="rect">
                  <a:avLst/>
                </a:prstGeom>
                <a:solidFill>
                  <a:srgbClr val="b7b79d"/>
                </a:solidFill>
                <a:ln w="144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054240" y="3492360"/>
                  <a:ext cx="223920" cy="13356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319560" y="3448080"/>
                  <a:ext cx="33120" cy="214200"/>
                </a:xfrm>
                <a:custGeom>
                  <a:avLst/>
                  <a:gdLst/>
                  <a:ahLst/>
                  <a:rect l="l" t="t" r="r" b="b"/>
                  <a:pathLst>
                    <a:path w="21" h="135">
                      <a:moveTo>
                        <a:pt x="0" y="135"/>
                      </a:moveTo>
                      <a:lnTo>
                        <a:pt x="21" y="118"/>
                      </a:lnTo>
                      <a:lnTo>
                        <a:pt x="21" y="0"/>
                      </a:lnTo>
                      <a:lnTo>
                        <a:pt x="0" y="16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319560" y="3448080"/>
                  <a:ext cx="33120" cy="214200"/>
                </a:xfrm>
                <a:custGeom>
                  <a:avLst/>
                  <a:gdLst/>
                  <a:ahLst/>
                  <a:rect l="l" t="t" r="r" b="b"/>
                  <a:pathLst>
                    <a:path w="21" h="135">
                      <a:moveTo>
                        <a:pt x="0" y="135"/>
                      </a:moveTo>
                      <a:lnTo>
                        <a:pt x="21" y="118"/>
                      </a:lnTo>
                      <a:lnTo>
                        <a:pt x="21" y="0"/>
                      </a:lnTo>
                      <a:lnTo>
                        <a:pt x="0" y="16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144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2744640" y="3722760"/>
                <a:ext cx="244440" cy="258480"/>
                <a:chOff x="2744640" y="3722760"/>
                <a:chExt cx="244440" cy="25848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2754360" y="3836880"/>
                  <a:ext cx="14400" cy="28800"/>
                </a:xfrm>
                <a:custGeom>
                  <a:avLst/>
                  <a:gdLst>
                    <a:gd name="textAreaLeft" fmla="*/ 2160 w 14400"/>
                    <a:gd name="textAreaRight" fmla="*/ 12240 w 14400"/>
                    <a:gd name="textAreaTop" fmla="*/ 2160 h 28800"/>
                    <a:gd name="textAreaBottom" fmla="*/ 26640 h 28800"/>
                  </a:gdLst>
                  <a:ahLst/>
                  <a:rect l="textAreaLeft" t="textAreaTop" r="textAreaRight" b="textAreaBottom"/>
                  <a:pathLst>
                    <a:path w="21600" h="42673">
                      <a:moveTo>
                        <a:pt x="10800" y="0"/>
                      </a:moveTo>
                      <a:arcTo wR="10800" hR="10800" stAng="16200000" swAng="-5400000"/>
                      <a:lnTo>
                        <a:pt x="0" y="31873"/>
                      </a:lnTo>
                      <a:arcTo wR="10800" hR="10800" stAng="10800000" swAng="-5400000"/>
                      <a:lnTo>
                        <a:pt x="10800" y="42673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2933640" y="3836880"/>
                  <a:ext cx="1800" cy="288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21600" h="291600">
                      <a:moveTo>
                        <a:pt x="-1" y="0"/>
                      </a:moveTo>
                      <a:arcTo wR="1" hR="1" stAng="5400000" swAng="-5400000"/>
                      <a:lnTo>
                        <a:pt x="0" y="291601"/>
                      </a:lnTo>
                      <a:arcTo wR="1" hR="1" stAng="0" swAng="-5400000"/>
                      <a:lnTo>
                        <a:pt x="21601" y="291600"/>
                      </a:lnTo>
                      <a:arcTo wR="1" hR="1" stAng="16200000" swAng="-5400000"/>
                      <a:lnTo>
                        <a:pt x="21600" y="-1"/>
                      </a:lnTo>
                      <a:arcTo wR="1" hR="1" stAng="10800000" swAng="-5400000"/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2930400" y="3838680"/>
                  <a:ext cx="41400" cy="4104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2" y="2"/>
                      </a:moveTo>
                      <a:lnTo>
                        <a:pt x="6" y="6"/>
                      </a:lnTo>
                      <a:lnTo>
                        <a:pt x="9" y="6"/>
                      </a:lnTo>
                      <a:lnTo>
                        <a:pt x="11" y="8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7" y="0"/>
                      </a:lnTo>
                      <a:lnTo>
                        <a:pt x="26" y="3"/>
                      </a:lnTo>
                      <a:lnTo>
                        <a:pt x="26" y="5"/>
                      </a:lnTo>
                      <a:lnTo>
                        <a:pt x="24" y="8"/>
                      </a:lnTo>
                      <a:lnTo>
                        <a:pt x="24" y="10"/>
                      </a:lnTo>
                      <a:lnTo>
                        <a:pt x="23" y="11"/>
                      </a:lnTo>
                      <a:lnTo>
                        <a:pt x="19" y="15"/>
                      </a:lnTo>
                      <a:lnTo>
                        <a:pt x="14" y="20"/>
                      </a:lnTo>
                      <a:lnTo>
                        <a:pt x="9" y="26"/>
                      </a:lnTo>
                      <a:lnTo>
                        <a:pt x="0" y="26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930400" y="3838680"/>
                  <a:ext cx="41400" cy="4104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2" y="2"/>
                      </a:moveTo>
                      <a:lnTo>
                        <a:pt x="6" y="6"/>
                      </a:lnTo>
                      <a:lnTo>
                        <a:pt x="9" y="6"/>
                      </a:lnTo>
                      <a:lnTo>
                        <a:pt x="11" y="8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6" y="6"/>
                      </a:lnTo>
                      <a:lnTo>
                        <a:pt x="17" y="0"/>
                      </a:lnTo>
                      <a:lnTo>
                        <a:pt x="26" y="3"/>
                      </a:lnTo>
                      <a:lnTo>
                        <a:pt x="26" y="5"/>
                      </a:lnTo>
                      <a:lnTo>
                        <a:pt x="24" y="8"/>
                      </a:lnTo>
                      <a:lnTo>
                        <a:pt x="24" y="10"/>
                      </a:lnTo>
                      <a:lnTo>
                        <a:pt x="23" y="11"/>
                      </a:lnTo>
                      <a:lnTo>
                        <a:pt x="19" y="15"/>
                      </a:lnTo>
                      <a:lnTo>
                        <a:pt x="14" y="20"/>
                      </a:lnTo>
                      <a:lnTo>
                        <a:pt x="9" y="26"/>
                      </a:lnTo>
                      <a:lnTo>
                        <a:pt x="0" y="26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2903400" y="3821040"/>
                  <a:ext cx="15840" cy="60480"/>
                </a:xfrm>
                <a:custGeom>
                  <a:avLst/>
                  <a:gdLst>
                    <a:gd name="textAreaLeft" fmla="*/ 5400 w 15840"/>
                    <a:gd name="textAreaRight" fmla="*/ 10440 w 15840"/>
                    <a:gd name="textAreaTop" fmla="*/ 5400 h 60480"/>
                    <a:gd name="textAreaBottom" fmla="*/ 55080 h 60480"/>
                  </a:gdLst>
                  <a:ahLst/>
                  <a:rect l="textAreaLeft" t="textAreaTop" r="textAreaRight" b="textAreaBottom"/>
                  <a:pathLst>
                    <a:path w="21600" h="81120">
                      <a:moveTo>
                        <a:pt x="24686" y="0"/>
                      </a:moveTo>
                      <a:arcTo wR="24686" hR="24686" stAng="16200000" swAng="-5400000"/>
                      <a:lnTo>
                        <a:pt x="0" y="56434"/>
                      </a:lnTo>
                      <a:arcTo wR="24686" hR="24686" stAng="10800000" swAng="-5400000"/>
                      <a:lnTo>
                        <a:pt x="-3086" y="81120"/>
                      </a:lnTo>
                      <a:arcTo wR="24686" hR="24686" stAng="5400000" swAng="-5400000"/>
                      <a:lnTo>
                        <a:pt x="21600" y="24686"/>
                      </a:lnTo>
                      <a:arcTo wR="24686" hR="24686" stAng="0" swAng="-5400000"/>
                      <a:close/>
                    </a:path>
                  </a:pathLst>
                </a:custGeom>
                <a:solidFill>
                  <a:srgbClr val="f2d8b8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744640" y="3722760"/>
                  <a:ext cx="21096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" y="11692"/>
                      </a:moveTo>
                      <a:arcTo wR="10800" hR="10800" stAng="10515777" swAng="1131743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" y="11692"/>
                      </a:moveTo>
                      <a:arcTo wR="10800" hR="10800" stAng="10515777" swAng="11317438"/>
                    </a:path>
                  </a:pathLst>
                </a:custGeom>
                <a:solidFill>
                  <a:srgbClr val="f2d8b8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744640" y="3838680"/>
                  <a:ext cx="42840" cy="54000"/>
                </a:xfrm>
                <a:custGeom>
                  <a:avLst/>
                  <a:gdLst/>
                  <a:ahLst/>
                  <a:rect l="l" t="t" r="r" b="b"/>
                  <a:pathLst>
                    <a:path w="27" h="34">
                      <a:moveTo>
                        <a:pt x="23" y="0"/>
                      </a:moveTo>
                      <a:lnTo>
                        <a:pt x="19" y="2"/>
                      </a:lnTo>
                      <a:lnTo>
                        <a:pt x="16" y="5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7" y="15"/>
                      </a:lnTo>
                      <a:lnTo>
                        <a:pt x="12" y="18"/>
                      </a:lnTo>
                      <a:lnTo>
                        <a:pt x="13" y="33"/>
                      </a:lnTo>
                      <a:lnTo>
                        <a:pt x="16" y="34"/>
                      </a:lnTo>
                      <a:lnTo>
                        <a:pt x="20" y="26"/>
                      </a:lnTo>
                      <a:lnTo>
                        <a:pt x="27" y="26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2744640" y="3838680"/>
                  <a:ext cx="42840" cy="54000"/>
                </a:xfrm>
                <a:custGeom>
                  <a:avLst/>
                  <a:gdLst/>
                  <a:ahLst/>
                  <a:rect l="l" t="t" r="r" b="b"/>
                  <a:pathLst>
                    <a:path w="27" h="34">
                      <a:moveTo>
                        <a:pt x="23" y="0"/>
                      </a:moveTo>
                      <a:lnTo>
                        <a:pt x="19" y="2"/>
                      </a:lnTo>
                      <a:lnTo>
                        <a:pt x="16" y="5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7" y="15"/>
                      </a:lnTo>
                      <a:lnTo>
                        <a:pt x="12" y="18"/>
                      </a:lnTo>
                      <a:lnTo>
                        <a:pt x="13" y="33"/>
                      </a:lnTo>
                      <a:lnTo>
                        <a:pt x="16" y="34"/>
                      </a:lnTo>
                      <a:lnTo>
                        <a:pt x="20" y="26"/>
                      </a:lnTo>
                      <a:lnTo>
                        <a:pt x="27" y="26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768760" y="3821040"/>
                  <a:ext cx="14040" cy="60480"/>
                </a:xfrm>
                <a:custGeom>
                  <a:avLst/>
                  <a:gdLst>
                    <a:gd name="textAreaLeft" fmla="*/ 4680 w 14040"/>
                    <a:gd name="textAreaRight" fmla="*/ 9360 w 14040"/>
                    <a:gd name="textAreaTop" fmla="*/ 4680 h 60480"/>
                    <a:gd name="textAreaBottom" fmla="*/ 55800 h 60480"/>
                  </a:gdLst>
                  <a:ahLst/>
                  <a:rect l="textAreaLeft" t="textAreaTop" r="textAreaRight" b="textAreaBottom"/>
                  <a:pathLst>
                    <a:path w="21600" h="91260">
                      <a:moveTo>
                        <a:pt x="24686" y="0"/>
                      </a:moveTo>
                      <a:arcTo wR="24686" hR="24686" stAng="16200000" swAng="-5400000"/>
                      <a:lnTo>
                        <a:pt x="0" y="66574"/>
                      </a:lnTo>
                      <a:arcTo wR="24686" hR="24686" stAng="10800000" swAng="-5400000"/>
                      <a:lnTo>
                        <a:pt x="-3086" y="91260"/>
                      </a:lnTo>
                      <a:arcTo wR="24686" hR="24686" stAng="5400000" swAng="-5400000"/>
                      <a:lnTo>
                        <a:pt x="21600" y="24686"/>
                      </a:lnTo>
                      <a:arcTo wR="24686" hR="24686" stAng="0" swAng="-5400000"/>
                      <a:close/>
                    </a:path>
                  </a:pathLst>
                </a:custGeom>
                <a:solidFill>
                  <a:srgbClr val="f2d8b8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773440" y="3768840"/>
                  <a:ext cx="215640" cy="212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652" y="20294"/>
                      </a:moveTo>
                      <a:arcTo wR="10800" hR="10800" stAng="7108204" swAng="3579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652" y="20294"/>
                      </a:moveTo>
                      <a:arcTo wR="10800" hR="10800" stAng="7108204" swAng="3579212"/>
                    </a:path>
                  </a:pathLst>
                </a:custGeom>
                <a:solidFill>
                  <a:srgbClr val="f2d8b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2813040" y="3956040"/>
                  <a:ext cx="15840" cy="15840"/>
                </a:xfrm>
                <a:prstGeom prst="ellipse">
                  <a:avLst/>
                </a:prstGeom>
                <a:solidFill>
                  <a:srgbClr val="f2d8b8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9" name=""/>
            <p:cNvSpPr/>
            <p:nvPr/>
          </p:nvSpPr>
          <p:spPr>
            <a:xfrm>
              <a:off x="2182680" y="2846520"/>
              <a:ext cx="111132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98600" y="2905200"/>
              <a:ext cx="66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me LA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2393640" y="3176640"/>
              <a:ext cx="1305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17800" y="3911760"/>
              <a:ext cx="631800" cy="31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00040" y="3957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68640" y="3911760"/>
              <a:ext cx="615960" cy="31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190320" y="3957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.3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29120" y="3176640"/>
              <a:ext cx="1440" cy="270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94000" y="3176640"/>
              <a:ext cx="1440" cy="270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8029440" y="3227400"/>
            <a:ext cx="47880" cy="47520"/>
          </a:xfrm>
          <a:prstGeom prst="ellipse">
            <a:avLst/>
          </a:prstGeom>
          <a:solidFill>
            <a:srgbClr val="00808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843680" y="3220920"/>
            <a:ext cx="660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908840" y="3355920"/>
            <a:ext cx="59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FC 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742000" y="2771640"/>
            <a:ext cx="239760" cy="10191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81320" y="299556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843520" y="3295800"/>
            <a:ext cx="214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5742000" y="2771640"/>
            <a:ext cx="1974960" cy="1019160"/>
            <a:chOff x="5742000" y="2771640"/>
            <a:chExt cx="1974960" cy="1019160"/>
          </a:xfrm>
        </p:grpSpPr>
        <p:grpSp>
          <p:nvGrpSpPr>
            <p:cNvPr id="855" name=""/>
            <p:cNvGrpSpPr/>
            <p:nvPr/>
          </p:nvGrpSpPr>
          <p:grpSpPr>
            <a:xfrm>
              <a:off x="5742000" y="2771640"/>
              <a:ext cx="1974960" cy="1019160"/>
              <a:chOff x="5742000" y="2771640"/>
              <a:chExt cx="1974960" cy="1019160"/>
            </a:xfrm>
          </p:grpSpPr>
          <p:sp>
            <p:nvSpPr>
              <p:cNvPr id="856" name=""/>
              <p:cNvSpPr/>
              <p:nvPr/>
            </p:nvSpPr>
            <p:spPr>
              <a:xfrm>
                <a:off x="6469200" y="2852640"/>
                <a:ext cx="1247760" cy="722520"/>
              </a:xfrm>
              <a:prstGeom prst="rect">
                <a:avLst/>
              </a:prstGeom>
              <a:solidFill>
                <a:srgbClr val="00808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906600" y="2935440"/>
                <a:ext cx="561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Times New Roman"/>
                  </a:rPr>
                  <a:t>Cable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823080" y="3220920"/>
                <a:ext cx="749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Times New Roman"/>
                  </a:rPr>
                  <a:t>Modem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742000" y="2771640"/>
                <a:ext cx="239760" cy="1019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5981760" y="3341520"/>
              <a:ext cx="4809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69600" y="3400560"/>
              <a:ext cx="38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’net 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15320" y="3565440"/>
              <a:ext cx="27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US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781440" y="2771640"/>
            <a:ext cx="10382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323-NCS G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5266800" y="2120760"/>
            <a:ext cx="621000" cy="96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982960" y="1504800"/>
            <a:ext cx="1985760" cy="999720"/>
          </a:xfrm>
          <a:prstGeom prst="wedgeEllipseCallout">
            <a:avLst>
              <a:gd name="adj1" fmla="val 18731"/>
              <a:gd name="adj2" fmla="val 78833"/>
            </a:avLst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N.1 is used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882800" y="-4752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ne Application of ASN.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193840" y="4979880"/>
            <a:ext cx="60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us at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http://www.wipro.com/home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F42C-AFC4-4925-B888-F6CBDC36C5BC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723F338-7B44-4FC6-9C8C-3B079758E9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868400" y="222840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ank You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0" name=""/>
          <p:cNvSpPr/>
          <p:nvPr/>
        </p:nvSpPr>
        <p:spPr>
          <a:xfrm>
            <a:off x="2193840" y="3422520"/>
            <a:ext cx="668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sit us at </a:t>
            </a:r>
            <a:r>
              <a:rPr b="0" lang="en-US" sz="2600" spc="-1" strike="noStrike">
                <a:solidFill>
                  <a:srgbClr val="800000"/>
                </a:solidFill>
                <a:latin typeface="Trebuchet MS"/>
              </a:rPr>
              <a:t>http://www.wipro.com/home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8979-96A3-4989-87EB-9C74450243A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6FBB6D3-EF88-45D8-B225-E196C4A3CB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What is ASN.1 Compiler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Components of ASN.1 Compil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Example of ASN.1 Specific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Working of ASN.1 Compil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Case Stud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7475-0052-46B6-A9FD-7FE8EFD37C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BEB38FB-B40F-4FC2-B05D-CE14C5048D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at is ASN.1 Compiler?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3280" y="1611360"/>
            <a:ext cx="70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ASN.1 Compiler is a tool to convert the data description in ASN.1 format to programming language dependent data structures and associated routines to encode/decode the sam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Two approaches to generate encode/decode routin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dedicated routines per messa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generic routines (which is considered for the rest of the presentation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7150-5A78-4FA2-8F14-08A643AE9B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DDBF7E8-4387-481D-9733-57B09510CF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96840" y="0"/>
            <a:ext cx="695772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ookman Old Style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Bookman Old Style"/>
              </a:rPr>
              <a:t>ASN.1 Compiler Component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3480" y="766800"/>
            <a:ext cx="2773440" cy="760320"/>
          </a:xfrm>
          <a:custGeom>
            <a:avLst/>
            <a:gdLst/>
            <a:ahLst/>
            <a:rect l="l" t="t" r="r" b="b"/>
            <a:pathLst>
              <a:path w="1226" h="734">
                <a:moveTo>
                  <a:pt x="0" y="0"/>
                </a:moveTo>
                <a:lnTo>
                  <a:pt x="0" y="734"/>
                </a:lnTo>
                <a:lnTo>
                  <a:pt x="1073" y="734"/>
                </a:lnTo>
                <a:lnTo>
                  <a:pt x="1226" y="642"/>
                </a:lnTo>
                <a:lnTo>
                  <a:pt x="1226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5920" y="841320"/>
            <a:ext cx="83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50360" y="1122480"/>
            <a:ext cx="1562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24360" y="2220840"/>
            <a:ext cx="3260520" cy="1017720"/>
          </a:xfrm>
          <a:custGeom>
            <a:avLst/>
            <a:gdLst/>
            <a:ahLst/>
            <a:rect l="l" t="t" r="r" b="b"/>
            <a:pathLst>
              <a:path w="1693" h="1173">
                <a:moveTo>
                  <a:pt x="246" y="0"/>
                </a:moveTo>
                <a:lnTo>
                  <a:pt x="0" y="344"/>
                </a:lnTo>
                <a:lnTo>
                  <a:pt x="0" y="829"/>
                </a:lnTo>
                <a:lnTo>
                  <a:pt x="246" y="1173"/>
                </a:lnTo>
                <a:lnTo>
                  <a:pt x="1447" y="1173"/>
                </a:lnTo>
                <a:lnTo>
                  <a:pt x="1693" y="829"/>
                </a:lnTo>
                <a:lnTo>
                  <a:pt x="1693" y="344"/>
                </a:lnTo>
                <a:lnTo>
                  <a:pt x="1447" y="0"/>
                </a:lnTo>
                <a:lnTo>
                  <a:pt x="246" y="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ffff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79200" y="2341440"/>
            <a:ext cx="229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put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25440" y="2695680"/>
            <a:ext cx="171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nd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00320" y="3338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976640" y="3867120"/>
            <a:ext cx="1350720" cy="553680"/>
            <a:chOff x="4976640" y="3867120"/>
            <a:chExt cx="1350720" cy="553680"/>
          </a:xfrm>
        </p:grpSpPr>
        <p:sp>
          <p:nvSpPr>
            <p:cNvPr id="116" name=""/>
            <p:cNvSpPr/>
            <p:nvPr/>
          </p:nvSpPr>
          <p:spPr>
            <a:xfrm>
              <a:off x="4976640" y="3936240"/>
              <a:ext cx="1350720" cy="484560"/>
            </a:xfrm>
            <a:custGeom>
              <a:avLst/>
              <a:gdLst/>
              <a:ahLst/>
              <a:rect l="l" t="t" r="r" b="b"/>
              <a:pathLst>
                <a:path w="701" h="733">
                  <a:moveTo>
                    <a:pt x="88" y="0"/>
                  </a:moveTo>
                  <a:lnTo>
                    <a:pt x="70" y="3"/>
                  </a:lnTo>
                  <a:lnTo>
                    <a:pt x="54" y="9"/>
                  </a:lnTo>
                  <a:lnTo>
                    <a:pt x="39" y="21"/>
                  </a:lnTo>
                  <a:lnTo>
                    <a:pt x="26" y="35"/>
                  </a:lnTo>
                  <a:lnTo>
                    <a:pt x="15" y="53"/>
                  </a:lnTo>
                  <a:lnTo>
                    <a:pt x="7" y="75"/>
                  </a:lnTo>
                  <a:lnTo>
                    <a:pt x="3" y="97"/>
                  </a:lnTo>
                  <a:lnTo>
                    <a:pt x="0" y="122"/>
                  </a:lnTo>
                  <a:lnTo>
                    <a:pt x="0" y="611"/>
                  </a:lnTo>
                  <a:lnTo>
                    <a:pt x="3" y="635"/>
                  </a:lnTo>
                  <a:lnTo>
                    <a:pt x="7" y="658"/>
                  </a:lnTo>
                  <a:lnTo>
                    <a:pt x="15" y="679"/>
                  </a:lnTo>
                  <a:lnTo>
                    <a:pt x="26" y="697"/>
                  </a:lnTo>
                  <a:lnTo>
                    <a:pt x="39" y="712"/>
                  </a:lnTo>
                  <a:lnTo>
                    <a:pt x="54" y="723"/>
                  </a:lnTo>
                  <a:lnTo>
                    <a:pt x="70" y="731"/>
                  </a:lnTo>
                  <a:lnTo>
                    <a:pt x="88" y="733"/>
                  </a:lnTo>
                  <a:lnTo>
                    <a:pt x="613" y="733"/>
                  </a:lnTo>
                  <a:lnTo>
                    <a:pt x="631" y="731"/>
                  </a:lnTo>
                  <a:lnTo>
                    <a:pt x="647" y="723"/>
                  </a:lnTo>
                  <a:lnTo>
                    <a:pt x="662" y="712"/>
                  </a:lnTo>
                  <a:lnTo>
                    <a:pt x="675" y="697"/>
                  </a:lnTo>
                  <a:lnTo>
                    <a:pt x="686" y="679"/>
                  </a:lnTo>
                  <a:lnTo>
                    <a:pt x="694" y="658"/>
                  </a:lnTo>
                  <a:lnTo>
                    <a:pt x="699" y="635"/>
                  </a:lnTo>
                  <a:lnTo>
                    <a:pt x="701" y="611"/>
                  </a:lnTo>
                  <a:lnTo>
                    <a:pt x="701" y="122"/>
                  </a:lnTo>
                  <a:lnTo>
                    <a:pt x="699" y="97"/>
                  </a:lnTo>
                  <a:lnTo>
                    <a:pt x="694" y="75"/>
                  </a:lnTo>
                  <a:lnTo>
                    <a:pt x="686" y="53"/>
                  </a:lnTo>
                  <a:lnTo>
                    <a:pt x="675" y="35"/>
                  </a:lnTo>
                  <a:lnTo>
                    <a:pt x="662" y="21"/>
                  </a:lnTo>
                  <a:lnTo>
                    <a:pt x="647" y="9"/>
                  </a:lnTo>
                  <a:lnTo>
                    <a:pt x="631" y="3"/>
                  </a:lnTo>
                  <a:lnTo>
                    <a:pt x="613" y="0"/>
                  </a:lnTo>
                  <a:lnTo>
                    <a:pt x="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10280" y="3867120"/>
              <a:ext cx="997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Bookman Old Style"/>
                </a:rPr>
                <a:t>Driving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288040" y="4138560"/>
            <a:ext cx="749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man Old Style"/>
              </a:rPr>
              <a:t>Tab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605480" y="1584360"/>
            <a:ext cx="75960" cy="590040"/>
            <a:chOff x="4605480" y="1584360"/>
            <a:chExt cx="75960" cy="590040"/>
          </a:xfrm>
        </p:grpSpPr>
        <p:sp>
          <p:nvSpPr>
            <p:cNvPr id="120" name=""/>
            <p:cNvSpPr/>
            <p:nvPr/>
          </p:nvSpPr>
          <p:spPr>
            <a:xfrm>
              <a:off x="4644360" y="1584360"/>
              <a:ext cx="1080" cy="48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05480" y="2067840"/>
              <a:ext cx="75960" cy="106560"/>
            </a:xfrm>
            <a:custGeom>
              <a:avLst/>
              <a:gdLst/>
              <a:ahLst/>
              <a:rect l="l" t="t" r="r" b="b"/>
              <a:pathLst>
                <a:path w="76" h="106">
                  <a:moveTo>
                    <a:pt x="0" y="0"/>
                  </a:moveTo>
                  <a:lnTo>
                    <a:pt x="39" y="106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343240" y="5086440"/>
            <a:ext cx="2025720" cy="431640"/>
          </a:xfrm>
          <a:custGeom>
            <a:avLst/>
            <a:gdLst/>
            <a:ahLst/>
            <a:rect l="l" t="t" r="r" b="b"/>
            <a:pathLst>
              <a:path w="1051" h="652">
                <a:moveTo>
                  <a:pt x="78" y="0"/>
                </a:moveTo>
                <a:lnTo>
                  <a:pt x="63" y="2"/>
                </a:lnTo>
                <a:lnTo>
                  <a:pt x="48" y="8"/>
                </a:lnTo>
                <a:lnTo>
                  <a:pt x="35" y="18"/>
                </a:lnTo>
                <a:lnTo>
                  <a:pt x="23" y="33"/>
                </a:lnTo>
                <a:lnTo>
                  <a:pt x="13" y="47"/>
                </a:lnTo>
                <a:lnTo>
                  <a:pt x="6" y="67"/>
                </a:lnTo>
                <a:lnTo>
                  <a:pt x="1" y="87"/>
                </a:lnTo>
                <a:lnTo>
                  <a:pt x="0" y="108"/>
                </a:lnTo>
                <a:lnTo>
                  <a:pt x="0" y="543"/>
                </a:lnTo>
                <a:lnTo>
                  <a:pt x="1" y="566"/>
                </a:lnTo>
                <a:lnTo>
                  <a:pt x="6" y="585"/>
                </a:lnTo>
                <a:lnTo>
                  <a:pt x="13" y="603"/>
                </a:lnTo>
                <a:lnTo>
                  <a:pt x="23" y="620"/>
                </a:lnTo>
                <a:lnTo>
                  <a:pt x="35" y="634"/>
                </a:lnTo>
                <a:lnTo>
                  <a:pt x="48" y="644"/>
                </a:lnTo>
                <a:lnTo>
                  <a:pt x="63" y="651"/>
                </a:lnTo>
                <a:lnTo>
                  <a:pt x="78" y="652"/>
                </a:lnTo>
                <a:lnTo>
                  <a:pt x="973" y="652"/>
                </a:lnTo>
                <a:lnTo>
                  <a:pt x="989" y="651"/>
                </a:lnTo>
                <a:lnTo>
                  <a:pt x="1003" y="644"/>
                </a:lnTo>
                <a:lnTo>
                  <a:pt x="1016" y="634"/>
                </a:lnTo>
                <a:lnTo>
                  <a:pt x="1028" y="620"/>
                </a:lnTo>
                <a:lnTo>
                  <a:pt x="1038" y="603"/>
                </a:lnTo>
                <a:lnTo>
                  <a:pt x="1045" y="585"/>
                </a:lnTo>
                <a:lnTo>
                  <a:pt x="1050" y="566"/>
                </a:lnTo>
                <a:lnTo>
                  <a:pt x="1051" y="543"/>
                </a:lnTo>
                <a:lnTo>
                  <a:pt x="1051" y="108"/>
                </a:lnTo>
                <a:lnTo>
                  <a:pt x="1050" y="87"/>
                </a:lnTo>
                <a:lnTo>
                  <a:pt x="1045" y="67"/>
                </a:lnTo>
                <a:lnTo>
                  <a:pt x="1038" y="47"/>
                </a:lnTo>
                <a:lnTo>
                  <a:pt x="1028" y="33"/>
                </a:lnTo>
                <a:lnTo>
                  <a:pt x="1016" y="18"/>
                </a:lnTo>
                <a:lnTo>
                  <a:pt x="1003" y="8"/>
                </a:lnTo>
                <a:lnTo>
                  <a:pt x="989" y="2"/>
                </a:lnTo>
                <a:lnTo>
                  <a:pt x="973" y="0"/>
                </a:lnTo>
                <a:lnTo>
                  <a:pt x="78" y="0"/>
                </a:lnTo>
                <a:close/>
              </a:path>
            </a:pathLst>
          </a:custGeom>
          <a:gradFill rotWithShape="0">
            <a:gsLst>
              <a:gs pos="0">
                <a:srgbClr val="660066"/>
              </a:gs>
              <a:gs pos="50000">
                <a:srgbClr val="ffffff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89320" y="5135400"/>
            <a:ext cx="201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SN.1 Encode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92560" y="5119560"/>
            <a:ext cx="2024280" cy="432000"/>
          </a:xfrm>
          <a:custGeom>
            <a:avLst/>
            <a:gdLst/>
            <a:ahLst/>
            <a:rect l="l" t="t" r="r" b="b"/>
            <a:pathLst>
              <a:path w="1051" h="652">
                <a:moveTo>
                  <a:pt x="78" y="0"/>
                </a:moveTo>
                <a:lnTo>
                  <a:pt x="63" y="2"/>
                </a:lnTo>
                <a:lnTo>
                  <a:pt x="48" y="8"/>
                </a:lnTo>
                <a:lnTo>
                  <a:pt x="35" y="18"/>
                </a:lnTo>
                <a:lnTo>
                  <a:pt x="24" y="33"/>
                </a:lnTo>
                <a:lnTo>
                  <a:pt x="13" y="47"/>
                </a:lnTo>
                <a:lnTo>
                  <a:pt x="6" y="67"/>
                </a:lnTo>
                <a:lnTo>
                  <a:pt x="1" y="86"/>
                </a:lnTo>
                <a:lnTo>
                  <a:pt x="0" y="108"/>
                </a:lnTo>
                <a:lnTo>
                  <a:pt x="0" y="543"/>
                </a:lnTo>
                <a:lnTo>
                  <a:pt x="1" y="566"/>
                </a:lnTo>
                <a:lnTo>
                  <a:pt x="6" y="585"/>
                </a:lnTo>
                <a:lnTo>
                  <a:pt x="13" y="603"/>
                </a:lnTo>
                <a:lnTo>
                  <a:pt x="24" y="619"/>
                </a:lnTo>
                <a:lnTo>
                  <a:pt x="35" y="634"/>
                </a:lnTo>
                <a:lnTo>
                  <a:pt x="48" y="644"/>
                </a:lnTo>
                <a:lnTo>
                  <a:pt x="63" y="650"/>
                </a:lnTo>
                <a:lnTo>
                  <a:pt x="78" y="652"/>
                </a:lnTo>
                <a:lnTo>
                  <a:pt x="973" y="652"/>
                </a:lnTo>
                <a:lnTo>
                  <a:pt x="989" y="650"/>
                </a:lnTo>
                <a:lnTo>
                  <a:pt x="1003" y="644"/>
                </a:lnTo>
                <a:lnTo>
                  <a:pt x="1016" y="634"/>
                </a:lnTo>
                <a:lnTo>
                  <a:pt x="1028" y="619"/>
                </a:lnTo>
                <a:lnTo>
                  <a:pt x="1038" y="603"/>
                </a:lnTo>
                <a:lnTo>
                  <a:pt x="1045" y="585"/>
                </a:lnTo>
                <a:lnTo>
                  <a:pt x="1050" y="566"/>
                </a:lnTo>
                <a:lnTo>
                  <a:pt x="1051" y="543"/>
                </a:lnTo>
                <a:lnTo>
                  <a:pt x="1051" y="108"/>
                </a:lnTo>
                <a:lnTo>
                  <a:pt x="1050" y="86"/>
                </a:lnTo>
                <a:lnTo>
                  <a:pt x="1045" y="67"/>
                </a:lnTo>
                <a:lnTo>
                  <a:pt x="1038" y="47"/>
                </a:lnTo>
                <a:lnTo>
                  <a:pt x="1028" y="33"/>
                </a:lnTo>
                <a:lnTo>
                  <a:pt x="1016" y="18"/>
                </a:lnTo>
                <a:lnTo>
                  <a:pt x="1003" y="8"/>
                </a:lnTo>
                <a:lnTo>
                  <a:pt x="989" y="2"/>
                </a:lnTo>
                <a:lnTo>
                  <a:pt x="973" y="0"/>
                </a:lnTo>
                <a:lnTo>
                  <a:pt x="78" y="0"/>
                </a:lnTo>
                <a:close/>
              </a:path>
            </a:pathLst>
          </a:custGeom>
          <a:gradFill rotWithShape="0">
            <a:gsLst>
              <a:gs pos="0">
                <a:srgbClr val="660066"/>
              </a:gs>
              <a:gs pos="50000">
                <a:srgbClr val="ffffff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26400" y="5164200"/>
            <a:ext cx="205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SN.1 Decode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46440" y="4456080"/>
            <a:ext cx="1047960" cy="35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761000" y="4449600"/>
            <a:ext cx="914400" cy="35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7520" y="4836960"/>
            <a:ext cx="1800" cy="41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359240" y="5232240"/>
            <a:ext cx="75960" cy="68400"/>
            <a:chOff x="4359240" y="5232240"/>
            <a:chExt cx="75960" cy="68400"/>
          </a:xfrm>
        </p:grpSpPr>
        <p:sp>
          <p:nvSpPr>
            <p:cNvPr id="130" name=""/>
            <p:cNvSpPr/>
            <p:nvPr/>
          </p:nvSpPr>
          <p:spPr>
            <a:xfrm flipH="1">
              <a:off x="4372200" y="5266800"/>
              <a:ext cx="63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59240" y="5232240"/>
              <a:ext cx="13680" cy="68400"/>
            </a:xfrm>
            <a:custGeom>
              <a:avLst/>
              <a:gdLst/>
              <a:ahLst/>
              <a:rect l="l" t="t" r="r" b="b"/>
              <a:pathLst>
                <a:path w="76" h="106">
                  <a:moveTo>
                    <a:pt x="76" y="0"/>
                  </a:moveTo>
                  <a:lnTo>
                    <a:pt x="0" y="54"/>
                  </a:lnTo>
                  <a:lnTo>
                    <a:pt x="76" y="10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223040" y="5008680"/>
            <a:ext cx="1920960" cy="785520"/>
          </a:xfrm>
          <a:custGeom>
            <a:avLst/>
            <a:gdLst/>
            <a:ahLst/>
            <a:rect l="l" t="t" r="r" b="b"/>
            <a:pathLst>
              <a:path w="1261" h="978">
                <a:moveTo>
                  <a:pt x="315" y="0"/>
                </a:moveTo>
                <a:lnTo>
                  <a:pt x="0" y="978"/>
                </a:lnTo>
                <a:lnTo>
                  <a:pt x="946" y="978"/>
                </a:lnTo>
                <a:lnTo>
                  <a:pt x="1261" y="0"/>
                </a:lnTo>
                <a:lnTo>
                  <a:pt x="315" y="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31280" y="5081760"/>
            <a:ext cx="1273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Deco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189240" y="5521320"/>
            <a:ext cx="120600" cy="216000"/>
            <a:chOff x="3189240" y="5521320"/>
            <a:chExt cx="120600" cy="216000"/>
          </a:xfrm>
        </p:grpSpPr>
        <p:sp>
          <p:nvSpPr>
            <p:cNvPr id="135" name=""/>
            <p:cNvSpPr/>
            <p:nvPr/>
          </p:nvSpPr>
          <p:spPr>
            <a:xfrm>
              <a:off x="3251160" y="5521320"/>
              <a:ext cx="1440" cy="17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89240" y="5690520"/>
              <a:ext cx="120600" cy="46800"/>
            </a:xfrm>
            <a:custGeom>
              <a:avLst/>
              <a:gdLst/>
              <a:ahLst/>
              <a:rect l="l" t="t" r="r" b="b"/>
              <a:pathLst>
                <a:path w="76" h="106">
                  <a:moveTo>
                    <a:pt x="0" y="0"/>
                  </a:moveTo>
                  <a:lnTo>
                    <a:pt x="39" y="106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55000" y="5307120"/>
            <a:ext cx="35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86240" y="5267160"/>
            <a:ext cx="706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51000" y="5780160"/>
            <a:ext cx="1935360" cy="798480"/>
          </a:xfrm>
          <a:custGeom>
            <a:avLst/>
            <a:gdLst/>
            <a:ahLst/>
            <a:rect l="l" t="t" r="r" b="b"/>
            <a:pathLst>
              <a:path w="1261" h="978">
                <a:moveTo>
                  <a:pt x="315" y="0"/>
                </a:moveTo>
                <a:lnTo>
                  <a:pt x="0" y="978"/>
                </a:lnTo>
                <a:lnTo>
                  <a:pt x="946" y="978"/>
                </a:lnTo>
                <a:lnTo>
                  <a:pt x="1261" y="0"/>
                </a:lnTo>
                <a:lnTo>
                  <a:pt x="315" y="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72120" y="584208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Enco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20880" y="5553000"/>
            <a:ext cx="3470760" cy="1139040"/>
          </a:xfrm>
          <a:prstGeom prst="irregularSeal2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67040" y="6234120"/>
            <a:ext cx="36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132600" y="553032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656160" y="3251160"/>
            <a:ext cx="985680" cy="6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37160" y="3259080"/>
            <a:ext cx="1017360" cy="6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67120" y="3960720"/>
            <a:ext cx="1350720" cy="484200"/>
          </a:xfrm>
          <a:custGeom>
            <a:avLst/>
            <a:gdLst/>
            <a:ahLst/>
            <a:rect l="l" t="t" r="r" b="b"/>
            <a:pathLst>
              <a:path w="701" h="733">
                <a:moveTo>
                  <a:pt x="88" y="0"/>
                </a:moveTo>
                <a:lnTo>
                  <a:pt x="70" y="3"/>
                </a:lnTo>
                <a:lnTo>
                  <a:pt x="54" y="9"/>
                </a:lnTo>
                <a:lnTo>
                  <a:pt x="39" y="21"/>
                </a:lnTo>
                <a:lnTo>
                  <a:pt x="26" y="35"/>
                </a:lnTo>
                <a:lnTo>
                  <a:pt x="15" y="53"/>
                </a:lnTo>
                <a:lnTo>
                  <a:pt x="7" y="75"/>
                </a:lnTo>
                <a:lnTo>
                  <a:pt x="3" y="97"/>
                </a:lnTo>
                <a:lnTo>
                  <a:pt x="0" y="122"/>
                </a:lnTo>
                <a:lnTo>
                  <a:pt x="0" y="611"/>
                </a:lnTo>
                <a:lnTo>
                  <a:pt x="3" y="635"/>
                </a:lnTo>
                <a:lnTo>
                  <a:pt x="7" y="658"/>
                </a:lnTo>
                <a:lnTo>
                  <a:pt x="15" y="679"/>
                </a:lnTo>
                <a:lnTo>
                  <a:pt x="26" y="697"/>
                </a:lnTo>
                <a:lnTo>
                  <a:pt x="39" y="712"/>
                </a:lnTo>
                <a:lnTo>
                  <a:pt x="54" y="723"/>
                </a:lnTo>
                <a:lnTo>
                  <a:pt x="70" y="731"/>
                </a:lnTo>
                <a:lnTo>
                  <a:pt x="88" y="733"/>
                </a:lnTo>
                <a:lnTo>
                  <a:pt x="613" y="733"/>
                </a:lnTo>
                <a:lnTo>
                  <a:pt x="631" y="731"/>
                </a:lnTo>
                <a:lnTo>
                  <a:pt x="647" y="723"/>
                </a:lnTo>
                <a:lnTo>
                  <a:pt x="662" y="712"/>
                </a:lnTo>
                <a:lnTo>
                  <a:pt x="675" y="697"/>
                </a:lnTo>
                <a:lnTo>
                  <a:pt x="686" y="679"/>
                </a:lnTo>
                <a:lnTo>
                  <a:pt x="694" y="658"/>
                </a:lnTo>
                <a:lnTo>
                  <a:pt x="699" y="635"/>
                </a:lnTo>
                <a:lnTo>
                  <a:pt x="701" y="611"/>
                </a:lnTo>
                <a:lnTo>
                  <a:pt x="701" y="122"/>
                </a:lnTo>
                <a:lnTo>
                  <a:pt x="699" y="97"/>
                </a:lnTo>
                <a:lnTo>
                  <a:pt x="694" y="75"/>
                </a:lnTo>
                <a:lnTo>
                  <a:pt x="686" y="53"/>
                </a:lnTo>
                <a:lnTo>
                  <a:pt x="675" y="35"/>
                </a:lnTo>
                <a:lnTo>
                  <a:pt x="662" y="21"/>
                </a:lnTo>
                <a:lnTo>
                  <a:pt x="647" y="9"/>
                </a:lnTo>
                <a:lnTo>
                  <a:pt x="631" y="3"/>
                </a:lnTo>
                <a:lnTo>
                  <a:pt x="613" y="0"/>
                </a:lnTo>
                <a:lnTo>
                  <a:pt x="88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83040" y="3870360"/>
            <a:ext cx="1222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man Old Style"/>
              </a:rPr>
              <a:t>Head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9600" y="4105440"/>
            <a:ext cx="122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man Old Style"/>
              </a:rPr>
              <a:t>Fi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CB22-B3C6-4BF8-B1FE-17048C7EA34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DA81ACC-B27A-474C-BF57-2733B04FB3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886040" y="1477440"/>
            <a:ext cx="346536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 ::= SEQUENCE {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OOLEA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 ::= SEQUENCE {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OOLEA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 ::= SEQUENCE {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 INTEG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1447920"/>
            <a:ext cx="365616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ypedef struc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} 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ypedef struc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} C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ypedef struc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} 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53800" y="380880"/>
            <a:ext cx="69390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SN.1 Example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26B49-AE09-405D-BCEE-F25D940C414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AB16185-D716-48AC-8474-2F8774A999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05000" y="4724280"/>
            <a:ext cx="6729480" cy="930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fo B;   Info I;        Info C;   Info D;   Info A;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&amp;B, &amp;I    &amp;I,            &amp;B, &amp;C, &amp;D, &amp;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16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3872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576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472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62080" y="231840"/>
            <a:ext cx="64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Wipro ASN.1 Compiler Front-End 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49720" y="14176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21240" y="22795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24560" y="22654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03680" y="34894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16920" y="34304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24400" y="1587600"/>
            <a:ext cx="1370160" cy="2035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847760" y="1776240"/>
            <a:ext cx="274680" cy="5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7480" y="1819440"/>
            <a:ext cx="258840" cy="475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2692440"/>
            <a:ext cx="1443240" cy="807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268800" y="2708280"/>
            <a:ext cx="1342800" cy="9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35600" y="2670120"/>
            <a:ext cx="2293920" cy="9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82880" y="1211400"/>
            <a:ext cx="93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76040" y="1554120"/>
            <a:ext cx="84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83280" y="1204920"/>
            <a:ext cx="270000" cy="268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91200" y="1530360"/>
            <a:ext cx="270000" cy="268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59" idx="7"/>
            <a:endCxn id="159" idx="7"/>
          </p:cNvCxnSpPr>
          <p:nvPr/>
        </p:nvCxnSpPr>
        <p:spPr>
          <a:xfrm flipH="1" rot="16200000">
            <a:off x="5439960" y="1483200"/>
            <a:ext cx="2520" cy="2520"/>
          </a:xfrm>
          <a:prstGeom prst="bentConnector3">
            <a:avLst>
              <a:gd name="adj1" fmla="val -18600000"/>
            </a:avLst>
          </a:prstGeom>
          <a:ln w="0">
            <a:noFill/>
          </a:ln>
        </p:spPr>
      </p:cxnSp>
      <p:cxnSp>
        <p:nvCxnSpPr>
          <p:cNvPr id="175" name=""/>
          <p:cNvCxnSpPr>
            <a:stCxn id="164" idx="0"/>
            <a:endCxn id="159" idx="7"/>
          </p:cNvCxnSpPr>
          <p:nvPr/>
        </p:nvCxnSpPr>
        <p:spPr>
          <a:xfrm flipH="1" flipV="1" rot="5400000">
            <a:off x="5330520" y="1477440"/>
            <a:ext cx="104040" cy="116640"/>
          </a:xfrm>
          <a:prstGeom prst="curvedConnector5">
            <a:avLst>
              <a:gd name="adj1" fmla="val 386111"/>
              <a:gd name="adj2" fmla="val 49845"/>
              <a:gd name="adj3" fmla="val 386111"/>
            </a:avLst>
          </a:prstGeom>
          <a:ln w="0">
            <a:noFill/>
          </a:ln>
        </p:spPr>
      </p:cxnSp>
      <p:sp>
        <p:nvSpPr>
          <p:cNvPr id="176" name=""/>
          <p:cNvSpPr/>
          <p:nvPr/>
        </p:nvSpPr>
        <p:spPr>
          <a:xfrm>
            <a:off x="3521160" y="2468520"/>
            <a:ext cx="74520" cy="7452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130200" y="1687680"/>
            <a:ext cx="1919160" cy="181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3160" y="1731960"/>
            <a:ext cx="1890720" cy="170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19680" y="5499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540160" y="6219720"/>
            <a:ext cx="22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48080" y="5651640"/>
            <a:ext cx="0" cy="561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72200" y="5479920"/>
            <a:ext cx="0" cy="98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3630240" y="6430680"/>
            <a:ext cx="163044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38520" y="567360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489640"/>
            <a:ext cx="0" cy="98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616960" y="5481720"/>
            <a:ext cx="0" cy="98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3120" y="6423120"/>
            <a:ext cx="745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67160" y="6451560"/>
            <a:ext cx="606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869080" y="6416640"/>
            <a:ext cx="2743200" cy="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93000" y="5506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19680" y="6203880"/>
            <a:ext cx="216540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943520" y="4179600"/>
            <a:ext cx="2727360" cy="2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64040" y="4200480"/>
            <a:ext cx="0" cy="51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1160" y="4186080"/>
            <a:ext cx="0" cy="98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67680" y="4414680"/>
            <a:ext cx="0" cy="73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154560" y="4410000"/>
            <a:ext cx="2005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46640" y="4402080"/>
            <a:ext cx="0" cy="331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189B-4070-4744-8CEC-2CC334A9C353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B0403EB-6CD1-4822-A7F2-A458B0F1CF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63880" y="577800"/>
            <a:ext cx="202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riving 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38560" y="4572000"/>
            <a:ext cx="1704960" cy="4291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OOL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98960" y="5289480"/>
            <a:ext cx="1704960" cy="4291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70320" y="3579840"/>
            <a:ext cx="1363320" cy="609120"/>
          </a:xfrm>
          <a:prstGeom prst="wedgeEllipseCallout">
            <a:avLst>
              <a:gd name="adj1" fmla="val -39416"/>
              <a:gd name="adj2" fmla="val -11077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O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2871720"/>
            <a:ext cx="460080" cy="300240"/>
          </a:xfrm>
          <a:prstGeom prst="rightArrow">
            <a:avLst>
              <a:gd name="adj1" fmla="val 40741"/>
              <a:gd name="adj2" fmla="val 57599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46480" y="4581360"/>
            <a:ext cx="1704960" cy="4291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OOL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46640" y="681120"/>
            <a:ext cx="28339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ypedef struc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;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;(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} 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ypedef struc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;(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;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} C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ypedef struc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;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} 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668440" y="1103400"/>
            <a:ext cx="460440" cy="299880"/>
          </a:xfrm>
          <a:prstGeom prst="rightArrow">
            <a:avLst>
              <a:gd name="adj1" fmla="val 40741"/>
              <a:gd name="adj2" fmla="val 57713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49560" y="0"/>
            <a:ext cx="65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Wipro ASN.1 Compiler Back-End 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65680" y="1246320"/>
            <a:ext cx="1933560" cy="1515240"/>
            <a:chOff x="3865680" y="1246320"/>
            <a:chExt cx="1933560" cy="1515240"/>
          </a:xfrm>
        </p:grpSpPr>
        <p:grpSp>
          <p:nvGrpSpPr>
            <p:cNvPr id="209" name=""/>
            <p:cNvGrpSpPr/>
            <p:nvPr/>
          </p:nvGrpSpPr>
          <p:grpSpPr>
            <a:xfrm>
              <a:off x="3865680" y="1246320"/>
              <a:ext cx="1933560" cy="1448640"/>
              <a:chOff x="3865680" y="1246320"/>
              <a:chExt cx="1933560" cy="1448640"/>
            </a:xfrm>
          </p:grpSpPr>
          <p:sp>
            <p:nvSpPr>
              <p:cNvPr id="210" name=""/>
              <p:cNvSpPr/>
              <p:nvPr/>
            </p:nvSpPr>
            <p:spPr>
              <a:xfrm>
                <a:off x="3870360" y="1246320"/>
                <a:ext cx="1906560" cy="144864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EQUENC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65680" y="1648080"/>
                <a:ext cx="18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09960" y="2167200"/>
                <a:ext cx="188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3996000" y="2278080"/>
              <a:ext cx="433440" cy="45972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34120" y="23018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96720" y="2298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57880" y="229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935520" y="2946240"/>
            <a:ext cx="1933560" cy="1475640"/>
            <a:chOff x="3935520" y="2946240"/>
            <a:chExt cx="1933560" cy="1475640"/>
          </a:xfrm>
        </p:grpSpPr>
        <p:grpSp>
          <p:nvGrpSpPr>
            <p:cNvPr id="218" name=""/>
            <p:cNvGrpSpPr/>
            <p:nvPr/>
          </p:nvGrpSpPr>
          <p:grpSpPr>
            <a:xfrm>
              <a:off x="3935520" y="2946240"/>
              <a:ext cx="1933560" cy="1448640"/>
              <a:chOff x="3935520" y="2946240"/>
              <a:chExt cx="1933560" cy="1448640"/>
            </a:xfrm>
          </p:grpSpPr>
          <p:sp>
            <p:nvSpPr>
              <p:cNvPr id="219" name=""/>
              <p:cNvSpPr/>
              <p:nvPr/>
            </p:nvSpPr>
            <p:spPr>
              <a:xfrm>
                <a:off x="3940200" y="2946240"/>
                <a:ext cx="1906560" cy="144864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EQUENC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935520" y="3347640"/>
                <a:ext cx="188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79800" y="3866760"/>
                <a:ext cx="188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4310280" y="3947760"/>
              <a:ext cx="433440" cy="45972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46560" y="39621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941640" y="2944800"/>
            <a:ext cx="1933560" cy="1463040"/>
            <a:chOff x="3941640" y="2944800"/>
            <a:chExt cx="1933560" cy="1463040"/>
          </a:xfrm>
        </p:grpSpPr>
        <p:grpSp>
          <p:nvGrpSpPr>
            <p:cNvPr id="225" name=""/>
            <p:cNvGrpSpPr/>
            <p:nvPr/>
          </p:nvGrpSpPr>
          <p:grpSpPr>
            <a:xfrm>
              <a:off x="3941640" y="2944800"/>
              <a:ext cx="1933560" cy="1448640"/>
              <a:chOff x="3941640" y="2944800"/>
              <a:chExt cx="1933560" cy="144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946320" y="2944800"/>
                <a:ext cx="1906560" cy="144864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EQUENC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41640" y="3346200"/>
                <a:ext cx="18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85920" y="3865320"/>
                <a:ext cx="188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381560" y="3948120"/>
              <a:ext cx="43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17760" y="3932280"/>
              <a:ext cx="282960" cy="45972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62440" y="1238400"/>
            <a:ext cx="1933560" cy="1448640"/>
            <a:chOff x="3862440" y="1238400"/>
            <a:chExt cx="1933560" cy="1448640"/>
          </a:xfrm>
        </p:grpSpPr>
        <p:grpSp>
          <p:nvGrpSpPr>
            <p:cNvPr id="232" name=""/>
            <p:cNvGrpSpPr/>
            <p:nvPr/>
          </p:nvGrpSpPr>
          <p:grpSpPr>
            <a:xfrm>
              <a:off x="3862440" y="1238400"/>
              <a:ext cx="1933560" cy="1448640"/>
              <a:chOff x="3862440" y="1238400"/>
              <a:chExt cx="1933560" cy="1448640"/>
            </a:xfrm>
          </p:grpSpPr>
          <p:sp>
            <p:nvSpPr>
              <p:cNvPr id="233" name=""/>
              <p:cNvSpPr/>
              <p:nvPr/>
            </p:nvSpPr>
            <p:spPr>
              <a:xfrm>
                <a:off x="3867120" y="1238400"/>
                <a:ext cx="1906560" cy="144864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EQUENC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62440" y="1639800"/>
                <a:ext cx="18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06720" y="2158920"/>
                <a:ext cx="188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892680" y="222552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81480" y="2220840"/>
              <a:ext cx="433440" cy="45972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58480" y="220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76880" y="2217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863880" y="1246320"/>
            <a:ext cx="1933560" cy="1448640"/>
            <a:chOff x="3863880" y="1246320"/>
            <a:chExt cx="1933560" cy="1448640"/>
          </a:xfrm>
        </p:grpSpPr>
        <p:grpSp>
          <p:nvGrpSpPr>
            <p:cNvPr id="241" name=""/>
            <p:cNvGrpSpPr/>
            <p:nvPr/>
          </p:nvGrpSpPr>
          <p:grpSpPr>
            <a:xfrm>
              <a:off x="3863880" y="1246320"/>
              <a:ext cx="1933560" cy="1448640"/>
              <a:chOff x="3863880" y="1246320"/>
              <a:chExt cx="1933560" cy="1448640"/>
            </a:xfrm>
          </p:grpSpPr>
          <p:sp>
            <p:nvSpPr>
              <p:cNvPr id="242" name=""/>
              <p:cNvSpPr/>
              <p:nvPr/>
            </p:nvSpPr>
            <p:spPr>
              <a:xfrm>
                <a:off x="3868560" y="1246320"/>
                <a:ext cx="1906560" cy="144864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EQUENC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63880" y="1647720"/>
                <a:ext cx="18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08160" y="2166840"/>
                <a:ext cx="188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3894120" y="2233800"/>
              <a:ext cx="43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82920" y="222912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59560" y="2213280"/>
              <a:ext cx="400320" cy="45972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77960" y="2225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860640" y="1241280"/>
            <a:ext cx="1933560" cy="1448640"/>
            <a:chOff x="3860640" y="1241280"/>
            <a:chExt cx="1933560" cy="1448640"/>
          </a:xfrm>
        </p:grpSpPr>
        <p:grpSp>
          <p:nvGrpSpPr>
            <p:cNvPr id="250" name=""/>
            <p:cNvGrpSpPr/>
            <p:nvPr/>
          </p:nvGrpSpPr>
          <p:grpSpPr>
            <a:xfrm>
              <a:off x="3860640" y="1241280"/>
              <a:ext cx="1933560" cy="1448640"/>
              <a:chOff x="3860640" y="1241280"/>
              <a:chExt cx="1933560" cy="1448640"/>
            </a:xfrm>
          </p:grpSpPr>
          <p:sp>
            <p:nvSpPr>
              <p:cNvPr id="251" name=""/>
              <p:cNvSpPr/>
              <p:nvPr/>
            </p:nvSpPr>
            <p:spPr>
              <a:xfrm>
                <a:off x="3865320" y="1241280"/>
                <a:ext cx="1906560" cy="144864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EQUENC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60640" y="1642680"/>
                <a:ext cx="18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904920" y="2161800"/>
                <a:ext cx="188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890520" y="222876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79680" y="222408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56320" y="2208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74720" y="2220840"/>
              <a:ext cx="282960" cy="45972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909960" y="2890800"/>
            <a:ext cx="2021040" cy="158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940200" y="2946240"/>
            <a:ext cx="1933560" cy="1448640"/>
            <a:chOff x="3940200" y="2946240"/>
            <a:chExt cx="1933560" cy="1448640"/>
          </a:xfrm>
        </p:grpSpPr>
        <p:grpSp>
          <p:nvGrpSpPr>
            <p:cNvPr id="260" name=""/>
            <p:cNvGrpSpPr/>
            <p:nvPr/>
          </p:nvGrpSpPr>
          <p:grpSpPr>
            <a:xfrm>
              <a:off x="3940200" y="2946240"/>
              <a:ext cx="1933560" cy="1448640"/>
              <a:chOff x="3940200" y="2946240"/>
              <a:chExt cx="1933560" cy="1448640"/>
            </a:xfrm>
          </p:grpSpPr>
          <p:sp>
            <p:nvSpPr>
              <p:cNvPr id="261" name=""/>
              <p:cNvSpPr/>
              <p:nvPr/>
            </p:nvSpPr>
            <p:spPr>
              <a:xfrm>
                <a:off x="3944880" y="2946240"/>
                <a:ext cx="1906560" cy="144864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EQUENC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940200" y="3347640"/>
                <a:ext cx="18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84480" y="3866760"/>
                <a:ext cx="188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4772880" y="3933360"/>
              <a:ext cx="282960" cy="45972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892680" y="2887560"/>
            <a:ext cx="2035080" cy="15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49840" y="1184400"/>
            <a:ext cx="1962000" cy="16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08320" y="5284800"/>
            <a:ext cx="1704960" cy="4291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4160" y="600408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1062000"/>
            <a:ext cx="460440" cy="300240"/>
          </a:xfrm>
          <a:prstGeom prst="rightArrow">
            <a:avLst>
              <a:gd name="adj1" fmla="val 40741"/>
              <a:gd name="adj2" fmla="val 57644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8673480" y="1098720"/>
            <a:ext cx="460440" cy="299880"/>
          </a:xfrm>
          <a:prstGeom prst="rightArrow">
            <a:avLst>
              <a:gd name="adj1" fmla="val 40741"/>
              <a:gd name="adj2" fmla="val 57713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30240" y="2867040"/>
            <a:ext cx="460440" cy="299880"/>
          </a:xfrm>
          <a:prstGeom prst="rightArrow">
            <a:avLst>
              <a:gd name="adj1" fmla="val 40741"/>
              <a:gd name="adj2" fmla="val 57713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8659080" y="1479600"/>
            <a:ext cx="460440" cy="299880"/>
          </a:xfrm>
          <a:prstGeom prst="rightArrow">
            <a:avLst>
              <a:gd name="adj1" fmla="val 40741"/>
              <a:gd name="adj2" fmla="val 57713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38160" y="1996920"/>
            <a:ext cx="460440" cy="300240"/>
          </a:xfrm>
          <a:prstGeom prst="rightArrow">
            <a:avLst>
              <a:gd name="adj1" fmla="val 40741"/>
              <a:gd name="adj2" fmla="val 57644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8640000" y="3306600"/>
            <a:ext cx="460440" cy="300240"/>
          </a:xfrm>
          <a:prstGeom prst="rightArrow">
            <a:avLst>
              <a:gd name="adj1" fmla="val 40741"/>
              <a:gd name="adj2" fmla="val 57644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6720" y="1055520"/>
            <a:ext cx="460440" cy="300240"/>
          </a:xfrm>
          <a:prstGeom prst="rightArrow">
            <a:avLst>
              <a:gd name="adj1" fmla="val 40741"/>
              <a:gd name="adj2" fmla="val 57644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644680" y="3301920"/>
            <a:ext cx="460440" cy="300240"/>
          </a:xfrm>
          <a:prstGeom prst="rightArrow">
            <a:avLst>
              <a:gd name="adj1" fmla="val 40741"/>
              <a:gd name="adj2" fmla="val 57644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33480" y="1992240"/>
            <a:ext cx="460440" cy="300240"/>
          </a:xfrm>
          <a:prstGeom prst="rightArrow">
            <a:avLst>
              <a:gd name="adj1" fmla="val 40741"/>
              <a:gd name="adj2" fmla="val 57644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659080" y="3697200"/>
            <a:ext cx="460440" cy="300240"/>
          </a:xfrm>
          <a:prstGeom prst="rightArrow">
            <a:avLst>
              <a:gd name="adj1" fmla="val 40741"/>
              <a:gd name="adj2" fmla="val 57644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12960" y="1552680"/>
            <a:ext cx="460440" cy="299880"/>
          </a:xfrm>
          <a:prstGeom prst="rightArrow">
            <a:avLst>
              <a:gd name="adj1" fmla="val 40741"/>
              <a:gd name="adj2" fmla="val 57713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673480" y="3706920"/>
            <a:ext cx="460440" cy="299880"/>
          </a:xfrm>
          <a:prstGeom prst="rightArrow">
            <a:avLst>
              <a:gd name="adj1" fmla="val 40741"/>
              <a:gd name="adj2" fmla="val 57713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39960" y="2876400"/>
            <a:ext cx="460440" cy="300240"/>
          </a:xfrm>
          <a:prstGeom prst="rightArrow">
            <a:avLst>
              <a:gd name="adj1" fmla="val 40741"/>
              <a:gd name="adj2" fmla="val 57644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8659080" y="1817640"/>
            <a:ext cx="460440" cy="300240"/>
          </a:xfrm>
          <a:prstGeom prst="rightArrow">
            <a:avLst>
              <a:gd name="adj1" fmla="val 40741"/>
              <a:gd name="adj2" fmla="val 57644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30240" y="2395440"/>
            <a:ext cx="460440" cy="300240"/>
          </a:xfrm>
          <a:prstGeom prst="rightArrow">
            <a:avLst>
              <a:gd name="adj1" fmla="val 40741"/>
              <a:gd name="adj2" fmla="val 57644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8654400" y="4797360"/>
            <a:ext cx="460440" cy="300240"/>
          </a:xfrm>
          <a:prstGeom prst="rightArrow">
            <a:avLst>
              <a:gd name="adj1" fmla="val 40741"/>
              <a:gd name="adj2" fmla="val 57644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2320" y="1533600"/>
            <a:ext cx="460440" cy="299880"/>
          </a:xfrm>
          <a:prstGeom prst="rightArrow">
            <a:avLst>
              <a:gd name="adj1" fmla="val 40741"/>
              <a:gd name="adj2" fmla="val 57713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8659080" y="4792680"/>
            <a:ext cx="460440" cy="299880"/>
          </a:xfrm>
          <a:prstGeom prst="rightArrow">
            <a:avLst>
              <a:gd name="adj1" fmla="val 40741"/>
              <a:gd name="adj2" fmla="val 57713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35280" y="2871720"/>
            <a:ext cx="460080" cy="300240"/>
          </a:xfrm>
          <a:prstGeom prst="rightArrow">
            <a:avLst>
              <a:gd name="adj1" fmla="val 40741"/>
              <a:gd name="adj2" fmla="val 57599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8654400" y="2217600"/>
            <a:ext cx="460440" cy="300240"/>
          </a:xfrm>
          <a:prstGeom prst="rightArrow">
            <a:avLst>
              <a:gd name="adj1" fmla="val 40741"/>
              <a:gd name="adj2" fmla="val 57644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17640" y="1542960"/>
            <a:ext cx="460440" cy="300240"/>
          </a:xfrm>
          <a:prstGeom prst="rightArrow">
            <a:avLst>
              <a:gd name="adj1" fmla="val 40741"/>
              <a:gd name="adj2" fmla="val 57644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16240" y="5278320"/>
            <a:ext cx="1704960" cy="4291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654400" y="2211480"/>
            <a:ext cx="460440" cy="299880"/>
          </a:xfrm>
          <a:prstGeom prst="rightArrow">
            <a:avLst>
              <a:gd name="adj1" fmla="val 40741"/>
              <a:gd name="adj2" fmla="val 57713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30240" y="2852640"/>
            <a:ext cx="460440" cy="300240"/>
          </a:xfrm>
          <a:prstGeom prst="rightArrow">
            <a:avLst>
              <a:gd name="adj1" fmla="val 40741"/>
              <a:gd name="adj2" fmla="val 57644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8644680" y="2521080"/>
            <a:ext cx="460440" cy="299880"/>
          </a:xfrm>
          <a:prstGeom prst="rightArrow">
            <a:avLst>
              <a:gd name="adj1" fmla="val 40741"/>
              <a:gd name="adj2" fmla="val 57713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05040" y="4746600"/>
            <a:ext cx="1886040" cy="914400"/>
          </a:xfrm>
          <a:prstGeom prst="wedgeEllipseCallout">
            <a:avLst>
              <a:gd name="adj1" fmla="val 78449"/>
              <a:gd name="adj2" fmla="val 111111"/>
            </a:avLst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98800" y="4788000"/>
            <a:ext cx="146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Encoded Bit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22360" y="1009800"/>
            <a:ext cx="1184400" cy="21794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17680" y="2309760"/>
            <a:ext cx="119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17680" y="2766960"/>
            <a:ext cx="119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3000" y="1905120"/>
            <a:ext cx="119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27400" y="1476360"/>
            <a:ext cx="119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11440" y="102384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49520" y="144792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06760" y="187632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06760" y="230508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06760" y="271944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14960" y="6048360"/>
            <a:ext cx="1846080" cy="4748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44920" y="6148440"/>
            <a:ext cx="5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59160" y="6048360"/>
            <a:ext cx="4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68760" y="6058080"/>
            <a:ext cx="4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8360" y="6053040"/>
            <a:ext cx="4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59520" y="604836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68760" y="6058080"/>
            <a:ext cx="4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7E05-4A7C-41CC-8FA8-64FDE344670A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141B79F-FDF4-490E-A1FD-B9E59AF0BA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629160" y="5267160"/>
            <a:ext cx="3009600" cy="38160"/>
          </a:xfrm>
          <a:custGeom>
            <a:avLst/>
            <a:gdLst/>
            <a:ahLst/>
            <a:rect l="l" t="t" r="r" b="b"/>
            <a:pathLst>
              <a:path w="1896" h="24">
                <a:moveTo>
                  <a:pt x="0" y="24"/>
                </a:moveTo>
                <a:lnTo>
                  <a:pt x="30" y="0"/>
                </a:lnTo>
                <a:lnTo>
                  <a:pt x="1896" y="0"/>
                </a:lnTo>
                <a:lnTo>
                  <a:pt x="1866" y="24"/>
                </a:lnTo>
                <a:lnTo>
                  <a:pt x="0" y="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29160" y="2600280"/>
            <a:ext cx="47520" cy="2705040"/>
          </a:xfrm>
          <a:custGeom>
            <a:avLst/>
            <a:gdLst/>
            <a:ahLst/>
            <a:rect l="l" t="t" r="r" b="b"/>
            <a:pathLst>
              <a:path w="30" h="1704">
                <a:moveTo>
                  <a:pt x="0" y="1704"/>
                </a:moveTo>
                <a:lnTo>
                  <a:pt x="0" y="24"/>
                </a:lnTo>
                <a:lnTo>
                  <a:pt x="30" y="0"/>
                </a:lnTo>
                <a:lnTo>
                  <a:pt x="30" y="1680"/>
                </a:lnTo>
                <a:lnTo>
                  <a:pt x="0" y="170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76680" y="2600280"/>
            <a:ext cx="2962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29160" y="5267160"/>
            <a:ext cx="3009600" cy="38160"/>
          </a:xfrm>
          <a:custGeom>
            <a:avLst/>
            <a:gdLst/>
            <a:ahLst/>
            <a:rect l="l" t="t" r="r" b="b"/>
            <a:pathLst>
              <a:path w="316" h="4">
                <a:moveTo>
                  <a:pt x="0" y="4"/>
                </a:moveTo>
                <a:lnTo>
                  <a:pt x="5" y="0"/>
                </a:lnTo>
                <a:lnTo>
                  <a:pt x="3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29160" y="4933800"/>
            <a:ext cx="3009600" cy="38160"/>
          </a:xfrm>
          <a:custGeom>
            <a:avLst/>
            <a:gdLst/>
            <a:ahLst/>
            <a:rect l="l" t="t" r="r" b="b"/>
            <a:pathLst>
              <a:path w="316" h="4">
                <a:moveTo>
                  <a:pt x="0" y="4"/>
                </a:moveTo>
                <a:lnTo>
                  <a:pt x="5" y="0"/>
                </a:lnTo>
                <a:lnTo>
                  <a:pt x="3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29160" y="4600440"/>
            <a:ext cx="3009600" cy="38160"/>
          </a:xfrm>
          <a:custGeom>
            <a:avLst/>
            <a:gdLst/>
            <a:ahLst/>
            <a:rect l="l" t="t" r="r" b="b"/>
            <a:pathLst>
              <a:path w="316" h="4">
                <a:moveTo>
                  <a:pt x="0" y="4"/>
                </a:moveTo>
                <a:lnTo>
                  <a:pt x="5" y="0"/>
                </a:lnTo>
                <a:lnTo>
                  <a:pt x="3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29160" y="4267080"/>
            <a:ext cx="3009600" cy="38160"/>
          </a:xfrm>
          <a:custGeom>
            <a:avLst/>
            <a:gdLst/>
            <a:ahLst/>
            <a:rect l="l" t="t" r="r" b="b"/>
            <a:pathLst>
              <a:path w="316" h="4">
                <a:moveTo>
                  <a:pt x="0" y="4"/>
                </a:moveTo>
                <a:lnTo>
                  <a:pt x="5" y="0"/>
                </a:lnTo>
                <a:lnTo>
                  <a:pt x="3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29160" y="3933720"/>
            <a:ext cx="3009600" cy="38160"/>
          </a:xfrm>
          <a:custGeom>
            <a:avLst/>
            <a:gdLst/>
            <a:ahLst/>
            <a:rect l="l" t="t" r="r" b="b"/>
            <a:pathLst>
              <a:path w="316" h="4">
                <a:moveTo>
                  <a:pt x="0" y="4"/>
                </a:moveTo>
                <a:lnTo>
                  <a:pt x="5" y="0"/>
                </a:lnTo>
                <a:lnTo>
                  <a:pt x="3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29160" y="3600360"/>
            <a:ext cx="3009600" cy="38160"/>
          </a:xfrm>
          <a:custGeom>
            <a:avLst/>
            <a:gdLst/>
            <a:ahLst/>
            <a:rect l="l" t="t" r="r" b="b"/>
            <a:pathLst>
              <a:path w="316" h="4">
                <a:moveTo>
                  <a:pt x="0" y="4"/>
                </a:moveTo>
                <a:lnTo>
                  <a:pt x="5" y="0"/>
                </a:lnTo>
                <a:lnTo>
                  <a:pt x="3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29160" y="3267000"/>
            <a:ext cx="3009600" cy="38160"/>
          </a:xfrm>
          <a:custGeom>
            <a:avLst/>
            <a:gdLst/>
            <a:ahLst/>
            <a:rect l="l" t="t" r="r" b="b"/>
            <a:pathLst>
              <a:path w="316" h="4">
                <a:moveTo>
                  <a:pt x="0" y="4"/>
                </a:moveTo>
                <a:lnTo>
                  <a:pt x="5" y="0"/>
                </a:lnTo>
                <a:lnTo>
                  <a:pt x="3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29160" y="2933640"/>
            <a:ext cx="3009600" cy="38160"/>
          </a:xfrm>
          <a:custGeom>
            <a:avLst/>
            <a:gdLst/>
            <a:ahLst/>
            <a:rect l="l" t="t" r="r" b="b"/>
            <a:pathLst>
              <a:path w="316" h="4">
                <a:moveTo>
                  <a:pt x="0" y="4"/>
                </a:moveTo>
                <a:lnTo>
                  <a:pt x="5" y="0"/>
                </a:lnTo>
                <a:lnTo>
                  <a:pt x="3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29160" y="2600280"/>
            <a:ext cx="3009600" cy="38160"/>
          </a:xfrm>
          <a:custGeom>
            <a:avLst/>
            <a:gdLst/>
            <a:ahLst/>
            <a:rect l="l" t="t" r="r" b="b"/>
            <a:pathLst>
              <a:path w="316" h="4">
                <a:moveTo>
                  <a:pt x="0" y="4"/>
                </a:moveTo>
                <a:lnTo>
                  <a:pt x="5" y="0"/>
                </a:lnTo>
                <a:lnTo>
                  <a:pt x="3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29160" y="5267160"/>
            <a:ext cx="3009600" cy="38160"/>
          </a:xfrm>
          <a:custGeom>
            <a:avLst/>
            <a:gdLst/>
            <a:ahLst/>
            <a:rect l="l" t="t" r="r" b="b"/>
            <a:pathLst>
              <a:path w="1896" h="24">
                <a:moveTo>
                  <a:pt x="1896" y="0"/>
                </a:moveTo>
                <a:lnTo>
                  <a:pt x="1866" y="24"/>
                </a:lnTo>
                <a:lnTo>
                  <a:pt x="0" y="24"/>
                </a:lnTo>
                <a:lnTo>
                  <a:pt x="30" y="0"/>
                </a:lnTo>
                <a:lnTo>
                  <a:pt x="1896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29160" y="2600280"/>
            <a:ext cx="47520" cy="2705040"/>
          </a:xfrm>
          <a:custGeom>
            <a:avLst/>
            <a:gdLst/>
            <a:ahLst/>
            <a:rect l="l" t="t" r="r" b="b"/>
            <a:pathLst>
              <a:path w="30" h="1704">
                <a:moveTo>
                  <a:pt x="0" y="1704"/>
                </a:moveTo>
                <a:lnTo>
                  <a:pt x="0" y="24"/>
                </a:lnTo>
                <a:lnTo>
                  <a:pt x="30" y="0"/>
                </a:lnTo>
                <a:lnTo>
                  <a:pt x="30" y="1680"/>
                </a:lnTo>
                <a:lnTo>
                  <a:pt x="0" y="170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76680" y="2600280"/>
            <a:ext cx="29620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57760" y="4524480"/>
            <a:ext cx="47520" cy="780840"/>
          </a:xfrm>
          <a:custGeom>
            <a:avLst/>
            <a:gdLst/>
            <a:ahLst/>
            <a:rect l="l" t="t" r="r" b="b"/>
            <a:pathLst>
              <a:path w="30" h="492">
                <a:moveTo>
                  <a:pt x="0" y="492"/>
                </a:moveTo>
                <a:lnTo>
                  <a:pt x="0" y="18"/>
                </a:lnTo>
                <a:lnTo>
                  <a:pt x="30" y="0"/>
                </a:lnTo>
                <a:lnTo>
                  <a:pt x="30" y="468"/>
                </a:lnTo>
                <a:lnTo>
                  <a:pt x="0" y="492"/>
                </a:lnTo>
                <a:close/>
              </a:path>
            </a:pathLst>
          </a:custGeom>
          <a:solidFill>
            <a:srgbClr val="1a1a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24200" y="4552920"/>
            <a:ext cx="133560" cy="752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24200" y="4524480"/>
            <a:ext cx="181080" cy="28440"/>
          </a:xfrm>
          <a:custGeom>
            <a:avLst/>
            <a:gdLst/>
            <a:ahLst/>
            <a:rect l="l" t="t" r="r" b="b"/>
            <a:pathLst>
              <a:path w="114" h="18">
                <a:moveTo>
                  <a:pt x="84" y="18"/>
                </a:moveTo>
                <a:lnTo>
                  <a:pt x="114" y="0"/>
                </a:lnTo>
                <a:lnTo>
                  <a:pt x="30" y="0"/>
                </a:lnTo>
                <a:lnTo>
                  <a:pt x="0" y="18"/>
                </a:lnTo>
                <a:lnTo>
                  <a:pt x="84" y="18"/>
                </a:lnTo>
                <a:close/>
              </a:path>
            </a:pathLst>
          </a:custGeom>
          <a:solidFill>
            <a:srgbClr val="262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90960" y="4334040"/>
            <a:ext cx="47520" cy="971280"/>
          </a:xfrm>
          <a:custGeom>
            <a:avLst/>
            <a:gdLst/>
            <a:ahLst/>
            <a:rect l="l" t="t" r="r" b="b"/>
            <a:pathLst>
              <a:path w="30" h="612">
                <a:moveTo>
                  <a:pt x="0" y="612"/>
                </a:moveTo>
                <a:lnTo>
                  <a:pt x="0" y="24"/>
                </a:lnTo>
                <a:lnTo>
                  <a:pt x="30" y="0"/>
                </a:lnTo>
                <a:lnTo>
                  <a:pt x="30" y="588"/>
                </a:lnTo>
                <a:lnTo>
                  <a:pt x="0" y="612"/>
                </a:lnTo>
                <a:close/>
              </a:path>
            </a:pathLst>
          </a:custGeom>
          <a:solidFill>
            <a:srgbClr val="6666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57760" y="4371840"/>
            <a:ext cx="133200" cy="933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57760" y="4334040"/>
            <a:ext cx="180720" cy="37800"/>
          </a:xfrm>
          <a:custGeom>
            <a:avLst/>
            <a:gdLst/>
            <a:ahLst/>
            <a:rect l="l" t="t" r="r" b="b"/>
            <a:pathLst>
              <a:path w="114" h="24">
                <a:moveTo>
                  <a:pt x="84" y="24"/>
                </a:moveTo>
                <a:lnTo>
                  <a:pt x="114" y="0"/>
                </a:lnTo>
                <a:lnTo>
                  <a:pt x="30" y="0"/>
                </a:lnTo>
                <a:lnTo>
                  <a:pt x="0" y="24"/>
                </a:lnTo>
                <a:lnTo>
                  <a:pt x="84" y="24"/>
                </a:lnTo>
                <a:close/>
              </a:path>
            </a:pathLst>
          </a:custGeom>
          <a:solidFill>
            <a:srgbClr val="9999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48160" y="4524480"/>
            <a:ext cx="47520" cy="780840"/>
          </a:xfrm>
          <a:custGeom>
            <a:avLst/>
            <a:gdLst/>
            <a:ahLst/>
            <a:rect l="l" t="t" r="r" b="b"/>
            <a:pathLst>
              <a:path w="30" h="492">
                <a:moveTo>
                  <a:pt x="0" y="492"/>
                </a:moveTo>
                <a:lnTo>
                  <a:pt x="0" y="18"/>
                </a:lnTo>
                <a:lnTo>
                  <a:pt x="30" y="0"/>
                </a:lnTo>
                <a:lnTo>
                  <a:pt x="30" y="468"/>
                </a:lnTo>
                <a:lnTo>
                  <a:pt x="0" y="492"/>
                </a:lnTo>
                <a:close/>
              </a:path>
            </a:pathLst>
          </a:custGeom>
          <a:solidFill>
            <a:srgbClr val="1a1a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24320" y="4552920"/>
            <a:ext cx="123840" cy="752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24320" y="4524480"/>
            <a:ext cx="171360" cy="28440"/>
          </a:xfrm>
          <a:custGeom>
            <a:avLst/>
            <a:gdLst/>
            <a:ahLst/>
            <a:rect l="l" t="t" r="r" b="b"/>
            <a:pathLst>
              <a:path w="108" h="18">
                <a:moveTo>
                  <a:pt x="78" y="18"/>
                </a:moveTo>
                <a:lnTo>
                  <a:pt x="108" y="0"/>
                </a:lnTo>
                <a:lnTo>
                  <a:pt x="24" y="0"/>
                </a:lnTo>
                <a:lnTo>
                  <a:pt x="0" y="18"/>
                </a:lnTo>
                <a:lnTo>
                  <a:pt x="78" y="18"/>
                </a:lnTo>
                <a:close/>
              </a:path>
            </a:pathLst>
          </a:custGeom>
          <a:solidFill>
            <a:srgbClr val="262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81360" y="3981600"/>
            <a:ext cx="47880" cy="1323720"/>
          </a:xfrm>
          <a:custGeom>
            <a:avLst/>
            <a:gdLst/>
            <a:ahLst/>
            <a:rect l="l" t="t" r="r" b="b"/>
            <a:pathLst>
              <a:path w="30" h="834">
                <a:moveTo>
                  <a:pt x="0" y="834"/>
                </a:moveTo>
                <a:lnTo>
                  <a:pt x="0" y="24"/>
                </a:lnTo>
                <a:lnTo>
                  <a:pt x="30" y="0"/>
                </a:lnTo>
                <a:lnTo>
                  <a:pt x="30" y="810"/>
                </a:lnTo>
                <a:lnTo>
                  <a:pt x="0" y="834"/>
                </a:lnTo>
                <a:close/>
              </a:path>
            </a:pathLst>
          </a:custGeom>
          <a:solidFill>
            <a:srgbClr val="6666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48160" y="4019400"/>
            <a:ext cx="133200" cy="1285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48160" y="3981600"/>
            <a:ext cx="181080" cy="37800"/>
          </a:xfrm>
          <a:custGeom>
            <a:avLst/>
            <a:gdLst/>
            <a:ahLst/>
            <a:rect l="l" t="t" r="r" b="b"/>
            <a:pathLst>
              <a:path w="114" h="24">
                <a:moveTo>
                  <a:pt x="84" y="24"/>
                </a:moveTo>
                <a:lnTo>
                  <a:pt x="114" y="0"/>
                </a:lnTo>
                <a:lnTo>
                  <a:pt x="30" y="0"/>
                </a:lnTo>
                <a:lnTo>
                  <a:pt x="0" y="24"/>
                </a:lnTo>
                <a:lnTo>
                  <a:pt x="84" y="24"/>
                </a:lnTo>
                <a:close/>
              </a:path>
            </a:pathLst>
          </a:custGeom>
          <a:solidFill>
            <a:srgbClr val="9999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48280" y="4467240"/>
            <a:ext cx="38160" cy="838080"/>
          </a:xfrm>
          <a:custGeom>
            <a:avLst/>
            <a:gdLst/>
            <a:ahLst/>
            <a:rect l="l" t="t" r="r" b="b"/>
            <a:pathLst>
              <a:path w="24" h="528">
                <a:moveTo>
                  <a:pt x="0" y="528"/>
                </a:moveTo>
                <a:lnTo>
                  <a:pt x="0" y="24"/>
                </a:lnTo>
                <a:lnTo>
                  <a:pt x="24" y="0"/>
                </a:lnTo>
                <a:lnTo>
                  <a:pt x="24" y="504"/>
                </a:lnTo>
                <a:lnTo>
                  <a:pt x="0" y="528"/>
                </a:lnTo>
                <a:close/>
              </a:path>
            </a:pathLst>
          </a:custGeom>
          <a:solidFill>
            <a:srgbClr val="1a1a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15080" y="4505400"/>
            <a:ext cx="133200" cy="799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15080" y="4467240"/>
            <a:ext cx="171360" cy="38160"/>
          </a:xfrm>
          <a:custGeom>
            <a:avLst/>
            <a:gdLst/>
            <a:ahLst/>
            <a:rect l="l" t="t" r="r" b="b"/>
            <a:pathLst>
              <a:path w="108" h="24">
                <a:moveTo>
                  <a:pt x="84" y="24"/>
                </a:moveTo>
                <a:lnTo>
                  <a:pt x="108" y="0"/>
                </a:lnTo>
                <a:lnTo>
                  <a:pt x="30" y="0"/>
                </a:lnTo>
                <a:lnTo>
                  <a:pt x="0" y="24"/>
                </a:lnTo>
                <a:lnTo>
                  <a:pt x="84" y="24"/>
                </a:lnTo>
                <a:close/>
              </a:path>
            </a:pathLst>
          </a:custGeom>
          <a:solidFill>
            <a:srgbClr val="262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81480" y="3714840"/>
            <a:ext cx="38160" cy="1590480"/>
          </a:xfrm>
          <a:custGeom>
            <a:avLst/>
            <a:gdLst/>
            <a:ahLst/>
            <a:rect l="l" t="t" r="r" b="b"/>
            <a:pathLst>
              <a:path w="24" h="1002">
                <a:moveTo>
                  <a:pt x="0" y="1002"/>
                </a:moveTo>
                <a:lnTo>
                  <a:pt x="0" y="24"/>
                </a:lnTo>
                <a:lnTo>
                  <a:pt x="24" y="0"/>
                </a:lnTo>
                <a:lnTo>
                  <a:pt x="24" y="978"/>
                </a:lnTo>
                <a:lnTo>
                  <a:pt x="0" y="1002"/>
                </a:lnTo>
                <a:close/>
              </a:path>
            </a:pathLst>
          </a:custGeom>
          <a:solidFill>
            <a:srgbClr val="6666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48280" y="3753000"/>
            <a:ext cx="133200" cy="155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48280" y="3714840"/>
            <a:ext cx="171360" cy="38160"/>
          </a:xfrm>
          <a:custGeom>
            <a:avLst/>
            <a:gdLst/>
            <a:ahLst/>
            <a:rect l="l" t="t" r="r" b="b"/>
            <a:pathLst>
              <a:path w="108" h="24">
                <a:moveTo>
                  <a:pt x="84" y="24"/>
                </a:moveTo>
                <a:lnTo>
                  <a:pt x="108" y="0"/>
                </a:lnTo>
                <a:lnTo>
                  <a:pt x="24" y="0"/>
                </a:lnTo>
                <a:lnTo>
                  <a:pt x="0" y="24"/>
                </a:lnTo>
                <a:lnTo>
                  <a:pt x="84" y="24"/>
                </a:lnTo>
                <a:close/>
              </a:path>
            </a:pathLst>
          </a:custGeom>
          <a:solidFill>
            <a:srgbClr val="9999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4419720"/>
            <a:ext cx="47880" cy="885600"/>
          </a:xfrm>
          <a:custGeom>
            <a:avLst/>
            <a:gdLst/>
            <a:ahLst/>
            <a:rect l="l" t="t" r="r" b="b"/>
            <a:pathLst>
              <a:path w="30" h="558">
                <a:moveTo>
                  <a:pt x="0" y="558"/>
                </a:moveTo>
                <a:lnTo>
                  <a:pt x="0" y="24"/>
                </a:lnTo>
                <a:lnTo>
                  <a:pt x="30" y="0"/>
                </a:lnTo>
                <a:lnTo>
                  <a:pt x="30" y="534"/>
                </a:lnTo>
                <a:lnTo>
                  <a:pt x="0" y="558"/>
                </a:lnTo>
                <a:close/>
              </a:path>
            </a:pathLst>
          </a:custGeom>
          <a:solidFill>
            <a:srgbClr val="1a1a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05480" y="4457880"/>
            <a:ext cx="133200" cy="847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05480" y="4419720"/>
            <a:ext cx="181080" cy="38160"/>
          </a:xfrm>
          <a:custGeom>
            <a:avLst/>
            <a:gdLst/>
            <a:ahLst/>
            <a:rect l="l" t="t" r="r" b="b"/>
            <a:pathLst>
              <a:path w="114" h="24">
                <a:moveTo>
                  <a:pt x="84" y="24"/>
                </a:moveTo>
                <a:lnTo>
                  <a:pt x="114" y="0"/>
                </a:lnTo>
                <a:lnTo>
                  <a:pt x="30" y="0"/>
                </a:lnTo>
                <a:lnTo>
                  <a:pt x="0" y="24"/>
                </a:lnTo>
                <a:lnTo>
                  <a:pt x="84" y="24"/>
                </a:lnTo>
                <a:close/>
              </a:path>
            </a:pathLst>
          </a:custGeom>
          <a:solidFill>
            <a:srgbClr val="262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72240" y="3666960"/>
            <a:ext cx="47520" cy="1638360"/>
          </a:xfrm>
          <a:custGeom>
            <a:avLst/>
            <a:gdLst/>
            <a:ahLst/>
            <a:rect l="l" t="t" r="r" b="b"/>
            <a:pathLst>
              <a:path w="30" h="1032">
                <a:moveTo>
                  <a:pt x="0" y="1032"/>
                </a:moveTo>
                <a:lnTo>
                  <a:pt x="0" y="24"/>
                </a:lnTo>
                <a:lnTo>
                  <a:pt x="30" y="0"/>
                </a:lnTo>
                <a:lnTo>
                  <a:pt x="30" y="1008"/>
                </a:lnTo>
                <a:lnTo>
                  <a:pt x="0" y="1032"/>
                </a:lnTo>
                <a:close/>
              </a:path>
            </a:pathLst>
          </a:custGeom>
          <a:solidFill>
            <a:srgbClr val="6666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38680" y="3705120"/>
            <a:ext cx="133560" cy="1600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666960"/>
            <a:ext cx="181080" cy="38160"/>
          </a:xfrm>
          <a:custGeom>
            <a:avLst/>
            <a:gdLst/>
            <a:ahLst/>
            <a:rect l="l" t="t" r="r" b="b"/>
            <a:pathLst>
              <a:path w="114" h="24">
                <a:moveTo>
                  <a:pt x="84" y="24"/>
                </a:moveTo>
                <a:lnTo>
                  <a:pt x="114" y="0"/>
                </a:lnTo>
                <a:lnTo>
                  <a:pt x="30" y="0"/>
                </a:lnTo>
                <a:lnTo>
                  <a:pt x="0" y="24"/>
                </a:lnTo>
                <a:lnTo>
                  <a:pt x="84" y="24"/>
                </a:lnTo>
                <a:close/>
              </a:path>
            </a:pathLst>
          </a:custGeom>
          <a:solidFill>
            <a:srgbClr val="9999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29440" y="4267080"/>
            <a:ext cx="47520" cy="1038240"/>
          </a:xfrm>
          <a:custGeom>
            <a:avLst/>
            <a:gdLst/>
            <a:ahLst/>
            <a:rect l="l" t="t" r="r" b="b"/>
            <a:pathLst>
              <a:path w="30" h="654">
                <a:moveTo>
                  <a:pt x="0" y="654"/>
                </a:moveTo>
                <a:lnTo>
                  <a:pt x="0" y="24"/>
                </a:lnTo>
                <a:lnTo>
                  <a:pt x="30" y="0"/>
                </a:lnTo>
                <a:lnTo>
                  <a:pt x="30" y="630"/>
                </a:lnTo>
                <a:lnTo>
                  <a:pt x="0" y="654"/>
                </a:lnTo>
                <a:close/>
              </a:path>
            </a:pathLst>
          </a:custGeom>
          <a:solidFill>
            <a:srgbClr val="1a1a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5880" y="4305240"/>
            <a:ext cx="133560" cy="1000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5880" y="4267080"/>
            <a:ext cx="181080" cy="38160"/>
          </a:xfrm>
          <a:custGeom>
            <a:avLst/>
            <a:gdLst/>
            <a:ahLst/>
            <a:rect l="l" t="t" r="r" b="b"/>
            <a:pathLst>
              <a:path w="114" h="24">
                <a:moveTo>
                  <a:pt x="84" y="24"/>
                </a:moveTo>
                <a:lnTo>
                  <a:pt x="114" y="0"/>
                </a:lnTo>
                <a:lnTo>
                  <a:pt x="30" y="0"/>
                </a:lnTo>
                <a:lnTo>
                  <a:pt x="0" y="24"/>
                </a:lnTo>
                <a:lnTo>
                  <a:pt x="84" y="24"/>
                </a:lnTo>
                <a:close/>
              </a:path>
            </a:pathLst>
          </a:custGeom>
          <a:solidFill>
            <a:srgbClr val="262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62640" y="2685960"/>
            <a:ext cx="47520" cy="2619360"/>
          </a:xfrm>
          <a:custGeom>
            <a:avLst/>
            <a:gdLst/>
            <a:ahLst/>
            <a:rect l="l" t="t" r="r" b="b"/>
            <a:pathLst>
              <a:path w="30" h="1650">
                <a:moveTo>
                  <a:pt x="0" y="1650"/>
                </a:moveTo>
                <a:lnTo>
                  <a:pt x="0" y="18"/>
                </a:lnTo>
                <a:lnTo>
                  <a:pt x="30" y="0"/>
                </a:lnTo>
                <a:lnTo>
                  <a:pt x="30" y="1626"/>
                </a:lnTo>
                <a:lnTo>
                  <a:pt x="0" y="1650"/>
                </a:lnTo>
                <a:close/>
              </a:path>
            </a:pathLst>
          </a:custGeom>
          <a:solidFill>
            <a:srgbClr val="6666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29440" y="2714760"/>
            <a:ext cx="133200" cy="2590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29440" y="2685960"/>
            <a:ext cx="180720" cy="28800"/>
          </a:xfrm>
          <a:custGeom>
            <a:avLst/>
            <a:gdLst/>
            <a:ahLst/>
            <a:rect l="l" t="t" r="r" b="b"/>
            <a:pathLst>
              <a:path w="114" h="18">
                <a:moveTo>
                  <a:pt x="84" y="18"/>
                </a:moveTo>
                <a:lnTo>
                  <a:pt x="114" y="0"/>
                </a:lnTo>
                <a:lnTo>
                  <a:pt x="30" y="0"/>
                </a:lnTo>
                <a:lnTo>
                  <a:pt x="0" y="18"/>
                </a:lnTo>
                <a:lnTo>
                  <a:pt x="84" y="18"/>
                </a:lnTo>
                <a:close/>
              </a:path>
            </a:pathLst>
          </a:custGeom>
          <a:solidFill>
            <a:srgbClr val="9999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629160" y="2638440"/>
            <a:ext cx="144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580920" y="5305320"/>
            <a:ext cx="47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580920" y="4971960"/>
            <a:ext cx="47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580920" y="4638600"/>
            <a:ext cx="47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580920" y="4305240"/>
            <a:ext cx="47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580920" y="3971880"/>
            <a:ext cx="47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80920" y="3638520"/>
            <a:ext cx="47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580920" y="3305160"/>
            <a:ext cx="47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3580920" y="2971800"/>
            <a:ext cx="47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580920" y="2638440"/>
            <a:ext cx="47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53480" y="5162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06960" y="48290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06960" y="44956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06960" y="416232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06960" y="382896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60440" y="34956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60440" y="31622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60440" y="2828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60440" y="24955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29160" y="5305320"/>
            <a:ext cx="2962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29160" y="5305320"/>
            <a:ext cx="144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19560" y="5305320"/>
            <a:ext cx="144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09960" y="5305320"/>
            <a:ext cx="180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10080" y="5305320"/>
            <a:ext cx="180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00840" y="5305320"/>
            <a:ext cx="144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91240" y="5305320"/>
            <a:ext cx="180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3596760" y="557568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.9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4289400" y="5457240"/>
            <a:ext cx="43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6200000">
            <a:off x="4790520" y="5575680"/>
            <a:ext cx="63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.2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16200000">
            <a:off x="5380920" y="5575680"/>
            <a:ext cx="63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.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5971680" y="5575680"/>
            <a:ext cx="63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.3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789600" y="3971880"/>
            <a:ext cx="2311560" cy="598680"/>
            <a:chOff x="6789600" y="3971880"/>
            <a:chExt cx="2311560" cy="598680"/>
          </a:xfrm>
        </p:grpSpPr>
        <p:sp>
          <p:nvSpPr>
            <p:cNvPr id="390" name=""/>
            <p:cNvSpPr/>
            <p:nvPr/>
          </p:nvSpPr>
          <p:spPr>
            <a:xfrm>
              <a:off x="6789600" y="3971880"/>
              <a:ext cx="2311560" cy="598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91480" y="4038480"/>
              <a:ext cx="104760" cy="104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28000" y="4010040"/>
              <a:ext cx="194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ble Driven Appro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05520" y="4295880"/>
              <a:ext cx="104760" cy="104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3560" y="4238640"/>
              <a:ext cx="166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dicated Rout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1982880" y="45720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ootprint of various alternati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71840" y="3081240"/>
            <a:ext cx="28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33480" y="1965240"/>
            <a:ext cx="25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its are in 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9F58-492B-4A71-9FEC-91DB1DF61C5B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9E1A03E-6149-44CF-95BF-92FE26A048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dvantages of text-based protocols and how ASN.1 Tools help achieve the same.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easy implement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easy debugg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similar parser implementation availab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high extensibilit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63920" y="248904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rebuchet MS"/>
                <a:ea typeface="Arial"/>
              </a:rPr>
              <a:t>ASN.1 Compiler ease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71840" y="343548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rebuchet MS"/>
                <a:ea typeface="Arial"/>
              </a:rPr>
              <a:t>ASN.1 Compiler trace facility for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43040" y="4373640"/>
            <a:ext cx="57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rebuchet MS"/>
                <a:ea typeface="Arial"/>
              </a:rPr>
              <a:t>ASN.1 Compiler generates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14600" y="534024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rebuchet MS"/>
                <a:ea typeface="Arial"/>
              </a:rPr>
              <a:t>ASN.1 support extension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5755-7B70-4C12-932F-87C5FE0255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1750980-5B36-4E7D-9682-F2F5D551F7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Francine Lambert</dc:creator>
  <dc:description/>
  <dc:language>en-US</dc:language>
  <cp:lastModifiedBy>Kodandaraman Govindan</cp:lastModifiedBy>
  <cp:lastPrinted>1996-09-25T09:01:23Z</cp:lastPrinted>
  <dcterms:modified xsi:type="dcterms:W3CDTF">2001-08-25T13:48:49Z</dcterms:modified>
  <cp:revision>392</cp:revision>
  <dc:subject/>
  <dc:title>afaefafe</dc:title>
</cp:coreProperties>
</file>