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311-A63D-4682-AEE2-3A6B3682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6F5-6EE3-49F1-8DE2-2F0C4753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D86-FFAE-43FF-BC93-35F9AE67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9BA-69C9-4C56-8E45-A110A937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AA13-2806-4D1F-B8C4-BC1484EE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F7C-FB35-4C6D-BBAD-D949D70E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EF8A-1443-4ACA-967D-CAEE2788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E4F-EBC1-4B1A-8EDB-7D030B90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1DF-AE7B-44AF-9F6E-CED74E60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C87-9737-47EA-B945-2DBFEE19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43F-BFA3-497B-BE58-9F8CCC3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59A-54A2-4043-9F69-886DAFCD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50E-6C4D-468B-90CD-26373F239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066680"/>
            <a:ext cx="3276720" cy="5791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flow approach to interoperabi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Arve Meising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581280" y="3048120"/>
            <a:ext cx="11430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32767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799880" y="502920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Reading an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in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81280" y="29718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10400" y="22096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81280" y="3962520"/>
            <a:ext cx="11430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28640" y="41911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581280" y="38862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81280" y="48769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581280" y="30481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External and Internal Sche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799880" y="312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578040" y="5334120"/>
            <a:ext cx="43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xternal and Internal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581280" y="2895480"/>
            <a:ext cx="3657600" cy="22860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81280" y="39625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0384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3886200"/>
            <a:ext cx="365760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4876920"/>
            <a:ext cx="373392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4114800" y="3581280"/>
            <a:ext cx="762120" cy="380880"/>
            <a:chOff x="4114800" y="3581280"/>
            <a:chExt cx="762120" cy="380880"/>
          </a:xfrm>
        </p:grpSpPr>
        <p:sp>
          <p:nvSpPr>
            <p:cNvPr id="553" name=""/>
            <p:cNvSpPr/>
            <p:nvPr/>
          </p:nvSpPr>
          <p:spPr>
            <a:xfrm>
              <a:off x="4114800" y="35812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114800" y="3581280"/>
              <a:ext cx="762120" cy="380880"/>
              <a:chOff x="4114800" y="3581280"/>
              <a:chExt cx="762120" cy="380880"/>
            </a:xfrm>
          </p:grpSpPr>
          <p:sp>
            <p:nvSpPr>
              <p:cNvPr id="555" name=""/>
              <p:cNvSpPr/>
              <p:nvPr/>
            </p:nvSpPr>
            <p:spPr>
              <a:xfrm>
                <a:off x="419112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1148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14800" y="3962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48006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9" name=""/>
          <p:cNvSpPr/>
          <p:nvPr/>
        </p:nvSpPr>
        <p:spPr>
          <a:xfrm>
            <a:off x="4192920" y="3505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733560" y="3124080"/>
            <a:ext cx="762120" cy="380880"/>
            <a:chOff x="3733560" y="3124080"/>
            <a:chExt cx="762120" cy="380880"/>
          </a:xfrm>
        </p:grpSpPr>
        <p:sp>
          <p:nvSpPr>
            <p:cNvPr id="561" name=""/>
            <p:cNvSpPr/>
            <p:nvPr/>
          </p:nvSpPr>
          <p:spPr>
            <a:xfrm>
              <a:off x="3733920" y="31240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3733560" y="3124080"/>
              <a:ext cx="761760" cy="380880"/>
              <a:chOff x="3733560" y="3124080"/>
              <a:chExt cx="761760" cy="380880"/>
            </a:xfrm>
          </p:grpSpPr>
          <p:sp>
            <p:nvSpPr>
              <p:cNvPr id="563" name=""/>
              <p:cNvSpPr/>
              <p:nvPr/>
            </p:nvSpPr>
            <p:spPr>
              <a:xfrm>
                <a:off x="3809880" y="3124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7335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33920" y="3504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V="1">
                <a:off x="44193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3735720" y="312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400800" y="3352680"/>
            <a:ext cx="762120" cy="380880"/>
            <a:chOff x="6400800" y="3352680"/>
            <a:chExt cx="762120" cy="380880"/>
          </a:xfrm>
        </p:grpSpPr>
        <p:sp>
          <p:nvSpPr>
            <p:cNvPr id="569" name=""/>
            <p:cNvSpPr/>
            <p:nvPr/>
          </p:nvSpPr>
          <p:spPr>
            <a:xfrm>
              <a:off x="6400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6400800" y="3352680"/>
              <a:ext cx="762120" cy="380880"/>
              <a:chOff x="6400800" y="3352680"/>
              <a:chExt cx="762120" cy="380880"/>
            </a:xfrm>
          </p:grpSpPr>
          <p:sp>
            <p:nvSpPr>
              <p:cNvPr id="571" name=""/>
              <p:cNvSpPr/>
              <p:nvPr/>
            </p:nvSpPr>
            <p:spPr>
              <a:xfrm>
                <a:off x="6477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400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400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086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6478560" y="3276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3276720"/>
            <a:ext cx="19810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876920" y="35809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86200" y="4191120"/>
            <a:ext cx="380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80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5680" y="4495680"/>
            <a:ext cx="38124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21520" y="45720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809880" y="4647960"/>
            <a:ext cx="457200" cy="152640"/>
            <a:chOff x="3809880" y="4647960"/>
            <a:chExt cx="457200" cy="152640"/>
          </a:xfrm>
        </p:grpSpPr>
        <p:sp>
          <p:nvSpPr>
            <p:cNvPr id="583" name=""/>
            <p:cNvSpPr/>
            <p:nvPr/>
          </p:nvSpPr>
          <p:spPr>
            <a:xfrm>
              <a:off x="380988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80988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419076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4419720" y="4952520"/>
            <a:ext cx="457200" cy="152640"/>
            <a:chOff x="4419720" y="4952520"/>
            <a:chExt cx="457200" cy="152640"/>
          </a:xfrm>
        </p:grpSpPr>
        <p:sp>
          <p:nvSpPr>
            <p:cNvPr id="587" name=""/>
            <p:cNvSpPr/>
            <p:nvPr/>
          </p:nvSpPr>
          <p:spPr>
            <a:xfrm>
              <a:off x="4419720" y="5105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419720" y="49525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800600" y="49525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495680" y="5029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42670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67080" y="43434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876920" y="45716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629400" y="4267080"/>
            <a:ext cx="380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4648320"/>
            <a:ext cx="3808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63120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581280" y="30481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Central Application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99880" y="24382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971440" y="35053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81280" y="2895480"/>
            <a:ext cx="3657600" cy="22860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581280" y="39625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81280" y="3962520"/>
            <a:ext cx="365760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50292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81280" y="3886200"/>
            <a:ext cx="365760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4876920"/>
            <a:ext cx="3733920" cy="152280"/>
          </a:xfrm>
          <a:prstGeom prst="ellipse">
            <a:avLst/>
          </a:prstGeom>
          <a:solidFill>
            <a:srgbClr val="99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971440" y="41148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71800" y="42670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6688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114800" y="3581280"/>
            <a:ext cx="762120" cy="380880"/>
            <a:chOff x="4114800" y="3581280"/>
            <a:chExt cx="762120" cy="380880"/>
          </a:xfrm>
        </p:grpSpPr>
        <p:sp>
          <p:nvSpPr>
            <p:cNvPr id="616" name=""/>
            <p:cNvSpPr/>
            <p:nvPr/>
          </p:nvSpPr>
          <p:spPr>
            <a:xfrm>
              <a:off x="4114800" y="35812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7" name=""/>
            <p:cNvGrpSpPr/>
            <p:nvPr/>
          </p:nvGrpSpPr>
          <p:grpSpPr>
            <a:xfrm>
              <a:off x="4114800" y="3581280"/>
              <a:ext cx="762120" cy="380880"/>
              <a:chOff x="4114800" y="3581280"/>
              <a:chExt cx="762120" cy="380880"/>
            </a:xfrm>
          </p:grpSpPr>
          <p:sp>
            <p:nvSpPr>
              <p:cNvPr id="618" name=""/>
              <p:cNvSpPr/>
              <p:nvPr/>
            </p:nvSpPr>
            <p:spPr>
              <a:xfrm>
                <a:off x="419112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1148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114800" y="3962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800600" y="35812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"/>
          <p:cNvSpPr/>
          <p:nvPr/>
        </p:nvSpPr>
        <p:spPr>
          <a:xfrm>
            <a:off x="4192920" y="3505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733560" y="3124080"/>
            <a:ext cx="762120" cy="380880"/>
            <a:chOff x="3733560" y="3124080"/>
            <a:chExt cx="762120" cy="380880"/>
          </a:xfrm>
        </p:grpSpPr>
        <p:sp>
          <p:nvSpPr>
            <p:cNvPr id="624" name=""/>
            <p:cNvSpPr/>
            <p:nvPr/>
          </p:nvSpPr>
          <p:spPr>
            <a:xfrm>
              <a:off x="3733920" y="31240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33560" y="3124080"/>
              <a:ext cx="761760" cy="380880"/>
              <a:chOff x="3733560" y="3124080"/>
              <a:chExt cx="761760" cy="380880"/>
            </a:xfrm>
          </p:grpSpPr>
          <p:sp>
            <p:nvSpPr>
              <p:cNvPr id="626" name=""/>
              <p:cNvSpPr/>
              <p:nvPr/>
            </p:nvSpPr>
            <p:spPr>
              <a:xfrm>
                <a:off x="3809880" y="3124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7335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733920" y="3504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4419360" y="3124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0" name=""/>
          <p:cNvSpPr/>
          <p:nvPr/>
        </p:nvSpPr>
        <p:spPr>
          <a:xfrm>
            <a:off x="3735720" y="3124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400800" y="3352680"/>
            <a:ext cx="762120" cy="380880"/>
            <a:chOff x="6400800" y="3352680"/>
            <a:chExt cx="762120" cy="380880"/>
          </a:xfrm>
        </p:grpSpPr>
        <p:sp>
          <p:nvSpPr>
            <p:cNvPr id="632" name=""/>
            <p:cNvSpPr/>
            <p:nvPr/>
          </p:nvSpPr>
          <p:spPr>
            <a:xfrm>
              <a:off x="6400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400800" y="3352680"/>
              <a:ext cx="762120" cy="380880"/>
              <a:chOff x="6400800" y="3352680"/>
              <a:chExt cx="762120" cy="380880"/>
            </a:xfrm>
          </p:grpSpPr>
          <p:sp>
            <p:nvSpPr>
              <p:cNvPr id="634" name=""/>
              <p:cNvSpPr/>
              <p:nvPr/>
            </p:nvSpPr>
            <p:spPr>
              <a:xfrm>
                <a:off x="6477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400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400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7086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>
            <a:off x="6478560" y="3276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19720" y="32767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876920" y="35809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86200" y="4191120"/>
            <a:ext cx="38088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880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809880" y="4647960"/>
            <a:ext cx="457200" cy="152640"/>
            <a:chOff x="3809880" y="4647960"/>
            <a:chExt cx="457200" cy="152640"/>
          </a:xfrm>
        </p:grpSpPr>
        <p:sp>
          <p:nvSpPr>
            <p:cNvPr id="644" name=""/>
            <p:cNvSpPr/>
            <p:nvPr/>
          </p:nvSpPr>
          <p:spPr>
            <a:xfrm>
              <a:off x="3809880" y="4800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80988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190760" y="46479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419720" y="4495680"/>
            <a:ext cx="537480" cy="609480"/>
            <a:chOff x="4419720" y="4495680"/>
            <a:chExt cx="537480" cy="609480"/>
          </a:xfrm>
        </p:grpSpPr>
        <p:sp>
          <p:nvSpPr>
            <p:cNvPr id="649" name=""/>
            <p:cNvSpPr/>
            <p:nvPr/>
          </p:nvSpPr>
          <p:spPr>
            <a:xfrm>
              <a:off x="4495680" y="4495680"/>
              <a:ext cx="38124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421520" y="4572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4419720" y="4952520"/>
              <a:ext cx="457200" cy="152640"/>
              <a:chOff x="4419720" y="4952520"/>
              <a:chExt cx="457200" cy="152640"/>
            </a:xfrm>
          </p:grpSpPr>
          <p:sp>
            <p:nvSpPr>
              <p:cNvPr id="652" name=""/>
              <p:cNvSpPr/>
              <p:nvPr/>
            </p:nvSpPr>
            <p:spPr>
              <a:xfrm>
                <a:off x="441972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441972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80060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449568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6629400" y="4267080"/>
            <a:ext cx="3808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267080" y="434340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876920" y="457164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4267080"/>
            <a:ext cx="3808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29400" y="4648320"/>
            <a:ext cx="38088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63120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257800" y="3352680"/>
            <a:ext cx="762120" cy="380880"/>
            <a:chOff x="5257800" y="3352680"/>
            <a:chExt cx="762120" cy="380880"/>
          </a:xfrm>
        </p:grpSpPr>
        <p:sp>
          <p:nvSpPr>
            <p:cNvPr id="663" name=""/>
            <p:cNvSpPr/>
            <p:nvPr/>
          </p:nvSpPr>
          <p:spPr>
            <a:xfrm>
              <a:off x="5257800" y="3352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257800" y="3352680"/>
              <a:ext cx="762120" cy="380880"/>
              <a:chOff x="5257800" y="3352680"/>
              <a:chExt cx="762120" cy="380880"/>
            </a:xfrm>
          </p:grpSpPr>
          <p:sp>
            <p:nvSpPr>
              <p:cNvPr id="665" name=""/>
              <p:cNvSpPr/>
              <p:nvPr/>
            </p:nvSpPr>
            <p:spPr>
              <a:xfrm>
                <a:off x="5334120" y="3352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52578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57800" y="373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943600" y="3352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"/>
          <p:cNvSpPr/>
          <p:nvPr/>
        </p:nvSpPr>
        <p:spPr>
          <a:xfrm>
            <a:off x="5260320" y="33526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4267080"/>
            <a:ext cx="3812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638680" y="4267080"/>
            <a:ext cx="38124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638680" y="4648320"/>
            <a:ext cx="38124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641200" y="434340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1992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019560" y="4572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 flipH="1">
            <a:off x="2437560" y="1981080"/>
            <a:ext cx="4343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Three Schema Architecture</a:t>
            </a:r>
            <a:br>
              <a:rPr sz="3600"/>
            </a:b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.e. a compiler architecture for data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37560" y="3048120"/>
            <a:ext cx="4343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0560" y="198108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668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3962520"/>
            <a:ext cx="434340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86200"/>
            <a:ext cx="4343400" cy="15228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2590560" y="2362320"/>
            <a:ext cx="762120" cy="380880"/>
            <a:chOff x="2590560" y="2362320"/>
            <a:chExt cx="762120" cy="380880"/>
          </a:xfrm>
        </p:grpSpPr>
        <p:sp>
          <p:nvSpPr>
            <p:cNvPr id="685" name=""/>
            <p:cNvSpPr/>
            <p:nvPr/>
          </p:nvSpPr>
          <p:spPr>
            <a:xfrm>
              <a:off x="25909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590560" y="2362320"/>
              <a:ext cx="761760" cy="380880"/>
              <a:chOff x="2590560" y="2362320"/>
              <a:chExt cx="761760" cy="380880"/>
            </a:xfrm>
          </p:grpSpPr>
          <p:sp>
            <p:nvSpPr>
              <p:cNvPr id="687" name=""/>
              <p:cNvSpPr/>
              <p:nvPr/>
            </p:nvSpPr>
            <p:spPr>
              <a:xfrm>
                <a:off x="26668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25905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5909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2763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1" name=""/>
          <p:cNvSpPr/>
          <p:nvPr/>
        </p:nvSpPr>
        <p:spPr>
          <a:xfrm>
            <a:off x="2669040" y="23623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790960" y="2362320"/>
            <a:ext cx="762120" cy="380880"/>
            <a:chOff x="5790960" y="2362320"/>
            <a:chExt cx="762120" cy="380880"/>
          </a:xfrm>
        </p:grpSpPr>
        <p:sp>
          <p:nvSpPr>
            <p:cNvPr id="693" name=""/>
            <p:cNvSpPr/>
            <p:nvPr/>
          </p:nvSpPr>
          <p:spPr>
            <a:xfrm>
              <a:off x="57913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5790960" y="2362320"/>
              <a:ext cx="761760" cy="380880"/>
              <a:chOff x="5790960" y="2362320"/>
              <a:chExt cx="761760" cy="380880"/>
            </a:xfrm>
          </p:grpSpPr>
          <p:sp>
            <p:nvSpPr>
              <p:cNvPr id="695" name=""/>
              <p:cNvSpPr/>
              <p:nvPr/>
            </p:nvSpPr>
            <p:spPr>
              <a:xfrm>
                <a:off x="58672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57909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913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64767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"/>
          <p:cNvSpPr/>
          <p:nvPr/>
        </p:nvSpPr>
        <p:spPr>
          <a:xfrm>
            <a:off x="586908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6019920" y="4191120"/>
            <a:ext cx="453600" cy="535680"/>
            <a:chOff x="6019920" y="4191120"/>
            <a:chExt cx="453600" cy="535680"/>
          </a:xfrm>
        </p:grpSpPr>
        <p:sp>
          <p:nvSpPr>
            <p:cNvPr id="701" name=""/>
            <p:cNvSpPr/>
            <p:nvPr/>
          </p:nvSpPr>
          <p:spPr>
            <a:xfrm>
              <a:off x="6019920" y="4191120"/>
              <a:ext cx="38052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191120"/>
              <a:ext cx="3805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19920" y="4572000"/>
              <a:ext cx="38052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21360" y="4267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90760" y="2362320"/>
            <a:ext cx="762120" cy="380880"/>
            <a:chOff x="4190760" y="2362320"/>
            <a:chExt cx="762120" cy="380880"/>
          </a:xfrm>
        </p:grpSpPr>
        <p:sp>
          <p:nvSpPr>
            <p:cNvPr id="706" name=""/>
            <p:cNvSpPr/>
            <p:nvPr/>
          </p:nvSpPr>
          <p:spPr>
            <a:xfrm>
              <a:off x="4191120" y="2362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4190760" y="2362320"/>
              <a:ext cx="761760" cy="380880"/>
              <a:chOff x="4190760" y="2362320"/>
              <a:chExt cx="761760" cy="380880"/>
            </a:xfrm>
          </p:grpSpPr>
          <p:sp>
            <p:nvSpPr>
              <p:cNvPr id="708" name=""/>
              <p:cNvSpPr/>
              <p:nvPr/>
            </p:nvSpPr>
            <p:spPr>
              <a:xfrm>
                <a:off x="4267080" y="2362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1907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191120" y="2743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4876560" y="2362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"/>
          <p:cNvSpPr/>
          <p:nvPr/>
        </p:nvSpPr>
        <p:spPr>
          <a:xfrm>
            <a:off x="4193640" y="2362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52680" y="2514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672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769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276720" y="3352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4419720" y="4191120"/>
            <a:ext cx="572040" cy="535680"/>
            <a:chOff x="4419720" y="4191120"/>
            <a:chExt cx="572040" cy="535680"/>
          </a:xfrm>
        </p:grpSpPr>
        <p:sp>
          <p:nvSpPr>
            <p:cNvPr id="720" name=""/>
            <p:cNvSpPr/>
            <p:nvPr/>
          </p:nvSpPr>
          <p:spPr>
            <a:xfrm>
              <a:off x="4419720" y="41911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19720" y="41911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19720" y="45720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422240" y="426708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2819520" y="4191120"/>
            <a:ext cx="537480" cy="535680"/>
            <a:chOff x="2819520" y="4191120"/>
            <a:chExt cx="537480" cy="535680"/>
          </a:xfrm>
        </p:grpSpPr>
        <p:sp>
          <p:nvSpPr>
            <p:cNvPr id="725" name=""/>
            <p:cNvSpPr/>
            <p:nvPr/>
          </p:nvSpPr>
          <p:spPr>
            <a:xfrm>
              <a:off x="2819520" y="41911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9520" y="41911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9520" y="45720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21320" y="42670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2438280" y="4876920"/>
            <a:ext cx="4343400" cy="152280"/>
          </a:xfrm>
          <a:prstGeom prst="ellipse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9718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5720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617220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2004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0060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172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351240" y="45720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4960" y="35053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62320" y="19807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6629400" y="19807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590920" y="19810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623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3341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5909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62520" y="1981080"/>
            <a:ext cx="1371600" cy="3810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68360" y="32004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924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668320" y="3200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335200" y="53341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4680" y="53341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92360" y="5334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1066680" y="2209680"/>
            <a:ext cx="2057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99072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289548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123360" y="2209680"/>
            <a:ext cx="29718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Data Transformation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6840" y="22096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8077320" y="4572000"/>
            <a:ext cx="453600" cy="536040"/>
            <a:chOff x="8077320" y="4572000"/>
            <a:chExt cx="453600" cy="536040"/>
          </a:xfrm>
        </p:grpSpPr>
        <p:sp>
          <p:nvSpPr>
            <p:cNvPr id="761" name=""/>
            <p:cNvSpPr/>
            <p:nvPr/>
          </p:nvSpPr>
          <p:spPr>
            <a:xfrm>
              <a:off x="8077320" y="4572000"/>
              <a:ext cx="38052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077320" y="4572000"/>
              <a:ext cx="3805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77320" y="4953240"/>
              <a:ext cx="3805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078760" y="4648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 flipV="1">
            <a:off x="304812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209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3124080" y="3276720"/>
            <a:ext cx="289584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526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1814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2670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769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9625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8128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572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04812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1829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924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35412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5880" y="2209680"/>
            <a:ext cx="2057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609588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800100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943600" y="220932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219320" y="2209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24480" y="2209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46360" y="220968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41200" y="220968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1066680" y="3276720"/>
            <a:ext cx="1905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34290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19320" y="34290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28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9144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13516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220400" y="3429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6095880" y="3276720"/>
            <a:ext cx="19051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3244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238880" y="3429000"/>
            <a:ext cx="6098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848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343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523880" y="2971800"/>
            <a:ext cx="6019920" cy="457200"/>
            <a:chOff x="1523880" y="2971800"/>
            <a:chExt cx="6019920" cy="457200"/>
          </a:xfrm>
        </p:grpSpPr>
        <p:sp>
          <p:nvSpPr>
            <p:cNvPr id="801" name=""/>
            <p:cNvSpPr/>
            <p:nvPr/>
          </p:nvSpPr>
          <p:spPr>
            <a:xfrm>
              <a:off x="259092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238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53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5438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7240680" y="3429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26640" y="3429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838080" y="2590920"/>
            <a:ext cx="7239240" cy="533160"/>
            <a:chOff x="838080" y="2590920"/>
            <a:chExt cx="7239240" cy="533160"/>
          </a:xfrm>
        </p:grpSpPr>
        <p:grpSp>
          <p:nvGrpSpPr>
            <p:cNvPr id="808" name=""/>
            <p:cNvGrpSpPr/>
            <p:nvPr/>
          </p:nvGrpSpPr>
          <p:grpSpPr>
            <a:xfrm>
              <a:off x="3200400" y="2590920"/>
              <a:ext cx="762120" cy="380880"/>
              <a:chOff x="3200400" y="2590920"/>
              <a:chExt cx="762120" cy="380880"/>
            </a:xfrm>
          </p:grpSpPr>
          <p:sp>
            <p:nvSpPr>
              <p:cNvPr id="809" name=""/>
              <p:cNvSpPr/>
              <p:nvPr/>
            </p:nvSpPr>
            <p:spPr>
              <a:xfrm>
                <a:off x="320040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"/>
              <p:cNvGrpSpPr/>
              <p:nvPr/>
            </p:nvGrpSpPr>
            <p:grpSpPr>
              <a:xfrm>
                <a:off x="3200400" y="2590920"/>
                <a:ext cx="762120" cy="380880"/>
                <a:chOff x="3200400" y="2590920"/>
                <a:chExt cx="762120" cy="38088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27672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>
                  <a:off x="32004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20040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V="1">
                  <a:off x="38862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5" name=""/>
            <p:cNvSpPr/>
            <p:nvPr/>
          </p:nvSpPr>
          <p:spPr>
            <a:xfrm>
              <a:off x="327852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190760" y="2590920"/>
              <a:ext cx="762120" cy="380880"/>
              <a:chOff x="4190760" y="2590920"/>
              <a:chExt cx="762120" cy="380880"/>
            </a:xfrm>
          </p:grpSpPr>
          <p:sp>
            <p:nvSpPr>
              <p:cNvPr id="817" name=""/>
              <p:cNvSpPr/>
              <p:nvPr/>
            </p:nvSpPr>
            <p:spPr>
              <a:xfrm>
                <a:off x="41911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8" name=""/>
              <p:cNvGrpSpPr/>
              <p:nvPr/>
            </p:nvGrpSpPr>
            <p:grpSpPr>
              <a:xfrm>
                <a:off x="4190760" y="2590920"/>
                <a:ext cx="761760" cy="380880"/>
                <a:chOff x="4190760" y="2590920"/>
                <a:chExt cx="761760" cy="38088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42670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>
                  <a:off x="41907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1911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48765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23" name=""/>
            <p:cNvSpPr/>
            <p:nvPr/>
          </p:nvSpPr>
          <p:spPr>
            <a:xfrm>
              <a:off x="4193640" y="2590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9625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143000" y="2590920"/>
              <a:ext cx="762120" cy="380880"/>
              <a:chOff x="1143000" y="2590920"/>
              <a:chExt cx="762120" cy="380880"/>
            </a:xfrm>
          </p:grpSpPr>
          <p:sp>
            <p:nvSpPr>
              <p:cNvPr id="826" name=""/>
              <p:cNvSpPr/>
              <p:nvPr/>
            </p:nvSpPr>
            <p:spPr>
              <a:xfrm>
                <a:off x="114300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7" name=""/>
              <p:cNvGrpSpPr/>
              <p:nvPr/>
            </p:nvGrpSpPr>
            <p:grpSpPr>
              <a:xfrm>
                <a:off x="1143000" y="2590920"/>
                <a:ext cx="762120" cy="380880"/>
                <a:chOff x="1143000" y="2590920"/>
                <a:chExt cx="762120" cy="38088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21932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11430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14300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182880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2" name=""/>
            <p:cNvSpPr/>
            <p:nvPr/>
          </p:nvSpPr>
          <p:spPr>
            <a:xfrm>
              <a:off x="122112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2133360" y="2590920"/>
              <a:ext cx="762120" cy="380880"/>
              <a:chOff x="2133360" y="2590920"/>
              <a:chExt cx="762120" cy="380880"/>
            </a:xfrm>
          </p:grpSpPr>
          <p:sp>
            <p:nvSpPr>
              <p:cNvPr id="834" name=""/>
              <p:cNvSpPr/>
              <p:nvPr/>
            </p:nvSpPr>
            <p:spPr>
              <a:xfrm>
                <a:off x="21337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2133360" y="2590920"/>
                <a:ext cx="761760" cy="380880"/>
                <a:chOff x="2133360" y="2590920"/>
                <a:chExt cx="761760" cy="38088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22096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21333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21337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28191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>
              <a:off x="2135880" y="25909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51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9548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5181480" y="2590920"/>
              <a:ext cx="762120" cy="380880"/>
              <a:chOff x="5181480" y="2590920"/>
              <a:chExt cx="762120" cy="380880"/>
            </a:xfrm>
          </p:grpSpPr>
          <p:sp>
            <p:nvSpPr>
              <p:cNvPr id="844" name=""/>
              <p:cNvSpPr/>
              <p:nvPr/>
            </p:nvSpPr>
            <p:spPr>
              <a:xfrm>
                <a:off x="518148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5181480" y="2590920"/>
                <a:ext cx="762120" cy="380880"/>
                <a:chOff x="5181480" y="2590920"/>
                <a:chExt cx="762120" cy="380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525780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51814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518148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58672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0" name=""/>
            <p:cNvSpPr/>
            <p:nvPr/>
          </p:nvSpPr>
          <p:spPr>
            <a:xfrm>
              <a:off x="5259600" y="25909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95288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6248160" y="2590920"/>
              <a:ext cx="762120" cy="380880"/>
              <a:chOff x="6248160" y="2590920"/>
              <a:chExt cx="762120" cy="380880"/>
            </a:xfrm>
          </p:grpSpPr>
          <p:sp>
            <p:nvSpPr>
              <p:cNvPr id="853" name=""/>
              <p:cNvSpPr/>
              <p:nvPr/>
            </p:nvSpPr>
            <p:spPr>
              <a:xfrm>
                <a:off x="6248520" y="25909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6248160" y="2590920"/>
                <a:ext cx="761760" cy="380880"/>
                <a:chOff x="6248160" y="2590920"/>
                <a:chExt cx="761760" cy="3808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6324480" y="25909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62481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248520" y="2971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6933960" y="25909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9" name=""/>
            <p:cNvSpPr/>
            <p:nvPr/>
          </p:nvSpPr>
          <p:spPr>
            <a:xfrm>
              <a:off x="6327000" y="2590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7238880" y="2590920"/>
              <a:ext cx="762120" cy="380880"/>
              <a:chOff x="7238880" y="2590920"/>
              <a:chExt cx="762120" cy="380880"/>
            </a:xfrm>
          </p:grpSpPr>
          <p:sp>
            <p:nvSpPr>
              <p:cNvPr id="861" name=""/>
              <p:cNvSpPr/>
              <p:nvPr/>
            </p:nvSpPr>
            <p:spPr>
              <a:xfrm>
                <a:off x="7238880" y="2590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2" name=""/>
              <p:cNvGrpSpPr/>
              <p:nvPr/>
            </p:nvGrpSpPr>
            <p:grpSpPr>
              <a:xfrm>
                <a:off x="7238880" y="2590920"/>
                <a:ext cx="762120" cy="380880"/>
                <a:chOff x="7238880" y="2590920"/>
                <a:chExt cx="762120" cy="38088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315200" y="2590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72388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238880" y="2971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7924680" y="2590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7" name=""/>
            <p:cNvSpPr/>
            <p:nvPr/>
          </p:nvSpPr>
          <p:spPr>
            <a:xfrm>
              <a:off x="7241400" y="25909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0102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90720" y="30481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95880" y="30481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943600" y="274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8080" y="3124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 flipV="1">
            <a:off x="838080" y="1905120"/>
            <a:ext cx="38124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077320" y="19051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219320" y="1905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656520" y="182880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ystem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200400" y="4267080"/>
            <a:ext cx="762120" cy="380880"/>
            <a:chOff x="3200400" y="4267080"/>
            <a:chExt cx="762120" cy="380880"/>
          </a:xfrm>
        </p:grpSpPr>
        <p:sp>
          <p:nvSpPr>
            <p:cNvPr id="878" name=""/>
            <p:cNvSpPr/>
            <p:nvPr/>
          </p:nvSpPr>
          <p:spPr>
            <a:xfrm>
              <a:off x="320040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200400" y="4267080"/>
              <a:ext cx="762120" cy="380880"/>
              <a:chOff x="3200400" y="4267080"/>
              <a:chExt cx="762120" cy="380880"/>
            </a:xfrm>
          </p:grpSpPr>
          <p:sp>
            <p:nvSpPr>
              <p:cNvPr id="880" name=""/>
              <p:cNvSpPr/>
              <p:nvPr/>
            </p:nvSpPr>
            <p:spPr>
              <a:xfrm>
                <a:off x="327672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32004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20040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38862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4" name=""/>
          <p:cNvSpPr/>
          <p:nvPr/>
        </p:nvSpPr>
        <p:spPr>
          <a:xfrm>
            <a:off x="327852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4190760" y="4267080"/>
            <a:ext cx="762120" cy="380880"/>
            <a:chOff x="4190760" y="4267080"/>
            <a:chExt cx="762120" cy="380880"/>
          </a:xfrm>
        </p:grpSpPr>
        <p:sp>
          <p:nvSpPr>
            <p:cNvPr id="886" name=""/>
            <p:cNvSpPr/>
            <p:nvPr/>
          </p:nvSpPr>
          <p:spPr>
            <a:xfrm>
              <a:off x="41911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4190760" y="4267080"/>
              <a:ext cx="761760" cy="380880"/>
              <a:chOff x="4190760" y="4267080"/>
              <a:chExt cx="761760" cy="380880"/>
            </a:xfrm>
          </p:grpSpPr>
          <p:sp>
            <p:nvSpPr>
              <p:cNvPr id="888" name=""/>
              <p:cNvSpPr/>
              <p:nvPr/>
            </p:nvSpPr>
            <p:spPr>
              <a:xfrm>
                <a:off x="42670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1907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11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48765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"/>
          <p:cNvSpPr/>
          <p:nvPr/>
        </p:nvSpPr>
        <p:spPr>
          <a:xfrm>
            <a:off x="4193640" y="4267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62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1143000" y="4267080"/>
            <a:ext cx="762120" cy="380880"/>
            <a:chOff x="1143000" y="4267080"/>
            <a:chExt cx="762120" cy="380880"/>
          </a:xfrm>
        </p:grpSpPr>
        <p:sp>
          <p:nvSpPr>
            <p:cNvPr id="895" name=""/>
            <p:cNvSpPr/>
            <p:nvPr/>
          </p:nvSpPr>
          <p:spPr>
            <a:xfrm>
              <a:off x="114300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143000" y="4267080"/>
              <a:ext cx="762120" cy="380880"/>
              <a:chOff x="1143000" y="4267080"/>
              <a:chExt cx="762120" cy="380880"/>
            </a:xfrm>
          </p:grpSpPr>
          <p:sp>
            <p:nvSpPr>
              <p:cNvPr id="897" name=""/>
              <p:cNvSpPr/>
              <p:nvPr/>
            </p:nvSpPr>
            <p:spPr>
              <a:xfrm>
                <a:off x="121932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1430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14300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182880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1" name=""/>
          <p:cNvGrpSpPr/>
          <p:nvPr/>
        </p:nvGrpSpPr>
        <p:grpSpPr>
          <a:xfrm>
            <a:off x="2133360" y="4267080"/>
            <a:ext cx="762120" cy="380880"/>
            <a:chOff x="2133360" y="4267080"/>
            <a:chExt cx="762120" cy="380880"/>
          </a:xfrm>
        </p:grpSpPr>
        <p:sp>
          <p:nvSpPr>
            <p:cNvPr id="902" name=""/>
            <p:cNvSpPr/>
            <p:nvPr/>
          </p:nvSpPr>
          <p:spPr>
            <a:xfrm>
              <a:off x="21337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"/>
            <p:cNvGrpSpPr/>
            <p:nvPr/>
          </p:nvGrpSpPr>
          <p:grpSpPr>
            <a:xfrm>
              <a:off x="2133360" y="4267080"/>
              <a:ext cx="761760" cy="380880"/>
              <a:chOff x="2133360" y="4267080"/>
              <a:chExt cx="761760" cy="380880"/>
            </a:xfrm>
          </p:grpSpPr>
          <p:sp>
            <p:nvSpPr>
              <p:cNvPr id="904" name=""/>
              <p:cNvSpPr/>
              <p:nvPr/>
            </p:nvSpPr>
            <p:spPr>
              <a:xfrm>
                <a:off x="22096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21333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1337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28191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"/>
          <p:cNvSpPr/>
          <p:nvPr/>
        </p:nvSpPr>
        <p:spPr>
          <a:xfrm>
            <a:off x="2135880" y="42670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9051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5181480" y="4267080"/>
            <a:ext cx="762120" cy="380880"/>
            <a:chOff x="5181480" y="4267080"/>
            <a:chExt cx="762120" cy="380880"/>
          </a:xfrm>
        </p:grpSpPr>
        <p:sp>
          <p:nvSpPr>
            <p:cNvPr id="912" name=""/>
            <p:cNvSpPr/>
            <p:nvPr/>
          </p:nvSpPr>
          <p:spPr>
            <a:xfrm>
              <a:off x="518148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5181480" y="4267080"/>
              <a:ext cx="762120" cy="380880"/>
              <a:chOff x="5181480" y="4267080"/>
              <a:chExt cx="762120" cy="380880"/>
            </a:xfrm>
          </p:grpSpPr>
          <p:sp>
            <p:nvSpPr>
              <p:cNvPr id="914" name=""/>
              <p:cNvSpPr/>
              <p:nvPr/>
            </p:nvSpPr>
            <p:spPr>
              <a:xfrm>
                <a:off x="52578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1814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18148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8672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8" name=""/>
          <p:cNvSpPr/>
          <p:nvPr/>
        </p:nvSpPr>
        <p:spPr>
          <a:xfrm>
            <a:off x="525960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248160" y="4267080"/>
            <a:ext cx="762120" cy="380880"/>
            <a:chOff x="6248160" y="4267080"/>
            <a:chExt cx="762120" cy="380880"/>
          </a:xfrm>
        </p:grpSpPr>
        <p:sp>
          <p:nvSpPr>
            <p:cNvPr id="921" name=""/>
            <p:cNvSpPr/>
            <p:nvPr/>
          </p:nvSpPr>
          <p:spPr>
            <a:xfrm>
              <a:off x="6248520" y="4267080"/>
              <a:ext cx="76176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6248160" y="4267080"/>
              <a:ext cx="761760" cy="380880"/>
              <a:chOff x="6248160" y="4267080"/>
              <a:chExt cx="761760" cy="380880"/>
            </a:xfrm>
          </p:grpSpPr>
          <p:sp>
            <p:nvSpPr>
              <p:cNvPr id="923" name=""/>
              <p:cNvSpPr/>
              <p:nvPr/>
            </p:nvSpPr>
            <p:spPr>
              <a:xfrm>
                <a:off x="6324480" y="42670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62481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248520" y="46479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6933960" y="42670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7" name=""/>
          <p:cNvSpPr/>
          <p:nvPr/>
        </p:nvSpPr>
        <p:spPr>
          <a:xfrm>
            <a:off x="6327000" y="4267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7238880" y="4267080"/>
            <a:ext cx="762120" cy="380880"/>
            <a:chOff x="7238880" y="4267080"/>
            <a:chExt cx="762120" cy="380880"/>
          </a:xfrm>
        </p:grpSpPr>
        <p:sp>
          <p:nvSpPr>
            <p:cNvPr id="929" name=""/>
            <p:cNvSpPr/>
            <p:nvPr/>
          </p:nvSpPr>
          <p:spPr>
            <a:xfrm>
              <a:off x="7238880" y="4267080"/>
              <a:ext cx="76212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" name=""/>
            <p:cNvGrpSpPr/>
            <p:nvPr/>
          </p:nvGrpSpPr>
          <p:grpSpPr>
            <a:xfrm>
              <a:off x="7238880" y="4267080"/>
              <a:ext cx="762120" cy="380880"/>
              <a:chOff x="7238880" y="4267080"/>
              <a:chExt cx="762120" cy="380880"/>
            </a:xfrm>
          </p:grpSpPr>
          <p:sp>
            <p:nvSpPr>
              <p:cNvPr id="931" name=""/>
              <p:cNvSpPr/>
              <p:nvPr/>
            </p:nvSpPr>
            <p:spPr>
              <a:xfrm>
                <a:off x="73152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2388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238880" y="4647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7924680" y="4267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"/>
          <p:cNvSpPr/>
          <p:nvPr/>
        </p:nvSpPr>
        <p:spPr>
          <a:xfrm>
            <a:off x="7241400" y="4267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102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943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21120" y="4267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432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91320" y="3581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90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523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543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562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153280" y="3581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942160" y="37339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046320" y="3733920"/>
            <a:ext cx="28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4360" y="37339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xternal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708624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22824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853416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676160" y="42670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3152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86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7200" y="4267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8600" y="5105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57200" y="4495680"/>
            <a:ext cx="457200" cy="609480"/>
            <a:chOff x="457200" y="4495680"/>
            <a:chExt cx="457200" cy="609480"/>
          </a:xfrm>
        </p:grpSpPr>
        <p:sp>
          <p:nvSpPr>
            <p:cNvPr id="961" name=""/>
            <p:cNvSpPr/>
            <p:nvPr/>
          </p:nvSpPr>
          <p:spPr>
            <a:xfrm>
              <a:off x="533520" y="44956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200" y="4572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57200" y="4952520"/>
              <a:ext cx="457200" cy="152640"/>
              <a:chOff x="457200" y="4952520"/>
              <a:chExt cx="457200" cy="152640"/>
            </a:xfrm>
          </p:grpSpPr>
          <p:sp>
            <p:nvSpPr>
              <p:cNvPr id="964" name=""/>
              <p:cNvSpPr/>
              <p:nvPr/>
            </p:nvSpPr>
            <p:spPr>
              <a:xfrm>
                <a:off x="45720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45720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838080" y="49525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533520" y="5029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914400" y="3581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Data Flow between Lay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29152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3880" y="3429000"/>
            <a:ext cx="62485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523880" y="4191120"/>
            <a:ext cx="6248520" cy="22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523880" y="3429000"/>
            <a:ext cx="624852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523880" y="2743200"/>
            <a:ext cx="6248520" cy="1600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6000" y="2819520"/>
            <a:ext cx="4724280" cy="1218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048120" y="2971800"/>
            <a:ext cx="312408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048120" y="2362320"/>
            <a:ext cx="3124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371600" y="2819520"/>
            <a:ext cx="64008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09880" y="3200400"/>
            <a:ext cx="152424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904760" y="3657600"/>
            <a:ext cx="762120" cy="459720"/>
            <a:chOff x="1904760" y="3657600"/>
            <a:chExt cx="762120" cy="459720"/>
          </a:xfrm>
        </p:grpSpPr>
        <p:grpSp>
          <p:nvGrpSpPr>
            <p:cNvPr id="981" name=""/>
            <p:cNvGrpSpPr/>
            <p:nvPr/>
          </p:nvGrpSpPr>
          <p:grpSpPr>
            <a:xfrm>
              <a:off x="1904760" y="3657600"/>
              <a:ext cx="762120" cy="380880"/>
              <a:chOff x="1904760" y="3657600"/>
              <a:chExt cx="762120" cy="380880"/>
            </a:xfrm>
          </p:grpSpPr>
          <p:sp>
            <p:nvSpPr>
              <p:cNvPr id="982" name=""/>
              <p:cNvSpPr/>
              <p:nvPr/>
            </p:nvSpPr>
            <p:spPr>
              <a:xfrm>
                <a:off x="1905120" y="36576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1904760" y="3657600"/>
                <a:ext cx="761760" cy="380880"/>
                <a:chOff x="1904760" y="3657600"/>
                <a:chExt cx="761760" cy="3808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1981080" y="36576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>
                  <a:off x="1904760" y="3657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190512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2590560" y="36576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8" name=""/>
            <p:cNvSpPr/>
            <p:nvPr/>
          </p:nvSpPr>
          <p:spPr>
            <a:xfrm>
              <a:off x="1906920" y="36576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666880" y="4038480"/>
            <a:ext cx="762120" cy="459720"/>
            <a:chOff x="2666880" y="4038480"/>
            <a:chExt cx="762120" cy="459720"/>
          </a:xfrm>
        </p:grpSpPr>
        <p:grpSp>
          <p:nvGrpSpPr>
            <p:cNvPr id="990" name=""/>
            <p:cNvGrpSpPr/>
            <p:nvPr/>
          </p:nvGrpSpPr>
          <p:grpSpPr>
            <a:xfrm>
              <a:off x="2666880" y="4038480"/>
              <a:ext cx="762120" cy="380880"/>
              <a:chOff x="2666880" y="4038480"/>
              <a:chExt cx="762120" cy="380880"/>
            </a:xfrm>
          </p:grpSpPr>
          <p:sp>
            <p:nvSpPr>
              <p:cNvPr id="991" name=""/>
              <p:cNvSpPr/>
              <p:nvPr/>
            </p:nvSpPr>
            <p:spPr>
              <a:xfrm>
                <a:off x="2666880" y="403848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2" name=""/>
              <p:cNvGrpSpPr/>
              <p:nvPr/>
            </p:nvGrpSpPr>
            <p:grpSpPr>
              <a:xfrm>
                <a:off x="2666880" y="4038480"/>
                <a:ext cx="762120" cy="380880"/>
                <a:chOff x="2666880" y="4038480"/>
                <a:chExt cx="762120" cy="3808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27432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2666880" y="403848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2666880" y="44193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3352680" y="403848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7" name=""/>
            <p:cNvSpPr/>
            <p:nvPr/>
          </p:nvSpPr>
          <p:spPr>
            <a:xfrm>
              <a:off x="2668680" y="403848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2971800" y="3657600"/>
            <a:ext cx="762120" cy="459720"/>
            <a:chOff x="2971800" y="3657600"/>
            <a:chExt cx="762120" cy="459720"/>
          </a:xfrm>
        </p:grpSpPr>
        <p:grpSp>
          <p:nvGrpSpPr>
            <p:cNvPr id="999" name=""/>
            <p:cNvGrpSpPr/>
            <p:nvPr/>
          </p:nvGrpSpPr>
          <p:grpSpPr>
            <a:xfrm>
              <a:off x="2971800" y="3657600"/>
              <a:ext cx="762120" cy="380880"/>
              <a:chOff x="2971800" y="3657600"/>
              <a:chExt cx="762120" cy="380880"/>
            </a:xfrm>
          </p:grpSpPr>
          <p:sp>
            <p:nvSpPr>
              <p:cNvPr id="1000" name=""/>
              <p:cNvSpPr/>
              <p:nvPr/>
            </p:nvSpPr>
            <p:spPr>
              <a:xfrm>
                <a:off x="2971800" y="36576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2971800" y="3657600"/>
                <a:ext cx="762120" cy="380880"/>
                <a:chOff x="2971800" y="3657600"/>
                <a:chExt cx="762120" cy="3808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304812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29718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9718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36576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6" name=""/>
            <p:cNvSpPr/>
            <p:nvPr/>
          </p:nvSpPr>
          <p:spPr>
            <a:xfrm>
              <a:off x="2973960" y="36576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 flipH="1">
            <a:off x="198072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66652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327672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581280" y="35812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514600" y="35049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5562360" y="38862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 flipV="1">
            <a:off x="5028840" y="3581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2286000" y="3276720"/>
            <a:ext cx="762120" cy="459720"/>
            <a:chOff x="2286000" y="3276720"/>
            <a:chExt cx="762120" cy="459720"/>
          </a:xfrm>
        </p:grpSpPr>
        <p:grpSp>
          <p:nvGrpSpPr>
            <p:cNvPr id="1015" name=""/>
            <p:cNvGrpSpPr/>
            <p:nvPr/>
          </p:nvGrpSpPr>
          <p:grpSpPr>
            <a:xfrm>
              <a:off x="2286000" y="3276720"/>
              <a:ext cx="762120" cy="380880"/>
              <a:chOff x="2286000" y="3276720"/>
              <a:chExt cx="762120" cy="380880"/>
            </a:xfrm>
          </p:grpSpPr>
          <p:sp>
            <p:nvSpPr>
              <p:cNvPr id="1016" name=""/>
              <p:cNvSpPr/>
              <p:nvPr/>
            </p:nvSpPr>
            <p:spPr>
              <a:xfrm>
                <a:off x="22860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2286000" y="3276720"/>
                <a:ext cx="762120" cy="380880"/>
                <a:chOff x="2286000" y="3276720"/>
                <a:chExt cx="762120" cy="38088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23623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>
                  <a:off x="22860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2860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29718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2" name=""/>
            <p:cNvSpPr/>
            <p:nvPr/>
          </p:nvSpPr>
          <p:spPr>
            <a:xfrm>
              <a:off x="2288160" y="32767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1371600" y="3276720"/>
            <a:ext cx="762120" cy="459720"/>
            <a:chOff x="1371600" y="3276720"/>
            <a:chExt cx="762120" cy="459720"/>
          </a:xfrm>
        </p:grpSpPr>
        <p:grpSp>
          <p:nvGrpSpPr>
            <p:cNvPr id="1024" name=""/>
            <p:cNvGrpSpPr/>
            <p:nvPr/>
          </p:nvGrpSpPr>
          <p:grpSpPr>
            <a:xfrm>
              <a:off x="1371600" y="3276720"/>
              <a:ext cx="762120" cy="380880"/>
              <a:chOff x="1371600" y="3276720"/>
              <a:chExt cx="762120" cy="380880"/>
            </a:xfrm>
          </p:grpSpPr>
          <p:sp>
            <p:nvSpPr>
              <p:cNvPr id="1025" name=""/>
              <p:cNvSpPr/>
              <p:nvPr/>
            </p:nvSpPr>
            <p:spPr>
              <a:xfrm>
                <a:off x="13716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1371600" y="3276720"/>
                <a:ext cx="762120" cy="380880"/>
                <a:chOff x="1371600" y="3276720"/>
                <a:chExt cx="762120" cy="38088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14479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H="1">
                  <a:off x="13716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3716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20574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1" name=""/>
            <p:cNvSpPr/>
            <p:nvPr/>
          </p:nvSpPr>
          <p:spPr>
            <a:xfrm>
              <a:off x="1373400" y="3276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200400" y="3276720"/>
            <a:ext cx="762120" cy="459720"/>
            <a:chOff x="3200400" y="3276720"/>
            <a:chExt cx="762120" cy="459720"/>
          </a:xfrm>
        </p:grpSpPr>
        <p:grpSp>
          <p:nvGrpSpPr>
            <p:cNvPr id="1033" name=""/>
            <p:cNvGrpSpPr/>
            <p:nvPr/>
          </p:nvGrpSpPr>
          <p:grpSpPr>
            <a:xfrm>
              <a:off x="3200400" y="3276720"/>
              <a:ext cx="762120" cy="380880"/>
              <a:chOff x="3200400" y="3276720"/>
              <a:chExt cx="762120" cy="380880"/>
            </a:xfrm>
          </p:grpSpPr>
          <p:sp>
            <p:nvSpPr>
              <p:cNvPr id="1034" name=""/>
              <p:cNvSpPr/>
              <p:nvPr/>
            </p:nvSpPr>
            <p:spPr>
              <a:xfrm>
                <a:off x="3200400" y="32767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5" name=""/>
              <p:cNvGrpSpPr/>
              <p:nvPr/>
            </p:nvGrpSpPr>
            <p:grpSpPr>
              <a:xfrm>
                <a:off x="3200400" y="3276720"/>
                <a:ext cx="762120" cy="380880"/>
                <a:chOff x="3200400" y="3276720"/>
                <a:chExt cx="762120" cy="3808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276720" y="32767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>
                  <a:off x="32004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20040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3886200" y="32767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0" name=""/>
            <p:cNvSpPr/>
            <p:nvPr/>
          </p:nvSpPr>
          <p:spPr>
            <a:xfrm>
              <a:off x="3202200" y="3276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190760" y="3276720"/>
            <a:ext cx="762120" cy="459720"/>
            <a:chOff x="4190760" y="3276720"/>
            <a:chExt cx="762120" cy="459720"/>
          </a:xfrm>
        </p:grpSpPr>
        <p:grpSp>
          <p:nvGrpSpPr>
            <p:cNvPr id="1042" name=""/>
            <p:cNvGrpSpPr/>
            <p:nvPr/>
          </p:nvGrpSpPr>
          <p:grpSpPr>
            <a:xfrm>
              <a:off x="4190760" y="3276720"/>
              <a:ext cx="762120" cy="380880"/>
              <a:chOff x="4190760" y="3276720"/>
              <a:chExt cx="762120" cy="380880"/>
            </a:xfrm>
          </p:grpSpPr>
          <p:sp>
            <p:nvSpPr>
              <p:cNvPr id="1043" name=""/>
              <p:cNvSpPr/>
              <p:nvPr/>
            </p:nvSpPr>
            <p:spPr>
              <a:xfrm>
                <a:off x="4191120" y="32767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4190760" y="3276720"/>
                <a:ext cx="761760" cy="380880"/>
                <a:chOff x="4190760" y="3276720"/>
                <a:chExt cx="761760" cy="3808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267080" y="32767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>
                  <a:off x="4190760" y="32767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191120" y="36576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4876560" y="32767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49" name=""/>
            <p:cNvSpPr/>
            <p:nvPr/>
          </p:nvSpPr>
          <p:spPr>
            <a:xfrm>
              <a:off x="4193280" y="32767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4572000" y="3429000"/>
            <a:ext cx="762120" cy="459720"/>
            <a:chOff x="4572000" y="3429000"/>
            <a:chExt cx="762120" cy="459720"/>
          </a:xfrm>
        </p:grpSpPr>
        <p:grpSp>
          <p:nvGrpSpPr>
            <p:cNvPr id="1051" name=""/>
            <p:cNvGrpSpPr/>
            <p:nvPr/>
          </p:nvGrpSpPr>
          <p:grpSpPr>
            <a:xfrm>
              <a:off x="4572000" y="3429000"/>
              <a:ext cx="762120" cy="380880"/>
              <a:chOff x="4572000" y="3429000"/>
              <a:chExt cx="762120" cy="380880"/>
            </a:xfrm>
          </p:grpSpPr>
          <p:sp>
            <p:nvSpPr>
              <p:cNvPr id="1052" name=""/>
              <p:cNvSpPr/>
              <p:nvPr/>
            </p:nvSpPr>
            <p:spPr>
              <a:xfrm>
                <a:off x="4572000" y="34290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4572000" y="3429000"/>
                <a:ext cx="762120" cy="380880"/>
                <a:chOff x="4572000" y="3429000"/>
                <a:chExt cx="762120" cy="3808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648320" y="3429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>
                  <a:off x="4572000" y="34290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572000" y="38098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5257800" y="34290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8" name=""/>
            <p:cNvSpPr/>
            <p:nvPr/>
          </p:nvSpPr>
          <p:spPr>
            <a:xfrm>
              <a:off x="4573800" y="3429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029200" y="3657600"/>
            <a:ext cx="762120" cy="459720"/>
            <a:chOff x="5029200" y="3657600"/>
            <a:chExt cx="762120" cy="459720"/>
          </a:xfrm>
        </p:grpSpPr>
        <p:grpSp>
          <p:nvGrpSpPr>
            <p:cNvPr id="1060" name=""/>
            <p:cNvGrpSpPr/>
            <p:nvPr/>
          </p:nvGrpSpPr>
          <p:grpSpPr>
            <a:xfrm>
              <a:off x="5029200" y="3657600"/>
              <a:ext cx="762120" cy="380880"/>
              <a:chOff x="5029200" y="3657600"/>
              <a:chExt cx="762120" cy="380880"/>
            </a:xfrm>
          </p:grpSpPr>
          <p:sp>
            <p:nvSpPr>
              <p:cNvPr id="1061" name=""/>
              <p:cNvSpPr/>
              <p:nvPr/>
            </p:nvSpPr>
            <p:spPr>
              <a:xfrm>
                <a:off x="5029200" y="365760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5029200" y="3657600"/>
                <a:ext cx="762120" cy="380880"/>
                <a:chOff x="5029200" y="3657600"/>
                <a:chExt cx="762120" cy="3808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105520" y="36576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>
                  <a:off x="50292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29200" y="40384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V="1">
                  <a:off x="5715000" y="365760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7" name=""/>
            <p:cNvSpPr/>
            <p:nvPr/>
          </p:nvSpPr>
          <p:spPr>
            <a:xfrm>
              <a:off x="5031720" y="365760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5486400" y="3962520"/>
            <a:ext cx="762120" cy="459720"/>
            <a:chOff x="5486400" y="3962520"/>
            <a:chExt cx="762120" cy="459720"/>
          </a:xfrm>
        </p:grpSpPr>
        <p:grpSp>
          <p:nvGrpSpPr>
            <p:cNvPr id="1069" name=""/>
            <p:cNvGrpSpPr/>
            <p:nvPr/>
          </p:nvGrpSpPr>
          <p:grpSpPr>
            <a:xfrm>
              <a:off x="5486400" y="3962520"/>
              <a:ext cx="762120" cy="380880"/>
              <a:chOff x="5486400" y="3962520"/>
              <a:chExt cx="762120" cy="380880"/>
            </a:xfrm>
          </p:grpSpPr>
          <p:sp>
            <p:nvSpPr>
              <p:cNvPr id="1070" name=""/>
              <p:cNvSpPr/>
              <p:nvPr/>
            </p:nvSpPr>
            <p:spPr>
              <a:xfrm>
                <a:off x="5486400" y="39625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1" name=""/>
              <p:cNvGrpSpPr/>
              <p:nvPr/>
            </p:nvGrpSpPr>
            <p:grpSpPr>
              <a:xfrm>
                <a:off x="5486400" y="3962520"/>
                <a:ext cx="762120" cy="380880"/>
                <a:chOff x="5486400" y="3962520"/>
                <a:chExt cx="762120" cy="38088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562720" y="39625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5486400" y="39625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486400" y="4343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V="1">
                  <a:off x="6172200" y="39625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6" name=""/>
            <p:cNvSpPr/>
            <p:nvPr/>
          </p:nvSpPr>
          <p:spPr>
            <a:xfrm>
              <a:off x="5488560" y="3962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038480" y="3733920"/>
            <a:ext cx="762120" cy="459720"/>
            <a:chOff x="4038480" y="3733920"/>
            <a:chExt cx="762120" cy="459720"/>
          </a:xfrm>
        </p:grpSpPr>
        <p:grpSp>
          <p:nvGrpSpPr>
            <p:cNvPr id="1078" name=""/>
            <p:cNvGrpSpPr/>
            <p:nvPr/>
          </p:nvGrpSpPr>
          <p:grpSpPr>
            <a:xfrm>
              <a:off x="4038480" y="3733920"/>
              <a:ext cx="762120" cy="380880"/>
              <a:chOff x="4038480" y="3733920"/>
              <a:chExt cx="762120" cy="380880"/>
            </a:xfrm>
          </p:grpSpPr>
          <p:sp>
            <p:nvSpPr>
              <p:cNvPr id="1079" name=""/>
              <p:cNvSpPr/>
              <p:nvPr/>
            </p:nvSpPr>
            <p:spPr>
              <a:xfrm>
                <a:off x="4038480" y="37339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4038480" y="3733920"/>
                <a:ext cx="762120" cy="380880"/>
                <a:chOff x="4038480" y="3733920"/>
                <a:chExt cx="762120" cy="3808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4114800" y="37339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4038480" y="3733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038480" y="41148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V="1">
                  <a:off x="4724280" y="37339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5" name=""/>
            <p:cNvSpPr/>
            <p:nvPr/>
          </p:nvSpPr>
          <p:spPr>
            <a:xfrm>
              <a:off x="4041000" y="3733920"/>
              <a:ext cx="56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3274200" y="1905120"/>
            <a:ext cx="2614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pplic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forcemen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erminologie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02400" y="236232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esentation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4343040" y="39625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9" name=""/>
          <p:cNvGrpSpPr/>
          <p:nvPr/>
        </p:nvGrpSpPr>
        <p:grpSpPr>
          <a:xfrm>
            <a:off x="3886200" y="4191120"/>
            <a:ext cx="762120" cy="459720"/>
            <a:chOff x="3886200" y="4191120"/>
            <a:chExt cx="762120" cy="459720"/>
          </a:xfrm>
        </p:grpSpPr>
        <p:grpSp>
          <p:nvGrpSpPr>
            <p:cNvPr id="1090" name=""/>
            <p:cNvGrpSpPr/>
            <p:nvPr/>
          </p:nvGrpSpPr>
          <p:grpSpPr>
            <a:xfrm>
              <a:off x="3886200" y="4191120"/>
              <a:ext cx="762120" cy="380880"/>
              <a:chOff x="3886200" y="4191120"/>
              <a:chExt cx="762120" cy="380880"/>
            </a:xfrm>
          </p:grpSpPr>
          <p:sp>
            <p:nvSpPr>
              <p:cNvPr id="1091" name=""/>
              <p:cNvSpPr/>
              <p:nvPr/>
            </p:nvSpPr>
            <p:spPr>
              <a:xfrm>
                <a:off x="3886200" y="4191120"/>
                <a:ext cx="76212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2" name=""/>
              <p:cNvGrpSpPr/>
              <p:nvPr/>
            </p:nvGrpSpPr>
            <p:grpSpPr>
              <a:xfrm>
                <a:off x="3886200" y="4191120"/>
                <a:ext cx="762120" cy="380880"/>
                <a:chOff x="3886200" y="4191120"/>
                <a:chExt cx="762120" cy="3808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3962520" y="419112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3886200" y="41911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886200" y="45720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V="1">
                  <a:off x="4572000" y="4191120"/>
                  <a:ext cx="763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7" name=""/>
            <p:cNvSpPr/>
            <p:nvPr/>
          </p:nvSpPr>
          <p:spPr>
            <a:xfrm>
              <a:off x="3888360" y="4191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457200" y="4038480"/>
            <a:ext cx="457200" cy="609480"/>
            <a:chOff x="457200" y="4038480"/>
            <a:chExt cx="457200" cy="609480"/>
          </a:xfrm>
        </p:grpSpPr>
        <p:sp>
          <p:nvSpPr>
            <p:cNvPr id="1099" name=""/>
            <p:cNvSpPr/>
            <p:nvPr/>
          </p:nvSpPr>
          <p:spPr>
            <a:xfrm>
              <a:off x="533520" y="40384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7200" y="4114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457200" y="4495320"/>
              <a:ext cx="457200" cy="152640"/>
              <a:chOff x="457200" y="4495320"/>
              <a:chExt cx="457200" cy="1526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57200" y="4647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457200" y="4495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838080" y="4495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33520" y="4572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838080" y="4724280"/>
            <a:ext cx="457200" cy="609480"/>
            <a:chOff x="838080" y="4724280"/>
            <a:chExt cx="457200" cy="609480"/>
          </a:xfrm>
        </p:grpSpPr>
        <p:sp>
          <p:nvSpPr>
            <p:cNvPr id="1107" name=""/>
            <p:cNvSpPr/>
            <p:nvPr/>
          </p:nvSpPr>
          <p:spPr>
            <a:xfrm>
              <a:off x="914400" y="47242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38080" y="4800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9" name=""/>
            <p:cNvGrpSpPr/>
            <p:nvPr/>
          </p:nvGrpSpPr>
          <p:grpSpPr>
            <a:xfrm>
              <a:off x="838080" y="5181120"/>
              <a:ext cx="457200" cy="152640"/>
              <a:chOff x="838080" y="5181120"/>
              <a:chExt cx="457200" cy="152640"/>
            </a:xfrm>
          </p:grpSpPr>
          <p:sp>
            <p:nvSpPr>
              <p:cNvPr id="1110" name=""/>
              <p:cNvSpPr/>
              <p:nvPr/>
            </p:nvSpPr>
            <p:spPr>
              <a:xfrm>
                <a:off x="838080" y="5333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838080" y="5181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1218960" y="5181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"/>
            <p:cNvSpPr/>
            <p:nvPr/>
          </p:nvSpPr>
          <p:spPr>
            <a:xfrm>
              <a:off x="914400" y="5257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828800" y="5257800"/>
            <a:ext cx="457200" cy="609120"/>
            <a:chOff x="1828800" y="5257800"/>
            <a:chExt cx="457200" cy="609120"/>
          </a:xfrm>
        </p:grpSpPr>
        <p:sp>
          <p:nvSpPr>
            <p:cNvPr id="1115" name=""/>
            <p:cNvSpPr/>
            <p:nvPr/>
          </p:nvSpPr>
          <p:spPr>
            <a:xfrm>
              <a:off x="1905120" y="525780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28800" y="53337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1828800" y="5714280"/>
              <a:ext cx="457200" cy="152640"/>
              <a:chOff x="1828800" y="5714280"/>
              <a:chExt cx="457200" cy="152640"/>
            </a:xfrm>
          </p:grpSpPr>
          <p:sp>
            <p:nvSpPr>
              <p:cNvPr id="1118" name=""/>
              <p:cNvSpPr/>
              <p:nvPr/>
            </p:nvSpPr>
            <p:spPr>
              <a:xfrm>
                <a:off x="1828800" y="5866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1828800" y="57142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2209680" y="57142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"/>
            <p:cNvSpPr/>
            <p:nvPr/>
          </p:nvSpPr>
          <p:spPr>
            <a:xfrm>
              <a:off x="1905120" y="5790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914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1295280" y="4572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2286000" y="4800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7238880" y="5105520"/>
            <a:ext cx="453960" cy="535680"/>
            <a:chOff x="7238880" y="5105520"/>
            <a:chExt cx="453960" cy="535680"/>
          </a:xfrm>
        </p:grpSpPr>
        <p:sp>
          <p:nvSpPr>
            <p:cNvPr id="1126" name=""/>
            <p:cNvSpPr/>
            <p:nvPr/>
          </p:nvSpPr>
          <p:spPr>
            <a:xfrm>
              <a:off x="7238880" y="51055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38880" y="51055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38880" y="54864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40680" y="51814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 flipH="1" flipV="1">
            <a:off x="6400800" y="4876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733920" y="571464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886200" y="5715000"/>
            <a:ext cx="7632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3962520" y="5257440"/>
            <a:ext cx="1522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4114800" y="495252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138320" y="6172200"/>
            <a:ext cx="65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ll data may not be transformed to the concep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andidate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228240" y="2590920"/>
            <a:ext cx="1676520" cy="1371600"/>
            <a:chOff x="228240" y="2590920"/>
            <a:chExt cx="1676520" cy="1371600"/>
          </a:xfrm>
        </p:grpSpPr>
        <p:sp>
          <p:nvSpPr>
            <p:cNvPr id="1138" name=""/>
            <p:cNvSpPr/>
            <p:nvPr/>
          </p:nvSpPr>
          <p:spPr>
            <a:xfrm flipH="1">
              <a:off x="22788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8088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823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858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2" name=""/>
            <p:cNvGrpSpPr/>
            <p:nvPr/>
          </p:nvGrpSpPr>
          <p:grpSpPr>
            <a:xfrm>
              <a:off x="228240" y="2590920"/>
              <a:ext cx="762120" cy="459720"/>
              <a:chOff x="228240" y="2590920"/>
              <a:chExt cx="762120" cy="459720"/>
            </a:xfrm>
          </p:grpSpPr>
          <p:grpSp>
            <p:nvGrpSpPr>
              <p:cNvPr id="1143" name=""/>
              <p:cNvGrpSpPr/>
              <p:nvPr/>
            </p:nvGrpSpPr>
            <p:grpSpPr>
              <a:xfrm>
                <a:off x="228240" y="2590920"/>
                <a:ext cx="762120" cy="380880"/>
                <a:chOff x="228240" y="2590920"/>
                <a:chExt cx="762120" cy="38088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22860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5" name=""/>
                <p:cNvGrpSpPr/>
                <p:nvPr/>
              </p:nvGrpSpPr>
              <p:grpSpPr>
                <a:xfrm>
                  <a:off x="228240" y="2590920"/>
                  <a:ext cx="761760" cy="380880"/>
                  <a:chOff x="228240" y="2590920"/>
                  <a:chExt cx="761760" cy="380880"/>
                </a:xfrm>
              </p:grpSpPr>
              <p:sp>
                <p:nvSpPr>
                  <p:cNvPr id="1146" name=""/>
                  <p:cNvSpPr/>
                  <p:nvPr/>
                </p:nvSpPr>
                <p:spPr>
                  <a:xfrm>
                    <a:off x="30456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2282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2860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9140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50" name=""/>
              <p:cNvSpPr/>
              <p:nvPr/>
            </p:nvSpPr>
            <p:spPr>
              <a:xfrm>
                <a:off x="30672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"/>
            <p:cNvSpPr/>
            <p:nvPr/>
          </p:nvSpPr>
          <p:spPr>
            <a:xfrm>
              <a:off x="114300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14444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1066320" y="2590920"/>
              <a:ext cx="762120" cy="459720"/>
              <a:chOff x="1066320" y="2590920"/>
              <a:chExt cx="762120" cy="459720"/>
            </a:xfrm>
          </p:grpSpPr>
          <p:grpSp>
            <p:nvGrpSpPr>
              <p:cNvPr id="1155" name=""/>
              <p:cNvGrpSpPr/>
              <p:nvPr/>
            </p:nvGrpSpPr>
            <p:grpSpPr>
              <a:xfrm>
                <a:off x="1066320" y="2590920"/>
                <a:ext cx="762120" cy="380880"/>
                <a:chOff x="1066320" y="2590920"/>
                <a:chExt cx="762120" cy="380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10666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1066320" y="2590920"/>
                  <a:ext cx="761760" cy="380880"/>
                  <a:chOff x="1066320" y="2590920"/>
                  <a:chExt cx="761760" cy="38088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11426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10663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10666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V="1">
                    <a:off x="17521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62" name=""/>
              <p:cNvSpPr/>
              <p:nvPr/>
            </p:nvSpPr>
            <p:spPr>
              <a:xfrm>
                <a:off x="1144800" y="25909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3" name=""/>
            <p:cNvSpPr/>
            <p:nvPr/>
          </p:nvSpPr>
          <p:spPr>
            <a:xfrm>
              <a:off x="13716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980720" y="2590920"/>
            <a:ext cx="1676520" cy="1371600"/>
            <a:chOff x="1980720" y="2590920"/>
            <a:chExt cx="1676520" cy="1371600"/>
          </a:xfrm>
        </p:grpSpPr>
        <p:sp>
          <p:nvSpPr>
            <p:cNvPr id="1165" name=""/>
            <p:cNvSpPr/>
            <p:nvPr/>
          </p:nvSpPr>
          <p:spPr>
            <a:xfrm flipH="1">
              <a:off x="198036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3336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35160" y="342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382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1980720" y="2590920"/>
              <a:ext cx="762120" cy="459720"/>
              <a:chOff x="1980720" y="2590920"/>
              <a:chExt cx="762120" cy="45972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1980720" y="2590920"/>
                <a:ext cx="762120" cy="380880"/>
                <a:chOff x="1980720" y="2590920"/>
                <a:chExt cx="762120" cy="38088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19810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2" name=""/>
                <p:cNvGrpSpPr/>
                <p:nvPr/>
              </p:nvGrpSpPr>
              <p:grpSpPr>
                <a:xfrm>
                  <a:off x="1980720" y="2590920"/>
                  <a:ext cx="761760" cy="380880"/>
                  <a:chOff x="1980720" y="2590920"/>
                  <a:chExt cx="761760" cy="380880"/>
                </a:xfrm>
              </p:grpSpPr>
              <p:sp>
                <p:nvSpPr>
                  <p:cNvPr id="1173" name=""/>
                  <p:cNvSpPr/>
                  <p:nvPr/>
                </p:nvSpPr>
                <p:spPr>
                  <a:xfrm>
                    <a:off x="20570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 flipH="1">
                    <a:off x="19807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19810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 flipV="1">
                    <a:off x="26665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77" name=""/>
              <p:cNvSpPr/>
              <p:nvPr/>
            </p:nvSpPr>
            <p:spPr>
              <a:xfrm>
                <a:off x="2059200" y="259092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289548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74320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8969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2818800" y="2590920"/>
              <a:ext cx="762120" cy="459720"/>
              <a:chOff x="2818800" y="2590920"/>
              <a:chExt cx="762120" cy="45972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2818800" y="2590920"/>
                <a:ext cx="762120" cy="380880"/>
                <a:chOff x="2818800" y="2590920"/>
                <a:chExt cx="762120" cy="3808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281916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2818800" y="2590920"/>
                  <a:ext cx="761760" cy="380880"/>
                  <a:chOff x="2818800" y="2590920"/>
                  <a:chExt cx="761760" cy="3808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289512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>
                    <a:off x="28188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81916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V="1">
                    <a:off x="35046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9" name=""/>
              <p:cNvSpPr/>
              <p:nvPr/>
            </p:nvSpPr>
            <p:spPr>
              <a:xfrm>
                <a:off x="289728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3124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5336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7238520" y="2590920"/>
            <a:ext cx="1676520" cy="1371600"/>
            <a:chOff x="7238520" y="2590920"/>
            <a:chExt cx="1676520" cy="1371600"/>
          </a:xfrm>
        </p:grpSpPr>
        <p:sp>
          <p:nvSpPr>
            <p:cNvPr id="1193" name=""/>
            <p:cNvSpPr/>
            <p:nvPr/>
          </p:nvSpPr>
          <p:spPr>
            <a:xfrm flipH="1">
              <a:off x="723816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9116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9260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6960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7238520" y="2590920"/>
              <a:ext cx="762120" cy="459720"/>
              <a:chOff x="7238520" y="2590920"/>
              <a:chExt cx="762120" cy="45972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7238520" y="2590920"/>
                <a:ext cx="762120" cy="380880"/>
                <a:chOff x="7238520" y="2590920"/>
                <a:chExt cx="762120" cy="3808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72388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0" name=""/>
                <p:cNvGrpSpPr/>
                <p:nvPr/>
              </p:nvGrpSpPr>
              <p:grpSpPr>
                <a:xfrm>
                  <a:off x="7238520" y="2590920"/>
                  <a:ext cx="761760" cy="380880"/>
                  <a:chOff x="7238520" y="2590920"/>
                  <a:chExt cx="761760" cy="38088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73148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72385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2388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V="1">
                    <a:off x="79243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5" name=""/>
              <p:cNvSpPr/>
              <p:nvPr/>
            </p:nvSpPr>
            <p:spPr>
              <a:xfrm>
                <a:off x="731700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6" name=""/>
            <p:cNvSpPr/>
            <p:nvPr/>
          </p:nvSpPr>
          <p:spPr>
            <a:xfrm>
              <a:off x="815328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00100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15544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8076600" y="2590920"/>
              <a:ext cx="762120" cy="459720"/>
              <a:chOff x="8076600" y="2590920"/>
              <a:chExt cx="762120" cy="459720"/>
            </a:xfrm>
          </p:grpSpPr>
          <p:grpSp>
            <p:nvGrpSpPr>
              <p:cNvPr id="1210" name=""/>
              <p:cNvGrpSpPr/>
              <p:nvPr/>
            </p:nvGrpSpPr>
            <p:grpSpPr>
              <a:xfrm>
                <a:off x="8076600" y="2590920"/>
                <a:ext cx="762120" cy="380880"/>
                <a:chOff x="8076600" y="2590920"/>
                <a:chExt cx="762120" cy="3808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807696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2" name=""/>
                <p:cNvGrpSpPr/>
                <p:nvPr/>
              </p:nvGrpSpPr>
              <p:grpSpPr>
                <a:xfrm>
                  <a:off x="8076600" y="2590920"/>
                  <a:ext cx="761760" cy="380880"/>
                  <a:chOff x="8076600" y="2590920"/>
                  <a:chExt cx="761760" cy="38088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815292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flipH="1">
                    <a:off x="80766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807696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V="1">
                    <a:off x="876240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7" name=""/>
              <p:cNvSpPr/>
              <p:nvPr/>
            </p:nvSpPr>
            <p:spPr>
              <a:xfrm>
                <a:off x="815544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8" name=""/>
            <p:cNvSpPr/>
            <p:nvPr/>
          </p:nvSpPr>
          <p:spPr>
            <a:xfrm>
              <a:off x="838188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3733560" y="2590920"/>
            <a:ext cx="1676520" cy="1371600"/>
            <a:chOff x="3733560" y="2590920"/>
            <a:chExt cx="1676520" cy="1371600"/>
          </a:xfrm>
        </p:grpSpPr>
        <p:sp>
          <p:nvSpPr>
            <p:cNvPr id="1220" name=""/>
            <p:cNvSpPr/>
            <p:nvPr/>
          </p:nvSpPr>
          <p:spPr>
            <a:xfrm flipH="1">
              <a:off x="3733920" y="3276720"/>
              <a:ext cx="167616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8584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8692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19076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3733560" y="2590920"/>
              <a:ext cx="762120" cy="459720"/>
              <a:chOff x="3733560" y="2590920"/>
              <a:chExt cx="762120" cy="459720"/>
            </a:xfrm>
          </p:grpSpPr>
          <p:grpSp>
            <p:nvGrpSpPr>
              <p:cNvPr id="1225" name=""/>
              <p:cNvGrpSpPr/>
              <p:nvPr/>
            </p:nvGrpSpPr>
            <p:grpSpPr>
              <a:xfrm>
                <a:off x="3733560" y="2590920"/>
                <a:ext cx="762120" cy="380880"/>
                <a:chOff x="3733560" y="2590920"/>
                <a:chExt cx="762120" cy="3808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373392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7" name=""/>
                <p:cNvGrpSpPr/>
                <p:nvPr/>
              </p:nvGrpSpPr>
              <p:grpSpPr>
                <a:xfrm>
                  <a:off x="3733560" y="2590920"/>
                  <a:ext cx="761760" cy="380880"/>
                  <a:chOff x="3733560" y="2590920"/>
                  <a:chExt cx="761760" cy="38088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380988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H="1">
                    <a:off x="373356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73392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flipV="1">
                    <a:off x="441936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32" name=""/>
              <p:cNvSpPr/>
              <p:nvPr/>
            </p:nvSpPr>
            <p:spPr>
              <a:xfrm>
                <a:off x="381204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>
              <a:off x="4647960" y="3429000"/>
              <a:ext cx="60912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495680" y="358128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4976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4571280" y="2590920"/>
              <a:ext cx="762120" cy="459720"/>
              <a:chOff x="4571280" y="2590920"/>
              <a:chExt cx="762120" cy="459720"/>
            </a:xfrm>
          </p:grpSpPr>
          <p:grpSp>
            <p:nvGrpSpPr>
              <p:cNvPr id="1237" name=""/>
              <p:cNvGrpSpPr/>
              <p:nvPr/>
            </p:nvGrpSpPr>
            <p:grpSpPr>
              <a:xfrm>
                <a:off x="4571280" y="2590920"/>
                <a:ext cx="762120" cy="380880"/>
                <a:chOff x="4571280" y="2590920"/>
                <a:chExt cx="762120" cy="38088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457164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9" name=""/>
                <p:cNvGrpSpPr/>
                <p:nvPr/>
              </p:nvGrpSpPr>
              <p:grpSpPr>
                <a:xfrm>
                  <a:off x="4571280" y="2590920"/>
                  <a:ext cx="761760" cy="380880"/>
                  <a:chOff x="4571280" y="2590920"/>
                  <a:chExt cx="761760" cy="380880"/>
                </a:xfrm>
              </p:grpSpPr>
              <p:sp>
                <p:nvSpPr>
                  <p:cNvPr id="1240" name=""/>
                  <p:cNvSpPr/>
                  <p:nvPr/>
                </p:nvSpPr>
                <p:spPr>
                  <a:xfrm>
                    <a:off x="464760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>
                    <a:off x="457128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57164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 flipV="1">
                    <a:off x="525708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44" name=""/>
              <p:cNvSpPr/>
              <p:nvPr/>
            </p:nvSpPr>
            <p:spPr>
              <a:xfrm>
                <a:off x="465012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487656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486040" y="2590920"/>
            <a:ext cx="1676520" cy="1371600"/>
            <a:chOff x="5486040" y="2590920"/>
            <a:chExt cx="1676520" cy="1371600"/>
          </a:xfrm>
        </p:grpSpPr>
        <p:sp>
          <p:nvSpPr>
            <p:cNvPr id="1247" name=""/>
            <p:cNvSpPr/>
            <p:nvPr/>
          </p:nvSpPr>
          <p:spPr>
            <a:xfrm flipH="1">
              <a:off x="5485680" y="3276720"/>
              <a:ext cx="16765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638680" y="3429000"/>
              <a:ext cx="60984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640840" y="3429000"/>
              <a:ext cx="5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9436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5486040" y="2590920"/>
              <a:ext cx="762120" cy="459720"/>
              <a:chOff x="5486040" y="2590920"/>
              <a:chExt cx="762120" cy="459720"/>
            </a:xfrm>
          </p:grpSpPr>
          <p:grpSp>
            <p:nvGrpSpPr>
              <p:cNvPr id="1252" name=""/>
              <p:cNvGrpSpPr/>
              <p:nvPr/>
            </p:nvGrpSpPr>
            <p:grpSpPr>
              <a:xfrm>
                <a:off x="5486040" y="2590920"/>
                <a:ext cx="762120" cy="380880"/>
                <a:chOff x="5486040" y="2590920"/>
                <a:chExt cx="762120" cy="38088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548640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4" name=""/>
                <p:cNvGrpSpPr/>
                <p:nvPr/>
              </p:nvGrpSpPr>
              <p:grpSpPr>
                <a:xfrm>
                  <a:off x="5486040" y="2590920"/>
                  <a:ext cx="761760" cy="380880"/>
                  <a:chOff x="5486040" y="2590920"/>
                  <a:chExt cx="761760" cy="380880"/>
                </a:xfrm>
              </p:grpSpPr>
              <p:sp>
                <p:nvSpPr>
                  <p:cNvPr id="1255" name=""/>
                  <p:cNvSpPr/>
                  <p:nvPr/>
                </p:nvSpPr>
                <p:spPr>
                  <a:xfrm>
                    <a:off x="556236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flipH="1">
                    <a:off x="54860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548640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flipV="1">
                    <a:off x="617184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59" name=""/>
              <p:cNvSpPr/>
              <p:nvPr/>
            </p:nvSpPr>
            <p:spPr>
              <a:xfrm>
                <a:off x="5564880" y="2590920"/>
                <a:ext cx="56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>
              <a:off x="6400800" y="3429000"/>
              <a:ext cx="60948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48520" y="3581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402240" y="34290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3" name=""/>
            <p:cNvGrpSpPr/>
            <p:nvPr/>
          </p:nvGrpSpPr>
          <p:grpSpPr>
            <a:xfrm>
              <a:off x="6324120" y="2590920"/>
              <a:ext cx="762120" cy="459720"/>
              <a:chOff x="6324120" y="2590920"/>
              <a:chExt cx="762120" cy="45972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6324120" y="2590920"/>
                <a:ext cx="762120" cy="380880"/>
                <a:chOff x="6324120" y="2590920"/>
                <a:chExt cx="762120" cy="38088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6324480" y="2590920"/>
                  <a:ext cx="761760" cy="380880"/>
                </a:xfrm>
                <a:prstGeom prst="rect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6" name=""/>
                <p:cNvGrpSpPr/>
                <p:nvPr/>
              </p:nvGrpSpPr>
              <p:grpSpPr>
                <a:xfrm>
                  <a:off x="6324120" y="2590920"/>
                  <a:ext cx="761760" cy="380880"/>
                  <a:chOff x="6324120" y="2590920"/>
                  <a:chExt cx="761760" cy="380880"/>
                </a:xfrm>
              </p:grpSpPr>
              <p:sp>
                <p:nvSpPr>
                  <p:cNvPr id="1267" name=""/>
                  <p:cNvSpPr/>
                  <p:nvPr/>
                </p:nvSpPr>
                <p:spPr>
                  <a:xfrm>
                    <a:off x="6400440" y="259092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>
                    <a:off x="63241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324480" y="2971800"/>
                    <a:ext cx="68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7009920" y="2590920"/>
                    <a:ext cx="75960" cy="380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1" name=""/>
              <p:cNvSpPr/>
              <p:nvPr/>
            </p:nvSpPr>
            <p:spPr>
              <a:xfrm>
                <a:off x="6402600" y="259092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6629400" y="2971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3" name=""/>
          <p:cNvSpPr/>
          <p:nvPr/>
        </p:nvSpPr>
        <p:spPr>
          <a:xfrm>
            <a:off x="17524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685800" y="3809520"/>
            <a:ext cx="685800" cy="228960"/>
            <a:chOff x="685800" y="3809520"/>
            <a:chExt cx="685800" cy="228960"/>
          </a:xfrm>
        </p:grpSpPr>
        <p:sp>
          <p:nvSpPr>
            <p:cNvPr id="1275" name=""/>
            <p:cNvSpPr/>
            <p:nvPr/>
          </p:nvSpPr>
          <p:spPr>
            <a:xfrm>
              <a:off x="6858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580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137160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696080" y="3809520"/>
            <a:ext cx="685800" cy="228960"/>
            <a:chOff x="7696080" y="3809520"/>
            <a:chExt cx="685800" cy="228960"/>
          </a:xfrm>
        </p:grpSpPr>
        <p:sp>
          <p:nvSpPr>
            <p:cNvPr id="1279" name=""/>
            <p:cNvSpPr/>
            <p:nvPr/>
          </p:nvSpPr>
          <p:spPr>
            <a:xfrm>
              <a:off x="76960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9608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83818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5943600" y="3809520"/>
            <a:ext cx="685800" cy="228960"/>
            <a:chOff x="5943600" y="3809520"/>
            <a:chExt cx="685800" cy="228960"/>
          </a:xfrm>
        </p:grpSpPr>
        <p:sp>
          <p:nvSpPr>
            <p:cNvPr id="1283" name=""/>
            <p:cNvSpPr/>
            <p:nvPr/>
          </p:nvSpPr>
          <p:spPr>
            <a:xfrm>
              <a:off x="594360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94360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662940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"/>
          <p:cNvGrpSpPr/>
          <p:nvPr/>
        </p:nvGrpSpPr>
        <p:grpSpPr>
          <a:xfrm>
            <a:off x="4191120" y="3809520"/>
            <a:ext cx="685800" cy="228960"/>
            <a:chOff x="4191120" y="3809520"/>
            <a:chExt cx="685800" cy="228960"/>
          </a:xfrm>
        </p:grpSpPr>
        <p:sp>
          <p:nvSpPr>
            <p:cNvPr id="1287" name=""/>
            <p:cNvSpPr/>
            <p:nvPr/>
          </p:nvSpPr>
          <p:spPr>
            <a:xfrm>
              <a:off x="419112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19112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487692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438280" y="3809520"/>
            <a:ext cx="685800" cy="228960"/>
            <a:chOff x="2438280" y="3809520"/>
            <a:chExt cx="685800" cy="228960"/>
          </a:xfrm>
        </p:grpSpPr>
        <p:sp>
          <p:nvSpPr>
            <p:cNvPr id="1291" name=""/>
            <p:cNvSpPr/>
            <p:nvPr/>
          </p:nvSpPr>
          <p:spPr>
            <a:xfrm>
              <a:off x="2438280" y="380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38280" y="4038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3124080" y="380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3505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010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257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198108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723888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 flipV="1">
            <a:off x="54864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373392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2286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8915400" y="2209680"/>
            <a:ext cx="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0604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18328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858720" y="1828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4596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830240" y="18288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31840" y="4572000"/>
            <a:ext cx="866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nsformation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between different data withi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of same data between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refore, implementation processes (yell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re </a:t>
            </a:r>
            <a:r>
              <a:rPr b="0" i="1" lang="nb-NO" sz="2400" spc="-1" strike="noStrike" u="sng">
                <a:solidFill>
                  <a:srgbClr val="000000"/>
                </a:solidFill>
                <a:uFillTx/>
                <a:latin typeface="Times New Roman"/>
              </a:rPr>
              <a:t>dual</a:t>
            </a: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 to the schema architecture (p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7631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291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914400" y="2743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666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197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172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79246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353600" y="412920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25720" y="152388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1066680" y="19051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1828800" y="3581280"/>
            <a:ext cx="152280" cy="609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3504960" y="4038480"/>
            <a:ext cx="762120" cy="380880"/>
            <a:chOff x="3504960" y="4038480"/>
            <a:chExt cx="762120" cy="380880"/>
          </a:xfrm>
        </p:grpSpPr>
        <p:sp>
          <p:nvSpPr>
            <p:cNvPr id="1325" name=""/>
            <p:cNvSpPr/>
            <p:nvPr/>
          </p:nvSpPr>
          <p:spPr>
            <a:xfrm>
              <a:off x="35053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3504960" y="4038480"/>
              <a:ext cx="761760" cy="380880"/>
              <a:chOff x="3504960" y="4038480"/>
              <a:chExt cx="761760" cy="380880"/>
            </a:xfrm>
          </p:grpSpPr>
          <p:sp>
            <p:nvSpPr>
              <p:cNvPr id="1327" name=""/>
              <p:cNvSpPr/>
              <p:nvPr/>
            </p:nvSpPr>
            <p:spPr>
              <a:xfrm>
                <a:off x="35812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>
                <a:off x="35049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35053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41907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5257800" y="3200400"/>
            <a:ext cx="762120" cy="380880"/>
            <a:chOff x="5257800" y="3200400"/>
            <a:chExt cx="762120" cy="380880"/>
          </a:xfrm>
        </p:grpSpPr>
        <p:sp>
          <p:nvSpPr>
            <p:cNvPr id="1332" name=""/>
            <p:cNvSpPr/>
            <p:nvPr/>
          </p:nvSpPr>
          <p:spPr>
            <a:xfrm>
              <a:off x="5257800" y="3200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5257800" y="3200400"/>
              <a:ext cx="762120" cy="380880"/>
              <a:chOff x="5257800" y="3200400"/>
              <a:chExt cx="762120" cy="380880"/>
            </a:xfrm>
          </p:grpSpPr>
          <p:sp>
            <p:nvSpPr>
              <p:cNvPr id="1334" name=""/>
              <p:cNvSpPr/>
              <p:nvPr/>
            </p:nvSpPr>
            <p:spPr>
              <a:xfrm>
                <a:off x="533412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52578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25780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V="1">
                <a:off x="59436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8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267080" y="2133720"/>
            <a:ext cx="457200" cy="609120"/>
            <a:chOff x="4267080" y="2133720"/>
            <a:chExt cx="457200" cy="609120"/>
          </a:xfrm>
        </p:grpSpPr>
        <p:sp>
          <p:nvSpPr>
            <p:cNvPr id="1341" name=""/>
            <p:cNvSpPr/>
            <p:nvPr/>
          </p:nvSpPr>
          <p:spPr>
            <a:xfrm>
              <a:off x="4343400" y="21337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67080" y="22096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3" name=""/>
            <p:cNvGrpSpPr/>
            <p:nvPr/>
          </p:nvGrpSpPr>
          <p:grpSpPr>
            <a:xfrm>
              <a:off x="4267080" y="2590200"/>
              <a:ext cx="457200" cy="152640"/>
              <a:chOff x="4267080" y="2590200"/>
              <a:chExt cx="457200" cy="152640"/>
            </a:xfrm>
          </p:grpSpPr>
          <p:sp>
            <p:nvSpPr>
              <p:cNvPr id="1344" name=""/>
              <p:cNvSpPr/>
              <p:nvPr/>
            </p:nvSpPr>
            <p:spPr>
              <a:xfrm>
                <a:off x="4267080" y="27428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4267080" y="25902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V="1">
                <a:off x="4647960" y="25902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7" name=""/>
            <p:cNvSpPr/>
            <p:nvPr/>
          </p:nvSpPr>
          <p:spPr>
            <a:xfrm>
              <a:off x="4343400" y="26668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349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352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6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8" name=""/>
          <p:cNvGrpSpPr/>
          <p:nvPr/>
        </p:nvGrpSpPr>
        <p:grpSpPr>
          <a:xfrm>
            <a:off x="4876560" y="4038480"/>
            <a:ext cx="762120" cy="380880"/>
            <a:chOff x="4876560" y="4038480"/>
            <a:chExt cx="762120" cy="380880"/>
          </a:xfrm>
        </p:grpSpPr>
        <p:sp>
          <p:nvSpPr>
            <p:cNvPr id="1359" name=""/>
            <p:cNvSpPr/>
            <p:nvPr/>
          </p:nvSpPr>
          <p:spPr>
            <a:xfrm>
              <a:off x="48769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4876560" y="4038480"/>
              <a:ext cx="761760" cy="380880"/>
              <a:chOff x="4876560" y="4038480"/>
              <a:chExt cx="761760" cy="380880"/>
            </a:xfrm>
          </p:grpSpPr>
          <p:sp>
            <p:nvSpPr>
              <p:cNvPr id="1361" name=""/>
              <p:cNvSpPr/>
              <p:nvPr/>
            </p:nvSpPr>
            <p:spPr>
              <a:xfrm>
                <a:off x="49528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48765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8769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55623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5" name=""/>
          <p:cNvGrpSpPr/>
          <p:nvPr/>
        </p:nvGrpSpPr>
        <p:grpSpPr>
          <a:xfrm>
            <a:off x="4190760" y="4038480"/>
            <a:ext cx="762120" cy="380880"/>
            <a:chOff x="4190760" y="4038480"/>
            <a:chExt cx="762120" cy="380880"/>
          </a:xfrm>
        </p:grpSpPr>
        <p:sp>
          <p:nvSpPr>
            <p:cNvPr id="1366" name=""/>
            <p:cNvSpPr/>
            <p:nvPr/>
          </p:nvSpPr>
          <p:spPr>
            <a:xfrm>
              <a:off x="4191120" y="4038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7" name=""/>
            <p:cNvGrpSpPr/>
            <p:nvPr/>
          </p:nvGrpSpPr>
          <p:grpSpPr>
            <a:xfrm>
              <a:off x="4190760" y="4038480"/>
              <a:ext cx="761760" cy="380880"/>
              <a:chOff x="4190760" y="4038480"/>
              <a:chExt cx="761760" cy="380880"/>
            </a:xfrm>
          </p:grpSpPr>
          <p:sp>
            <p:nvSpPr>
              <p:cNvPr id="1368" name=""/>
              <p:cNvSpPr/>
              <p:nvPr/>
            </p:nvSpPr>
            <p:spPr>
              <a:xfrm>
                <a:off x="4267080" y="4038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41907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191120" y="4419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4876560" y="4038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2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572000" y="2743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038840" y="40384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829160" y="2971800"/>
            <a:ext cx="129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cces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963240" y="48769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3124080" y="2971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24080" y="2971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4876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256720" y="32004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ta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6629400" y="4800600"/>
            <a:ext cx="1299600" cy="536040"/>
            <a:chOff x="6629400" y="4800600"/>
            <a:chExt cx="1299600" cy="536040"/>
          </a:xfrm>
        </p:grpSpPr>
        <p:sp>
          <p:nvSpPr>
            <p:cNvPr id="1384" name=""/>
            <p:cNvSpPr/>
            <p:nvPr/>
          </p:nvSpPr>
          <p:spPr>
            <a:xfrm>
              <a:off x="6629400" y="4800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629400" y="4800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629400" y="5181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29760" y="487692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2742840" y="16765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1584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57200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5257800" y="3200400"/>
            <a:ext cx="762120" cy="380880"/>
            <a:chOff x="5257800" y="3200400"/>
            <a:chExt cx="762120" cy="380880"/>
          </a:xfrm>
        </p:grpSpPr>
        <p:sp>
          <p:nvSpPr>
            <p:cNvPr id="1394" name=""/>
            <p:cNvSpPr/>
            <p:nvPr/>
          </p:nvSpPr>
          <p:spPr>
            <a:xfrm>
              <a:off x="5257800" y="3200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5" name=""/>
            <p:cNvGrpSpPr/>
            <p:nvPr/>
          </p:nvGrpSpPr>
          <p:grpSpPr>
            <a:xfrm>
              <a:off x="5257800" y="3200400"/>
              <a:ext cx="762120" cy="380880"/>
              <a:chOff x="5257800" y="3200400"/>
              <a:chExt cx="762120" cy="380880"/>
            </a:xfrm>
          </p:grpSpPr>
          <p:sp>
            <p:nvSpPr>
              <p:cNvPr id="1396" name=""/>
              <p:cNvSpPr/>
              <p:nvPr/>
            </p:nvSpPr>
            <p:spPr>
              <a:xfrm>
                <a:off x="533412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H="1">
                <a:off x="52578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257800" y="3581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5943600" y="3200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0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2133720" y="2819520"/>
            <a:ext cx="457200" cy="609120"/>
            <a:chOff x="2133720" y="2819520"/>
            <a:chExt cx="457200" cy="609120"/>
          </a:xfrm>
        </p:grpSpPr>
        <p:sp>
          <p:nvSpPr>
            <p:cNvPr id="1403" name=""/>
            <p:cNvSpPr/>
            <p:nvPr/>
          </p:nvSpPr>
          <p:spPr>
            <a:xfrm>
              <a:off x="2210040" y="28195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33720" y="28954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5" name=""/>
            <p:cNvGrpSpPr/>
            <p:nvPr/>
          </p:nvGrpSpPr>
          <p:grpSpPr>
            <a:xfrm>
              <a:off x="2133720" y="3276000"/>
              <a:ext cx="457200" cy="152640"/>
              <a:chOff x="2133720" y="3276000"/>
              <a:chExt cx="457200" cy="152640"/>
            </a:xfrm>
          </p:grpSpPr>
          <p:sp>
            <p:nvSpPr>
              <p:cNvPr id="1406" name=""/>
              <p:cNvSpPr/>
              <p:nvPr/>
            </p:nvSpPr>
            <p:spPr>
              <a:xfrm>
                <a:off x="2133720" y="34286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V="1">
                <a:off x="2133720" y="32760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2514600" y="32760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9" name=""/>
            <p:cNvSpPr/>
            <p:nvPr/>
          </p:nvSpPr>
          <p:spPr>
            <a:xfrm>
              <a:off x="221004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411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414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267080" y="32004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72000" y="2362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3503520" y="4038480"/>
            <a:ext cx="2189520" cy="459720"/>
            <a:chOff x="3503520" y="4038480"/>
            <a:chExt cx="2189520" cy="459720"/>
          </a:xfrm>
        </p:grpSpPr>
        <p:grpSp>
          <p:nvGrpSpPr>
            <p:cNvPr id="1423" name=""/>
            <p:cNvGrpSpPr/>
            <p:nvPr/>
          </p:nvGrpSpPr>
          <p:grpSpPr>
            <a:xfrm>
              <a:off x="3504960" y="4038480"/>
              <a:ext cx="762120" cy="380880"/>
              <a:chOff x="3504960" y="4038480"/>
              <a:chExt cx="762120" cy="380880"/>
            </a:xfrm>
          </p:grpSpPr>
          <p:sp>
            <p:nvSpPr>
              <p:cNvPr id="1424" name=""/>
              <p:cNvSpPr/>
              <p:nvPr/>
            </p:nvSpPr>
            <p:spPr>
              <a:xfrm>
                <a:off x="35053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3504960" y="4038480"/>
                <a:ext cx="761760" cy="380880"/>
                <a:chOff x="3504960" y="4038480"/>
                <a:chExt cx="761760" cy="38088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5812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>
                  <a:off x="35049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35053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41907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0" name=""/>
            <p:cNvGrpSpPr/>
            <p:nvPr/>
          </p:nvGrpSpPr>
          <p:grpSpPr>
            <a:xfrm>
              <a:off x="4876560" y="4038480"/>
              <a:ext cx="762120" cy="380880"/>
              <a:chOff x="4876560" y="4038480"/>
              <a:chExt cx="762120" cy="380880"/>
            </a:xfrm>
          </p:grpSpPr>
          <p:sp>
            <p:nvSpPr>
              <p:cNvPr id="1431" name=""/>
              <p:cNvSpPr/>
              <p:nvPr/>
            </p:nvSpPr>
            <p:spPr>
              <a:xfrm>
                <a:off x="48769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2" name=""/>
              <p:cNvGrpSpPr/>
              <p:nvPr/>
            </p:nvGrpSpPr>
            <p:grpSpPr>
              <a:xfrm>
                <a:off x="4876560" y="4038480"/>
                <a:ext cx="761760" cy="380880"/>
                <a:chOff x="4876560" y="4038480"/>
                <a:chExt cx="761760" cy="38088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49528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48765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48769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55623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7" name=""/>
            <p:cNvGrpSpPr/>
            <p:nvPr/>
          </p:nvGrpSpPr>
          <p:grpSpPr>
            <a:xfrm>
              <a:off x="4190760" y="4038480"/>
              <a:ext cx="762120" cy="380880"/>
              <a:chOff x="4190760" y="4038480"/>
              <a:chExt cx="762120" cy="380880"/>
            </a:xfrm>
          </p:grpSpPr>
          <p:sp>
            <p:nvSpPr>
              <p:cNvPr id="1438" name=""/>
              <p:cNvSpPr/>
              <p:nvPr/>
            </p:nvSpPr>
            <p:spPr>
              <a:xfrm>
                <a:off x="4191120" y="40384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9" name=""/>
              <p:cNvGrpSpPr/>
              <p:nvPr/>
            </p:nvGrpSpPr>
            <p:grpSpPr>
              <a:xfrm>
                <a:off x="4190760" y="4038480"/>
                <a:ext cx="761760" cy="380880"/>
                <a:chOff x="4190760" y="4038480"/>
                <a:chExt cx="761760" cy="3808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267080" y="40384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41907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191120" y="44193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4876560" y="40384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4" name=""/>
            <p:cNvSpPr/>
            <p:nvPr/>
          </p:nvSpPr>
          <p:spPr>
            <a:xfrm>
              <a:off x="3503520" y="403848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1828080" y="34290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code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963240" y="487692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5909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876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59600" y="3200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6629400" y="4876920"/>
            <a:ext cx="1299600" cy="535680"/>
            <a:chOff x="6629400" y="4876920"/>
            <a:chExt cx="1299600" cy="535680"/>
          </a:xfrm>
        </p:grpSpPr>
        <p:sp>
          <p:nvSpPr>
            <p:cNvPr id="1453" name=""/>
            <p:cNvSpPr/>
            <p:nvPr/>
          </p:nvSpPr>
          <p:spPr>
            <a:xfrm>
              <a:off x="6629400" y="48769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629400" y="48769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629400" y="52578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629760" y="4952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7" name=""/>
          <p:cNvSpPr/>
          <p:nvPr/>
        </p:nvSpPr>
        <p:spPr>
          <a:xfrm>
            <a:off x="1440" y="259092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15372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657600" y="28195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876920" y="28195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267080" y="28195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6628320" y="2743200"/>
            <a:ext cx="1648440" cy="1267560"/>
            <a:chOff x="6628320" y="2743200"/>
            <a:chExt cx="1648440" cy="1267560"/>
          </a:xfrm>
        </p:grpSpPr>
        <p:sp>
          <p:nvSpPr>
            <p:cNvPr id="1463" name=""/>
            <p:cNvSpPr/>
            <p:nvPr/>
          </p:nvSpPr>
          <p:spPr>
            <a:xfrm>
              <a:off x="6629400" y="27432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629400" y="27432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629400" y="31244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628320" y="2819520"/>
              <a:ext cx="164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ictio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of schem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5486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733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429000" y="1981080"/>
            <a:ext cx="762120" cy="380880"/>
            <a:chOff x="3429000" y="1981080"/>
            <a:chExt cx="762120" cy="380880"/>
          </a:xfrm>
        </p:grpSpPr>
        <p:sp>
          <p:nvSpPr>
            <p:cNvPr id="1471" name=""/>
            <p:cNvSpPr/>
            <p:nvPr/>
          </p:nvSpPr>
          <p:spPr>
            <a:xfrm>
              <a:off x="34290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3429000" y="1981080"/>
              <a:ext cx="762120" cy="380880"/>
              <a:chOff x="3429000" y="1981080"/>
              <a:chExt cx="762120" cy="380880"/>
            </a:xfrm>
          </p:grpSpPr>
          <p:sp>
            <p:nvSpPr>
              <p:cNvPr id="1473" name=""/>
              <p:cNvSpPr/>
              <p:nvPr/>
            </p:nvSpPr>
            <p:spPr>
              <a:xfrm>
                <a:off x="35053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4290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4290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41148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7" name=""/>
          <p:cNvGrpSpPr/>
          <p:nvPr/>
        </p:nvGrpSpPr>
        <p:grpSpPr>
          <a:xfrm>
            <a:off x="4800600" y="1981080"/>
            <a:ext cx="762120" cy="380880"/>
            <a:chOff x="4800600" y="1981080"/>
            <a:chExt cx="762120" cy="380880"/>
          </a:xfrm>
        </p:grpSpPr>
        <p:sp>
          <p:nvSpPr>
            <p:cNvPr id="1478" name=""/>
            <p:cNvSpPr/>
            <p:nvPr/>
          </p:nvSpPr>
          <p:spPr>
            <a:xfrm>
              <a:off x="48006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4800600" y="1981080"/>
              <a:ext cx="762120" cy="380880"/>
              <a:chOff x="4800600" y="1981080"/>
              <a:chExt cx="762120" cy="380880"/>
            </a:xfrm>
          </p:grpSpPr>
          <p:sp>
            <p:nvSpPr>
              <p:cNvPr id="1480" name=""/>
              <p:cNvSpPr/>
              <p:nvPr/>
            </p:nvSpPr>
            <p:spPr>
              <a:xfrm>
                <a:off x="48769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48006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8006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54864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4" name=""/>
          <p:cNvGrpSpPr/>
          <p:nvPr/>
        </p:nvGrpSpPr>
        <p:grpSpPr>
          <a:xfrm>
            <a:off x="4114800" y="1981080"/>
            <a:ext cx="762120" cy="380880"/>
            <a:chOff x="4114800" y="1981080"/>
            <a:chExt cx="762120" cy="380880"/>
          </a:xfrm>
        </p:grpSpPr>
        <p:sp>
          <p:nvSpPr>
            <p:cNvPr id="1485" name=""/>
            <p:cNvSpPr/>
            <p:nvPr/>
          </p:nvSpPr>
          <p:spPr>
            <a:xfrm>
              <a:off x="4114800" y="19810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6" name=""/>
            <p:cNvGrpSpPr/>
            <p:nvPr/>
          </p:nvGrpSpPr>
          <p:grpSpPr>
            <a:xfrm>
              <a:off x="4114800" y="1981080"/>
              <a:ext cx="762120" cy="380880"/>
              <a:chOff x="4114800" y="1981080"/>
              <a:chExt cx="762120" cy="380880"/>
            </a:xfrm>
          </p:grpSpPr>
          <p:sp>
            <p:nvSpPr>
              <p:cNvPr id="1487" name=""/>
              <p:cNvSpPr/>
              <p:nvPr/>
            </p:nvSpPr>
            <p:spPr>
              <a:xfrm>
                <a:off x="4191120" y="1981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41148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114800" y="2361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V="1">
                <a:off x="4800600" y="19810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1" name=""/>
          <p:cNvSpPr/>
          <p:nvPr/>
        </p:nvSpPr>
        <p:spPr>
          <a:xfrm>
            <a:off x="3507120" y="1981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93640" y="198108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878360" y="1981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580560" y="160020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ta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otstra</a:t>
            </a: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73392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7200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5720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0" name=""/>
          <p:cNvGrpSpPr/>
          <p:nvPr/>
        </p:nvGrpSpPr>
        <p:grpSpPr>
          <a:xfrm>
            <a:off x="2133720" y="4876920"/>
            <a:ext cx="457200" cy="609120"/>
            <a:chOff x="2133720" y="4876920"/>
            <a:chExt cx="457200" cy="609120"/>
          </a:xfrm>
        </p:grpSpPr>
        <p:sp>
          <p:nvSpPr>
            <p:cNvPr id="1501" name=""/>
            <p:cNvSpPr/>
            <p:nvPr/>
          </p:nvSpPr>
          <p:spPr>
            <a:xfrm>
              <a:off x="2210040" y="4876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33720" y="4952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3" name=""/>
            <p:cNvGrpSpPr/>
            <p:nvPr/>
          </p:nvGrpSpPr>
          <p:grpSpPr>
            <a:xfrm>
              <a:off x="2133720" y="5333400"/>
              <a:ext cx="457200" cy="152640"/>
              <a:chOff x="2133720" y="5333400"/>
              <a:chExt cx="457200" cy="152640"/>
            </a:xfrm>
          </p:grpSpPr>
          <p:sp>
            <p:nvSpPr>
              <p:cNvPr id="1504" name=""/>
              <p:cNvSpPr/>
              <p:nvPr/>
            </p:nvSpPr>
            <p:spPr>
              <a:xfrm>
                <a:off x="2133720" y="5486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V="1">
                <a:off x="213372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2514600" y="5333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221004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4952880" y="487692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43400" y="487692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3503520" y="4267080"/>
            <a:ext cx="2189520" cy="459720"/>
            <a:chOff x="3503520" y="4267080"/>
            <a:chExt cx="2189520" cy="459720"/>
          </a:xfrm>
        </p:grpSpPr>
        <p:grpSp>
          <p:nvGrpSpPr>
            <p:cNvPr id="1511" name=""/>
            <p:cNvGrpSpPr/>
            <p:nvPr/>
          </p:nvGrpSpPr>
          <p:grpSpPr>
            <a:xfrm>
              <a:off x="3504960" y="4267080"/>
              <a:ext cx="762120" cy="380880"/>
              <a:chOff x="3504960" y="4267080"/>
              <a:chExt cx="762120" cy="380880"/>
            </a:xfrm>
          </p:grpSpPr>
          <p:sp>
            <p:nvSpPr>
              <p:cNvPr id="1512" name=""/>
              <p:cNvSpPr/>
              <p:nvPr/>
            </p:nvSpPr>
            <p:spPr>
              <a:xfrm>
                <a:off x="35053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3" name=""/>
              <p:cNvGrpSpPr/>
              <p:nvPr/>
            </p:nvGrpSpPr>
            <p:grpSpPr>
              <a:xfrm>
                <a:off x="3504960" y="4267080"/>
                <a:ext cx="761760" cy="380880"/>
                <a:chOff x="3504960" y="4267080"/>
                <a:chExt cx="761760" cy="380880"/>
              </a:xfrm>
            </p:grpSpPr>
            <p:sp>
              <p:nvSpPr>
                <p:cNvPr id="1514" name=""/>
                <p:cNvSpPr/>
                <p:nvPr/>
              </p:nvSpPr>
              <p:spPr>
                <a:xfrm>
                  <a:off x="35812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35049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35053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V="1">
                  <a:off x="41907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76560" y="4267080"/>
              <a:ext cx="762120" cy="380880"/>
              <a:chOff x="4876560" y="4267080"/>
              <a:chExt cx="762120" cy="38088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769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4876560" y="4267080"/>
                <a:ext cx="761760" cy="380880"/>
                <a:chOff x="4876560" y="4267080"/>
                <a:chExt cx="761760" cy="3808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9528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>
                  <a:off x="48765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48769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V="1">
                  <a:off x="55623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5" name=""/>
            <p:cNvGrpSpPr/>
            <p:nvPr/>
          </p:nvGrpSpPr>
          <p:grpSpPr>
            <a:xfrm>
              <a:off x="4190760" y="4267080"/>
              <a:ext cx="762120" cy="380880"/>
              <a:chOff x="4190760" y="4267080"/>
              <a:chExt cx="762120" cy="380880"/>
            </a:xfrm>
          </p:grpSpPr>
          <p:sp>
            <p:nvSpPr>
              <p:cNvPr id="1526" name=""/>
              <p:cNvSpPr/>
              <p:nvPr/>
            </p:nvSpPr>
            <p:spPr>
              <a:xfrm>
                <a:off x="4191120" y="426708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4190760" y="4267080"/>
                <a:ext cx="761760" cy="380880"/>
                <a:chOff x="4190760" y="4267080"/>
                <a:chExt cx="761760" cy="3808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4267080" y="42670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41907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4191120" y="464796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V="1">
                  <a:off x="4876560" y="426708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2" name=""/>
            <p:cNvSpPr/>
            <p:nvPr/>
          </p:nvSpPr>
          <p:spPr>
            <a:xfrm>
              <a:off x="3503520" y="426708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962520" y="487692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259056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H="1">
            <a:off x="548604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6629400" y="4876920"/>
            <a:ext cx="1299600" cy="535680"/>
            <a:chOff x="6629400" y="4876920"/>
            <a:chExt cx="1299600" cy="535680"/>
          </a:xfrm>
        </p:grpSpPr>
        <p:sp>
          <p:nvSpPr>
            <p:cNvPr id="1537" name=""/>
            <p:cNvSpPr/>
            <p:nvPr/>
          </p:nvSpPr>
          <p:spPr>
            <a:xfrm>
              <a:off x="6629400" y="4876920"/>
              <a:ext cx="380880" cy="456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29400" y="48769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29400" y="5257800"/>
              <a:ext cx="380880" cy="756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629760" y="4952880"/>
              <a:ext cx="12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>
            <a:off x="1440" y="350532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440" y="48769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733920" y="365760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0" y="2819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2133720" y="3657600"/>
            <a:ext cx="457200" cy="609120"/>
            <a:chOff x="2133720" y="3657600"/>
            <a:chExt cx="457200" cy="609120"/>
          </a:xfrm>
        </p:grpSpPr>
        <p:sp>
          <p:nvSpPr>
            <p:cNvPr id="1547" name=""/>
            <p:cNvSpPr/>
            <p:nvPr/>
          </p:nvSpPr>
          <p:spPr>
            <a:xfrm>
              <a:off x="2210040" y="365760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33720" y="373356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2133720" y="4114080"/>
              <a:ext cx="457200" cy="152640"/>
              <a:chOff x="2133720" y="4114080"/>
              <a:chExt cx="457200" cy="152640"/>
            </a:xfrm>
          </p:grpSpPr>
          <p:sp>
            <p:nvSpPr>
              <p:cNvPr id="1550" name=""/>
              <p:cNvSpPr/>
              <p:nvPr/>
            </p:nvSpPr>
            <p:spPr>
              <a:xfrm>
                <a:off x="2133720" y="42667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2133720" y="41140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2514600" y="411408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3" name=""/>
            <p:cNvSpPr/>
            <p:nvPr/>
          </p:nvSpPr>
          <p:spPr>
            <a:xfrm>
              <a:off x="2210040" y="41907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4952880" y="3657600"/>
            <a:ext cx="60984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343400" y="3657600"/>
            <a:ext cx="60948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3503520" y="3048120"/>
            <a:ext cx="2189520" cy="459720"/>
            <a:chOff x="3503520" y="3048120"/>
            <a:chExt cx="2189520" cy="459720"/>
          </a:xfrm>
        </p:grpSpPr>
        <p:grpSp>
          <p:nvGrpSpPr>
            <p:cNvPr id="1557" name=""/>
            <p:cNvGrpSpPr/>
            <p:nvPr/>
          </p:nvGrpSpPr>
          <p:grpSpPr>
            <a:xfrm>
              <a:off x="3504960" y="3048120"/>
              <a:ext cx="762120" cy="380880"/>
              <a:chOff x="3504960" y="3048120"/>
              <a:chExt cx="762120" cy="380880"/>
            </a:xfrm>
          </p:grpSpPr>
          <p:sp>
            <p:nvSpPr>
              <p:cNvPr id="1558" name=""/>
              <p:cNvSpPr/>
              <p:nvPr/>
            </p:nvSpPr>
            <p:spPr>
              <a:xfrm>
                <a:off x="35053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9" name=""/>
              <p:cNvGrpSpPr/>
              <p:nvPr/>
            </p:nvGrpSpPr>
            <p:grpSpPr>
              <a:xfrm>
                <a:off x="3504960" y="3048120"/>
                <a:ext cx="761760" cy="380880"/>
                <a:chOff x="3504960" y="3048120"/>
                <a:chExt cx="761760" cy="3808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35812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35049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35053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41907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4" name=""/>
            <p:cNvGrpSpPr/>
            <p:nvPr/>
          </p:nvGrpSpPr>
          <p:grpSpPr>
            <a:xfrm>
              <a:off x="4876560" y="3048120"/>
              <a:ext cx="762120" cy="380880"/>
              <a:chOff x="4876560" y="3048120"/>
              <a:chExt cx="762120" cy="380880"/>
            </a:xfrm>
          </p:grpSpPr>
          <p:sp>
            <p:nvSpPr>
              <p:cNvPr id="1565" name=""/>
              <p:cNvSpPr/>
              <p:nvPr/>
            </p:nvSpPr>
            <p:spPr>
              <a:xfrm>
                <a:off x="48769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876560" y="3048120"/>
                <a:ext cx="761760" cy="380880"/>
                <a:chOff x="4876560" y="3048120"/>
                <a:chExt cx="761760" cy="3808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9528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48765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48769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55623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1" name=""/>
            <p:cNvGrpSpPr/>
            <p:nvPr/>
          </p:nvGrpSpPr>
          <p:grpSpPr>
            <a:xfrm>
              <a:off x="4190760" y="3048120"/>
              <a:ext cx="762120" cy="380880"/>
              <a:chOff x="4190760" y="3048120"/>
              <a:chExt cx="762120" cy="380880"/>
            </a:xfrm>
          </p:grpSpPr>
          <p:sp>
            <p:nvSpPr>
              <p:cNvPr id="1572" name=""/>
              <p:cNvSpPr/>
              <p:nvPr/>
            </p:nvSpPr>
            <p:spPr>
              <a:xfrm>
                <a:off x="4191120" y="304812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3" name=""/>
              <p:cNvGrpSpPr/>
              <p:nvPr/>
            </p:nvGrpSpPr>
            <p:grpSpPr>
              <a:xfrm>
                <a:off x="4190760" y="3048120"/>
                <a:ext cx="761760" cy="380880"/>
                <a:chOff x="4190760" y="3048120"/>
                <a:chExt cx="761760" cy="38088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4267080" y="304812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41907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4191120" y="34290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4876560" y="304812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8" name=""/>
            <p:cNvSpPr/>
            <p:nvPr/>
          </p:nvSpPr>
          <p:spPr>
            <a:xfrm>
              <a:off x="3503520" y="304812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3962520" y="365760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59056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54860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2" name=""/>
          <p:cNvGrpSpPr/>
          <p:nvPr/>
        </p:nvGrpSpPr>
        <p:grpSpPr>
          <a:xfrm>
            <a:off x="6629040" y="3657600"/>
            <a:ext cx="1486800" cy="901800"/>
            <a:chOff x="6629040" y="3657600"/>
            <a:chExt cx="1486800" cy="901800"/>
          </a:xfrm>
        </p:grpSpPr>
        <p:sp>
          <p:nvSpPr>
            <p:cNvPr id="1583" name=""/>
            <p:cNvSpPr/>
            <p:nvPr/>
          </p:nvSpPr>
          <p:spPr>
            <a:xfrm>
              <a:off x="6629400" y="3657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629400" y="3657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629400" y="4038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629040" y="3733920"/>
              <a:ext cx="14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ictio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7" name=""/>
          <p:cNvSpPr/>
          <p:nvPr/>
        </p:nvSpPr>
        <p:spPr>
          <a:xfrm>
            <a:off x="3733920" y="2438280"/>
            <a:ext cx="609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5720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57200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2133720" y="2438280"/>
            <a:ext cx="457200" cy="609480"/>
            <a:chOff x="2133720" y="2438280"/>
            <a:chExt cx="457200" cy="609480"/>
          </a:xfrm>
        </p:grpSpPr>
        <p:sp>
          <p:nvSpPr>
            <p:cNvPr id="1591" name=""/>
            <p:cNvSpPr/>
            <p:nvPr/>
          </p:nvSpPr>
          <p:spPr>
            <a:xfrm>
              <a:off x="2210040" y="2438280"/>
              <a:ext cx="3808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133720" y="2514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2133720" y="2895120"/>
              <a:ext cx="457200" cy="152640"/>
              <a:chOff x="2133720" y="2895120"/>
              <a:chExt cx="457200" cy="152640"/>
            </a:xfrm>
          </p:grpSpPr>
          <p:sp>
            <p:nvSpPr>
              <p:cNvPr id="1594" name=""/>
              <p:cNvSpPr/>
              <p:nvPr/>
            </p:nvSpPr>
            <p:spPr>
              <a:xfrm>
                <a:off x="2133720" y="30477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2133720" y="2895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2514600" y="28951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7" name=""/>
            <p:cNvSpPr/>
            <p:nvPr/>
          </p:nvSpPr>
          <p:spPr>
            <a:xfrm>
              <a:off x="2210040" y="2971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"/>
          <p:cNvSpPr/>
          <p:nvPr/>
        </p:nvSpPr>
        <p:spPr>
          <a:xfrm>
            <a:off x="4952880" y="2438280"/>
            <a:ext cx="6098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343400" y="2438280"/>
            <a:ext cx="609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3503520" y="1828800"/>
            <a:ext cx="2189520" cy="459720"/>
            <a:chOff x="3503520" y="1828800"/>
            <a:chExt cx="2189520" cy="459720"/>
          </a:xfrm>
        </p:grpSpPr>
        <p:grpSp>
          <p:nvGrpSpPr>
            <p:cNvPr id="1601" name=""/>
            <p:cNvGrpSpPr/>
            <p:nvPr/>
          </p:nvGrpSpPr>
          <p:grpSpPr>
            <a:xfrm>
              <a:off x="3504960" y="1828800"/>
              <a:ext cx="762120" cy="380880"/>
              <a:chOff x="3504960" y="1828800"/>
              <a:chExt cx="762120" cy="380880"/>
            </a:xfrm>
          </p:grpSpPr>
          <p:sp>
            <p:nvSpPr>
              <p:cNvPr id="1602" name=""/>
              <p:cNvSpPr/>
              <p:nvPr/>
            </p:nvSpPr>
            <p:spPr>
              <a:xfrm>
                <a:off x="35053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3504960" y="1828800"/>
                <a:ext cx="761760" cy="380880"/>
                <a:chOff x="3504960" y="1828800"/>
                <a:chExt cx="761760" cy="38088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35812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35049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5053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41907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8" name=""/>
            <p:cNvGrpSpPr/>
            <p:nvPr/>
          </p:nvGrpSpPr>
          <p:grpSpPr>
            <a:xfrm>
              <a:off x="4876560" y="1828800"/>
              <a:ext cx="762120" cy="380880"/>
              <a:chOff x="4876560" y="1828800"/>
              <a:chExt cx="762120" cy="380880"/>
            </a:xfrm>
          </p:grpSpPr>
          <p:sp>
            <p:nvSpPr>
              <p:cNvPr id="1609" name=""/>
              <p:cNvSpPr/>
              <p:nvPr/>
            </p:nvSpPr>
            <p:spPr>
              <a:xfrm>
                <a:off x="48769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0" name=""/>
              <p:cNvGrpSpPr/>
              <p:nvPr/>
            </p:nvGrpSpPr>
            <p:grpSpPr>
              <a:xfrm>
                <a:off x="4876560" y="1828800"/>
                <a:ext cx="761760" cy="380880"/>
                <a:chOff x="4876560" y="1828800"/>
                <a:chExt cx="761760" cy="380880"/>
              </a:xfrm>
            </p:grpSpPr>
            <p:sp>
              <p:nvSpPr>
                <p:cNvPr id="1611" name=""/>
                <p:cNvSpPr/>
                <p:nvPr/>
              </p:nvSpPr>
              <p:spPr>
                <a:xfrm>
                  <a:off x="49528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48765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48769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V="1">
                  <a:off x="55623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5" name=""/>
            <p:cNvGrpSpPr/>
            <p:nvPr/>
          </p:nvGrpSpPr>
          <p:grpSpPr>
            <a:xfrm>
              <a:off x="4190760" y="1828800"/>
              <a:ext cx="762120" cy="380880"/>
              <a:chOff x="4190760" y="1828800"/>
              <a:chExt cx="762120" cy="380880"/>
            </a:xfrm>
          </p:grpSpPr>
          <p:sp>
            <p:nvSpPr>
              <p:cNvPr id="1616" name=""/>
              <p:cNvSpPr/>
              <p:nvPr/>
            </p:nvSpPr>
            <p:spPr>
              <a:xfrm>
                <a:off x="4191120" y="1828800"/>
                <a:ext cx="761760" cy="38088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7" name=""/>
              <p:cNvGrpSpPr/>
              <p:nvPr/>
            </p:nvGrpSpPr>
            <p:grpSpPr>
              <a:xfrm>
                <a:off x="4190760" y="1828800"/>
                <a:ext cx="761760" cy="380880"/>
                <a:chOff x="4190760" y="1828800"/>
                <a:chExt cx="761760" cy="38088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4267080" y="18288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41907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4191120" y="220968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V="1">
                  <a:off x="4876560" y="1828800"/>
                  <a:ext cx="759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2" name=""/>
            <p:cNvSpPr/>
            <p:nvPr/>
          </p:nvSpPr>
          <p:spPr>
            <a:xfrm>
              <a:off x="3503520" y="18288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Executable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3962520" y="2438280"/>
            <a:ext cx="13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 flipH="1">
            <a:off x="259056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548604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6" name=""/>
          <p:cNvGrpSpPr/>
          <p:nvPr/>
        </p:nvGrpSpPr>
        <p:grpSpPr>
          <a:xfrm>
            <a:off x="6627240" y="2438280"/>
            <a:ext cx="1742760" cy="901800"/>
            <a:chOff x="6627240" y="2438280"/>
            <a:chExt cx="1742760" cy="901800"/>
          </a:xfrm>
        </p:grpSpPr>
        <p:sp>
          <p:nvSpPr>
            <p:cNvPr id="1627" name=""/>
            <p:cNvSpPr/>
            <p:nvPr/>
          </p:nvSpPr>
          <p:spPr>
            <a:xfrm>
              <a:off x="6629400" y="243828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29400" y="243828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9400" y="281952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27240" y="2514600"/>
              <a:ext cx="174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To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-360" y="25146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ool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ovide a generic architecture of on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Not (p) and (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) within on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ovide a methodological basis for architecture specif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appings between data (format), not function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The Schema Cu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324480" y="18288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2209680" y="2743200"/>
            <a:ext cx="3247560" cy="3202920"/>
            <a:chOff x="2209680" y="2743200"/>
            <a:chExt cx="3247560" cy="3202920"/>
          </a:xfrm>
        </p:grpSpPr>
        <p:grpSp>
          <p:nvGrpSpPr>
            <p:cNvPr id="1636" name=""/>
            <p:cNvGrpSpPr/>
            <p:nvPr/>
          </p:nvGrpSpPr>
          <p:grpSpPr>
            <a:xfrm>
              <a:off x="2209680" y="5486400"/>
              <a:ext cx="3247560" cy="459720"/>
              <a:chOff x="2209680" y="5486400"/>
              <a:chExt cx="3247560" cy="459720"/>
            </a:xfrm>
          </p:grpSpPr>
          <p:sp>
            <p:nvSpPr>
              <p:cNvPr id="1637" name=""/>
              <p:cNvSpPr/>
              <p:nvPr/>
            </p:nvSpPr>
            <p:spPr>
              <a:xfrm>
                <a:off x="2209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2666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1240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5812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40384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4495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952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22111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2668680" y="54864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5834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1255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44978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0399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955040" y="54864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1" name=""/>
            <p:cNvGrpSpPr/>
            <p:nvPr/>
          </p:nvGrpSpPr>
          <p:grpSpPr>
            <a:xfrm>
              <a:off x="2209680" y="3200400"/>
              <a:ext cx="3200400" cy="457200"/>
              <a:chOff x="2209680" y="3200400"/>
              <a:chExt cx="3200400" cy="457200"/>
            </a:xfrm>
          </p:grpSpPr>
          <p:sp>
            <p:nvSpPr>
              <p:cNvPr id="1652" name=""/>
              <p:cNvSpPr/>
              <p:nvPr/>
            </p:nvSpPr>
            <p:spPr>
              <a:xfrm>
                <a:off x="2209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2666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1240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5812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0384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495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4952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9" name=""/>
            <p:cNvGrpSpPr/>
            <p:nvPr/>
          </p:nvGrpSpPr>
          <p:grpSpPr>
            <a:xfrm>
              <a:off x="2209680" y="3657600"/>
              <a:ext cx="3200400" cy="457200"/>
              <a:chOff x="2209680" y="3657600"/>
              <a:chExt cx="3200400" cy="457200"/>
            </a:xfrm>
          </p:grpSpPr>
          <p:sp>
            <p:nvSpPr>
              <p:cNvPr id="1660" name=""/>
              <p:cNvSpPr/>
              <p:nvPr/>
            </p:nvSpPr>
            <p:spPr>
              <a:xfrm>
                <a:off x="2209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666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1240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5812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40384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495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4952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2209680" y="4114800"/>
              <a:ext cx="3200400" cy="457200"/>
              <a:chOff x="2209680" y="4114800"/>
              <a:chExt cx="3200400" cy="457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2209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666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1240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5812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40384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495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5" name=""/>
            <p:cNvGrpSpPr/>
            <p:nvPr/>
          </p:nvGrpSpPr>
          <p:grpSpPr>
            <a:xfrm>
              <a:off x="2209680" y="4572000"/>
              <a:ext cx="3200400" cy="457200"/>
              <a:chOff x="2209680" y="4572000"/>
              <a:chExt cx="3200400" cy="457200"/>
            </a:xfrm>
          </p:grpSpPr>
          <p:sp>
            <p:nvSpPr>
              <p:cNvPr id="1676" name=""/>
              <p:cNvSpPr/>
              <p:nvPr/>
            </p:nvSpPr>
            <p:spPr>
              <a:xfrm>
                <a:off x="2209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666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1240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5812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0384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495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952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209680" y="5029200"/>
              <a:ext cx="3200400" cy="457200"/>
              <a:chOff x="2209680" y="5029200"/>
              <a:chExt cx="3200400" cy="457200"/>
            </a:xfrm>
          </p:grpSpPr>
          <p:sp>
            <p:nvSpPr>
              <p:cNvPr id="1684" name=""/>
              <p:cNvSpPr/>
              <p:nvPr/>
            </p:nvSpPr>
            <p:spPr>
              <a:xfrm>
                <a:off x="2209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666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1240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5812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0384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495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952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"/>
            <p:cNvSpPr/>
            <p:nvPr/>
          </p:nvSpPr>
          <p:spPr>
            <a:xfrm>
              <a:off x="2209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666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1240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12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0384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495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952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2104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668320" y="2743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827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1248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971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0392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954320" y="274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 flipV="1">
            <a:off x="5410080" y="18288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410080" y="220968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 flipV="1">
            <a:off x="5410080" y="259056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V="1">
            <a:off x="5410080" y="297144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5410080" y="335232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5410080" y="37339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5410080" y="41148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5410080" y="4495680"/>
            <a:ext cx="91440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324480" y="1828800"/>
            <a:ext cx="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5562720" y="25909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5715000" y="2437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586728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6019920" y="213336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6172200" y="19810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6248520" y="1905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4952880" y="1828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495680" y="18288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4038480" y="1828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3581280" y="18288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3124080" y="18288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2666880" y="18288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2209680" y="182880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3657600" y="1828800"/>
            <a:ext cx="2666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H="1">
            <a:off x="2437920" y="25909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H="1">
            <a:off x="2666520" y="24382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H="1">
            <a:off x="2971440" y="2286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H="1">
            <a:off x="3200400" y="2133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335268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581280" y="1905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749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752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629400" y="5943600"/>
            <a:ext cx="380880" cy="533520"/>
            <a:chOff x="6629400" y="5943600"/>
            <a:chExt cx="380880" cy="533520"/>
          </a:xfrm>
        </p:grpSpPr>
        <p:sp>
          <p:nvSpPr>
            <p:cNvPr id="1757" name=""/>
            <p:cNvSpPr/>
            <p:nvPr/>
          </p:nvSpPr>
          <p:spPr>
            <a:xfrm>
              <a:off x="6629400" y="59436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629400" y="59436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629400" y="63248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629400" y="601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209680" y="5486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133720" y="274320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136800" y="56037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d us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37880" y="2251080"/>
            <a:ext cx="215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ystem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248520" y="19051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172200" y="19810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019920" y="21337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715000" y="2438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562720" y="2590920"/>
            <a:ext cx="457200" cy="30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487840" y="259092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553080" y="2286000"/>
            <a:ext cx="16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eveloper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209680" y="5486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6668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1240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5812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0384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495680" y="5486400"/>
            <a:ext cx="4572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4952880" y="5486400"/>
            <a:ext cx="45720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22111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2669040" y="54864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5834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1255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497840" y="54864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039920" y="5486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955040" y="5486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2209680" y="3200400"/>
            <a:ext cx="3200400" cy="457200"/>
            <a:chOff x="2209680" y="3200400"/>
            <a:chExt cx="3200400" cy="457200"/>
          </a:xfrm>
        </p:grpSpPr>
        <p:sp>
          <p:nvSpPr>
            <p:cNvPr id="1791" name=""/>
            <p:cNvSpPr/>
            <p:nvPr/>
          </p:nvSpPr>
          <p:spPr>
            <a:xfrm>
              <a:off x="22096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6668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240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5812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0384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4956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952880" y="3200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2209680" y="3657600"/>
            <a:ext cx="3200400" cy="457200"/>
            <a:chOff x="2209680" y="3657600"/>
            <a:chExt cx="3200400" cy="457200"/>
          </a:xfrm>
        </p:grpSpPr>
        <p:sp>
          <p:nvSpPr>
            <p:cNvPr id="1799" name=""/>
            <p:cNvSpPr/>
            <p:nvPr/>
          </p:nvSpPr>
          <p:spPr>
            <a:xfrm>
              <a:off x="22096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6668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240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5812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0384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4956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5288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2209680" y="4114800"/>
            <a:ext cx="3200400" cy="457200"/>
            <a:chOff x="2209680" y="4114800"/>
            <a:chExt cx="3200400" cy="457200"/>
          </a:xfrm>
        </p:grpSpPr>
        <p:sp>
          <p:nvSpPr>
            <p:cNvPr id="1807" name=""/>
            <p:cNvSpPr/>
            <p:nvPr/>
          </p:nvSpPr>
          <p:spPr>
            <a:xfrm>
              <a:off x="22096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6668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1240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5812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0384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956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5288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2209680" y="4572000"/>
            <a:ext cx="3200400" cy="457200"/>
            <a:chOff x="2209680" y="4572000"/>
            <a:chExt cx="3200400" cy="457200"/>
          </a:xfrm>
        </p:grpSpPr>
        <p:sp>
          <p:nvSpPr>
            <p:cNvPr id="1815" name=""/>
            <p:cNvSpPr/>
            <p:nvPr/>
          </p:nvSpPr>
          <p:spPr>
            <a:xfrm>
              <a:off x="22096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6668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1240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812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0384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956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95288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2209680" y="5029200"/>
            <a:ext cx="3200400" cy="457200"/>
            <a:chOff x="2209680" y="5029200"/>
            <a:chExt cx="3200400" cy="457200"/>
          </a:xfrm>
        </p:grpSpPr>
        <p:sp>
          <p:nvSpPr>
            <p:cNvPr id="1823" name=""/>
            <p:cNvSpPr/>
            <p:nvPr/>
          </p:nvSpPr>
          <p:spPr>
            <a:xfrm>
              <a:off x="22096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6668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1240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5812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0384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4956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5288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22096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6668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1240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812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0384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956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952880" y="2743200"/>
            <a:ext cx="457200" cy="457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2107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68320" y="27432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58308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1251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97480" y="2743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039560" y="2743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954320" y="27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859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1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862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6" name=""/>
          <p:cNvSpPr/>
          <p:nvPr/>
        </p:nvSpPr>
        <p:spPr>
          <a:xfrm>
            <a:off x="2209680" y="60958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1144800" y="548640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X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717520" y="5486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400" spc="-1" strike="noStrike">
                <a:solidFill>
                  <a:srgbClr val="000000"/>
                </a:solidFill>
                <a:latin typeface="Times New Roman"/>
              </a:rPr>
              <a:t>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553080" y="6172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 flipH="1">
            <a:off x="7086600" y="6172200"/>
            <a:ext cx="763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086600" y="6248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983880" y="22096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resentation of dictionary data to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133720" y="274320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905120" y="571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>
            <a:off x="540972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95520" y="3581280"/>
            <a:ext cx="26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 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re placed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wo dimensin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/>
          <p:nvPr/>
        </p:nvSpPr>
        <p:spPr>
          <a:xfrm>
            <a:off x="1676520" y="2590920"/>
            <a:ext cx="4343400" cy="7617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Reg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97480" y="45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2209680" y="2743200"/>
            <a:ext cx="3247560" cy="3202920"/>
            <a:chOff x="2209680" y="2743200"/>
            <a:chExt cx="3247560" cy="3202920"/>
          </a:xfrm>
        </p:grpSpPr>
        <p:grpSp>
          <p:nvGrpSpPr>
            <p:cNvPr id="1881" name=""/>
            <p:cNvGrpSpPr/>
            <p:nvPr/>
          </p:nvGrpSpPr>
          <p:grpSpPr>
            <a:xfrm>
              <a:off x="2209680" y="5486400"/>
              <a:ext cx="3247560" cy="459720"/>
              <a:chOff x="2209680" y="5486400"/>
              <a:chExt cx="3247560" cy="459720"/>
            </a:xfrm>
          </p:grpSpPr>
          <p:sp>
            <p:nvSpPr>
              <p:cNvPr id="1882" name=""/>
              <p:cNvSpPr/>
              <p:nvPr/>
            </p:nvSpPr>
            <p:spPr>
              <a:xfrm>
                <a:off x="2209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2666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1240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5812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40384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4956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952880" y="5486400"/>
                <a:ext cx="457200" cy="457200"/>
              </a:xfrm>
              <a:prstGeom prst="rect">
                <a:avLst/>
              </a:prstGeom>
              <a:solidFill>
                <a:srgbClr val="99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2111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668680" y="54864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5834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1255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497840" y="5486400"/>
                <a:ext cx="55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039920" y="54864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4955040" y="54864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b-NO" sz="2400" spc="-1" strike="noStrike">
                    <a:solidFill>
                      <a:srgbClr val="000000"/>
                    </a:solidFill>
                    <a:latin typeface="Times New Roman"/>
                  </a:rPr>
                  <a:t>p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2209680" y="3200400"/>
              <a:ext cx="3200400" cy="457200"/>
              <a:chOff x="2209680" y="3200400"/>
              <a:chExt cx="3200400" cy="457200"/>
            </a:xfrm>
          </p:grpSpPr>
          <p:sp>
            <p:nvSpPr>
              <p:cNvPr id="1897" name=""/>
              <p:cNvSpPr/>
              <p:nvPr/>
            </p:nvSpPr>
            <p:spPr>
              <a:xfrm>
                <a:off x="2209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666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1240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5812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0384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44956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952880" y="32004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2209680" y="3657600"/>
              <a:ext cx="3200400" cy="457200"/>
              <a:chOff x="2209680" y="3657600"/>
              <a:chExt cx="3200400" cy="457200"/>
            </a:xfrm>
          </p:grpSpPr>
          <p:sp>
            <p:nvSpPr>
              <p:cNvPr id="1905" name=""/>
              <p:cNvSpPr/>
              <p:nvPr/>
            </p:nvSpPr>
            <p:spPr>
              <a:xfrm>
                <a:off x="2209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666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1240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5812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0384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4956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4952880" y="36576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2209680" y="4114800"/>
              <a:ext cx="3200400" cy="457200"/>
              <a:chOff x="2209680" y="4114800"/>
              <a:chExt cx="3200400" cy="457200"/>
            </a:xfrm>
          </p:grpSpPr>
          <p:sp>
            <p:nvSpPr>
              <p:cNvPr id="1913" name=""/>
              <p:cNvSpPr/>
              <p:nvPr/>
            </p:nvSpPr>
            <p:spPr>
              <a:xfrm>
                <a:off x="2209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666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1240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5812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40384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44956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2209680" y="4572000"/>
              <a:ext cx="3200400" cy="457200"/>
              <a:chOff x="2209680" y="4572000"/>
              <a:chExt cx="3200400" cy="457200"/>
            </a:xfrm>
          </p:grpSpPr>
          <p:sp>
            <p:nvSpPr>
              <p:cNvPr id="1921" name=""/>
              <p:cNvSpPr/>
              <p:nvPr/>
            </p:nvSpPr>
            <p:spPr>
              <a:xfrm>
                <a:off x="2209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666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1240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5812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0384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4956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952880" y="45720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2209680" y="5029200"/>
              <a:ext cx="3200400" cy="457200"/>
              <a:chOff x="2209680" y="5029200"/>
              <a:chExt cx="3200400" cy="457200"/>
            </a:xfrm>
          </p:grpSpPr>
          <p:sp>
            <p:nvSpPr>
              <p:cNvPr id="1929" name=""/>
              <p:cNvSpPr/>
              <p:nvPr/>
            </p:nvSpPr>
            <p:spPr>
              <a:xfrm>
                <a:off x="2209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666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1240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5812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0384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44956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4952880" y="5029200"/>
                <a:ext cx="45720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6" name=""/>
            <p:cNvSpPr/>
            <p:nvPr/>
          </p:nvSpPr>
          <p:spPr>
            <a:xfrm>
              <a:off x="2209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666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240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5812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0384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4956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952880" y="2743200"/>
              <a:ext cx="457200" cy="4572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2104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668320" y="27432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27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1248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497120" y="274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39200" y="274320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954320" y="27432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b-NO" sz="24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2211120" y="50292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210760" y="4572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211120" y="4114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221076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211120" y="32004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066680" y="6248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2209680" y="6172200"/>
            <a:ext cx="320040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2438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2895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8098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267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7242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1814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352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4" name=""/>
          <p:cNvGrpSpPr/>
          <p:nvPr/>
        </p:nvGrpSpPr>
        <p:grpSpPr>
          <a:xfrm>
            <a:off x="609480" y="6019920"/>
            <a:ext cx="457200" cy="609120"/>
            <a:chOff x="609480" y="6019920"/>
            <a:chExt cx="457200" cy="609120"/>
          </a:xfrm>
        </p:grpSpPr>
        <p:sp>
          <p:nvSpPr>
            <p:cNvPr id="1965" name=""/>
            <p:cNvSpPr/>
            <p:nvPr/>
          </p:nvSpPr>
          <p:spPr>
            <a:xfrm>
              <a:off x="685800" y="60199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9480" y="60958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609480" y="6476400"/>
              <a:ext cx="457200" cy="152640"/>
              <a:chOff x="609480" y="6476400"/>
              <a:chExt cx="457200" cy="152640"/>
            </a:xfrm>
          </p:grpSpPr>
          <p:sp>
            <p:nvSpPr>
              <p:cNvPr id="1968" name=""/>
              <p:cNvSpPr/>
              <p:nvPr/>
            </p:nvSpPr>
            <p:spPr>
              <a:xfrm>
                <a:off x="609480" y="66290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V="1">
                <a:off x="60948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990360" y="64764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1" name=""/>
            <p:cNvSpPr/>
            <p:nvPr/>
          </p:nvSpPr>
          <p:spPr>
            <a:xfrm>
              <a:off x="685800" y="65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2209680" y="60958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553080" y="6172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H="1">
            <a:off x="7086600" y="6172200"/>
            <a:ext cx="763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7086600" y="6248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020280" y="2666880"/>
            <a:ext cx="3052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or the seven 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nd mappings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different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or different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Approaches to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Data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Precedence grap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Data trans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Usag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914400" y="2895480"/>
            <a:ext cx="266688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066680" y="3048120"/>
            <a:ext cx="2362320" cy="2209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486400" y="3276720"/>
            <a:ext cx="23623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H="1" flipV="1">
            <a:off x="5486400" y="3352680"/>
            <a:ext cx="228600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5029200" y="3048120"/>
            <a:ext cx="457200" cy="609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715000" y="3124080"/>
            <a:ext cx="1905120" cy="190512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715000" y="41148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62940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6172200" y="3581280"/>
            <a:ext cx="990720" cy="990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5029200" y="4648320"/>
            <a:ext cx="457200" cy="609120"/>
            <a:chOff x="5029200" y="4648320"/>
            <a:chExt cx="457200" cy="609120"/>
          </a:xfrm>
        </p:grpSpPr>
        <p:sp>
          <p:nvSpPr>
            <p:cNvPr id="1990" name=""/>
            <p:cNvSpPr/>
            <p:nvPr/>
          </p:nvSpPr>
          <p:spPr>
            <a:xfrm>
              <a:off x="5105520" y="4648320"/>
              <a:ext cx="38088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029200" y="472428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5029200" y="5104800"/>
              <a:ext cx="457200" cy="152640"/>
              <a:chOff x="5029200" y="5104800"/>
              <a:chExt cx="457200" cy="152640"/>
            </a:xfrm>
          </p:grpSpPr>
          <p:sp>
            <p:nvSpPr>
              <p:cNvPr id="1993" name=""/>
              <p:cNvSpPr/>
              <p:nvPr/>
            </p:nvSpPr>
            <p:spPr>
              <a:xfrm>
                <a:off x="5029200" y="525744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5029200" y="51048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5410080" y="510480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5105520" y="51814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7848720" y="2971800"/>
            <a:ext cx="380880" cy="533520"/>
            <a:chOff x="7848720" y="2971800"/>
            <a:chExt cx="380880" cy="533520"/>
          </a:xfrm>
        </p:grpSpPr>
        <p:sp>
          <p:nvSpPr>
            <p:cNvPr id="1998" name=""/>
            <p:cNvSpPr/>
            <p:nvPr/>
          </p:nvSpPr>
          <p:spPr>
            <a:xfrm>
              <a:off x="7848720" y="2971800"/>
              <a:ext cx="380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848720" y="2971800"/>
              <a:ext cx="38088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848720" y="3353040"/>
              <a:ext cx="38088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848720" y="3048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2" name=""/>
          <p:cNvGrpSpPr/>
          <p:nvPr/>
        </p:nvGrpSpPr>
        <p:grpSpPr>
          <a:xfrm>
            <a:off x="7772400" y="4876920"/>
            <a:ext cx="533520" cy="75960"/>
            <a:chOff x="7772400" y="4876920"/>
            <a:chExt cx="533520" cy="75960"/>
          </a:xfrm>
        </p:grpSpPr>
        <p:sp>
          <p:nvSpPr>
            <p:cNvPr id="2003" name=""/>
            <p:cNvSpPr/>
            <p:nvPr/>
          </p:nvSpPr>
          <p:spPr>
            <a:xfrm>
              <a:off x="7772400" y="48769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8001000" y="4876920"/>
              <a:ext cx="76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001000" y="4952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1295280" y="3200400"/>
            <a:ext cx="1905120" cy="1905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752480" y="4038480"/>
            <a:ext cx="30492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438280" y="4038480"/>
            <a:ext cx="30492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2057040" y="3352680"/>
            <a:ext cx="297180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2743200" y="4191120"/>
            <a:ext cx="236232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81680" y="4343400"/>
            <a:ext cx="1219320" cy="762120"/>
          </a:xfrm>
          <a:prstGeom prst="ellipse">
            <a:avLst/>
          </a:prstGeom>
          <a:solidFill>
            <a:srgbClr val="66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615720" y="53751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3333cc"/>
                </a:solidFill>
                <a:latin typeface="Times New Roman"/>
              </a:rPr>
              <a:t>Focus of SG17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V="1">
            <a:off x="739152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other candidate reference model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 criteria and perspectives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reference mode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compar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other reference models, such as the 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element of the reference mod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  each notation has to be evaluated for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each element of the reference mod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 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to be developed on the combined use of 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ogram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657600" y="4495680"/>
            <a:ext cx="762120" cy="380880"/>
            <a:chOff x="3657600" y="4495680"/>
            <a:chExt cx="762120" cy="380880"/>
          </a:xfrm>
        </p:grpSpPr>
        <p:sp>
          <p:nvSpPr>
            <p:cNvPr id="53" name=""/>
            <p:cNvSpPr/>
            <p:nvPr/>
          </p:nvSpPr>
          <p:spPr>
            <a:xfrm>
              <a:off x="3657600" y="4495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657600" y="4495680"/>
              <a:ext cx="762120" cy="380880"/>
              <a:chOff x="3657600" y="4495680"/>
              <a:chExt cx="762120" cy="380880"/>
            </a:xfrm>
          </p:grpSpPr>
          <p:sp>
            <p:nvSpPr>
              <p:cNvPr id="55" name=""/>
              <p:cNvSpPr/>
              <p:nvPr/>
            </p:nvSpPr>
            <p:spPr>
              <a:xfrm>
                <a:off x="3733920" y="4495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6576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657600" y="4876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3434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60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67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4800600" y="3429000"/>
            <a:ext cx="762120" cy="380880"/>
            <a:chOff x="4800600" y="3429000"/>
            <a:chExt cx="762120" cy="380880"/>
          </a:xfrm>
        </p:grpSpPr>
        <p:sp>
          <p:nvSpPr>
            <p:cNvPr id="74" name=""/>
            <p:cNvSpPr/>
            <p:nvPr/>
          </p:nvSpPr>
          <p:spPr>
            <a:xfrm>
              <a:off x="4800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800600" y="3429000"/>
              <a:ext cx="762120" cy="380880"/>
              <a:chOff x="4800600" y="3429000"/>
              <a:chExt cx="762120" cy="380880"/>
            </a:xfrm>
          </p:grpSpPr>
          <p:sp>
            <p:nvSpPr>
              <p:cNvPr id="76" name=""/>
              <p:cNvSpPr/>
              <p:nvPr/>
            </p:nvSpPr>
            <p:spPr>
              <a:xfrm>
                <a:off x="4876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4800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00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5486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657600" y="3429000"/>
            <a:ext cx="762120" cy="380880"/>
            <a:chOff x="3657600" y="3429000"/>
            <a:chExt cx="762120" cy="380880"/>
          </a:xfrm>
        </p:grpSpPr>
        <p:sp>
          <p:nvSpPr>
            <p:cNvPr id="81" name=""/>
            <p:cNvSpPr/>
            <p:nvPr/>
          </p:nvSpPr>
          <p:spPr>
            <a:xfrm>
              <a:off x="3657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3657600" y="3429000"/>
              <a:ext cx="762120" cy="380880"/>
              <a:chOff x="3657600" y="3429000"/>
              <a:chExt cx="76212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3733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3657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657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343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88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90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95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97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102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109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 rot="2719800">
            <a:off x="2666520" y="2895480"/>
            <a:ext cx="381240" cy="3812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719800">
            <a:off x="6019560" y="4495680"/>
            <a:ext cx="381240" cy="3808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83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210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8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5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80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0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04812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7432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76760" y="46483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27432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35268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3048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464832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31240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952880"/>
            <a:ext cx="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419720" y="51055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5410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430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4191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5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9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54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02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Control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176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178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183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185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190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192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 rot="2719800">
            <a:off x="2666520" y="2895480"/>
            <a:ext cx="381240" cy="3812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719800">
            <a:off x="6019560" y="4495680"/>
            <a:ext cx="381240" cy="3808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8320" y="2819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2100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048120"/>
            <a:ext cx="99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743200"/>
            <a:ext cx="4191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274320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476760" y="46483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335268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24280" y="32763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3048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30481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680" y="4648320"/>
            <a:ext cx="1447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312408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5000" y="3124080"/>
            <a:ext cx="0" cy="152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952880"/>
            <a:ext cx="0" cy="152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419720" y="5105520"/>
            <a:ext cx="1752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5410080"/>
            <a:ext cx="3124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34304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191120"/>
            <a:ext cx="1522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41911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58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92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54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260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Data flow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396252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2895480"/>
            <a:ext cx="6858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5029200"/>
            <a:ext cx="68580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657600" y="4495680"/>
            <a:ext cx="762120" cy="380880"/>
            <a:chOff x="3657600" y="4495680"/>
            <a:chExt cx="762120" cy="380880"/>
          </a:xfrm>
        </p:grpSpPr>
        <p:sp>
          <p:nvSpPr>
            <p:cNvPr id="241" name=""/>
            <p:cNvSpPr/>
            <p:nvPr/>
          </p:nvSpPr>
          <p:spPr>
            <a:xfrm>
              <a:off x="3657600" y="4495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657600" y="4495680"/>
              <a:ext cx="762120" cy="380880"/>
              <a:chOff x="3657600" y="4495680"/>
              <a:chExt cx="762120" cy="380880"/>
            </a:xfrm>
          </p:grpSpPr>
          <p:sp>
            <p:nvSpPr>
              <p:cNvPr id="243" name=""/>
              <p:cNvSpPr/>
              <p:nvPr/>
            </p:nvSpPr>
            <p:spPr>
              <a:xfrm>
                <a:off x="3733920" y="4495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36576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57600" y="4876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4343400" y="4495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248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250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5790960" y="2895480"/>
            <a:ext cx="762120" cy="380880"/>
            <a:chOff x="5790960" y="2895480"/>
            <a:chExt cx="762120" cy="380880"/>
          </a:xfrm>
        </p:grpSpPr>
        <p:sp>
          <p:nvSpPr>
            <p:cNvPr id="255" name=""/>
            <p:cNvSpPr/>
            <p:nvPr/>
          </p:nvSpPr>
          <p:spPr>
            <a:xfrm>
              <a:off x="5791320" y="289548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5790960" y="2895480"/>
              <a:ext cx="761760" cy="380880"/>
              <a:chOff x="5790960" y="2895480"/>
              <a:chExt cx="761760" cy="380880"/>
            </a:xfrm>
          </p:grpSpPr>
          <p:sp>
            <p:nvSpPr>
              <p:cNvPr id="257" name=""/>
              <p:cNvSpPr/>
              <p:nvPr/>
            </p:nvSpPr>
            <p:spPr>
              <a:xfrm>
                <a:off x="5867280" y="289548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57909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791320" y="327636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6476760" y="289548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4800600" y="3429000"/>
            <a:ext cx="762120" cy="380880"/>
            <a:chOff x="4800600" y="3429000"/>
            <a:chExt cx="762120" cy="380880"/>
          </a:xfrm>
        </p:grpSpPr>
        <p:sp>
          <p:nvSpPr>
            <p:cNvPr id="262" name=""/>
            <p:cNvSpPr/>
            <p:nvPr/>
          </p:nvSpPr>
          <p:spPr>
            <a:xfrm>
              <a:off x="4800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4800600" y="3429000"/>
              <a:ext cx="762120" cy="380880"/>
              <a:chOff x="4800600" y="3429000"/>
              <a:chExt cx="762120" cy="380880"/>
            </a:xfrm>
          </p:grpSpPr>
          <p:sp>
            <p:nvSpPr>
              <p:cNvPr id="264" name=""/>
              <p:cNvSpPr/>
              <p:nvPr/>
            </p:nvSpPr>
            <p:spPr>
              <a:xfrm>
                <a:off x="4876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4800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800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486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3657600" y="3429000"/>
            <a:ext cx="762120" cy="380880"/>
            <a:chOff x="3657600" y="3429000"/>
            <a:chExt cx="762120" cy="380880"/>
          </a:xfrm>
        </p:grpSpPr>
        <p:sp>
          <p:nvSpPr>
            <p:cNvPr id="269" name=""/>
            <p:cNvSpPr/>
            <p:nvPr/>
          </p:nvSpPr>
          <p:spPr>
            <a:xfrm>
              <a:off x="3657600" y="3429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3657600" y="3429000"/>
              <a:ext cx="762120" cy="380880"/>
              <a:chOff x="3657600" y="3429000"/>
              <a:chExt cx="762120" cy="38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3733920" y="3429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6576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657600" y="3809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4343400" y="3429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276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278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283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285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290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292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438280" y="3962520"/>
            <a:ext cx="762120" cy="380880"/>
            <a:chOff x="2438280" y="3962520"/>
            <a:chExt cx="762120" cy="380880"/>
          </a:xfrm>
        </p:grpSpPr>
        <p:sp>
          <p:nvSpPr>
            <p:cNvPr id="297" name=""/>
            <p:cNvSpPr/>
            <p:nvPr/>
          </p:nvSpPr>
          <p:spPr>
            <a:xfrm>
              <a:off x="2438280" y="3962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438280" y="3962520"/>
              <a:ext cx="762120" cy="380880"/>
              <a:chOff x="2438280" y="3962520"/>
              <a:chExt cx="762120" cy="38088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39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4382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38280" y="4343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124080" y="3962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764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8000" y="281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2172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800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504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86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800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7640" y="4952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96252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625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252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62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29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43430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3048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1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ecedence graph:</a:t>
            </a:r>
            <a:br>
              <a:rPr sz="4400"/>
            </a:br>
            <a:r>
              <a:rPr b="0" lang="nb-NO" sz="36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2666880"/>
            <a:ext cx="45720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3886200"/>
            <a:ext cx="144792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334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341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343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348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350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355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357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5909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59092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4038480" y="259092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3962520"/>
            <a:ext cx="304920" cy="30456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40384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Precedence graph:</a:t>
            </a:r>
            <a:br>
              <a:rPr sz="4400"/>
            </a:b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as relations 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nb-NO" sz="3200" spc="-1" strike="noStrike">
                <a:solidFill>
                  <a:srgbClr val="000000"/>
                </a:solidFill>
                <a:latin typeface="Times New Roman"/>
              </a:rPr>
              <a:t> data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2952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12408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657600" y="5715000"/>
            <a:ext cx="762120" cy="380880"/>
            <a:chOff x="3657600" y="5715000"/>
            <a:chExt cx="762120" cy="380880"/>
          </a:xfrm>
        </p:grpSpPr>
        <p:sp>
          <p:nvSpPr>
            <p:cNvPr id="376" name=""/>
            <p:cNvSpPr/>
            <p:nvPr/>
          </p:nvSpPr>
          <p:spPr>
            <a:xfrm>
              <a:off x="3657600" y="57150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657600" y="5715000"/>
              <a:ext cx="762120" cy="380880"/>
              <a:chOff x="3657600" y="5715000"/>
              <a:chExt cx="762120" cy="380880"/>
            </a:xfrm>
          </p:grpSpPr>
          <p:sp>
            <p:nvSpPr>
              <p:cNvPr id="378" name=""/>
              <p:cNvSpPr/>
              <p:nvPr/>
            </p:nvSpPr>
            <p:spPr>
              <a:xfrm>
                <a:off x="3733920" y="57150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36576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657600" y="60958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343400" y="57150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2438280" y="2209680"/>
            <a:ext cx="762120" cy="380880"/>
            <a:chOff x="2438280" y="2209680"/>
            <a:chExt cx="762120" cy="380880"/>
          </a:xfrm>
        </p:grpSpPr>
        <p:sp>
          <p:nvSpPr>
            <p:cNvPr id="383" name=""/>
            <p:cNvSpPr/>
            <p:nvPr/>
          </p:nvSpPr>
          <p:spPr>
            <a:xfrm>
              <a:off x="2438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438280" y="2209680"/>
              <a:ext cx="762120" cy="380880"/>
              <a:chOff x="2438280" y="2209680"/>
              <a:chExt cx="762120" cy="380880"/>
            </a:xfrm>
          </p:grpSpPr>
          <p:sp>
            <p:nvSpPr>
              <p:cNvPr id="385" name=""/>
              <p:cNvSpPr/>
              <p:nvPr/>
            </p:nvSpPr>
            <p:spPr>
              <a:xfrm>
                <a:off x="2514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438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38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3124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3581280" y="2209680"/>
            <a:ext cx="762120" cy="380880"/>
            <a:chOff x="3581280" y="2209680"/>
            <a:chExt cx="762120" cy="380880"/>
          </a:xfrm>
        </p:grpSpPr>
        <p:sp>
          <p:nvSpPr>
            <p:cNvPr id="390" name=""/>
            <p:cNvSpPr/>
            <p:nvPr/>
          </p:nvSpPr>
          <p:spPr>
            <a:xfrm>
              <a:off x="3581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3581280" y="2209680"/>
              <a:ext cx="762120" cy="380880"/>
              <a:chOff x="3581280" y="2209680"/>
              <a:chExt cx="762120" cy="380880"/>
            </a:xfrm>
          </p:grpSpPr>
          <p:sp>
            <p:nvSpPr>
              <p:cNvPr id="392" name=""/>
              <p:cNvSpPr/>
              <p:nvPr/>
            </p:nvSpPr>
            <p:spPr>
              <a:xfrm>
                <a:off x="3657600" y="2209680"/>
                <a:ext cx="685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3581280" y="2209680"/>
                <a:ext cx="7632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81280" y="2590560"/>
                <a:ext cx="6858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267080" y="2209680"/>
                <a:ext cx="7632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"/>
          <p:cNvGrpSpPr/>
          <p:nvPr/>
        </p:nvGrpSpPr>
        <p:grpSpPr>
          <a:xfrm>
            <a:off x="4724280" y="2209680"/>
            <a:ext cx="762120" cy="380880"/>
            <a:chOff x="4724280" y="2209680"/>
            <a:chExt cx="762120" cy="380880"/>
          </a:xfrm>
        </p:grpSpPr>
        <p:sp>
          <p:nvSpPr>
            <p:cNvPr id="397" name=""/>
            <p:cNvSpPr/>
            <p:nvPr/>
          </p:nvSpPr>
          <p:spPr>
            <a:xfrm>
              <a:off x="4724280" y="220968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724280" y="2209680"/>
              <a:ext cx="762120" cy="380880"/>
              <a:chOff x="4724280" y="2209680"/>
              <a:chExt cx="762120" cy="380880"/>
            </a:xfrm>
          </p:grpSpPr>
          <p:sp>
            <p:nvSpPr>
              <p:cNvPr id="399" name=""/>
              <p:cNvSpPr/>
              <p:nvPr/>
            </p:nvSpPr>
            <p:spPr>
              <a:xfrm>
                <a:off x="4800600" y="22096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47242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24280" y="2590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5410080" y="220968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266904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116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908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563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19520" y="2590920"/>
            <a:ext cx="114300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038480" y="2590920"/>
            <a:ext cx="990720" cy="31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5029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281952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057040" y="2590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057400" y="2590920"/>
            <a:ext cx="190512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2057040" y="2590920"/>
            <a:ext cx="2971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2057400" y="5181480"/>
            <a:ext cx="17524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52480" y="1828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752480" y="5410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46483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(X-3)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+(Y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25909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590920"/>
            <a:ext cx="25146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019920" y="289548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334120" y="4495680"/>
            <a:ext cx="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47800" y="3809880"/>
            <a:ext cx="188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Functions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(algorithmi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5640" y="358128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2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2952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447560" y="5791320"/>
            <a:ext cx="762120" cy="380880"/>
            <a:chOff x="1447560" y="5791320"/>
            <a:chExt cx="762120" cy="380880"/>
          </a:xfrm>
        </p:grpSpPr>
        <p:sp>
          <p:nvSpPr>
            <p:cNvPr id="429" name=""/>
            <p:cNvSpPr/>
            <p:nvPr/>
          </p:nvSpPr>
          <p:spPr>
            <a:xfrm>
              <a:off x="1447920" y="5791320"/>
              <a:ext cx="76176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1447560" y="5791320"/>
              <a:ext cx="761760" cy="380880"/>
              <a:chOff x="1447560" y="5791320"/>
              <a:chExt cx="761760" cy="380880"/>
            </a:xfrm>
          </p:grpSpPr>
          <p:sp>
            <p:nvSpPr>
              <p:cNvPr id="431" name=""/>
              <p:cNvSpPr/>
              <p:nvPr/>
            </p:nvSpPr>
            <p:spPr>
              <a:xfrm>
                <a:off x="1523880" y="57913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1447560" y="5791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447920" y="61722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2133360" y="5791320"/>
                <a:ext cx="759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1371600" y="2057400"/>
            <a:ext cx="762120" cy="380880"/>
            <a:chOff x="1371600" y="2057400"/>
            <a:chExt cx="7621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20574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371600" y="2057400"/>
              <a:ext cx="762120" cy="380880"/>
              <a:chOff x="1371600" y="2057400"/>
              <a:chExt cx="762120" cy="380880"/>
            </a:xfrm>
          </p:grpSpPr>
          <p:sp>
            <p:nvSpPr>
              <p:cNvPr id="438" name=""/>
              <p:cNvSpPr/>
              <p:nvPr/>
            </p:nvSpPr>
            <p:spPr>
              <a:xfrm>
                <a:off x="1447920" y="2057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371600" y="2057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371600" y="24382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2057400" y="20574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3657600" y="3886200"/>
            <a:ext cx="762120" cy="380880"/>
            <a:chOff x="3657600" y="3886200"/>
            <a:chExt cx="762120" cy="380880"/>
          </a:xfrm>
        </p:grpSpPr>
        <p:sp>
          <p:nvSpPr>
            <p:cNvPr id="443" name=""/>
            <p:cNvSpPr/>
            <p:nvPr/>
          </p:nvSpPr>
          <p:spPr>
            <a:xfrm>
              <a:off x="36576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657600" y="3886200"/>
              <a:ext cx="762120" cy="380880"/>
              <a:chOff x="3657600" y="3886200"/>
              <a:chExt cx="762120" cy="380880"/>
            </a:xfrm>
          </p:grpSpPr>
          <p:sp>
            <p:nvSpPr>
              <p:cNvPr id="445" name=""/>
              <p:cNvSpPr/>
              <p:nvPr/>
            </p:nvSpPr>
            <p:spPr>
              <a:xfrm>
                <a:off x="37339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6576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576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3434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1371960" y="2057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3809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9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52480" y="24382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4267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291160" y="62136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05704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2400" y="4800600"/>
            <a:ext cx="48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Generic pro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enforcing data instances according to</a:t>
            </a:r>
            <a:br>
              <a:rPr sz="2400"/>
            </a:b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Schema of data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505320" y="3581280"/>
            <a:ext cx="1143000" cy="990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14400" y="2286000"/>
            <a:ext cx="1219320" cy="3733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09680" y="2666880"/>
            <a:ext cx="914400" cy="2895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1143000" y="5029200"/>
            <a:ext cx="762120" cy="380880"/>
            <a:chOff x="1143000" y="5029200"/>
            <a:chExt cx="762120" cy="380880"/>
          </a:xfrm>
        </p:grpSpPr>
        <p:sp>
          <p:nvSpPr>
            <p:cNvPr id="463" name=""/>
            <p:cNvSpPr/>
            <p:nvPr/>
          </p:nvSpPr>
          <p:spPr>
            <a:xfrm>
              <a:off x="1143000" y="5029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1143000" y="5029200"/>
              <a:ext cx="762120" cy="380880"/>
              <a:chOff x="1143000" y="5029200"/>
              <a:chExt cx="762120" cy="380880"/>
            </a:xfrm>
          </p:grpSpPr>
          <p:sp>
            <p:nvSpPr>
              <p:cNvPr id="465" name=""/>
              <p:cNvSpPr/>
              <p:nvPr/>
            </p:nvSpPr>
            <p:spPr>
              <a:xfrm>
                <a:off x="1219320" y="5029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1143000" y="5029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143000" y="5410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828800" y="5029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1143000" y="2819520"/>
            <a:ext cx="762120" cy="380880"/>
            <a:chOff x="1143000" y="2819520"/>
            <a:chExt cx="762120" cy="380880"/>
          </a:xfrm>
        </p:grpSpPr>
        <p:sp>
          <p:nvSpPr>
            <p:cNvPr id="470" name=""/>
            <p:cNvSpPr/>
            <p:nvPr/>
          </p:nvSpPr>
          <p:spPr>
            <a:xfrm>
              <a:off x="1143000" y="281952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1143000" y="2819520"/>
              <a:ext cx="762120" cy="380880"/>
              <a:chOff x="1143000" y="2819520"/>
              <a:chExt cx="762120" cy="380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219320" y="2819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143000" y="2819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43000" y="32004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1828800" y="281952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"/>
          <p:cNvGrpSpPr/>
          <p:nvPr/>
        </p:nvGrpSpPr>
        <p:grpSpPr>
          <a:xfrm>
            <a:off x="3657600" y="3886200"/>
            <a:ext cx="762120" cy="380880"/>
            <a:chOff x="3657600" y="3886200"/>
            <a:chExt cx="762120" cy="380880"/>
          </a:xfrm>
        </p:grpSpPr>
        <p:sp>
          <p:nvSpPr>
            <p:cNvPr id="477" name=""/>
            <p:cNvSpPr/>
            <p:nvPr/>
          </p:nvSpPr>
          <p:spPr>
            <a:xfrm>
              <a:off x="36576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657600" y="3886200"/>
              <a:ext cx="762120" cy="380880"/>
              <a:chOff x="3657600" y="3886200"/>
              <a:chExt cx="762120" cy="380880"/>
            </a:xfrm>
          </p:grpSpPr>
          <p:sp>
            <p:nvSpPr>
              <p:cNvPr id="479" name=""/>
              <p:cNvSpPr/>
              <p:nvPr/>
            </p:nvSpPr>
            <p:spPr>
              <a:xfrm>
                <a:off x="37339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6576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6576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3434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>
            <a:off x="1143360" y="281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581280" y="380988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74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3886200"/>
            <a:ext cx="609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600200" y="4267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91520" y="6213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971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0960" y="50292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000000"/>
                </a:solidFill>
                <a:latin typeface="Times New Roman"/>
              </a:rPr>
              <a:t>Two-way trans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143000" y="3886200"/>
            <a:ext cx="762120" cy="380880"/>
            <a:chOff x="1143000" y="3886200"/>
            <a:chExt cx="762120" cy="380880"/>
          </a:xfrm>
        </p:grpSpPr>
        <p:sp>
          <p:nvSpPr>
            <p:cNvPr id="493" name=""/>
            <p:cNvSpPr/>
            <p:nvPr/>
          </p:nvSpPr>
          <p:spPr>
            <a:xfrm>
              <a:off x="1143000" y="3886200"/>
              <a:ext cx="762120" cy="3808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143000" y="3886200"/>
              <a:ext cx="762120" cy="380880"/>
              <a:chOff x="1143000" y="3886200"/>
              <a:chExt cx="762120" cy="380880"/>
            </a:xfrm>
          </p:grpSpPr>
          <p:sp>
            <p:nvSpPr>
              <p:cNvPr id="495" name=""/>
              <p:cNvSpPr/>
              <p:nvPr/>
            </p:nvSpPr>
            <p:spPr>
              <a:xfrm>
                <a:off x="1219320" y="38862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11430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43000" y="42670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828800" y="3886200"/>
                <a:ext cx="763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683640" y="388620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tern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44792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447920" y="2437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44792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144792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1905120" y="3124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190512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905120" y="403848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14400" y="594360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914400" y="2209680"/>
            <a:ext cx="114300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05320" y="3505320"/>
            <a:ext cx="1143000" cy="152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505320" y="4495680"/>
            <a:ext cx="1143000" cy="152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4040" y="16765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0400" y="22096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6T15:13:02Z</dcterms:created>
  <dc:creator>Standard Bruker Telenor FoU</dc:creator>
  <dc:description/>
  <dc:language>en-US</dc:language>
  <cp:lastModifiedBy>Ansatt i</cp:lastModifiedBy>
  <dcterms:modified xsi:type="dcterms:W3CDTF">2002-02-26T09:23:17Z</dcterms:modified>
  <cp:revision>34</cp:revision>
  <dc:subject/>
  <dc:title>Interoperability Reference Model</dc:title>
</cp:coreProperties>
</file>