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2855-8FD4-4BC9-BB38-417A2EAA1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7D3B-2FCB-426A-973D-DCEE88A1D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E8FB-166B-47CC-A9E1-4426C59B9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740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356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740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356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8086-C01E-45D2-9D86-CFE921A1E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72360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3C86-231B-48E4-805D-AF24F12ED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936E-B5B7-4B32-A0D2-B25B37E40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B884-4EE0-459F-A4E8-BC482661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A435-73E2-4CAB-ADB3-DAA793D93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72360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69FA-65D0-4FE7-B9A4-D3D5EF5D8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DF00-A84B-459F-B93A-8F01D5EF1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614F-A692-4FEE-8541-AB78EF80F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8428-8E4E-4620-BE8D-E8AB5FE36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108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1936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13968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95280" y="6486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British Telecommunications plc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86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9B7-BA64-4130-AEC4-3D3C00165E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10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792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4520" algn="ctr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845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845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10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7696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UM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atus of UK Imple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y Hol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Texact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ing Addressing &amp; Route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man UK ENUM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4267080"/>
            <a:ext cx="2387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U Februar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06400" y="1676520"/>
            <a:ext cx="824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I ENUM Group workshop held June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to understand issues and assess level of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was to form a UK Industr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EG commenced work September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EG Industry wide but under the auspices of the D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762120"/>
            <a:ext cx="664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1039"/>
                </a:solidFill>
                <a:latin typeface="Arial"/>
              </a:rPr>
              <a:t>Status of ENUM in the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3C62-3400-45C3-80DC-80FB9A3D42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UK ENUM GROUP REMIT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71720" y="914400"/>
            <a:ext cx="7484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led Group with broad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work limited to implementation of RFC29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and resolution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implemen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preferre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for the D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est in possible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ngoing discussion of ITU &amp; ETSI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8289-D37A-41B3-AEBF-7099A3C9AE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2193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hat maximum choice is required  for users to register for ENUM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can be achieved by having competition at the Tier 2 Regis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justification for ENUM services should driv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interest in a trial - work proc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ion of +44 requested from RIPE NC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680" y="228600"/>
            <a:ext cx="397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1039"/>
                </a:solidFill>
                <a:latin typeface="Arial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F10C-5135-4BB1-ABCD-259A0EA066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8120" y="533520"/>
            <a:ext cx="4114800" cy="554400"/>
          </a:xfrm>
          <a:prstGeom prst="rect">
            <a:avLst/>
          </a:prstGeom>
          <a:solidFill>
            <a:srgbClr val="60447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PE N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164.ar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4758840"/>
            <a:ext cx="26323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8680" y="0"/>
            <a:ext cx="82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T1 + competitive T2 Registries + competitive  T2 Registr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371600"/>
            <a:ext cx="4114800" cy="554400"/>
          </a:xfrm>
          <a:prstGeom prst="rect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r 1 Entity (T1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.4.e164.ar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143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52680" y="4191120"/>
            <a:ext cx="3810240" cy="1485720"/>
            <a:chOff x="3352680" y="4191120"/>
            <a:chExt cx="3810240" cy="1485720"/>
          </a:xfrm>
        </p:grpSpPr>
        <p:sp>
          <p:nvSpPr>
            <p:cNvPr id="95" name=""/>
            <p:cNvSpPr/>
            <p:nvPr/>
          </p:nvSpPr>
          <p:spPr>
            <a:xfrm>
              <a:off x="3657600" y="4191120"/>
              <a:ext cx="3352680" cy="914400"/>
            </a:xfrm>
            <a:prstGeom prst="rect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352680" y="4191120"/>
              <a:ext cx="3810240" cy="1485720"/>
              <a:chOff x="3352680" y="4191120"/>
              <a:chExt cx="3810240" cy="1485720"/>
            </a:xfrm>
          </p:grpSpPr>
          <p:sp>
            <p:nvSpPr>
              <p:cNvPr id="97" name=""/>
              <p:cNvSpPr/>
              <p:nvPr/>
            </p:nvSpPr>
            <p:spPr>
              <a:xfrm>
                <a:off x="3505320" y="4419720"/>
                <a:ext cx="3352680" cy="914400"/>
              </a:xfrm>
              <a:prstGeom prst="rect">
                <a:avLst/>
              </a:prstGeom>
              <a:solidFill>
                <a:srgbClr val="9900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2680" y="4762440"/>
                <a:ext cx="3353040" cy="914400"/>
              </a:xfrm>
              <a:prstGeom prst="rect">
                <a:avLst/>
              </a:prstGeom>
              <a:solidFill>
                <a:srgbClr val="9900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43400" y="502920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ier 2          (</a:t>
                </a: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 Registrar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7280" y="4495680"/>
                <a:ext cx="114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gistrar 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019920" y="4191120"/>
                <a:ext cx="114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gistrar 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750960" y="42022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32040" y="30733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733920"/>
            <a:ext cx="2057400" cy="489600"/>
          </a:xfrm>
          <a:prstGeom prst="rect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signment Entity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S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NRA/third par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81080" y="4267080"/>
            <a:ext cx="1371240" cy="1066680"/>
            <a:chOff x="1981080" y="4267080"/>
            <a:chExt cx="1371240" cy="1066680"/>
          </a:xfrm>
        </p:grpSpPr>
        <p:sp>
          <p:nvSpPr>
            <p:cNvPr id="106" name=""/>
            <p:cNvSpPr/>
            <p:nvPr/>
          </p:nvSpPr>
          <p:spPr>
            <a:xfrm>
              <a:off x="1981080" y="4267080"/>
              <a:ext cx="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5333760"/>
              <a:ext cx="137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876920" y="5715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43200" y="1905120"/>
            <a:ext cx="5038560" cy="1828800"/>
            <a:chOff x="2743200" y="1905120"/>
            <a:chExt cx="5038560" cy="1828800"/>
          </a:xfrm>
        </p:grpSpPr>
        <p:sp>
          <p:nvSpPr>
            <p:cNvPr id="110" name=""/>
            <p:cNvSpPr/>
            <p:nvPr/>
          </p:nvSpPr>
          <p:spPr>
            <a:xfrm>
              <a:off x="3581280" y="2057400"/>
              <a:ext cx="4190400" cy="1219320"/>
            </a:xfrm>
            <a:prstGeom prst="rect">
              <a:avLst/>
            </a:prstGeom>
            <a:solidFill>
              <a:srgbClr val="00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040" y="2286000"/>
              <a:ext cx="4190760" cy="1219320"/>
            </a:xfrm>
            <a:prstGeom prst="rect">
              <a:avLst/>
            </a:prstGeom>
            <a:solidFill>
              <a:srgbClr val="00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1905120"/>
              <a:ext cx="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2819520"/>
              <a:ext cx="121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2514600"/>
              <a:ext cx="4190760" cy="1219320"/>
            </a:xfrm>
            <a:prstGeom prst="rect">
              <a:avLst/>
            </a:prstGeom>
            <a:solidFill>
              <a:srgbClr val="00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560" y="3200400"/>
              <a:ext cx="1828440" cy="459000"/>
            </a:xfrm>
            <a:prstGeom prst="rect">
              <a:avLst/>
            </a:prstGeom>
            <a:solidFill>
              <a:srgbClr val="0099ff"/>
            </a:solidFill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ip: eu @ foo.tld mailto: eu @ bar.t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5560" y="3048120"/>
              <a:ext cx="17229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2 ….. 4.4.e164.arp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5680" y="34290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77320" y="277200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er 2 Entity (T2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3840" y="2514600"/>
              <a:ext cx="11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ry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51040" y="2210040"/>
              <a:ext cx="11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ry 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31920" y="1981440"/>
              <a:ext cx="114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ry 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91120" y="6172200"/>
            <a:ext cx="1342800" cy="596520"/>
            <a:chOff x="4191120" y="6172200"/>
            <a:chExt cx="1342800" cy="596520"/>
          </a:xfrm>
        </p:grpSpPr>
        <p:sp>
          <p:nvSpPr>
            <p:cNvPr id="123" name=""/>
            <p:cNvSpPr/>
            <p:nvPr/>
          </p:nvSpPr>
          <p:spPr>
            <a:xfrm>
              <a:off x="4191120" y="6172200"/>
              <a:ext cx="1342800" cy="517680"/>
            </a:xfrm>
            <a:prstGeom prst="rect">
              <a:avLst/>
            </a:prstGeom>
            <a:solidFill>
              <a:srgbClr val="5f5f5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6248520"/>
              <a:ext cx="1193760" cy="5202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d user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952880" y="198108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981080"/>
            <a:ext cx="7621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952880" y="3657600"/>
            <a:ext cx="609480" cy="1066680"/>
            <a:chOff x="4952880" y="3657600"/>
            <a:chExt cx="609480" cy="1066680"/>
          </a:xfrm>
        </p:grpSpPr>
        <p:sp>
          <p:nvSpPr>
            <p:cNvPr id="128" name=""/>
            <p:cNvSpPr/>
            <p:nvPr/>
          </p:nvSpPr>
          <p:spPr>
            <a:xfrm>
              <a:off x="4952880" y="36576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37339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2880" y="3733920"/>
              <a:ext cx="6094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DA73-225A-4304-96AD-E8767CF64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103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5909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37960" y="3962520"/>
            <a:ext cx="4151520" cy="1372320"/>
            <a:chOff x="1137960" y="3962520"/>
            <a:chExt cx="4151520" cy="1372320"/>
          </a:xfrm>
        </p:grpSpPr>
        <p:sp>
          <p:nvSpPr>
            <p:cNvPr id="134" name=""/>
            <p:cNvSpPr/>
            <p:nvPr/>
          </p:nvSpPr>
          <p:spPr>
            <a:xfrm>
              <a:off x="1137960" y="4008600"/>
              <a:ext cx="37072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ony Hol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Texact Technolog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-mail: tony.ar.holmes@bt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5520" y="3962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7B7F-365E-4D0A-BBFE-DE977008C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2:29:07Z</dcterms:created>
  <dc:creator>BT</dc:creator>
  <dc:description/>
  <dc:language>en-US</dc:language>
  <cp:lastModifiedBy>BT</cp:lastModifiedBy>
  <cp:lastPrinted>2001-11-22T10:19:46Z</cp:lastPrinted>
  <dcterms:modified xsi:type="dcterms:W3CDTF">2002-02-08T09:59:40Z</dcterms:modified>
  <cp:revision>12</cp:revision>
  <dc:subject/>
  <dc:title>ITU-T SG2 &amp; ETSI work on ENUM  ENUM Supplement &amp; the ETSI Technical Repor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Benjamin Braun</vt:lpwstr>
  </property>
  <property fmtid="{D5CDD505-2E9C-101B-9397-08002B2CF9AE}" pid="3" name="_AdHocReviewCycleID">
    <vt:r8>1177369486</vt:r8>
  </property>
  <property fmtid="{D5CDD505-2E9C-101B-9397-08002B2CF9AE}" pid="4" name="_AuthorEmail">
    <vt:lpwstr>mcfadden@21st-century-texts.com</vt:lpwstr>
  </property>
  <property fmtid="{D5CDD505-2E9C-101B-9397-08002B2CF9AE}" pid="5" name="_AuthorEmailDisplayName">
    <vt:lpwstr>Mark McFadden</vt:lpwstr>
  </property>
  <property fmtid="{D5CDD505-2E9C-101B-9397-08002B2CF9AE}" pid="6" name="_EmailSubject">
    <vt:lpwstr>ENUM Presentation to ICANN by Tony Holmes and Mark McFadden</vt:lpwstr>
  </property>
</Properties>
</file>