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9131A-2C0D-41FA-945C-D54961A07D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42429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3158F-CBBC-41AF-B451-732408184F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0256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7515F-1E2A-4667-A152-BB164CC1ED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6740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6356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6740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6356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3B42-969D-4D84-8DA4-83AAC64C0E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24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371240" y="72360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074B3-38B9-4571-9AC1-34D69314F4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0256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371240" y="42429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0256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6740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63560" y="213372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37124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6740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63560" y="4242960"/>
            <a:ext cx="22816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F0A62-CF9D-42D8-A197-53E42C803D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042B9-8472-4251-B411-304347F82A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82296-C8CF-4BC3-93A3-D8A12B38BB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71240" y="723600"/>
            <a:ext cx="7086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25A2F-ACDE-4CF3-80AD-C60F5B9B1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F8DE8-F4CC-40B5-9514-5068647927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02560" y="424296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296508-4129-4498-A06B-A3598CE193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02560" y="2133720"/>
            <a:ext cx="34581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4242960"/>
            <a:ext cx="7086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60C2B-34AD-477B-9A95-26DD9625C5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240" y="2133720"/>
            <a:ext cx="7086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2040" indent="-181080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19368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19200" indent="-139680">
              <a:spcBef>
                <a:spcPts val="64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960560" indent="-17604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960560" indent="-17604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960560" indent="-176040">
              <a:spcBef>
                <a:spcPts val="64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1295280" y="64861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Arial"/>
              </a:rPr>
              <a:t>© British Telecommunications plc 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1371240" y="72360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4861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EB6C-583C-4573-BBBF-A326A9F122A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333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10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4191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792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784520" algn="ctr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7845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784520">
              <a:spcBef>
                <a:spcPts val="4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10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1676520"/>
            <a:ext cx="70866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TSI work on ENUM</a:t>
            </a:r>
            <a:br>
              <a:rPr sz="4000"/>
            </a:br>
            <a:br>
              <a:rPr sz="40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ETSI Technical Repor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80880" y="5409720"/>
            <a:ext cx="4191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ony Holm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Texact Technolog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umbering Addressing &amp; Route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airman ETSI SPAN 11 N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8760" y="3733920"/>
            <a:ext cx="23875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TU February 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8960" y="-36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Background </a:t>
            </a: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35053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438280" y="323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97180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88620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4340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350532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715000" y="3236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24852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0572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16292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2012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32367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99640" y="3505320"/>
            <a:ext cx="795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e000c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e000c"/>
                </a:solidFill>
                <a:latin typeface="Arial"/>
              </a:rPr>
              <a:t>1     2     3      4      5      6     7     8     9     10   11    12   1      2     3     4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8001000" y="3236760"/>
            <a:ext cx="914400" cy="304560"/>
            <a:chOff x="8001000" y="3236760"/>
            <a:chExt cx="914400" cy="304560"/>
          </a:xfrm>
        </p:grpSpPr>
        <p:sp>
          <p:nvSpPr>
            <p:cNvPr id="103" name=""/>
            <p:cNvSpPr/>
            <p:nvPr/>
          </p:nvSpPr>
          <p:spPr>
            <a:xfrm>
              <a:off x="8001000" y="3236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458200" y="3236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915400" y="323676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7620120" y="3505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3657600"/>
            <a:ext cx="0" cy="609480"/>
          </a:xfrm>
          <a:prstGeom prst="line">
            <a:avLst/>
          </a:prstGeom>
          <a:ln w="38160">
            <a:solidFill>
              <a:srgbClr val="fe00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693960"/>
            <a:ext cx="0" cy="609840"/>
          </a:xfrm>
          <a:prstGeom prst="line">
            <a:avLst/>
          </a:prstGeom>
          <a:ln w="38160">
            <a:solidFill>
              <a:srgbClr val="fe000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800" y="4303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000c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25200" y="43038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000c"/>
                </a:solidFill>
                <a:latin typeface="Arial"/>
              </a:rPr>
              <a:t>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838080" y="1523880"/>
            <a:ext cx="992160" cy="1136160"/>
            <a:chOff x="838080" y="1523880"/>
            <a:chExt cx="992160" cy="1136160"/>
          </a:xfrm>
        </p:grpSpPr>
        <p:sp>
          <p:nvSpPr>
            <p:cNvPr id="112" name=""/>
            <p:cNvSpPr/>
            <p:nvPr/>
          </p:nvSpPr>
          <p:spPr>
            <a:xfrm>
              <a:off x="990360" y="1600200"/>
              <a:ext cx="777960" cy="105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G2 Sup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38080" y="1523880"/>
              <a:ext cx="992160" cy="912960"/>
            </a:xfrm>
            <a:prstGeom prst="rect">
              <a:avLst/>
            </a:prstGeom>
            <a:noFill/>
            <a:ln w="31680">
              <a:solidFill>
                <a:srgbClr val="cd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057400" y="1523880"/>
            <a:ext cx="1006560" cy="912960"/>
            <a:chOff x="2057400" y="1523880"/>
            <a:chExt cx="1006560" cy="912960"/>
          </a:xfrm>
        </p:grpSpPr>
        <p:sp>
          <p:nvSpPr>
            <p:cNvPr id="115" name=""/>
            <p:cNvSpPr/>
            <p:nvPr/>
          </p:nvSpPr>
          <p:spPr>
            <a:xfrm>
              <a:off x="2209680" y="1523880"/>
              <a:ext cx="854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TSI init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57400" y="1523880"/>
              <a:ext cx="992160" cy="912960"/>
            </a:xfrm>
            <a:prstGeom prst="rect">
              <a:avLst/>
            </a:prstGeom>
            <a:noFill/>
            <a:ln w="31680">
              <a:solidFill>
                <a:srgbClr val="cd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3276720" y="1523880"/>
            <a:ext cx="992160" cy="912960"/>
            <a:chOff x="3276720" y="1523880"/>
            <a:chExt cx="992160" cy="912960"/>
          </a:xfrm>
        </p:grpSpPr>
        <p:sp>
          <p:nvSpPr>
            <p:cNvPr id="118" name=""/>
            <p:cNvSpPr/>
            <p:nvPr/>
          </p:nvSpPr>
          <p:spPr>
            <a:xfrm>
              <a:off x="3505320" y="1600200"/>
              <a:ext cx="76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G2 Ra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276720" y="1523880"/>
              <a:ext cx="992160" cy="912960"/>
            </a:xfrm>
            <a:prstGeom prst="rect">
              <a:avLst/>
            </a:prstGeom>
            <a:noFill/>
            <a:ln w="31680">
              <a:solidFill>
                <a:srgbClr val="cd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990720" y="5029200"/>
            <a:ext cx="5965560" cy="912600"/>
            <a:chOff x="990720" y="5029200"/>
            <a:chExt cx="5965560" cy="912600"/>
          </a:xfrm>
        </p:grpSpPr>
        <p:sp>
          <p:nvSpPr>
            <p:cNvPr id="121" name=""/>
            <p:cNvSpPr/>
            <p:nvPr/>
          </p:nvSpPr>
          <p:spPr>
            <a:xfrm>
              <a:off x="990720" y="5029200"/>
              <a:ext cx="992160" cy="9126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09680" y="5029200"/>
              <a:ext cx="992160" cy="9126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29000" y="5029200"/>
              <a:ext cx="992160" cy="9126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48320" y="5029200"/>
              <a:ext cx="992160" cy="9126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67280" y="5029200"/>
              <a:ext cx="992160" cy="912600"/>
            </a:xfrm>
            <a:prstGeom prst="rect">
              <a:avLst/>
            </a:prstGeom>
            <a:solidFill>
              <a:srgbClr val="ffffff"/>
            </a:solidFill>
            <a:ln w="3168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066680" y="5181480"/>
              <a:ext cx="854280" cy="642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S SG-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15800" y="5333760"/>
              <a:ext cx="104472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wed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35840" y="5257800"/>
              <a:ext cx="92916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Fran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52880" y="5181480"/>
              <a:ext cx="60984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U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73400" y="5333760"/>
              <a:ext cx="1082880" cy="368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ethl’d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4419720" y="1523880"/>
            <a:ext cx="1005840" cy="912600"/>
            <a:chOff x="4419720" y="1523880"/>
            <a:chExt cx="1005840" cy="912600"/>
          </a:xfrm>
        </p:grpSpPr>
        <p:sp>
          <p:nvSpPr>
            <p:cNvPr id="132" name=""/>
            <p:cNvSpPr/>
            <p:nvPr/>
          </p:nvSpPr>
          <p:spPr>
            <a:xfrm>
              <a:off x="4495680" y="1599840"/>
              <a:ext cx="92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TSI S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419720" y="1523880"/>
              <a:ext cx="991800" cy="912600"/>
            </a:xfrm>
            <a:prstGeom prst="rect">
              <a:avLst/>
            </a:prstGeom>
            <a:noFill/>
            <a:ln w="31680">
              <a:solidFill>
                <a:srgbClr val="cd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562720" y="152388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G2 Genv AdR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562720" y="1523880"/>
            <a:ext cx="992160" cy="912960"/>
          </a:xfrm>
          <a:prstGeom prst="rect">
            <a:avLst/>
          </a:prstGeom>
          <a:noFill/>
          <a:ln w="31680">
            <a:solidFill>
              <a:srgbClr val="cd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6705720" y="1523880"/>
            <a:ext cx="1005840" cy="912600"/>
            <a:chOff x="6705720" y="1523880"/>
            <a:chExt cx="1005840" cy="912600"/>
          </a:xfrm>
        </p:grpSpPr>
        <p:sp>
          <p:nvSpPr>
            <p:cNvPr id="137" name=""/>
            <p:cNvSpPr/>
            <p:nvPr/>
          </p:nvSpPr>
          <p:spPr>
            <a:xfrm>
              <a:off x="6781680" y="1599840"/>
              <a:ext cx="929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TSI SP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05720" y="1523880"/>
              <a:ext cx="991800" cy="912600"/>
            </a:xfrm>
            <a:prstGeom prst="rect">
              <a:avLst/>
            </a:prstGeom>
            <a:noFill/>
            <a:ln w="31680">
              <a:solidFill>
                <a:srgbClr val="cd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7924680" y="1523880"/>
            <a:ext cx="992160" cy="912960"/>
            <a:chOff x="7924680" y="1523880"/>
            <a:chExt cx="992160" cy="912960"/>
          </a:xfrm>
        </p:grpSpPr>
        <p:sp>
          <p:nvSpPr>
            <p:cNvPr id="140" name=""/>
            <p:cNvSpPr/>
            <p:nvPr/>
          </p:nvSpPr>
          <p:spPr>
            <a:xfrm>
              <a:off x="8000640" y="167616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G2 Gen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24680" y="1523880"/>
              <a:ext cx="992160" cy="912960"/>
            </a:xfrm>
            <a:prstGeom prst="rect">
              <a:avLst/>
            </a:prstGeom>
            <a:noFill/>
            <a:ln w="31680">
              <a:solidFill>
                <a:srgbClr val="cd761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295280" y="2438280"/>
            <a:ext cx="0" cy="1067040"/>
          </a:xfrm>
          <a:prstGeom prst="line">
            <a:avLst/>
          </a:prstGeom>
          <a:ln w="38160">
            <a:solidFill>
              <a:srgbClr val="cd76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362320"/>
            <a:ext cx="380880" cy="1143000"/>
          </a:xfrm>
          <a:prstGeom prst="line">
            <a:avLst/>
          </a:prstGeom>
          <a:ln w="38160">
            <a:solidFill>
              <a:srgbClr val="cd76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57600" y="2438280"/>
            <a:ext cx="0" cy="1067040"/>
          </a:xfrm>
          <a:prstGeom prst="line">
            <a:avLst/>
          </a:prstGeom>
          <a:ln w="38160">
            <a:solidFill>
              <a:srgbClr val="cd76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4038480" y="2438280"/>
            <a:ext cx="609840" cy="1067040"/>
          </a:xfrm>
          <a:prstGeom prst="line">
            <a:avLst/>
          </a:prstGeom>
          <a:ln w="38160">
            <a:solidFill>
              <a:srgbClr val="cd76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4952880" y="2438280"/>
            <a:ext cx="914400" cy="1067040"/>
          </a:xfrm>
          <a:prstGeom prst="line">
            <a:avLst/>
          </a:prstGeom>
          <a:ln w="38160">
            <a:solidFill>
              <a:srgbClr val="cd76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410080" y="2438280"/>
            <a:ext cx="1524240" cy="1067040"/>
          </a:xfrm>
          <a:prstGeom prst="line">
            <a:avLst/>
          </a:prstGeom>
          <a:ln w="38160">
            <a:solidFill>
              <a:srgbClr val="cd761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6933960" y="2438280"/>
            <a:ext cx="228600" cy="10670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391160" y="2438280"/>
            <a:ext cx="685800" cy="10670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763120" y="2438280"/>
            <a:ext cx="0" cy="10670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6476760" y="2438280"/>
            <a:ext cx="609480" cy="1067040"/>
          </a:xfrm>
          <a:prstGeom prst="line">
            <a:avLst/>
          </a:prstGeom>
          <a:ln w="381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447920" y="3504960"/>
            <a:ext cx="685800" cy="152388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2285640" y="3504960"/>
            <a:ext cx="304920" cy="152388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505320" y="3504960"/>
            <a:ext cx="0" cy="152388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 flipV="1">
            <a:off x="3733920" y="3504960"/>
            <a:ext cx="2286000" cy="152388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3581280" y="3504960"/>
            <a:ext cx="1371600" cy="152388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523520" y="762120"/>
            <a:ext cx="304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ing has dict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210760" y="6019920"/>
            <a:ext cx="423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me examples of national activ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3614F-FD5E-4C97-A283-F95E42FDF5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7760" y="-381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ETSI Technical Specification</a:t>
            </a: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1066680"/>
            <a:ext cx="72547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rovide basic set of principles that should be adhered to in order to maximise potential benefits from publicly available ENUM implementations within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orts at drawing together a a co-ordinated approach should not only result in a firm foundation for ENUM activities within the European environment but should also assist in enhancing the competitive communications environment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219320" y="228600"/>
          <a:ext cx="1752480" cy="53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"/>
                    <a:ext cx="175248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914400" y="5257800"/>
            <a:ext cx="784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81039"/>
                </a:solidFill>
                <a:latin typeface="Arial"/>
              </a:rPr>
              <a:t>The importance of gaining the support or all relevant parties</a:t>
            </a:r>
            <a:r>
              <a:rPr b="1" i="1" lang="en-US" sz="2800" spc="-1" strike="noStrike">
                <a:solidFill>
                  <a:srgbClr val="981039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981039"/>
                </a:solidFill>
                <a:latin typeface="Arial"/>
              </a:rPr>
              <a:t>was recognised as a prime requir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7450-4CFA-48F3-BAC2-F82107E6DF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6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8571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Some emerging principles within Europe from ETSI</a:t>
            </a: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1371600"/>
            <a:ext cx="8077320" cy="50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57160" indent="-85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164 integrity must be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ance with Data Protection Dir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herence to ITU Recommendations and IETF Spec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iance with National Regulator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facilitate a competitive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user ‘Opt in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ing network functions must not be compromised e.g. Number Portability, Carrier Sel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7160" indent="-8571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5943600"/>
            <a:ext cx="42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981039"/>
                </a:solidFill>
                <a:latin typeface="Arial"/>
              </a:rPr>
              <a:t>All provide good safegu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295280" y="533520"/>
          <a:ext cx="1752840" cy="539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533520"/>
                    <a:ext cx="1752840" cy="53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60F14-0997-4369-B564-B0387560BDC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Major Issues of concern</a:t>
            </a: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1219320"/>
            <a:ext cx="7620120" cy="49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sioning based on false information by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and validation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use of data st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ulatory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ENUM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69F62-3911-4A74-97BC-B442798C54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81039"/>
                </a:solidFill>
                <a:latin typeface="Arial"/>
              </a:rPr>
              <a:t>What still needs to be done?</a:t>
            </a:r>
            <a:endParaRPr b="0" lang="en-US" sz="3600" spc="-1" strike="noStrike">
              <a:solidFill>
                <a:srgbClr val="981039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1523880"/>
            <a:ext cx="830592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ministrations  must be encouraged to actively consider  national implementation aspe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ETSI Framework document needs to be completed and formally agre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sues surrounding the choice of gTLD must be resolved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effort must be put into completion of the ITU studies to facilitate the insertion of Country Codes within the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0440" indent="-19044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FF4EA2-6F9A-4F73-B5A6-6A9B2C3EAFC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523880" y="1371600"/>
            <a:ext cx="7086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81039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1137960" y="3962520"/>
            <a:ext cx="4151520" cy="1836000"/>
            <a:chOff x="1137960" y="3962520"/>
            <a:chExt cx="4151520" cy="1836000"/>
          </a:xfrm>
        </p:grpSpPr>
        <p:sp>
          <p:nvSpPr>
            <p:cNvPr id="175" name=""/>
            <p:cNvSpPr/>
            <p:nvPr/>
          </p:nvSpPr>
          <p:spPr>
            <a:xfrm>
              <a:off x="1137960" y="4008600"/>
              <a:ext cx="3707280" cy="178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ony Holm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BTexact Technolog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hairman ETSI SPAN11 N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e-mail: tony.ar.holmes@bt.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05520" y="396252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923B2-79DB-417B-8D2D-E16DEEBFF1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1T22:29:07Z</dcterms:created>
  <dc:creator>BT</dc:creator>
  <dc:description/>
  <dc:language>en-US</dc:language>
  <cp:lastModifiedBy>BT</cp:lastModifiedBy>
  <cp:lastPrinted>2001-11-22T10:19:46Z</cp:lastPrinted>
  <dcterms:modified xsi:type="dcterms:W3CDTF">2002-02-08T09:58:02Z</dcterms:modified>
  <cp:revision>10</cp:revision>
  <dc:subject/>
  <dc:title>ITU-T SG2 &amp; ETSI work on ENUM  ENUM Supplement &amp; the ETSI Technical Report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Benjamin Braun</vt:lpwstr>
  </property>
  <property fmtid="{D5CDD505-2E9C-101B-9397-08002B2CF9AE}" pid="3" name="_AdHocReviewCycleID">
    <vt:r8>1177369486</vt:r8>
  </property>
  <property fmtid="{D5CDD505-2E9C-101B-9397-08002B2CF9AE}" pid="4" name="_AuthorEmail">
    <vt:lpwstr>mcfadden@21st-century-texts.com</vt:lpwstr>
  </property>
  <property fmtid="{D5CDD505-2E9C-101B-9397-08002B2CF9AE}" pid="5" name="_AuthorEmailDisplayName">
    <vt:lpwstr>Mark McFadden</vt:lpwstr>
  </property>
  <property fmtid="{D5CDD505-2E9C-101B-9397-08002B2CF9AE}" pid="6" name="_EmailSubject">
    <vt:lpwstr>ENUM Presentation to ICANN by Tony Holmes and Mark McFadden</vt:lpwstr>
  </property>
</Properties>
</file>