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C68-21DF-46E0-AAF7-130BAF92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253-DB8F-4D46-B93E-2AC9D040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89B-5689-48C7-9F57-85C6D385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49D-7764-441A-AE33-90430226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B62-90E7-40DC-BDB8-1299DCB9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E19-62AD-4AD7-ABA8-02CF086F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BDC-CEE5-489E-B25C-5951688F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97C-F653-465C-87B6-20894D74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906-6894-4F2B-9832-E68D459E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090-2588-430A-8A31-092D9A1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FFC-4B52-4914-892B-8A5D8B34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B75-40AE-45A5-AF47-E439FF2A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C8B9-C7FF-4F53-886B-338BC96A3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tu.int/ITU-D/e-strategy/internet/iptelephony/index.html" TargetMode="External"/><Relationship Id="rId2" Type="http://schemas.openxmlformats.org/officeDocument/2006/relationships/hyperlink" Target="http://www.itu.int/ITU-D/e-strategy/internet/iptelephony/index.html" TargetMode="External"/><Relationship Id="rId3" Type="http://schemas.openxmlformats.org/officeDocument/2006/relationships/hyperlink" Target="http://www.itu.int/ITU-D/e-strategy/internet/iptelephony/index.html" TargetMode="External"/><Relationship Id="rId4" Type="http://schemas.openxmlformats.org/officeDocument/2006/relationships/hyperlink" Target="http://www.itu.int/ITU-D/e-strategy/internet/iptelephony/index.html" TargetMode="External"/><Relationship Id="rId5" Type="http://schemas.openxmlformats.org/officeDocument/2006/relationships/hyperlink" Target="http://www.itu.int/ITU-D/e-strategy/internet/iptelephony/index.html" TargetMode="External"/><Relationship Id="rId6" Type="http://schemas.openxmlformats.org/officeDocument/2006/relationships/hyperlink" Target="http://www.itu.int/ITU-D/e-strategy/internet/iptelephony/index.html" TargetMode="External"/><Relationship Id="rId7" Type="http://schemas.openxmlformats.org/officeDocument/2006/relationships/hyperlink" Target="http://www.itu.int/ITU-D/e-strategy/internet/iptelephony/index.html" TargetMode="External"/><Relationship Id="rId8" Type="http://schemas.openxmlformats.org/officeDocument/2006/relationships/hyperlink" Target="mailto:desire.karyabwite@itu.int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00200"/>
            <a:ext cx="91440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IP Networ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Engines of Global Connectivity and Developmen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chnical Assistanc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tuoptim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3" name="itu-d-en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3667320" cy="81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411480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ésiré  Karyabwite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P Coordinator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TU / BDT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el: + 41 22 730 5009 Fax: + 41 22 730 5484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E-mail: desire.karyabwite@itu.in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45720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Our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o Foster the deployment of secure, cost-effective and sustainable IP-based infrastructure and value-added services in developing and least developed countries worldw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82640"/>
            <a:ext cx="769644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Our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echnology Implementation: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Coordinating the deployment of IP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frastructure together with value-added services as well as the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tegration of voice and data for various sect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e.g. IP Telephony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Capacity Building: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Facilitating the development of local capacity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rough human resources development in IP and e-Services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echnolog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licies and Strategies: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roviding guidance in the adoption of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ppropriate policies, strategies and the legislative environment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r e-Services deploy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artnerships and Alliances: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Encouraging beneficial partnerships and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lliances with and between various types of public and private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tor ent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152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-Strategy U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308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sotw9_temp0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057480" cy="476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304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IP Telephony in CH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4784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2847960" cy="2828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193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sotw9_temp0" descr=""/>
          <p:cNvPicPr/>
          <p:nvPr/>
        </p:nvPicPr>
        <p:blipFill>
          <a:blip r:embed="rId3"/>
          <a:stretch/>
        </p:blipFill>
        <p:spPr>
          <a:xfrm>
            <a:off x="4724280" y="4495680"/>
            <a:ext cx="31053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network" descr=""/>
          <p:cNvPicPr/>
          <p:nvPr/>
        </p:nvPicPr>
        <p:blipFill>
          <a:blip r:embed="rId1"/>
          <a:stretch/>
        </p:blipFill>
        <p:spPr>
          <a:xfrm>
            <a:off x="304920" y="174780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56" name="network1" descr=""/>
          <p:cNvPicPr/>
          <p:nvPr/>
        </p:nvPicPr>
        <p:blipFill>
          <a:blip r:embed="rId2"/>
          <a:stretch/>
        </p:blipFill>
        <p:spPr>
          <a:xfrm>
            <a:off x="4572000" y="1747800"/>
            <a:ext cx="3962520" cy="2976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00200" y="152280"/>
            <a:ext cx="6248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signing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P Advanced Network for 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72428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Network Covering the full territory of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’000 customers  (IP penetration : 0.4 per habitant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6120" y="4724280"/>
            <a:ext cx="85212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t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in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ITU-D/e-strategy/internet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iptelephony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5335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DT Follow-up Actions to the  World Telecommunication Policy Forum  on “IP Telephony”, Geneva, 7-9 March 200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905120"/>
            <a:ext cx="7239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PORT to WTDC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oup of Experts on "Internet Protocol (IP) Telephony"/ ITU-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P Telephony”:  Conclusions and main issues related to Opinion D part 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581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re details, please visit  BDT web site 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5638680"/>
            <a:ext cx="6858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Contact Mr.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desire.karyabwite@itu.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2:56:50Z</dcterms:created>
  <dc:creator>karyabwi</dc:creator>
  <dc:description/>
  <dc:language>en-US</dc:language>
  <cp:lastModifiedBy>karyabwi</cp:lastModifiedBy>
  <dcterms:modified xsi:type="dcterms:W3CDTF">2002-02-11T09:04:27Z</dcterms:modified>
  <cp:revision>5</cp:revision>
  <dc:subject/>
  <dc:title>PowerPoint Presentation</dc:title>
</cp:coreProperties>
</file>