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58DA-7595-4888-9BEC-BECD8F3D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3826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DA4E-B125-4DBB-9E61-68861A97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5916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DA9-F221-4CBF-A94C-D1B0C494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7108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7020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7108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7020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306A-2CCD-4E36-9379-5E6414F2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C5B4-3A2E-4AF8-93FA-1517200F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75D-7C16-4E31-ADA6-1004552F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D629-975D-4B3E-9351-A70A9C56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7610-130A-4500-889F-84D3B287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915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7A64-42B9-4636-A8CA-8E6570F7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8BF7-4D5B-4258-AF86-509C552D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5916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8F09-227F-4BCA-AC22-CA9465BA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36B8-E6D5-462F-AD61-ADB9E724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195560" cy="6858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790960" y="6172200"/>
            <a:ext cx="3011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1920" y="6248520"/>
            <a:ext cx="8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BC58-0139-45E7-9C97-51DC5F066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tu_t-105" descr=""/>
          <p:cNvPicPr/>
          <p:nvPr/>
        </p:nvPicPr>
        <p:blipFill>
          <a:blip r:embed="rId2"/>
          <a:stretch/>
        </p:blipFill>
        <p:spPr>
          <a:xfrm>
            <a:off x="0" y="0"/>
            <a:ext cx="1200240" cy="525600"/>
          </a:xfrm>
          <a:prstGeom prst="rect">
            <a:avLst/>
          </a:prstGeom>
          <a:ln w="0">
            <a:noFill/>
          </a:ln>
        </p:spPr>
      </p:pic>
      <p:pic>
        <p:nvPicPr>
          <p:cNvPr id="7" name="itubl_b-105" descr=""/>
          <p:cNvPicPr/>
          <p:nvPr/>
        </p:nvPicPr>
        <p:blipFill>
          <a:blip r:embed="rId3"/>
          <a:stretch/>
        </p:blipFill>
        <p:spPr>
          <a:xfrm>
            <a:off x="0" y="523800"/>
            <a:ext cx="1200240" cy="525600"/>
          </a:xfrm>
          <a:prstGeom prst="rect">
            <a:avLst/>
          </a:prstGeom>
          <a:ln w="0">
            <a:noFill/>
          </a:ln>
        </p:spPr>
      </p:pic>
      <p:grpSp>
        <p:nvGrpSpPr>
          <p:cNvPr id="8" name=""/>
          <p:cNvGrpSpPr/>
          <p:nvPr/>
        </p:nvGrpSpPr>
        <p:grpSpPr>
          <a:xfrm>
            <a:off x="0" y="685800"/>
            <a:ext cx="5167440" cy="7061040"/>
            <a:chOff x="0" y="685800"/>
            <a:chExt cx="5167440" cy="7061040"/>
          </a:xfrm>
        </p:grpSpPr>
        <p:pic>
          <p:nvPicPr>
            <p:cNvPr id="9" name="gl-1" descr=""/>
            <p:cNvPicPr/>
            <p:nvPr/>
          </p:nvPicPr>
          <p:blipFill>
            <a:blip r:embed="rId4"/>
            <a:stretch/>
          </p:blipFill>
          <p:spPr>
            <a:xfrm>
              <a:off x="0" y="685800"/>
              <a:ext cx="1181160" cy="704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gr-1" descr=""/>
            <p:cNvPicPr/>
            <p:nvPr/>
          </p:nvPicPr>
          <p:blipFill>
            <a:blip r:embed="rId5"/>
            <a:stretch/>
          </p:blipFill>
          <p:spPr>
            <a:xfrm>
              <a:off x="1195560" y="698400"/>
              <a:ext cx="3971880" cy="704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"/>
          <p:cNvSpPr/>
          <p:nvPr/>
        </p:nvSpPr>
        <p:spPr>
          <a:xfrm>
            <a:off x="1143000" y="0"/>
            <a:ext cx="8001000" cy="523800"/>
          </a:xfrm>
          <a:prstGeom prst="rect">
            <a:avLst/>
          </a:prstGeom>
          <a:solidFill>
            <a:srgbClr val="0000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150560" y="54000"/>
            <a:ext cx="54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International Telecommunication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UM: Convergence of Technology and Interes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0574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U Tutorial Workshop on EN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va, February 8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33640" y="4724280"/>
            <a:ext cx="4648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Sh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robert.shaw@itu.i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U Internet Strategy and Policy Adv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 Telecommunication Un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6361200"/>
            <a:ext cx="76201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views expressed in this paper are those of the author and may not necessarily reflect the opinions of the ITU or its membershi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ou me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IP Telepho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d solely across the public Intern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s underlying transport or signalling technology for PSTN services (e.g., using SS7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telephony on full end-to-end “private” IP networks (e.g., using “softswitch technology”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s of the above with gateways between Internet or private IP-based networks and the PST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all often treated differently from policy or regulatory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this really ab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ddress something is to assign it a unique value from a bounded range of values. Uniqueness is critical to functional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sure that addresses are unique, each assignment must be coordinated with all other assign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istence of this coordination problem usually means that names and numbers are administered by some form of collective action. That is, by groups rather than by individuals or a fi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this really ab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teresting and difficult policy problems are created by the need for collective action among businesses and organizations that might otherwise be rivals or autonomo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stitutional agent for the exercise of collective choice and the processes used are always the difficult p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case of ENUM, the historically different treatment of E.164 TNs and the DNS makes this very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UM: Technical Converg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of addressing calls that pass from one network service to anot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idely possible to originate calls from IP address-based networks to oth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uncommon to terminate calls from other networks to IP address-based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ess a subscriber on an IP address-based network, some sort of global addressing scheme across PSTN and IP address-based network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UM seen as “glue” solu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(shhhh..…) ENUM is also roundabout way to assign E.164 resources to SIP 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UM: IETF &amp; ITU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lephone numbering, regulators and policy makers have played increased “public policy” role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S has widespread commercialization, speculation, unintended use, ab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U &amp; IETF “convergence of interests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ization of DNS has dissolved original IETF vision of doing the “right thing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 1591 speaks of “service to the community” and not “rights of ownershi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ound remarkably like government public policy objectiv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Example of Mischief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hanks to E. Porteneuve in France &amp; ccTLDWat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ww.nic.td claims “The International Caribbean Telecom” is responsible for the country code .td (Cha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it has called the “Trade Domai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not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authoritative name server for .td po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tomcash.com &amp; contactbytel.com as authoritative for Ch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should not happ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 country code look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if it 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jack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 servers for contactbytel.com and www.nic.td are on same Internet host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actbytel.com deals in “audiotext” services (ahem.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act information give for domains 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biou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addresses for the same party are given as NYC, British Virgin Islands, London (only anonymous emai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likel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valid conta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agine this scenario in E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licious redirection to high-tariffed audiotext services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public policy issu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UG View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U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effects 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ity of national numbering sche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etition between service provi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lecommunications network secu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ber port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rier se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ergency services calls (including passing of location inform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v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 over personal reco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 of slamm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Secretary-General’s Report to ITU Council 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UM potentially renews the question of the appropriate framework for management of naming and addressing in an increasingly converged telecommunications and Internet/IP environ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ational and international level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countries are clearly starting to look at their ccTLDs as part of their national communications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9T09:25:51Z</dcterms:created>
  <dc:creator>Robert Shaw</dc:creator>
  <dc:description/>
  <dc:language>en-US</dc:language>
  <cp:lastModifiedBy>comas</cp:lastModifiedBy>
  <dcterms:modified xsi:type="dcterms:W3CDTF">2002-02-11T07:47:24Z</dcterms:modified>
  <cp:revision>318</cp:revision>
  <dc:subject/>
  <dc:title>PowerPoint Presentation</dc:title>
</cp:coreProperties>
</file>