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182E-CC44-4520-9903-555DC911D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42AA-EEFA-41CA-89D1-7FA029A3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964F-A57C-46E2-B1C2-867A2CED2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DE38-B60D-498D-8C43-39D630C02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D1F9-BDCC-4B55-86C8-7F3360939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FB6F-AFB5-42AA-8EF6-53D3A9F5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812B-DCCD-4007-8113-9C4586E0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29B6-FD1F-490B-900E-4AC9FF9C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1FCE-704F-47FF-AAE8-E7093D8D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AB8F-367B-4B6F-A008-A6742E86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9413-54C7-4857-82AC-A1088956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A6BD-579D-4A72-8255-E9964A3D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4FD6-0EDD-4FCA-8FD2-2BEE6271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F1C6-43B0-4F6A-B3EE-519C10BA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0744-B2EF-484C-A2C8-2E8C566C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3520-C635-46CC-B192-DA5F271F4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A383-C839-4BD1-849C-D4EB5462E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939F-C034-4BD9-9CE8-2A7DEBF1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F5BB-43D6-4BE7-BA26-29A91115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D44D-28B7-4886-BB15-6A2B0CC3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69A1-CFB4-4525-9F44-6A76F14E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0F56-95CB-4AF8-9D8D-598DC1D1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8789-9B70-4096-A6EC-27E06348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38CF-3939-49FE-AB2E-0822B3A9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2209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1907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B61E-6AEA-4D74-B83E-1E9CE725A5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895080" y="5166000"/>
            <a:ext cx="2165040" cy="1350720"/>
            <a:chOff x="6895080" y="5166000"/>
            <a:chExt cx="2165040" cy="1350720"/>
          </a:xfrm>
        </p:grpSpPr>
        <p:sp>
          <p:nvSpPr>
            <p:cNvPr id="6" name=""/>
            <p:cNvSpPr/>
            <p:nvPr/>
          </p:nvSpPr>
          <p:spPr>
            <a:xfrm rot="20940000">
              <a:off x="6934320" y="591984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91400" y="535320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320000">
              <a:off x="8282160" y="5257800"/>
              <a:ext cx="60948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0940000">
              <a:off x="7062840" y="601992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767720" y="542916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1320000">
              <a:off x="8358120" y="5409720"/>
              <a:ext cx="609840" cy="6098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380880" y="1219320"/>
            <a:ext cx="8305920" cy="380880"/>
            <a:chOff x="380880" y="1219320"/>
            <a:chExt cx="8305920" cy="380880"/>
          </a:xfrm>
        </p:grpSpPr>
        <p:sp>
          <p:nvSpPr>
            <p:cNvPr id="13" name=""/>
            <p:cNvSpPr/>
            <p:nvPr/>
          </p:nvSpPr>
          <p:spPr>
            <a:xfrm>
              <a:off x="609480" y="144792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80880" y="121932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">
            <a:hlinkClick r:id="" action="ppaction://hlinkshowjump?jump=previousslide"/>
          </p:cNvPr>
          <p:cNvSpPr/>
          <p:nvPr/>
        </p:nvSpPr>
        <p:spPr>
          <a:xfrm>
            <a:off x="781200" y="6416640"/>
            <a:ext cx="556920" cy="34776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nextslide"/>
          </p:cNvPr>
          <p:cNvSpPr/>
          <p:nvPr/>
        </p:nvSpPr>
        <p:spPr>
          <a:xfrm>
            <a:off x="1447920" y="6416640"/>
            <a:ext cx="556920" cy="34776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75960" y="6323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3655-8B76-4C1A-ACDE-D2D46FD200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828800" y="304920"/>
            <a:ext cx="457200" cy="45720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10000" y="171360"/>
            <a:ext cx="419040" cy="41904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20940000">
            <a:off x="1752480" y="228600"/>
            <a:ext cx="457200" cy="45720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33680" y="19080"/>
            <a:ext cx="419040" cy="41904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895080" y="5089680"/>
            <a:ext cx="2165040" cy="1350720"/>
            <a:chOff x="6895080" y="5089680"/>
            <a:chExt cx="2165040" cy="1350720"/>
          </a:xfrm>
        </p:grpSpPr>
        <p:sp>
          <p:nvSpPr>
            <p:cNvPr id="62" name=""/>
            <p:cNvSpPr/>
            <p:nvPr/>
          </p:nvSpPr>
          <p:spPr>
            <a:xfrm rot="20940000">
              <a:off x="6934320" y="584352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691400" y="527688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320000">
              <a:off x="8282160" y="5181480"/>
              <a:ext cx="609480" cy="60984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0940000">
              <a:off x="7062840" y="594360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767720" y="535320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320000">
              <a:off x="8358120" y="5333760"/>
              <a:ext cx="60984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 rot="1320000">
            <a:off x="168120" y="244080"/>
            <a:ext cx="882720" cy="882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siderations on ENUM from Chin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2951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hangj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TT of MI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tent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Attractions and importance of ENU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Requirements issu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A possible resolu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Advantages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paring to using “e164.arpa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urrent situation for this possibil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ttractions and importance of ENUM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735480" indent="-28296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ables to use a single E164 number to access different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cessed from both circuit switching network and IP based network (including Intern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mote the convergence of PSTN and 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 as an important role in the next generation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ing great impact to the traditional telecommunication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quirements issued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t use and effective management of E.164 numbering resour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of Services provided through ENUM should be ensur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 possible solution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stablish a new TLD(e.g. e164) special for ENUM implementation and make an international, neutral and fair organization (e.g. ITU-T) to administer the new TL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Advantages </a:t>
            </a: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comparing to using “e164.arpa”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duce one level of address resolution and speed up the resolu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 consensus about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mote the rationalization of traffic distribution in Intern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 propitious to establish a more logical management mechanis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Current situation for this possibility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 consens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correspondence group has been established to develop a document on the information required to request a new TLD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related work is going on.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13:44:32Z</dcterms:created>
  <dc:creator>zhangjie</dc:creator>
  <dc:description/>
  <dc:language>en-US</dc:language>
  <cp:lastModifiedBy>zhangjie</cp:lastModifiedBy>
  <dcterms:modified xsi:type="dcterms:W3CDTF">2002-02-08T14:34:01Z</dcterms:modified>
  <cp:revision>13</cp:revision>
  <dc:subject/>
  <dc:title>Considerations on ENUM from China</dc:title>
</cp:coreProperties>
</file>