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E82-3C33-40D4-BF37-CFB2DF20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F4E-4495-45F4-8B22-1BEA930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A22-9D50-4D23-9A4D-5805094F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108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702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108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702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AF0-D5FE-4A08-8074-56AF7B89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600-3D0A-46D6-9E26-E3196BDC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0F8-065C-4B8F-8692-22A3EDDA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F2F-0FE1-498C-BD9B-802D1C0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3A5-2F3D-4FB6-BA62-497633F8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915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E03-83A6-4BA1-A9A2-68BDD8A0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07A-B534-4205-AAFD-9E810E3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2FA-EF99-46EF-A5B1-7716451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250-0B86-4C31-AC0A-8675F6A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172200"/>
            <a:ext cx="301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920" y="624852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7996-A1B2-4E60-8179-F24555AF9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tu_t-105" descr=""/>
          <p:cNvPicPr/>
          <p:nvPr/>
        </p:nvPicPr>
        <p:blipFill>
          <a:blip r:embed="rId2"/>
          <a:stretch/>
        </p:blipFill>
        <p:spPr>
          <a:xfrm>
            <a:off x="0" y="0"/>
            <a:ext cx="1200240" cy="525600"/>
          </a:xfrm>
          <a:prstGeom prst="rect">
            <a:avLst/>
          </a:prstGeom>
          <a:ln w="0">
            <a:noFill/>
          </a:ln>
        </p:spPr>
      </p:pic>
      <p:pic>
        <p:nvPicPr>
          <p:cNvPr id="6" name="itubl_b-105" descr=""/>
          <p:cNvPicPr/>
          <p:nvPr/>
        </p:nvPicPr>
        <p:blipFill>
          <a:blip r:embed="rId3"/>
          <a:stretch/>
        </p:blipFill>
        <p:spPr>
          <a:xfrm>
            <a:off x="0" y="523800"/>
            <a:ext cx="1200240" cy="525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43000" y="0"/>
            <a:ext cx="8001000" cy="523800"/>
          </a:xfrm>
          <a:prstGeom prst="rect">
            <a:avLst/>
          </a:prstGeom>
          <a:solidFill>
            <a:srgbClr val="000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150560" y="54000"/>
            <a:ext cx="54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International Telecommunicatio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UM Organizational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495680"/>
            <a:ext cx="46479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Hill,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lin Zh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ommunication Standardization Bur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Telecommunication 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2819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lecommunication Standardization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UM Tutorial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U Future Activ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circulation of tutoria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e with IAB/IETF to make final choice of TLD, registry, requirements for registry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m admin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ENUM Supplement in May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E.A-ENUM, May 20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topic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of telephone numbers onto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allow conventional telephones to call IP terminals (PC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elephone numbers used in this way be subject to government oversight and reg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hould exercise control over telephone numbers used in this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of Conver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f addressing calls that pass from one network service to an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idely possible to originate calls from IP address-based networks to oth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ncommon to terminate calls from other networks to IP address-bas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 a subscriber on an IP address-based network, some sort of global addressing scheme across PSTN and IP address-based network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 may be solu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E.164 infrastructure and policy issues, not ENUM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Complex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lecommunication numbering, regulatory tradition with strong government invol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.g., number portability,consumer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Internet, management of naming and addres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ft to “industry self-regul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ional numb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regulato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uthor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 in coordinatin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s &amp; servic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their portion of E.164 resources in respectiv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t ENUM service and administrative decisions are national issues under purview of ITU Member States, since most E.164 resources are utilize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eed to 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sure that Member State h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ll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horized inclusion of geographic country code in the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integrated numbering plan, ea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 Member St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in plan may administer their portion of E.164 resources mapped into 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y see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U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ine and implement administrative procedures that coordinate delegations of E.164 numbering resources into the agreed DNS nam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Recommendation E.A-ENUM is being prepared by Study Group 2 for presentation to the May SG2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Consideratio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ltation process with interested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deployme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authenticate the identity of the subscriber for ENUM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ENUM Registrars and what are they responsible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validate ENUM data for potential users ( Add - Modify – Delete) NAPTR list of services and pre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data provisioned in the country code name ser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U Past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 of tutorial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SG 2 preparing supplement 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sues that need to be addressed by national and international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SG 2 Meeting in Sept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with IETF on roles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9:25:51Z</dcterms:created>
  <dc:creator>Robert Shaw</dc:creator>
  <dc:description/>
  <dc:language>en-US</dc:language>
  <cp:lastModifiedBy>UGALE, Arvin Carlos D.</cp:lastModifiedBy>
  <dcterms:modified xsi:type="dcterms:W3CDTF">2002-02-07T16:12:35Z</dcterms:modified>
  <cp:revision>234</cp:revision>
  <dc:subject/>
  <dc:title>PowerPoint Presentation</dc:title>
</cp:coreProperties>
</file>