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44E-1556-4511-AF6C-474558E8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CC8-0474-422B-861A-444B02D4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952-A8D9-45CA-B15C-1CDA23BB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095-B9A1-46BC-991F-FCD76AF4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75989-B3B7-492E-A5C4-9C24724B06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741AD-5A4E-4DE2-8CF6-7439AE7BC1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E055D-0D57-4264-9E8F-A324BC63F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CB71D-1EF6-41F0-A2E5-E124674A4B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8FADD-E4ED-4D56-B238-893C614C5A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87500-F232-47AC-B62A-96BF7C4729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5DC9-1642-466A-ADF8-8DB70385E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551-3D9D-46A2-B510-2E02FBE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999BB-E91B-472E-B316-291396FFD6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8948D-1A0B-4ED2-8B6D-77DCC49CDE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EE9CF-3C9E-43C9-8F05-937A963A6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6000-95E6-4907-91DB-C284FBB6E7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0C8D4-EB51-4278-94F3-E7F914D5B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7DD-DBBE-4DC1-B8A7-8AFE14CA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46E-C4B2-4875-87AE-AC280ACE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99D-0D0D-4C10-943D-B5FFEA39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3A2-BD0A-46B0-8AA7-B142B63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171-6BB8-428D-A091-3BBF102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C63-947B-4FD0-8221-A121E73B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6FF-1AC4-4382-81A2-25D4D9B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499"/>
              </a:spcBef>
              <a:spcAft>
                <a:spcPts val="250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6012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4388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72800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72800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728000" indent="-19188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4545-DEE4-4A72-AA30-B42C0E6CF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1440"/>
            <a:ext cx="606600" cy="13687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000" y="1523880"/>
            <a:ext cx="784548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E922-BD07-4E69-AC46-71948776D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37360" y="6019920"/>
            <a:ext cx="20322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609480" cy="1371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80880"/>
            <a:ext cx="594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bruary 8th, 2002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U ENUM Tutorial 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19920"/>
            <a:ext cx="3352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islas Bour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rité de régulation des télé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é Intern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 Interconnexion et Nouvelles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200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operative work in France on ENUM implem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21A35-A69A-4283-A72E-CC2FD07060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operative work in France on ENUM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7524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534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consultation was performed in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form actors, to identify main issues, to draw up possible answers, how could France participat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ibutions from a great diversity of actors: telephone service providers, ISPs, Internet registries and registrars, equipment manufacturers, associations, research bodies, consulting fi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rong consensus on several requirements for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dhoc working group is pursuing cooperative work on ENUM implementation 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tential applications and uses of ENUM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k on various implementation models at Tie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bed, 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hoc group has a consultative role for the contributions of France to ITU SG2 or ETSI SPAN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002-2990-47CD-8FB7-CAEF1DA321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General consideration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8534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NUM domain name is strongly linked to a E.164 telephone number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ENUM domain name is built on a resource already assigned,  used to provide services and strictly regulated for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ENUM domain name is just another way of representing a E.164 number to be used as a key identifier in an IP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entities are going to be involved in the management of an ENUM domain name than in the management of names in « .com », « .fr »,..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ing questions are crucial for the competitive situation towards end users and for consumer protection: that’s why numbering is managed by neutral organizations with objective and non discriminatory rules for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EBE-16AF-4FBC-8D6B-B81D5CED11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752480"/>
            <a:ext cx="8839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E.164 numbering plan integrity should be maintain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ENUM subscriber must be the assignee of an E164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legation of ENUM domains should strictly follow at each level procedures for assignment of E.164 number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TU-T should be designated in a written document, agreed with Internet governance bodies, as the administrative responsible organisation of the Tier 0 doma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mplementation procedures must take due account of different format,method of management of E164 numbering plans, obligations imposed to operators by regulation on numbe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same confidence in ENUM domain names should be assured as the confidence in E.164 numb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2BE-42C3-491F-866D-888C404D2B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8288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ertion of E.164 numbers within the ENUM DNS tree should be the result of an ‘Opt-in’ scheme at eac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ertion of numbers in ENUM should occur in manner  that is in full compliance with all relevant national regulator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s for delegation at Tier 0 should be rapidly completed    in a recognized written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oice of the TLD is not the main debate: e164.arpa is fine provided ITU-T has the responsibility of it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er 0 Registry should be chosen on an open procedure by I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greement on e164.arpa if ITU-T is not recognized as the domain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76"/>
              </a:spcBef>
              <a:spcAft>
                <a:spcPts val="1188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B2D-D11C-49E5-BF1C-02DB8134B0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ompetitive situation between ENUM-based ASP should be maintained and depends on the Tier 2 implementation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links between a Tier 2 entity and an ASP will occur, the risk has been identified that the first ASP would be the only one able to provide ENUM-bas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question occurs whatever the Tier 2 will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33cc"/>
              </a:buClr>
              <a:buSzPct val="20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er 2 implementation need careful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spcAft>
                <a:spcPts val="1188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D79-9E29-428A-880C-125CF460E4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lementation at Tier 1 et Tier 2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lementation at Tier 1 and Tier 2 are national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orts to create an harmonised framework for implementation are welcomed and encour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requirements should be agreed up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no implementation model should preclude the choice for a Member State to determine the rules for administration issues at Tier 1 and Tier 2, between several proposed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final decision in France, with regard to the concerns ab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stbed may be useful to validate models: France has called for tria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79E-7DB7-41B5-94E5-EBCAD0C6C1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ier 2 implementation</a:t>
            </a:r>
            <a:r>
              <a:rPr b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2388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 main concerns should be kept in min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herence with the numbering plan and its management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etitive situation between ASPs and prevention of customer lock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mote competition between Tier 2 registrars doesn’t address enough these concer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proper validation mechanism involving the TSP is neede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to deal with Tier 2 registrars based outside the scope of national/european regula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urgently, the way to ensure a competitive environment between ASPs should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user should be able to choose its ASPs independently of its Tier 2 regist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risk has been identified that the first chosen ASP will be the only one able to provide ENUM services and that the end used will be locked-in in the first Tier 2 regist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680" y="382104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83200" y="4340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0240" y="4471920"/>
            <a:ext cx="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83B-5E20-4283-B5C7-4806015313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7524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8839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ot of issues have still no answer or should be precisely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the status of RFC 2916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ch a written agreement about domain responsibilities and procedures at the internation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carefully Tier 2 implementation models and the need for their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507-C872-465C-9915-AEA0840220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i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ART</dc:creator>
  <dc:description/>
  <dc:language>en-US</dc:language>
  <cp:lastModifiedBy>ART</cp:lastModifiedBy>
  <cp:lastPrinted>2001-12-26T10:01:56Z</cp:lastPrinted>
  <dcterms:modified xsi:type="dcterms:W3CDTF">2002-02-06T07:56:29Z</dcterms:modified>
  <cp:revision>485</cp:revision>
  <dc:subject/>
  <dc:title>La régulation des télécommunications</dc:title>
</cp:coreProperties>
</file>