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94525" cy="927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4800" cy="92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D45C-66E7-495E-943B-0FB79222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 will lead NeuStar and SMS/800 discussions, Rick will lead NAN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Star just announced two new investment partners in an Ex Parte to the FCC; they said they were not telecommunications providers. Trisa Rimo and Mike Knapp in D.C are trying to find out who inv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originally bid ~60M for NeuStar, but Warburg bid ~70M to 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Star just announced two new investment partners in an Ex Parte to the FCC; they said they were not telecommunications providers. Trisa Rimo and Mike Knapp in D.C are trying to find out who inv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originally bid ~60M for NeuStar, but Warburg bid ~70M to 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Star just announced two new investment partners in an Ex Parte to the FCC; they said they were not telecommunications providers. Trisa Rimo and Mike Knapp in D.C are trying to find out who inv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originally bid ~60M for NeuStar, but Warburg bid ~70M to 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Star just announced two new investment partners in an Ex Parte to the FCC; they said they were not telecommunications providers. Trisa Rimo and Mike Knapp in D.C are trying to find out who inv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originally bid ~60M for NeuStar, but Warburg bid ~70M to 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Star just announced two new investment partners in an Ex Parte to the FCC; they said they were not telecommunications providers. Trisa Rimo and Mike Knapp in D.C are trying to find out who inve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cordia originally bid ~60M for NeuStar, but Warburg bid ~70M to 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12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42416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36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12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502080"/>
            <a:ext cx="2386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36440" y="58068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35520" y="350208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644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35520" y="1424160"/>
            <a:ext cx="36176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6440" y="3502080"/>
            <a:ext cx="741348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4c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6440" y="58068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6440" y="1424160"/>
            <a:ext cx="741348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99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2" marL="750960" indent="-160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3" marL="1035000" indent="-169920">
              <a:spcBef>
                <a:spcPts val="499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4" marL="1319040" indent="-10944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5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6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036800" y="566640"/>
            <a:ext cx="7783200" cy="608508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4c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42240" y="6515280"/>
            <a:ext cx="17622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Gary Richenaker – </a:t>
            </a:r>
            <a:fld id="{5DA19C09-B46D-4E9C-BD32-0F60A507F344}" type="slidenum"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6515280"/>
            <a:ext cx="454176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Copyright © 2002 Telcordia Technologies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" descr=""/>
          <p:cNvPicPr/>
          <p:nvPr/>
        </p:nvPicPr>
        <p:blipFill>
          <a:blip r:embed="rId2"/>
          <a:stretch/>
        </p:blipFill>
        <p:spPr>
          <a:xfrm>
            <a:off x="244440" y="5883120"/>
            <a:ext cx="1408320" cy="63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560" y="228564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4c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2970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2" marL="590400" algn="ctr">
              <a:spcBef>
                <a:spcPts val="400"/>
              </a:spcBef>
              <a:buClr>
                <a:srgbClr val="004ca5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lvl="3" marL="865080" algn="ctr">
              <a:spcBef>
                <a:spcPts val="349"/>
              </a:spcBef>
              <a:buClr>
                <a:srgbClr val="004ca5"/>
              </a:buClr>
              <a:buFont typeface="ITCCentury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4" marL="1209600" algn="ctr">
              <a:spcBef>
                <a:spcPts val="34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5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6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H="1">
            <a:off x="1596960" y="241452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4c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0880" y="259848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U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atus of US Implementation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172200"/>
            <a:ext cx="436428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4224240"/>
            <a:ext cx="4221000" cy="250560"/>
            <a:chOff x="3581280" y="4224240"/>
            <a:chExt cx="4221000" cy="250560"/>
          </a:xfrm>
        </p:grpSpPr>
        <p:sp>
          <p:nvSpPr>
            <p:cNvPr id="93" name=""/>
            <p:cNvSpPr/>
            <p:nvPr/>
          </p:nvSpPr>
          <p:spPr>
            <a:xfrm>
              <a:off x="3581280" y="4224240"/>
              <a:ext cx="1851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81400" y="4224240"/>
              <a:ext cx="18208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711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530000" y="6294600"/>
            <a:ext cx="128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TCCentury Light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ermanent%20Logo" descr=""/>
          <p:cNvPicPr/>
          <p:nvPr/>
        </p:nvPicPr>
        <p:blipFill>
          <a:blip r:embed="rId1"/>
          <a:stretch/>
        </p:blipFill>
        <p:spPr>
          <a:xfrm>
            <a:off x="934920" y="579600"/>
            <a:ext cx="2695680" cy="1209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4191120"/>
            <a:ext cx="32022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8920" y="4478400"/>
            <a:ext cx="21085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ry Richen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 973 829 43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chena@telcordia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14720" y="6183360"/>
            <a:ext cx="4572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Copyright © 2001 Telcordia Technologies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ITCCentury Light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9480" y="275760"/>
            <a:ext cx="7610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– Status of US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2632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 Forum established in August 2001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Industry Forum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five Task Groups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and Infrastructure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and Privacy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working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two advisory groups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Experts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Communication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9480" y="275760"/>
            <a:ext cx="7610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– Status of US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26320" cy="42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sson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mary mission of the ENUM Forum is to develop the implementation framework for deploying RFC 2916 in a two-tiered DNS structure rooted under “e164.arpa” for E.164 numbers within the United States and a potential common implementation with other countries served by the North American Numbering Plan (NANP)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Tier 1 and Tier 2 requirements documents that will include the architecture for the Tier 1 and Tier 2 name servers with detailed functional descriptions and message flows between the entities including Tier 1 providers, Tier 2 providers, registrars, telephone &amp; application service providers, and end users.  The work will also include discussing and exploring methodologies for interworking with other ENUM instantiations. 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9480" y="275760"/>
            <a:ext cx="7610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– Status of US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26320" cy="42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chitecture and Infrastructure Task Group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9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key requirements for deployment of ENUM in the US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sioning Task Group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9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key requirements and procedures related to entering and maintaining resource records into ENUM DNS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urity and Privacy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9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security and privacy requirements and mechanisms related to the provisioning and operation of ENUM 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9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key scenarios related to the application of ENUM 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90000"/>
              </a:lnSpc>
              <a:spcBef>
                <a:spcPts val="451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key requirements related to the interworking of other ENUM trees with the ENUM tree rooted in e164.arpa 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9480" y="275760"/>
            <a:ext cx="7610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– Status of US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26320" cy="42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jor Issues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gle or multiple Tier 1’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 of Tier 1 requirement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/Regulatory involvemen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a set of Tier 1 requirements by early summer 2002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can be followed:</a:t>
            </a:r>
            <a:endParaRPr b="0" lang="en-US" sz="24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lnSpc>
                <a:spcPct val="100000"/>
              </a:lnSpc>
              <a:spcBef>
                <a:spcPts val="499"/>
              </a:spcBef>
              <a:buClr>
                <a:srgbClr val="004ca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ww.ENUM-Forum.org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9480" y="275760"/>
            <a:ext cx="761040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 – Status of US Implement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: Multiple or single Tier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1886040"/>
            <a:ext cx="8394120" cy="3127320"/>
            <a:chOff x="324000" y="1886040"/>
            <a:chExt cx="8394120" cy="3127320"/>
          </a:xfrm>
        </p:grpSpPr>
        <p:sp>
          <p:nvSpPr>
            <p:cNvPr id="110" name=""/>
            <p:cNvSpPr/>
            <p:nvPr/>
          </p:nvSpPr>
          <p:spPr>
            <a:xfrm>
              <a:off x="2388960" y="1886040"/>
              <a:ext cx="420192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1520" y="1886040"/>
              <a:ext cx="445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            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ENUM TIER-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Times New Roman"/>
                </a:rPr>
                <a:t>pointers to name servers for ENUM Tier-1 regis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06880" y="2495520"/>
              <a:ext cx="20998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0200" y="2800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4400" y="2876760"/>
              <a:ext cx="2493720" cy="2136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43560" y="2952720"/>
              <a:ext cx="22471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ENUM TIER-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REGISTRY F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UNTRY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9520" y="2895840"/>
              <a:ext cx="2455560" cy="2057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73200" y="2895840"/>
              <a:ext cx="25905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ENUM TIER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REGISTRY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UNTRY CODE 1 PLUS NP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pointers to name servers of    ENUM Tier-2 provider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on individual E.164 number ba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87600" y="251460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6600" y="2886120"/>
              <a:ext cx="2655360" cy="2067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00" y="2886120"/>
              <a:ext cx="266832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ENUM TIER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REGISTRY F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COUNTRY CODE 1 PLUS NP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pointers to name servers of  ENUM Tier-2 provider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57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on individual E.164 number ba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390400" y="2495520"/>
              <a:ext cx="1132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3760" y="3505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22560" y="2362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2T19:00:53Z</dcterms:created>
  <dc:creator>RUBYT</dc:creator>
  <dc:description/>
  <dc:language>en-US</dc:language>
  <cp:lastModifiedBy>comas</cp:lastModifiedBy>
  <cp:lastPrinted>2001-08-15T12:47:48Z</cp:lastPrinted>
  <dcterms:modified xsi:type="dcterms:W3CDTF">2002-02-07T08:19:59Z</dcterms:modified>
  <cp:revision>63</cp:revision>
  <dc:subject/>
  <dc:title>Presentation Template  for Telcordia Technologies</dc:title>
</cp:coreProperties>
</file>