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8.png" ContentType="image/png"/>
  <Override PartName="/ppt/media/image10.pct" ContentType="image/x-pict"/>
  <Override PartName="/ppt/media/image9.png" ContentType="image/png"/>
  <Override PartName="/ppt/media/image11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D14C-E815-41BA-9C96-3EB3713BC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516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the caching resolver can insert data into the cache, and can "query" the cache and the databas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99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2 Nominum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178760" y="6354720"/>
            <a:ext cx="1660320" cy="3286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2640" y="6363360"/>
            <a:ext cx="11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TU ENUM Worksh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an 8, 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0.pct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Quick Introduction to the Domain Nam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m R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im.reid@nominum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, European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minum L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imit to the size of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erver has over 20,000,000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particularly good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imit to the number of qu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-30,000 queries per second handled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ies distributed among masters, slaves, and c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s repl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rom master is copied to multiple slave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can 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of the copies at slave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will typically query local c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protocols can use either UDP or T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UDP, DNS protocol handles retransmission, sequencing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can be updated dynam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/delete/modify any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cation of the master database triggers replication to slave name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master can be dynamically upd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a single point of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the D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nam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ol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Structure and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NS in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68560" y="2684520"/>
            <a:ext cx="7918200" cy="42656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ame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 sp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tructure of the DNS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verted tree with the root node at the 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has a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ot node has a null label, written as “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3913200"/>
          <a:ext cx="758808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13200"/>
                    <a:ext cx="758808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nalogy – E.1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66356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node maintained by the ITU (call it “+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level nodes = country codes (1, 81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level nodes = regional codes (1-808, 81-3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59000" y="3373560"/>
          <a:ext cx="4624560" cy="29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9000" y="3373560"/>
                    <a:ext cx="4624560" cy="29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648320" y="2185920"/>
          <a:ext cx="4267080" cy="31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85920"/>
                    <a:ext cx="4267080" cy="31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node in the tree must have a la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tring of up to 63 8 bit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NS protocol makes NO limitation on what binary values are used in lab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Cs 952 and 1123 define legal characters for “hostnam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-Z, 0-9, and “-” only with a-z and A-Z treated as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bling nodes must have unique lab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ll label is reserved for the roo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46760" y="4322880"/>
            <a:ext cx="720720" cy="1239840"/>
          </a:xfrm>
          <a:prstGeom prst="noSmoking">
            <a:avLst>
              <a:gd name="adj" fmla="val 12500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4343400"/>
            <a:ext cx="718920" cy="1239840"/>
          </a:xfrm>
          <a:prstGeom prst="noSmoking">
            <a:avLst>
              <a:gd name="adj" fmla="val 12500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main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main 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sequence of labels from a node to the root, separated by dots (“.”s), read left to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ame space has a maximum depth of 127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ain names are limited to 255 characters in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ode’s domain name identifies its position in the nam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38360" y="3633840"/>
          <a:ext cx="7081560" cy="26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360" y="3633840"/>
                    <a:ext cx="7081560" cy="26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dom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domain i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do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other if its apex node is a descendant of the other’s apex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imply, one domain is a subdomain of another if its domain name ends in the other’s domain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ales.nominu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ubdomai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minum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ubdomai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ors can create subdomains to group h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rding to geography, organizational affiliation or any other criter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is isn’t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ent domain retains links to the delegated sub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ent domain “remembers” who it delegated the subdomain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the D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Structure and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NS in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gation Creates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ime an administrator delegates a subdomain, a new unit of administration is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bdomain and its parent domain can now be administered independ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unit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undary between zones is a point of delegation in the nam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ion is good: it is the key to sca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ding a Domain into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457280" y="1233360"/>
            <a:ext cx="6459480" cy="4912920"/>
            <a:chOff x="1457280" y="1233360"/>
            <a:chExt cx="6459480" cy="4912920"/>
          </a:xfrm>
        </p:grpSpPr>
        <p:grpSp>
          <p:nvGrpSpPr>
            <p:cNvPr id="101" name=""/>
            <p:cNvGrpSpPr/>
            <p:nvPr/>
          </p:nvGrpSpPr>
          <p:grpSpPr>
            <a:xfrm>
              <a:off x="1457280" y="2173320"/>
              <a:ext cx="6160680" cy="3972960"/>
              <a:chOff x="1457280" y="2173320"/>
              <a:chExt cx="6160680" cy="3972960"/>
            </a:xfrm>
          </p:grpSpPr>
          <p:sp>
            <p:nvSpPr>
              <p:cNvPr id="102" name=""/>
              <p:cNvSpPr/>
              <p:nvPr/>
            </p:nvSpPr>
            <p:spPr>
              <a:xfrm>
                <a:off x="3907800" y="2173320"/>
                <a:ext cx="1303920" cy="3289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57280" y="4718520"/>
                <a:ext cx="6160680" cy="14277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5762520" y="1233360"/>
              <a:ext cx="2154240" cy="752400"/>
            </a:xfrm>
            <a:prstGeom prst="wedgeRectCallout">
              <a:avLst>
                <a:gd name="adj1" fmla="val -76824"/>
                <a:gd name="adj2" fmla="val 8354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minum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 do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400560" y="2176560"/>
            <a:ext cx="5343480" cy="3096360"/>
            <a:chOff x="3400560" y="2176560"/>
            <a:chExt cx="5343480" cy="3096360"/>
          </a:xfrm>
        </p:grpSpPr>
        <p:grpSp>
          <p:nvGrpSpPr>
            <p:cNvPr id="106" name=""/>
            <p:cNvGrpSpPr/>
            <p:nvPr/>
          </p:nvGrpSpPr>
          <p:grpSpPr>
            <a:xfrm>
              <a:off x="3400560" y="3911400"/>
              <a:ext cx="2290680" cy="1361520"/>
              <a:chOff x="3400560" y="3911400"/>
              <a:chExt cx="2290680" cy="1361520"/>
            </a:xfrm>
          </p:grpSpPr>
          <p:sp>
            <p:nvSpPr>
              <p:cNvPr id="107" name=""/>
              <p:cNvSpPr/>
              <p:nvPr/>
            </p:nvSpPr>
            <p:spPr>
              <a:xfrm>
                <a:off x="3943440" y="3911400"/>
                <a:ext cx="1200240" cy="8283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400560" y="4739760"/>
                <a:ext cx="2290680" cy="5331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589800" y="2176560"/>
              <a:ext cx="2154240" cy="752400"/>
            </a:xfrm>
            <a:prstGeom prst="wedgeRectCallout">
              <a:avLst>
                <a:gd name="adj1" fmla="val -118606"/>
                <a:gd name="adj2" fmla="val 18481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minum.com z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187960" y="3317760"/>
            <a:ext cx="3771720" cy="2754000"/>
            <a:chOff x="5187960" y="3317760"/>
            <a:chExt cx="3771720" cy="2754000"/>
          </a:xfrm>
        </p:grpSpPr>
        <p:grpSp>
          <p:nvGrpSpPr>
            <p:cNvPr id="111" name=""/>
            <p:cNvGrpSpPr/>
            <p:nvPr/>
          </p:nvGrpSpPr>
          <p:grpSpPr>
            <a:xfrm>
              <a:off x="5187960" y="4741560"/>
              <a:ext cx="2330280" cy="1330200"/>
              <a:chOff x="5187960" y="4741560"/>
              <a:chExt cx="2330280" cy="1330200"/>
            </a:xfrm>
          </p:grpSpPr>
          <p:sp>
            <p:nvSpPr>
              <p:cNvPr id="112" name=""/>
              <p:cNvSpPr/>
              <p:nvPr/>
            </p:nvSpPr>
            <p:spPr>
              <a:xfrm>
                <a:off x="5824440" y="4741560"/>
                <a:ext cx="1103400" cy="7272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187960" y="5383080"/>
                <a:ext cx="2330280" cy="6886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805440" y="3317760"/>
              <a:ext cx="2154240" cy="752400"/>
            </a:xfrm>
            <a:prstGeom prst="wedgeRectCallout">
              <a:avLst>
                <a:gd name="adj1" fmla="val -45949"/>
                <a:gd name="adj2" fmla="val 133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ms.nominum.com z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4160" y="3540240"/>
            <a:ext cx="3641400" cy="2542680"/>
            <a:chOff x="254160" y="3540240"/>
            <a:chExt cx="3641400" cy="2542680"/>
          </a:xfrm>
        </p:grpSpPr>
        <p:grpSp>
          <p:nvGrpSpPr>
            <p:cNvPr id="116" name=""/>
            <p:cNvGrpSpPr/>
            <p:nvPr/>
          </p:nvGrpSpPr>
          <p:grpSpPr>
            <a:xfrm>
              <a:off x="1554120" y="4744800"/>
              <a:ext cx="2341440" cy="1338120"/>
              <a:chOff x="1554120" y="4744800"/>
              <a:chExt cx="2341440" cy="1338120"/>
            </a:xfrm>
          </p:grpSpPr>
          <p:sp>
            <p:nvSpPr>
              <p:cNvPr id="117" name=""/>
              <p:cNvSpPr/>
              <p:nvPr/>
            </p:nvSpPr>
            <p:spPr>
              <a:xfrm>
                <a:off x="1554120" y="5381280"/>
                <a:ext cx="2341440" cy="7016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143080" y="4744800"/>
                <a:ext cx="1147680" cy="6476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54160" y="3540240"/>
              <a:ext cx="2154240" cy="752400"/>
            </a:xfrm>
            <a:prstGeom prst="wedgeRectCallout">
              <a:avLst>
                <a:gd name="adj1" fmla="val 38282"/>
                <a:gd name="adj2" fmla="val 11202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wc.nominum.com z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0" name=""/>
          <p:cNvGraphicFramePr/>
          <p:nvPr/>
        </p:nvGraphicFramePr>
        <p:xfrm>
          <a:off x="1593720" y="2184480"/>
          <a:ext cx="5940720" cy="380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93720" y="2184480"/>
                    <a:ext cx="594072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the D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m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ol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Structure and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NS in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servers store information about the name space in units called “zon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servers that load a complete zone are said to “have authority for” or “be authoritative for” the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, more than one name server are authoritative for the same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nsures redundancy and spreads the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a single name server may be authoritative for many z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Servers and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93920" y="2195640"/>
            <a:ext cx="1704960" cy="107136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8.1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57960" y="2460600"/>
            <a:ext cx="984240" cy="1071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minum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6880" y="5019840"/>
            <a:ext cx="1692000" cy="107136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4.152.187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93920" y="3540240"/>
            <a:ext cx="1704960" cy="107136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.12.28.1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48080" y="1728720"/>
            <a:ext cx="20271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ame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57960" y="4010040"/>
            <a:ext cx="984240" cy="1071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c.or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52840" y="1765440"/>
            <a:ext cx="9878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41800" y="2662200"/>
            <a:ext cx="214812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41800" y="2662200"/>
            <a:ext cx="2008440" cy="16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041800" y="3200040"/>
            <a:ext cx="1731960" cy="87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80040" y="4813200"/>
            <a:ext cx="1870200" cy="60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1643040"/>
            <a:ext cx="2128680" cy="1378080"/>
          </a:xfrm>
          <a:prstGeom prst="wedgeRoundRectCallout">
            <a:avLst>
              <a:gd name="adj1" fmla="val 86986"/>
              <a:gd name="adj2" fmla="val 3790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8.8.10.5 serves data for both nominum.com and isc.org z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1480" y="3306600"/>
            <a:ext cx="1803600" cy="1378080"/>
          </a:xfrm>
          <a:prstGeom prst="wedgeRoundRectCallout">
            <a:avLst>
              <a:gd name="adj1" fmla="val 99208"/>
              <a:gd name="adj2" fmla="val 11518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.12.28.129 serves data for nominum.com zone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2440" y="4983120"/>
            <a:ext cx="2203560" cy="1127160"/>
          </a:xfrm>
          <a:prstGeom prst="wedgeRoundRectCallout">
            <a:avLst>
              <a:gd name="adj1" fmla="val 80041"/>
              <a:gd name="adj2" fmla="val 10703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4.152.187.11 serves data for isc.org zone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Name 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in types of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ative – maintains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ter – where the data is ed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ave – where data is replicat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 – stores data obtained from an authoritativ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name server implementation (BIND) combines these two into a singl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discrete processes in other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pecial hardware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Server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think of a name server as p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base serve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swering queries about the parts of the name space it knows about (i.e., is authoritative for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che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orarily storing data it learns from other name servers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ent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ing resolvers and other name servers find data that other name servers know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Server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2362320"/>
            <a:ext cx="1090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49320" bIns="-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514760" y="2733840"/>
            <a:ext cx="2759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-49320" bIns="-49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391520" y="2088720"/>
            <a:ext cx="1493280" cy="914400"/>
            <a:chOff x="7391520" y="2088720"/>
            <a:chExt cx="1493280" cy="914400"/>
          </a:xfrm>
        </p:grpSpPr>
        <p:grpSp>
          <p:nvGrpSpPr>
            <p:cNvPr id="149" name=""/>
            <p:cNvGrpSpPr/>
            <p:nvPr/>
          </p:nvGrpSpPr>
          <p:grpSpPr>
            <a:xfrm>
              <a:off x="7391520" y="2088720"/>
              <a:ext cx="585000" cy="914400"/>
              <a:chOff x="7391520" y="2088720"/>
              <a:chExt cx="585000" cy="914400"/>
            </a:xfrm>
          </p:grpSpPr>
          <p:sp>
            <p:nvSpPr>
              <p:cNvPr id="150" name=""/>
              <p:cNvSpPr/>
              <p:nvPr/>
            </p:nvSpPr>
            <p:spPr>
              <a:xfrm flipV="1">
                <a:off x="7391520" y="2088360"/>
                <a:ext cx="585000" cy="873720"/>
              </a:xfrm>
              <a:custGeom>
                <a:avLst/>
                <a:gdLst>
                  <a:gd name="textAreaLeft" fmla="*/ 0 w 585000"/>
                  <a:gd name="textAreaRight" fmla="*/ 585360 w 585000"/>
                  <a:gd name="textAreaTop" fmla="*/ -360 h 873720"/>
                  <a:gd name="textAreaBottom" fmla="*/ 873720 h 873720"/>
                </a:gdLst>
                <a:ahLst/>
                <a:rect l="textAreaLeft" t="textAreaTop" r="textAreaRight" b="textAreaBottom"/>
                <a:pathLst>
                  <a:path w="21600" h="32254">
                    <a:moveTo>
                      <a:pt x="0" y="0"/>
                    </a:moveTo>
                    <a:arcTo wR="0" hR="0" stAng="16200000" swAng="-5400000"/>
                    <a:lnTo>
                      <a:pt x="0" y="32254"/>
                    </a:lnTo>
                    <a:arcTo wR="0" hR="0" stAng="10800000" swAng="-5400000"/>
                    <a:lnTo>
                      <a:pt x="21600" y="3225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7403400" y="2962800"/>
                <a:ext cx="566280" cy="4032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422120" y="2089080"/>
                <a:ext cx="0" cy="8737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426080" y="2096280"/>
                <a:ext cx="518040" cy="865440"/>
              </a:xfrm>
              <a:custGeom>
                <a:avLst/>
                <a:gdLst/>
                <a:ahLst/>
                <a:rect l="l" t="t" r="r" b="b"/>
                <a:pathLst>
                  <a:path w="388" h="727">
                    <a:moveTo>
                      <a:pt x="0" y="726"/>
                    </a:moveTo>
                    <a:lnTo>
                      <a:pt x="0" y="0"/>
                    </a:lnTo>
                    <a:lnTo>
                      <a:pt x="387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4040" y="2092320"/>
                <a:ext cx="23760" cy="866880"/>
              </a:xfrm>
              <a:custGeom>
                <a:avLst/>
                <a:gdLst/>
                <a:ahLst/>
                <a:rect l="l" t="t" r="r" b="b"/>
                <a:pathLst>
                  <a:path w="18" h="728">
                    <a:moveTo>
                      <a:pt x="0" y="727"/>
                    </a:moveTo>
                    <a:lnTo>
                      <a:pt x="0" y="0"/>
                    </a:lnTo>
                    <a:lnTo>
                      <a:pt x="17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48080" y="2092320"/>
                <a:ext cx="26640" cy="866880"/>
              </a:xfrm>
              <a:custGeom>
                <a:avLst/>
                <a:gdLst/>
                <a:ahLst/>
                <a:rect l="l" t="t" r="r" b="b"/>
                <a:pathLst>
                  <a:path w="20" h="728">
                    <a:moveTo>
                      <a:pt x="0" y="0"/>
                    </a:moveTo>
                    <a:lnTo>
                      <a:pt x="19" y="0"/>
                    </a:lnTo>
                    <a:lnTo>
                      <a:pt x="19" y="727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48080" y="2089080"/>
                <a:ext cx="0" cy="87984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7442280" y="2152080"/>
                <a:ext cx="101160" cy="19008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360 h 190080"/>
                  <a:gd name="textAreaBottom" fmla="*/ 190800 h 190080"/>
                </a:gdLst>
                <a:ahLst/>
                <a:rect l="textAreaLeft" t="textAreaTop" r="textAreaRight" b="textAreaBottom"/>
                <a:pathLst>
                  <a:path w="21600" h="40519">
                    <a:moveTo>
                      <a:pt x="0" y="0"/>
                    </a:moveTo>
                    <a:arcTo wR="0" hR="0" stAng="16200000" swAng="-5400000"/>
                    <a:lnTo>
                      <a:pt x="0" y="40519"/>
                    </a:lnTo>
                    <a:arcTo wR="0" hR="0" stAng="10800000" swAng="-5400000"/>
                    <a:lnTo>
                      <a:pt x="21600" y="4051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7451640" y="2162880"/>
                <a:ext cx="81360" cy="1699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360 h 169920"/>
                  <a:gd name="textAreaBottom" fmla="*/ 170640 h 169920"/>
                </a:gdLst>
                <a:ahLst/>
                <a:rect l="textAreaLeft" t="textAreaTop" r="textAreaRight" b="textAreaBottom"/>
                <a:pathLst>
                  <a:path w="21600" h="45008">
                    <a:moveTo>
                      <a:pt x="0" y="0"/>
                    </a:moveTo>
                    <a:arcTo wR="0" hR="0" stAng="16200000" swAng="-5400000"/>
                    <a:lnTo>
                      <a:pt x="0" y="45008"/>
                    </a:lnTo>
                    <a:arcTo wR="0" hR="0" stAng="10800000" swAng="-5400000"/>
                    <a:lnTo>
                      <a:pt x="21600" y="4500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55600" y="2277360"/>
                <a:ext cx="75960" cy="5004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455600" y="2166480"/>
                <a:ext cx="33120" cy="1094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360 h 109440"/>
                  <a:gd name="textAreaBottom" fmla="*/ 110160 h 109440"/>
                </a:gdLst>
                <a:ahLst/>
                <a:rect l="textAreaLeft" t="textAreaTop" r="textAreaRight" b="textAreaBottom"/>
                <a:pathLst>
                  <a:path w="21600" h="70839">
                    <a:moveTo>
                      <a:pt x="0" y="0"/>
                    </a:moveTo>
                    <a:arcTo wR="0" hR="0" stAng="16200000" swAng="-5400000"/>
                    <a:lnTo>
                      <a:pt x="0" y="70839"/>
                    </a:lnTo>
                    <a:arcTo wR="0" hR="0" stAng="10800000" swAng="-5400000"/>
                    <a:lnTo>
                      <a:pt x="21600" y="7083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7504920" y="2170440"/>
                <a:ext cx="22680" cy="939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-360 h 93960"/>
                  <a:gd name="textAreaBottom" fmla="*/ 93960 h 93960"/>
                </a:gdLst>
                <a:ahLst/>
                <a:rect l="textAreaLeft" t="textAreaTop" r="textAreaRight" b="textAreaBottom"/>
                <a:pathLst>
                  <a:path w="21600" h="88425">
                    <a:moveTo>
                      <a:pt x="0" y="0"/>
                    </a:moveTo>
                    <a:arcTo wR="0" hR="0" stAng="16200000" swAng="-5400000"/>
                    <a:lnTo>
                      <a:pt x="0" y="88425"/>
                    </a:lnTo>
                    <a:arcTo wR="0" hR="0" stAng="10800000" swAng="-5400000"/>
                    <a:lnTo>
                      <a:pt x="21600" y="8842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7462080" y="2196360"/>
                <a:ext cx="19800" cy="702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-360 h 70200"/>
                  <a:gd name="textAreaBottom" fmla="*/ 70200 h 70200"/>
                </a:gdLst>
                <a:ahLst/>
                <a:rect l="textAreaLeft" t="textAreaTop" r="textAreaRight" b="textAreaBottom"/>
                <a:pathLst>
                  <a:path w="21600" h="75600">
                    <a:moveTo>
                      <a:pt x="0" y="0"/>
                    </a:moveTo>
                    <a:arcTo wR="0" hR="0" stAng="16200000" swAng="-5400000"/>
                    <a:lnTo>
                      <a:pt x="0" y="75600"/>
                    </a:lnTo>
                    <a:arcTo wR="0" hR="0" stAng="10800000" swAng="-5400000"/>
                    <a:lnTo>
                      <a:pt x="21600" y="756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7463520" y="2196360"/>
                <a:ext cx="18720" cy="468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7488720" y="2166480"/>
                <a:ext cx="5400" cy="10944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360 h 109440"/>
                  <a:gd name="textAreaBottom" fmla="*/ 110160 h 109440"/>
                </a:gdLst>
                <a:ahLst/>
                <a:rect l="textAreaLeft" t="textAreaTop" r="textAreaRight" b="textAreaBottom"/>
                <a:pathLst>
                  <a:path w="21600" h="411750">
                    <a:moveTo>
                      <a:pt x="0" y="0"/>
                    </a:moveTo>
                    <a:arcTo wR="0" hR="0" stAng="16200000" swAng="-5400000"/>
                    <a:lnTo>
                      <a:pt x="0" y="411750"/>
                    </a:lnTo>
                    <a:arcTo wR="0" hR="0" stAng="10800000" swAng="-5400000"/>
                    <a:lnTo>
                      <a:pt x="21600" y="4117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7498080" y="2170440"/>
                <a:ext cx="10440" cy="9396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3960"/>
                  <a:gd name="textAreaBottom" fmla="*/ 93960 h 93960"/>
                </a:gdLst>
                <a:ahLst/>
                <a:rect l="textAreaLeft" t="textAreaTop" r="textAreaRight" b="textAreaBottom"/>
                <a:pathLst>
                  <a:path w="21600" h="188640">
                    <a:moveTo>
                      <a:pt x="0" y="0"/>
                    </a:moveTo>
                    <a:arcTo wR="0" hR="0" stAng="16200000" swAng="-5400000"/>
                    <a:lnTo>
                      <a:pt x="0" y="188640"/>
                    </a:lnTo>
                    <a:arcTo wR="0" hR="0" stAng="10800000" swAng="-5400000"/>
                    <a:lnTo>
                      <a:pt x="21600" y="1886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7474320" y="2285640"/>
                <a:ext cx="9360" cy="403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40320"/>
                  <a:gd name="textAreaBottom" fmla="*/ 40320 h 40320"/>
                </a:gdLst>
                <a:ahLst/>
                <a:rect l="textAreaLeft" t="textAreaTop" r="textAreaRight" b="textAreaBottom"/>
                <a:pathLst>
                  <a:path w="21600" h="90400">
                    <a:moveTo>
                      <a:pt x="0" y="0"/>
                    </a:moveTo>
                    <a:arcTo wR="0" hR="0" stAng="16200000" swAng="-5400000"/>
                    <a:lnTo>
                      <a:pt x="0" y="90400"/>
                    </a:lnTo>
                    <a:arcTo wR="0" hR="0" stAng="10800000" swAng="-5400000"/>
                    <a:lnTo>
                      <a:pt x="21600" y="90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2080" y="2288880"/>
                <a:ext cx="7560" cy="68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62080" y="2309400"/>
                <a:ext cx="7560" cy="57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442280" y="2150640"/>
                <a:ext cx="105120" cy="195480"/>
              </a:xfrm>
              <a:custGeom>
                <a:avLst/>
                <a:gdLst/>
                <a:ahLst/>
                <a:rect l="l" t="t" r="r" b="b"/>
                <a:pathLst>
                  <a:path w="79" h="164">
                    <a:moveTo>
                      <a:pt x="77" y="0"/>
                    </a:moveTo>
                    <a:lnTo>
                      <a:pt x="78" y="163"/>
                    </a:lnTo>
                    <a:lnTo>
                      <a:pt x="0" y="163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7508880" y="2286000"/>
                <a:ext cx="7920" cy="15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5480"/>
                  <a:gd name="textAreaBottom" fmla="*/ 15480 h 15480"/>
                </a:gdLst>
                <a:ahLst/>
                <a:rect l="textAreaLeft" t="textAreaTop" r="textAreaRight" b="textAreaBottom"/>
                <a:pathLst>
                  <a:path w="21600" h="41322">
                    <a:moveTo>
                      <a:pt x="0" y="0"/>
                    </a:moveTo>
                    <a:arcTo wR="0" hR="0" stAng="16200000" swAng="-5400000"/>
                    <a:lnTo>
                      <a:pt x="0" y="41322"/>
                    </a:lnTo>
                    <a:arcTo wR="0" hR="0" stAng="10800000" swAng="-5400000"/>
                    <a:lnTo>
                      <a:pt x="21600" y="4132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7574400" y="2158200"/>
                <a:ext cx="352440" cy="1821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7575840" y="2190240"/>
                <a:ext cx="348480" cy="57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7575840" y="2225880"/>
                <a:ext cx="348480" cy="72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7575840" y="2265120"/>
                <a:ext cx="348480" cy="57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575840" y="2302200"/>
                <a:ext cx="348480" cy="57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7591680" y="2159280"/>
                <a:ext cx="317520" cy="181080"/>
                <a:chOff x="7591680" y="2159280"/>
                <a:chExt cx="317520" cy="1810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759168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61004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62588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64208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65972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7556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69140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70904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72632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74360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75944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77564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79328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80768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82640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84368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85988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87572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89300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909200" y="2159280"/>
                  <a:ext cx="0" cy="18108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 flipV="1">
                <a:off x="7574400" y="2465640"/>
                <a:ext cx="352440" cy="1796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575840" y="2496600"/>
                <a:ext cx="348480" cy="68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7575840" y="2534040"/>
                <a:ext cx="348480" cy="57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7575840" y="2572920"/>
                <a:ext cx="348480" cy="46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7575840" y="2609280"/>
                <a:ext cx="348480" cy="57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7591680" y="2466360"/>
                <a:ext cx="317520" cy="179640"/>
                <a:chOff x="7591680" y="2466360"/>
                <a:chExt cx="317520" cy="1796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59168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61004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62588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64208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65972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67556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69140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70904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72632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74360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75944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77564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79328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80768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82640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84368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85988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87572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89300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909200" y="246636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 flipV="1">
                <a:off x="7574400" y="2761200"/>
                <a:ext cx="352440" cy="1796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7575840" y="2792520"/>
                <a:ext cx="348480" cy="57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575840" y="2828880"/>
                <a:ext cx="348480" cy="46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7575840" y="2867760"/>
                <a:ext cx="348480" cy="57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7575840" y="2903760"/>
                <a:ext cx="348480" cy="68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7591680" y="2761920"/>
                <a:ext cx="317520" cy="179640"/>
                <a:chOff x="7591680" y="2761920"/>
                <a:chExt cx="317520" cy="179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59168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61004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62588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64208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65972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67556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69140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70904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2632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74360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75944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77564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79328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80768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82640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84368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85988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87572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89300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909200" y="2761920"/>
                  <a:ext cx="0" cy="17964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 flipV="1">
                <a:off x="7442280" y="2375280"/>
                <a:ext cx="90720" cy="21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442280" y="2376000"/>
                <a:ext cx="91800" cy="2376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9"/>
                    </a:moveTo>
                    <a:lnTo>
                      <a:pt x="68" y="1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7442280" y="2413080"/>
                <a:ext cx="129600" cy="280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42280" y="2413080"/>
                <a:ext cx="133200" cy="30600"/>
              </a:xfrm>
              <a:custGeom>
                <a:avLst/>
                <a:gdLst/>
                <a:ahLst/>
                <a:rect l="l" t="t" r="r" b="b"/>
                <a:pathLst>
                  <a:path w="100" h="26">
                    <a:moveTo>
                      <a:pt x="0" y="25"/>
                    </a:moveTo>
                    <a:lnTo>
                      <a:pt x="99" y="25"/>
                    </a:lnTo>
                    <a:lnTo>
                      <a:pt x="99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8003160" y="2203560"/>
              <a:ext cx="881640" cy="6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745960" y="2432160"/>
            <a:ext cx="154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one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76760" y="1365120"/>
            <a:ext cx="1324080" cy="1029240"/>
            <a:chOff x="5576760" y="1365120"/>
            <a:chExt cx="1324080" cy="1029240"/>
          </a:xfrm>
        </p:grpSpPr>
        <p:grpSp>
          <p:nvGrpSpPr>
            <p:cNvPr id="256" name=""/>
            <p:cNvGrpSpPr/>
            <p:nvPr/>
          </p:nvGrpSpPr>
          <p:grpSpPr>
            <a:xfrm>
              <a:off x="5576760" y="1593720"/>
              <a:ext cx="580320" cy="764280"/>
              <a:chOff x="5576760" y="1593720"/>
              <a:chExt cx="580320" cy="76428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5576760" y="1674720"/>
                <a:ext cx="580320" cy="600120"/>
              </a:xfrm>
              <a:custGeom>
                <a:avLst/>
                <a:gdLst>
                  <a:gd name="textAreaLeft" fmla="*/ 0 w 580320"/>
                  <a:gd name="textAreaRight" fmla="*/ 580680 w 580320"/>
                  <a:gd name="textAreaTop" fmla="*/ 0 h 600120"/>
                  <a:gd name="textAreaBottom" fmla="*/ 600120 h 600120"/>
                </a:gdLst>
                <a:ahLst/>
                <a:rect l="textAreaLeft" t="textAreaTop" r="textAreaRight" b="textAreaBottom"/>
                <a:pathLst>
                  <a:path w="21600" h="22337">
                    <a:moveTo>
                      <a:pt x="0" y="0"/>
                    </a:moveTo>
                    <a:arcTo wR="0" hR="0" stAng="16200000" swAng="-5400000"/>
                    <a:lnTo>
                      <a:pt x="0" y="22337"/>
                    </a:lnTo>
                    <a:arcTo wR="0" hR="0" stAng="10800000" swAng="-5400000"/>
                    <a:lnTo>
                      <a:pt x="21600" y="2233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576760" y="1593720"/>
                <a:ext cx="580320" cy="1659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576760" y="2190600"/>
                <a:ext cx="580320" cy="1674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6197400" y="1365120"/>
              <a:ext cx="703440" cy="10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533840" y="1665360"/>
            <a:ext cx="71712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993960" y="1752480"/>
            <a:ext cx="3315600" cy="4410000"/>
            <a:chOff x="993960" y="1752480"/>
            <a:chExt cx="3315600" cy="4410000"/>
          </a:xfrm>
        </p:grpSpPr>
        <p:sp>
          <p:nvSpPr>
            <p:cNvPr id="263" name=""/>
            <p:cNvSpPr/>
            <p:nvPr/>
          </p:nvSpPr>
          <p:spPr>
            <a:xfrm>
              <a:off x="1059840" y="2157840"/>
              <a:ext cx="3233880" cy="133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uthoritative Da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primary master a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lave zone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59840" y="4827600"/>
              <a:ext cx="3233880" cy="13348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looks up queri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n behalf of resolver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59840" y="3492720"/>
              <a:ext cx="3233880" cy="1334520"/>
            </a:xfrm>
            <a:prstGeom prst="rect">
              <a:avLst/>
            </a:prstGeom>
            <a:solidFill>
              <a:srgbClr val="aaa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ache Da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responses fro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ther name server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93960" y="1752480"/>
              <a:ext cx="3315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me Server 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oritativ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629480" y="4356000"/>
            <a:ext cx="1082880" cy="1274760"/>
            <a:chOff x="7629480" y="4356000"/>
            <a:chExt cx="1082880" cy="1274760"/>
          </a:xfrm>
        </p:grpSpPr>
        <p:grpSp>
          <p:nvGrpSpPr>
            <p:cNvPr id="269" name=""/>
            <p:cNvGrpSpPr/>
            <p:nvPr/>
          </p:nvGrpSpPr>
          <p:grpSpPr>
            <a:xfrm>
              <a:off x="7684920" y="4356000"/>
              <a:ext cx="843480" cy="855000"/>
              <a:chOff x="7684920" y="4356000"/>
              <a:chExt cx="843480" cy="85500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7803720" y="4851720"/>
                <a:ext cx="618480" cy="16164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821000" y="4917600"/>
                <a:ext cx="94320" cy="25200"/>
              </a:xfrm>
              <a:custGeom>
                <a:avLst/>
                <a:gdLst/>
                <a:ahLst/>
                <a:rect l="l" t="t" r="r" b="b"/>
                <a:pathLst>
                  <a:path w="66" h="21">
                    <a:moveTo>
                      <a:pt x="0" y="11"/>
                    </a:move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1" y="17"/>
                    </a:lnTo>
                    <a:lnTo>
                      <a:pt x="61" y="17"/>
                    </a:lnTo>
                    <a:lnTo>
                      <a:pt x="63" y="15"/>
                    </a:lnTo>
                    <a:lnTo>
                      <a:pt x="63" y="15"/>
                    </a:lnTo>
                    <a:lnTo>
                      <a:pt x="63" y="13"/>
                    </a:lnTo>
                    <a:lnTo>
                      <a:pt x="63" y="12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3" y="11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6"/>
                    </a:lnTo>
                    <a:lnTo>
                      <a:pt x="61" y="6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7" y="3"/>
                    </a:lnTo>
                    <a:lnTo>
                      <a:pt x="57" y="1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20160" bIns="-20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065800" y="4876560"/>
                <a:ext cx="228960" cy="118440"/>
              </a:xfrm>
              <a:custGeom>
                <a:avLst/>
                <a:gdLst/>
                <a:ahLst/>
                <a:rect l="l" t="t" r="r" b="b"/>
                <a:pathLst>
                  <a:path w="160" h="98">
                    <a:moveTo>
                      <a:pt x="0" y="85"/>
                    </a:moveTo>
                    <a:lnTo>
                      <a:pt x="0" y="87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1" y="93"/>
                    </a:lnTo>
                    <a:lnTo>
                      <a:pt x="2" y="93"/>
                    </a:lnTo>
                    <a:lnTo>
                      <a:pt x="2" y="94"/>
                    </a:lnTo>
                    <a:lnTo>
                      <a:pt x="4" y="94"/>
                    </a:lnTo>
                    <a:lnTo>
                      <a:pt x="4" y="96"/>
                    </a:lnTo>
                    <a:lnTo>
                      <a:pt x="5" y="96"/>
                    </a:lnTo>
                    <a:lnTo>
                      <a:pt x="5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9" y="97"/>
                    </a:lnTo>
                    <a:lnTo>
                      <a:pt x="10" y="97"/>
                    </a:lnTo>
                    <a:lnTo>
                      <a:pt x="12" y="97"/>
                    </a:lnTo>
                    <a:lnTo>
                      <a:pt x="148" y="97"/>
                    </a:lnTo>
                    <a:lnTo>
                      <a:pt x="148" y="97"/>
                    </a:lnTo>
                    <a:lnTo>
                      <a:pt x="149" y="97"/>
                    </a:lnTo>
                    <a:lnTo>
                      <a:pt x="149" y="97"/>
                    </a:lnTo>
                    <a:lnTo>
                      <a:pt x="151" y="97"/>
                    </a:lnTo>
                    <a:lnTo>
                      <a:pt x="151" y="97"/>
                    </a:lnTo>
                    <a:lnTo>
                      <a:pt x="153" y="96"/>
                    </a:lnTo>
                    <a:lnTo>
                      <a:pt x="153" y="96"/>
                    </a:lnTo>
                    <a:lnTo>
                      <a:pt x="155" y="94"/>
                    </a:lnTo>
                    <a:lnTo>
                      <a:pt x="155" y="94"/>
                    </a:lnTo>
                    <a:lnTo>
                      <a:pt x="156" y="92"/>
                    </a:lnTo>
                    <a:lnTo>
                      <a:pt x="156" y="92"/>
                    </a:lnTo>
                    <a:lnTo>
                      <a:pt x="158" y="90"/>
                    </a:lnTo>
                    <a:lnTo>
                      <a:pt x="158" y="90"/>
                    </a:lnTo>
                    <a:lnTo>
                      <a:pt x="158" y="88"/>
                    </a:lnTo>
                    <a:lnTo>
                      <a:pt x="158" y="86"/>
                    </a:lnTo>
                    <a:lnTo>
                      <a:pt x="159" y="84"/>
                    </a:lnTo>
                    <a:lnTo>
                      <a:pt x="159" y="15"/>
                    </a:lnTo>
                    <a:lnTo>
                      <a:pt x="158" y="15"/>
                    </a:lnTo>
                    <a:lnTo>
                      <a:pt x="158" y="13"/>
                    </a:lnTo>
                    <a:lnTo>
                      <a:pt x="158" y="13"/>
                    </a:lnTo>
                    <a:lnTo>
                      <a:pt x="158" y="11"/>
                    </a:lnTo>
                    <a:lnTo>
                      <a:pt x="156" y="11"/>
                    </a:lnTo>
                    <a:lnTo>
                      <a:pt x="156" y="9"/>
                    </a:lnTo>
                    <a:lnTo>
                      <a:pt x="156" y="7"/>
                    </a:lnTo>
                    <a:lnTo>
                      <a:pt x="156" y="6"/>
                    </a:lnTo>
                    <a:lnTo>
                      <a:pt x="154" y="6"/>
                    </a:lnTo>
                    <a:lnTo>
                      <a:pt x="154" y="4"/>
                    </a:lnTo>
                    <a:lnTo>
                      <a:pt x="152" y="4"/>
                    </a:lnTo>
                    <a:lnTo>
                      <a:pt x="152" y="2"/>
                    </a:lnTo>
                    <a:lnTo>
                      <a:pt x="150" y="2"/>
                    </a:lnTo>
                    <a:lnTo>
                      <a:pt x="149" y="1"/>
                    </a:lnTo>
                    <a:lnTo>
                      <a:pt x="147" y="1"/>
                    </a:lnTo>
                    <a:lnTo>
                      <a:pt x="147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85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823880" y="4356000"/>
                <a:ext cx="574200" cy="434520"/>
              </a:xfrm>
              <a:custGeom>
                <a:avLst/>
                <a:gdLst/>
                <a:ahLst/>
                <a:rect l="l" t="t" r="r" b="b"/>
                <a:pathLst>
                  <a:path w="401" h="360">
                    <a:moveTo>
                      <a:pt x="0" y="341"/>
                    </a:moveTo>
                    <a:lnTo>
                      <a:pt x="0" y="344"/>
                    </a:lnTo>
                    <a:lnTo>
                      <a:pt x="0" y="346"/>
                    </a:lnTo>
                    <a:lnTo>
                      <a:pt x="0" y="348"/>
                    </a:lnTo>
                    <a:lnTo>
                      <a:pt x="0" y="350"/>
                    </a:lnTo>
                    <a:lnTo>
                      <a:pt x="0" y="352"/>
                    </a:lnTo>
                    <a:lnTo>
                      <a:pt x="3" y="353"/>
                    </a:lnTo>
                    <a:lnTo>
                      <a:pt x="3" y="355"/>
                    </a:lnTo>
                    <a:lnTo>
                      <a:pt x="5" y="355"/>
                    </a:lnTo>
                    <a:lnTo>
                      <a:pt x="5" y="357"/>
                    </a:lnTo>
                    <a:lnTo>
                      <a:pt x="7" y="357"/>
                    </a:lnTo>
                    <a:lnTo>
                      <a:pt x="8" y="358"/>
                    </a:lnTo>
                    <a:lnTo>
                      <a:pt x="10" y="358"/>
                    </a:lnTo>
                    <a:lnTo>
                      <a:pt x="12" y="359"/>
                    </a:lnTo>
                    <a:lnTo>
                      <a:pt x="14" y="359"/>
                    </a:lnTo>
                    <a:lnTo>
                      <a:pt x="16" y="359"/>
                    </a:lnTo>
                    <a:lnTo>
                      <a:pt x="19" y="359"/>
                    </a:lnTo>
                    <a:lnTo>
                      <a:pt x="381" y="359"/>
                    </a:lnTo>
                    <a:lnTo>
                      <a:pt x="383" y="359"/>
                    </a:lnTo>
                    <a:lnTo>
                      <a:pt x="385" y="359"/>
                    </a:lnTo>
                    <a:lnTo>
                      <a:pt x="387" y="359"/>
                    </a:lnTo>
                    <a:lnTo>
                      <a:pt x="389" y="358"/>
                    </a:lnTo>
                    <a:lnTo>
                      <a:pt x="389" y="358"/>
                    </a:lnTo>
                    <a:lnTo>
                      <a:pt x="391" y="357"/>
                    </a:lnTo>
                    <a:lnTo>
                      <a:pt x="393" y="356"/>
                    </a:lnTo>
                    <a:lnTo>
                      <a:pt x="394" y="354"/>
                    </a:lnTo>
                    <a:lnTo>
                      <a:pt x="394" y="353"/>
                    </a:lnTo>
                    <a:lnTo>
                      <a:pt x="396" y="351"/>
                    </a:lnTo>
                    <a:lnTo>
                      <a:pt x="396" y="350"/>
                    </a:lnTo>
                    <a:lnTo>
                      <a:pt x="398" y="347"/>
                    </a:lnTo>
                    <a:lnTo>
                      <a:pt x="398" y="345"/>
                    </a:lnTo>
                    <a:lnTo>
                      <a:pt x="399" y="344"/>
                    </a:lnTo>
                    <a:lnTo>
                      <a:pt x="399" y="341"/>
                    </a:lnTo>
                    <a:lnTo>
                      <a:pt x="400" y="338"/>
                    </a:lnTo>
                    <a:lnTo>
                      <a:pt x="400" y="23"/>
                    </a:lnTo>
                    <a:lnTo>
                      <a:pt x="399" y="21"/>
                    </a:lnTo>
                    <a:lnTo>
                      <a:pt x="399" y="19"/>
                    </a:lnTo>
                    <a:lnTo>
                      <a:pt x="399" y="16"/>
                    </a:lnTo>
                    <a:lnTo>
                      <a:pt x="399" y="14"/>
                    </a:lnTo>
                    <a:lnTo>
                      <a:pt x="397" y="13"/>
                    </a:lnTo>
                    <a:lnTo>
                      <a:pt x="397" y="11"/>
                    </a:lnTo>
                    <a:lnTo>
                      <a:pt x="396" y="9"/>
                    </a:lnTo>
                    <a:lnTo>
                      <a:pt x="396" y="7"/>
                    </a:lnTo>
                    <a:lnTo>
                      <a:pt x="394" y="7"/>
                    </a:lnTo>
                    <a:lnTo>
                      <a:pt x="393" y="5"/>
                    </a:lnTo>
                    <a:lnTo>
                      <a:pt x="391" y="4"/>
                    </a:lnTo>
                    <a:lnTo>
                      <a:pt x="391" y="2"/>
                    </a:lnTo>
                    <a:lnTo>
                      <a:pt x="389" y="2"/>
                    </a:lnTo>
                    <a:lnTo>
                      <a:pt x="387" y="2"/>
                    </a:lnTo>
                    <a:lnTo>
                      <a:pt x="385" y="2"/>
                    </a:lnTo>
                    <a:lnTo>
                      <a:pt x="384" y="0"/>
                    </a:lnTo>
                    <a:lnTo>
                      <a:pt x="24" y="0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341"/>
                    </a:lnTo>
                    <a:lnTo>
                      <a:pt x="0" y="34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866720" y="4399560"/>
                <a:ext cx="495360" cy="334440"/>
              </a:xfrm>
              <a:custGeom>
                <a:avLst/>
                <a:gdLst/>
                <a:ahLst/>
                <a:rect l="l" t="t" r="r" b="b"/>
                <a:pathLst>
                  <a:path w="346" h="277">
                    <a:moveTo>
                      <a:pt x="0" y="262"/>
                    </a:moveTo>
                    <a:lnTo>
                      <a:pt x="0" y="264"/>
                    </a:lnTo>
                    <a:lnTo>
                      <a:pt x="0" y="266"/>
                    </a:lnTo>
                    <a:lnTo>
                      <a:pt x="0" y="268"/>
                    </a:lnTo>
                    <a:lnTo>
                      <a:pt x="1" y="269"/>
                    </a:lnTo>
                    <a:lnTo>
                      <a:pt x="1" y="271"/>
                    </a:lnTo>
                    <a:lnTo>
                      <a:pt x="2" y="272"/>
                    </a:lnTo>
                    <a:lnTo>
                      <a:pt x="2" y="274"/>
                    </a:lnTo>
                    <a:lnTo>
                      <a:pt x="4" y="274"/>
                    </a:lnTo>
                    <a:lnTo>
                      <a:pt x="4" y="276"/>
                    </a:lnTo>
                    <a:lnTo>
                      <a:pt x="6" y="276"/>
                    </a:lnTo>
                    <a:lnTo>
                      <a:pt x="7" y="276"/>
                    </a:lnTo>
                    <a:lnTo>
                      <a:pt x="9" y="276"/>
                    </a:lnTo>
                    <a:lnTo>
                      <a:pt x="11" y="276"/>
                    </a:lnTo>
                    <a:lnTo>
                      <a:pt x="13" y="276"/>
                    </a:lnTo>
                    <a:lnTo>
                      <a:pt x="14" y="276"/>
                    </a:lnTo>
                    <a:lnTo>
                      <a:pt x="17" y="276"/>
                    </a:lnTo>
                    <a:lnTo>
                      <a:pt x="328" y="276"/>
                    </a:lnTo>
                    <a:lnTo>
                      <a:pt x="329" y="276"/>
                    </a:lnTo>
                    <a:lnTo>
                      <a:pt x="331" y="276"/>
                    </a:lnTo>
                    <a:lnTo>
                      <a:pt x="333" y="276"/>
                    </a:lnTo>
                    <a:lnTo>
                      <a:pt x="335" y="275"/>
                    </a:lnTo>
                    <a:lnTo>
                      <a:pt x="335" y="275"/>
                    </a:lnTo>
                    <a:lnTo>
                      <a:pt x="337" y="275"/>
                    </a:lnTo>
                    <a:lnTo>
                      <a:pt x="338" y="275"/>
                    </a:lnTo>
                    <a:lnTo>
                      <a:pt x="340" y="272"/>
                    </a:lnTo>
                    <a:lnTo>
                      <a:pt x="340" y="272"/>
                    </a:lnTo>
                    <a:lnTo>
                      <a:pt x="342" y="270"/>
                    </a:lnTo>
                    <a:lnTo>
                      <a:pt x="342" y="270"/>
                    </a:lnTo>
                    <a:lnTo>
                      <a:pt x="343" y="268"/>
                    </a:lnTo>
                    <a:lnTo>
                      <a:pt x="343" y="267"/>
                    </a:lnTo>
                    <a:lnTo>
                      <a:pt x="343" y="264"/>
                    </a:lnTo>
                    <a:lnTo>
                      <a:pt x="343" y="263"/>
                    </a:lnTo>
                    <a:lnTo>
                      <a:pt x="345" y="261"/>
                    </a:lnTo>
                    <a:lnTo>
                      <a:pt x="345" y="19"/>
                    </a:lnTo>
                    <a:lnTo>
                      <a:pt x="343" y="18"/>
                    </a:lnTo>
                    <a:lnTo>
                      <a:pt x="343" y="16"/>
                    </a:lnTo>
                    <a:lnTo>
                      <a:pt x="343" y="14"/>
                    </a:lnTo>
                    <a:lnTo>
                      <a:pt x="343" y="12"/>
                    </a:lnTo>
                    <a:lnTo>
                      <a:pt x="342" y="12"/>
                    </a:lnTo>
                    <a:lnTo>
                      <a:pt x="342" y="10"/>
                    </a:lnTo>
                    <a:lnTo>
                      <a:pt x="342" y="9"/>
                    </a:lnTo>
                    <a:lnTo>
                      <a:pt x="342" y="7"/>
                    </a:lnTo>
                    <a:lnTo>
                      <a:pt x="340" y="7"/>
                    </a:lnTo>
                    <a:lnTo>
                      <a:pt x="339" y="6"/>
                    </a:lnTo>
                    <a:lnTo>
                      <a:pt x="337" y="6"/>
                    </a:lnTo>
                    <a:lnTo>
                      <a:pt x="337" y="4"/>
                    </a:lnTo>
                    <a:lnTo>
                      <a:pt x="335" y="4"/>
                    </a:lnTo>
                    <a:lnTo>
                      <a:pt x="334" y="3"/>
                    </a:lnTo>
                    <a:lnTo>
                      <a:pt x="331" y="3"/>
                    </a:lnTo>
                    <a:lnTo>
                      <a:pt x="331" y="2"/>
                    </a:lnTo>
                    <a:lnTo>
                      <a:pt x="21" y="0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2"/>
                    </a:lnTo>
                    <a:lnTo>
                      <a:pt x="0" y="26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884000" y="4415040"/>
                <a:ext cx="464040" cy="303120"/>
              </a:xfrm>
              <a:custGeom>
                <a:avLst/>
                <a:gdLst/>
                <a:ahLst/>
                <a:rect l="l" t="t" r="r" b="b"/>
                <a:pathLst>
                  <a:path w="324" h="251">
                    <a:moveTo>
                      <a:pt x="0" y="237"/>
                    </a:moveTo>
                    <a:lnTo>
                      <a:pt x="0" y="239"/>
                    </a:lnTo>
                    <a:lnTo>
                      <a:pt x="0" y="241"/>
                    </a:lnTo>
                    <a:lnTo>
                      <a:pt x="0" y="243"/>
                    </a:lnTo>
                    <a:lnTo>
                      <a:pt x="0" y="244"/>
                    </a:lnTo>
                    <a:lnTo>
                      <a:pt x="0" y="246"/>
                    </a:lnTo>
                    <a:lnTo>
                      <a:pt x="1" y="246"/>
                    </a:lnTo>
                    <a:lnTo>
                      <a:pt x="1" y="247"/>
                    </a:lnTo>
                    <a:lnTo>
                      <a:pt x="3" y="247"/>
                    </a:lnTo>
                    <a:lnTo>
                      <a:pt x="3" y="249"/>
                    </a:lnTo>
                    <a:lnTo>
                      <a:pt x="5" y="249"/>
                    </a:lnTo>
                    <a:lnTo>
                      <a:pt x="7" y="250"/>
                    </a:lnTo>
                    <a:lnTo>
                      <a:pt x="9" y="250"/>
                    </a:lnTo>
                    <a:lnTo>
                      <a:pt x="10" y="250"/>
                    </a:lnTo>
                    <a:lnTo>
                      <a:pt x="12" y="250"/>
                    </a:lnTo>
                    <a:lnTo>
                      <a:pt x="14" y="250"/>
                    </a:lnTo>
                    <a:lnTo>
                      <a:pt x="16" y="250"/>
                    </a:lnTo>
                    <a:lnTo>
                      <a:pt x="308" y="250"/>
                    </a:lnTo>
                    <a:lnTo>
                      <a:pt x="308" y="250"/>
                    </a:lnTo>
                    <a:lnTo>
                      <a:pt x="310" y="250"/>
                    </a:lnTo>
                    <a:lnTo>
                      <a:pt x="312" y="250"/>
                    </a:lnTo>
                    <a:lnTo>
                      <a:pt x="314" y="250"/>
                    </a:lnTo>
                    <a:lnTo>
                      <a:pt x="314" y="250"/>
                    </a:lnTo>
                    <a:lnTo>
                      <a:pt x="316" y="249"/>
                    </a:lnTo>
                    <a:lnTo>
                      <a:pt x="317" y="249"/>
                    </a:lnTo>
                    <a:lnTo>
                      <a:pt x="319" y="247"/>
                    </a:lnTo>
                    <a:lnTo>
                      <a:pt x="319" y="247"/>
                    </a:lnTo>
                    <a:lnTo>
                      <a:pt x="319" y="245"/>
                    </a:lnTo>
                    <a:lnTo>
                      <a:pt x="319" y="244"/>
                    </a:lnTo>
                    <a:lnTo>
                      <a:pt x="322" y="242"/>
                    </a:lnTo>
                    <a:lnTo>
                      <a:pt x="322" y="242"/>
                    </a:lnTo>
                    <a:lnTo>
                      <a:pt x="322" y="240"/>
                    </a:lnTo>
                    <a:lnTo>
                      <a:pt x="322" y="238"/>
                    </a:lnTo>
                    <a:lnTo>
                      <a:pt x="323" y="236"/>
                    </a:lnTo>
                    <a:lnTo>
                      <a:pt x="323" y="17"/>
                    </a:lnTo>
                    <a:lnTo>
                      <a:pt x="322" y="17"/>
                    </a:lnTo>
                    <a:lnTo>
                      <a:pt x="322" y="15"/>
                    </a:lnTo>
                    <a:lnTo>
                      <a:pt x="322" y="13"/>
                    </a:lnTo>
                    <a:lnTo>
                      <a:pt x="322" y="11"/>
                    </a:lnTo>
                    <a:lnTo>
                      <a:pt x="319" y="11"/>
                    </a:lnTo>
                    <a:lnTo>
                      <a:pt x="319" y="9"/>
                    </a:lnTo>
                    <a:lnTo>
                      <a:pt x="319" y="8"/>
                    </a:lnTo>
                    <a:lnTo>
                      <a:pt x="319" y="6"/>
                    </a:lnTo>
                    <a:lnTo>
                      <a:pt x="317" y="6"/>
                    </a:lnTo>
                    <a:lnTo>
                      <a:pt x="316" y="5"/>
                    </a:lnTo>
                    <a:lnTo>
                      <a:pt x="314" y="5"/>
                    </a:lnTo>
                    <a:lnTo>
                      <a:pt x="314" y="3"/>
                    </a:lnTo>
                    <a:lnTo>
                      <a:pt x="312" y="3"/>
                    </a:lnTo>
                    <a:lnTo>
                      <a:pt x="310" y="2"/>
                    </a:lnTo>
                    <a:lnTo>
                      <a:pt x="308" y="2"/>
                    </a:lnTo>
                    <a:lnTo>
                      <a:pt x="308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7804800" y="4882680"/>
                <a:ext cx="243360" cy="57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9240" bIns="-39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7804800" y="4984560"/>
                <a:ext cx="243360" cy="468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40320" bIns="-40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8297640" y="4875840"/>
                <a:ext cx="126000" cy="612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8880" bIns="-38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8297640" y="4984560"/>
                <a:ext cx="124560" cy="468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40320" bIns="-40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8083080" y="4894920"/>
                <a:ext cx="194760" cy="432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40680" bIns="-40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8108640" y="4923000"/>
                <a:ext cx="144720" cy="828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6720" bIns="-36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066880" y="4912920"/>
                <a:ext cx="22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068680" y="4942080"/>
                <a:ext cx="223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8320680" y="4909320"/>
                <a:ext cx="78480" cy="3456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10440" bIns="-10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84920" y="5037120"/>
                <a:ext cx="843480" cy="149760"/>
              </a:xfrm>
              <a:custGeom>
                <a:avLst/>
                <a:gdLst/>
                <a:ahLst/>
                <a:rect l="l" t="t" r="r" b="b"/>
                <a:pathLst>
                  <a:path w="589" h="124">
                    <a:moveTo>
                      <a:pt x="59" y="0"/>
                    </a:moveTo>
                    <a:lnTo>
                      <a:pt x="60" y="0"/>
                    </a:lnTo>
                    <a:lnTo>
                      <a:pt x="538" y="0"/>
                    </a:lnTo>
                    <a:lnTo>
                      <a:pt x="588" y="123"/>
                    </a:lnTo>
                    <a:lnTo>
                      <a:pt x="0" y="123"/>
                    </a:lnTo>
                    <a:lnTo>
                      <a:pt x="59" y="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86000" y="5185800"/>
                <a:ext cx="842040" cy="25200"/>
              </a:xfrm>
              <a:custGeom>
                <a:avLst/>
                <a:gdLst/>
                <a:ahLst/>
                <a:rect l="l" t="t" r="r" b="b"/>
                <a:pathLst>
                  <a:path w="588" h="21">
                    <a:moveTo>
                      <a:pt x="0" y="0"/>
                    </a:moveTo>
                    <a:lnTo>
                      <a:pt x="587" y="0"/>
                    </a:lnTo>
                    <a:lnTo>
                      <a:pt x="572" y="20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20160" bIns="-20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785000" y="5049360"/>
                <a:ext cx="541080" cy="14400"/>
              </a:xfrm>
              <a:custGeom>
                <a:avLst/>
                <a:gdLst/>
                <a:ahLst/>
                <a:rect l="l" t="t" r="r" b="b"/>
                <a:pathLst>
                  <a:path w="378" h="12">
                    <a:moveTo>
                      <a:pt x="3" y="0"/>
                    </a:moveTo>
                    <a:lnTo>
                      <a:pt x="0" y="11"/>
                    </a:lnTo>
                    <a:lnTo>
                      <a:pt x="377" y="11"/>
                    </a:lnTo>
                    <a:lnTo>
                      <a:pt x="372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0960" bIns="-30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738920" y="5070960"/>
                <a:ext cx="495360" cy="73440"/>
              </a:xfrm>
              <a:custGeom>
                <a:avLst/>
                <a:gdLst/>
                <a:ahLst/>
                <a:rect l="l" t="t" r="r" b="b"/>
                <a:pathLst>
                  <a:path w="346" h="61">
                    <a:moveTo>
                      <a:pt x="30" y="0"/>
                    </a:moveTo>
                    <a:lnTo>
                      <a:pt x="341" y="0"/>
                    </a:lnTo>
                    <a:lnTo>
                      <a:pt x="345" y="60"/>
                    </a:lnTo>
                    <a:lnTo>
                      <a:pt x="312" y="59"/>
                    </a:lnTo>
                    <a:lnTo>
                      <a:pt x="312" y="51"/>
                    </a:lnTo>
                    <a:lnTo>
                      <a:pt x="294" y="51"/>
                    </a:lnTo>
                    <a:lnTo>
                      <a:pt x="293" y="59"/>
                    </a:lnTo>
                    <a:lnTo>
                      <a:pt x="63" y="59"/>
                    </a:lnTo>
                    <a:lnTo>
                      <a:pt x="64" y="51"/>
                    </a:lnTo>
                    <a:lnTo>
                      <a:pt x="44" y="53"/>
                    </a:lnTo>
                    <a:lnTo>
                      <a:pt x="42" y="59"/>
                    </a:lnTo>
                    <a:lnTo>
                      <a:pt x="0" y="60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28080" bIns="28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238960" y="5070960"/>
                <a:ext cx="101880" cy="3492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0" y="0"/>
                    </a:moveTo>
                    <a:lnTo>
                      <a:pt x="0" y="0"/>
                    </a:lnTo>
                    <a:lnTo>
                      <a:pt x="2" y="28"/>
                    </a:lnTo>
                    <a:lnTo>
                      <a:pt x="70" y="28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10440" bIns="-10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46160" y="5108400"/>
                <a:ext cx="104040" cy="37440"/>
              </a:xfrm>
              <a:custGeom>
                <a:avLst/>
                <a:gdLst/>
                <a:ahLst/>
                <a:rect l="l" t="t" r="r" b="b"/>
                <a:pathLst>
                  <a:path w="73" h="31">
                    <a:moveTo>
                      <a:pt x="22" y="0"/>
                    </a:moveTo>
                    <a:lnTo>
                      <a:pt x="22" y="8"/>
                    </a:lnTo>
                    <a:lnTo>
                      <a:pt x="0" y="8"/>
                    </a:lnTo>
                    <a:lnTo>
                      <a:pt x="3" y="30"/>
                    </a:lnTo>
                    <a:lnTo>
                      <a:pt x="72" y="30"/>
                    </a:lnTo>
                    <a:lnTo>
                      <a:pt x="66" y="8"/>
                    </a:lnTo>
                    <a:lnTo>
                      <a:pt x="44" y="8"/>
                    </a:lnTo>
                    <a:lnTo>
                      <a:pt x="44" y="0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340840" y="5073480"/>
                <a:ext cx="151560" cy="72360"/>
              </a:xfrm>
              <a:custGeom>
                <a:avLst/>
                <a:gdLst/>
                <a:ahLst/>
                <a:rect l="l" t="t" r="r" b="b"/>
                <a:pathLst>
                  <a:path w="106" h="60">
                    <a:moveTo>
                      <a:pt x="0" y="0"/>
                    </a:moveTo>
                    <a:lnTo>
                      <a:pt x="17" y="59"/>
                    </a:lnTo>
                    <a:lnTo>
                      <a:pt x="105" y="59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27000" bIns="270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7971120" y="4788360"/>
                <a:ext cx="283320" cy="43200"/>
              </a:xfrm>
              <a:prstGeom prst="roundRect">
                <a:avLst>
                  <a:gd name="adj" fmla="val 15912"/>
                </a:avLst>
              </a:prstGeom>
              <a:solidFill>
                <a:srgbClr val="727272"/>
              </a:solidFill>
              <a:ln w="936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5760" bIns="-5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8322120" y="4753800"/>
                <a:ext cx="38520" cy="2052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24840" bIns="-24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7902360" y="4812480"/>
                <a:ext cx="421200" cy="324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12960" bIns="-12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7904160" y="4842000"/>
                <a:ext cx="419400" cy="828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6720" bIns="-36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7629480" y="5264640"/>
              <a:ext cx="108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 flipH="1">
            <a:off x="4314600" y="5210280"/>
            <a:ext cx="330516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17080" y="5421240"/>
            <a:ext cx="80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2895480"/>
            <a:ext cx="3490920" cy="133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67720" y="3135240"/>
            <a:ext cx="120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993960" y="1752480"/>
            <a:ext cx="3315600" cy="4410000"/>
            <a:chOff x="993960" y="1752480"/>
            <a:chExt cx="3315600" cy="4410000"/>
          </a:xfrm>
        </p:grpSpPr>
        <p:sp>
          <p:nvSpPr>
            <p:cNvPr id="302" name=""/>
            <p:cNvSpPr/>
            <p:nvPr/>
          </p:nvSpPr>
          <p:spPr>
            <a:xfrm>
              <a:off x="1059840" y="2157840"/>
              <a:ext cx="3233880" cy="133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uthoritative Da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primary master a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lave zone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59840" y="4827600"/>
              <a:ext cx="3233880" cy="13348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looks up queri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n behalf of resolver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59840" y="3492720"/>
              <a:ext cx="3233880" cy="1334520"/>
            </a:xfrm>
            <a:prstGeom prst="rect">
              <a:avLst/>
            </a:prstGeom>
            <a:solidFill>
              <a:srgbClr val="aaa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ache Da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responses fro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ther name server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93960" y="1752480"/>
              <a:ext cx="3315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me Server 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Other Name 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345280" y="4164120"/>
            <a:ext cx="1724040" cy="1085760"/>
            <a:chOff x="5345280" y="4164120"/>
            <a:chExt cx="1724040" cy="1085760"/>
          </a:xfrm>
        </p:grpSpPr>
        <p:grpSp>
          <p:nvGrpSpPr>
            <p:cNvPr id="308" name=""/>
            <p:cNvGrpSpPr/>
            <p:nvPr/>
          </p:nvGrpSpPr>
          <p:grpSpPr>
            <a:xfrm>
              <a:off x="5345280" y="4164120"/>
              <a:ext cx="627120" cy="928080"/>
              <a:chOff x="5345280" y="4164120"/>
              <a:chExt cx="627120" cy="928080"/>
            </a:xfrm>
          </p:grpSpPr>
          <p:sp>
            <p:nvSpPr>
              <p:cNvPr id="309" name=""/>
              <p:cNvSpPr/>
              <p:nvPr/>
            </p:nvSpPr>
            <p:spPr>
              <a:xfrm flipV="1">
                <a:off x="5345280" y="4164120"/>
                <a:ext cx="627120" cy="887040"/>
              </a:xfrm>
              <a:custGeom>
                <a:avLst/>
                <a:gdLst>
                  <a:gd name="textAreaLeft" fmla="*/ 0 w 627120"/>
                  <a:gd name="textAreaRight" fmla="*/ 627480 w 627120"/>
                  <a:gd name="textAreaTop" fmla="*/ 0 h 887040"/>
                  <a:gd name="textAreaBottom" fmla="*/ 887040 h 887040"/>
                </a:gdLst>
                <a:ahLst/>
                <a:rect l="textAreaLeft" t="textAreaTop" r="textAreaRight" b="textAreaBottom"/>
                <a:pathLst>
                  <a:path w="21600" h="30547">
                    <a:moveTo>
                      <a:pt x="0" y="0"/>
                    </a:moveTo>
                    <a:arcTo wR="0" hR="0" stAng="16200000" swAng="-5400000"/>
                    <a:lnTo>
                      <a:pt x="0" y="30547"/>
                    </a:lnTo>
                    <a:arcTo wR="0" hR="0" stAng="10800000" swAng="-5400000"/>
                    <a:lnTo>
                      <a:pt x="21600" y="3054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5358240" y="5051160"/>
                <a:ext cx="606960" cy="4104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960" bIns="-3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78040" y="4164120"/>
                <a:ext cx="0" cy="88704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382360" y="4171320"/>
                <a:ext cx="555120" cy="878400"/>
              </a:xfrm>
              <a:custGeom>
                <a:avLst/>
                <a:gdLst/>
                <a:ahLst/>
                <a:rect l="l" t="t" r="r" b="b"/>
                <a:pathLst>
                  <a:path w="388" h="727">
                    <a:moveTo>
                      <a:pt x="0" y="726"/>
                    </a:moveTo>
                    <a:lnTo>
                      <a:pt x="0" y="0"/>
                    </a:lnTo>
                    <a:lnTo>
                      <a:pt x="387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348160" y="4167360"/>
                <a:ext cx="25560" cy="879840"/>
              </a:xfrm>
              <a:custGeom>
                <a:avLst/>
                <a:gdLst/>
                <a:ahLst/>
                <a:rect l="l" t="t" r="r" b="b"/>
                <a:pathLst>
                  <a:path w="18" h="728">
                    <a:moveTo>
                      <a:pt x="0" y="727"/>
                    </a:moveTo>
                    <a:lnTo>
                      <a:pt x="0" y="0"/>
                    </a:lnTo>
                    <a:lnTo>
                      <a:pt x="17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942160" y="4167360"/>
                <a:ext cx="28440" cy="879840"/>
              </a:xfrm>
              <a:custGeom>
                <a:avLst/>
                <a:gdLst/>
                <a:ahLst/>
                <a:rect l="l" t="t" r="r" b="b"/>
                <a:pathLst>
                  <a:path w="20" h="728">
                    <a:moveTo>
                      <a:pt x="0" y="0"/>
                    </a:moveTo>
                    <a:lnTo>
                      <a:pt x="19" y="0"/>
                    </a:lnTo>
                    <a:lnTo>
                      <a:pt x="19" y="727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2160" y="4164120"/>
                <a:ext cx="0" cy="89280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399640" y="4228200"/>
                <a:ext cx="108720" cy="19296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360 h 192960"/>
                  <a:gd name="textAreaBottom" fmla="*/ 193680 h 192960"/>
                </a:gdLst>
                <a:ahLst/>
                <a:rect l="textAreaLeft" t="textAreaTop" r="textAreaRight" b="textAreaBottom"/>
                <a:pathLst>
                  <a:path w="21600" h="38281">
                    <a:moveTo>
                      <a:pt x="0" y="0"/>
                    </a:moveTo>
                    <a:arcTo wR="0" hR="0" stAng="16200000" swAng="-5400000"/>
                    <a:lnTo>
                      <a:pt x="0" y="38281"/>
                    </a:lnTo>
                    <a:arcTo wR="0" hR="0" stAng="10800000" swAng="-5400000"/>
                    <a:lnTo>
                      <a:pt x="21600" y="3828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5409720" y="4238280"/>
                <a:ext cx="87120" cy="17244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-360 h 172440"/>
                  <a:gd name="textAreaBottom" fmla="*/ 172440 h 172440"/>
                </a:gdLst>
                <a:ahLst/>
                <a:rect l="textAreaLeft" t="textAreaTop" r="textAreaRight" b="textAreaBottom"/>
                <a:pathLst>
                  <a:path w="21600" h="42667">
                    <a:moveTo>
                      <a:pt x="0" y="0"/>
                    </a:moveTo>
                    <a:arcTo wR="0" hR="0" stAng="16200000" swAng="-5400000"/>
                    <a:lnTo>
                      <a:pt x="0" y="42667"/>
                    </a:lnTo>
                    <a:arcTo wR="0" hR="0" stAng="10800000" swAng="-5400000"/>
                    <a:lnTo>
                      <a:pt x="21600" y="4266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5414040" y="4355280"/>
                <a:ext cx="81360" cy="507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5760" bIns="5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5414040" y="4241880"/>
                <a:ext cx="35640" cy="11124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-360 h 111240"/>
                  <a:gd name="textAreaBottom" fmla="*/ 111240 h 111240"/>
                </a:gdLst>
                <a:ahLst/>
                <a:rect l="textAreaLeft" t="textAreaTop" r="textAreaRight" b="textAreaBottom"/>
                <a:pathLst>
                  <a:path w="21600" h="66960">
                    <a:moveTo>
                      <a:pt x="0" y="0"/>
                    </a:moveTo>
                    <a:arcTo wR="0" hR="0" stAng="16200000" swAng="-5400000"/>
                    <a:lnTo>
                      <a:pt x="0" y="66960"/>
                    </a:lnTo>
                    <a:arcTo wR="0" hR="0" stAng="10800000" swAng="-5400000"/>
                    <a:lnTo>
                      <a:pt x="21600" y="6696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5466960" y="4246560"/>
                <a:ext cx="24120" cy="954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-360 h 95400"/>
                  <a:gd name="textAreaBottom" fmla="*/ 95400 h 95400"/>
                </a:gdLst>
                <a:ahLst/>
                <a:rect l="textAreaLeft" t="textAreaTop" r="textAreaRight" b="textAreaBottom"/>
                <a:pathLst>
                  <a:path w="21600" h="84494">
                    <a:moveTo>
                      <a:pt x="0" y="0"/>
                    </a:moveTo>
                    <a:arcTo wR="0" hR="0" stAng="16200000" swAng="-5400000"/>
                    <a:lnTo>
                      <a:pt x="0" y="84494"/>
                    </a:lnTo>
                    <a:arcTo wR="0" hR="0" stAng="10800000" swAng="-5400000"/>
                    <a:lnTo>
                      <a:pt x="21600" y="8449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5420880" y="4273920"/>
                <a:ext cx="21240" cy="7128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71280"/>
                  <a:gd name="textAreaBottom" fmla="*/ 71280 h 71280"/>
                </a:gdLst>
                <a:ahLst/>
                <a:rect l="textAreaLeft" t="textAreaTop" r="textAreaRight" b="textAreaBottom"/>
                <a:pathLst>
                  <a:path w="21600" h="71640">
                    <a:moveTo>
                      <a:pt x="0" y="0"/>
                    </a:moveTo>
                    <a:arcTo wR="0" hR="0" stAng="16200000" swAng="-5400000"/>
                    <a:lnTo>
                      <a:pt x="0" y="71640"/>
                    </a:lnTo>
                    <a:arcTo wR="0" hR="0" stAng="10800000" swAng="-5400000"/>
                    <a:lnTo>
                      <a:pt x="21600" y="716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25920" bIns="25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5422320" y="4273200"/>
                <a:ext cx="19800" cy="468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40320" bIns="-40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5449680" y="4241880"/>
                <a:ext cx="5760" cy="111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-360 h 111240"/>
                  <a:gd name="textAreaBottom" fmla="*/ 111240 h 111240"/>
                </a:gdLst>
                <a:ahLst/>
                <a:rect l="textAreaLeft" t="textAreaTop" r="textAreaRight" b="textAreaBottom"/>
                <a:pathLst>
                  <a:path w="21600" h="393882">
                    <a:moveTo>
                      <a:pt x="0" y="0"/>
                    </a:moveTo>
                    <a:arcTo wR="0" hR="0" stAng="16200000" swAng="-5400000"/>
                    <a:lnTo>
                      <a:pt x="0" y="393882"/>
                    </a:lnTo>
                    <a:arcTo wR="0" hR="0" stAng="10800000" swAng="-5400000"/>
                    <a:lnTo>
                      <a:pt x="21600" y="39388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5459760" y="4246560"/>
                <a:ext cx="11160" cy="954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-360 h 95400"/>
                  <a:gd name="textAreaBottom" fmla="*/ 95400 h 95400"/>
                </a:gdLst>
                <a:ahLst/>
                <a:rect l="textAreaLeft" t="textAreaTop" r="textAreaRight" b="textAreaBottom"/>
                <a:pathLst>
                  <a:path w="21600" h="179550">
                    <a:moveTo>
                      <a:pt x="0" y="0"/>
                    </a:moveTo>
                    <a:arcTo wR="0" hR="0" stAng="16200000" swAng="-5400000"/>
                    <a:lnTo>
                      <a:pt x="0" y="179550"/>
                    </a:lnTo>
                    <a:arcTo wR="0" hR="0" stAng="10800000" swAng="-5400000"/>
                    <a:lnTo>
                      <a:pt x="21600" y="1795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5434200" y="4363560"/>
                <a:ext cx="9720" cy="410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360 h 41040"/>
                  <a:gd name="textAreaBottom" fmla="*/ 41760 h 41040"/>
                </a:gdLst>
                <a:ahLst/>
                <a:rect l="textAreaLeft" t="textAreaTop" r="textAreaRight" b="textAreaBottom"/>
                <a:pathLst>
                  <a:path w="21600" h="88714">
                    <a:moveTo>
                      <a:pt x="0" y="0"/>
                    </a:moveTo>
                    <a:arcTo wR="0" hR="0" stAng="16200000" swAng="-5400000"/>
                    <a:lnTo>
                      <a:pt x="0" y="88714"/>
                    </a:lnTo>
                    <a:arcTo wR="0" hR="0" stAng="10800000" swAng="-5400000"/>
                    <a:lnTo>
                      <a:pt x="21600" y="8871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960" bIns="-3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20880" y="4367160"/>
                <a:ext cx="8280" cy="68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9960" bIns="-39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20880" y="4387680"/>
                <a:ext cx="8280" cy="57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41040" bIns="-410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99640" y="422676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79" h="164">
                    <a:moveTo>
                      <a:pt x="77" y="0"/>
                    </a:moveTo>
                    <a:lnTo>
                      <a:pt x="78" y="163"/>
                    </a:lnTo>
                    <a:lnTo>
                      <a:pt x="0" y="163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5470920" y="4364640"/>
                <a:ext cx="8640" cy="15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360 h 15840"/>
                  <a:gd name="textAreaBottom" fmla="*/ 16560 h 1584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0" y="0"/>
                    </a:moveTo>
                    <a:arcTo wR="0" hR="0" stAng="16200000" swAng="-5400000"/>
                    <a:lnTo>
                      <a:pt x="0" y="38880"/>
                    </a:lnTo>
                    <a:arcTo wR="0" hR="0" stAng="10800000" swAng="-5400000"/>
                    <a:lnTo>
                      <a:pt x="21600" y="38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29160" bIns="-29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5541120" y="4233240"/>
                <a:ext cx="378000" cy="1846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5542920" y="4266720"/>
                <a:ext cx="373320" cy="57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9240" bIns="-39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5542920" y="4302720"/>
                <a:ext cx="373320" cy="72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7800" bIns="-37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5542920" y="4343040"/>
                <a:ext cx="373320" cy="57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9240" bIns="-39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5542920" y="4380480"/>
                <a:ext cx="373320" cy="57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9240" bIns="-39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5559840" y="4235040"/>
                <a:ext cx="340200" cy="183600"/>
                <a:chOff x="5559840" y="4235040"/>
                <a:chExt cx="340200" cy="1836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555984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57928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59656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61384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63256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64984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66676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68548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70384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72256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73984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75676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77584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79132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81148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82984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84712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86404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88276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900040" y="4235040"/>
                  <a:ext cx="0" cy="18360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 flipV="1">
                <a:off x="5541120" y="4547160"/>
                <a:ext cx="378000" cy="1821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5542920" y="4577760"/>
                <a:ext cx="373320" cy="68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8160" bIns="-38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5542920" y="4615920"/>
                <a:ext cx="373320" cy="57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9240" bIns="-39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542920" y="4655160"/>
                <a:ext cx="373320" cy="46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40320" bIns="-40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5542920" y="4691880"/>
                <a:ext cx="373320" cy="57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9240" bIns="-39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5559840" y="4547160"/>
                <a:ext cx="340200" cy="182160"/>
                <a:chOff x="5559840" y="4547160"/>
                <a:chExt cx="340200" cy="1821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55984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57928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59656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61384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63256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64984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66676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68548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70384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72256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73984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75676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77584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79132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581148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82984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84712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86404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88276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900040" y="454716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 flipV="1">
                <a:off x="5541120" y="4846680"/>
                <a:ext cx="378000" cy="1821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542920" y="4878000"/>
                <a:ext cx="373320" cy="57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9240" bIns="-39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542920" y="4915080"/>
                <a:ext cx="373320" cy="46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40320" bIns="-40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542920" y="4954320"/>
                <a:ext cx="373320" cy="57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9240" bIns="-39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5542920" y="4991040"/>
                <a:ext cx="373320" cy="68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8160" bIns="-38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5559840" y="4846680"/>
                <a:ext cx="340200" cy="182160"/>
                <a:chOff x="5559840" y="4846680"/>
                <a:chExt cx="340200" cy="18216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555984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57928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59656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1384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63256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64984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66676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68548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70384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72256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573984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75676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77584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79132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81148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82984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84712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86404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88276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900040" y="4846680"/>
                  <a:ext cx="0" cy="182160"/>
                </a:xfrm>
                <a:prstGeom prst="line">
                  <a:avLst/>
                </a:prstGeom>
                <a:ln w="1872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 flipV="1">
                <a:off x="5399640" y="4455360"/>
                <a:ext cx="97200" cy="216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23760" bIns="-23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99640" y="4455360"/>
                <a:ext cx="98640" cy="2376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9"/>
                    </a:moveTo>
                    <a:lnTo>
                      <a:pt x="68" y="19"/>
                    </a:lnTo>
                    <a:lnTo>
                      <a:pt x="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21600" bIns="-21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5399640" y="4492080"/>
                <a:ext cx="138600" cy="28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16560" bIns="-165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399640" y="4492800"/>
                <a:ext cx="142920" cy="30960"/>
              </a:xfrm>
              <a:custGeom>
                <a:avLst/>
                <a:gdLst/>
                <a:ahLst/>
                <a:rect l="l" t="t" r="r" b="b"/>
                <a:pathLst>
                  <a:path w="100" h="26">
                    <a:moveTo>
                      <a:pt x="0" y="25"/>
                    </a:moveTo>
                    <a:lnTo>
                      <a:pt x="99" y="25"/>
                    </a:lnTo>
                    <a:lnTo>
                      <a:pt x="99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14400" bIns="-144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6023160" y="4220640"/>
              <a:ext cx="1046160" cy="102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bitr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 flipH="1" flipV="1">
            <a:off x="4300200" y="4051080"/>
            <a:ext cx="103356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75440" y="3747960"/>
            <a:ext cx="120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9480" y="4356000"/>
            <a:ext cx="1082880" cy="1274760"/>
            <a:chOff x="7629480" y="4356000"/>
            <a:chExt cx="1082880" cy="1274760"/>
          </a:xfrm>
        </p:grpSpPr>
        <p:grpSp>
          <p:nvGrpSpPr>
            <p:cNvPr id="416" name=""/>
            <p:cNvGrpSpPr/>
            <p:nvPr/>
          </p:nvGrpSpPr>
          <p:grpSpPr>
            <a:xfrm>
              <a:off x="7684920" y="4356000"/>
              <a:ext cx="843480" cy="855000"/>
              <a:chOff x="7684920" y="4356000"/>
              <a:chExt cx="843480" cy="855000"/>
            </a:xfrm>
          </p:grpSpPr>
          <p:sp>
            <p:nvSpPr>
              <p:cNvPr id="417" name=""/>
              <p:cNvSpPr/>
              <p:nvPr/>
            </p:nvSpPr>
            <p:spPr>
              <a:xfrm flipV="1">
                <a:off x="7803720" y="4851720"/>
                <a:ext cx="618480" cy="16164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821000" y="4917600"/>
                <a:ext cx="94320" cy="25200"/>
              </a:xfrm>
              <a:custGeom>
                <a:avLst/>
                <a:gdLst/>
                <a:ahLst/>
                <a:rect l="l" t="t" r="r" b="b"/>
                <a:pathLst>
                  <a:path w="66" h="21">
                    <a:moveTo>
                      <a:pt x="0" y="11"/>
                    </a:move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1" y="17"/>
                    </a:lnTo>
                    <a:lnTo>
                      <a:pt x="61" y="17"/>
                    </a:lnTo>
                    <a:lnTo>
                      <a:pt x="63" y="15"/>
                    </a:lnTo>
                    <a:lnTo>
                      <a:pt x="63" y="15"/>
                    </a:lnTo>
                    <a:lnTo>
                      <a:pt x="63" y="13"/>
                    </a:lnTo>
                    <a:lnTo>
                      <a:pt x="63" y="12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3" y="11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6"/>
                    </a:lnTo>
                    <a:lnTo>
                      <a:pt x="61" y="6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7" y="3"/>
                    </a:lnTo>
                    <a:lnTo>
                      <a:pt x="57" y="1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20160" bIns="-20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65800" y="4876560"/>
                <a:ext cx="228960" cy="118440"/>
              </a:xfrm>
              <a:custGeom>
                <a:avLst/>
                <a:gdLst/>
                <a:ahLst/>
                <a:rect l="l" t="t" r="r" b="b"/>
                <a:pathLst>
                  <a:path w="160" h="98">
                    <a:moveTo>
                      <a:pt x="0" y="85"/>
                    </a:moveTo>
                    <a:lnTo>
                      <a:pt x="0" y="87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1" y="93"/>
                    </a:lnTo>
                    <a:lnTo>
                      <a:pt x="2" y="93"/>
                    </a:lnTo>
                    <a:lnTo>
                      <a:pt x="2" y="94"/>
                    </a:lnTo>
                    <a:lnTo>
                      <a:pt x="4" y="94"/>
                    </a:lnTo>
                    <a:lnTo>
                      <a:pt x="4" y="96"/>
                    </a:lnTo>
                    <a:lnTo>
                      <a:pt x="5" y="96"/>
                    </a:lnTo>
                    <a:lnTo>
                      <a:pt x="5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9" y="97"/>
                    </a:lnTo>
                    <a:lnTo>
                      <a:pt x="10" y="97"/>
                    </a:lnTo>
                    <a:lnTo>
                      <a:pt x="12" y="97"/>
                    </a:lnTo>
                    <a:lnTo>
                      <a:pt x="148" y="97"/>
                    </a:lnTo>
                    <a:lnTo>
                      <a:pt x="148" y="97"/>
                    </a:lnTo>
                    <a:lnTo>
                      <a:pt x="149" y="97"/>
                    </a:lnTo>
                    <a:lnTo>
                      <a:pt x="149" y="97"/>
                    </a:lnTo>
                    <a:lnTo>
                      <a:pt x="151" y="97"/>
                    </a:lnTo>
                    <a:lnTo>
                      <a:pt x="151" y="97"/>
                    </a:lnTo>
                    <a:lnTo>
                      <a:pt x="153" y="96"/>
                    </a:lnTo>
                    <a:lnTo>
                      <a:pt x="153" y="96"/>
                    </a:lnTo>
                    <a:lnTo>
                      <a:pt x="155" y="94"/>
                    </a:lnTo>
                    <a:lnTo>
                      <a:pt x="155" y="94"/>
                    </a:lnTo>
                    <a:lnTo>
                      <a:pt x="156" y="92"/>
                    </a:lnTo>
                    <a:lnTo>
                      <a:pt x="156" y="92"/>
                    </a:lnTo>
                    <a:lnTo>
                      <a:pt x="158" y="90"/>
                    </a:lnTo>
                    <a:lnTo>
                      <a:pt x="158" y="90"/>
                    </a:lnTo>
                    <a:lnTo>
                      <a:pt x="158" y="88"/>
                    </a:lnTo>
                    <a:lnTo>
                      <a:pt x="158" y="86"/>
                    </a:lnTo>
                    <a:lnTo>
                      <a:pt x="159" y="84"/>
                    </a:lnTo>
                    <a:lnTo>
                      <a:pt x="159" y="15"/>
                    </a:lnTo>
                    <a:lnTo>
                      <a:pt x="158" y="15"/>
                    </a:lnTo>
                    <a:lnTo>
                      <a:pt x="158" y="13"/>
                    </a:lnTo>
                    <a:lnTo>
                      <a:pt x="158" y="13"/>
                    </a:lnTo>
                    <a:lnTo>
                      <a:pt x="158" y="11"/>
                    </a:lnTo>
                    <a:lnTo>
                      <a:pt x="156" y="11"/>
                    </a:lnTo>
                    <a:lnTo>
                      <a:pt x="156" y="9"/>
                    </a:lnTo>
                    <a:lnTo>
                      <a:pt x="156" y="7"/>
                    </a:lnTo>
                    <a:lnTo>
                      <a:pt x="156" y="6"/>
                    </a:lnTo>
                    <a:lnTo>
                      <a:pt x="154" y="6"/>
                    </a:lnTo>
                    <a:lnTo>
                      <a:pt x="154" y="4"/>
                    </a:lnTo>
                    <a:lnTo>
                      <a:pt x="152" y="4"/>
                    </a:lnTo>
                    <a:lnTo>
                      <a:pt x="152" y="2"/>
                    </a:lnTo>
                    <a:lnTo>
                      <a:pt x="150" y="2"/>
                    </a:lnTo>
                    <a:lnTo>
                      <a:pt x="149" y="1"/>
                    </a:lnTo>
                    <a:lnTo>
                      <a:pt x="147" y="1"/>
                    </a:lnTo>
                    <a:lnTo>
                      <a:pt x="147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85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823880" y="4356000"/>
                <a:ext cx="574200" cy="434520"/>
              </a:xfrm>
              <a:custGeom>
                <a:avLst/>
                <a:gdLst/>
                <a:ahLst/>
                <a:rect l="l" t="t" r="r" b="b"/>
                <a:pathLst>
                  <a:path w="401" h="360">
                    <a:moveTo>
                      <a:pt x="0" y="341"/>
                    </a:moveTo>
                    <a:lnTo>
                      <a:pt x="0" y="344"/>
                    </a:lnTo>
                    <a:lnTo>
                      <a:pt x="0" y="346"/>
                    </a:lnTo>
                    <a:lnTo>
                      <a:pt x="0" y="348"/>
                    </a:lnTo>
                    <a:lnTo>
                      <a:pt x="0" y="350"/>
                    </a:lnTo>
                    <a:lnTo>
                      <a:pt x="0" y="352"/>
                    </a:lnTo>
                    <a:lnTo>
                      <a:pt x="3" y="353"/>
                    </a:lnTo>
                    <a:lnTo>
                      <a:pt x="3" y="355"/>
                    </a:lnTo>
                    <a:lnTo>
                      <a:pt x="5" y="355"/>
                    </a:lnTo>
                    <a:lnTo>
                      <a:pt x="5" y="357"/>
                    </a:lnTo>
                    <a:lnTo>
                      <a:pt x="7" y="357"/>
                    </a:lnTo>
                    <a:lnTo>
                      <a:pt x="8" y="358"/>
                    </a:lnTo>
                    <a:lnTo>
                      <a:pt x="10" y="358"/>
                    </a:lnTo>
                    <a:lnTo>
                      <a:pt x="12" y="359"/>
                    </a:lnTo>
                    <a:lnTo>
                      <a:pt x="14" y="359"/>
                    </a:lnTo>
                    <a:lnTo>
                      <a:pt x="16" y="359"/>
                    </a:lnTo>
                    <a:lnTo>
                      <a:pt x="19" y="359"/>
                    </a:lnTo>
                    <a:lnTo>
                      <a:pt x="381" y="359"/>
                    </a:lnTo>
                    <a:lnTo>
                      <a:pt x="383" y="359"/>
                    </a:lnTo>
                    <a:lnTo>
                      <a:pt x="385" y="359"/>
                    </a:lnTo>
                    <a:lnTo>
                      <a:pt x="387" y="359"/>
                    </a:lnTo>
                    <a:lnTo>
                      <a:pt x="389" y="358"/>
                    </a:lnTo>
                    <a:lnTo>
                      <a:pt x="389" y="358"/>
                    </a:lnTo>
                    <a:lnTo>
                      <a:pt x="391" y="357"/>
                    </a:lnTo>
                    <a:lnTo>
                      <a:pt x="393" y="356"/>
                    </a:lnTo>
                    <a:lnTo>
                      <a:pt x="394" y="354"/>
                    </a:lnTo>
                    <a:lnTo>
                      <a:pt x="394" y="353"/>
                    </a:lnTo>
                    <a:lnTo>
                      <a:pt x="396" y="351"/>
                    </a:lnTo>
                    <a:lnTo>
                      <a:pt x="396" y="350"/>
                    </a:lnTo>
                    <a:lnTo>
                      <a:pt x="398" y="347"/>
                    </a:lnTo>
                    <a:lnTo>
                      <a:pt x="398" y="345"/>
                    </a:lnTo>
                    <a:lnTo>
                      <a:pt x="399" y="344"/>
                    </a:lnTo>
                    <a:lnTo>
                      <a:pt x="399" y="341"/>
                    </a:lnTo>
                    <a:lnTo>
                      <a:pt x="400" y="338"/>
                    </a:lnTo>
                    <a:lnTo>
                      <a:pt x="400" y="23"/>
                    </a:lnTo>
                    <a:lnTo>
                      <a:pt x="399" y="21"/>
                    </a:lnTo>
                    <a:lnTo>
                      <a:pt x="399" y="19"/>
                    </a:lnTo>
                    <a:lnTo>
                      <a:pt x="399" y="16"/>
                    </a:lnTo>
                    <a:lnTo>
                      <a:pt x="399" y="14"/>
                    </a:lnTo>
                    <a:lnTo>
                      <a:pt x="397" y="13"/>
                    </a:lnTo>
                    <a:lnTo>
                      <a:pt x="397" y="11"/>
                    </a:lnTo>
                    <a:lnTo>
                      <a:pt x="396" y="9"/>
                    </a:lnTo>
                    <a:lnTo>
                      <a:pt x="396" y="7"/>
                    </a:lnTo>
                    <a:lnTo>
                      <a:pt x="394" y="7"/>
                    </a:lnTo>
                    <a:lnTo>
                      <a:pt x="393" y="5"/>
                    </a:lnTo>
                    <a:lnTo>
                      <a:pt x="391" y="4"/>
                    </a:lnTo>
                    <a:lnTo>
                      <a:pt x="391" y="2"/>
                    </a:lnTo>
                    <a:lnTo>
                      <a:pt x="389" y="2"/>
                    </a:lnTo>
                    <a:lnTo>
                      <a:pt x="387" y="2"/>
                    </a:lnTo>
                    <a:lnTo>
                      <a:pt x="385" y="2"/>
                    </a:lnTo>
                    <a:lnTo>
                      <a:pt x="384" y="0"/>
                    </a:lnTo>
                    <a:lnTo>
                      <a:pt x="24" y="0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341"/>
                    </a:lnTo>
                    <a:lnTo>
                      <a:pt x="0" y="34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866720" y="4399560"/>
                <a:ext cx="495360" cy="334440"/>
              </a:xfrm>
              <a:custGeom>
                <a:avLst/>
                <a:gdLst/>
                <a:ahLst/>
                <a:rect l="l" t="t" r="r" b="b"/>
                <a:pathLst>
                  <a:path w="346" h="277">
                    <a:moveTo>
                      <a:pt x="0" y="262"/>
                    </a:moveTo>
                    <a:lnTo>
                      <a:pt x="0" y="264"/>
                    </a:lnTo>
                    <a:lnTo>
                      <a:pt x="0" y="266"/>
                    </a:lnTo>
                    <a:lnTo>
                      <a:pt x="0" y="268"/>
                    </a:lnTo>
                    <a:lnTo>
                      <a:pt x="1" y="269"/>
                    </a:lnTo>
                    <a:lnTo>
                      <a:pt x="1" y="271"/>
                    </a:lnTo>
                    <a:lnTo>
                      <a:pt x="2" y="272"/>
                    </a:lnTo>
                    <a:lnTo>
                      <a:pt x="2" y="274"/>
                    </a:lnTo>
                    <a:lnTo>
                      <a:pt x="4" y="274"/>
                    </a:lnTo>
                    <a:lnTo>
                      <a:pt x="4" y="276"/>
                    </a:lnTo>
                    <a:lnTo>
                      <a:pt x="6" y="276"/>
                    </a:lnTo>
                    <a:lnTo>
                      <a:pt x="7" y="276"/>
                    </a:lnTo>
                    <a:lnTo>
                      <a:pt x="9" y="276"/>
                    </a:lnTo>
                    <a:lnTo>
                      <a:pt x="11" y="276"/>
                    </a:lnTo>
                    <a:lnTo>
                      <a:pt x="13" y="276"/>
                    </a:lnTo>
                    <a:lnTo>
                      <a:pt x="14" y="276"/>
                    </a:lnTo>
                    <a:lnTo>
                      <a:pt x="17" y="276"/>
                    </a:lnTo>
                    <a:lnTo>
                      <a:pt x="328" y="276"/>
                    </a:lnTo>
                    <a:lnTo>
                      <a:pt x="329" y="276"/>
                    </a:lnTo>
                    <a:lnTo>
                      <a:pt x="331" y="276"/>
                    </a:lnTo>
                    <a:lnTo>
                      <a:pt x="333" y="276"/>
                    </a:lnTo>
                    <a:lnTo>
                      <a:pt x="335" y="275"/>
                    </a:lnTo>
                    <a:lnTo>
                      <a:pt x="335" y="275"/>
                    </a:lnTo>
                    <a:lnTo>
                      <a:pt x="337" y="275"/>
                    </a:lnTo>
                    <a:lnTo>
                      <a:pt x="338" y="275"/>
                    </a:lnTo>
                    <a:lnTo>
                      <a:pt x="340" y="272"/>
                    </a:lnTo>
                    <a:lnTo>
                      <a:pt x="340" y="272"/>
                    </a:lnTo>
                    <a:lnTo>
                      <a:pt x="342" y="270"/>
                    </a:lnTo>
                    <a:lnTo>
                      <a:pt x="342" y="270"/>
                    </a:lnTo>
                    <a:lnTo>
                      <a:pt x="343" y="268"/>
                    </a:lnTo>
                    <a:lnTo>
                      <a:pt x="343" y="267"/>
                    </a:lnTo>
                    <a:lnTo>
                      <a:pt x="343" y="264"/>
                    </a:lnTo>
                    <a:lnTo>
                      <a:pt x="343" y="263"/>
                    </a:lnTo>
                    <a:lnTo>
                      <a:pt x="345" y="261"/>
                    </a:lnTo>
                    <a:lnTo>
                      <a:pt x="345" y="19"/>
                    </a:lnTo>
                    <a:lnTo>
                      <a:pt x="343" y="18"/>
                    </a:lnTo>
                    <a:lnTo>
                      <a:pt x="343" y="16"/>
                    </a:lnTo>
                    <a:lnTo>
                      <a:pt x="343" y="14"/>
                    </a:lnTo>
                    <a:lnTo>
                      <a:pt x="343" y="12"/>
                    </a:lnTo>
                    <a:lnTo>
                      <a:pt x="342" y="12"/>
                    </a:lnTo>
                    <a:lnTo>
                      <a:pt x="342" y="10"/>
                    </a:lnTo>
                    <a:lnTo>
                      <a:pt x="342" y="9"/>
                    </a:lnTo>
                    <a:lnTo>
                      <a:pt x="342" y="7"/>
                    </a:lnTo>
                    <a:lnTo>
                      <a:pt x="340" y="7"/>
                    </a:lnTo>
                    <a:lnTo>
                      <a:pt x="339" y="6"/>
                    </a:lnTo>
                    <a:lnTo>
                      <a:pt x="337" y="6"/>
                    </a:lnTo>
                    <a:lnTo>
                      <a:pt x="337" y="4"/>
                    </a:lnTo>
                    <a:lnTo>
                      <a:pt x="335" y="4"/>
                    </a:lnTo>
                    <a:lnTo>
                      <a:pt x="334" y="3"/>
                    </a:lnTo>
                    <a:lnTo>
                      <a:pt x="331" y="3"/>
                    </a:lnTo>
                    <a:lnTo>
                      <a:pt x="331" y="2"/>
                    </a:lnTo>
                    <a:lnTo>
                      <a:pt x="21" y="0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2"/>
                    </a:lnTo>
                    <a:lnTo>
                      <a:pt x="0" y="26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884000" y="4415040"/>
                <a:ext cx="464040" cy="303120"/>
              </a:xfrm>
              <a:custGeom>
                <a:avLst/>
                <a:gdLst/>
                <a:ahLst/>
                <a:rect l="l" t="t" r="r" b="b"/>
                <a:pathLst>
                  <a:path w="324" h="251">
                    <a:moveTo>
                      <a:pt x="0" y="237"/>
                    </a:moveTo>
                    <a:lnTo>
                      <a:pt x="0" y="239"/>
                    </a:lnTo>
                    <a:lnTo>
                      <a:pt x="0" y="241"/>
                    </a:lnTo>
                    <a:lnTo>
                      <a:pt x="0" y="243"/>
                    </a:lnTo>
                    <a:lnTo>
                      <a:pt x="0" y="244"/>
                    </a:lnTo>
                    <a:lnTo>
                      <a:pt x="0" y="246"/>
                    </a:lnTo>
                    <a:lnTo>
                      <a:pt x="1" y="246"/>
                    </a:lnTo>
                    <a:lnTo>
                      <a:pt x="1" y="247"/>
                    </a:lnTo>
                    <a:lnTo>
                      <a:pt x="3" y="247"/>
                    </a:lnTo>
                    <a:lnTo>
                      <a:pt x="3" y="249"/>
                    </a:lnTo>
                    <a:lnTo>
                      <a:pt x="5" y="249"/>
                    </a:lnTo>
                    <a:lnTo>
                      <a:pt x="7" y="250"/>
                    </a:lnTo>
                    <a:lnTo>
                      <a:pt x="9" y="250"/>
                    </a:lnTo>
                    <a:lnTo>
                      <a:pt x="10" y="250"/>
                    </a:lnTo>
                    <a:lnTo>
                      <a:pt x="12" y="250"/>
                    </a:lnTo>
                    <a:lnTo>
                      <a:pt x="14" y="250"/>
                    </a:lnTo>
                    <a:lnTo>
                      <a:pt x="16" y="250"/>
                    </a:lnTo>
                    <a:lnTo>
                      <a:pt x="308" y="250"/>
                    </a:lnTo>
                    <a:lnTo>
                      <a:pt x="308" y="250"/>
                    </a:lnTo>
                    <a:lnTo>
                      <a:pt x="310" y="250"/>
                    </a:lnTo>
                    <a:lnTo>
                      <a:pt x="312" y="250"/>
                    </a:lnTo>
                    <a:lnTo>
                      <a:pt x="314" y="250"/>
                    </a:lnTo>
                    <a:lnTo>
                      <a:pt x="314" y="250"/>
                    </a:lnTo>
                    <a:lnTo>
                      <a:pt x="316" y="249"/>
                    </a:lnTo>
                    <a:lnTo>
                      <a:pt x="317" y="249"/>
                    </a:lnTo>
                    <a:lnTo>
                      <a:pt x="319" y="247"/>
                    </a:lnTo>
                    <a:lnTo>
                      <a:pt x="319" y="247"/>
                    </a:lnTo>
                    <a:lnTo>
                      <a:pt x="319" y="245"/>
                    </a:lnTo>
                    <a:lnTo>
                      <a:pt x="319" y="244"/>
                    </a:lnTo>
                    <a:lnTo>
                      <a:pt x="322" y="242"/>
                    </a:lnTo>
                    <a:lnTo>
                      <a:pt x="322" y="242"/>
                    </a:lnTo>
                    <a:lnTo>
                      <a:pt x="322" y="240"/>
                    </a:lnTo>
                    <a:lnTo>
                      <a:pt x="322" y="238"/>
                    </a:lnTo>
                    <a:lnTo>
                      <a:pt x="323" y="236"/>
                    </a:lnTo>
                    <a:lnTo>
                      <a:pt x="323" y="17"/>
                    </a:lnTo>
                    <a:lnTo>
                      <a:pt x="322" y="17"/>
                    </a:lnTo>
                    <a:lnTo>
                      <a:pt x="322" y="15"/>
                    </a:lnTo>
                    <a:lnTo>
                      <a:pt x="322" y="13"/>
                    </a:lnTo>
                    <a:lnTo>
                      <a:pt x="322" y="11"/>
                    </a:lnTo>
                    <a:lnTo>
                      <a:pt x="319" y="11"/>
                    </a:lnTo>
                    <a:lnTo>
                      <a:pt x="319" y="9"/>
                    </a:lnTo>
                    <a:lnTo>
                      <a:pt x="319" y="8"/>
                    </a:lnTo>
                    <a:lnTo>
                      <a:pt x="319" y="6"/>
                    </a:lnTo>
                    <a:lnTo>
                      <a:pt x="317" y="6"/>
                    </a:lnTo>
                    <a:lnTo>
                      <a:pt x="316" y="5"/>
                    </a:lnTo>
                    <a:lnTo>
                      <a:pt x="314" y="5"/>
                    </a:lnTo>
                    <a:lnTo>
                      <a:pt x="314" y="3"/>
                    </a:lnTo>
                    <a:lnTo>
                      <a:pt x="312" y="3"/>
                    </a:lnTo>
                    <a:lnTo>
                      <a:pt x="310" y="2"/>
                    </a:lnTo>
                    <a:lnTo>
                      <a:pt x="308" y="2"/>
                    </a:lnTo>
                    <a:lnTo>
                      <a:pt x="308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7804800" y="4882680"/>
                <a:ext cx="243360" cy="57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9240" bIns="-39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7804800" y="4984560"/>
                <a:ext cx="243360" cy="468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40320" bIns="-40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8297640" y="4875840"/>
                <a:ext cx="126000" cy="612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8880" bIns="-38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8297640" y="4984560"/>
                <a:ext cx="124560" cy="468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40320" bIns="-40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8083080" y="4894920"/>
                <a:ext cx="194760" cy="432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40680" bIns="-40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8108640" y="4923000"/>
                <a:ext cx="144720" cy="828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6720" bIns="-36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066880" y="4912920"/>
                <a:ext cx="22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068680" y="4942080"/>
                <a:ext cx="223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8320680" y="4909320"/>
                <a:ext cx="78480" cy="3456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10440" bIns="-10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84920" y="5037120"/>
                <a:ext cx="843480" cy="149760"/>
              </a:xfrm>
              <a:custGeom>
                <a:avLst/>
                <a:gdLst/>
                <a:ahLst/>
                <a:rect l="l" t="t" r="r" b="b"/>
                <a:pathLst>
                  <a:path w="589" h="124">
                    <a:moveTo>
                      <a:pt x="59" y="0"/>
                    </a:moveTo>
                    <a:lnTo>
                      <a:pt x="60" y="0"/>
                    </a:lnTo>
                    <a:lnTo>
                      <a:pt x="538" y="0"/>
                    </a:lnTo>
                    <a:lnTo>
                      <a:pt x="588" y="123"/>
                    </a:lnTo>
                    <a:lnTo>
                      <a:pt x="0" y="123"/>
                    </a:lnTo>
                    <a:lnTo>
                      <a:pt x="59" y="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686000" y="5185800"/>
                <a:ext cx="842040" cy="25200"/>
              </a:xfrm>
              <a:custGeom>
                <a:avLst/>
                <a:gdLst/>
                <a:ahLst/>
                <a:rect l="l" t="t" r="r" b="b"/>
                <a:pathLst>
                  <a:path w="588" h="21">
                    <a:moveTo>
                      <a:pt x="0" y="0"/>
                    </a:moveTo>
                    <a:lnTo>
                      <a:pt x="587" y="0"/>
                    </a:lnTo>
                    <a:lnTo>
                      <a:pt x="572" y="20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20160" bIns="-20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85000" y="5049360"/>
                <a:ext cx="541080" cy="14400"/>
              </a:xfrm>
              <a:custGeom>
                <a:avLst/>
                <a:gdLst/>
                <a:ahLst/>
                <a:rect l="l" t="t" r="r" b="b"/>
                <a:pathLst>
                  <a:path w="378" h="12">
                    <a:moveTo>
                      <a:pt x="3" y="0"/>
                    </a:moveTo>
                    <a:lnTo>
                      <a:pt x="0" y="11"/>
                    </a:lnTo>
                    <a:lnTo>
                      <a:pt x="377" y="11"/>
                    </a:lnTo>
                    <a:lnTo>
                      <a:pt x="372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0960" bIns="-30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38920" y="5070960"/>
                <a:ext cx="495360" cy="73440"/>
              </a:xfrm>
              <a:custGeom>
                <a:avLst/>
                <a:gdLst/>
                <a:ahLst/>
                <a:rect l="l" t="t" r="r" b="b"/>
                <a:pathLst>
                  <a:path w="346" h="61">
                    <a:moveTo>
                      <a:pt x="30" y="0"/>
                    </a:moveTo>
                    <a:lnTo>
                      <a:pt x="341" y="0"/>
                    </a:lnTo>
                    <a:lnTo>
                      <a:pt x="345" y="60"/>
                    </a:lnTo>
                    <a:lnTo>
                      <a:pt x="312" y="59"/>
                    </a:lnTo>
                    <a:lnTo>
                      <a:pt x="312" y="51"/>
                    </a:lnTo>
                    <a:lnTo>
                      <a:pt x="294" y="51"/>
                    </a:lnTo>
                    <a:lnTo>
                      <a:pt x="293" y="59"/>
                    </a:lnTo>
                    <a:lnTo>
                      <a:pt x="63" y="59"/>
                    </a:lnTo>
                    <a:lnTo>
                      <a:pt x="64" y="51"/>
                    </a:lnTo>
                    <a:lnTo>
                      <a:pt x="44" y="53"/>
                    </a:lnTo>
                    <a:lnTo>
                      <a:pt x="42" y="59"/>
                    </a:lnTo>
                    <a:lnTo>
                      <a:pt x="0" y="60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28080" bIns="28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38960" y="5070960"/>
                <a:ext cx="101880" cy="3492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0" y="0"/>
                    </a:moveTo>
                    <a:lnTo>
                      <a:pt x="0" y="0"/>
                    </a:lnTo>
                    <a:lnTo>
                      <a:pt x="2" y="28"/>
                    </a:lnTo>
                    <a:lnTo>
                      <a:pt x="70" y="28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10440" bIns="-10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246160" y="5108400"/>
                <a:ext cx="104040" cy="37440"/>
              </a:xfrm>
              <a:custGeom>
                <a:avLst/>
                <a:gdLst/>
                <a:ahLst/>
                <a:rect l="l" t="t" r="r" b="b"/>
                <a:pathLst>
                  <a:path w="73" h="31">
                    <a:moveTo>
                      <a:pt x="22" y="0"/>
                    </a:moveTo>
                    <a:lnTo>
                      <a:pt x="22" y="8"/>
                    </a:lnTo>
                    <a:lnTo>
                      <a:pt x="0" y="8"/>
                    </a:lnTo>
                    <a:lnTo>
                      <a:pt x="3" y="30"/>
                    </a:lnTo>
                    <a:lnTo>
                      <a:pt x="72" y="30"/>
                    </a:lnTo>
                    <a:lnTo>
                      <a:pt x="66" y="8"/>
                    </a:lnTo>
                    <a:lnTo>
                      <a:pt x="44" y="8"/>
                    </a:lnTo>
                    <a:lnTo>
                      <a:pt x="44" y="0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340840" y="5073480"/>
                <a:ext cx="151560" cy="72360"/>
              </a:xfrm>
              <a:custGeom>
                <a:avLst/>
                <a:gdLst/>
                <a:ahLst/>
                <a:rect l="l" t="t" r="r" b="b"/>
                <a:pathLst>
                  <a:path w="106" h="60">
                    <a:moveTo>
                      <a:pt x="0" y="0"/>
                    </a:moveTo>
                    <a:lnTo>
                      <a:pt x="17" y="59"/>
                    </a:lnTo>
                    <a:lnTo>
                      <a:pt x="105" y="59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27000" bIns="270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7971120" y="4788360"/>
                <a:ext cx="283320" cy="43200"/>
              </a:xfrm>
              <a:prstGeom prst="roundRect">
                <a:avLst>
                  <a:gd name="adj" fmla="val 15912"/>
                </a:avLst>
              </a:prstGeom>
              <a:solidFill>
                <a:srgbClr val="727272"/>
              </a:solidFill>
              <a:ln w="936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5760" bIns="-5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8322120" y="4753800"/>
                <a:ext cx="38520" cy="2052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24840" bIns="-24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7902360" y="4812480"/>
                <a:ext cx="421200" cy="324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12960" bIns="-12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7904160" y="4842000"/>
                <a:ext cx="419400" cy="828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6720" bIns="-36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7629480" y="5264640"/>
              <a:ext cx="108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 flipH="1">
            <a:off x="4314600" y="5210280"/>
            <a:ext cx="330516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17080" y="5421240"/>
            <a:ext cx="80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300560" y="4633920"/>
            <a:ext cx="103356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8840" y="4883040"/>
            <a:ext cx="80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93960" y="1752480"/>
            <a:ext cx="3315600" cy="4410000"/>
            <a:chOff x="993960" y="1752480"/>
            <a:chExt cx="3315600" cy="4410000"/>
          </a:xfrm>
        </p:grpSpPr>
        <p:sp>
          <p:nvSpPr>
            <p:cNvPr id="449" name=""/>
            <p:cNvSpPr/>
            <p:nvPr/>
          </p:nvSpPr>
          <p:spPr>
            <a:xfrm>
              <a:off x="1059840" y="2157840"/>
              <a:ext cx="3233880" cy="133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uthoritative Da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primary master a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lave zone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59840" y="4827600"/>
              <a:ext cx="3233880" cy="13348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looks up queri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n behalf of resolver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59840" y="3492720"/>
              <a:ext cx="3233880" cy="1334520"/>
            </a:xfrm>
            <a:prstGeom prst="rect">
              <a:avLst/>
            </a:prstGeom>
            <a:solidFill>
              <a:srgbClr val="aaa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ache Da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responses fro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ther name server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93960" y="1752480"/>
              <a:ext cx="3315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me Server 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5967720" y="3443400"/>
            <a:ext cx="120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67080" y="3581280"/>
            <a:ext cx="3505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NS i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“Domain Name Syste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in 1983 by Paul Mockapetris (RFCs 1034 and 1035), modified, updated, and enhanced by a myriad of subsequent RF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nternet users use to reference anything by name on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chanism by which Internet software translates names to addresses and vice ve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ch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293720" y="5176800"/>
            <a:ext cx="3326040" cy="2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13840" y="5378400"/>
            <a:ext cx="80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64480" y="3092400"/>
            <a:ext cx="1209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43400" y="3809880"/>
            <a:ext cx="3414600" cy="42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993960" y="1752480"/>
            <a:ext cx="3315600" cy="4410000"/>
            <a:chOff x="993960" y="1752480"/>
            <a:chExt cx="3315600" cy="4410000"/>
          </a:xfrm>
        </p:grpSpPr>
        <p:sp>
          <p:nvSpPr>
            <p:cNvPr id="461" name=""/>
            <p:cNvSpPr/>
            <p:nvPr/>
          </p:nvSpPr>
          <p:spPr>
            <a:xfrm>
              <a:off x="1059840" y="2157840"/>
              <a:ext cx="3233880" cy="133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uthoritative Da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primary master a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lave zone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059840" y="4827600"/>
              <a:ext cx="3233880" cy="13348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looks up queri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n behalf of resolver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59840" y="3492720"/>
              <a:ext cx="3233880" cy="1334520"/>
            </a:xfrm>
            <a:prstGeom prst="rect">
              <a:avLst/>
            </a:prstGeom>
            <a:solidFill>
              <a:srgbClr val="aaaa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ache Da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(responses fro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ther name server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93960" y="1752480"/>
              <a:ext cx="3315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me Server 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7629480" y="4356000"/>
            <a:ext cx="1082880" cy="1274760"/>
            <a:chOff x="7629480" y="4356000"/>
            <a:chExt cx="1082880" cy="1274760"/>
          </a:xfrm>
        </p:grpSpPr>
        <p:grpSp>
          <p:nvGrpSpPr>
            <p:cNvPr id="466" name=""/>
            <p:cNvGrpSpPr/>
            <p:nvPr/>
          </p:nvGrpSpPr>
          <p:grpSpPr>
            <a:xfrm>
              <a:off x="7684920" y="4356000"/>
              <a:ext cx="843480" cy="855000"/>
              <a:chOff x="7684920" y="4356000"/>
              <a:chExt cx="843480" cy="855000"/>
            </a:xfrm>
          </p:grpSpPr>
          <p:sp>
            <p:nvSpPr>
              <p:cNvPr id="467" name=""/>
              <p:cNvSpPr/>
              <p:nvPr/>
            </p:nvSpPr>
            <p:spPr>
              <a:xfrm flipV="1">
                <a:off x="7803720" y="4851720"/>
                <a:ext cx="618480" cy="16164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21000" y="4917600"/>
                <a:ext cx="94320" cy="25200"/>
              </a:xfrm>
              <a:custGeom>
                <a:avLst/>
                <a:gdLst/>
                <a:ahLst/>
                <a:rect l="l" t="t" r="r" b="b"/>
                <a:pathLst>
                  <a:path w="66" h="21">
                    <a:moveTo>
                      <a:pt x="0" y="11"/>
                    </a:moveTo>
                    <a:lnTo>
                      <a:pt x="0" y="12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1" y="17"/>
                    </a:lnTo>
                    <a:lnTo>
                      <a:pt x="61" y="17"/>
                    </a:lnTo>
                    <a:lnTo>
                      <a:pt x="63" y="15"/>
                    </a:lnTo>
                    <a:lnTo>
                      <a:pt x="63" y="15"/>
                    </a:lnTo>
                    <a:lnTo>
                      <a:pt x="63" y="13"/>
                    </a:lnTo>
                    <a:lnTo>
                      <a:pt x="63" y="12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3" y="11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6"/>
                    </a:lnTo>
                    <a:lnTo>
                      <a:pt x="61" y="6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7" y="3"/>
                    </a:lnTo>
                    <a:lnTo>
                      <a:pt x="57" y="1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20160" bIns="-20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065800" y="4876560"/>
                <a:ext cx="228960" cy="118440"/>
              </a:xfrm>
              <a:custGeom>
                <a:avLst/>
                <a:gdLst/>
                <a:ahLst/>
                <a:rect l="l" t="t" r="r" b="b"/>
                <a:pathLst>
                  <a:path w="160" h="98">
                    <a:moveTo>
                      <a:pt x="0" y="85"/>
                    </a:moveTo>
                    <a:lnTo>
                      <a:pt x="0" y="87"/>
                    </a:lnTo>
                    <a:lnTo>
                      <a:pt x="0" y="89"/>
                    </a:lnTo>
                    <a:lnTo>
                      <a:pt x="0" y="91"/>
                    </a:lnTo>
                    <a:lnTo>
                      <a:pt x="1" y="91"/>
                    </a:lnTo>
                    <a:lnTo>
                      <a:pt x="1" y="93"/>
                    </a:lnTo>
                    <a:lnTo>
                      <a:pt x="2" y="93"/>
                    </a:lnTo>
                    <a:lnTo>
                      <a:pt x="2" y="94"/>
                    </a:lnTo>
                    <a:lnTo>
                      <a:pt x="4" y="94"/>
                    </a:lnTo>
                    <a:lnTo>
                      <a:pt x="4" y="96"/>
                    </a:lnTo>
                    <a:lnTo>
                      <a:pt x="5" y="96"/>
                    </a:lnTo>
                    <a:lnTo>
                      <a:pt x="5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9" y="97"/>
                    </a:lnTo>
                    <a:lnTo>
                      <a:pt x="10" y="97"/>
                    </a:lnTo>
                    <a:lnTo>
                      <a:pt x="12" y="97"/>
                    </a:lnTo>
                    <a:lnTo>
                      <a:pt x="148" y="97"/>
                    </a:lnTo>
                    <a:lnTo>
                      <a:pt x="148" y="97"/>
                    </a:lnTo>
                    <a:lnTo>
                      <a:pt x="149" y="97"/>
                    </a:lnTo>
                    <a:lnTo>
                      <a:pt x="149" y="97"/>
                    </a:lnTo>
                    <a:lnTo>
                      <a:pt x="151" y="97"/>
                    </a:lnTo>
                    <a:lnTo>
                      <a:pt x="151" y="97"/>
                    </a:lnTo>
                    <a:lnTo>
                      <a:pt x="153" y="96"/>
                    </a:lnTo>
                    <a:lnTo>
                      <a:pt x="153" y="96"/>
                    </a:lnTo>
                    <a:lnTo>
                      <a:pt x="155" y="94"/>
                    </a:lnTo>
                    <a:lnTo>
                      <a:pt x="155" y="94"/>
                    </a:lnTo>
                    <a:lnTo>
                      <a:pt x="156" y="92"/>
                    </a:lnTo>
                    <a:lnTo>
                      <a:pt x="156" y="92"/>
                    </a:lnTo>
                    <a:lnTo>
                      <a:pt x="158" y="90"/>
                    </a:lnTo>
                    <a:lnTo>
                      <a:pt x="158" y="90"/>
                    </a:lnTo>
                    <a:lnTo>
                      <a:pt x="158" y="88"/>
                    </a:lnTo>
                    <a:lnTo>
                      <a:pt x="158" y="86"/>
                    </a:lnTo>
                    <a:lnTo>
                      <a:pt x="159" y="84"/>
                    </a:lnTo>
                    <a:lnTo>
                      <a:pt x="159" y="15"/>
                    </a:lnTo>
                    <a:lnTo>
                      <a:pt x="158" y="15"/>
                    </a:lnTo>
                    <a:lnTo>
                      <a:pt x="158" y="13"/>
                    </a:lnTo>
                    <a:lnTo>
                      <a:pt x="158" y="13"/>
                    </a:lnTo>
                    <a:lnTo>
                      <a:pt x="158" y="11"/>
                    </a:lnTo>
                    <a:lnTo>
                      <a:pt x="156" y="11"/>
                    </a:lnTo>
                    <a:lnTo>
                      <a:pt x="156" y="9"/>
                    </a:lnTo>
                    <a:lnTo>
                      <a:pt x="156" y="7"/>
                    </a:lnTo>
                    <a:lnTo>
                      <a:pt x="156" y="6"/>
                    </a:lnTo>
                    <a:lnTo>
                      <a:pt x="154" y="6"/>
                    </a:lnTo>
                    <a:lnTo>
                      <a:pt x="154" y="4"/>
                    </a:lnTo>
                    <a:lnTo>
                      <a:pt x="152" y="4"/>
                    </a:lnTo>
                    <a:lnTo>
                      <a:pt x="152" y="2"/>
                    </a:lnTo>
                    <a:lnTo>
                      <a:pt x="150" y="2"/>
                    </a:lnTo>
                    <a:lnTo>
                      <a:pt x="149" y="1"/>
                    </a:lnTo>
                    <a:lnTo>
                      <a:pt x="147" y="1"/>
                    </a:lnTo>
                    <a:lnTo>
                      <a:pt x="147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85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23880" y="4356000"/>
                <a:ext cx="574200" cy="434520"/>
              </a:xfrm>
              <a:custGeom>
                <a:avLst/>
                <a:gdLst/>
                <a:ahLst/>
                <a:rect l="l" t="t" r="r" b="b"/>
                <a:pathLst>
                  <a:path w="401" h="360">
                    <a:moveTo>
                      <a:pt x="0" y="341"/>
                    </a:moveTo>
                    <a:lnTo>
                      <a:pt x="0" y="344"/>
                    </a:lnTo>
                    <a:lnTo>
                      <a:pt x="0" y="346"/>
                    </a:lnTo>
                    <a:lnTo>
                      <a:pt x="0" y="348"/>
                    </a:lnTo>
                    <a:lnTo>
                      <a:pt x="0" y="350"/>
                    </a:lnTo>
                    <a:lnTo>
                      <a:pt x="0" y="352"/>
                    </a:lnTo>
                    <a:lnTo>
                      <a:pt x="3" y="353"/>
                    </a:lnTo>
                    <a:lnTo>
                      <a:pt x="3" y="355"/>
                    </a:lnTo>
                    <a:lnTo>
                      <a:pt x="5" y="355"/>
                    </a:lnTo>
                    <a:lnTo>
                      <a:pt x="5" y="357"/>
                    </a:lnTo>
                    <a:lnTo>
                      <a:pt x="7" y="357"/>
                    </a:lnTo>
                    <a:lnTo>
                      <a:pt x="8" y="358"/>
                    </a:lnTo>
                    <a:lnTo>
                      <a:pt x="10" y="358"/>
                    </a:lnTo>
                    <a:lnTo>
                      <a:pt x="12" y="359"/>
                    </a:lnTo>
                    <a:lnTo>
                      <a:pt x="14" y="359"/>
                    </a:lnTo>
                    <a:lnTo>
                      <a:pt x="16" y="359"/>
                    </a:lnTo>
                    <a:lnTo>
                      <a:pt x="19" y="359"/>
                    </a:lnTo>
                    <a:lnTo>
                      <a:pt x="381" y="359"/>
                    </a:lnTo>
                    <a:lnTo>
                      <a:pt x="383" y="359"/>
                    </a:lnTo>
                    <a:lnTo>
                      <a:pt x="385" y="359"/>
                    </a:lnTo>
                    <a:lnTo>
                      <a:pt x="387" y="359"/>
                    </a:lnTo>
                    <a:lnTo>
                      <a:pt x="389" y="358"/>
                    </a:lnTo>
                    <a:lnTo>
                      <a:pt x="389" y="358"/>
                    </a:lnTo>
                    <a:lnTo>
                      <a:pt x="391" y="357"/>
                    </a:lnTo>
                    <a:lnTo>
                      <a:pt x="393" y="356"/>
                    </a:lnTo>
                    <a:lnTo>
                      <a:pt x="394" y="354"/>
                    </a:lnTo>
                    <a:lnTo>
                      <a:pt x="394" y="353"/>
                    </a:lnTo>
                    <a:lnTo>
                      <a:pt x="396" y="351"/>
                    </a:lnTo>
                    <a:lnTo>
                      <a:pt x="396" y="350"/>
                    </a:lnTo>
                    <a:lnTo>
                      <a:pt x="398" y="347"/>
                    </a:lnTo>
                    <a:lnTo>
                      <a:pt x="398" y="345"/>
                    </a:lnTo>
                    <a:lnTo>
                      <a:pt x="399" y="344"/>
                    </a:lnTo>
                    <a:lnTo>
                      <a:pt x="399" y="341"/>
                    </a:lnTo>
                    <a:lnTo>
                      <a:pt x="400" y="338"/>
                    </a:lnTo>
                    <a:lnTo>
                      <a:pt x="400" y="23"/>
                    </a:lnTo>
                    <a:lnTo>
                      <a:pt x="399" y="21"/>
                    </a:lnTo>
                    <a:lnTo>
                      <a:pt x="399" y="19"/>
                    </a:lnTo>
                    <a:lnTo>
                      <a:pt x="399" y="16"/>
                    </a:lnTo>
                    <a:lnTo>
                      <a:pt x="399" y="14"/>
                    </a:lnTo>
                    <a:lnTo>
                      <a:pt x="397" y="13"/>
                    </a:lnTo>
                    <a:lnTo>
                      <a:pt x="397" y="11"/>
                    </a:lnTo>
                    <a:lnTo>
                      <a:pt x="396" y="9"/>
                    </a:lnTo>
                    <a:lnTo>
                      <a:pt x="396" y="7"/>
                    </a:lnTo>
                    <a:lnTo>
                      <a:pt x="394" y="7"/>
                    </a:lnTo>
                    <a:lnTo>
                      <a:pt x="393" y="5"/>
                    </a:lnTo>
                    <a:lnTo>
                      <a:pt x="391" y="4"/>
                    </a:lnTo>
                    <a:lnTo>
                      <a:pt x="391" y="2"/>
                    </a:lnTo>
                    <a:lnTo>
                      <a:pt x="389" y="2"/>
                    </a:lnTo>
                    <a:lnTo>
                      <a:pt x="387" y="2"/>
                    </a:lnTo>
                    <a:lnTo>
                      <a:pt x="385" y="2"/>
                    </a:lnTo>
                    <a:lnTo>
                      <a:pt x="384" y="0"/>
                    </a:lnTo>
                    <a:lnTo>
                      <a:pt x="24" y="0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341"/>
                    </a:lnTo>
                    <a:lnTo>
                      <a:pt x="0" y="34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66720" y="4399560"/>
                <a:ext cx="495360" cy="334440"/>
              </a:xfrm>
              <a:custGeom>
                <a:avLst/>
                <a:gdLst/>
                <a:ahLst/>
                <a:rect l="l" t="t" r="r" b="b"/>
                <a:pathLst>
                  <a:path w="346" h="277">
                    <a:moveTo>
                      <a:pt x="0" y="262"/>
                    </a:moveTo>
                    <a:lnTo>
                      <a:pt x="0" y="264"/>
                    </a:lnTo>
                    <a:lnTo>
                      <a:pt x="0" y="266"/>
                    </a:lnTo>
                    <a:lnTo>
                      <a:pt x="0" y="268"/>
                    </a:lnTo>
                    <a:lnTo>
                      <a:pt x="1" y="269"/>
                    </a:lnTo>
                    <a:lnTo>
                      <a:pt x="1" y="271"/>
                    </a:lnTo>
                    <a:lnTo>
                      <a:pt x="2" y="272"/>
                    </a:lnTo>
                    <a:lnTo>
                      <a:pt x="2" y="274"/>
                    </a:lnTo>
                    <a:lnTo>
                      <a:pt x="4" y="274"/>
                    </a:lnTo>
                    <a:lnTo>
                      <a:pt x="4" y="276"/>
                    </a:lnTo>
                    <a:lnTo>
                      <a:pt x="6" y="276"/>
                    </a:lnTo>
                    <a:lnTo>
                      <a:pt x="7" y="276"/>
                    </a:lnTo>
                    <a:lnTo>
                      <a:pt x="9" y="276"/>
                    </a:lnTo>
                    <a:lnTo>
                      <a:pt x="11" y="276"/>
                    </a:lnTo>
                    <a:lnTo>
                      <a:pt x="13" y="276"/>
                    </a:lnTo>
                    <a:lnTo>
                      <a:pt x="14" y="276"/>
                    </a:lnTo>
                    <a:lnTo>
                      <a:pt x="17" y="276"/>
                    </a:lnTo>
                    <a:lnTo>
                      <a:pt x="328" y="276"/>
                    </a:lnTo>
                    <a:lnTo>
                      <a:pt x="329" y="276"/>
                    </a:lnTo>
                    <a:lnTo>
                      <a:pt x="331" y="276"/>
                    </a:lnTo>
                    <a:lnTo>
                      <a:pt x="333" y="276"/>
                    </a:lnTo>
                    <a:lnTo>
                      <a:pt x="335" y="275"/>
                    </a:lnTo>
                    <a:lnTo>
                      <a:pt x="335" y="275"/>
                    </a:lnTo>
                    <a:lnTo>
                      <a:pt x="337" y="275"/>
                    </a:lnTo>
                    <a:lnTo>
                      <a:pt x="338" y="275"/>
                    </a:lnTo>
                    <a:lnTo>
                      <a:pt x="340" y="272"/>
                    </a:lnTo>
                    <a:lnTo>
                      <a:pt x="340" y="272"/>
                    </a:lnTo>
                    <a:lnTo>
                      <a:pt x="342" y="270"/>
                    </a:lnTo>
                    <a:lnTo>
                      <a:pt x="342" y="270"/>
                    </a:lnTo>
                    <a:lnTo>
                      <a:pt x="343" y="268"/>
                    </a:lnTo>
                    <a:lnTo>
                      <a:pt x="343" y="267"/>
                    </a:lnTo>
                    <a:lnTo>
                      <a:pt x="343" y="264"/>
                    </a:lnTo>
                    <a:lnTo>
                      <a:pt x="343" y="263"/>
                    </a:lnTo>
                    <a:lnTo>
                      <a:pt x="345" y="261"/>
                    </a:lnTo>
                    <a:lnTo>
                      <a:pt x="345" y="19"/>
                    </a:lnTo>
                    <a:lnTo>
                      <a:pt x="343" y="18"/>
                    </a:lnTo>
                    <a:lnTo>
                      <a:pt x="343" y="16"/>
                    </a:lnTo>
                    <a:lnTo>
                      <a:pt x="343" y="14"/>
                    </a:lnTo>
                    <a:lnTo>
                      <a:pt x="343" y="12"/>
                    </a:lnTo>
                    <a:lnTo>
                      <a:pt x="342" y="12"/>
                    </a:lnTo>
                    <a:lnTo>
                      <a:pt x="342" y="10"/>
                    </a:lnTo>
                    <a:lnTo>
                      <a:pt x="342" y="9"/>
                    </a:lnTo>
                    <a:lnTo>
                      <a:pt x="342" y="7"/>
                    </a:lnTo>
                    <a:lnTo>
                      <a:pt x="340" y="7"/>
                    </a:lnTo>
                    <a:lnTo>
                      <a:pt x="339" y="6"/>
                    </a:lnTo>
                    <a:lnTo>
                      <a:pt x="337" y="6"/>
                    </a:lnTo>
                    <a:lnTo>
                      <a:pt x="337" y="4"/>
                    </a:lnTo>
                    <a:lnTo>
                      <a:pt x="335" y="4"/>
                    </a:lnTo>
                    <a:lnTo>
                      <a:pt x="334" y="3"/>
                    </a:lnTo>
                    <a:lnTo>
                      <a:pt x="331" y="3"/>
                    </a:lnTo>
                    <a:lnTo>
                      <a:pt x="331" y="2"/>
                    </a:lnTo>
                    <a:lnTo>
                      <a:pt x="21" y="0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62"/>
                    </a:lnTo>
                    <a:lnTo>
                      <a:pt x="0" y="26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884000" y="4415040"/>
                <a:ext cx="464040" cy="303120"/>
              </a:xfrm>
              <a:custGeom>
                <a:avLst/>
                <a:gdLst/>
                <a:ahLst/>
                <a:rect l="l" t="t" r="r" b="b"/>
                <a:pathLst>
                  <a:path w="324" h="251">
                    <a:moveTo>
                      <a:pt x="0" y="237"/>
                    </a:moveTo>
                    <a:lnTo>
                      <a:pt x="0" y="239"/>
                    </a:lnTo>
                    <a:lnTo>
                      <a:pt x="0" y="241"/>
                    </a:lnTo>
                    <a:lnTo>
                      <a:pt x="0" y="243"/>
                    </a:lnTo>
                    <a:lnTo>
                      <a:pt x="0" y="244"/>
                    </a:lnTo>
                    <a:lnTo>
                      <a:pt x="0" y="246"/>
                    </a:lnTo>
                    <a:lnTo>
                      <a:pt x="1" y="246"/>
                    </a:lnTo>
                    <a:lnTo>
                      <a:pt x="1" y="247"/>
                    </a:lnTo>
                    <a:lnTo>
                      <a:pt x="3" y="247"/>
                    </a:lnTo>
                    <a:lnTo>
                      <a:pt x="3" y="249"/>
                    </a:lnTo>
                    <a:lnTo>
                      <a:pt x="5" y="249"/>
                    </a:lnTo>
                    <a:lnTo>
                      <a:pt x="7" y="250"/>
                    </a:lnTo>
                    <a:lnTo>
                      <a:pt x="9" y="250"/>
                    </a:lnTo>
                    <a:lnTo>
                      <a:pt x="10" y="250"/>
                    </a:lnTo>
                    <a:lnTo>
                      <a:pt x="12" y="250"/>
                    </a:lnTo>
                    <a:lnTo>
                      <a:pt x="14" y="250"/>
                    </a:lnTo>
                    <a:lnTo>
                      <a:pt x="16" y="250"/>
                    </a:lnTo>
                    <a:lnTo>
                      <a:pt x="308" y="250"/>
                    </a:lnTo>
                    <a:lnTo>
                      <a:pt x="308" y="250"/>
                    </a:lnTo>
                    <a:lnTo>
                      <a:pt x="310" y="250"/>
                    </a:lnTo>
                    <a:lnTo>
                      <a:pt x="312" y="250"/>
                    </a:lnTo>
                    <a:lnTo>
                      <a:pt x="314" y="250"/>
                    </a:lnTo>
                    <a:lnTo>
                      <a:pt x="314" y="250"/>
                    </a:lnTo>
                    <a:lnTo>
                      <a:pt x="316" y="249"/>
                    </a:lnTo>
                    <a:lnTo>
                      <a:pt x="317" y="249"/>
                    </a:lnTo>
                    <a:lnTo>
                      <a:pt x="319" y="247"/>
                    </a:lnTo>
                    <a:lnTo>
                      <a:pt x="319" y="247"/>
                    </a:lnTo>
                    <a:lnTo>
                      <a:pt x="319" y="245"/>
                    </a:lnTo>
                    <a:lnTo>
                      <a:pt x="319" y="244"/>
                    </a:lnTo>
                    <a:lnTo>
                      <a:pt x="322" y="242"/>
                    </a:lnTo>
                    <a:lnTo>
                      <a:pt x="322" y="242"/>
                    </a:lnTo>
                    <a:lnTo>
                      <a:pt x="322" y="240"/>
                    </a:lnTo>
                    <a:lnTo>
                      <a:pt x="322" y="238"/>
                    </a:lnTo>
                    <a:lnTo>
                      <a:pt x="323" y="236"/>
                    </a:lnTo>
                    <a:lnTo>
                      <a:pt x="323" y="17"/>
                    </a:lnTo>
                    <a:lnTo>
                      <a:pt x="322" y="17"/>
                    </a:lnTo>
                    <a:lnTo>
                      <a:pt x="322" y="15"/>
                    </a:lnTo>
                    <a:lnTo>
                      <a:pt x="322" y="13"/>
                    </a:lnTo>
                    <a:lnTo>
                      <a:pt x="322" y="11"/>
                    </a:lnTo>
                    <a:lnTo>
                      <a:pt x="319" y="11"/>
                    </a:lnTo>
                    <a:lnTo>
                      <a:pt x="319" y="9"/>
                    </a:lnTo>
                    <a:lnTo>
                      <a:pt x="319" y="8"/>
                    </a:lnTo>
                    <a:lnTo>
                      <a:pt x="319" y="6"/>
                    </a:lnTo>
                    <a:lnTo>
                      <a:pt x="317" y="6"/>
                    </a:lnTo>
                    <a:lnTo>
                      <a:pt x="316" y="5"/>
                    </a:lnTo>
                    <a:lnTo>
                      <a:pt x="314" y="5"/>
                    </a:lnTo>
                    <a:lnTo>
                      <a:pt x="314" y="3"/>
                    </a:lnTo>
                    <a:lnTo>
                      <a:pt x="312" y="3"/>
                    </a:lnTo>
                    <a:lnTo>
                      <a:pt x="310" y="2"/>
                    </a:lnTo>
                    <a:lnTo>
                      <a:pt x="308" y="2"/>
                    </a:lnTo>
                    <a:lnTo>
                      <a:pt x="308" y="0"/>
                    </a:lnTo>
                    <a:lnTo>
                      <a:pt x="17" y="0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37"/>
                    </a:lnTo>
                    <a:lnTo>
                      <a:pt x="0" y="23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804800" y="4882680"/>
                <a:ext cx="243360" cy="57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9240" bIns="-392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7804800" y="4984560"/>
                <a:ext cx="243360" cy="468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40320" bIns="-40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8297640" y="4875840"/>
                <a:ext cx="126000" cy="612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8880" bIns="-38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8297640" y="4984560"/>
                <a:ext cx="124560" cy="468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40320" bIns="-403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8083080" y="4894920"/>
                <a:ext cx="194760" cy="432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40680" bIns="-406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8108640" y="4923000"/>
                <a:ext cx="144720" cy="828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6720" bIns="-36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066880" y="4912920"/>
                <a:ext cx="22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068680" y="4942080"/>
                <a:ext cx="223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8320680" y="4909320"/>
                <a:ext cx="78480" cy="3456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10440" bIns="-10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684920" y="5037120"/>
                <a:ext cx="843480" cy="149760"/>
              </a:xfrm>
              <a:custGeom>
                <a:avLst/>
                <a:gdLst/>
                <a:ahLst/>
                <a:rect l="l" t="t" r="r" b="b"/>
                <a:pathLst>
                  <a:path w="589" h="124">
                    <a:moveTo>
                      <a:pt x="59" y="0"/>
                    </a:moveTo>
                    <a:lnTo>
                      <a:pt x="60" y="0"/>
                    </a:lnTo>
                    <a:lnTo>
                      <a:pt x="538" y="0"/>
                    </a:lnTo>
                    <a:lnTo>
                      <a:pt x="588" y="123"/>
                    </a:lnTo>
                    <a:lnTo>
                      <a:pt x="0" y="123"/>
                    </a:lnTo>
                    <a:lnTo>
                      <a:pt x="59" y="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45360" bIns="453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686000" y="5185800"/>
                <a:ext cx="842040" cy="25200"/>
              </a:xfrm>
              <a:custGeom>
                <a:avLst/>
                <a:gdLst/>
                <a:ahLst/>
                <a:rect l="l" t="t" r="r" b="b"/>
                <a:pathLst>
                  <a:path w="588" h="21">
                    <a:moveTo>
                      <a:pt x="0" y="0"/>
                    </a:moveTo>
                    <a:lnTo>
                      <a:pt x="587" y="0"/>
                    </a:lnTo>
                    <a:lnTo>
                      <a:pt x="572" y="20"/>
                    </a:lnTo>
                    <a:lnTo>
                      <a:pt x="13" y="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20160" bIns="-201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85000" y="5049360"/>
                <a:ext cx="541080" cy="14400"/>
              </a:xfrm>
              <a:custGeom>
                <a:avLst/>
                <a:gdLst/>
                <a:ahLst/>
                <a:rect l="l" t="t" r="r" b="b"/>
                <a:pathLst>
                  <a:path w="378" h="12">
                    <a:moveTo>
                      <a:pt x="3" y="0"/>
                    </a:moveTo>
                    <a:lnTo>
                      <a:pt x="0" y="11"/>
                    </a:lnTo>
                    <a:lnTo>
                      <a:pt x="377" y="11"/>
                    </a:lnTo>
                    <a:lnTo>
                      <a:pt x="372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0960" bIns="-30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738920" y="5070960"/>
                <a:ext cx="495360" cy="73440"/>
              </a:xfrm>
              <a:custGeom>
                <a:avLst/>
                <a:gdLst/>
                <a:ahLst/>
                <a:rect l="l" t="t" r="r" b="b"/>
                <a:pathLst>
                  <a:path w="346" h="61">
                    <a:moveTo>
                      <a:pt x="30" y="0"/>
                    </a:moveTo>
                    <a:lnTo>
                      <a:pt x="341" y="0"/>
                    </a:lnTo>
                    <a:lnTo>
                      <a:pt x="345" y="60"/>
                    </a:lnTo>
                    <a:lnTo>
                      <a:pt x="312" y="59"/>
                    </a:lnTo>
                    <a:lnTo>
                      <a:pt x="312" y="51"/>
                    </a:lnTo>
                    <a:lnTo>
                      <a:pt x="294" y="51"/>
                    </a:lnTo>
                    <a:lnTo>
                      <a:pt x="293" y="59"/>
                    </a:lnTo>
                    <a:lnTo>
                      <a:pt x="63" y="59"/>
                    </a:lnTo>
                    <a:lnTo>
                      <a:pt x="64" y="51"/>
                    </a:lnTo>
                    <a:lnTo>
                      <a:pt x="44" y="53"/>
                    </a:lnTo>
                    <a:lnTo>
                      <a:pt x="42" y="59"/>
                    </a:lnTo>
                    <a:lnTo>
                      <a:pt x="0" y="60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28080" bIns="280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238960" y="5070960"/>
                <a:ext cx="101880" cy="3492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0" y="0"/>
                    </a:moveTo>
                    <a:lnTo>
                      <a:pt x="0" y="0"/>
                    </a:lnTo>
                    <a:lnTo>
                      <a:pt x="2" y="28"/>
                    </a:lnTo>
                    <a:lnTo>
                      <a:pt x="70" y="28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10440" bIns="-10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246160" y="5108400"/>
                <a:ext cx="104040" cy="37440"/>
              </a:xfrm>
              <a:custGeom>
                <a:avLst/>
                <a:gdLst/>
                <a:ahLst/>
                <a:rect l="l" t="t" r="r" b="b"/>
                <a:pathLst>
                  <a:path w="73" h="31">
                    <a:moveTo>
                      <a:pt x="22" y="0"/>
                    </a:moveTo>
                    <a:lnTo>
                      <a:pt x="22" y="8"/>
                    </a:lnTo>
                    <a:lnTo>
                      <a:pt x="0" y="8"/>
                    </a:lnTo>
                    <a:lnTo>
                      <a:pt x="3" y="30"/>
                    </a:lnTo>
                    <a:lnTo>
                      <a:pt x="72" y="30"/>
                    </a:lnTo>
                    <a:lnTo>
                      <a:pt x="66" y="8"/>
                    </a:lnTo>
                    <a:lnTo>
                      <a:pt x="44" y="8"/>
                    </a:lnTo>
                    <a:lnTo>
                      <a:pt x="44" y="0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7920" bIns="-79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340840" y="5073480"/>
                <a:ext cx="151560" cy="72360"/>
              </a:xfrm>
              <a:custGeom>
                <a:avLst/>
                <a:gdLst/>
                <a:ahLst/>
                <a:rect l="l" t="t" r="r" b="b"/>
                <a:pathLst>
                  <a:path w="106" h="60">
                    <a:moveTo>
                      <a:pt x="0" y="0"/>
                    </a:moveTo>
                    <a:lnTo>
                      <a:pt x="17" y="59"/>
                    </a:lnTo>
                    <a:lnTo>
                      <a:pt x="105" y="59"/>
                    </a:lnTo>
                    <a:lnTo>
                      <a:pt x="8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7272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27000" bIns="270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7971120" y="4788360"/>
                <a:ext cx="283320" cy="43200"/>
              </a:xfrm>
              <a:prstGeom prst="roundRect">
                <a:avLst>
                  <a:gd name="adj" fmla="val 15912"/>
                </a:avLst>
              </a:prstGeom>
              <a:solidFill>
                <a:srgbClr val="727272"/>
              </a:solidFill>
              <a:ln w="936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5760" bIns="-5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8322120" y="4753800"/>
                <a:ext cx="38520" cy="2052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24840" bIns="-24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7902360" y="4812480"/>
                <a:ext cx="421200" cy="324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12960" bIns="-129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7904160" y="4842000"/>
                <a:ext cx="419400" cy="828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080" rIns="91080" tIns="-36720" bIns="-367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7629480" y="5264640"/>
              <a:ext cx="108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l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the D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m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resol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Structure and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NS in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me re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ocess by which resolvers and name servers cooperate to find data in the nam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information anywhere in the name space, a name server only needs the names and IP addresses of the name servers for the root zone (the “root name server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name servers know about the top-level zones and can tell name servers whom to contact for all T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NS query has three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ain nam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ww.nominu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ember, every node has a domain nam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ss (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e (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ame server receiving a query from a resolver looks for the answer in its authoritative data and its 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erver isn’t authoritative for the answer and the answer isn’t in the cache, the answer must be looked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501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look at the resolution process step-by-ste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532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559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586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612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638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 flipV="1">
            <a:off x="1751040" y="3673080"/>
            <a:ext cx="635040" cy="841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227320" y="4343400"/>
            <a:ext cx="2344680" cy="1057320"/>
            <a:chOff x="2227320" y="4343400"/>
            <a:chExt cx="2344680" cy="1057320"/>
          </a:xfrm>
        </p:grpSpPr>
        <p:sp>
          <p:nvSpPr>
            <p:cNvPr id="664" name=""/>
            <p:cNvSpPr/>
            <p:nvPr/>
          </p:nvSpPr>
          <p:spPr>
            <a:xfrm>
              <a:off x="2227320" y="4343400"/>
              <a:ext cx="2344680" cy="1057320"/>
            </a:xfrm>
            <a:custGeom>
              <a:avLst/>
              <a:gdLst/>
              <a:ahLst/>
              <a:rect l="l" t="t" r="r" b="b"/>
              <a:pathLst>
                <a:path w="1625" h="754">
                  <a:moveTo>
                    <a:pt x="1497" y="96"/>
                  </a:moveTo>
                  <a:lnTo>
                    <a:pt x="1508" y="97"/>
                  </a:lnTo>
                  <a:lnTo>
                    <a:pt x="1520" y="99"/>
                  </a:lnTo>
                  <a:lnTo>
                    <a:pt x="1531" y="102"/>
                  </a:lnTo>
                  <a:lnTo>
                    <a:pt x="1543" y="103"/>
                  </a:lnTo>
                  <a:lnTo>
                    <a:pt x="1553" y="108"/>
                  </a:lnTo>
                  <a:lnTo>
                    <a:pt x="1563" y="111"/>
                  </a:lnTo>
                  <a:lnTo>
                    <a:pt x="1572" y="115"/>
                  </a:lnTo>
                  <a:lnTo>
                    <a:pt x="1582" y="119"/>
                  </a:lnTo>
                  <a:lnTo>
                    <a:pt x="1589" y="125"/>
                  </a:lnTo>
                  <a:lnTo>
                    <a:pt x="1597" y="130"/>
                  </a:lnTo>
                  <a:lnTo>
                    <a:pt x="1603" y="136"/>
                  </a:lnTo>
                  <a:lnTo>
                    <a:pt x="1610" y="141"/>
                  </a:lnTo>
                  <a:lnTo>
                    <a:pt x="1613" y="148"/>
                  </a:lnTo>
                  <a:lnTo>
                    <a:pt x="1618" y="154"/>
                  </a:lnTo>
                  <a:lnTo>
                    <a:pt x="1620" y="161"/>
                  </a:lnTo>
                  <a:lnTo>
                    <a:pt x="1624" y="167"/>
                  </a:lnTo>
                  <a:lnTo>
                    <a:pt x="1624" y="682"/>
                  </a:lnTo>
                  <a:lnTo>
                    <a:pt x="1620" y="690"/>
                  </a:lnTo>
                  <a:lnTo>
                    <a:pt x="1618" y="696"/>
                  </a:lnTo>
                  <a:lnTo>
                    <a:pt x="1613" y="703"/>
                  </a:lnTo>
                  <a:lnTo>
                    <a:pt x="1610" y="709"/>
                  </a:lnTo>
                  <a:lnTo>
                    <a:pt x="1603" y="715"/>
                  </a:lnTo>
                  <a:lnTo>
                    <a:pt x="1597" y="721"/>
                  </a:lnTo>
                  <a:lnTo>
                    <a:pt x="1589" y="726"/>
                  </a:lnTo>
                  <a:lnTo>
                    <a:pt x="1582" y="730"/>
                  </a:lnTo>
                  <a:lnTo>
                    <a:pt x="1572" y="735"/>
                  </a:lnTo>
                  <a:lnTo>
                    <a:pt x="1563" y="739"/>
                  </a:lnTo>
                  <a:lnTo>
                    <a:pt x="1553" y="743"/>
                  </a:lnTo>
                  <a:lnTo>
                    <a:pt x="1543" y="746"/>
                  </a:lnTo>
                  <a:lnTo>
                    <a:pt x="1531" y="749"/>
                  </a:lnTo>
                  <a:lnTo>
                    <a:pt x="1520" y="751"/>
                  </a:lnTo>
                  <a:lnTo>
                    <a:pt x="1508" y="753"/>
                  </a:lnTo>
                  <a:lnTo>
                    <a:pt x="1497" y="753"/>
                  </a:lnTo>
                  <a:lnTo>
                    <a:pt x="127" y="753"/>
                  </a:lnTo>
                  <a:lnTo>
                    <a:pt x="115" y="753"/>
                  </a:lnTo>
                  <a:lnTo>
                    <a:pt x="103" y="751"/>
                  </a:lnTo>
                  <a:lnTo>
                    <a:pt x="91" y="749"/>
                  </a:lnTo>
                  <a:lnTo>
                    <a:pt x="80" y="746"/>
                  </a:lnTo>
                  <a:lnTo>
                    <a:pt x="69" y="743"/>
                  </a:lnTo>
                  <a:lnTo>
                    <a:pt x="59" y="739"/>
                  </a:lnTo>
                  <a:lnTo>
                    <a:pt x="50" y="735"/>
                  </a:lnTo>
                  <a:lnTo>
                    <a:pt x="42" y="730"/>
                  </a:lnTo>
                  <a:lnTo>
                    <a:pt x="33" y="726"/>
                  </a:lnTo>
                  <a:lnTo>
                    <a:pt x="25" y="721"/>
                  </a:lnTo>
                  <a:lnTo>
                    <a:pt x="18" y="715"/>
                  </a:lnTo>
                  <a:lnTo>
                    <a:pt x="13" y="709"/>
                  </a:lnTo>
                  <a:lnTo>
                    <a:pt x="8" y="703"/>
                  </a:lnTo>
                  <a:lnTo>
                    <a:pt x="5" y="696"/>
                  </a:lnTo>
                  <a:lnTo>
                    <a:pt x="2" y="690"/>
                  </a:lnTo>
                  <a:lnTo>
                    <a:pt x="0" y="682"/>
                  </a:lnTo>
                  <a:lnTo>
                    <a:pt x="0" y="167"/>
                  </a:lnTo>
                  <a:lnTo>
                    <a:pt x="2" y="161"/>
                  </a:lnTo>
                  <a:lnTo>
                    <a:pt x="5" y="154"/>
                  </a:lnTo>
                  <a:lnTo>
                    <a:pt x="8" y="148"/>
                  </a:lnTo>
                  <a:lnTo>
                    <a:pt x="13" y="141"/>
                  </a:lnTo>
                  <a:lnTo>
                    <a:pt x="18" y="136"/>
                  </a:lnTo>
                  <a:lnTo>
                    <a:pt x="25" y="130"/>
                  </a:lnTo>
                  <a:lnTo>
                    <a:pt x="33" y="125"/>
                  </a:lnTo>
                  <a:lnTo>
                    <a:pt x="42" y="119"/>
                  </a:lnTo>
                  <a:lnTo>
                    <a:pt x="50" y="115"/>
                  </a:lnTo>
                  <a:lnTo>
                    <a:pt x="59" y="111"/>
                  </a:lnTo>
                  <a:lnTo>
                    <a:pt x="69" y="108"/>
                  </a:lnTo>
                  <a:lnTo>
                    <a:pt x="80" y="103"/>
                  </a:lnTo>
                  <a:lnTo>
                    <a:pt x="91" y="102"/>
                  </a:lnTo>
                  <a:lnTo>
                    <a:pt x="103" y="99"/>
                  </a:lnTo>
                  <a:lnTo>
                    <a:pt x="115" y="97"/>
                  </a:lnTo>
                  <a:lnTo>
                    <a:pt x="127" y="96"/>
                  </a:lnTo>
                  <a:lnTo>
                    <a:pt x="246" y="96"/>
                  </a:lnTo>
                  <a:lnTo>
                    <a:pt x="131" y="0"/>
                  </a:lnTo>
                  <a:lnTo>
                    <a:pt x="408" y="96"/>
                  </a:lnTo>
                  <a:lnTo>
                    <a:pt x="1497" y="96"/>
                  </a:lnTo>
                  <a:lnTo>
                    <a:pt x="1497" y="96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73920" y="4553640"/>
              <a:ext cx="1998360" cy="7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kst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n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ks its configured name serve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kota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ww.nominum.com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672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ser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ks a root name server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703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730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756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782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808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835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861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6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887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 flipV="1">
            <a:off x="3409560" y="2817360"/>
            <a:ext cx="2452680" cy="3063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395520" y="4124160"/>
            <a:ext cx="2343240" cy="1057320"/>
            <a:chOff x="3395520" y="4124160"/>
            <a:chExt cx="2343240" cy="1057320"/>
          </a:xfrm>
        </p:grpSpPr>
        <p:sp>
          <p:nvSpPr>
            <p:cNvPr id="914" name=""/>
            <p:cNvSpPr/>
            <p:nvPr/>
          </p:nvSpPr>
          <p:spPr>
            <a:xfrm>
              <a:off x="3395520" y="4124160"/>
              <a:ext cx="2343240" cy="1057320"/>
            </a:xfrm>
            <a:custGeom>
              <a:avLst/>
              <a:gdLst/>
              <a:ahLst/>
              <a:rect l="l" t="t" r="r" b="b"/>
              <a:pathLst>
                <a:path w="1624" h="755">
                  <a:moveTo>
                    <a:pt x="1496" y="96"/>
                  </a:moveTo>
                  <a:lnTo>
                    <a:pt x="1507" y="98"/>
                  </a:lnTo>
                  <a:lnTo>
                    <a:pt x="1519" y="99"/>
                  </a:lnTo>
                  <a:lnTo>
                    <a:pt x="1530" y="102"/>
                  </a:lnTo>
                  <a:lnTo>
                    <a:pt x="1542" y="104"/>
                  </a:lnTo>
                  <a:lnTo>
                    <a:pt x="1552" y="108"/>
                  </a:lnTo>
                  <a:lnTo>
                    <a:pt x="1563" y="111"/>
                  </a:lnTo>
                  <a:lnTo>
                    <a:pt x="1572" y="116"/>
                  </a:lnTo>
                  <a:lnTo>
                    <a:pt x="1581" y="120"/>
                  </a:lnTo>
                  <a:lnTo>
                    <a:pt x="1588" y="126"/>
                  </a:lnTo>
                  <a:lnTo>
                    <a:pt x="1596" y="131"/>
                  </a:lnTo>
                  <a:lnTo>
                    <a:pt x="1602" y="137"/>
                  </a:lnTo>
                  <a:lnTo>
                    <a:pt x="1609" y="142"/>
                  </a:lnTo>
                  <a:lnTo>
                    <a:pt x="1613" y="149"/>
                  </a:lnTo>
                  <a:lnTo>
                    <a:pt x="1617" y="155"/>
                  </a:lnTo>
                  <a:lnTo>
                    <a:pt x="1620" y="161"/>
                  </a:lnTo>
                  <a:lnTo>
                    <a:pt x="1623" y="167"/>
                  </a:lnTo>
                  <a:lnTo>
                    <a:pt x="1623" y="682"/>
                  </a:lnTo>
                  <a:lnTo>
                    <a:pt x="1620" y="690"/>
                  </a:lnTo>
                  <a:lnTo>
                    <a:pt x="1617" y="696"/>
                  </a:lnTo>
                  <a:lnTo>
                    <a:pt x="1613" y="703"/>
                  </a:lnTo>
                  <a:lnTo>
                    <a:pt x="1609" y="709"/>
                  </a:lnTo>
                  <a:lnTo>
                    <a:pt x="1602" y="715"/>
                  </a:lnTo>
                  <a:lnTo>
                    <a:pt x="1596" y="721"/>
                  </a:lnTo>
                  <a:lnTo>
                    <a:pt x="1588" y="727"/>
                  </a:lnTo>
                  <a:lnTo>
                    <a:pt x="1581" y="730"/>
                  </a:lnTo>
                  <a:lnTo>
                    <a:pt x="1572" y="736"/>
                  </a:lnTo>
                  <a:lnTo>
                    <a:pt x="1563" y="740"/>
                  </a:lnTo>
                  <a:lnTo>
                    <a:pt x="1552" y="743"/>
                  </a:lnTo>
                  <a:lnTo>
                    <a:pt x="1542" y="746"/>
                  </a:lnTo>
                  <a:lnTo>
                    <a:pt x="1530" y="749"/>
                  </a:lnTo>
                  <a:lnTo>
                    <a:pt x="1519" y="752"/>
                  </a:lnTo>
                  <a:lnTo>
                    <a:pt x="1507" y="754"/>
                  </a:lnTo>
                  <a:lnTo>
                    <a:pt x="1496" y="754"/>
                  </a:lnTo>
                  <a:lnTo>
                    <a:pt x="127" y="754"/>
                  </a:lnTo>
                  <a:lnTo>
                    <a:pt x="114" y="754"/>
                  </a:lnTo>
                  <a:lnTo>
                    <a:pt x="103" y="752"/>
                  </a:lnTo>
                  <a:lnTo>
                    <a:pt x="91" y="749"/>
                  </a:lnTo>
                  <a:lnTo>
                    <a:pt x="80" y="746"/>
                  </a:lnTo>
                  <a:lnTo>
                    <a:pt x="69" y="743"/>
                  </a:lnTo>
                  <a:lnTo>
                    <a:pt x="59" y="740"/>
                  </a:lnTo>
                  <a:lnTo>
                    <a:pt x="49" y="736"/>
                  </a:lnTo>
                  <a:lnTo>
                    <a:pt x="41" y="730"/>
                  </a:lnTo>
                  <a:lnTo>
                    <a:pt x="32" y="727"/>
                  </a:lnTo>
                  <a:lnTo>
                    <a:pt x="25" y="721"/>
                  </a:lnTo>
                  <a:lnTo>
                    <a:pt x="18" y="715"/>
                  </a:lnTo>
                  <a:lnTo>
                    <a:pt x="13" y="709"/>
                  </a:lnTo>
                  <a:lnTo>
                    <a:pt x="7" y="703"/>
                  </a:lnTo>
                  <a:lnTo>
                    <a:pt x="4" y="696"/>
                  </a:lnTo>
                  <a:lnTo>
                    <a:pt x="1" y="690"/>
                  </a:lnTo>
                  <a:lnTo>
                    <a:pt x="0" y="682"/>
                  </a:lnTo>
                  <a:lnTo>
                    <a:pt x="0" y="167"/>
                  </a:lnTo>
                  <a:lnTo>
                    <a:pt x="1" y="161"/>
                  </a:lnTo>
                  <a:lnTo>
                    <a:pt x="4" y="155"/>
                  </a:lnTo>
                  <a:lnTo>
                    <a:pt x="7" y="149"/>
                  </a:lnTo>
                  <a:lnTo>
                    <a:pt x="13" y="142"/>
                  </a:lnTo>
                  <a:lnTo>
                    <a:pt x="18" y="137"/>
                  </a:lnTo>
                  <a:lnTo>
                    <a:pt x="25" y="131"/>
                  </a:lnTo>
                  <a:lnTo>
                    <a:pt x="32" y="126"/>
                  </a:lnTo>
                  <a:lnTo>
                    <a:pt x="41" y="120"/>
                  </a:lnTo>
                  <a:lnTo>
                    <a:pt x="49" y="116"/>
                  </a:lnTo>
                  <a:lnTo>
                    <a:pt x="59" y="111"/>
                  </a:lnTo>
                  <a:lnTo>
                    <a:pt x="69" y="108"/>
                  </a:lnTo>
                  <a:lnTo>
                    <a:pt x="80" y="104"/>
                  </a:lnTo>
                  <a:lnTo>
                    <a:pt x="91" y="102"/>
                  </a:lnTo>
                  <a:lnTo>
                    <a:pt x="103" y="99"/>
                  </a:lnTo>
                  <a:lnTo>
                    <a:pt x="114" y="98"/>
                  </a:lnTo>
                  <a:lnTo>
                    <a:pt x="127" y="96"/>
                  </a:lnTo>
                  <a:lnTo>
                    <a:pt x="246" y="96"/>
                  </a:lnTo>
                  <a:lnTo>
                    <a:pt x="131" y="0"/>
                  </a:lnTo>
                  <a:lnTo>
                    <a:pt x="407" y="96"/>
                  </a:lnTo>
                  <a:lnTo>
                    <a:pt x="1496" y="96"/>
                  </a:lnTo>
                  <a:lnTo>
                    <a:pt x="1496" y="96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640680" y="4334040"/>
              <a:ext cx="199836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917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t ser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fer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response is called a “referr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948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975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1001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1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1027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1053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1080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0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1106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1132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6781680" y="3581280"/>
            <a:ext cx="2149560" cy="1055880"/>
            <a:chOff x="6781680" y="3581280"/>
            <a:chExt cx="2149560" cy="1055880"/>
          </a:xfrm>
        </p:grpSpPr>
        <p:sp>
          <p:nvSpPr>
            <p:cNvPr id="1158" name=""/>
            <p:cNvSpPr/>
            <p:nvPr/>
          </p:nvSpPr>
          <p:spPr>
            <a:xfrm>
              <a:off x="6781680" y="3581280"/>
              <a:ext cx="2149560" cy="1055880"/>
            </a:xfrm>
            <a:custGeom>
              <a:avLst/>
              <a:gdLst/>
              <a:ahLst/>
              <a:rect l="l" t="t" r="r" b="b"/>
              <a:pathLst>
                <a:path w="1623" h="754">
                  <a:moveTo>
                    <a:pt x="1496" y="96"/>
                  </a:moveTo>
                  <a:lnTo>
                    <a:pt x="1507" y="97"/>
                  </a:lnTo>
                  <a:lnTo>
                    <a:pt x="1519" y="99"/>
                  </a:lnTo>
                  <a:lnTo>
                    <a:pt x="1530" y="102"/>
                  </a:lnTo>
                  <a:lnTo>
                    <a:pt x="1542" y="103"/>
                  </a:lnTo>
                  <a:lnTo>
                    <a:pt x="1552" y="107"/>
                  </a:lnTo>
                  <a:lnTo>
                    <a:pt x="1562" y="111"/>
                  </a:lnTo>
                  <a:lnTo>
                    <a:pt x="1571" y="115"/>
                  </a:lnTo>
                  <a:lnTo>
                    <a:pt x="1581" y="119"/>
                  </a:lnTo>
                  <a:lnTo>
                    <a:pt x="1588" y="125"/>
                  </a:lnTo>
                  <a:lnTo>
                    <a:pt x="1596" y="130"/>
                  </a:lnTo>
                  <a:lnTo>
                    <a:pt x="1602" y="136"/>
                  </a:lnTo>
                  <a:lnTo>
                    <a:pt x="1609" y="141"/>
                  </a:lnTo>
                  <a:lnTo>
                    <a:pt x="1613" y="148"/>
                  </a:lnTo>
                  <a:lnTo>
                    <a:pt x="1616" y="154"/>
                  </a:lnTo>
                  <a:lnTo>
                    <a:pt x="1619" y="161"/>
                  </a:lnTo>
                  <a:lnTo>
                    <a:pt x="1622" y="167"/>
                  </a:lnTo>
                  <a:lnTo>
                    <a:pt x="1622" y="682"/>
                  </a:lnTo>
                  <a:lnTo>
                    <a:pt x="1619" y="690"/>
                  </a:lnTo>
                  <a:lnTo>
                    <a:pt x="1616" y="696"/>
                  </a:lnTo>
                  <a:lnTo>
                    <a:pt x="1613" y="703"/>
                  </a:lnTo>
                  <a:lnTo>
                    <a:pt x="1609" y="709"/>
                  </a:lnTo>
                  <a:lnTo>
                    <a:pt x="1602" y="715"/>
                  </a:lnTo>
                  <a:lnTo>
                    <a:pt x="1596" y="721"/>
                  </a:lnTo>
                  <a:lnTo>
                    <a:pt x="1588" y="726"/>
                  </a:lnTo>
                  <a:lnTo>
                    <a:pt x="1581" y="730"/>
                  </a:lnTo>
                  <a:lnTo>
                    <a:pt x="1571" y="735"/>
                  </a:lnTo>
                  <a:lnTo>
                    <a:pt x="1562" y="739"/>
                  </a:lnTo>
                  <a:lnTo>
                    <a:pt x="1552" y="743"/>
                  </a:lnTo>
                  <a:lnTo>
                    <a:pt x="1542" y="746"/>
                  </a:lnTo>
                  <a:lnTo>
                    <a:pt x="1530" y="749"/>
                  </a:lnTo>
                  <a:lnTo>
                    <a:pt x="1519" y="751"/>
                  </a:lnTo>
                  <a:lnTo>
                    <a:pt x="1507" y="753"/>
                  </a:lnTo>
                  <a:lnTo>
                    <a:pt x="1496" y="753"/>
                  </a:lnTo>
                  <a:lnTo>
                    <a:pt x="126" y="753"/>
                  </a:lnTo>
                  <a:lnTo>
                    <a:pt x="114" y="753"/>
                  </a:lnTo>
                  <a:lnTo>
                    <a:pt x="102" y="751"/>
                  </a:lnTo>
                  <a:lnTo>
                    <a:pt x="90" y="749"/>
                  </a:lnTo>
                  <a:lnTo>
                    <a:pt x="80" y="746"/>
                  </a:lnTo>
                  <a:lnTo>
                    <a:pt x="68" y="743"/>
                  </a:lnTo>
                  <a:lnTo>
                    <a:pt x="59" y="739"/>
                  </a:lnTo>
                  <a:lnTo>
                    <a:pt x="48" y="735"/>
                  </a:lnTo>
                  <a:lnTo>
                    <a:pt x="41" y="730"/>
                  </a:lnTo>
                  <a:lnTo>
                    <a:pt x="32" y="726"/>
                  </a:lnTo>
                  <a:lnTo>
                    <a:pt x="24" y="721"/>
                  </a:lnTo>
                  <a:lnTo>
                    <a:pt x="18" y="715"/>
                  </a:lnTo>
                  <a:lnTo>
                    <a:pt x="12" y="709"/>
                  </a:lnTo>
                  <a:lnTo>
                    <a:pt x="7" y="703"/>
                  </a:lnTo>
                  <a:lnTo>
                    <a:pt x="4" y="696"/>
                  </a:lnTo>
                  <a:lnTo>
                    <a:pt x="1" y="690"/>
                  </a:lnTo>
                  <a:lnTo>
                    <a:pt x="0" y="682"/>
                  </a:lnTo>
                  <a:lnTo>
                    <a:pt x="0" y="167"/>
                  </a:lnTo>
                  <a:lnTo>
                    <a:pt x="1" y="161"/>
                  </a:lnTo>
                  <a:lnTo>
                    <a:pt x="4" y="154"/>
                  </a:lnTo>
                  <a:lnTo>
                    <a:pt x="7" y="148"/>
                  </a:lnTo>
                  <a:lnTo>
                    <a:pt x="12" y="141"/>
                  </a:lnTo>
                  <a:lnTo>
                    <a:pt x="18" y="136"/>
                  </a:lnTo>
                  <a:lnTo>
                    <a:pt x="24" y="130"/>
                  </a:lnTo>
                  <a:lnTo>
                    <a:pt x="32" y="125"/>
                  </a:lnTo>
                  <a:lnTo>
                    <a:pt x="41" y="119"/>
                  </a:lnTo>
                  <a:lnTo>
                    <a:pt x="48" y="115"/>
                  </a:lnTo>
                  <a:lnTo>
                    <a:pt x="59" y="111"/>
                  </a:lnTo>
                  <a:lnTo>
                    <a:pt x="68" y="107"/>
                  </a:lnTo>
                  <a:lnTo>
                    <a:pt x="80" y="103"/>
                  </a:lnTo>
                  <a:lnTo>
                    <a:pt x="90" y="102"/>
                  </a:lnTo>
                  <a:lnTo>
                    <a:pt x="102" y="99"/>
                  </a:lnTo>
                  <a:lnTo>
                    <a:pt x="114" y="97"/>
                  </a:lnTo>
                  <a:lnTo>
                    <a:pt x="126" y="96"/>
                  </a:lnTo>
                  <a:lnTo>
                    <a:pt x="245" y="96"/>
                  </a:lnTo>
                  <a:lnTo>
                    <a:pt x="131" y="0"/>
                  </a:lnTo>
                  <a:lnTo>
                    <a:pt x="407" y="96"/>
                  </a:lnTo>
                  <a:lnTo>
                    <a:pt x="1496" y="96"/>
                  </a:lnTo>
                  <a:lnTo>
                    <a:pt x="1496" y="96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006680" y="3791160"/>
              <a:ext cx="1834200" cy="7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a list of the com name servers.  Ask one of them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 flipV="1">
            <a:off x="3409920" y="2588760"/>
            <a:ext cx="2452680" cy="3063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1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1162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me ser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k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 serve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ww.nominum.com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1193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1220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0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1246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6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1272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2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6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7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1298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1325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5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0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1351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1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1377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7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1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322800" y="3422520"/>
            <a:ext cx="2744640" cy="901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3406680" y="2421000"/>
            <a:ext cx="2343240" cy="1055520"/>
            <a:chOff x="3406680" y="2421000"/>
            <a:chExt cx="2343240" cy="1055520"/>
          </a:xfrm>
        </p:grpSpPr>
        <p:sp>
          <p:nvSpPr>
            <p:cNvPr id="1404" name=""/>
            <p:cNvSpPr/>
            <p:nvPr/>
          </p:nvSpPr>
          <p:spPr>
            <a:xfrm>
              <a:off x="3406680" y="2421000"/>
              <a:ext cx="2343240" cy="1055520"/>
            </a:xfrm>
            <a:custGeom>
              <a:avLst/>
              <a:gdLst/>
              <a:ahLst/>
              <a:rect l="l" t="t" r="r" b="b"/>
              <a:pathLst>
                <a:path w="1623" h="754">
                  <a:moveTo>
                    <a:pt x="1496" y="657"/>
                  </a:moveTo>
                  <a:lnTo>
                    <a:pt x="1507" y="657"/>
                  </a:lnTo>
                  <a:lnTo>
                    <a:pt x="1518" y="655"/>
                  </a:lnTo>
                  <a:lnTo>
                    <a:pt x="1530" y="654"/>
                  </a:lnTo>
                  <a:lnTo>
                    <a:pt x="1542" y="650"/>
                  </a:lnTo>
                  <a:lnTo>
                    <a:pt x="1551" y="648"/>
                  </a:lnTo>
                  <a:lnTo>
                    <a:pt x="1562" y="643"/>
                  </a:lnTo>
                  <a:lnTo>
                    <a:pt x="1571" y="640"/>
                  </a:lnTo>
                  <a:lnTo>
                    <a:pt x="1581" y="634"/>
                  </a:lnTo>
                  <a:lnTo>
                    <a:pt x="1588" y="630"/>
                  </a:lnTo>
                  <a:lnTo>
                    <a:pt x="1596" y="625"/>
                  </a:lnTo>
                  <a:lnTo>
                    <a:pt x="1602" y="619"/>
                  </a:lnTo>
                  <a:lnTo>
                    <a:pt x="1609" y="613"/>
                  </a:lnTo>
                  <a:lnTo>
                    <a:pt x="1612" y="607"/>
                  </a:lnTo>
                  <a:lnTo>
                    <a:pt x="1616" y="600"/>
                  </a:lnTo>
                  <a:lnTo>
                    <a:pt x="1619" y="594"/>
                  </a:lnTo>
                  <a:lnTo>
                    <a:pt x="1622" y="586"/>
                  </a:lnTo>
                  <a:lnTo>
                    <a:pt x="1622" y="71"/>
                  </a:lnTo>
                  <a:lnTo>
                    <a:pt x="1619" y="65"/>
                  </a:lnTo>
                  <a:lnTo>
                    <a:pt x="1616" y="59"/>
                  </a:lnTo>
                  <a:lnTo>
                    <a:pt x="1612" y="53"/>
                  </a:lnTo>
                  <a:lnTo>
                    <a:pt x="1609" y="45"/>
                  </a:lnTo>
                  <a:lnTo>
                    <a:pt x="1602" y="41"/>
                  </a:lnTo>
                  <a:lnTo>
                    <a:pt x="1596" y="35"/>
                  </a:lnTo>
                  <a:lnTo>
                    <a:pt x="1588" y="30"/>
                  </a:lnTo>
                  <a:lnTo>
                    <a:pt x="1581" y="23"/>
                  </a:lnTo>
                  <a:lnTo>
                    <a:pt x="1571" y="20"/>
                  </a:lnTo>
                  <a:lnTo>
                    <a:pt x="1562" y="15"/>
                  </a:lnTo>
                  <a:lnTo>
                    <a:pt x="1551" y="12"/>
                  </a:lnTo>
                  <a:lnTo>
                    <a:pt x="1542" y="8"/>
                  </a:lnTo>
                  <a:lnTo>
                    <a:pt x="1530" y="6"/>
                  </a:lnTo>
                  <a:lnTo>
                    <a:pt x="1518" y="3"/>
                  </a:lnTo>
                  <a:lnTo>
                    <a:pt x="1507" y="2"/>
                  </a:lnTo>
                  <a:lnTo>
                    <a:pt x="1496" y="0"/>
                  </a:lnTo>
                  <a:lnTo>
                    <a:pt x="126" y="0"/>
                  </a:lnTo>
                  <a:lnTo>
                    <a:pt x="114" y="2"/>
                  </a:lnTo>
                  <a:lnTo>
                    <a:pt x="102" y="3"/>
                  </a:lnTo>
                  <a:lnTo>
                    <a:pt x="90" y="6"/>
                  </a:lnTo>
                  <a:lnTo>
                    <a:pt x="79" y="8"/>
                  </a:lnTo>
                  <a:lnTo>
                    <a:pt x="68" y="12"/>
                  </a:lnTo>
                  <a:lnTo>
                    <a:pt x="58" y="15"/>
                  </a:lnTo>
                  <a:lnTo>
                    <a:pt x="48" y="20"/>
                  </a:lnTo>
                  <a:lnTo>
                    <a:pt x="41" y="23"/>
                  </a:lnTo>
                  <a:lnTo>
                    <a:pt x="32" y="30"/>
                  </a:lnTo>
                  <a:lnTo>
                    <a:pt x="24" y="35"/>
                  </a:lnTo>
                  <a:lnTo>
                    <a:pt x="17" y="41"/>
                  </a:lnTo>
                  <a:lnTo>
                    <a:pt x="12" y="45"/>
                  </a:lnTo>
                  <a:lnTo>
                    <a:pt x="7" y="53"/>
                  </a:lnTo>
                  <a:lnTo>
                    <a:pt x="3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586"/>
                  </a:lnTo>
                  <a:lnTo>
                    <a:pt x="1" y="594"/>
                  </a:lnTo>
                  <a:lnTo>
                    <a:pt x="3" y="600"/>
                  </a:lnTo>
                  <a:lnTo>
                    <a:pt x="7" y="607"/>
                  </a:lnTo>
                  <a:lnTo>
                    <a:pt x="12" y="613"/>
                  </a:lnTo>
                  <a:lnTo>
                    <a:pt x="17" y="619"/>
                  </a:lnTo>
                  <a:lnTo>
                    <a:pt x="24" y="625"/>
                  </a:lnTo>
                  <a:lnTo>
                    <a:pt x="32" y="630"/>
                  </a:lnTo>
                  <a:lnTo>
                    <a:pt x="41" y="634"/>
                  </a:lnTo>
                  <a:lnTo>
                    <a:pt x="48" y="640"/>
                  </a:lnTo>
                  <a:lnTo>
                    <a:pt x="58" y="643"/>
                  </a:lnTo>
                  <a:lnTo>
                    <a:pt x="68" y="648"/>
                  </a:lnTo>
                  <a:lnTo>
                    <a:pt x="79" y="650"/>
                  </a:lnTo>
                  <a:lnTo>
                    <a:pt x="90" y="654"/>
                  </a:lnTo>
                  <a:lnTo>
                    <a:pt x="102" y="655"/>
                  </a:lnTo>
                  <a:lnTo>
                    <a:pt x="114" y="657"/>
                  </a:lnTo>
                  <a:lnTo>
                    <a:pt x="126" y="657"/>
                  </a:lnTo>
                  <a:lnTo>
                    <a:pt x="245" y="657"/>
                  </a:lnTo>
                  <a:lnTo>
                    <a:pt x="130" y="753"/>
                  </a:lnTo>
                  <a:lnTo>
                    <a:pt x="407" y="657"/>
                  </a:lnTo>
                  <a:lnTo>
                    <a:pt x="1496" y="657"/>
                  </a:lnTo>
                  <a:lnTo>
                    <a:pt x="1496" y="657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652200" y="2522880"/>
              <a:ext cx="1999800" cy="7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1407" name="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819120" y="4123080"/>
              <a:ext cx="557640" cy="101556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784560" y="4119120"/>
              <a:ext cx="25560" cy="10166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381440" y="4119120"/>
              <a:ext cx="28440" cy="10166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834960" y="4186080"/>
              <a:ext cx="117000" cy="22932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1434" name="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4" name="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9" name="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1460" name="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0" name="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5" name="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1486" name="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6" name="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834960" y="445176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834960" y="449532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6396120" y="5334120"/>
            <a:ext cx="1230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1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1512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8" name="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1539" name="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819120" y="4123080"/>
              <a:ext cx="557640" cy="101556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84560" y="4119120"/>
              <a:ext cx="25560" cy="10166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381440" y="4119120"/>
              <a:ext cx="28440" cy="10166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834960" y="4186080"/>
              <a:ext cx="117000" cy="22932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5" name="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1566" name="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6" name="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1" name="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1592" name="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2" name="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7" name="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1618" name="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8" name="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834960" y="445176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834960" y="449532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 ser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ko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minum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396120" y="5334120"/>
            <a:ext cx="1230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1648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1675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5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0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1701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6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1727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1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2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1753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9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1780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0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5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1806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6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1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1832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2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6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322800" y="3422520"/>
            <a:ext cx="2744640" cy="9018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6934320" y="2440080"/>
            <a:ext cx="1981080" cy="1522080"/>
            <a:chOff x="6934320" y="2440080"/>
            <a:chExt cx="1981080" cy="1522080"/>
          </a:xfrm>
        </p:grpSpPr>
        <p:sp>
          <p:nvSpPr>
            <p:cNvPr id="1859" name=""/>
            <p:cNvSpPr/>
            <p:nvPr/>
          </p:nvSpPr>
          <p:spPr>
            <a:xfrm>
              <a:off x="6934320" y="2440080"/>
              <a:ext cx="1981080" cy="1522080"/>
            </a:xfrm>
            <a:custGeom>
              <a:avLst/>
              <a:gdLst/>
              <a:ahLst/>
              <a:rect l="l" t="t" r="r" b="b"/>
              <a:pathLst>
                <a:path w="1623" h="754">
                  <a:moveTo>
                    <a:pt x="1496" y="657"/>
                  </a:moveTo>
                  <a:lnTo>
                    <a:pt x="1507" y="657"/>
                  </a:lnTo>
                  <a:lnTo>
                    <a:pt x="1518" y="655"/>
                  </a:lnTo>
                  <a:lnTo>
                    <a:pt x="1530" y="654"/>
                  </a:lnTo>
                  <a:lnTo>
                    <a:pt x="1542" y="650"/>
                  </a:lnTo>
                  <a:lnTo>
                    <a:pt x="1551" y="648"/>
                  </a:lnTo>
                  <a:lnTo>
                    <a:pt x="1562" y="643"/>
                  </a:lnTo>
                  <a:lnTo>
                    <a:pt x="1571" y="640"/>
                  </a:lnTo>
                  <a:lnTo>
                    <a:pt x="1581" y="634"/>
                  </a:lnTo>
                  <a:lnTo>
                    <a:pt x="1588" y="630"/>
                  </a:lnTo>
                  <a:lnTo>
                    <a:pt x="1596" y="625"/>
                  </a:lnTo>
                  <a:lnTo>
                    <a:pt x="1602" y="619"/>
                  </a:lnTo>
                  <a:lnTo>
                    <a:pt x="1609" y="613"/>
                  </a:lnTo>
                  <a:lnTo>
                    <a:pt x="1612" y="607"/>
                  </a:lnTo>
                  <a:lnTo>
                    <a:pt x="1616" y="600"/>
                  </a:lnTo>
                  <a:lnTo>
                    <a:pt x="1619" y="594"/>
                  </a:lnTo>
                  <a:lnTo>
                    <a:pt x="1622" y="586"/>
                  </a:lnTo>
                  <a:lnTo>
                    <a:pt x="1622" y="71"/>
                  </a:lnTo>
                  <a:lnTo>
                    <a:pt x="1619" y="65"/>
                  </a:lnTo>
                  <a:lnTo>
                    <a:pt x="1616" y="59"/>
                  </a:lnTo>
                  <a:lnTo>
                    <a:pt x="1612" y="53"/>
                  </a:lnTo>
                  <a:lnTo>
                    <a:pt x="1609" y="45"/>
                  </a:lnTo>
                  <a:lnTo>
                    <a:pt x="1602" y="41"/>
                  </a:lnTo>
                  <a:lnTo>
                    <a:pt x="1596" y="35"/>
                  </a:lnTo>
                  <a:lnTo>
                    <a:pt x="1588" y="30"/>
                  </a:lnTo>
                  <a:lnTo>
                    <a:pt x="1581" y="23"/>
                  </a:lnTo>
                  <a:lnTo>
                    <a:pt x="1571" y="20"/>
                  </a:lnTo>
                  <a:lnTo>
                    <a:pt x="1562" y="15"/>
                  </a:lnTo>
                  <a:lnTo>
                    <a:pt x="1551" y="12"/>
                  </a:lnTo>
                  <a:lnTo>
                    <a:pt x="1542" y="8"/>
                  </a:lnTo>
                  <a:lnTo>
                    <a:pt x="1530" y="6"/>
                  </a:lnTo>
                  <a:lnTo>
                    <a:pt x="1518" y="3"/>
                  </a:lnTo>
                  <a:lnTo>
                    <a:pt x="1507" y="2"/>
                  </a:lnTo>
                  <a:lnTo>
                    <a:pt x="1496" y="0"/>
                  </a:lnTo>
                  <a:lnTo>
                    <a:pt x="126" y="0"/>
                  </a:lnTo>
                  <a:lnTo>
                    <a:pt x="114" y="2"/>
                  </a:lnTo>
                  <a:lnTo>
                    <a:pt x="102" y="3"/>
                  </a:lnTo>
                  <a:lnTo>
                    <a:pt x="90" y="6"/>
                  </a:lnTo>
                  <a:lnTo>
                    <a:pt x="79" y="8"/>
                  </a:lnTo>
                  <a:lnTo>
                    <a:pt x="68" y="12"/>
                  </a:lnTo>
                  <a:lnTo>
                    <a:pt x="58" y="15"/>
                  </a:lnTo>
                  <a:lnTo>
                    <a:pt x="48" y="20"/>
                  </a:lnTo>
                  <a:lnTo>
                    <a:pt x="41" y="23"/>
                  </a:lnTo>
                  <a:lnTo>
                    <a:pt x="32" y="30"/>
                  </a:lnTo>
                  <a:lnTo>
                    <a:pt x="24" y="35"/>
                  </a:lnTo>
                  <a:lnTo>
                    <a:pt x="17" y="41"/>
                  </a:lnTo>
                  <a:lnTo>
                    <a:pt x="12" y="45"/>
                  </a:lnTo>
                  <a:lnTo>
                    <a:pt x="7" y="53"/>
                  </a:lnTo>
                  <a:lnTo>
                    <a:pt x="3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586"/>
                  </a:lnTo>
                  <a:lnTo>
                    <a:pt x="1" y="594"/>
                  </a:lnTo>
                  <a:lnTo>
                    <a:pt x="3" y="600"/>
                  </a:lnTo>
                  <a:lnTo>
                    <a:pt x="7" y="607"/>
                  </a:lnTo>
                  <a:lnTo>
                    <a:pt x="12" y="613"/>
                  </a:lnTo>
                  <a:lnTo>
                    <a:pt x="17" y="619"/>
                  </a:lnTo>
                  <a:lnTo>
                    <a:pt x="24" y="625"/>
                  </a:lnTo>
                  <a:lnTo>
                    <a:pt x="32" y="630"/>
                  </a:lnTo>
                  <a:lnTo>
                    <a:pt x="41" y="634"/>
                  </a:lnTo>
                  <a:lnTo>
                    <a:pt x="48" y="640"/>
                  </a:lnTo>
                  <a:lnTo>
                    <a:pt x="58" y="643"/>
                  </a:lnTo>
                  <a:lnTo>
                    <a:pt x="68" y="648"/>
                  </a:lnTo>
                  <a:lnTo>
                    <a:pt x="79" y="650"/>
                  </a:lnTo>
                  <a:lnTo>
                    <a:pt x="90" y="654"/>
                  </a:lnTo>
                  <a:lnTo>
                    <a:pt x="102" y="655"/>
                  </a:lnTo>
                  <a:lnTo>
                    <a:pt x="114" y="657"/>
                  </a:lnTo>
                  <a:lnTo>
                    <a:pt x="126" y="657"/>
                  </a:lnTo>
                  <a:lnTo>
                    <a:pt x="245" y="657"/>
                  </a:lnTo>
                  <a:lnTo>
                    <a:pt x="130" y="753"/>
                  </a:lnTo>
                  <a:lnTo>
                    <a:pt x="407" y="657"/>
                  </a:lnTo>
                  <a:lnTo>
                    <a:pt x="1496" y="657"/>
                  </a:lnTo>
                  <a:lnTo>
                    <a:pt x="1496" y="657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141680" y="2586960"/>
              <a:ext cx="1690560" cy="10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a list of the nominum.com name servers.  Ask one of them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Quick Digress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s versus Addre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ddress is how you get to an end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hierarchical (for scaling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0 Charter Street, Redwood City CA, 940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4.152.187.11, +1-650-381-6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“name” is how an endpoint is refere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, no structurally significant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”, “Hamilton”, “itu.i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1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1862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1889" name="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819120" y="4123080"/>
              <a:ext cx="557640" cy="101556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784560" y="4119120"/>
              <a:ext cx="25560" cy="10166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381440" y="4119120"/>
              <a:ext cx="28440" cy="10166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834960" y="4186080"/>
              <a:ext cx="117000" cy="22932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5" name="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1916" name="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1" name="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1942" name="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2" name="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1968" name="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8" name="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834960" y="445176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834960" y="449532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2" name=""/>
          <p:cNvGrpSpPr/>
          <p:nvPr/>
        </p:nvGrpSpPr>
        <p:grpSpPr>
          <a:xfrm>
            <a:off x="4552920" y="3699000"/>
            <a:ext cx="630360" cy="1075680"/>
            <a:chOff x="4552920" y="3699000"/>
            <a:chExt cx="630360" cy="1075680"/>
          </a:xfrm>
        </p:grpSpPr>
        <p:sp>
          <p:nvSpPr>
            <p:cNvPr id="1993" name=""/>
            <p:cNvSpPr/>
            <p:nvPr/>
          </p:nvSpPr>
          <p:spPr>
            <a:xfrm flipV="1">
              <a:off x="4552920" y="3699000"/>
              <a:ext cx="630360" cy="102816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360 h 1028160"/>
                <a:gd name="textAreaBottom" fmla="*/ 1028880 h 1028160"/>
              </a:gdLst>
              <a:ahLst/>
              <a:rect l="textAreaLeft" t="textAreaTop" r="textAreaRight" b="textAreaBottom"/>
              <a:pathLst>
                <a:path w="21600" h="35223">
                  <a:moveTo>
                    <a:pt x="0" y="0"/>
                  </a:moveTo>
                  <a:arcTo wR="0" hR="0" stAng="16200000" swAng="-5400000"/>
                  <a:lnTo>
                    <a:pt x="0" y="35223"/>
                  </a:lnTo>
                  <a:arcTo wR="0" hR="0" stAng="10800000" swAng="-5400000"/>
                  <a:lnTo>
                    <a:pt x="21600" y="35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4565520" y="4727160"/>
              <a:ext cx="61020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584600" y="3699000"/>
              <a:ext cx="0" cy="10281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588560" y="3707280"/>
              <a:ext cx="558000" cy="101664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554000" y="3702960"/>
              <a:ext cx="25560" cy="10184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5152680" y="3702960"/>
              <a:ext cx="28440" cy="10184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152680" y="3699000"/>
              <a:ext cx="0" cy="10335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4606200" y="3771720"/>
              <a:ext cx="109440" cy="225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21600" h="44404">
                  <a:moveTo>
                    <a:pt x="0" y="0"/>
                  </a:moveTo>
                  <a:arcTo wR="0" hR="0" stAng="16200000" swAng="-5400000"/>
                  <a:lnTo>
                    <a:pt x="0" y="44404"/>
                  </a:lnTo>
                  <a:arcTo wR="0" hR="0" stAng="10800000" swAng="-5400000"/>
                  <a:lnTo>
                    <a:pt x="21600" y="444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4617360" y="37843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4620600" y="392076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620600" y="3789360"/>
              <a:ext cx="35640" cy="1270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6464">
                  <a:moveTo>
                    <a:pt x="0" y="0"/>
                  </a:moveTo>
                  <a:arcTo wR="0" hR="0" stAng="16200000" swAng="-5400000"/>
                  <a:lnTo>
                    <a:pt x="0" y="76464"/>
                  </a:lnTo>
                  <a:arcTo wR="0" hR="0" stAng="10800000" swAng="-5400000"/>
                  <a:lnTo>
                    <a:pt x="21600" y="764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V="1">
              <a:off x="4672440" y="379332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7670">
                  <a:moveTo>
                    <a:pt x="0" y="0"/>
                  </a:moveTo>
                  <a:arcTo wR="0" hR="0" stAng="16200000" swAng="-5400000"/>
                  <a:lnTo>
                    <a:pt x="0" y="97670"/>
                  </a:lnTo>
                  <a:arcTo wR="0" hR="0" stAng="10800000" swAng="-5400000"/>
                  <a:lnTo>
                    <a:pt x="21600" y="9767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V="1">
              <a:off x="4628880" y="382428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4628880" y="382428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4656600" y="378936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V="1">
              <a:off x="4667760" y="379332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V="1">
              <a:off x="4642200" y="392940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628880" y="3934080"/>
              <a:ext cx="684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628880" y="3956400"/>
              <a:ext cx="6840" cy="720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604400" y="3771720"/>
              <a:ext cx="117000" cy="22824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78" y="0"/>
                  </a:moveTo>
                  <a:lnTo>
                    <a:pt x="80" y="162"/>
                  </a:lnTo>
                  <a:lnTo>
                    <a:pt x="0" y="162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4678200" y="393012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4748760" y="3777840"/>
              <a:ext cx="38088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4748760" y="3817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V="1">
              <a:off x="4748760" y="38592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V="1">
              <a:off x="4748760" y="390564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4748760" y="3947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9" name=""/>
            <p:cNvGrpSpPr/>
            <p:nvPr/>
          </p:nvGrpSpPr>
          <p:grpSpPr>
            <a:xfrm>
              <a:off x="4768920" y="3780000"/>
              <a:ext cx="343440" cy="212760"/>
              <a:chOff x="4768920" y="3780000"/>
              <a:chExt cx="343440" cy="212760"/>
            </a:xfrm>
          </p:grpSpPr>
          <p:sp>
            <p:nvSpPr>
              <p:cNvPr id="2020" name=""/>
              <p:cNvSpPr/>
              <p:nvPr/>
            </p:nvSpPr>
            <p:spPr>
              <a:xfrm>
                <a:off x="47689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78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80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20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39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856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875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894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49147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4930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494784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4966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498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002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021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038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05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074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093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1123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0" name=""/>
            <p:cNvSpPr/>
            <p:nvPr/>
          </p:nvSpPr>
          <p:spPr>
            <a:xfrm flipV="1">
              <a:off x="4748760" y="414216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748760" y="4179960"/>
              <a:ext cx="3780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8760" y="4222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748760" y="426672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748760" y="431028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5" name=""/>
            <p:cNvGrpSpPr/>
            <p:nvPr/>
          </p:nvGrpSpPr>
          <p:grpSpPr>
            <a:xfrm>
              <a:off x="4768920" y="4142880"/>
              <a:ext cx="343440" cy="212760"/>
              <a:chOff x="4768920" y="4142880"/>
              <a:chExt cx="343440" cy="212760"/>
            </a:xfrm>
          </p:grpSpPr>
          <p:sp>
            <p:nvSpPr>
              <p:cNvPr id="2046" name=""/>
              <p:cNvSpPr/>
              <p:nvPr/>
            </p:nvSpPr>
            <p:spPr>
              <a:xfrm>
                <a:off x="47689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78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80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820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839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4856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4875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4894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49147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930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94784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966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498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002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021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038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05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074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093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1123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6" name=""/>
            <p:cNvSpPr/>
            <p:nvPr/>
          </p:nvSpPr>
          <p:spPr>
            <a:xfrm flipV="1">
              <a:off x="4748760" y="448812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V="1">
              <a:off x="4748760" y="452592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V="1">
              <a:off x="4748760" y="4568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V="1">
              <a:off x="4748760" y="46144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V="1">
              <a:off x="4748760" y="465804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1" name=""/>
            <p:cNvGrpSpPr/>
            <p:nvPr/>
          </p:nvGrpSpPr>
          <p:grpSpPr>
            <a:xfrm>
              <a:off x="4768920" y="4488840"/>
              <a:ext cx="343440" cy="212760"/>
              <a:chOff x="4768920" y="4488840"/>
              <a:chExt cx="343440" cy="212760"/>
            </a:xfrm>
          </p:grpSpPr>
          <p:sp>
            <p:nvSpPr>
              <p:cNvPr id="2072" name=""/>
              <p:cNvSpPr/>
              <p:nvPr/>
            </p:nvSpPr>
            <p:spPr>
              <a:xfrm>
                <a:off x="47689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78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80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4820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4839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4856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4875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4894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9147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4930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494784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4966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498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002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021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038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05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074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093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1123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2" name=""/>
            <p:cNvSpPr/>
            <p:nvPr/>
          </p:nvSpPr>
          <p:spPr>
            <a:xfrm flipV="1">
              <a:off x="4606200" y="403668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604400" y="403668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4606200" y="4079520"/>
              <a:ext cx="1396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604400" y="4080240"/>
              <a:ext cx="145800" cy="3600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ser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ks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 server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s1.sanj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ww.nominum.com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396120" y="5334120"/>
            <a:ext cx="1230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1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2102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8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2129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9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4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2155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5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0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2181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1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5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2207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3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2234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4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9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2260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0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5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2286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6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0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394520" y="4768920"/>
            <a:ext cx="17809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3333600" y="2440080"/>
            <a:ext cx="2341800" cy="1055520"/>
            <a:chOff x="3333600" y="2440080"/>
            <a:chExt cx="2341800" cy="1055520"/>
          </a:xfrm>
        </p:grpSpPr>
        <p:sp>
          <p:nvSpPr>
            <p:cNvPr id="2313" name=""/>
            <p:cNvSpPr/>
            <p:nvPr/>
          </p:nvSpPr>
          <p:spPr>
            <a:xfrm>
              <a:off x="3333600" y="2440080"/>
              <a:ext cx="2341800" cy="1055520"/>
            </a:xfrm>
            <a:custGeom>
              <a:avLst/>
              <a:gdLst/>
              <a:ahLst/>
              <a:rect l="l" t="t" r="r" b="b"/>
              <a:pathLst>
                <a:path w="1623" h="754">
                  <a:moveTo>
                    <a:pt x="1496" y="657"/>
                  </a:moveTo>
                  <a:lnTo>
                    <a:pt x="1507" y="657"/>
                  </a:lnTo>
                  <a:lnTo>
                    <a:pt x="1518" y="655"/>
                  </a:lnTo>
                  <a:lnTo>
                    <a:pt x="1530" y="654"/>
                  </a:lnTo>
                  <a:lnTo>
                    <a:pt x="1542" y="650"/>
                  </a:lnTo>
                  <a:lnTo>
                    <a:pt x="1551" y="648"/>
                  </a:lnTo>
                  <a:lnTo>
                    <a:pt x="1562" y="643"/>
                  </a:lnTo>
                  <a:lnTo>
                    <a:pt x="1571" y="640"/>
                  </a:lnTo>
                  <a:lnTo>
                    <a:pt x="1581" y="634"/>
                  </a:lnTo>
                  <a:lnTo>
                    <a:pt x="1588" y="630"/>
                  </a:lnTo>
                  <a:lnTo>
                    <a:pt x="1596" y="625"/>
                  </a:lnTo>
                  <a:lnTo>
                    <a:pt x="1602" y="619"/>
                  </a:lnTo>
                  <a:lnTo>
                    <a:pt x="1609" y="613"/>
                  </a:lnTo>
                  <a:lnTo>
                    <a:pt x="1612" y="607"/>
                  </a:lnTo>
                  <a:lnTo>
                    <a:pt x="1616" y="600"/>
                  </a:lnTo>
                  <a:lnTo>
                    <a:pt x="1619" y="594"/>
                  </a:lnTo>
                  <a:lnTo>
                    <a:pt x="1622" y="586"/>
                  </a:lnTo>
                  <a:lnTo>
                    <a:pt x="1622" y="71"/>
                  </a:lnTo>
                  <a:lnTo>
                    <a:pt x="1619" y="65"/>
                  </a:lnTo>
                  <a:lnTo>
                    <a:pt x="1616" y="59"/>
                  </a:lnTo>
                  <a:lnTo>
                    <a:pt x="1612" y="53"/>
                  </a:lnTo>
                  <a:lnTo>
                    <a:pt x="1609" y="45"/>
                  </a:lnTo>
                  <a:lnTo>
                    <a:pt x="1602" y="41"/>
                  </a:lnTo>
                  <a:lnTo>
                    <a:pt x="1596" y="35"/>
                  </a:lnTo>
                  <a:lnTo>
                    <a:pt x="1588" y="30"/>
                  </a:lnTo>
                  <a:lnTo>
                    <a:pt x="1581" y="23"/>
                  </a:lnTo>
                  <a:lnTo>
                    <a:pt x="1571" y="20"/>
                  </a:lnTo>
                  <a:lnTo>
                    <a:pt x="1562" y="15"/>
                  </a:lnTo>
                  <a:lnTo>
                    <a:pt x="1551" y="12"/>
                  </a:lnTo>
                  <a:lnTo>
                    <a:pt x="1542" y="8"/>
                  </a:lnTo>
                  <a:lnTo>
                    <a:pt x="1530" y="6"/>
                  </a:lnTo>
                  <a:lnTo>
                    <a:pt x="1518" y="3"/>
                  </a:lnTo>
                  <a:lnTo>
                    <a:pt x="1507" y="2"/>
                  </a:lnTo>
                  <a:lnTo>
                    <a:pt x="1496" y="0"/>
                  </a:lnTo>
                  <a:lnTo>
                    <a:pt x="126" y="0"/>
                  </a:lnTo>
                  <a:lnTo>
                    <a:pt x="114" y="2"/>
                  </a:lnTo>
                  <a:lnTo>
                    <a:pt x="102" y="3"/>
                  </a:lnTo>
                  <a:lnTo>
                    <a:pt x="90" y="6"/>
                  </a:lnTo>
                  <a:lnTo>
                    <a:pt x="79" y="8"/>
                  </a:lnTo>
                  <a:lnTo>
                    <a:pt x="68" y="12"/>
                  </a:lnTo>
                  <a:lnTo>
                    <a:pt x="58" y="15"/>
                  </a:lnTo>
                  <a:lnTo>
                    <a:pt x="48" y="20"/>
                  </a:lnTo>
                  <a:lnTo>
                    <a:pt x="41" y="23"/>
                  </a:lnTo>
                  <a:lnTo>
                    <a:pt x="32" y="30"/>
                  </a:lnTo>
                  <a:lnTo>
                    <a:pt x="24" y="35"/>
                  </a:lnTo>
                  <a:lnTo>
                    <a:pt x="17" y="41"/>
                  </a:lnTo>
                  <a:lnTo>
                    <a:pt x="12" y="45"/>
                  </a:lnTo>
                  <a:lnTo>
                    <a:pt x="7" y="53"/>
                  </a:lnTo>
                  <a:lnTo>
                    <a:pt x="3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586"/>
                  </a:lnTo>
                  <a:lnTo>
                    <a:pt x="1" y="594"/>
                  </a:lnTo>
                  <a:lnTo>
                    <a:pt x="3" y="600"/>
                  </a:lnTo>
                  <a:lnTo>
                    <a:pt x="7" y="607"/>
                  </a:lnTo>
                  <a:lnTo>
                    <a:pt x="12" y="613"/>
                  </a:lnTo>
                  <a:lnTo>
                    <a:pt x="17" y="619"/>
                  </a:lnTo>
                  <a:lnTo>
                    <a:pt x="24" y="625"/>
                  </a:lnTo>
                  <a:lnTo>
                    <a:pt x="32" y="630"/>
                  </a:lnTo>
                  <a:lnTo>
                    <a:pt x="41" y="634"/>
                  </a:lnTo>
                  <a:lnTo>
                    <a:pt x="48" y="640"/>
                  </a:lnTo>
                  <a:lnTo>
                    <a:pt x="58" y="643"/>
                  </a:lnTo>
                  <a:lnTo>
                    <a:pt x="68" y="648"/>
                  </a:lnTo>
                  <a:lnTo>
                    <a:pt x="79" y="650"/>
                  </a:lnTo>
                  <a:lnTo>
                    <a:pt x="90" y="654"/>
                  </a:lnTo>
                  <a:lnTo>
                    <a:pt x="102" y="655"/>
                  </a:lnTo>
                  <a:lnTo>
                    <a:pt x="114" y="657"/>
                  </a:lnTo>
                  <a:lnTo>
                    <a:pt x="126" y="657"/>
                  </a:lnTo>
                  <a:lnTo>
                    <a:pt x="245" y="657"/>
                  </a:lnTo>
                  <a:lnTo>
                    <a:pt x="130" y="753"/>
                  </a:lnTo>
                  <a:lnTo>
                    <a:pt x="407" y="657"/>
                  </a:lnTo>
                  <a:lnTo>
                    <a:pt x="1496" y="657"/>
                  </a:lnTo>
                  <a:lnTo>
                    <a:pt x="1496" y="657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578760" y="2541960"/>
              <a:ext cx="1998360" cy="7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www.nominum.com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5" name=""/>
          <p:cNvSpPr/>
          <p:nvPr/>
        </p:nvSpPr>
        <p:spPr>
          <a:xfrm>
            <a:off x="3276720" y="3541680"/>
            <a:ext cx="1163520" cy="317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6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2317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2344" name="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819120" y="4123080"/>
              <a:ext cx="557640" cy="101556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784560" y="4119120"/>
              <a:ext cx="25560" cy="10166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381440" y="4119120"/>
              <a:ext cx="28440" cy="10166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834960" y="4186080"/>
              <a:ext cx="117000" cy="22932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0" name="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2371" name="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1" name="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6" name="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2397" name="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7" name="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2" name="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2423" name="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3" name="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834960" y="445176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834960" y="449532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4552920" y="3699000"/>
            <a:ext cx="630360" cy="1075680"/>
            <a:chOff x="4552920" y="3699000"/>
            <a:chExt cx="630360" cy="1075680"/>
          </a:xfrm>
        </p:grpSpPr>
        <p:sp>
          <p:nvSpPr>
            <p:cNvPr id="2448" name=""/>
            <p:cNvSpPr/>
            <p:nvPr/>
          </p:nvSpPr>
          <p:spPr>
            <a:xfrm flipV="1">
              <a:off x="4552920" y="3699000"/>
              <a:ext cx="630360" cy="102816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360 h 1028160"/>
                <a:gd name="textAreaBottom" fmla="*/ 1028880 h 1028160"/>
              </a:gdLst>
              <a:ahLst/>
              <a:rect l="textAreaLeft" t="textAreaTop" r="textAreaRight" b="textAreaBottom"/>
              <a:pathLst>
                <a:path w="21600" h="35223">
                  <a:moveTo>
                    <a:pt x="0" y="0"/>
                  </a:moveTo>
                  <a:arcTo wR="0" hR="0" stAng="16200000" swAng="-5400000"/>
                  <a:lnTo>
                    <a:pt x="0" y="35223"/>
                  </a:lnTo>
                  <a:arcTo wR="0" hR="0" stAng="10800000" swAng="-5400000"/>
                  <a:lnTo>
                    <a:pt x="21600" y="35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4565520" y="4727160"/>
              <a:ext cx="61020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584600" y="3699000"/>
              <a:ext cx="0" cy="10281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588560" y="3707280"/>
              <a:ext cx="558000" cy="101664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554000" y="3702960"/>
              <a:ext cx="25560" cy="10184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152680" y="3702960"/>
              <a:ext cx="28440" cy="10184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152680" y="3699000"/>
              <a:ext cx="0" cy="10335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V="1">
              <a:off x="4606200" y="3771720"/>
              <a:ext cx="109440" cy="225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21600" h="44404">
                  <a:moveTo>
                    <a:pt x="0" y="0"/>
                  </a:moveTo>
                  <a:arcTo wR="0" hR="0" stAng="16200000" swAng="-5400000"/>
                  <a:lnTo>
                    <a:pt x="0" y="44404"/>
                  </a:lnTo>
                  <a:arcTo wR="0" hR="0" stAng="10800000" swAng="-5400000"/>
                  <a:lnTo>
                    <a:pt x="21600" y="444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V="1">
              <a:off x="4617360" y="37843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4620600" y="392076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V="1">
              <a:off x="4620600" y="3789360"/>
              <a:ext cx="35640" cy="1270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6464">
                  <a:moveTo>
                    <a:pt x="0" y="0"/>
                  </a:moveTo>
                  <a:arcTo wR="0" hR="0" stAng="16200000" swAng="-5400000"/>
                  <a:lnTo>
                    <a:pt x="0" y="76464"/>
                  </a:lnTo>
                  <a:arcTo wR="0" hR="0" stAng="10800000" swAng="-5400000"/>
                  <a:lnTo>
                    <a:pt x="21600" y="764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V="1">
              <a:off x="4672440" y="379332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7670">
                  <a:moveTo>
                    <a:pt x="0" y="0"/>
                  </a:moveTo>
                  <a:arcTo wR="0" hR="0" stAng="16200000" swAng="-5400000"/>
                  <a:lnTo>
                    <a:pt x="0" y="97670"/>
                  </a:lnTo>
                  <a:arcTo wR="0" hR="0" stAng="10800000" swAng="-5400000"/>
                  <a:lnTo>
                    <a:pt x="21600" y="9767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V="1">
              <a:off x="4628880" y="382428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4628880" y="382428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V="1">
              <a:off x="4656600" y="378936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V="1">
              <a:off x="4667760" y="379332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V="1">
              <a:off x="4642200" y="392940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628880" y="3934080"/>
              <a:ext cx="684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628880" y="3956400"/>
              <a:ext cx="6840" cy="720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604400" y="3771720"/>
              <a:ext cx="117000" cy="22824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78" y="0"/>
                  </a:moveTo>
                  <a:lnTo>
                    <a:pt x="80" y="162"/>
                  </a:lnTo>
                  <a:lnTo>
                    <a:pt x="0" y="162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V="1">
              <a:off x="4678200" y="393012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V="1">
              <a:off x="4748760" y="3777840"/>
              <a:ext cx="38088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4748760" y="3817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V="1">
              <a:off x="4748760" y="38592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V="1">
              <a:off x="4748760" y="390564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V="1">
              <a:off x="4748760" y="3947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4" name=""/>
            <p:cNvGrpSpPr/>
            <p:nvPr/>
          </p:nvGrpSpPr>
          <p:grpSpPr>
            <a:xfrm>
              <a:off x="4768920" y="3780000"/>
              <a:ext cx="343440" cy="212760"/>
              <a:chOff x="4768920" y="3780000"/>
              <a:chExt cx="343440" cy="212760"/>
            </a:xfrm>
          </p:grpSpPr>
          <p:sp>
            <p:nvSpPr>
              <p:cNvPr id="2475" name=""/>
              <p:cNvSpPr/>
              <p:nvPr/>
            </p:nvSpPr>
            <p:spPr>
              <a:xfrm>
                <a:off x="47689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78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80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820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4839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4856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4875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4894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49147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930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494784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4966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498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002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021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038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05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074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093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1123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5" name=""/>
            <p:cNvSpPr/>
            <p:nvPr/>
          </p:nvSpPr>
          <p:spPr>
            <a:xfrm flipV="1">
              <a:off x="4748760" y="414216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V="1">
              <a:off x="4748760" y="4179960"/>
              <a:ext cx="3780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4748760" y="4222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V="1">
              <a:off x="4748760" y="426672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flipV="1">
              <a:off x="4748760" y="431028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0" name=""/>
            <p:cNvGrpSpPr/>
            <p:nvPr/>
          </p:nvGrpSpPr>
          <p:grpSpPr>
            <a:xfrm>
              <a:off x="4768920" y="4142880"/>
              <a:ext cx="343440" cy="212760"/>
              <a:chOff x="4768920" y="4142880"/>
              <a:chExt cx="343440" cy="212760"/>
            </a:xfrm>
          </p:grpSpPr>
          <p:sp>
            <p:nvSpPr>
              <p:cNvPr id="2501" name=""/>
              <p:cNvSpPr/>
              <p:nvPr/>
            </p:nvSpPr>
            <p:spPr>
              <a:xfrm>
                <a:off x="47689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478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480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4820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4839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4856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4875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4894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49147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4930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494784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4966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498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5002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021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038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05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074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093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1123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1" name=""/>
            <p:cNvSpPr/>
            <p:nvPr/>
          </p:nvSpPr>
          <p:spPr>
            <a:xfrm flipV="1">
              <a:off x="4748760" y="448812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 flipV="1">
              <a:off x="4748760" y="452592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 flipV="1">
              <a:off x="4748760" y="4568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V="1">
              <a:off x="4748760" y="46144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 flipV="1">
              <a:off x="4748760" y="465804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6" name=""/>
            <p:cNvGrpSpPr/>
            <p:nvPr/>
          </p:nvGrpSpPr>
          <p:grpSpPr>
            <a:xfrm>
              <a:off x="4768920" y="4488840"/>
              <a:ext cx="343440" cy="212760"/>
              <a:chOff x="4768920" y="4488840"/>
              <a:chExt cx="343440" cy="212760"/>
            </a:xfrm>
          </p:grpSpPr>
          <p:sp>
            <p:nvSpPr>
              <p:cNvPr id="2527" name=""/>
              <p:cNvSpPr/>
              <p:nvPr/>
            </p:nvSpPr>
            <p:spPr>
              <a:xfrm>
                <a:off x="47689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478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480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4820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4839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4856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4875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4894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49147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4930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494784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4966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498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002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021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038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05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074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093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1123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7" name=""/>
            <p:cNvSpPr/>
            <p:nvPr/>
          </p:nvSpPr>
          <p:spPr>
            <a:xfrm flipV="1">
              <a:off x="4606200" y="403668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604400" y="403668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V="1">
              <a:off x="4606200" y="4079520"/>
              <a:ext cx="1396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604400" y="4080240"/>
              <a:ext cx="145800" cy="3600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minum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 ser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s1.sanj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pond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ww.nominum.com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6396120" y="5334120"/>
            <a:ext cx="1230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6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2557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3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2584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4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9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2610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0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5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2636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6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0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1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2662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8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2689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9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4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2715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5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0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2741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1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5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4394520" y="4768920"/>
            <a:ext cx="17809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7" name=""/>
          <p:cNvGrpSpPr/>
          <p:nvPr/>
        </p:nvGrpSpPr>
        <p:grpSpPr>
          <a:xfrm>
            <a:off x="2209680" y="4495680"/>
            <a:ext cx="2198880" cy="1011240"/>
            <a:chOff x="2209680" y="4495680"/>
            <a:chExt cx="2198880" cy="1011240"/>
          </a:xfrm>
        </p:grpSpPr>
        <p:sp>
          <p:nvSpPr>
            <p:cNvPr id="2768" name=""/>
            <p:cNvSpPr/>
            <p:nvPr/>
          </p:nvSpPr>
          <p:spPr>
            <a:xfrm>
              <a:off x="2209680" y="4495680"/>
              <a:ext cx="2198880" cy="1011240"/>
            </a:xfrm>
            <a:custGeom>
              <a:avLst/>
              <a:gdLst/>
              <a:ahLst/>
              <a:rect l="l" t="t" r="r" b="b"/>
              <a:pathLst>
                <a:path w="1523" h="721">
                  <a:moveTo>
                    <a:pt x="119" y="92"/>
                  </a:moveTo>
                  <a:lnTo>
                    <a:pt x="107" y="94"/>
                  </a:lnTo>
                  <a:lnTo>
                    <a:pt x="95" y="95"/>
                  </a:lnTo>
                  <a:lnTo>
                    <a:pt x="84" y="98"/>
                  </a:lnTo>
                  <a:lnTo>
                    <a:pt x="74" y="100"/>
                  </a:lnTo>
                  <a:lnTo>
                    <a:pt x="64" y="104"/>
                  </a:lnTo>
                  <a:lnTo>
                    <a:pt x="54" y="107"/>
                  </a:lnTo>
                  <a:lnTo>
                    <a:pt x="46" y="111"/>
                  </a:lnTo>
                  <a:lnTo>
                    <a:pt x="38" y="115"/>
                  </a:lnTo>
                  <a:lnTo>
                    <a:pt x="30" y="121"/>
                  </a:lnTo>
                  <a:lnTo>
                    <a:pt x="23" y="126"/>
                  </a:lnTo>
                  <a:lnTo>
                    <a:pt x="17" y="131"/>
                  </a:lnTo>
                  <a:lnTo>
                    <a:pt x="12" y="136"/>
                  </a:lnTo>
                  <a:lnTo>
                    <a:pt x="7" y="142"/>
                  </a:lnTo>
                  <a:lnTo>
                    <a:pt x="4" y="148"/>
                  </a:lnTo>
                  <a:lnTo>
                    <a:pt x="1" y="154"/>
                  </a:lnTo>
                  <a:lnTo>
                    <a:pt x="0" y="160"/>
                  </a:lnTo>
                  <a:lnTo>
                    <a:pt x="0" y="652"/>
                  </a:lnTo>
                  <a:lnTo>
                    <a:pt x="1" y="660"/>
                  </a:lnTo>
                  <a:lnTo>
                    <a:pt x="4" y="666"/>
                  </a:lnTo>
                  <a:lnTo>
                    <a:pt x="7" y="672"/>
                  </a:lnTo>
                  <a:lnTo>
                    <a:pt x="12" y="677"/>
                  </a:lnTo>
                  <a:lnTo>
                    <a:pt x="17" y="683"/>
                  </a:lnTo>
                  <a:lnTo>
                    <a:pt x="23" y="689"/>
                  </a:lnTo>
                  <a:lnTo>
                    <a:pt x="30" y="695"/>
                  </a:lnTo>
                  <a:lnTo>
                    <a:pt x="38" y="699"/>
                  </a:lnTo>
                  <a:lnTo>
                    <a:pt x="46" y="703"/>
                  </a:lnTo>
                  <a:lnTo>
                    <a:pt x="54" y="707"/>
                  </a:lnTo>
                  <a:lnTo>
                    <a:pt x="64" y="711"/>
                  </a:lnTo>
                  <a:lnTo>
                    <a:pt x="74" y="714"/>
                  </a:lnTo>
                  <a:lnTo>
                    <a:pt x="84" y="716"/>
                  </a:lnTo>
                  <a:lnTo>
                    <a:pt x="95" y="718"/>
                  </a:lnTo>
                  <a:lnTo>
                    <a:pt x="107" y="720"/>
                  </a:lnTo>
                  <a:lnTo>
                    <a:pt x="119" y="720"/>
                  </a:lnTo>
                  <a:lnTo>
                    <a:pt x="1403" y="720"/>
                  </a:lnTo>
                  <a:lnTo>
                    <a:pt x="1413" y="720"/>
                  </a:lnTo>
                  <a:lnTo>
                    <a:pt x="1425" y="718"/>
                  </a:lnTo>
                  <a:lnTo>
                    <a:pt x="1435" y="716"/>
                  </a:lnTo>
                  <a:lnTo>
                    <a:pt x="1446" y="714"/>
                  </a:lnTo>
                  <a:lnTo>
                    <a:pt x="1455" y="711"/>
                  </a:lnTo>
                  <a:lnTo>
                    <a:pt x="1465" y="707"/>
                  </a:lnTo>
                  <a:lnTo>
                    <a:pt x="1474" y="703"/>
                  </a:lnTo>
                  <a:lnTo>
                    <a:pt x="1483" y="699"/>
                  </a:lnTo>
                  <a:lnTo>
                    <a:pt x="1490" y="695"/>
                  </a:lnTo>
                  <a:lnTo>
                    <a:pt x="1497" y="689"/>
                  </a:lnTo>
                  <a:lnTo>
                    <a:pt x="1503" y="683"/>
                  </a:lnTo>
                  <a:lnTo>
                    <a:pt x="1509" y="677"/>
                  </a:lnTo>
                  <a:lnTo>
                    <a:pt x="1513" y="672"/>
                  </a:lnTo>
                  <a:lnTo>
                    <a:pt x="1517" y="666"/>
                  </a:lnTo>
                  <a:lnTo>
                    <a:pt x="1519" y="660"/>
                  </a:lnTo>
                  <a:lnTo>
                    <a:pt x="1522" y="652"/>
                  </a:lnTo>
                  <a:lnTo>
                    <a:pt x="1522" y="160"/>
                  </a:lnTo>
                  <a:lnTo>
                    <a:pt x="1519" y="154"/>
                  </a:lnTo>
                  <a:lnTo>
                    <a:pt x="1517" y="148"/>
                  </a:lnTo>
                  <a:lnTo>
                    <a:pt x="1513" y="142"/>
                  </a:lnTo>
                  <a:lnTo>
                    <a:pt x="1509" y="136"/>
                  </a:lnTo>
                  <a:lnTo>
                    <a:pt x="1503" y="131"/>
                  </a:lnTo>
                  <a:lnTo>
                    <a:pt x="1497" y="126"/>
                  </a:lnTo>
                  <a:lnTo>
                    <a:pt x="1490" y="121"/>
                  </a:lnTo>
                  <a:lnTo>
                    <a:pt x="1483" y="115"/>
                  </a:lnTo>
                  <a:lnTo>
                    <a:pt x="1474" y="111"/>
                  </a:lnTo>
                  <a:lnTo>
                    <a:pt x="1465" y="107"/>
                  </a:lnTo>
                  <a:lnTo>
                    <a:pt x="1455" y="104"/>
                  </a:lnTo>
                  <a:lnTo>
                    <a:pt x="1446" y="100"/>
                  </a:lnTo>
                  <a:lnTo>
                    <a:pt x="1435" y="98"/>
                  </a:lnTo>
                  <a:lnTo>
                    <a:pt x="1425" y="95"/>
                  </a:lnTo>
                  <a:lnTo>
                    <a:pt x="1413" y="94"/>
                  </a:lnTo>
                  <a:lnTo>
                    <a:pt x="1403" y="92"/>
                  </a:lnTo>
                  <a:lnTo>
                    <a:pt x="1292" y="92"/>
                  </a:lnTo>
                  <a:lnTo>
                    <a:pt x="1399" y="0"/>
                  </a:lnTo>
                  <a:lnTo>
                    <a:pt x="1140" y="92"/>
                  </a:lnTo>
                  <a:lnTo>
                    <a:pt x="119" y="92"/>
                  </a:lnTo>
                  <a:lnTo>
                    <a:pt x="119" y="92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390040" y="4695840"/>
              <a:ext cx="18756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the IP address for www.nominum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0" name=""/>
          <p:cNvSpPr/>
          <p:nvPr/>
        </p:nvSpPr>
        <p:spPr>
          <a:xfrm>
            <a:off x="3408480" y="3591000"/>
            <a:ext cx="1036440" cy="2728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1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2772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2799" name="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819120" y="4123080"/>
              <a:ext cx="557640" cy="101556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6784560" y="4119120"/>
              <a:ext cx="25560" cy="10166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381440" y="4119120"/>
              <a:ext cx="28440" cy="10166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834960" y="4186080"/>
              <a:ext cx="117000" cy="22932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5" name="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2826" name="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6" name="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1" name="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2852" name="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2" name="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7" name="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2878" name="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8" name="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6834960" y="445176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834960" y="449532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4552920" y="3699000"/>
            <a:ext cx="630360" cy="1075680"/>
            <a:chOff x="4552920" y="3699000"/>
            <a:chExt cx="630360" cy="1075680"/>
          </a:xfrm>
        </p:grpSpPr>
        <p:sp>
          <p:nvSpPr>
            <p:cNvPr id="2903" name=""/>
            <p:cNvSpPr/>
            <p:nvPr/>
          </p:nvSpPr>
          <p:spPr>
            <a:xfrm flipV="1">
              <a:off x="4552920" y="3699000"/>
              <a:ext cx="630360" cy="102816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360 h 1028160"/>
                <a:gd name="textAreaBottom" fmla="*/ 1028880 h 1028160"/>
              </a:gdLst>
              <a:ahLst/>
              <a:rect l="textAreaLeft" t="textAreaTop" r="textAreaRight" b="textAreaBottom"/>
              <a:pathLst>
                <a:path w="21600" h="35223">
                  <a:moveTo>
                    <a:pt x="0" y="0"/>
                  </a:moveTo>
                  <a:arcTo wR="0" hR="0" stAng="16200000" swAng="-5400000"/>
                  <a:lnTo>
                    <a:pt x="0" y="35223"/>
                  </a:lnTo>
                  <a:arcTo wR="0" hR="0" stAng="10800000" swAng="-5400000"/>
                  <a:lnTo>
                    <a:pt x="21600" y="35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V="1">
              <a:off x="4565520" y="4727160"/>
              <a:ext cx="61020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584600" y="3699000"/>
              <a:ext cx="0" cy="10281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588560" y="3707280"/>
              <a:ext cx="558000" cy="101664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4554000" y="3702960"/>
              <a:ext cx="25560" cy="10184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5152680" y="3702960"/>
              <a:ext cx="28440" cy="10184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5152680" y="3699000"/>
              <a:ext cx="0" cy="10335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V="1">
              <a:off x="4606200" y="3771720"/>
              <a:ext cx="109440" cy="225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21600" h="44404">
                  <a:moveTo>
                    <a:pt x="0" y="0"/>
                  </a:moveTo>
                  <a:arcTo wR="0" hR="0" stAng="16200000" swAng="-5400000"/>
                  <a:lnTo>
                    <a:pt x="0" y="44404"/>
                  </a:lnTo>
                  <a:arcTo wR="0" hR="0" stAng="10800000" swAng="-5400000"/>
                  <a:lnTo>
                    <a:pt x="21600" y="444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V="1">
              <a:off x="4617360" y="37843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V="1">
              <a:off x="4620600" y="392076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4620600" y="3789360"/>
              <a:ext cx="35640" cy="1270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6464">
                  <a:moveTo>
                    <a:pt x="0" y="0"/>
                  </a:moveTo>
                  <a:arcTo wR="0" hR="0" stAng="16200000" swAng="-5400000"/>
                  <a:lnTo>
                    <a:pt x="0" y="76464"/>
                  </a:lnTo>
                  <a:arcTo wR="0" hR="0" stAng="10800000" swAng="-5400000"/>
                  <a:lnTo>
                    <a:pt x="21600" y="764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 flipV="1">
              <a:off x="4672440" y="379332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7670">
                  <a:moveTo>
                    <a:pt x="0" y="0"/>
                  </a:moveTo>
                  <a:arcTo wR="0" hR="0" stAng="16200000" swAng="-5400000"/>
                  <a:lnTo>
                    <a:pt x="0" y="97670"/>
                  </a:lnTo>
                  <a:arcTo wR="0" hR="0" stAng="10800000" swAng="-5400000"/>
                  <a:lnTo>
                    <a:pt x="21600" y="9767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V="1">
              <a:off x="4628880" y="382428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 flipV="1">
              <a:off x="4628880" y="382428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 flipV="1">
              <a:off x="4656600" y="378936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V="1">
              <a:off x="4667760" y="379332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V="1">
              <a:off x="4642200" y="392940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628880" y="3934080"/>
              <a:ext cx="684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4628880" y="3956400"/>
              <a:ext cx="6840" cy="720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4604400" y="3771720"/>
              <a:ext cx="117000" cy="22824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78" y="0"/>
                  </a:moveTo>
                  <a:lnTo>
                    <a:pt x="80" y="162"/>
                  </a:lnTo>
                  <a:lnTo>
                    <a:pt x="0" y="162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V="1">
              <a:off x="4678200" y="393012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V="1">
              <a:off x="4748760" y="3777840"/>
              <a:ext cx="38088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 flipV="1">
              <a:off x="4748760" y="3817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 flipV="1">
              <a:off x="4748760" y="38592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V="1">
              <a:off x="4748760" y="390564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 flipV="1">
              <a:off x="4748760" y="3947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9" name=""/>
            <p:cNvGrpSpPr/>
            <p:nvPr/>
          </p:nvGrpSpPr>
          <p:grpSpPr>
            <a:xfrm>
              <a:off x="4768920" y="3780000"/>
              <a:ext cx="343440" cy="212760"/>
              <a:chOff x="4768920" y="3780000"/>
              <a:chExt cx="343440" cy="212760"/>
            </a:xfrm>
          </p:grpSpPr>
          <p:sp>
            <p:nvSpPr>
              <p:cNvPr id="2930" name=""/>
              <p:cNvSpPr/>
              <p:nvPr/>
            </p:nvSpPr>
            <p:spPr>
              <a:xfrm>
                <a:off x="47689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478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480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820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4839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4856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4875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894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9147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4930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494784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966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98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002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5021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038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05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5074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5093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1123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0" name=""/>
            <p:cNvSpPr/>
            <p:nvPr/>
          </p:nvSpPr>
          <p:spPr>
            <a:xfrm flipV="1">
              <a:off x="4748760" y="414216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V="1">
              <a:off x="4748760" y="4179960"/>
              <a:ext cx="3780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V="1">
              <a:off x="4748760" y="4222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V="1">
              <a:off x="4748760" y="426672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V="1">
              <a:off x="4748760" y="431028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5" name=""/>
            <p:cNvGrpSpPr/>
            <p:nvPr/>
          </p:nvGrpSpPr>
          <p:grpSpPr>
            <a:xfrm>
              <a:off x="4768920" y="4142880"/>
              <a:ext cx="343440" cy="212760"/>
              <a:chOff x="4768920" y="4142880"/>
              <a:chExt cx="343440" cy="212760"/>
            </a:xfrm>
          </p:grpSpPr>
          <p:sp>
            <p:nvSpPr>
              <p:cNvPr id="2956" name=""/>
              <p:cNvSpPr/>
              <p:nvPr/>
            </p:nvSpPr>
            <p:spPr>
              <a:xfrm>
                <a:off x="47689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478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480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4820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4839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4856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875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4894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49147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930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94784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4966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498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002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021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038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05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074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093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51123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6" name=""/>
            <p:cNvSpPr/>
            <p:nvPr/>
          </p:nvSpPr>
          <p:spPr>
            <a:xfrm flipV="1">
              <a:off x="4748760" y="448812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 flipV="1">
              <a:off x="4748760" y="452592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flipV="1">
              <a:off x="4748760" y="4568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V="1">
              <a:off x="4748760" y="46144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V="1">
              <a:off x="4748760" y="465804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1" name=""/>
            <p:cNvGrpSpPr/>
            <p:nvPr/>
          </p:nvGrpSpPr>
          <p:grpSpPr>
            <a:xfrm>
              <a:off x="4768920" y="4488840"/>
              <a:ext cx="343440" cy="212760"/>
              <a:chOff x="4768920" y="4488840"/>
              <a:chExt cx="343440" cy="212760"/>
            </a:xfrm>
          </p:grpSpPr>
          <p:sp>
            <p:nvSpPr>
              <p:cNvPr id="2982" name=""/>
              <p:cNvSpPr/>
              <p:nvPr/>
            </p:nvSpPr>
            <p:spPr>
              <a:xfrm>
                <a:off x="47689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78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480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4820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4839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4856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875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894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9147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4930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494784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4966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498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002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021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038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05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074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093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51123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2" name=""/>
            <p:cNvSpPr/>
            <p:nvPr/>
          </p:nvSpPr>
          <p:spPr>
            <a:xfrm flipV="1">
              <a:off x="4606200" y="403668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604400" y="403668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V="1">
              <a:off x="4606200" y="4079520"/>
              <a:ext cx="1396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604400" y="4080240"/>
              <a:ext cx="145800" cy="3600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3370320" y="2486160"/>
            <a:ext cx="2197080" cy="1009440"/>
            <a:chOff x="3370320" y="2486160"/>
            <a:chExt cx="2197080" cy="1009440"/>
          </a:xfrm>
        </p:grpSpPr>
        <p:sp>
          <p:nvSpPr>
            <p:cNvPr id="3007" name=""/>
            <p:cNvSpPr/>
            <p:nvPr/>
          </p:nvSpPr>
          <p:spPr>
            <a:xfrm>
              <a:off x="3370320" y="2486160"/>
              <a:ext cx="2197080" cy="1009440"/>
            </a:xfrm>
            <a:custGeom>
              <a:avLst/>
              <a:gdLst/>
              <a:ahLst/>
              <a:rect l="l" t="t" r="r" b="b"/>
              <a:pathLst>
                <a:path w="1523" h="721">
                  <a:moveTo>
                    <a:pt x="1403" y="628"/>
                  </a:moveTo>
                  <a:lnTo>
                    <a:pt x="1413" y="628"/>
                  </a:lnTo>
                  <a:lnTo>
                    <a:pt x="1425" y="627"/>
                  </a:lnTo>
                  <a:lnTo>
                    <a:pt x="1435" y="625"/>
                  </a:lnTo>
                  <a:lnTo>
                    <a:pt x="1446" y="622"/>
                  </a:lnTo>
                  <a:lnTo>
                    <a:pt x="1455" y="619"/>
                  </a:lnTo>
                  <a:lnTo>
                    <a:pt x="1465" y="615"/>
                  </a:lnTo>
                  <a:lnTo>
                    <a:pt x="1474" y="612"/>
                  </a:lnTo>
                  <a:lnTo>
                    <a:pt x="1483" y="607"/>
                  </a:lnTo>
                  <a:lnTo>
                    <a:pt x="1490" y="603"/>
                  </a:lnTo>
                  <a:lnTo>
                    <a:pt x="1497" y="598"/>
                  </a:lnTo>
                  <a:lnTo>
                    <a:pt x="1503" y="592"/>
                  </a:lnTo>
                  <a:lnTo>
                    <a:pt x="1509" y="586"/>
                  </a:lnTo>
                  <a:lnTo>
                    <a:pt x="1513" y="580"/>
                  </a:lnTo>
                  <a:lnTo>
                    <a:pt x="1517" y="574"/>
                  </a:lnTo>
                  <a:lnTo>
                    <a:pt x="1519" y="568"/>
                  </a:lnTo>
                  <a:lnTo>
                    <a:pt x="1522" y="560"/>
                  </a:lnTo>
                  <a:lnTo>
                    <a:pt x="1522" y="68"/>
                  </a:lnTo>
                  <a:lnTo>
                    <a:pt x="1519" y="62"/>
                  </a:lnTo>
                  <a:lnTo>
                    <a:pt x="1517" y="56"/>
                  </a:lnTo>
                  <a:lnTo>
                    <a:pt x="1513" y="50"/>
                  </a:lnTo>
                  <a:lnTo>
                    <a:pt x="1509" y="44"/>
                  </a:lnTo>
                  <a:lnTo>
                    <a:pt x="1503" y="40"/>
                  </a:lnTo>
                  <a:lnTo>
                    <a:pt x="1497" y="34"/>
                  </a:lnTo>
                  <a:lnTo>
                    <a:pt x="1490" y="29"/>
                  </a:lnTo>
                  <a:lnTo>
                    <a:pt x="1483" y="23"/>
                  </a:lnTo>
                  <a:lnTo>
                    <a:pt x="1474" y="19"/>
                  </a:lnTo>
                  <a:lnTo>
                    <a:pt x="1465" y="15"/>
                  </a:lnTo>
                  <a:lnTo>
                    <a:pt x="1455" y="12"/>
                  </a:lnTo>
                  <a:lnTo>
                    <a:pt x="1446" y="8"/>
                  </a:lnTo>
                  <a:lnTo>
                    <a:pt x="1435" y="6"/>
                  </a:lnTo>
                  <a:lnTo>
                    <a:pt x="1425" y="3"/>
                  </a:lnTo>
                  <a:lnTo>
                    <a:pt x="1413" y="2"/>
                  </a:lnTo>
                  <a:lnTo>
                    <a:pt x="1403" y="0"/>
                  </a:lnTo>
                  <a:lnTo>
                    <a:pt x="119" y="0"/>
                  </a:lnTo>
                  <a:lnTo>
                    <a:pt x="107" y="2"/>
                  </a:lnTo>
                  <a:lnTo>
                    <a:pt x="95" y="3"/>
                  </a:lnTo>
                  <a:lnTo>
                    <a:pt x="84" y="6"/>
                  </a:lnTo>
                  <a:lnTo>
                    <a:pt x="74" y="8"/>
                  </a:lnTo>
                  <a:lnTo>
                    <a:pt x="64" y="12"/>
                  </a:lnTo>
                  <a:lnTo>
                    <a:pt x="54" y="15"/>
                  </a:lnTo>
                  <a:lnTo>
                    <a:pt x="46" y="19"/>
                  </a:lnTo>
                  <a:lnTo>
                    <a:pt x="38" y="23"/>
                  </a:lnTo>
                  <a:lnTo>
                    <a:pt x="30" y="29"/>
                  </a:lnTo>
                  <a:lnTo>
                    <a:pt x="23" y="34"/>
                  </a:lnTo>
                  <a:lnTo>
                    <a:pt x="17" y="40"/>
                  </a:lnTo>
                  <a:lnTo>
                    <a:pt x="11" y="44"/>
                  </a:lnTo>
                  <a:lnTo>
                    <a:pt x="7" y="50"/>
                  </a:lnTo>
                  <a:lnTo>
                    <a:pt x="4" y="56"/>
                  </a:lnTo>
                  <a:lnTo>
                    <a:pt x="2" y="62"/>
                  </a:lnTo>
                  <a:lnTo>
                    <a:pt x="0" y="68"/>
                  </a:lnTo>
                  <a:lnTo>
                    <a:pt x="0" y="560"/>
                  </a:lnTo>
                  <a:lnTo>
                    <a:pt x="2" y="568"/>
                  </a:lnTo>
                  <a:lnTo>
                    <a:pt x="4" y="574"/>
                  </a:lnTo>
                  <a:lnTo>
                    <a:pt x="7" y="580"/>
                  </a:lnTo>
                  <a:lnTo>
                    <a:pt x="11" y="586"/>
                  </a:lnTo>
                  <a:lnTo>
                    <a:pt x="17" y="592"/>
                  </a:lnTo>
                  <a:lnTo>
                    <a:pt x="23" y="598"/>
                  </a:lnTo>
                  <a:lnTo>
                    <a:pt x="30" y="603"/>
                  </a:lnTo>
                  <a:lnTo>
                    <a:pt x="38" y="607"/>
                  </a:lnTo>
                  <a:lnTo>
                    <a:pt x="46" y="612"/>
                  </a:lnTo>
                  <a:lnTo>
                    <a:pt x="54" y="615"/>
                  </a:lnTo>
                  <a:lnTo>
                    <a:pt x="64" y="619"/>
                  </a:lnTo>
                  <a:lnTo>
                    <a:pt x="74" y="622"/>
                  </a:lnTo>
                  <a:lnTo>
                    <a:pt x="84" y="625"/>
                  </a:lnTo>
                  <a:lnTo>
                    <a:pt x="95" y="627"/>
                  </a:lnTo>
                  <a:lnTo>
                    <a:pt x="107" y="628"/>
                  </a:lnTo>
                  <a:lnTo>
                    <a:pt x="119" y="628"/>
                  </a:lnTo>
                  <a:lnTo>
                    <a:pt x="231" y="628"/>
                  </a:lnTo>
                  <a:lnTo>
                    <a:pt x="123" y="720"/>
                  </a:lnTo>
                  <a:lnTo>
                    <a:pt x="382" y="628"/>
                  </a:lnTo>
                  <a:lnTo>
                    <a:pt x="1403" y="628"/>
                  </a:lnTo>
                  <a:lnTo>
                    <a:pt x="1403" y="628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3600720" y="2582640"/>
              <a:ext cx="18738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the IP address for www.nominum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9" name=""/>
          <p:cNvSpPr/>
          <p:nvPr/>
        </p:nvSpPr>
        <p:spPr>
          <a:xfrm flipV="1">
            <a:off x="1817640" y="3672000"/>
            <a:ext cx="571680" cy="77472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solu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me ser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pond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n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ww.nominum.com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www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6396120" y="5334120"/>
            <a:ext cx="1230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5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3016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2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3043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3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8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3069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9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4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3095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5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9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0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3121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7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3148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8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3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3174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4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9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3200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0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4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3991320" y="4768920"/>
            <a:ext cx="17809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ution Process (Cach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previous query, the name ser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w kn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s and IP addresses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s and IP addresses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P addres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ww.nominu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look at the resolution process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9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3230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6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"/>
          <p:cNvSpPr/>
          <p:nvPr/>
        </p:nvSpPr>
        <p:spPr>
          <a:xfrm>
            <a:off x="2133720" y="5867280"/>
            <a:ext cx="36352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ftp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 flipV="1">
            <a:off x="1751040" y="3673080"/>
            <a:ext cx="635040" cy="841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9" name=""/>
          <p:cNvGrpSpPr/>
          <p:nvPr/>
        </p:nvGrpSpPr>
        <p:grpSpPr>
          <a:xfrm>
            <a:off x="2057400" y="4343400"/>
            <a:ext cx="2344680" cy="1011240"/>
            <a:chOff x="2057400" y="4343400"/>
            <a:chExt cx="2344680" cy="1011240"/>
          </a:xfrm>
        </p:grpSpPr>
        <p:sp>
          <p:nvSpPr>
            <p:cNvPr id="3260" name=""/>
            <p:cNvSpPr/>
            <p:nvPr/>
          </p:nvSpPr>
          <p:spPr>
            <a:xfrm>
              <a:off x="2057400" y="4343400"/>
              <a:ext cx="2344680" cy="1011240"/>
            </a:xfrm>
            <a:custGeom>
              <a:avLst/>
              <a:gdLst/>
              <a:ahLst/>
              <a:rect l="l" t="t" r="r" b="b"/>
              <a:pathLst>
                <a:path w="1625" h="721">
                  <a:moveTo>
                    <a:pt x="1497" y="92"/>
                  </a:moveTo>
                  <a:lnTo>
                    <a:pt x="1508" y="94"/>
                  </a:lnTo>
                  <a:lnTo>
                    <a:pt x="1520" y="95"/>
                  </a:lnTo>
                  <a:lnTo>
                    <a:pt x="1531" y="98"/>
                  </a:lnTo>
                  <a:lnTo>
                    <a:pt x="1543" y="100"/>
                  </a:lnTo>
                  <a:lnTo>
                    <a:pt x="1553" y="104"/>
                  </a:lnTo>
                  <a:lnTo>
                    <a:pt x="1563" y="107"/>
                  </a:lnTo>
                  <a:lnTo>
                    <a:pt x="1572" y="111"/>
                  </a:lnTo>
                  <a:lnTo>
                    <a:pt x="1582" y="115"/>
                  </a:lnTo>
                  <a:lnTo>
                    <a:pt x="1589" y="121"/>
                  </a:lnTo>
                  <a:lnTo>
                    <a:pt x="1597" y="126"/>
                  </a:lnTo>
                  <a:lnTo>
                    <a:pt x="1603" y="132"/>
                  </a:lnTo>
                  <a:lnTo>
                    <a:pt x="1610" y="136"/>
                  </a:lnTo>
                  <a:lnTo>
                    <a:pt x="1613" y="142"/>
                  </a:lnTo>
                  <a:lnTo>
                    <a:pt x="1618" y="148"/>
                  </a:lnTo>
                  <a:lnTo>
                    <a:pt x="1620" y="154"/>
                  </a:lnTo>
                  <a:lnTo>
                    <a:pt x="1624" y="160"/>
                  </a:lnTo>
                  <a:lnTo>
                    <a:pt x="1624" y="652"/>
                  </a:lnTo>
                  <a:lnTo>
                    <a:pt x="1620" y="660"/>
                  </a:lnTo>
                  <a:lnTo>
                    <a:pt x="1618" y="666"/>
                  </a:lnTo>
                  <a:lnTo>
                    <a:pt x="1613" y="672"/>
                  </a:lnTo>
                  <a:lnTo>
                    <a:pt x="1610" y="678"/>
                  </a:lnTo>
                  <a:lnTo>
                    <a:pt x="1603" y="684"/>
                  </a:lnTo>
                  <a:lnTo>
                    <a:pt x="1597" y="690"/>
                  </a:lnTo>
                  <a:lnTo>
                    <a:pt x="1589" y="695"/>
                  </a:lnTo>
                  <a:lnTo>
                    <a:pt x="1582" y="699"/>
                  </a:lnTo>
                  <a:lnTo>
                    <a:pt x="1572" y="704"/>
                  </a:lnTo>
                  <a:lnTo>
                    <a:pt x="1563" y="707"/>
                  </a:lnTo>
                  <a:lnTo>
                    <a:pt x="1553" y="711"/>
                  </a:lnTo>
                  <a:lnTo>
                    <a:pt x="1543" y="714"/>
                  </a:lnTo>
                  <a:lnTo>
                    <a:pt x="1531" y="717"/>
                  </a:lnTo>
                  <a:lnTo>
                    <a:pt x="1520" y="718"/>
                  </a:lnTo>
                  <a:lnTo>
                    <a:pt x="1508" y="720"/>
                  </a:lnTo>
                  <a:lnTo>
                    <a:pt x="1497" y="720"/>
                  </a:lnTo>
                  <a:lnTo>
                    <a:pt x="127" y="720"/>
                  </a:lnTo>
                  <a:lnTo>
                    <a:pt x="115" y="720"/>
                  </a:lnTo>
                  <a:lnTo>
                    <a:pt x="103" y="718"/>
                  </a:lnTo>
                  <a:lnTo>
                    <a:pt x="91" y="717"/>
                  </a:lnTo>
                  <a:lnTo>
                    <a:pt x="80" y="714"/>
                  </a:lnTo>
                  <a:lnTo>
                    <a:pt x="69" y="711"/>
                  </a:lnTo>
                  <a:lnTo>
                    <a:pt x="59" y="707"/>
                  </a:lnTo>
                  <a:lnTo>
                    <a:pt x="50" y="704"/>
                  </a:lnTo>
                  <a:lnTo>
                    <a:pt x="42" y="699"/>
                  </a:lnTo>
                  <a:lnTo>
                    <a:pt x="33" y="695"/>
                  </a:lnTo>
                  <a:lnTo>
                    <a:pt x="25" y="690"/>
                  </a:lnTo>
                  <a:lnTo>
                    <a:pt x="18" y="684"/>
                  </a:lnTo>
                  <a:lnTo>
                    <a:pt x="13" y="678"/>
                  </a:lnTo>
                  <a:lnTo>
                    <a:pt x="8" y="672"/>
                  </a:lnTo>
                  <a:lnTo>
                    <a:pt x="5" y="666"/>
                  </a:lnTo>
                  <a:lnTo>
                    <a:pt x="2" y="660"/>
                  </a:lnTo>
                  <a:lnTo>
                    <a:pt x="0" y="652"/>
                  </a:lnTo>
                  <a:lnTo>
                    <a:pt x="0" y="160"/>
                  </a:lnTo>
                  <a:lnTo>
                    <a:pt x="2" y="154"/>
                  </a:lnTo>
                  <a:lnTo>
                    <a:pt x="5" y="148"/>
                  </a:lnTo>
                  <a:lnTo>
                    <a:pt x="8" y="142"/>
                  </a:lnTo>
                  <a:lnTo>
                    <a:pt x="13" y="136"/>
                  </a:lnTo>
                  <a:lnTo>
                    <a:pt x="18" y="132"/>
                  </a:lnTo>
                  <a:lnTo>
                    <a:pt x="25" y="126"/>
                  </a:lnTo>
                  <a:lnTo>
                    <a:pt x="33" y="121"/>
                  </a:lnTo>
                  <a:lnTo>
                    <a:pt x="42" y="115"/>
                  </a:lnTo>
                  <a:lnTo>
                    <a:pt x="50" y="111"/>
                  </a:lnTo>
                  <a:lnTo>
                    <a:pt x="59" y="107"/>
                  </a:lnTo>
                  <a:lnTo>
                    <a:pt x="69" y="104"/>
                  </a:lnTo>
                  <a:lnTo>
                    <a:pt x="80" y="100"/>
                  </a:lnTo>
                  <a:lnTo>
                    <a:pt x="91" y="98"/>
                  </a:lnTo>
                  <a:lnTo>
                    <a:pt x="103" y="95"/>
                  </a:lnTo>
                  <a:lnTo>
                    <a:pt x="115" y="94"/>
                  </a:lnTo>
                  <a:lnTo>
                    <a:pt x="127" y="92"/>
                  </a:lnTo>
                  <a:lnTo>
                    <a:pt x="246" y="92"/>
                  </a:lnTo>
                  <a:lnTo>
                    <a:pt x="131" y="0"/>
                  </a:lnTo>
                  <a:lnTo>
                    <a:pt x="408" y="92"/>
                  </a:lnTo>
                  <a:lnTo>
                    <a:pt x="1497" y="92"/>
                  </a:lnTo>
                  <a:lnTo>
                    <a:pt x="1497" y="92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304000" y="4545360"/>
              <a:ext cx="19983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ftp.nominum.com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ution Process (Cach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kst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n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ks its configured name serve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kota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tp.nominum.com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3265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1" name="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3292" name="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6819120" y="4123080"/>
              <a:ext cx="557640" cy="101556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6784560" y="4119120"/>
              <a:ext cx="25560" cy="10166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381440" y="4119120"/>
              <a:ext cx="28440" cy="10166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6834960" y="4186080"/>
              <a:ext cx="117000" cy="22932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8" name="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3319" name="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9" name="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4" name="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3345" name="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5" name="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0" name="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3371" name="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1" name="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6834960" y="445176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6834960" y="449532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5" name=""/>
          <p:cNvGrpSpPr/>
          <p:nvPr/>
        </p:nvGrpSpPr>
        <p:grpSpPr>
          <a:xfrm>
            <a:off x="4552920" y="3699000"/>
            <a:ext cx="630360" cy="1075680"/>
            <a:chOff x="4552920" y="3699000"/>
            <a:chExt cx="630360" cy="1075680"/>
          </a:xfrm>
        </p:grpSpPr>
        <p:sp>
          <p:nvSpPr>
            <p:cNvPr id="3396" name=""/>
            <p:cNvSpPr/>
            <p:nvPr/>
          </p:nvSpPr>
          <p:spPr>
            <a:xfrm flipV="1">
              <a:off x="4552920" y="3699000"/>
              <a:ext cx="630360" cy="102816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360 h 1028160"/>
                <a:gd name="textAreaBottom" fmla="*/ 1028880 h 1028160"/>
              </a:gdLst>
              <a:ahLst/>
              <a:rect l="textAreaLeft" t="textAreaTop" r="textAreaRight" b="textAreaBottom"/>
              <a:pathLst>
                <a:path w="21600" h="35223">
                  <a:moveTo>
                    <a:pt x="0" y="0"/>
                  </a:moveTo>
                  <a:arcTo wR="0" hR="0" stAng="16200000" swAng="-5400000"/>
                  <a:lnTo>
                    <a:pt x="0" y="35223"/>
                  </a:lnTo>
                  <a:arcTo wR="0" hR="0" stAng="10800000" swAng="-5400000"/>
                  <a:lnTo>
                    <a:pt x="21600" y="35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 flipV="1">
              <a:off x="4565520" y="4727160"/>
              <a:ext cx="61020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4584600" y="3699000"/>
              <a:ext cx="0" cy="10281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4588560" y="3707280"/>
              <a:ext cx="558000" cy="101664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554000" y="3702960"/>
              <a:ext cx="25560" cy="10184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5152680" y="3702960"/>
              <a:ext cx="28440" cy="10184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5152680" y="3699000"/>
              <a:ext cx="0" cy="10335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 flipV="1">
              <a:off x="4606200" y="3771720"/>
              <a:ext cx="109440" cy="225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21600" h="44404">
                  <a:moveTo>
                    <a:pt x="0" y="0"/>
                  </a:moveTo>
                  <a:arcTo wR="0" hR="0" stAng="16200000" swAng="-5400000"/>
                  <a:lnTo>
                    <a:pt x="0" y="44404"/>
                  </a:lnTo>
                  <a:arcTo wR="0" hR="0" stAng="10800000" swAng="-5400000"/>
                  <a:lnTo>
                    <a:pt x="21600" y="444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V="1">
              <a:off x="4617360" y="37843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V="1">
              <a:off x="4620600" y="392076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 flipV="1">
              <a:off x="4620600" y="3789360"/>
              <a:ext cx="35640" cy="1270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6464">
                  <a:moveTo>
                    <a:pt x="0" y="0"/>
                  </a:moveTo>
                  <a:arcTo wR="0" hR="0" stAng="16200000" swAng="-5400000"/>
                  <a:lnTo>
                    <a:pt x="0" y="76464"/>
                  </a:lnTo>
                  <a:arcTo wR="0" hR="0" stAng="10800000" swAng="-5400000"/>
                  <a:lnTo>
                    <a:pt x="21600" y="764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 flipV="1">
              <a:off x="4672440" y="379332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7670">
                  <a:moveTo>
                    <a:pt x="0" y="0"/>
                  </a:moveTo>
                  <a:arcTo wR="0" hR="0" stAng="16200000" swAng="-5400000"/>
                  <a:lnTo>
                    <a:pt x="0" y="97670"/>
                  </a:lnTo>
                  <a:arcTo wR="0" hR="0" stAng="10800000" swAng="-5400000"/>
                  <a:lnTo>
                    <a:pt x="21600" y="9767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 flipV="1">
              <a:off x="4628880" y="382428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 flipV="1">
              <a:off x="4628880" y="382428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 flipV="1">
              <a:off x="4656600" y="378936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V="1">
              <a:off x="4667760" y="379332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 flipV="1">
              <a:off x="4642200" y="392940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628880" y="3934080"/>
              <a:ext cx="684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628880" y="3956400"/>
              <a:ext cx="6840" cy="720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604400" y="3771720"/>
              <a:ext cx="117000" cy="22824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78" y="0"/>
                  </a:moveTo>
                  <a:lnTo>
                    <a:pt x="80" y="162"/>
                  </a:lnTo>
                  <a:lnTo>
                    <a:pt x="0" y="162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 flipV="1">
              <a:off x="4678200" y="393012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flipV="1">
              <a:off x="4748760" y="3777840"/>
              <a:ext cx="38088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V="1">
              <a:off x="4748760" y="3817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flipV="1">
              <a:off x="4748760" y="38592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 flipV="1">
              <a:off x="4748760" y="390564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V="1">
              <a:off x="4748760" y="3947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2" name=""/>
            <p:cNvGrpSpPr/>
            <p:nvPr/>
          </p:nvGrpSpPr>
          <p:grpSpPr>
            <a:xfrm>
              <a:off x="4768920" y="3780000"/>
              <a:ext cx="343440" cy="212760"/>
              <a:chOff x="4768920" y="3780000"/>
              <a:chExt cx="343440" cy="212760"/>
            </a:xfrm>
          </p:grpSpPr>
          <p:sp>
            <p:nvSpPr>
              <p:cNvPr id="3423" name=""/>
              <p:cNvSpPr/>
              <p:nvPr/>
            </p:nvSpPr>
            <p:spPr>
              <a:xfrm>
                <a:off x="47689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478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480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4820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4839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4856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4875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4894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49147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4930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494784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4966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498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002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021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038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05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074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093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1123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3" name=""/>
            <p:cNvSpPr/>
            <p:nvPr/>
          </p:nvSpPr>
          <p:spPr>
            <a:xfrm flipV="1">
              <a:off x="4748760" y="414216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V="1">
              <a:off x="4748760" y="4179960"/>
              <a:ext cx="3780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V="1">
              <a:off x="4748760" y="4222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V="1">
              <a:off x="4748760" y="426672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 flipV="1">
              <a:off x="4748760" y="431028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8" name=""/>
            <p:cNvGrpSpPr/>
            <p:nvPr/>
          </p:nvGrpSpPr>
          <p:grpSpPr>
            <a:xfrm>
              <a:off x="4768920" y="4142880"/>
              <a:ext cx="343440" cy="212760"/>
              <a:chOff x="4768920" y="4142880"/>
              <a:chExt cx="343440" cy="212760"/>
            </a:xfrm>
          </p:grpSpPr>
          <p:sp>
            <p:nvSpPr>
              <p:cNvPr id="3449" name=""/>
              <p:cNvSpPr/>
              <p:nvPr/>
            </p:nvSpPr>
            <p:spPr>
              <a:xfrm>
                <a:off x="47689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78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480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4820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839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856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875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894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49147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4930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494784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4966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498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002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021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5038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505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074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093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51123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9" name=""/>
            <p:cNvSpPr/>
            <p:nvPr/>
          </p:nvSpPr>
          <p:spPr>
            <a:xfrm flipV="1">
              <a:off x="4748760" y="448812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V="1">
              <a:off x="4748760" y="452592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V="1">
              <a:off x="4748760" y="4568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V="1">
              <a:off x="4748760" y="46144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4748760" y="465804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4" name=""/>
            <p:cNvGrpSpPr/>
            <p:nvPr/>
          </p:nvGrpSpPr>
          <p:grpSpPr>
            <a:xfrm>
              <a:off x="4768920" y="4488840"/>
              <a:ext cx="343440" cy="212760"/>
              <a:chOff x="4768920" y="4488840"/>
              <a:chExt cx="343440" cy="212760"/>
            </a:xfrm>
          </p:grpSpPr>
          <p:sp>
            <p:nvSpPr>
              <p:cNvPr id="3475" name=""/>
              <p:cNvSpPr/>
              <p:nvPr/>
            </p:nvSpPr>
            <p:spPr>
              <a:xfrm>
                <a:off x="47689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478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480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4820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4839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4856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4875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4894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49147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4930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494784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4966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498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002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021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5038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505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074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093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1123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5" name=""/>
            <p:cNvSpPr/>
            <p:nvPr/>
          </p:nvSpPr>
          <p:spPr>
            <a:xfrm flipV="1">
              <a:off x="4606200" y="403668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4604400" y="403668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 flipV="1">
              <a:off x="4606200" y="4079520"/>
              <a:ext cx="1396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4604400" y="4080240"/>
              <a:ext cx="145800" cy="3600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9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6396120" y="5334120"/>
            <a:ext cx="1230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1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3502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8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3529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9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4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3555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5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0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3581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1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5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6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3607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3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3634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4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9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3660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0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5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3686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6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0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4470840" y="4768920"/>
            <a:ext cx="17809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"/>
          <p:cNvSpPr/>
          <p:nvPr/>
        </p:nvSpPr>
        <p:spPr>
          <a:xfrm>
            <a:off x="2133720" y="5867280"/>
            <a:ext cx="3635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ftp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3" name=""/>
          <p:cNvGrpSpPr/>
          <p:nvPr/>
        </p:nvGrpSpPr>
        <p:grpSpPr>
          <a:xfrm>
            <a:off x="3357720" y="2486160"/>
            <a:ext cx="2342880" cy="1009440"/>
            <a:chOff x="3357720" y="2486160"/>
            <a:chExt cx="2342880" cy="1009440"/>
          </a:xfrm>
        </p:grpSpPr>
        <p:sp>
          <p:nvSpPr>
            <p:cNvPr id="3714" name=""/>
            <p:cNvSpPr/>
            <p:nvPr/>
          </p:nvSpPr>
          <p:spPr>
            <a:xfrm>
              <a:off x="3357720" y="2486160"/>
              <a:ext cx="2342880" cy="1009440"/>
            </a:xfrm>
            <a:custGeom>
              <a:avLst/>
              <a:gdLst/>
              <a:ahLst/>
              <a:rect l="l" t="t" r="r" b="b"/>
              <a:pathLst>
                <a:path w="1624" h="721">
                  <a:moveTo>
                    <a:pt x="1496" y="628"/>
                  </a:moveTo>
                  <a:lnTo>
                    <a:pt x="1507" y="628"/>
                  </a:lnTo>
                  <a:lnTo>
                    <a:pt x="1519" y="626"/>
                  </a:lnTo>
                  <a:lnTo>
                    <a:pt x="1530" y="625"/>
                  </a:lnTo>
                  <a:lnTo>
                    <a:pt x="1542" y="622"/>
                  </a:lnTo>
                  <a:lnTo>
                    <a:pt x="1552" y="619"/>
                  </a:lnTo>
                  <a:lnTo>
                    <a:pt x="1563" y="615"/>
                  </a:lnTo>
                  <a:lnTo>
                    <a:pt x="1571" y="611"/>
                  </a:lnTo>
                  <a:lnTo>
                    <a:pt x="1581" y="607"/>
                  </a:lnTo>
                  <a:lnTo>
                    <a:pt x="1588" y="603"/>
                  </a:lnTo>
                  <a:lnTo>
                    <a:pt x="1596" y="598"/>
                  </a:lnTo>
                  <a:lnTo>
                    <a:pt x="1602" y="592"/>
                  </a:lnTo>
                  <a:lnTo>
                    <a:pt x="1609" y="586"/>
                  </a:lnTo>
                  <a:lnTo>
                    <a:pt x="1613" y="580"/>
                  </a:lnTo>
                  <a:lnTo>
                    <a:pt x="1617" y="574"/>
                  </a:lnTo>
                  <a:lnTo>
                    <a:pt x="1620" y="568"/>
                  </a:lnTo>
                  <a:lnTo>
                    <a:pt x="1623" y="560"/>
                  </a:lnTo>
                  <a:lnTo>
                    <a:pt x="1623" y="68"/>
                  </a:lnTo>
                  <a:lnTo>
                    <a:pt x="1620" y="62"/>
                  </a:lnTo>
                  <a:lnTo>
                    <a:pt x="1617" y="56"/>
                  </a:lnTo>
                  <a:lnTo>
                    <a:pt x="1613" y="50"/>
                  </a:lnTo>
                  <a:lnTo>
                    <a:pt x="1609" y="44"/>
                  </a:lnTo>
                  <a:lnTo>
                    <a:pt x="1602" y="39"/>
                  </a:lnTo>
                  <a:lnTo>
                    <a:pt x="1596" y="34"/>
                  </a:lnTo>
                  <a:lnTo>
                    <a:pt x="1588" y="29"/>
                  </a:lnTo>
                  <a:lnTo>
                    <a:pt x="1581" y="23"/>
                  </a:lnTo>
                  <a:lnTo>
                    <a:pt x="1571" y="19"/>
                  </a:lnTo>
                  <a:lnTo>
                    <a:pt x="1563" y="15"/>
                  </a:lnTo>
                  <a:lnTo>
                    <a:pt x="1552" y="12"/>
                  </a:lnTo>
                  <a:lnTo>
                    <a:pt x="1542" y="8"/>
                  </a:lnTo>
                  <a:lnTo>
                    <a:pt x="1530" y="6"/>
                  </a:lnTo>
                  <a:lnTo>
                    <a:pt x="1519" y="3"/>
                  </a:lnTo>
                  <a:lnTo>
                    <a:pt x="1507" y="2"/>
                  </a:lnTo>
                  <a:lnTo>
                    <a:pt x="1496" y="0"/>
                  </a:lnTo>
                  <a:lnTo>
                    <a:pt x="127" y="0"/>
                  </a:lnTo>
                  <a:lnTo>
                    <a:pt x="114" y="2"/>
                  </a:lnTo>
                  <a:lnTo>
                    <a:pt x="102" y="3"/>
                  </a:lnTo>
                  <a:lnTo>
                    <a:pt x="91" y="6"/>
                  </a:lnTo>
                  <a:lnTo>
                    <a:pt x="80" y="8"/>
                  </a:lnTo>
                  <a:lnTo>
                    <a:pt x="69" y="12"/>
                  </a:lnTo>
                  <a:lnTo>
                    <a:pt x="59" y="15"/>
                  </a:lnTo>
                  <a:lnTo>
                    <a:pt x="49" y="19"/>
                  </a:lnTo>
                  <a:lnTo>
                    <a:pt x="41" y="23"/>
                  </a:lnTo>
                  <a:lnTo>
                    <a:pt x="32" y="29"/>
                  </a:lnTo>
                  <a:lnTo>
                    <a:pt x="25" y="34"/>
                  </a:lnTo>
                  <a:lnTo>
                    <a:pt x="18" y="39"/>
                  </a:lnTo>
                  <a:lnTo>
                    <a:pt x="13" y="44"/>
                  </a:lnTo>
                  <a:lnTo>
                    <a:pt x="7" y="50"/>
                  </a:lnTo>
                  <a:lnTo>
                    <a:pt x="4" y="56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0" y="560"/>
                  </a:lnTo>
                  <a:lnTo>
                    <a:pt x="1" y="568"/>
                  </a:lnTo>
                  <a:lnTo>
                    <a:pt x="4" y="574"/>
                  </a:lnTo>
                  <a:lnTo>
                    <a:pt x="7" y="580"/>
                  </a:lnTo>
                  <a:lnTo>
                    <a:pt x="13" y="586"/>
                  </a:lnTo>
                  <a:lnTo>
                    <a:pt x="18" y="592"/>
                  </a:lnTo>
                  <a:lnTo>
                    <a:pt x="25" y="598"/>
                  </a:lnTo>
                  <a:lnTo>
                    <a:pt x="32" y="603"/>
                  </a:lnTo>
                  <a:lnTo>
                    <a:pt x="41" y="607"/>
                  </a:lnTo>
                  <a:lnTo>
                    <a:pt x="49" y="611"/>
                  </a:lnTo>
                  <a:lnTo>
                    <a:pt x="59" y="615"/>
                  </a:lnTo>
                  <a:lnTo>
                    <a:pt x="69" y="619"/>
                  </a:lnTo>
                  <a:lnTo>
                    <a:pt x="80" y="622"/>
                  </a:lnTo>
                  <a:lnTo>
                    <a:pt x="91" y="625"/>
                  </a:lnTo>
                  <a:lnTo>
                    <a:pt x="102" y="626"/>
                  </a:lnTo>
                  <a:lnTo>
                    <a:pt x="114" y="628"/>
                  </a:lnTo>
                  <a:lnTo>
                    <a:pt x="127" y="628"/>
                  </a:lnTo>
                  <a:lnTo>
                    <a:pt x="245" y="628"/>
                  </a:lnTo>
                  <a:lnTo>
                    <a:pt x="131" y="720"/>
                  </a:lnTo>
                  <a:lnTo>
                    <a:pt x="407" y="628"/>
                  </a:lnTo>
                  <a:lnTo>
                    <a:pt x="1496" y="628"/>
                  </a:lnTo>
                  <a:lnTo>
                    <a:pt x="1496" y="628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602880" y="2584080"/>
              <a:ext cx="19980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at’s the IP address of ftp.nominum.com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6" name=""/>
          <p:cNvSpPr/>
          <p:nvPr/>
        </p:nvSpPr>
        <p:spPr>
          <a:xfrm>
            <a:off x="3276720" y="3541680"/>
            <a:ext cx="1163520" cy="317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ution Process (Cach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cached an NS record indic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s1.sanj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minu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me server, so it asks i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tp.nominum.com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9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3720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3747" name="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6819120" y="4123080"/>
              <a:ext cx="557640" cy="101556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6784560" y="4119120"/>
              <a:ext cx="25560" cy="10166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381440" y="4119120"/>
              <a:ext cx="28440" cy="10166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6834960" y="4186080"/>
              <a:ext cx="117000" cy="22932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3" name="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3774" name="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4" name="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9" name="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3800" name="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0" name="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5" name="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3826" name="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6" name="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6834960" y="445176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6834960" y="449532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0" name=""/>
          <p:cNvGrpSpPr/>
          <p:nvPr/>
        </p:nvGrpSpPr>
        <p:grpSpPr>
          <a:xfrm>
            <a:off x="4552920" y="3699000"/>
            <a:ext cx="630360" cy="1075680"/>
            <a:chOff x="4552920" y="3699000"/>
            <a:chExt cx="630360" cy="1075680"/>
          </a:xfrm>
        </p:grpSpPr>
        <p:sp>
          <p:nvSpPr>
            <p:cNvPr id="3851" name=""/>
            <p:cNvSpPr/>
            <p:nvPr/>
          </p:nvSpPr>
          <p:spPr>
            <a:xfrm flipV="1">
              <a:off x="4552920" y="3699000"/>
              <a:ext cx="630360" cy="102816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360 h 1028160"/>
                <a:gd name="textAreaBottom" fmla="*/ 1028880 h 1028160"/>
              </a:gdLst>
              <a:ahLst/>
              <a:rect l="textAreaLeft" t="textAreaTop" r="textAreaRight" b="textAreaBottom"/>
              <a:pathLst>
                <a:path w="21600" h="35223">
                  <a:moveTo>
                    <a:pt x="0" y="0"/>
                  </a:moveTo>
                  <a:arcTo wR="0" hR="0" stAng="16200000" swAng="-5400000"/>
                  <a:lnTo>
                    <a:pt x="0" y="35223"/>
                  </a:lnTo>
                  <a:arcTo wR="0" hR="0" stAng="10800000" swAng="-5400000"/>
                  <a:lnTo>
                    <a:pt x="21600" y="35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V="1">
              <a:off x="4565520" y="4727160"/>
              <a:ext cx="61020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4584600" y="3699000"/>
              <a:ext cx="0" cy="10281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4588560" y="3707280"/>
              <a:ext cx="558000" cy="101664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4554000" y="3702960"/>
              <a:ext cx="25560" cy="10184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5152680" y="3702960"/>
              <a:ext cx="28440" cy="10184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5152680" y="3699000"/>
              <a:ext cx="0" cy="10335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 flipV="1">
              <a:off x="4606200" y="3771720"/>
              <a:ext cx="109440" cy="225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21600" h="44404">
                  <a:moveTo>
                    <a:pt x="0" y="0"/>
                  </a:moveTo>
                  <a:arcTo wR="0" hR="0" stAng="16200000" swAng="-5400000"/>
                  <a:lnTo>
                    <a:pt x="0" y="44404"/>
                  </a:lnTo>
                  <a:arcTo wR="0" hR="0" stAng="10800000" swAng="-5400000"/>
                  <a:lnTo>
                    <a:pt x="21600" y="444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 flipV="1">
              <a:off x="4617360" y="37843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 flipV="1">
              <a:off x="4620600" y="392076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 flipV="1">
              <a:off x="4620600" y="3789360"/>
              <a:ext cx="35640" cy="1270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6464">
                  <a:moveTo>
                    <a:pt x="0" y="0"/>
                  </a:moveTo>
                  <a:arcTo wR="0" hR="0" stAng="16200000" swAng="-5400000"/>
                  <a:lnTo>
                    <a:pt x="0" y="76464"/>
                  </a:lnTo>
                  <a:arcTo wR="0" hR="0" stAng="10800000" swAng="-5400000"/>
                  <a:lnTo>
                    <a:pt x="21600" y="764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 flipV="1">
              <a:off x="4672440" y="379332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7670">
                  <a:moveTo>
                    <a:pt x="0" y="0"/>
                  </a:moveTo>
                  <a:arcTo wR="0" hR="0" stAng="16200000" swAng="-5400000"/>
                  <a:lnTo>
                    <a:pt x="0" y="97670"/>
                  </a:lnTo>
                  <a:arcTo wR="0" hR="0" stAng="10800000" swAng="-5400000"/>
                  <a:lnTo>
                    <a:pt x="21600" y="9767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 flipV="1">
              <a:off x="4628880" y="382428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 flipV="1">
              <a:off x="4628880" y="382428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 flipV="1">
              <a:off x="4656600" y="378936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 flipV="1">
              <a:off x="4667760" y="379332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 flipV="1">
              <a:off x="4642200" y="392940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4628880" y="3934080"/>
              <a:ext cx="684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4628880" y="3956400"/>
              <a:ext cx="6840" cy="720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4604400" y="3771720"/>
              <a:ext cx="117000" cy="22824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78" y="0"/>
                  </a:moveTo>
                  <a:lnTo>
                    <a:pt x="80" y="162"/>
                  </a:lnTo>
                  <a:lnTo>
                    <a:pt x="0" y="162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 flipV="1">
              <a:off x="4678200" y="393012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 flipV="1">
              <a:off x="4748760" y="3777840"/>
              <a:ext cx="38088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 flipV="1">
              <a:off x="4748760" y="3817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 flipV="1">
              <a:off x="4748760" y="38592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 flipV="1">
              <a:off x="4748760" y="390564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V="1">
              <a:off x="4748760" y="3947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7" name=""/>
            <p:cNvGrpSpPr/>
            <p:nvPr/>
          </p:nvGrpSpPr>
          <p:grpSpPr>
            <a:xfrm>
              <a:off x="4768920" y="3780000"/>
              <a:ext cx="343440" cy="212760"/>
              <a:chOff x="4768920" y="3780000"/>
              <a:chExt cx="343440" cy="212760"/>
            </a:xfrm>
          </p:grpSpPr>
          <p:sp>
            <p:nvSpPr>
              <p:cNvPr id="3878" name=""/>
              <p:cNvSpPr/>
              <p:nvPr/>
            </p:nvSpPr>
            <p:spPr>
              <a:xfrm>
                <a:off x="47689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78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80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820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4839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856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4875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894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9147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930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494784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4966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498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5002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5021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5038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505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5074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5093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51123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8" name=""/>
            <p:cNvSpPr/>
            <p:nvPr/>
          </p:nvSpPr>
          <p:spPr>
            <a:xfrm flipV="1">
              <a:off x="4748760" y="414216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 flipV="1">
              <a:off x="4748760" y="4179960"/>
              <a:ext cx="3780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 flipV="1">
              <a:off x="4748760" y="4222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V="1">
              <a:off x="4748760" y="426672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V="1">
              <a:off x="4748760" y="431028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3" name=""/>
            <p:cNvGrpSpPr/>
            <p:nvPr/>
          </p:nvGrpSpPr>
          <p:grpSpPr>
            <a:xfrm>
              <a:off x="4768920" y="4142880"/>
              <a:ext cx="343440" cy="212760"/>
              <a:chOff x="4768920" y="4142880"/>
              <a:chExt cx="343440" cy="212760"/>
            </a:xfrm>
          </p:grpSpPr>
          <p:sp>
            <p:nvSpPr>
              <p:cNvPr id="3904" name=""/>
              <p:cNvSpPr/>
              <p:nvPr/>
            </p:nvSpPr>
            <p:spPr>
              <a:xfrm>
                <a:off x="47689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478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480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20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4839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4856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75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894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9147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930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494784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4966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498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5002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5021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5038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505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5074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5093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51123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4" name=""/>
            <p:cNvSpPr/>
            <p:nvPr/>
          </p:nvSpPr>
          <p:spPr>
            <a:xfrm flipV="1">
              <a:off x="4748760" y="448812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 flipV="1">
              <a:off x="4748760" y="452592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 flipV="1">
              <a:off x="4748760" y="4568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 flipV="1">
              <a:off x="4748760" y="46144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 flipV="1">
              <a:off x="4748760" y="465804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9" name=""/>
            <p:cNvGrpSpPr/>
            <p:nvPr/>
          </p:nvGrpSpPr>
          <p:grpSpPr>
            <a:xfrm>
              <a:off x="4768920" y="4488840"/>
              <a:ext cx="343440" cy="212760"/>
              <a:chOff x="4768920" y="4488840"/>
              <a:chExt cx="343440" cy="212760"/>
            </a:xfrm>
          </p:grpSpPr>
          <p:sp>
            <p:nvSpPr>
              <p:cNvPr id="3930" name=""/>
              <p:cNvSpPr/>
              <p:nvPr/>
            </p:nvSpPr>
            <p:spPr>
              <a:xfrm>
                <a:off x="47689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478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480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4820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4839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4856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4875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4894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49147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4930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494784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4966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498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5002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5021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5038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505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5074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5093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51123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0" name=""/>
            <p:cNvSpPr/>
            <p:nvPr/>
          </p:nvSpPr>
          <p:spPr>
            <a:xfrm flipV="1">
              <a:off x="4606200" y="403668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4604400" y="403668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 flipV="1">
              <a:off x="4606200" y="4079520"/>
              <a:ext cx="1396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4604400" y="4080240"/>
              <a:ext cx="145800" cy="3600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4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6396120" y="5334120"/>
            <a:ext cx="1230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6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3957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3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3984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4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9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4010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0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5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4036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6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0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1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4062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8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4089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9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4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4115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5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0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4141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1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5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3991320" y="4768920"/>
            <a:ext cx="17809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"/>
          <p:cNvSpPr/>
          <p:nvPr/>
        </p:nvSpPr>
        <p:spPr>
          <a:xfrm>
            <a:off x="2133720" y="5867280"/>
            <a:ext cx="3635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ftp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3408480" y="3591000"/>
            <a:ext cx="1036440" cy="2728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9" name=""/>
          <p:cNvGrpSpPr/>
          <p:nvPr/>
        </p:nvGrpSpPr>
        <p:grpSpPr>
          <a:xfrm>
            <a:off x="2077920" y="4316400"/>
            <a:ext cx="2154240" cy="1011240"/>
            <a:chOff x="2077920" y="4316400"/>
            <a:chExt cx="2154240" cy="1011240"/>
          </a:xfrm>
        </p:grpSpPr>
        <p:sp>
          <p:nvSpPr>
            <p:cNvPr id="4170" name=""/>
            <p:cNvSpPr/>
            <p:nvPr/>
          </p:nvSpPr>
          <p:spPr>
            <a:xfrm>
              <a:off x="2077920" y="4316400"/>
              <a:ext cx="2154240" cy="1011240"/>
            </a:xfrm>
            <a:custGeom>
              <a:avLst/>
              <a:gdLst/>
              <a:ahLst/>
              <a:rect l="l" t="t" r="r" b="b"/>
              <a:pathLst>
                <a:path w="1493" h="721">
                  <a:moveTo>
                    <a:pt x="116" y="92"/>
                  </a:moveTo>
                  <a:lnTo>
                    <a:pt x="104" y="94"/>
                  </a:lnTo>
                  <a:lnTo>
                    <a:pt x="94" y="95"/>
                  </a:lnTo>
                  <a:lnTo>
                    <a:pt x="82" y="98"/>
                  </a:lnTo>
                  <a:lnTo>
                    <a:pt x="72" y="100"/>
                  </a:lnTo>
                  <a:lnTo>
                    <a:pt x="63" y="104"/>
                  </a:lnTo>
                  <a:lnTo>
                    <a:pt x="53" y="107"/>
                  </a:lnTo>
                  <a:lnTo>
                    <a:pt x="45" y="111"/>
                  </a:lnTo>
                  <a:lnTo>
                    <a:pt x="37" y="115"/>
                  </a:lnTo>
                  <a:lnTo>
                    <a:pt x="29" y="121"/>
                  </a:lnTo>
                  <a:lnTo>
                    <a:pt x="22" y="126"/>
                  </a:lnTo>
                  <a:lnTo>
                    <a:pt x="16" y="131"/>
                  </a:lnTo>
                  <a:lnTo>
                    <a:pt x="11" y="136"/>
                  </a:lnTo>
                  <a:lnTo>
                    <a:pt x="6" y="142"/>
                  </a:lnTo>
                  <a:lnTo>
                    <a:pt x="3" y="148"/>
                  </a:lnTo>
                  <a:lnTo>
                    <a:pt x="1" y="154"/>
                  </a:lnTo>
                  <a:lnTo>
                    <a:pt x="0" y="160"/>
                  </a:lnTo>
                  <a:lnTo>
                    <a:pt x="0" y="652"/>
                  </a:lnTo>
                  <a:lnTo>
                    <a:pt x="1" y="660"/>
                  </a:lnTo>
                  <a:lnTo>
                    <a:pt x="3" y="666"/>
                  </a:lnTo>
                  <a:lnTo>
                    <a:pt x="6" y="672"/>
                  </a:lnTo>
                  <a:lnTo>
                    <a:pt x="11" y="677"/>
                  </a:lnTo>
                  <a:lnTo>
                    <a:pt x="16" y="683"/>
                  </a:lnTo>
                  <a:lnTo>
                    <a:pt x="22" y="689"/>
                  </a:lnTo>
                  <a:lnTo>
                    <a:pt x="29" y="695"/>
                  </a:lnTo>
                  <a:lnTo>
                    <a:pt x="37" y="699"/>
                  </a:lnTo>
                  <a:lnTo>
                    <a:pt x="45" y="703"/>
                  </a:lnTo>
                  <a:lnTo>
                    <a:pt x="53" y="707"/>
                  </a:lnTo>
                  <a:lnTo>
                    <a:pt x="63" y="711"/>
                  </a:lnTo>
                  <a:lnTo>
                    <a:pt x="72" y="714"/>
                  </a:lnTo>
                  <a:lnTo>
                    <a:pt x="82" y="716"/>
                  </a:lnTo>
                  <a:lnTo>
                    <a:pt x="94" y="718"/>
                  </a:lnTo>
                  <a:lnTo>
                    <a:pt x="104" y="720"/>
                  </a:lnTo>
                  <a:lnTo>
                    <a:pt x="116" y="720"/>
                  </a:lnTo>
                  <a:lnTo>
                    <a:pt x="1375" y="720"/>
                  </a:lnTo>
                  <a:lnTo>
                    <a:pt x="1385" y="720"/>
                  </a:lnTo>
                  <a:lnTo>
                    <a:pt x="1396" y="718"/>
                  </a:lnTo>
                  <a:lnTo>
                    <a:pt x="1406" y="716"/>
                  </a:lnTo>
                  <a:lnTo>
                    <a:pt x="1417" y="714"/>
                  </a:lnTo>
                  <a:lnTo>
                    <a:pt x="1426" y="711"/>
                  </a:lnTo>
                  <a:lnTo>
                    <a:pt x="1436" y="707"/>
                  </a:lnTo>
                  <a:lnTo>
                    <a:pt x="1444" y="703"/>
                  </a:lnTo>
                  <a:lnTo>
                    <a:pt x="1453" y="699"/>
                  </a:lnTo>
                  <a:lnTo>
                    <a:pt x="1460" y="695"/>
                  </a:lnTo>
                  <a:lnTo>
                    <a:pt x="1467" y="689"/>
                  </a:lnTo>
                  <a:lnTo>
                    <a:pt x="1472" y="683"/>
                  </a:lnTo>
                  <a:lnTo>
                    <a:pt x="1478" y="677"/>
                  </a:lnTo>
                  <a:lnTo>
                    <a:pt x="1482" y="672"/>
                  </a:lnTo>
                  <a:lnTo>
                    <a:pt x="1486" y="666"/>
                  </a:lnTo>
                  <a:lnTo>
                    <a:pt x="1488" y="660"/>
                  </a:lnTo>
                  <a:lnTo>
                    <a:pt x="1492" y="652"/>
                  </a:lnTo>
                  <a:lnTo>
                    <a:pt x="1492" y="160"/>
                  </a:lnTo>
                  <a:lnTo>
                    <a:pt x="1488" y="154"/>
                  </a:lnTo>
                  <a:lnTo>
                    <a:pt x="1486" y="148"/>
                  </a:lnTo>
                  <a:lnTo>
                    <a:pt x="1482" y="142"/>
                  </a:lnTo>
                  <a:lnTo>
                    <a:pt x="1478" y="136"/>
                  </a:lnTo>
                  <a:lnTo>
                    <a:pt x="1472" y="131"/>
                  </a:lnTo>
                  <a:lnTo>
                    <a:pt x="1467" y="126"/>
                  </a:lnTo>
                  <a:lnTo>
                    <a:pt x="1460" y="121"/>
                  </a:lnTo>
                  <a:lnTo>
                    <a:pt x="1453" y="115"/>
                  </a:lnTo>
                  <a:lnTo>
                    <a:pt x="1444" y="111"/>
                  </a:lnTo>
                  <a:lnTo>
                    <a:pt x="1436" y="107"/>
                  </a:lnTo>
                  <a:lnTo>
                    <a:pt x="1426" y="104"/>
                  </a:lnTo>
                  <a:lnTo>
                    <a:pt x="1417" y="100"/>
                  </a:lnTo>
                  <a:lnTo>
                    <a:pt x="1406" y="98"/>
                  </a:lnTo>
                  <a:lnTo>
                    <a:pt x="1396" y="95"/>
                  </a:lnTo>
                  <a:lnTo>
                    <a:pt x="1385" y="94"/>
                  </a:lnTo>
                  <a:lnTo>
                    <a:pt x="1375" y="92"/>
                  </a:lnTo>
                  <a:lnTo>
                    <a:pt x="1266" y="92"/>
                  </a:lnTo>
                  <a:lnTo>
                    <a:pt x="1371" y="0"/>
                  </a:lnTo>
                  <a:lnTo>
                    <a:pt x="1117" y="92"/>
                  </a:lnTo>
                  <a:lnTo>
                    <a:pt x="116" y="92"/>
                  </a:lnTo>
                  <a:lnTo>
                    <a:pt x="116" y="92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2253600" y="4516560"/>
              <a:ext cx="183672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the IP address for ftp.nominum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ution Process (Cach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minum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 ser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s1.sanj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pond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tp.nominum.com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4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4175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1" name="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4202" name="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6819120" y="4123080"/>
              <a:ext cx="557640" cy="101556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6784560" y="4119120"/>
              <a:ext cx="25560" cy="10166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7381440" y="4119120"/>
              <a:ext cx="28440" cy="10166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6834960" y="4186080"/>
              <a:ext cx="117000" cy="22932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8" name="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4229" name="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9" name="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4" name="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4255" name="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5" name="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0" name="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4281" name="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1" name="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6834960" y="445176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6834960" y="449532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5" name=""/>
          <p:cNvGrpSpPr/>
          <p:nvPr/>
        </p:nvGrpSpPr>
        <p:grpSpPr>
          <a:xfrm>
            <a:off x="4552920" y="3699000"/>
            <a:ext cx="630360" cy="1075680"/>
            <a:chOff x="4552920" y="3699000"/>
            <a:chExt cx="630360" cy="1075680"/>
          </a:xfrm>
        </p:grpSpPr>
        <p:sp>
          <p:nvSpPr>
            <p:cNvPr id="4306" name=""/>
            <p:cNvSpPr/>
            <p:nvPr/>
          </p:nvSpPr>
          <p:spPr>
            <a:xfrm flipV="1">
              <a:off x="4552920" y="3699000"/>
              <a:ext cx="630360" cy="102816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360 h 1028160"/>
                <a:gd name="textAreaBottom" fmla="*/ 1028880 h 1028160"/>
              </a:gdLst>
              <a:ahLst/>
              <a:rect l="textAreaLeft" t="textAreaTop" r="textAreaRight" b="textAreaBottom"/>
              <a:pathLst>
                <a:path w="21600" h="35223">
                  <a:moveTo>
                    <a:pt x="0" y="0"/>
                  </a:moveTo>
                  <a:arcTo wR="0" hR="0" stAng="16200000" swAng="-5400000"/>
                  <a:lnTo>
                    <a:pt x="0" y="35223"/>
                  </a:lnTo>
                  <a:arcTo wR="0" hR="0" stAng="10800000" swAng="-5400000"/>
                  <a:lnTo>
                    <a:pt x="21600" y="35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 flipV="1">
              <a:off x="4565520" y="4727160"/>
              <a:ext cx="61020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4584600" y="3699000"/>
              <a:ext cx="0" cy="10281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4588560" y="3707280"/>
              <a:ext cx="558000" cy="101664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4554000" y="3702960"/>
              <a:ext cx="25560" cy="10184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5152680" y="3702960"/>
              <a:ext cx="28440" cy="10184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5152680" y="3699000"/>
              <a:ext cx="0" cy="10335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 flipV="1">
              <a:off x="4606200" y="3771720"/>
              <a:ext cx="109440" cy="225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21600" h="44404">
                  <a:moveTo>
                    <a:pt x="0" y="0"/>
                  </a:moveTo>
                  <a:arcTo wR="0" hR="0" stAng="16200000" swAng="-5400000"/>
                  <a:lnTo>
                    <a:pt x="0" y="44404"/>
                  </a:lnTo>
                  <a:arcTo wR="0" hR="0" stAng="10800000" swAng="-5400000"/>
                  <a:lnTo>
                    <a:pt x="21600" y="444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4617360" y="37843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V="1">
              <a:off x="4620600" y="392076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V="1">
              <a:off x="4620600" y="3789360"/>
              <a:ext cx="35640" cy="1270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6464">
                  <a:moveTo>
                    <a:pt x="0" y="0"/>
                  </a:moveTo>
                  <a:arcTo wR="0" hR="0" stAng="16200000" swAng="-5400000"/>
                  <a:lnTo>
                    <a:pt x="0" y="76464"/>
                  </a:lnTo>
                  <a:arcTo wR="0" hR="0" stAng="10800000" swAng="-5400000"/>
                  <a:lnTo>
                    <a:pt x="21600" y="764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V="1">
              <a:off x="4672440" y="379332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7670">
                  <a:moveTo>
                    <a:pt x="0" y="0"/>
                  </a:moveTo>
                  <a:arcTo wR="0" hR="0" stAng="16200000" swAng="-5400000"/>
                  <a:lnTo>
                    <a:pt x="0" y="97670"/>
                  </a:lnTo>
                  <a:arcTo wR="0" hR="0" stAng="10800000" swAng="-5400000"/>
                  <a:lnTo>
                    <a:pt x="21600" y="9767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V="1">
              <a:off x="4628880" y="382428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V="1">
              <a:off x="4628880" y="382428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V="1">
              <a:off x="4656600" y="378936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V="1">
              <a:off x="4667760" y="379332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 flipV="1">
              <a:off x="4642200" y="392940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4628880" y="3934080"/>
              <a:ext cx="684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4628880" y="3956400"/>
              <a:ext cx="6840" cy="720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4604400" y="3771720"/>
              <a:ext cx="117000" cy="22824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78" y="0"/>
                  </a:moveTo>
                  <a:lnTo>
                    <a:pt x="80" y="162"/>
                  </a:lnTo>
                  <a:lnTo>
                    <a:pt x="0" y="162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 flipV="1">
              <a:off x="4678200" y="393012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 flipV="1">
              <a:off x="4748760" y="3777840"/>
              <a:ext cx="38088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 flipV="1">
              <a:off x="4748760" y="3817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 flipV="1">
              <a:off x="4748760" y="38592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V="1">
              <a:off x="4748760" y="390564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V="1">
              <a:off x="4748760" y="3947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2" name=""/>
            <p:cNvGrpSpPr/>
            <p:nvPr/>
          </p:nvGrpSpPr>
          <p:grpSpPr>
            <a:xfrm>
              <a:off x="4768920" y="3780000"/>
              <a:ext cx="343440" cy="212760"/>
              <a:chOff x="4768920" y="3780000"/>
              <a:chExt cx="343440" cy="212760"/>
            </a:xfrm>
          </p:grpSpPr>
          <p:sp>
            <p:nvSpPr>
              <p:cNvPr id="4333" name=""/>
              <p:cNvSpPr/>
              <p:nvPr/>
            </p:nvSpPr>
            <p:spPr>
              <a:xfrm>
                <a:off x="47689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78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80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820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839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856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4875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4894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49147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4930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494784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4966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498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5002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5021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5038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505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5074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5093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51123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3" name=""/>
            <p:cNvSpPr/>
            <p:nvPr/>
          </p:nvSpPr>
          <p:spPr>
            <a:xfrm flipV="1">
              <a:off x="4748760" y="414216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 flipV="1">
              <a:off x="4748760" y="4179960"/>
              <a:ext cx="3780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 flipV="1">
              <a:off x="4748760" y="4222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 flipV="1">
              <a:off x="4748760" y="426672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V="1">
              <a:off x="4748760" y="431028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8" name=""/>
            <p:cNvGrpSpPr/>
            <p:nvPr/>
          </p:nvGrpSpPr>
          <p:grpSpPr>
            <a:xfrm>
              <a:off x="4768920" y="4142880"/>
              <a:ext cx="343440" cy="212760"/>
              <a:chOff x="4768920" y="4142880"/>
              <a:chExt cx="343440" cy="212760"/>
            </a:xfrm>
          </p:grpSpPr>
          <p:sp>
            <p:nvSpPr>
              <p:cNvPr id="4359" name=""/>
              <p:cNvSpPr/>
              <p:nvPr/>
            </p:nvSpPr>
            <p:spPr>
              <a:xfrm>
                <a:off x="47689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478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480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4820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4839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4856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4875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4894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49147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4930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494784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4966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498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5002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5021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5038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505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5074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5093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51123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9" name=""/>
            <p:cNvSpPr/>
            <p:nvPr/>
          </p:nvSpPr>
          <p:spPr>
            <a:xfrm flipV="1">
              <a:off x="4748760" y="448812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 flipV="1">
              <a:off x="4748760" y="452592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 flipV="1">
              <a:off x="4748760" y="4568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 flipV="1">
              <a:off x="4748760" y="46144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 flipV="1">
              <a:off x="4748760" y="465804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4" name=""/>
            <p:cNvGrpSpPr/>
            <p:nvPr/>
          </p:nvGrpSpPr>
          <p:grpSpPr>
            <a:xfrm>
              <a:off x="4768920" y="4488840"/>
              <a:ext cx="343440" cy="212760"/>
              <a:chOff x="4768920" y="4488840"/>
              <a:chExt cx="343440" cy="212760"/>
            </a:xfrm>
          </p:grpSpPr>
          <p:sp>
            <p:nvSpPr>
              <p:cNvPr id="4385" name=""/>
              <p:cNvSpPr/>
              <p:nvPr/>
            </p:nvSpPr>
            <p:spPr>
              <a:xfrm>
                <a:off x="47689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478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480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4820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4839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4856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4875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4894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49147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4930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494784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4966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498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002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021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5038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505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074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5093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51123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5" name=""/>
            <p:cNvSpPr/>
            <p:nvPr/>
          </p:nvSpPr>
          <p:spPr>
            <a:xfrm flipV="1">
              <a:off x="4606200" y="403668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4604400" y="403668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 flipV="1">
              <a:off x="4606200" y="4079520"/>
              <a:ext cx="1396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4604400" y="4080240"/>
              <a:ext cx="145800" cy="3600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9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6396120" y="5334120"/>
            <a:ext cx="1230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1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4412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8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4439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9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4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4465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5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0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4491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1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5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6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4517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3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4544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4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9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4570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0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5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4596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6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0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>
            <a:off x="4318200" y="4768920"/>
            <a:ext cx="17809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"/>
          <p:cNvSpPr/>
          <p:nvPr/>
        </p:nvSpPr>
        <p:spPr>
          <a:xfrm>
            <a:off x="2133720" y="5867280"/>
            <a:ext cx="36352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ing ftp.nominum.co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3" name=""/>
          <p:cNvGrpSpPr/>
          <p:nvPr/>
        </p:nvGrpSpPr>
        <p:grpSpPr>
          <a:xfrm>
            <a:off x="3373560" y="2486160"/>
            <a:ext cx="2154240" cy="1009440"/>
            <a:chOff x="3373560" y="2486160"/>
            <a:chExt cx="2154240" cy="1009440"/>
          </a:xfrm>
        </p:grpSpPr>
        <p:sp>
          <p:nvSpPr>
            <p:cNvPr id="4624" name=""/>
            <p:cNvSpPr/>
            <p:nvPr/>
          </p:nvSpPr>
          <p:spPr>
            <a:xfrm>
              <a:off x="3373560" y="2486160"/>
              <a:ext cx="2154240" cy="1009440"/>
            </a:xfrm>
            <a:custGeom>
              <a:avLst/>
              <a:gdLst/>
              <a:ahLst/>
              <a:rect l="l" t="t" r="r" b="b"/>
              <a:pathLst>
                <a:path w="1492" h="721">
                  <a:moveTo>
                    <a:pt x="1375" y="628"/>
                  </a:moveTo>
                  <a:lnTo>
                    <a:pt x="1385" y="628"/>
                  </a:lnTo>
                  <a:lnTo>
                    <a:pt x="1397" y="627"/>
                  </a:lnTo>
                  <a:lnTo>
                    <a:pt x="1407" y="625"/>
                  </a:lnTo>
                  <a:lnTo>
                    <a:pt x="1418" y="622"/>
                  </a:lnTo>
                  <a:lnTo>
                    <a:pt x="1427" y="619"/>
                  </a:lnTo>
                  <a:lnTo>
                    <a:pt x="1437" y="615"/>
                  </a:lnTo>
                  <a:lnTo>
                    <a:pt x="1444" y="612"/>
                  </a:lnTo>
                  <a:lnTo>
                    <a:pt x="1454" y="607"/>
                  </a:lnTo>
                  <a:lnTo>
                    <a:pt x="1460" y="603"/>
                  </a:lnTo>
                  <a:lnTo>
                    <a:pt x="1468" y="598"/>
                  </a:lnTo>
                  <a:lnTo>
                    <a:pt x="1473" y="592"/>
                  </a:lnTo>
                  <a:lnTo>
                    <a:pt x="1479" y="586"/>
                  </a:lnTo>
                  <a:lnTo>
                    <a:pt x="1483" y="580"/>
                  </a:lnTo>
                  <a:lnTo>
                    <a:pt x="1487" y="574"/>
                  </a:lnTo>
                  <a:lnTo>
                    <a:pt x="1489" y="568"/>
                  </a:lnTo>
                  <a:lnTo>
                    <a:pt x="1491" y="560"/>
                  </a:lnTo>
                  <a:lnTo>
                    <a:pt x="1491" y="68"/>
                  </a:lnTo>
                  <a:lnTo>
                    <a:pt x="1489" y="62"/>
                  </a:lnTo>
                  <a:lnTo>
                    <a:pt x="1487" y="56"/>
                  </a:lnTo>
                  <a:lnTo>
                    <a:pt x="1483" y="50"/>
                  </a:lnTo>
                  <a:lnTo>
                    <a:pt x="1479" y="44"/>
                  </a:lnTo>
                  <a:lnTo>
                    <a:pt x="1473" y="40"/>
                  </a:lnTo>
                  <a:lnTo>
                    <a:pt x="1468" y="34"/>
                  </a:lnTo>
                  <a:lnTo>
                    <a:pt x="1460" y="29"/>
                  </a:lnTo>
                  <a:lnTo>
                    <a:pt x="1454" y="23"/>
                  </a:lnTo>
                  <a:lnTo>
                    <a:pt x="1444" y="19"/>
                  </a:lnTo>
                  <a:lnTo>
                    <a:pt x="1437" y="15"/>
                  </a:lnTo>
                  <a:lnTo>
                    <a:pt x="1427" y="12"/>
                  </a:lnTo>
                  <a:lnTo>
                    <a:pt x="1418" y="8"/>
                  </a:lnTo>
                  <a:lnTo>
                    <a:pt x="1407" y="6"/>
                  </a:lnTo>
                  <a:lnTo>
                    <a:pt x="1397" y="3"/>
                  </a:lnTo>
                  <a:lnTo>
                    <a:pt x="1385" y="2"/>
                  </a:lnTo>
                  <a:lnTo>
                    <a:pt x="1375" y="0"/>
                  </a:lnTo>
                  <a:lnTo>
                    <a:pt x="116" y="0"/>
                  </a:lnTo>
                  <a:lnTo>
                    <a:pt x="104" y="2"/>
                  </a:lnTo>
                  <a:lnTo>
                    <a:pt x="94" y="3"/>
                  </a:lnTo>
                  <a:lnTo>
                    <a:pt x="82" y="6"/>
                  </a:lnTo>
                  <a:lnTo>
                    <a:pt x="73" y="8"/>
                  </a:lnTo>
                  <a:lnTo>
                    <a:pt x="62" y="12"/>
                  </a:lnTo>
                  <a:lnTo>
                    <a:pt x="53" y="15"/>
                  </a:lnTo>
                  <a:lnTo>
                    <a:pt x="45" y="19"/>
                  </a:lnTo>
                  <a:lnTo>
                    <a:pt x="37" y="23"/>
                  </a:lnTo>
                  <a:lnTo>
                    <a:pt x="29" y="29"/>
                  </a:lnTo>
                  <a:lnTo>
                    <a:pt x="21" y="34"/>
                  </a:lnTo>
                  <a:lnTo>
                    <a:pt x="16" y="40"/>
                  </a:lnTo>
                  <a:lnTo>
                    <a:pt x="11" y="44"/>
                  </a:lnTo>
                  <a:lnTo>
                    <a:pt x="7" y="50"/>
                  </a:lnTo>
                  <a:lnTo>
                    <a:pt x="3" y="56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0" y="560"/>
                  </a:lnTo>
                  <a:lnTo>
                    <a:pt x="1" y="568"/>
                  </a:lnTo>
                  <a:lnTo>
                    <a:pt x="3" y="574"/>
                  </a:lnTo>
                  <a:lnTo>
                    <a:pt x="7" y="580"/>
                  </a:lnTo>
                  <a:lnTo>
                    <a:pt x="11" y="586"/>
                  </a:lnTo>
                  <a:lnTo>
                    <a:pt x="16" y="592"/>
                  </a:lnTo>
                  <a:lnTo>
                    <a:pt x="21" y="598"/>
                  </a:lnTo>
                  <a:lnTo>
                    <a:pt x="29" y="603"/>
                  </a:lnTo>
                  <a:lnTo>
                    <a:pt x="37" y="607"/>
                  </a:lnTo>
                  <a:lnTo>
                    <a:pt x="45" y="612"/>
                  </a:lnTo>
                  <a:lnTo>
                    <a:pt x="53" y="615"/>
                  </a:lnTo>
                  <a:lnTo>
                    <a:pt x="62" y="619"/>
                  </a:lnTo>
                  <a:lnTo>
                    <a:pt x="73" y="622"/>
                  </a:lnTo>
                  <a:lnTo>
                    <a:pt x="82" y="625"/>
                  </a:lnTo>
                  <a:lnTo>
                    <a:pt x="94" y="627"/>
                  </a:lnTo>
                  <a:lnTo>
                    <a:pt x="104" y="628"/>
                  </a:lnTo>
                  <a:lnTo>
                    <a:pt x="116" y="628"/>
                  </a:lnTo>
                  <a:lnTo>
                    <a:pt x="226" y="628"/>
                  </a:lnTo>
                  <a:lnTo>
                    <a:pt x="120" y="720"/>
                  </a:lnTo>
                  <a:lnTo>
                    <a:pt x="374" y="628"/>
                  </a:lnTo>
                  <a:lnTo>
                    <a:pt x="1375" y="628"/>
                  </a:lnTo>
                  <a:lnTo>
                    <a:pt x="1375" y="628"/>
                  </a:lnTo>
                </a:path>
              </a:pathLst>
            </a:custGeom>
            <a:solidFill>
              <a:srgbClr val="c0c0c0"/>
            </a:solidFill>
            <a:ln w="187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600000" y="2582640"/>
              <a:ext cx="18381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4880"/>
                  <a:tab algn="l" pos="870120"/>
                  <a:tab algn="l" pos="1305000"/>
                  <a:tab algn="l" pos="1739880"/>
                  <a:tab algn="l" pos="2174760"/>
                  <a:tab algn="l" pos="2610000"/>
                  <a:tab algn="l" pos="3044880"/>
                  <a:tab algn="l" pos="3479760"/>
                  <a:tab algn="l" pos="3914640"/>
                  <a:tab algn="l" pos="4349880"/>
                  <a:tab algn="l" pos="4784760"/>
                  <a:tab algn="l" pos="5219640"/>
                  <a:tab algn="l" pos="5654520"/>
                  <a:tab algn="l" pos="6089760"/>
                  <a:tab algn="l" pos="6524640"/>
                  <a:tab algn="l" pos="6959520"/>
                  <a:tab algn="l" pos="7394400"/>
                  <a:tab algn="l" pos="7829640"/>
                  <a:tab algn="l" pos="8264520"/>
                  <a:tab algn="l" pos="8699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re’s the IP address for ftp.nominum.c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6" name=""/>
          <p:cNvSpPr/>
          <p:nvPr/>
        </p:nvSpPr>
        <p:spPr>
          <a:xfrm flipV="1">
            <a:off x="1817640" y="3672000"/>
            <a:ext cx="571680" cy="77472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ution Process (Cach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me ser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pond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n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tp.nominum.com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9" name=""/>
          <p:cNvGrpSpPr/>
          <p:nvPr/>
        </p:nvGrpSpPr>
        <p:grpSpPr>
          <a:xfrm>
            <a:off x="1176480" y="4594320"/>
            <a:ext cx="849240" cy="992160"/>
            <a:chOff x="1176480" y="4594320"/>
            <a:chExt cx="849240" cy="992160"/>
          </a:xfrm>
        </p:grpSpPr>
        <p:sp>
          <p:nvSpPr>
            <p:cNvPr id="4630" name=""/>
            <p:cNvSpPr/>
            <p:nvPr/>
          </p:nvSpPr>
          <p:spPr>
            <a:xfrm flipV="1">
              <a:off x="1296000" y="5169240"/>
              <a:ext cx="622800" cy="18756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1313280" y="5245560"/>
              <a:ext cx="95040" cy="2952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11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59" y="20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61" y="17"/>
                  </a:lnTo>
                  <a:lnTo>
                    <a:pt x="61" y="1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1"/>
                  </a:lnTo>
                  <a:lnTo>
                    <a:pt x="55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1559880" y="5198040"/>
              <a:ext cx="230400" cy="137520"/>
            </a:xfrm>
            <a:custGeom>
              <a:avLst/>
              <a:gdLst/>
              <a:ahLst/>
              <a:rect l="l" t="t" r="r" b="b"/>
              <a:pathLst>
                <a:path w="160" h="98">
                  <a:moveTo>
                    <a:pt x="0" y="85"/>
                  </a:moveTo>
                  <a:lnTo>
                    <a:pt x="0" y="87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3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6"/>
                  </a:lnTo>
                  <a:lnTo>
                    <a:pt x="5" y="97"/>
                  </a:lnTo>
                  <a:lnTo>
                    <a:pt x="7" y="97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0" y="97"/>
                  </a:lnTo>
                  <a:lnTo>
                    <a:pt x="12" y="97"/>
                  </a:lnTo>
                  <a:lnTo>
                    <a:pt x="148" y="97"/>
                  </a:lnTo>
                  <a:lnTo>
                    <a:pt x="148" y="97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1" y="97"/>
                  </a:lnTo>
                  <a:lnTo>
                    <a:pt x="151" y="97"/>
                  </a:lnTo>
                  <a:lnTo>
                    <a:pt x="153" y="96"/>
                  </a:lnTo>
                  <a:lnTo>
                    <a:pt x="153" y="96"/>
                  </a:lnTo>
                  <a:lnTo>
                    <a:pt x="155" y="94"/>
                  </a:lnTo>
                  <a:lnTo>
                    <a:pt x="155" y="94"/>
                  </a:lnTo>
                  <a:lnTo>
                    <a:pt x="156" y="92"/>
                  </a:lnTo>
                  <a:lnTo>
                    <a:pt x="156" y="92"/>
                  </a:lnTo>
                  <a:lnTo>
                    <a:pt x="158" y="90"/>
                  </a:lnTo>
                  <a:lnTo>
                    <a:pt x="158" y="90"/>
                  </a:lnTo>
                  <a:lnTo>
                    <a:pt x="158" y="88"/>
                  </a:lnTo>
                  <a:lnTo>
                    <a:pt x="158" y="86"/>
                  </a:lnTo>
                  <a:lnTo>
                    <a:pt x="159" y="84"/>
                  </a:lnTo>
                  <a:lnTo>
                    <a:pt x="159" y="15"/>
                  </a:lnTo>
                  <a:lnTo>
                    <a:pt x="158" y="15"/>
                  </a:lnTo>
                  <a:lnTo>
                    <a:pt x="158" y="13"/>
                  </a:lnTo>
                  <a:lnTo>
                    <a:pt x="158" y="13"/>
                  </a:lnTo>
                  <a:lnTo>
                    <a:pt x="158" y="11"/>
                  </a:lnTo>
                  <a:lnTo>
                    <a:pt x="156" y="11"/>
                  </a:lnTo>
                  <a:lnTo>
                    <a:pt x="156" y="9"/>
                  </a:lnTo>
                  <a:lnTo>
                    <a:pt x="156" y="7"/>
                  </a:lnTo>
                  <a:lnTo>
                    <a:pt x="156" y="6"/>
                  </a:lnTo>
                  <a:lnTo>
                    <a:pt x="154" y="6"/>
                  </a:lnTo>
                  <a:lnTo>
                    <a:pt x="154" y="4"/>
                  </a:lnTo>
                  <a:lnTo>
                    <a:pt x="152" y="4"/>
                  </a:lnTo>
                  <a:lnTo>
                    <a:pt x="152" y="2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7" y="1"/>
                  </a:lnTo>
                  <a:lnTo>
                    <a:pt x="14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1316160" y="4594320"/>
              <a:ext cx="578160" cy="504360"/>
            </a:xfrm>
            <a:custGeom>
              <a:avLst/>
              <a:gdLst/>
              <a:ahLst/>
              <a:rect l="l" t="t" r="r" b="b"/>
              <a:pathLst>
                <a:path w="401" h="360">
                  <a:moveTo>
                    <a:pt x="0" y="341"/>
                  </a:moveTo>
                  <a:lnTo>
                    <a:pt x="0" y="344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3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5" y="357"/>
                  </a:lnTo>
                  <a:lnTo>
                    <a:pt x="7" y="357"/>
                  </a:lnTo>
                  <a:lnTo>
                    <a:pt x="8" y="358"/>
                  </a:lnTo>
                  <a:lnTo>
                    <a:pt x="10" y="358"/>
                  </a:lnTo>
                  <a:lnTo>
                    <a:pt x="12" y="359"/>
                  </a:lnTo>
                  <a:lnTo>
                    <a:pt x="14" y="359"/>
                  </a:lnTo>
                  <a:lnTo>
                    <a:pt x="16" y="359"/>
                  </a:lnTo>
                  <a:lnTo>
                    <a:pt x="19" y="359"/>
                  </a:lnTo>
                  <a:lnTo>
                    <a:pt x="381" y="359"/>
                  </a:lnTo>
                  <a:lnTo>
                    <a:pt x="383" y="359"/>
                  </a:lnTo>
                  <a:lnTo>
                    <a:pt x="385" y="359"/>
                  </a:lnTo>
                  <a:lnTo>
                    <a:pt x="387" y="359"/>
                  </a:lnTo>
                  <a:lnTo>
                    <a:pt x="389" y="358"/>
                  </a:lnTo>
                  <a:lnTo>
                    <a:pt x="389" y="358"/>
                  </a:lnTo>
                  <a:lnTo>
                    <a:pt x="391" y="357"/>
                  </a:lnTo>
                  <a:lnTo>
                    <a:pt x="393" y="356"/>
                  </a:lnTo>
                  <a:lnTo>
                    <a:pt x="394" y="354"/>
                  </a:lnTo>
                  <a:lnTo>
                    <a:pt x="394" y="353"/>
                  </a:lnTo>
                  <a:lnTo>
                    <a:pt x="396" y="351"/>
                  </a:lnTo>
                  <a:lnTo>
                    <a:pt x="396" y="350"/>
                  </a:lnTo>
                  <a:lnTo>
                    <a:pt x="398" y="347"/>
                  </a:lnTo>
                  <a:lnTo>
                    <a:pt x="398" y="345"/>
                  </a:lnTo>
                  <a:lnTo>
                    <a:pt x="399" y="344"/>
                  </a:lnTo>
                  <a:lnTo>
                    <a:pt x="399" y="341"/>
                  </a:lnTo>
                  <a:lnTo>
                    <a:pt x="400" y="338"/>
                  </a:lnTo>
                  <a:lnTo>
                    <a:pt x="400" y="23"/>
                  </a:lnTo>
                  <a:lnTo>
                    <a:pt x="399" y="21"/>
                  </a:lnTo>
                  <a:lnTo>
                    <a:pt x="399" y="19"/>
                  </a:lnTo>
                  <a:lnTo>
                    <a:pt x="399" y="16"/>
                  </a:lnTo>
                  <a:lnTo>
                    <a:pt x="399" y="14"/>
                  </a:lnTo>
                  <a:lnTo>
                    <a:pt x="397" y="13"/>
                  </a:lnTo>
                  <a:lnTo>
                    <a:pt x="397" y="11"/>
                  </a:lnTo>
                  <a:lnTo>
                    <a:pt x="396" y="9"/>
                  </a:lnTo>
                  <a:lnTo>
                    <a:pt x="396" y="7"/>
                  </a:lnTo>
                  <a:lnTo>
                    <a:pt x="394" y="7"/>
                  </a:lnTo>
                  <a:lnTo>
                    <a:pt x="393" y="5"/>
                  </a:lnTo>
                  <a:lnTo>
                    <a:pt x="391" y="4"/>
                  </a:lnTo>
                  <a:lnTo>
                    <a:pt x="391" y="2"/>
                  </a:lnTo>
                  <a:lnTo>
                    <a:pt x="389" y="2"/>
                  </a:lnTo>
                  <a:lnTo>
                    <a:pt x="387" y="2"/>
                  </a:lnTo>
                  <a:lnTo>
                    <a:pt x="385" y="2"/>
                  </a:lnTo>
                  <a:lnTo>
                    <a:pt x="38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341"/>
                  </a:lnTo>
                  <a:lnTo>
                    <a:pt x="0" y="34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1359360" y="4644720"/>
              <a:ext cx="498960" cy="387720"/>
            </a:xfrm>
            <a:custGeom>
              <a:avLst/>
              <a:gdLst/>
              <a:ahLst/>
              <a:rect l="l" t="t" r="r" b="b"/>
              <a:pathLst>
                <a:path w="346" h="277">
                  <a:moveTo>
                    <a:pt x="0" y="262"/>
                  </a:moveTo>
                  <a:lnTo>
                    <a:pt x="0" y="264"/>
                  </a:lnTo>
                  <a:lnTo>
                    <a:pt x="0" y="266"/>
                  </a:lnTo>
                  <a:lnTo>
                    <a:pt x="0" y="268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2" y="272"/>
                  </a:lnTo>
                  <a:lnTo>
                    <a:pt x="2" y="274"/>
                  </a:lnTo>
                  <a:lnTo>
                    <a:pt x="4" y="274"/>
                  </a:lnTo>
                  <a:lnTo>
                    <a:pt x="4" y="276"/>
                  </a:lnTo>
                  <a:lnTo>
                    <a:pt x="6" y="276"/>
                  </a:lnTo>
                  <a:lnTo>
                    <a:pt x="7" y="276"/>
                  </a:lnTo>
                  <a:lnTo>
                    <a:pt x="9" y="276"/>
                  </a:lnTo>
                  <a:lnTo>
                    <a:pt x="11" y="276"/>
                  </a:lnTo>
                  <a:lnTo>
                    <a:pt x="13" y="276"/>
                  </a:lnTo>
                  <a:lnTo>
                    <a:pt x="14" y="276"/>
                  </a:lnTo>
                  <a:lnTo>
                    <a:pt x="17" y="276"/>
                  </a:lnTo>
                  <a:lnTo>
                    <a:pt x="328" y="276"/>
                  </a:lnTo>
                  <a:lnTo>
                    <a:pt x="329" y="276"/>
                  </a:lnTo>
                  <a:lnTo>
                    <a:pt x="331" y="276"/>
                  </a:lnTo>
                  <a:lnTo>
                    <a:pt x="333" y="276"/>
                  </a:lnTo>
                  <a:lnTo>
                    <a:pt x="335" y="275"/>
                  </a:lnTo>
                  <a:lnTo>
                    <a:pt x="335" y="275"/>
                  </a:lnTo>
                  <a:lnTo>
                    <a:pt x="337" y="275"/>
                  </a:lnTo>
                  <a:lnTo>
                    <a:pt x="338" y="275"/>
                  </a:lnTo>
                  <a:lnTo>
                    <a:pt x="340" y="272"/>
                  </a:lnTo>
                  <a:lnTo>
                    <a:pt x="340" y="272"/>
                  </a:lnTo>
                  <a:lnTo>
                    <a:pt x="342" y="270"/>
                  </a:lnTo>
                  <a:lnTo>
                    <a:pt x="342" y="270"/>
                  </a:lnTo>
                  <a:lnTo>
                    <a:pt x="343" y="268"/>
                  </a:lnTo>
                  <a:lnTo>
                    <a:pt x="343" y="267"/>
                  </a:lnTo>
                  <a:lnTo>
                    <a:pt x="343" y="264"/>
                  </a:lnTo>
                  <a:lnTo>
                    <a:pt x="343" y="263"/>
                  </a:lnTo>
                  <a:lnTo>
                    <a:pt x="345" y="261"/>
                  </a:lnTo>
                  <a:lnTo>
                    <a:pt x="345" y="19"/>
                  </a:lnTo>
                  <a:lnTo>
                    <a:pt x="343" y="18"/>
                  </a:lnTo>
                  <a:lnTo>
                    <a:pt x="343" y="16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42" y="12"/>
                  </a:lnTo>
                  <a:lnTo>
                    <a:pt x="342" y="10"/>
                  </a:lnTo>
                  <a:lnTo>
                    <a:pt x="342" y="9"/>
                  </a:lnTo>
                  <a:lnTo>
                    <a:pt x="342" y="7"/>
                  </a:lnTo>
                  <a:lnTo>
                    <a:pt x="340" y="7"/>
                  </a:lnTo>
                  <a:lnTo>
                    <a:pt x="339" y="6"/>
                  </a:lnTo>
                  <a:lnTo>
                    <a:pt x="337" y="6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4" y="3"/>
                  </a:lnTo>
                  <a:lnTo>
                    <a:pt x="331" y="3"/>
                  </a:lnTo>
                  <a:lnTo>
                    <a:pt x="331" y="2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62"/>
                  </a:lnTo>
                  <a:lnTo>
                    <a:pt x="0" y="2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1376640" y="4662720"/>
              <a:ext cx="467280" cy="351720"/>
            </a:xfrm>
            <a:custGeom>
              <a:avLst/>
              <a:gdLst/>
              <a:ahLst/>
              <a:rect l="l" t="t" r="r" b="b"/>
              <a:pathLst>
                <a:path w="324" h="251">
                  <a:moveTo>
                    <a:pt x="0" y="237"/>
                  </a:moveTo>
                  <a:lnTo>
                    <a:pt x="0" y="239"/>
                  </a:lnTo>
                  <a:lnTo>
                    <a:pt x="0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0" y="246"/>
                  </a:lnTo>
                  <a:lnTo>
                    <a:pt x="1" y="246"/>
                  </a:lnTo>
                  <a:lnTo>
                    <a:pt x="1" y="247"/>
                  </a:lnTo>
                  <a:lnTo>
                    <a:pt x="3" y="247"/>
                  </a:lnTo>
                  <a:lnTo>
                    <a:pt x="3" y="249"/>
                  </a:lnTo>
                  <a:lnTo>
                    <a:pt x="5" y="249"/>
                  </a:lnTo>
                  <a:lnTo>
                    <a:pt x="7" y="250"/>
                  </a:lnTo>
                  <a:lnTo>
                    <a:pt x="9" y="250"/>
                  </a:lnTo>
                  <a:lnTo>
                    <a:pt x="10" y="250"/>
                  </a:lnTo>
                  <a:lnTo>
                    <a:pt x="12" y="250"/>
                  </a:lnTo>
                  <a:lnTo>
                    <a:pt x="14" y="250"/>
                  </a:lnTo>
                  <a:lnTo>
                    <a:pt x="16" y="250"/>
                  </a:lnTo>
                  <a:lnTo>
                    <a:pt x="308" y="250"/>
                  </a:lnTo>
                  <a:lnTo>
                    <a:pt x="308" y="250"/>
                  </a:lnTo>
                  <a:lnTo>
                    <a:pt x="310" y="250"/>
                  </a:lnTo>
                  <a:lnTo>
                    <a:pt x="312" y="250"/>
                  </a:lnTo>
                  <a:lnTo>
                    <a:pt x="314" y="250"/>
                  </a:lnTo>
                  <a:lnTo>
                    <a:pt x="314" y="250"/>
                  </a:lnTo>
                  <a:lnTo>
                    <a:pt x="316" y="249"/>
                  </a:lnTo>
                  <a:lnTo>
                    <a:pt x="317" y="249"/>
                  </a:lnTo>
                  <a:lnTo>
                    <a:pt x="319" y="247"/>
                  </a:lnTo>
                  <a:lnTo>
                    <a:pt x="319" y="247"/>
                  </a:lnTo>
                  <a:lnTo>
                    <a:pt x="319" y="245"/>
                  </a:lnTo>
                  <a:lnTo>
                    <a:pt x="319" y="244"/>
                  </a:lnTo>
                  <a:lnTo>
                    <a:pt x="322" y="242"/>
                  </a:lnTo>
                  <a:lnTo>
                    <a:pt x="322" y="242"/>
                  </a:lnTo>
                  <a:lnTo>
                    <a:pt x="322" y="240"/>
                  </a:lnTo>
                  <a:lnTo>
                    <a:pt x="322" y="238"/>
                  </a:lnTo>
                  <a:lnTo>
                    <a:pt x="323" y="236"/>
                  </a:lnTo>
                  <a:lnTo>
                    <a:pt x="323" y="17"/>
                  </a:lnTo>
                  <a:lnTo>
                    <a:pt x="322" y="17"/>
                  </a:lnTo>
                  <a:lnTo>
                    <a:pt x="322" y="15"/>
                  </a:lnTo>
                  <a:lnTo>
                    <a:pt x="322" y="13"/>
                  </a:lnTo>
                  <a:lnTo>
                    <a:pt x="322" y="11"/>
                  </a:lnTo>
                  <a:lnTo>
                    <a:pt x="319" y="11"/>
                  </a:lnTo>
                  <a:lnTo>
                    <a:pt x="319" y="9"/>
                  </a:lnTo>
                  <a:lnTo>
                    <a:pt x="319" y="8"/>
                  </a:lnTo>
                  <a:lnTo>
                    <a:pt x="319" y="6"/>
                  </a:lnTo>
                  <a:lnTo>
                    <a:pt x="317" y="6"/>
                  </a:lnTo>
                  <a:lnTo>
                    <a:pt x="316" y="5"/>
                  </a:lnTo>
                  <a:lnTo>
                    <a:pt x="314" y="5"/>
                  </a:lnTo>
                  <a:lnTo>
                    <a:pt x="314" y="3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2"/>
                  </a:lnTo>
                  <a:lnTo>
                    <a:pt x="308" y="0"/>
                  </a:lnTo>
                  <a:lnTo>
                    <a:pt x="17" y="0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37"/>
                  </a:lnTo>
                  <a:lnTo>
                    <a:pt x="0" y="2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 flipV="1">
              <a:off x="1297440" y="5204520"/>
              <a:ext cx="245160" cy="6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 flipV="1">
              <a:off x="1297440" y="5323320"/>
              <a:ext cx="24516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 flipV="1">
              <a:off x="1793520" y="5198040"/>
              <a:ext cx="126720" cy="72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 flipV="1">
              <a:off x="1793520" y="5323320"/>
              <a:ext cx="125280" cy="540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 flipV="1">
              <a:off x="1577160" y="5218560"/>
              <a:ext cx="196200" cy="540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 flipV="1">
              <a:off x="1603080" y="5252040"/>
              <a:ext cx="145800" cy="97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1561320" y="5240160"/>
              <a:ext cx="22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1562760" y="5274000"/>
              <a:ext cx="224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 flipV="1">
              <a:off x="1816560" y="5236200"/>
              <a:ext cx="78840" cy="4032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1176480" y="5384520"/>
              <a:ext cx="849240" cy="173520"/>
            </a:xfrm>
            <a:custGeom>
              <a:avLst/>
              <a:gdLst/>
              <a:ahLst/>
              <a:rect l="l" t="t" r="r" b="b"/>
              <a:pathLst>
                <a:path w="589" h="124">
                  <a:moveTo>
                    <a:pt x="59" y="0"/>
                  </a:moveTo>
                  <a:lnTo>
                    <a:pt x="60" y="0"/>
                  </a:lnTo>
                  <a:lnTo>
                    <a:pt x="538" y="0"/>
                  </a:lnTo>
                  <a:lnTo>
                    <a:pt x="588" y="123"/>
                  </a:lnTo>
                  <a:lnTo>
                    <a:pt x="0" y="123"/>
                  </a:lnTo>
                  <a:lnTo>
                    <a:pt x="59" y="0"/>
                  </a:lnTo>
                  <a:lnTo>
                    <a:pt x="59" y="0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1177560" y="5556960"/>
              <a:ext cx="847800" cy="29520"/>
            </a:xfrm>
            <a:custGeom>
              <a:avLst/>
              <a:gdLst/>
              <a:ahLst/>
              <a:rect l="l" t="t" r="r" b="b"/>
              <a:pathLst>
                <a:path w="588" h="21">
                  <a:moveTo>
                    <a:pt x="0" y="0"/>
                  </a:moveTo>
                  <a:lnTo>
                    <a:pt x="587" y="0"/>
                  </a:lnTo>
                  <a:lnTo>
                    <a:pt x="572" y="20"/>
                  </a:lnTo>
                  <a:lnTo>
                    <a:pt x="13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1277280" y="5398560"/>
              <a:ext cx="544680" cy="16560"/>
            </a:xfrm>
            <a:custGeom>
              <a:avLst/>
              <a:gdLst/>
              <a:ahLst/>
              <a:rect l="l" t="t" r="r" b="b"/>
              <a:pathLst>
                <a:path w="378" h="12">
                  <a:moveTo>
                    <a:pt x="3" y="0"/>
                  </a:moveTo>
                  <a:lnTo>
                    <a:pt x="0" y="11"/>
                  </a:lnTo>
                  <a:lnTo>
                    <a:pt x="377" y="11"/>
                  </a:lnTo>
                  <a:lnTo>
                    <a:pt x="372" y="0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1230840" y="5423760"/>
              <a:ext cx="498960" cy="85320"/>
            </a:xfrm>
            <a:custGeom>
              <a:avLst/>
              <a:gdLst/>
              <a:ahLst/>
              <a:rect l="l" t="t" r="r" b="b"/>
              <a:pathLst>
                <a:path w="346" h="61">
                  <a:moveTo>
                    <a:pt x="30" y="0"/>
                  </a:moveTo>
                  <a:lnTo>
                    <a:pt x="341" y="0"/>
                  </a:lnTo>
                  <a:lnTo>
                    <a:pt x="345" y="60"/>
                  </a:lnTo>
                  <a:lnTo>
                    <a:pt x="312" y="59"/>
                  </a:lnTo>
                  <a:lnTo>
                    <a:pt x="312" y="51"/>
                  </a:lnTo>
                  <a:lnTo>
                    <a:pt x="294" y="51"/>
                  </a:lnTo>
                  <a:lnTo>
                    <a:pt x="293" y="59"/>
                  </a:lnTo>
                  <a:lnTo>
                    <a:pt x="63" y="59"/>
                  </a:lnTo>
                  <a:lnTo>
                    <a:pt x="64" y="51"/>
                  </a:lnTo>
                  <a:lnTo>
                    <a:pt x="44" y="53"/>
                  </a:lnTo>
                  <a:lnTo>
                    <a:pt x="42" y="59"/>
                  </a:lnTo>
                  <a:lnTo>
                    <a:pt x="0" y="6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1734120" y="5423760"/>
              <a:ext cx="102600" cy="403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0" y="28"/>
                  </a:lnTo>
                  <a:lnTo>
                    <a:pt x="63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1741680" y="5467320"/>
              <a:ext cx="104760" cy="4320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22" y="0"/>
                  </a:moveTo>
                  <a:lnTo>
                    <a:pt x="22" y="8"/>
                  </a:lnTo>
                  <a:lnTo>
                    <a:pt x="0" y="8"/>
                  </a:lnTo>
                  <a:lnTo>
                    <a:pt x="3" y="30"/>
                  </a:lnTo>
                  <a:lnTo>
                    <a:pt x="72" y="30"/>
                  </a:lnTo>
                  <a:lnTo>
                    <a:pt x="66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1836720" y="5426640"/>
              <a:ext cx="152640" cy="8388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0" y="0"/>
                  </a:moveTo>
                  <a:lnTo>
                    <a:pt x="17" y="59"/>
                  </a:lnTo>
                  <a:lnTo>
                    <a:pt x="105" y="5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727272"/>
            </a:solidFill>
            <a:ln w="9360">
              <a:solidFill>
                <a:srgbClr val="7272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 flipV="1">
              <a:off x="1464840" y="5095080"/>
              <a:ext cx="285480" cy="50040"/>
            </a:xfrm>
            <a:prstGeom prst="roundRect">
              <a:avLst>
                <a:gd name="adj" fmla="val 15912"/>
              </a:avLst>
            </a:prstGeom>
            <a:solidFill>
              <a:srgbClr val="727272"/>
            </a:solidFill>
            <a:ln w="9360">
              <a:solidFill>
                <a:srgbClr val="7272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 flipV="1">
              <a:off x="1818000" y="5056560"/>
              <a:ext cx="38880" cy="2376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 flipV="1">
              <a:off x="1395360" y="5123160"/>
              <a:ext cx="424080" cy="3780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 flipV="1">
              <a:off x="1397160" y="5158080"/>
              <a:ext cx="422280" cy="9720"/>
            </a:xfrm>
            <a:prstGeom prst="roundRect">
              <a:avLst>
                <a:gd name="adj" fmla="val 0"/>
              </a:avLst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6" name=""/>
          <p:cNvGrpSpPr/>
          <p:nvPr/>
        </p:nvGrpSpPr>
        <p:grpSpPr>
          <a:xfrm>
            <a:off x="6781680" y="4114800"/>
            <a:ext cx="631800" cy="1074240"/>
            <a:chOff x="6781680" y="4114800"/>
            <a:chExt cx="631800" cy="1074240"/>
          </a:xfrm>
        </p:grpSpPr>
        <p:sp>
          <p:nvSpPr>
            <p:cNvPr id="4657" name=""/>
            <p:cNvSpPr/>
            <p:nvPr/>
          </p:nvSpPr>
          <p:spPr>
            <a:xfrm flipV="1">
              <a:off x="6781680" y="4114800"/>
              <a:ext cx="631800" cy="10267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360 h 1026720"/>
                <a:gd name="textAreaBottom" fmla="*/ 1027440 h 1026720"/>
              </a:gdLst>
              <a:ahLst/>
              <a:rect l="textAreaLeft" t="textAreaTop" r="textAreaRight" b="textAreaBottom"/>
              <a:pathLst>
                <a:path w="21600" h="35094">
                  <a:moveTo>
                    <a:pt x="0" y="0"/>
                  </a:moveTo>
                  <a:arcTo wR="0" hR="0" stAng="16200000" swAng="-5400000"/>
                  <a:lnTo>
                    <a:pt x="0" y="35094"/>
                  </a:lnTo>
                  <a:arcTo wR="0" hR="0" stAng="10800000" swAng="-5400000"/>
                  <a:lnTo>
                    <a:pt x="21600" y="3509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 flipV="1">
              <a:off x="6794640" y="5141520"/>
              <a:ext cx="61128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6814800" y="4114800"/>
              <a:ext cx="0" cy="10267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6819120" y="4123080"/>
              <a:ext cx="557640" cy="101556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6784560" y="4119120"/>
              <a:ext cx="25560" cy="10166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7381440" y="4119120"/>
              <a:ext cx="28440" cy="10166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7381440" y="4114800"/>
              <a:ext cx="0" cy="10310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 flipV="1">
              <a:off x="6834960" y="4186800"/>
              <a:ext cx="110880" cy="2250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5000"/>
                <a:gd name="textAreaBottom" fmla="*/ 225000 h 225000"/>
              </a:gdLst>
              <a:ahLst/>
              <a:rect l="textAreaLeft" t="textAreaTop" r="textAreaRight" b="textAreaBottom"/>
              <a:pathLst>
                <a:path w="21600" h="43759">
                  <a:moveTo>
                    <a:pt x="0" y="0"/>
                  </a:moveTo>
                  <a:arcTo wR="0" hR="0" stAng="16200000" swAng="-5400000"/>
                  <a:lnTo>
                    <a:pt x="0" y="43759"/>
                  </a:lnTo>
                  <a:arcTo wR="0" hR="0" stAng="10800000" swAng="-5400000"/>
                  <a:lnTo>
                    <a:pt x="21600" y="4375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 flipV="1">
              <a:off x="6847920" y="42001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 flipV="1">
              <a:off x="6850800" y="4336200"/>
              <a:ext cx="80640" cy="6012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 flipV="1">
              <a:off x="6850800" y="4204800"/>
              <a:ext cx="35640" cy="128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77328">
                  <a:moveTo>
                    <a:pt x="0" y="0"/>
                  </a:moveTo>
                  <a:arcTo wR="0" hR="0" stAng="16200000" swAng="-5400000"/>
                  <a:lnTo>
                    <a:pt x="0" y="77328"/>
                  </a:lnTo>
                  <a:arcTo wR="0" hR="0" stAng="10800000" swAng="-5400000"/>
                  <a:lnTo>
                    <a:pt x="21600" y="7732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 flipV="1">
              <a:off x="6903000" y="4208400"/>
              <a:ext cx="24480" cy="1130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98609">
                  <a:moveTo>
                    <a:pt x="0" y="0"/>
                  </a:moveTo>
                  <a:arcTo wR="0" hR="0" stAng="16200000" swAng="-5400000"/>
                  <a:lnTo>
                    <a:pt x="0" y="98609"/>
                  </a:lnTo>
                  <a:arcTo wR="0" hR="0" stAng="10800000" swAng="-5400000"/>
                  <a:lnTo>
                    <a:pt x="21600" y="9860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 flipV="1">
              <a:off x="6858000" y="4241520"/>
              <a:ext cx="21240" cy="824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2440"/>
                <a:gd name="textAreaBottom" fmla="*/ 82440 h 82440"/>
              </a:gdLst>
              <a:ahLst/>
              <a:rect l="textAreaLeft" t="textAreaTop" r="textAreaRight" b="textAreaBottom"/>
              <a:pathLst>
                <a:path w="21600" h="82800">
                  <a:moveTo>
                    <a:pt x="0" y="0"/>
                  </a:moveTo>
                  <a:arcTo wR="0" hR="0" stAng="16200000" swAng="-5400000"/>
                  <a:lnTo>
                    <a:pt x="0" y="82800"/>
                  </a:lnTo>
                  <a:arcTo wR="0" hR="0" stAng="10800000" swAng="-5400000"/>
                  <a:lnTo>
                    <a:pt x="21600" y="828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 flipV="1">
              <a:off x="6859440" y="423972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 flipV="1">
              <a:off x="6886800" y="4204800"/>
              <a:ext cx="3960" cy="1285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21600" h="644400">
                  <a:moveTo>
                    <a:pt x="0" y="0"/>
                  </a:moveTo>
                  <a:arcTo wR="0" hR="0" stAng="16200000" swAng="-5400000"/>
                  <a:lnTo>
                    <a:pt x="0" y="644400"/>
                  </a:lnTo>
                  <a:arcTo wR="0" hR="0" stAng="10800000" swAng="-5400000"/>
                  <a:lnTo>
                    <a:pt x="21600" y="64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 flipV="1">
              <a:off x="6898320" y="4208400"/>
              <a:ext cx="8640" cy="113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13040"/>
                <a:gd name="textAreaBottom" fmla="*/ 113760 h 113040"/>
              </a:gdLst>
              <a:ahLst/>
              <a:rect l="textAreaLeft" t="textAreaTop" r="textAreaRight" b="textAreaBottom"/>
              <a:pathLst>
                <a:path w="21600" h="272160">
                  <a:moveTo>
                    <a:pt x="0" y="0"/>
                  </a:moveTo>
                  <a:arcTo wR="0" hR="0" stAng="16200000" swAng="-5400000"/>
                  <a:lnTo>
                    <a:pt x="0" y="272160"/>
                  </a:lnTo>
                  <a:arcTo wR="0" hR="0" stAng="10800000" swAng="-5400000"/>
                  <a:lnTo>
                    <a:pt x="21600" y="27216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 flipV="1">
              <a:off x="6872400" y="4344120"/>
              <a:ext cx="8280" cy="48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23300">
                  <a:moveTo>
                    <a:pt x="0" y="0"/>
                  </a:moveTo>
                  <a:arcTo wR="0" hR="0" stAng="16200000" swAng="-5400000"/>
                  <a:lnTo>
                    <a:pt x="0" y="123300"/>
                  </a:lnTo>
                  <a:arcTo wR="0" hR="0" stAng="10800000" swAng="-5400000"/>
                  <a:lnTo>
                    <a:pt x="21600" y="1233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6858000" y="4351320"/>
              <a:ext cx="828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6858000" y="4370760"/>
              <a:ext cx="8280" cy="97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6834960" y="4186080"/>
              <a:ext cx="117000" cy="22932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 flipV="1">
              <a:off x="6908400" y="434556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 flipV="1">
              <a:off x="6977880" y="419580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 flipV="1">
              <a:off x="6978960" y="42314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 flipV="1">
              <a:off x="6978960" y="4276440"/>
              <a:ext cx="3762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 flipV="1">
              <a:off x="6978960" y="432108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 flipV="1">
              <a:off x="6978960" y="436284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3" name=""/>
            <p:cNvGrpSpPr/>
            <p:nvPr/>
          </p:nvGrpSpPr>
          <p:grpSpPr>
            <a:xfrm>
              <a:off x="6998040" y="4195800"/>
              <a:ext cx="344520" cy="212400"/>
              <a:chOff x="6998040" y="4195800"/>
              <a:chExt cx="344520" cy="212400"/>
            </a:xfrm>
          </p:grpSpPr>
          <p:sp>
            <p:nvSpPr>
              <p:cNvPr id="4684" name=""/>
              <p:cNvSpPr/>
              <p:nvPr/>
            </p:nvSpPr>
            <p:spPr>
              <a:xfrm>
                <a:off x="699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70178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7033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705132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7069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70869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71056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712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714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7160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7178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7196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721404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723240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7251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7268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7287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73047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732348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7342560" y="419580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4" name=""/>
            <p:cNvSpPr/>
            <p:nvPr/>
          </p:nvSpPr>
          <p:spPr>
            <a:xfrm flipV="1">
              <a:off x="6977880" y="4558320"/>
              <a:ext cx="381960" cy="212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 flipV="1">
              <a:off x="6978960" y="459468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 flipV="1">
              <a:off x="6978960" y="4638240"/>
              <a:ext cx="376200" cy="5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 flipV="1">
              <a:off x="6978960" y="46821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 flipV="1">
              <a:off x="6978960" y="472536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9" name=""/>
            <p:cNvGrpSpPr/>
            <p:nvPr/>
          </p:nvGrpSpPr>
          <p:grpSpPr>
            <a:xfrm>
              <a:off x="6998040" y="4558320"/>
              <a:ext cx="344520" cy="212400"/>
              <a:chOff x="6998040" y="4558320"/>
              <a:chExt cx="344520" cy="212400"/>
            </a:xfrm>
          </p:grpSpPr>
          <p:sp>
            <p:nvSpPr>
              <p:cNvPr id="4710" name=""/>
              <p:cNvSpPr/>
              <p:nvPr/>
            </p:nvSpPr>
            <p:spPr>
              <a:xfrm>
                <a:off x="699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70178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7033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705132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7069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70869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71056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712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714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7160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7178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7196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721404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723240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7251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7268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7287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73047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732348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7342560" y="4558320"/>
                <a:ext cx="0" cy="2124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0" name=""/>
            <p:cNvSpPr/>
            <p:nvPr/>
          </p:nvSpPr>
          <p:spPr>
            <a:xfrm flipV="1">
              <a:off x="6977880" y="4902840"/>
              <a:ext cx="38196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 flipV="1">
              <a:off x="6978960" y="49406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 flipV="1">
              <a:off x="6978960" y="498312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 flipV="1">
              <a:off x="6978960" y="5028840"/>
              <a:ext cx="3762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 flipV="1">
              <a:off x="6978960" y="5072400"/>
              <a:ext cx="3762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5" name=""/>
            <p:cNvGrpSpPr/>
            <p:nvPr/>
          </p:nvGrpSpPr>
          <p:grpSpPr>
            <a:xfrm>
              <a:off x="6998040" y="4905360"/>
              <a:ext cx="344520" cy="210960"/>
              <a:chOff x="6998040" y="4905360"/>
              <a:chExt cx="344520" cy="210960"/>
            </a:xfrm>
          </p:grpSpPr>
          <p:sp>
            <p:nvSpPr>
              <p:cNvPr id="4736" name=""/>
              <p:cNvSpPr/>
              <p:nvPr/>
            </p:nvSpPr>
            <p:spPr>
              <a:xfrm>
                <a:off x="699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70178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7033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705132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7069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70869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71056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712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714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7160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7178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7196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721404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723240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7251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7268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7287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73047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732348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7342560" y="4905360"/>
                <a:ext cx="0" cy="210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6" name=""/>
            <p:cNvSpPr/>
            <p:nvPr/>
          </p:nvSpPr>
          <p:spPr>
            <a:xfrm flipV="1">
              <a:off x="6834960" y="445176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6834960" y="445176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 flipV="1">
              <a:off x="6834960" y="4494600"/>
              <a:ext cx="1414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6834960" y="449532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0" name=""/>
          <p:cNvGrpSpPr/>
          <p:nvPr/>
        </p:nvGrpSpPr>
        <p:grpSpPr>
          <a:xfrm>
            <a:off x="4552920" y="3699000"/>
            <a:ext cx="630360" cy="1075680"/>
            <a:chOff x="4552920" y="3699000"/>
            <a:chExt cx="630360" cy="1075680"/>
          </a:xfrm>
        </p:grpSpPr>
        <p:sp>
          <p:nvSpPr>
            <p:cNvPr id="4761" name=""/>
            <p:cNvSpPr/>
            <p:nvPr/>
          </p:nvSpPr>
          <p:spPr>
            <a:xfrm flipV="1">
              <a:off x="4552920" y="3699000"/>
              <a:ext cx="630360" cy="102816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360 h 1028160"/>
                <a:gd name="textAreaBottom" fmla="*/ 1028880 h 1028160"/>
              </a:gdLst>
              <a:ahLst/>
              <a:rect l="textAreaLeft" t="textAreaTop" r="textAreaRight" b="textAreaBottom"/>
              <a:pathLst>
                <a:path w="21600" h="35223">
                  <a:moveTo>
                    <a:pt x="0" y="0"/>
                  </a:moveTo>
                  <a:arcTo wR="0" hR="0" stAng="16200000" swAng="-5400000"/>
                  <a:lnTo>
                    <a:pt x="0" y="35223"/>
                  </a:lnTo>
                  <a:arcTo wR="0" hR="0" stAng="10800000" swAng="-5400000"/>
                  <a:lnTo>
                    <a:pt x="21600" y="3522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 flipV="1">
              <a:off x="4565520" y="4727160"/>
              <a:ext cx="61020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584600" y="3699000"/>
              <a:ext cx="0" cy="10281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4588560" y="3707280"/>
              <a:ext cx="558000" cy="101664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4554000" y="3702960"/>
              <a:ext cx="25560" cy="1018440"/>
            </a:xfrm>
            <a:custGeom>
              <a:avLst/>
              <a:gdLst/>
              <a:ahLst/>
              <a:rect l="l" t="t" r="r" b="b"/>
              <a:pathLst>
                <a:path w="18" h="727">
                  <a:moveTo>
                    <a:pt x="0" y="726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5152680" y="3702960"/>
              <a:ext cx="28440" cy="1018440"/>
            </a:xfrm>
            <a:custGeom>
              <a:avLst/>
              <a:gdLst/>
              <a:ahLst/>
              <a:rect l="l" t="t" r="r" b="b"/>
              <a:pathLst>
                <a:path w="20" h="727">
                  <a:moveTo>
                    <a:pt x="0" y="0"/>
                  </a:moveTo>
                  <a:lnTo>
                    <a:pt x="19" y="0"/>
                  </a:lnTo>
                  <a:lnTo>
                    <a:pt x="19" y="726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5152680" y="3699000"/>
              <a:ext cx="0" cy="103356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 flipV="1">
              <a:off x="4606200" y="3771720"/>
              <a:ext cx="109440" cy="225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360 h 225360"/>
                <a:gd name="textAreaBottom" fmla="*/ 226080 h 225360"/>
              </a:gdLst>
              <a:ahLst/>
              <a:rect l="textAreaLeft" t="textAreaTop" r="textAreaRight" b="textAreaBottom"/>
              <a:pathLst>
                <a:path w="21600" h="44404">
                  <a:moveTo>
                    <a:pt x="0" y="0"/>
                  </a:moveTo>
                  <a:arcTo wR="0" hR="0" stAng="16200000" swAng="-5400000"/>
                  <a:lnTo>
                    <a:pt x="0" y="44404"/>
                  </a:lnTo>
                  <a:arcTo wR="0" hR="0" stAng="10800000" swAng="-5400000"/>
                  <a:lnTo>
                    <a:pt x="21600" y="444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 flipV="1">
              <a:off x="4617360" y="378432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 flipV="1">
              <a:off x="4620600" y="392076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 flipV="1">
              <a:off x="4620600" y="3789360"/>
              <a:ext cx="35640" cy="1270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6464">
                  <a:moveTo>
                    <a:pt x="0" y="0"/>
                  </a:moveTo>
                  <a:arcTo wR="0" hR="0" stAng="16200000" swAng="-5400000"/>
                  <a:lnTo>
                    <a:pt x="0" y="76464"/>
                  </a:lnTo>
                  <a:arcTo wR="0" hR="0" stAng="10800000" swAng="-5400000"/>
                  <a:lnTo>
                    <a:pt x="21600" y="764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 flipV="1">
              <a:off x="4672440" y="3793320"/>
              <a:ext cx="24480" cy="1119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7670">
                  <a:moveTo>
                    <a:pt x="0" y="0"/>
                  </a:moveTo>
                  <a:arcTo wR="0" hR="0" stAng="16200000" swAng="-5400000"/>
                  <a:lnTo>
                    <a:pt x="0" y="97670"/>
                  </a:lnTo>
                  <a:arcTo wR="0" hR="0" stAng="10800000" swAng="-5400000"/>
                  <a:lnTo>
                    <a:pt x="21600" y="9767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 flipV="1">
              <a:off x="4628880" y="382428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 flipV="1">
              <a:off x="4628880" y="382428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 flipV="1">
              <a:off x="4656600" y="378936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 flipV="1">
              <a:off x="4667760" y="379332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 flipV="1">
              <a:off x="4642200" y="392940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628880" y="3934080"/>
              <a:ext cx="6840" cy="792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4628880" y="3956400"/>
              <a:ext cx="6840" cy="720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604400" y="3771720"/>
              <a:ext cx="117000" cy="22824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78" y="0"/>
                  </a:moveTo>
                  <a:lnTo>
                    <a:pt x="80" y="162"/>
                  </a:lnTo>
                  <a:lnTo>
                    <a:pt x="0" y="162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 flipV="1">
              <a:off x="4678200" y="3930120"/>
              <a:ext cx="8640" cy="180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4064">
                  <a:moveTo>
                    <a:pt x="0" y="0"/>
                  </a:moveTo>
                  <a:arcTo wR="0" hR="0" stAng="16200000" swAng="-5400000"/>
                  <a:lnTo>
                    <a:pt x="0" y="44064"/>
                  </a:lnTo>
                  <a:arcTo wR="0" hR="0" stAng="10800000" swAng="-5400000"/>
                  <a:lnTo>
                    <a:pt x="21600" y="440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 flipV="1">
              <a:off x="4748760" y="3777840"/>
              <a:ext cx="38088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 flipV="1">
              <a:off x="4748760" y="3817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 flipV="1">
              <a:off x="4748760" y="38592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 flipV="1">
              <a:off x="4748760" y="390564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 flipV="1">
              <a:off x="4748760" y="3947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7" name=""/>
            <p:cNvGrpSpPr/>
            <p:nvPr/>
          </p:nvGrpSpPr>
          <p:grpSpPr>
            <a:xfrm>
              <a:off x="4768920" y="3780000"/>
              <a:ext cx="343440" cy="212760"/>
              <a:chOff x="4768920" y="3780000"/>
              <a:chExt cx="343440" cy="212760"/>
            </a:xfrm>
          </p:grpSpPr>
          <p:sp>
            <p:nvSpPr>
              <p:cNvPr id="4788" name=""/>
              <p:cNvSpPr/>
              <p:nvPr/>
            </p:nvSpPr>
            <p:spPr>
              <a:xfrm>
                <a:off x="47689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478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80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4820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4839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48567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4875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4894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491472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4930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494784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496620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49834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5002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5021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5038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5057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50745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509328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5112360" y="378000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8" name=""/>
            <p:cNvSpPr/>
            <p:nvPr/>
          </p:nvSpPr>
          <p:spPr>
            <a:xfrm flipV="1">
              <a:off x="4748760" y="414216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 flipV="1">
              <a:off x="4748760" y="4179960"/>
              <a:ext cx="37800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 flipV="1">
              <a:off x="4748760" y="42220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 flipV="1">
              <a:off x="4748760" y="426672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 flipV="1">
              <a:off x="4748760" y="431028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3" name=""/>
            <p:cNvGrpSpPr/>
            <p:nvPr/>
          </p:nvGrpSpPr>
          <p:grpSpPr>
            <a:xfrm>
              <a:off x="4768920" y="4142880"/>
              <a:ext cx="343440" cy="212760"/>
              <a:chOff x="4768920" y="4142880"/>
              <a:chExt cx="343440" cy="212760"/>
            </a:xfrm>
          </p:grpSpPr>
          <p:sp>
            <p:nvSpPr>
              <p:cNvPr id="4814" name=""/>
              <p:cNvSpPr/>
              <p:nvPr/>
            </p:nvSpPr>
            <p:spPr>
              <a:xfrm>
                <a:off x="47689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478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480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4820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4839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48567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4875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4894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491472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4930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494784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496620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49834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002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5021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5038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5057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50745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509328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5112360" y="414288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4" name=""/>
            <p:cNvSpPr/>
            <p:nvPr/>
          </p:nvSpPr>
          <p:spPr>
            <a:xfrm flipV="1">
              <a:off x="4748760" y="4488120"/>
              <a:ext cx="38088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 flipV="1">
              <a:off x="4748760" y="452592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 flipV="1">
              <a:off x="4748760" y="456840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 flipV="1">
              <a:off x="4748760" y="4614480"/>
              <a:ext cx="37800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 flipV="1">
              <a:off x="4748760" y="4658040"/>
              <a:ext cx="37800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9" name=""/>
            <p:cNvGrpSpPr/>
            <p:nvPr/>
          </p:nvGrpSpPr>
          <p:grpSpPr>
            <a:xfrm>
              <a:off x="4768920" y="4488840"/>
              <a:ext cx="343440" cy="212760"/>
              <a:chOff x="4768920" y="4488840"/>
              <a:chExt cx="343440" cy="212760"/>
            </a:xfrm>
          </p:grpSpPr>
          <p:sp>
            <p:nvSpPr>
              <p:cNvPr id="4840" name=""/>
              <p:cNvSpPr/>
              <p:nvPr/>
            </p:nvSpPr>
            <p:spPr>
              <a:xfrm>
                <a:off x="47689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478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480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4820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4839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48567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4875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4894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491472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4930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494784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496620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49834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002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5021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5038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5057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0745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09328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5112360" y="448884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0" name=""/>
            <p:cNvSpPr/>
            <p:nvPr/>
          </p:nvSpPr>
          <p:spPr>
            <a:xfrm flipV="1">
              <a:off x="4606200" y="403668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4604400" y="4036680"/>
              <a:ext cx="10080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 flipV="1">
              <a:off x="4606200" y="4079520"/>
              <a:ext cx="13968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4604400" y="4080240"/>
              <a:ext cx="145800" cy="3600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4" name=""/>
          <p:cNvSpPr/>
          <p:nvPr/>
        </p:nvSpPr>
        <p:spPr>
          <a:xfrm>
            <a:off x="721440" y="5676840"/>
            <a:ext cx="1797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nie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5" name=""/>
          <p:cNvSpPr/>
          <p:nvPr/>
        </p:nvSpPr>
        <p:spPr>
          <a:xfrm>
            <a:off x="6396120" y="5334120"/>
            <a:ext cx="12304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.gtld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6" name=""/>
          <p:cNvGrpSpPr/>
          <p:nvPr/>
        </p:nvGrpSpPr>
        <p:grpSpPr>
          <a:xfrm>
            <a:off x="5986440" y="2457000"/>
            <a:ext cx="631800" cy="1076400"/>
            <a:chOff x="5986440" y="2457000"/>
            <a:chExt cx="631800" cy="1076400"/>
          </a:xfrm>
        </p:grpSpPr>
        <p:sp>
          <p:nvSpPr>
            <p:cNvPr id="4867" name=""/>
            <p:cNvSpPr/>
            <p:nvPr/>
          </p:nvSpPr>
          <p:spPr>
            <a:xfrm flipV="1">
              <a:off x="5986440" y="2456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 flipV="1">
              <a:off x="5999040" y="3485880"/>
              <a:ext cx="610560" cy="475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6019200" y="2457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6023520" y="2465640"/>
              <a:ext cx="55836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5988960" y="2459880"/>
              <a:ext cx="25920" cy="101988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6586200" y="2459880"/>
              <a:ext cx="28440" cy="101988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6586200" y="2457360"/>
              <a:ext cx="0" cy="103284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 flipV="1">
              <a:off x="6039720" y="2529360"/>
              <a:ext cx="110880" cy="224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-360 h 224280"/>
                <a:gd name="textAreaBottom" fmla="*/ 224280 h 224280"/>
              </a:gdLst>
              <a:ahLst/>
              <a:rect l="textAreaLeft" t="textAreaTop" r="textAreaRight" b="textAreaBottom"/>
              <a:pathLst>
                <a:path w="21600" h="43619">
                  <a:moveTo>
                    <a:pt x="0" y="0"/>
                  </a:moveTo>
                  <a:arcTo wR="0" hR="0" stAng="16200000" swAng="-5400000"/>
                  <a:lnTo>
                    <a:pt x="0" y="43619"/>
                  </a:lnTo>
                  <a:arcTo wR="0" hR="0" stAng="10800000" swAng="-5400000"/>
                  <a:lnTo>
                    <a:pt x="21600" y="4361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 flipV="1">
              <a:off x="6052320" y="2541240"/>
              <a:ext cx="86400" cy="2016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360 h 201600"/>
                <a:gd name="textAreaBottom" fmla="*/ 202320 h 201600"/>
              </a:gdLst>
              <a:ahLst/>
              <a:rect l="textAreaLeft" t="textAreaTop" r="textAreaRight" b="textAreaBottom"/>
              <a:pathLst>
                <a:path w="21600" h="50280">
                  <a:moveTo>
                    <a:pt x="0" y="0"/>
                  </a:moveTo>
                  <a:arcTo wR="0" hR="0" stAng="16200000" swAng="-5400000"/>
                  <a:lnTo>
                    <a:pt x="0" y="50280"/>
                  </a:lnTo>
                  <a:arcTo wR="0" hR="0" stAng="10800000" swAng="-5400000"/>
                  <a:lnTo>
                    <a:pt x="21600" y="502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 flipV="1">
              <a:off x="6055200" y="267912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 flipV="1">
              <a:off x="6055200" y="2548440"/>
              <a:ext cx="35640" cy="1274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76680">
                  <a:moveTo>
                    <a:pt x="0" y="0"/>
                  </a:moveTo>
                  <a:arcTo wR="0" hR="0" stAng="16200000" swAng="-5400000"/>
                  <a:lnTo>
                    <a:pt x="0" y="76680"/>
                  </a:lnTo>
                  <a:arcTo wR="0" hR="0" stAng="10800000" swAng="-5400000"/>
                  <a:lnTo>
                    <a:pt x="21600" y="7668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 flipV="1">
              <a:off x="6107400" y="2550600"/>
              <a:ext cx="24480" cy="11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98922">
                  <a:moveTo>
                    <a:pt x="0" y="0"/>
                  </a:moveTo>
                  <a:arcTo wR="0" hR="0" stAng="16200000" swAng="-5400000"/>
                  <a:lnTo>
                    <a:pt x="0" y="98922"/>
                  </a:lnTo>
                  <a:arcTo wR="0" hR="0" stAng="10800000" swAng="-5400000"/>
                  <a:lnTo>
                    <a:pt x="21600" y="98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 flipV="1">
              <a:off x="6062400" y="2582640"/>
              <a:ext cx="21240" cy="838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4240">
                  <a:moveTo>
                    <a:pt x="0" y="0"/>
                  </a:moveTo>
                  <a:arcTo wR="0" hR="0" stAng="16200000" swAng="-5400000"/>
                  <a:lnTo>
                    <a:pt x="0" y="84240"/>
                  </a:lnTo>
                  <a:arcTo wR="0" hR="0" stAng="10800000" swAng="-5400000"/>
                  <a:lnTo>
                    <a:pt x="21600" y="8424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 flipV="1">
              <a:off x="6064200" y="2582640"/>
              <a:ext cx="1980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 flipV="1">
              <a:off x="6091200" y="2548440"/>
              <a:ext cx="4320" cy="1274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360 h 127440"/>
                <a:gd name="textAreaBottom" fmla="*/ 128160 h 127440"/>
              </a:gdLst>
              <a:ahLst/>
              <a:rect l="textAreaLeft" t="textAreaTop" r="textAreaRight" b="textAreaBottom"/>
              <a:pathLst>
                <a:path w="21600" h="589846">
                  <a:moveTo>
                    <a:pt x="0" y="0"/>
                  </a:moveTo>
                  <a:arcTo wR="0" hR="0" stAng="16200000" swAng="-5400000"/>
                  <a:lnTo>
                    <a:pt x="0" y="589846"/>
                  </a:lnTo>
                  <a:arcTo wR="0" hR="0" stAng="10800000" swAng="-5400000"/>
                  <a:lnTo>
                    <a:pt x="21600" y="5898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 flipV="1">
              <a:off x="6103080" y="2550600"/>
              <a:ext cx="8280" cy="113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-360 h 113400"/>
                <a:gd name="textAreaBottom" fmla="*/ 113400 h 113400"/>
              </a:gdLst>
              <a:ahLst/>
              <a:rect l="textAreaLeft" t="textAreaTop" r="textAreaRight" b="textAreaBottom"/>
              <a:pathLst>
                <a:path w="21600" h="284400">
                  <a:moveTo>
                    <a:pt x="0" y="0"/>
                  </a:moveTo>
                  <a:arcTo wR="0" hR="0" stAng="16200000" swAng="-5400000"/>
                  <a:lnTo>
                    <a:pt x="0" y="284400"/>
                  </a:lnTo>
                  <a:arcTo wR="0" hR="0" stAng="10800000" swAng="-5400000"/>
                  <a:lnTo>
                    <a:pt x="21600" y="2844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 flipV="1">
              <a:off x="6076800" y="2687040"/>
              <a:ext cx="8640" cy="489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360 h 48960"/>
                <a:gd name="textAreaBottom" fmla="*/ 49680 h 48960"/>
              </a:gdLst>
              <a:ahLst/>
              <a:rect l="textAreaLeft" t="textAreaTop" r="textAreaRight" b="textAreaBottom"/>
              <a:pathLst>
                <a:path w="21600" h="118368">
                  <a:moveTo>
                    <a:pt x="0" y="0"/>
                  </a:moveTo>
                  <a:arcTo wR="0" hR="0" stAng="16200000" swAng="-5400000"/>
                  <a:lnTo>
                    <a:pt x="0" y="118368"/>
                  </a:lnTo>
                  <a:arcTo wR="0" hR="0" stAng="10800000" swAng="-5400000"/>
                  <a:lnTo>
                    <a:pt x="21600" y="11836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6062400" y="2692800"/>
              <a:ext cx="684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6062400" y="2713680"/>
              <a:ext cx="684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6039720" y="2528640"/>
              <a:ext cx="114840" cy="229680"/>
            </a:xfrm>
            <a:custGeom>
              <a:avLst/>
              <a:gdLst/>
              <a:ahLst/>
              <a:rect l="l" t="t" r="r" b="b"/>
              <a:pathLst>
                <a:path w="80" h="164">
                  <a:moveTo>
                    <a:pt x="78" y="0"/>
                  </a:moveTo>
                  <a:lnTo>
                    <a:pt x="79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 flipV="1">
              <a:off x="6113160" y="2688480"/>
              <a:ext cx="8280" cy="18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45900">
                  <a:moveTo>
                    <a:pt x="0" y="0"/>
                  </a:moveTo>
                  <a:arcTo wR="0" hR="0" stAng="16200000" swAng="-5400000"/>
                  <a:lnTo>
                    <a:pt x="0" y="45900"/>
                  </a:lnTo>
                  <a:arcTo wR="0" hR="0" stAng="10800000" swAng="-5400000"/>
                  <a:lnTo>
                    <a:pt x="21600" y="459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 flipV="1">
              <a:off x="6182280" y="2536200"/>
              <a:ext cx="380520" cy="2142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 flipV="1">
              <a:off x="6183720" y="25743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 flipV="1">
              <a:off x="6183720" y="261756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 flipV="1">
              <a:off x="6183720" y="2664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 flipV="1">
              <a:off x="6183720" y="2706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3" name=""/>
            <p:cNvGrpSpPr/>
            <p:nvPr/>
          </p:nvGrpSpPr>
          <p:grpSpPr>
            <a:xfrm>
              <a:off x="6202440" y="2538720"/>
              <a:ext cx="343440" cy="212760"/>
              <a:chOff x="6202440" y="2538720"/>
              <a:chExt cx="343440" cy="212760"/>
            </a:xfrm>
          </p:grpSpPr>
          <p:sp>
            <p:nvSpPr>
              <p:cNvPr id="4894" name=""/>
              <p:cNvSpPr/>
              <p:nvPr/>
            </p:nvSpPr>
            <p:spPr>
              <a:xfrm>
                <a:off x="620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6220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6238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625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62740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6291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6310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6329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6347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636516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6382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6401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64184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64357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6456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6473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649224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650952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652680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6545880" y="25387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4" name=""/>
            <p:cNvSpPr/>
            <p:nvPr/>
          </p:nvSpPr>
          <p:spPr>
            <a:xfrm flipV="1">
              <a:off x="6182280" y="2900880"/>
              <a:ext cx="380520" cy="21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 flipV="1">
              <a:off x="6183720" y="29372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 flipV="1">
              <a:off x="6183720" y="2980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 flipV="1">
              <a:off x="6183720" y="302544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 flipV="1">
              <a:off x="6183720" y="3069000"/>
              <a:ext cx="3765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9" name=""/>
            <p:cNvGrpSpPr/>
            <p:nvPr/>
          </p:nvGrpSpPr>
          <p:grpSpPr>
            <a:xfrm>
              <a:off x="6202440" y="2901600"/>
              <a:ext cx="343440" cy="211320"/>
              <a:chOff x="6202440" y="2901600"/>
              <a:chExt cx="343440" cy="211320"/>
            </a:xfrm>
          </p:grpSpPr>
          <p:sp>
            <p:nvSpPr>
              <p:cNvPr id="4920" name=""/>
              <p:cNvSpPr/>
              <p:nvPr/>
            </p:nvSpPr>
            <p:spPr>
              <a:xfrm>
                <a:off x="620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6220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6238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625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62740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6291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6310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6329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6347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636516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6382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6401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64184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64357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6456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6473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649224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650952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652680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6545880" y="2901600"/>
                <a:ext cx="0" cy="211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0" name=""/>
            <p:cNvSpPr/>
            <p:nvPr/>
          </p:nvSpPr>
          <p:spPr>
            <a:xfrm flipV="1">
              <a:off x="6182280" y="3246840"/>
              <a:ext cx="38052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 flipV="1">
              <a:off x="6183720" y="3284640"/>
              <a:ext cx="376560" cy="39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 flipV="1">
              <a:off x="6183720" y="332712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 flipV="1">
              <a:off x="6183720" y="3371760"/>
              <a:ext cx="3765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 flipV="1">
              <a:off x="6183720" y="3414960"/>
              <a:ext cx="376560" cy="828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5" name=""/>
            <p:cNvGrpSpPr/>
            <p:nvPr/>
          </p:nvGrpSpPr>
          <p:grpSpPr>
            <a:xfrm>
              <a:off x="6202440" y="3247560"/>
              <a:ext cx="343440" cy="212760"/>
              <a:chOff x="6202440" y="3247560"/>
              <a:chExt cx="343440" cy="212760"/>
            </a:xfrm>
          </p:grpSpPr>
          <p:sp>
            <p:nvSpPr>
              <p:cNvPr id="4946" name=""/>
              <p:cNvSpPr/>
              <p:nvPr/>
            </p:nvSpPr>
            <p:spPr>
              <a:xfrm>
                <a:off x="620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6220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6238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625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62740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6291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6310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6329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6347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636516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6382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6401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64184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64357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6456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6473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649224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650952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652680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6545880" y="32475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6" name=""/>
            <p:cNvSpPr/>
            <p:nvPr/>
          </p:nvSpPr>
          <p:spPr>
            <a:xfrm flipV="1">
              <a:off x="6039720" y="2795040"/>
              <a:ext cx="9792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6039720" y="2795040"/>
              <a:ext cx="10044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 flipV="1">
              <a:off x="6039720" y="2837880"/>
              <a:ext cx="14112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6039720" y="2838600"/>
              <a:ext cx="144000" cy="36000"/>
            </a:xfrm>
            <a:custGeom>
              <a:avLst/>
              <a:gdLst/>
              <a:ahLst/>
              <a:rect l="l" t="t" r="r" b="b"/>
              <a:pathLst>
                <a:path w="100" h="26">
                  <a:moveTo>
                    <a:pt x="0" y="25"/>
                  </a:moveTo>
                  <a:lnTo>
                    <a:pt x="99" y="25"/>
                  </a:lnTo>
                  <a:lnTo>
                    <a:pt x="9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0" name=""/>
          <p:cNvSpPr/>
          <p:nvPr/>
        </p:nvSpPr>
        <p:spPr>
          <a:xfrm>
            <a:off x="5615280" y="3549600"/>
            <a:ext cx="13251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.root-servers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1" name=""/>
          <p:cNvGrpSpPr/>
          <p:nvPr/>
        </p:nvGrpSpPr>
        <p:grpSpPr>
          <a:xfrm>
            <a:off x="2563920" y="2538000"/>
            <a:ext cx="631800" cy="1074960"/>
            <a:chOff x="2563920" y="2538000"/>
            <a:chExt cx="631800" cy="1074960"/>
          </a:xfrm>
        </p:grpSpPr>
        <p:sp>
          <p:nvSpPr>
            <p:cNvPr id="4972" name=""/>
            <p:cNvSpPr/>
            <p:nvPr/>
          </p:nvSpPr>
          <p:spPr>
            <a:xfrm flipV="1">
              <a:off x="2563920" y="2537640"/>
              <a:ext cx="631800" cy="102852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-360 h 1028520"/>
                <a:gd name="textAreaBottom" fmla="*/ 1028520 h 1028520"/>
              </a:gdLst>
              <a:ahLst/>
              <a:rect l="textAreaLeft" t="textAreaTop" r="textAreaRight" b="textAreaBottom"/>
              <a:pathLst>
                <a:path w="21600" h="35155">
                  <a:moveTo>
                    <a:pt x="0" y="0"/>
                  </a:moveTo>
                  <a:arcTo wR="0" hR="0" stAng="16200000" swAng="-5400000"/>
                  <a:lnTo>
                    <a:pt x="0" y="35155"/>
                  </a:lnTo>
                  <a:arcTo wR="0" hR="0" stAng="10800000" swAng="-5400000"/>
                  <a:lnTo>
                    <a:pt x="21600" y="351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a2a2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 flipV="1">
              <a:off x="2576880" y="3566880"/>
              <a:ext cx="611280" cy="460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2595600" y="2538360"/>
              <a:ext cx="0" cy="102852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2599920" y="2546640"/>
              <a:ext cx="559440" cy="1017000"/>
            </a:xfrm>
            <a:custGeom>
              <a:avLst/>
              <a:gdLst/>
              <a:ahLst/>
              <a:rect l="l" t="t" r="r" b="b"/>
              <a:pathLst>
                <a:path w="387" h="726">
                  <a:moveTo>
                    <a:pt x="0" y="725"/>
                  </a:moveTo>
                  <a:lnTo>
                    <a:pt x="0" y="0"/>
                  </a:lnTo>
                  <a:lnTo>
                    <a:pt x="386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2565000" y="2540880"/>
              <a:ext cx="25920" cy="1020240"/>
            </a:xfrm>
            <a:custGeom>
              <a:avLst/>
              <a:gdLst/>
              <a:ahLst/>
              <a:rect l="l" t="t" r="r" b="b"/>
              <a:pathLst>
                <a:path w="18" h="728">
                  <a:moveTo>
                    <a:pt x="0" y="727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3165480" y="2540880"/>
              <a:ext cx="28800" cy="1020240"/>
            </a:xfrm>
            <a:custGeom>
              <a:avLst/>
              <a:gdLst/>
              <a:ahLst/>
              <a:rect l="l" t="t" r="r" b="b"/>
              <a:pathLst>
                <a:path w="20" h="728">
                  <a:moveTo>
                    <a:pt x="0" y="0"/>
                  </a:moveTo>
                  <a:lnTo>
                    <a:pt x="19" y="0"/>
                  </a:lnTo>
                  <a:lnTo>
                    <a:pt x="19" y="72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3165480" y="2538360"/>
              <a:ext cx="0" cy="1032480"/>
            </a:xfrm>
            <a:prstGeom prst="line">
              <a:avLst/>
            </a:prstGeom>
            <a:ln w="9360">
              <a:solidFill>
                <a:srgbClr val="2f2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 flipV="1">
              <a:off x="2617200" y="2611440"/>
              <a:ext cx="109800" cy="223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360 h 223920"/>
                <a:gd name="textAreaBottom" fmla="*/ 224640 h 223920"/>
              </a:gdLst>
              <a:ahLst/>
              <a:rect l="textAreaLeft" t="textAreaTop" r="textAreaRight" b="textAreaBottom"/>
              <a:pathLst>
                <a:path w="21600" h="43976">
                  <a:moveTo>
                    <a:pt x="0" y="0"/>
                  </a:moveTo>
                  <a:arcTo wR="0" hR="0" stAng="16200000" swAng="-5400000"/>
                  <a:lnTo>
                    <a:pt x="0" y="43976"/>
                  </a:lnTo>
                  <a:arcTo wR="0" hR="0" stAng="10800000" swAng="-5400000"/>
                  <a:lnTo>
                    <a:pt x="21600" y="439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 flipV="1">
              <a:off x="2629080" y="2623680"/>
              <a:ext cx="86400" cy="2001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200160"/>
                <a:gd name="textAreaBottom" fmla="*/ 200160 h 200160"/>
              </a:gdLst>
              <a:ahLst/>
              <a:rect l="textAreaLeft" t="textAreaTop" r="textAreaRight" b="textAreaBottom"/>
              <a:pathLst>
                <a:path w="21600" h="49922">
                  <a:moveTo>
                    <a:pt x="0" y="0"/>
                  </a:moveTo>
                  <a:arcTo wR="0" hR="0" stAng="16200000" swAng="-5400000"/>
                  <a:lnTo>
                    <a:pt x="0" y="49922"/>
                  </a:lnTo>
                  <a:arcTo wR="0" hR="0" stAng="10800000" swAng="-5400000"/>
                  <a:lnTo>
                    <a:pt x="21600" y="499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2631600" y="2760480"/>
              <a:ext cx="80640" cy="58680"/>
            </a:xfrm>
            <a:prstGeom prst="roundRect">
              <a:avLst>
                <a:gd name="adj" fmla="val 0"/>
              </a:avLst>
            </a:prstGeom>
            <a:solidFill>
              <a:srgbClr val="c0c0c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 flipV="1">
              <a:off x="2631600" y="2628720"/>
              <a:ext cx="36360" cy="127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74965">
                  <a:moveTo>
                    <a:pt x="0" y="0"/>
                  </a:moveTo>
                  <a:arcTo wR="0" hR="0" stAng="16200000" swAng="-5400000"/>
                  <a:lnTo>
                    <a:pt x="0" y="74965"/>
                  </a:lnTo>
                  <a:arcTo wR="0" hR="0" stAng="10800000" swAng="-5400000"/>
                  <a:lnTo>
                    <a:pt x="21600" y="749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 flipV="1">
              <a:off x="2683800" y="2631600"/>
              <a:ext cx="25560" cy="1119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93600">
                  <a:moveTo>
                    <a:pt x="0" y="0"/>
                  </a:moveTo>
                  <a:arcTo wR="0" hR="0" stAng="16200000" swAng="-5400000"/>
                  <a:lnTo>
                    <a:pt x="0" y="93600"/>
                  </a:lnTo>
                  <a:arcTo wR="0" hR="0" stAng="10800000" swAng="-5400000"/>
                  <a:lnTo>
                    <a:pt x="21600" y="936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 flipV="1">
              <a:off x="2640600" y="2663640"/>
              <a:ext cx="20160" cy="838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-36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21600" h="88674">
                  <a:moveTo>
                    <a:pt x="0" y="0"/>
                  </a:moveTo>
                  <a:arcTo wR="0" hR="0" stAng="16200000" swAng="-5400000"/>
                  <a:lnTo>
                    <a:pt x="0" y="88674"/>
                  </a:lnTo>
                  <a:arcTo wR="0" hR="0" stAng="10800000" swAng="-5400000"/>
                  <a:lnTo>
                    <a:pt x="21600" y="886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 flipV="1">
              <a:off x="2640600" y="2663640"/>
              <a:ext cx="20160" cy="6840"/>
            </a:xfrm>
            <a:prstGeom prst="roundRect">
              <a:avLst>
                <a:gd name="adj" fmla="val 0"/>
              </a:avLst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 flipV="1">
              <a:off x="2667960" y="2628720"/>
              <a:ext cx="3960" cy="12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-360 h 127080"/>
                <a:gd name="textAreaBottom" fmla="*/ 127080 h 127080"/>
              </a:gdLst>
              <a:ahLst/>
              <a:rect l="textAreaLeft" t="textAreaTop" r="textAreaRight" b="textAreaBottom"/>
              <a:pathLst>
                <a:path w="21600" h="637200">
                  <a:moveTo>
                    <a:pt x="0" y="0"/>
                  </a:moveTo>
                  <a:arcTo wR="0" hR="0" stAng="16200000" swAng="-5400000"/>
                  <a:lnTo>
                    <a:pt x="0" y="637200"/>
                  </a:lnTo>
                  <a:arcTo wR="0" hR="0" stAng="10800000" swAng="-5400000"/>
                  <a:lnTo>
                    <a:pt x="21600" y="63720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 flipV="1">
              <a:off x="2679480" y="2631600"/>
              <a:ext cx="10080" cy="11196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-36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21600" h="232386">
                  <a:moveTo>
                    <a:pt x="0" y="0"/>
                  </a:moveTo>
                  <a:arcTo wR="0" hR="0" stAng="16200000" swAng="-5400000"/>
                  <a:lnTo>
                    <a:pt x="0" y="232386"/>
                  </a:lnTo>
                  <a:arcTo wR="0" hR="0" stAng="10800000" swAng="-5400000"/>
                  <a:lnTo>
                    <a:pt x="21600" y="2323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 flipV="1">
              <a:off x="2653200" y="2767680"/>
              <a:ext cx="8640" cy="48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-360 h 48600"/>
                <a:gd name="textAreaBottom" fmla="*/ 48600 h 48600"/>
              </a:gdLst>
              <a:ahLst/>
              <a:rect l="textAreaLeft" t="textAreaTop" r="textAreaRight" b="textAreaBottom"/>
              <a:pathLst>
                <a:path w="21600" h="117504">
                  <a:moveTo>
                    <a:pt x="0" y="0"/>
                  </a:moveTo>
                  <a:arcTo wR="0" hR="0" stAng="16200000" swAng="-5400000"/>
                  <a:lnTo>
                    <a:pt x="0" y="117504"/>
                  </a:lnTo>
                  <a:arcTo wR="0" hR="0" stAng="10800000" swAng="-5400000"/>
                  <a:lnTo>
                    <a:pt x="21600" y="11750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2640600" y="2773800"/>
              <a:ext cx="7200" cy="684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2640600" y="2794680"/>
              <a:ext cx="7200" cy="8280"/>
            </a:xfrm>
            <a:prstGeom prst="ellipse">
              <a:avLst/>
            </a:prstGeom>
            <a:solidFill>
              <a:srgbClr val="404040"/>
            </a:solidFill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2615760" y="2609640"/>
              <a:ext cx="117000" cy="230040"/>
            </a:xfrm>
            <a:custGeom>
              <a:avLst/>
              <a:gdLst/>
              <a:ahLst/>
              <a:rect l="l" t="t" r="r" b="b"/>
              <a:pathLst>
                <a:path w="81" h="164">
                  <a:moveTo>
                    <a:pt x="78" y="0"/>
                  </a:moveTo>
                  <a:lnTo>
                    <a:pt x="80" y="163"/>
                  </a:lnTo>
                  <a:lnTo>
                    <a:pt x="0" y="163"/>
                  </a:ln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 flipV="1">
              <a:off x="2689560" y="2769480"/>
              <a:ext cx="10080" cy="18000"/>
            </a:xfrm>
            <a:custGeom>
              <a:avLst/>
              <a:gdLst>
                <a:gd name="textAreaLeft" fmla="*/ 0 w 10080"/>
                <a:gd name="textAreaRight" fmla="*/ 10080 w 10080"/>
                <a:gd name="textAreaTop" fmla="*/ 360 h 18000"/>
                <a:gd name="textAreaBottom" fmla="*/ 18720 h 18000"/>
              </a:gdLst>
              <a:ahLst/>
              <a:rect l="textAreaLeft" t="textAreaTop" r="textAreaRight" b="textAreaBottom"/>
              <a:pathLst>
                <a:path w="21600" h="37986">
                  <a:moveTo>
                    <a:pt x="0" y="0"/>
                  </a:moveTo>
                  <a:arcTo wR="0" hR="0" stAng="16200000" swAng="-5400000"/>
                  <a:lnTo>
                    <a:pt x="0" y="37986"/>
                  </a:lnTo>
                  <a:arcTo wR="0" hR="0" stAng="10800000" swAng="-5400000"/>
                  <a:lnTo>
                    <a:pt x="21600" y="3798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e1e1e1"/>
            </a:solidFill>
            <a:ln w="936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 flipV="1">
              <a:off x="2760480" y="2618280"/>
              <a:ext cx="381600" cy="2138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 flipV="1">
              <a:off x="2760480" y="26553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 flipV="1">
              <a:off x="2760480" y="269892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 flipV="1">
              <a:off x="2760480" y="2745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 flipV="1">
              <a:off x="2760480" y="2786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8" name=""/>
            <p:cNvGrpSpPr/>
            <p:nvPr/>
          </p:nvGrpSpPr>
          <p:grpSpPr>
            <a:xfrm>
              <a:off x="2780640" y="2619360"/>
              <a:ext cx="343800" cy="212760"/>
              <a:chOff x="2780640" y="2619360"/>
              <a:chExt cx="343800" cy="212760"/>
            </a:xfrm>
          </p:grpSpPr>
          <p:sp>
            <p:nvSpPr>
              <p:cNvPr id="4999" name=""/>
              <p:cNvSpPr/>
              <p:nvPr/>
            </p:nvSpPr>
            <p:spPr>
              <a:xfrm>
                <a:off x="2780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2799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28148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28321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2852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2869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28872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2907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2926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2943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29595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29782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29959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3014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303300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305208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306936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30866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310572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3124440" y="261936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9" name=""/>
            <p:cNvSpPr/>
            <p:nvPr/>
          </p:nvSpPr>
          <p:spPr>
            <a:xfrm flipV="1">
              <a:off x="2760480" y="2982240"/>
              <a:ext cx="381600" cy="213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 flipV="1">
              <a:off x="2760480" y="30182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 flipV="1">
              <a:off x="2760480" y="30618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 flipV="1">
              <a:off x="2760480" y="310644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 flipV="1">
              <a:off x="2760480" y="3150360"/>
              <a:ext cx="378360" cy="72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4" name=""/>
            <p:cNvGrpSpPr/>
            <p:nvPr/>
          </p:nvGrpSpPr>
          <p:grpSpPr>
            <a:xfrm>
              <a:off x="2780640" y="2982240"/>
              <a:ext cx="343800" cy="213120"/>
              <a:chOff x="2780640" y="2982240"/>
              <a:chExt cx="343800" cy="213120"/>
            </a:xfrm>
          </p:grpSpPr>
          <p:sp>
            <p:nvSpPr>
              <p:cNvPr id="5025" name=""/>
              <p:cNvSpPr/>
              <p:nvPr/>
            </p:nvSpPr>
            <p:spPr>
              <a:xfrm>
                <a:off x="2780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2799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28148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28321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2852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2869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28872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2907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2926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2943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29595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29782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29959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3014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303300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305208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306936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30866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310572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3124440" y="2982240"/>
                <a:ext cx="0" cy="2131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5" name=""/>
            <p:cNvSpPr/>
            <p:nvPr/>
          </p:nvSpPr>
          <p:spPr>
            <a:xfrm flipV="1">
              <a:off x="2760480" y="3328200"/>
              <a:ext cx="381600" cy="2127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 flipV="1">
              <a:off x="2760480" y="3366000"/>
              <a:ext cx="378360" cy="540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 flipV="1">
              <a:off x="2760480" y="3407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 flipV="1">
              <a:off x="2760480" y="345276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 flipV="1">
              <a:off x="2760480" y="3497400"/>
              <a:ext cx="378360" cy="68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e1e1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0" name=""/>
            <p:cNvGrpSpPr/>
            <p:nvPr/>
          </p:nvGrpSpPr>
          <p:grpSpPr>
            <a:xfrm>
              <a:off x="2780640" y="3328920"/>
              <a:ext cx="343800" cy="212760"/>
              <a:chOff x="2780640" y="3328920"/>
              <a:chExt cx="343800" cy="212760"/>
            </a:xfrm>
          </p:grpSpPr>
          <p:sp>
            <p:nvSpPr>
              <p:cNvPr id="5051" name=""/>
              <p:cNvSpPr/>
              <p:nvPr/>
            </p:nvSpPr>
            <p:spPr>
              <a:xfrm>
                <a:off x="2780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2799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28148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28321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2852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2869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28872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2907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2926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2943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29595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29782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29959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3014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303300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305208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306936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30866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310572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3124440" y="3328920"/>
                <a:ext cx="0" cy="212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1" name=""/>
            <p:cNvSpPr/>
            <p:nvPr/>
          </p:nvSpPr>
          <p:spPr>
            <a:xfrm flipV="1">
              <a:off x="2617200" y="2876040"/>
              <a:ext cx="98280" cy="2376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2615760" y="2876040"/>
              <a:ext cx="101160" cy="27720"/>
            </a:xfrm>
            <a:custGeom>
              <a:avLst/>
              <a:gdLst/>
              <a:ahLst/>
              <a:rect l="l" t="t" r="r" b="b"/>
              <a:pathLst>
                <a:path w="70" h="20">
                  <a:moveTo>
                    <a:pt x="0" y="19"/>
                  </a:moveTo>
                  <a:lnTo>
                    <a:pt x="69" y="19"/>
                  </a:lnTo>
                  <a:lnTo>
                    <a:pt x="6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 flipV="1">
              <a:off x="2617200" y="2918880"/>
              <a:ext cx="140040" cy="32040"/>
            </a:xfrm>
            <a:prstGeom prst="roundRect">
              <a:avLst>
                <a:gd name="adj" fmla="val 0"/>
              </a:avLst>
            </a:prstGeom>
            <a:solidFill>
              <a:srgbClr val="e1e1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2615760" y="2919600"/>
              <a:ext cx="145800" cy="3636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25"/>
                  </a:moveTo>
                  <a:lnTo>
                    <a:pt x="100" y="25"/>
                  </a:ln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5" name=""/>
          <p:cNvSpPr/>
          <p:nvPr/>
        </p:nvSpPr>
        <p:spPr>
          <a:xfrm>
            <a:off x="2204280" y="3809880"/>
            <a:ext cx="18766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kota.west.sprockets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6" name=""/>
          <p:cNvSpPr/>
          <p:nvPr/>
        </p:nvSpPr>
        <p:spPr>
          <a:xfrm>
            <a:off x="3991320" y="4768920"/>
            <a:ext cx="178092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s1.sanjose.nominum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can be Resolv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name in the nam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(IN), Chaos (CH), Hesiod (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(A, AAAA, A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(PTR, NAP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ases (CNAME, D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related (TSIG, SIG, NXT, K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the D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NS Structure and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NS in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NS is als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okup mechanism for translating objects into other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ised of thre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“name spa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s making that name spac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s (clients) which query the servers about the nam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S Structure and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NS imposes no constraints on how the DNS hierarchy is implemented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bel restri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site is not connected to the Internet, it can use any domain hierarchy it cho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ake up whatever TLDs you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ng to the Internet implies use of the existing DNS hierarc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-level Domain (TLD)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83 (RFC 881), the idea was to have TLDs correspond to network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ARPA, DDN, CSNE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d idea: if your network changes, your email address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84 (RFC 920), functional domains was esta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tivation is to provide an organization name that is free of undesirable semantic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GOV for Government, COM for commercial, EDU for education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 920 also provid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d for country doma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d for “Multiorganization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, composed of other (particularly international) organ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d a stable TLD structure until 1996 or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Domain Name W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6,the US National Science Foundation permitted Network Solutions to charge a usage fee for the allocation and registration of domain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mpensate for the explosive growth the Internet was facing at th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ant controversy caused the US Government (Dept. of Commerce)  to take a much more active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ial governmental policy (the White Paper) on Internet resource administration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policy resulted in the creation of IC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et Corporation for Assigned Names and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fornia non-profit, operating in Marina Del Rey, California,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Support Organ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 Support Organization, Domain Name Support Organization, Protocol Support 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oard of 19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 elected by public 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each by each of the 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President/C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committ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vernmental Advisory Committee, Addressing Ad Hoc Committee, etc. that advise th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ANN’s R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versee administer Internet resources incl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gating blocks of addresses to the regional regi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identifiers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ng port numbe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of the root zon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sight of the operation of the root name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net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NS protocol assumes a consistent nam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onsistency is enforced by the constraint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oot for the Internet domain nam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assumption on how that single root is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ANN oversees modification of the zone file that makes up the Internet DNS 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Roo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ngle root is often seen as a single point of control for the entir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 control of the root zone file implies the ability to control the entir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root solutions have often been prop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ess coordinated, inconsistencies will almost certainly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ould be very, very 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 from the DNS would depend on where you are and who you 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S Fundamental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al respon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query always gets the same answer no matter where it was asked or what name server(s) were quer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e (multiple) root solutions generally violate this fundamental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Root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/>
          </p:nvPr>
        </p:nvSpPr>
        <p:spPr>
          <a:xfrm>
            <a:off x="601560" y="1679040"/>
            <a:ext cx="7796160" cy="47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define different name spac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gus T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reachable email addresses and web sites only visible from a DNS tree served by another “roo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ke domains and T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r mo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necessarily iden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or mo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n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omains (s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one is “real”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existent, but real T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e served by alternate root drop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u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a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s of confusion…. And litig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oot Nameser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 of the root zone file is pointless unless that zone file is pu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ot zone file is published on 13 servers, “A” through “M”, around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root nameserver is a function of network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name server operations currently provided by volunteer efforts by a very diverse set of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nteer nature will change s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S as a Lookup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generally prefer names to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s prefer numbers to n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provides the mapping between the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have “x”, give me “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directory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way to search the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asy way to add this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1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 Name Server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2" name=""/>
          <p:cNvGraphicFramePr/>
          <p:nvPr/>
        </p:nvGraphicFramePr>
        <p:xfrm>
          <a:off x="555480" y="1411200"/>
          <a:ext cx="8010360" cy="4689360"/>
        </p:xfrm>
        <a:graphic>
          <a:graphicData uri="http://schemas.openxmlformats.org/drawingml/2006/table">
            <a:tbl>
              <a:tblPr/>
              <a:tblGrid>
                <a:gridCol w="1339560"/>
                <a:gridCol w="667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ed by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isign (US East Coa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of S. California –Information Sciences Institute (US West Coa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SI (US East Coa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y of Maryland (US East Coa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SA (Ames) (US West Coa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et Software Consortium (US West Coa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 S. Dept. of Defense (ARL) (US East Coa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 S. Dept. of Defense (DISA) (US East Coa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TH (S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isign (US East Coa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PE-NCC (U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CANN (US West Coa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DE (J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urrent T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4" name=""/>
          <p:cNvGraphicFramePr/>
          <p:nvPr/>
        </p:nvGraphicFramePr>
        <p:xfrm>
          <a:off x="685800" y="2236680"/>
          <a:ext cx="7772400" cy="36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36680"/>
                    <a:ext cx="7772400" cy="36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“Generic” Top-Level Domains (gT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OM, .NET, and 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far the largest top level domains on the Internet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COM has approx.  20,000,000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ly no restriction on what can be regi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Solutions (now Verisign) received the contract for the registry for .COM, .NET, and 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a registrar for these T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Top Level Dom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, ICANN created 7 new top level domai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aero, .biz, .coop, .info, .museum, .name, .p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re chartered (.aero, .coop, .museum, .name, .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re generic (.biz, .inf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eople unhappy with the process by which these new TLDs were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 continued “discuss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ntry Code Top-Level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FC 920, the concept of domains delegated on the basis of nations was recog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niently, ISO has a list of “official” country code abbrev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-31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NA has also used Universal Postal C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.g., .GG for Guerns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consideration is to use lists other organizations define to avoid getting into political battles over what is or is not a valid ccT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ing a ccT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each country top-level domain is organized is up to the coun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, like Australia’s au, follow the functional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.a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du.a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, like Great Britain’s uk and Japan’s jp, divide the domain functionally but use their own abbrev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.u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.u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e.j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d.j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ew, like the United State’s us, are largely geograph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.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d.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are flat, that is, no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lnet.n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niv-st-etienne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ed a question of national sovereig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arp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Address and Routing Paramete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Advanced Research Projects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Dept. of Defense network, precursor to th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 infrastructure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4 reverse (address to name) look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 reverse look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1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.arpa is hard-coded into the DN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S resolver software has it explici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TL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GOV – used by US Governmental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state.gov, doj.gov, whitehouse.gov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MIL – used by the US Mili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af.mil, army.mil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EDU – used for Education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learning, not only US-bas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harvard.edu, unu.edu, utoronto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INT – international treaty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itu.int, nato.int, wipo.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istries, Registrars, and Regist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625320" y="1498680"/>
            <a:ext cx="783288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omain Wars resulted in a codification of roles in the operation of a domain nam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ame space’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rganization which has edit control of tha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ing dispute resolution, policy control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rganization which runs the authoritative name servers for that name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gent which submits change requests to the registry on behalf of the regist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tity which makes use of the domai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istries, Registrars, and Regist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>
            <a:off x="507960" y="1981080"/>
            <a:ext cx="2656080" cy="763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>
            <a:off x="4200480" y="1919160"/>
            <a:ext cx="1189080" cy="852480"/>
          </a:xfrm>
          <a:prstGeom prst="ca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mainfrm"/>
          <p:cNvSpPr/>
          <p:nvPr/>
        </p:nvSpPr>
        <p:spPr>
          <a:xfrm>
            <a:off x="6699240" y="3465360"/>
            <a:ext cx="2073240" cy="532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mainfrm"/>
          <p:cNvSpPr/>
          <p:nvPr/>
        </p:nvSpPr>
        <p:spPr>
          <a:xfrm>
            <a:off x="5432400" y="4268880"/>
            <a:ext cx="2073240" cy="531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Cloud"/>
          <p:cNvSpPr/>
          <p:nvPr/>
        </p:nvSpPr>
        <p:spPr>
          <a:xfrm>
            <a:off x="495360" y="5513400"/>
            <a:ext cx="4695840" cy="9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6" name=""/>
          <p:cNvGrpSpPr/>
          <p:nvPr/>
        </p:nvGrpSpPr>
        <p:grpSpPr>
          <a:xfrm>
            <a:off x="2400480" y="4654440"/>
            <a:ext cx="2238120" cy="905040"/>
            <a:chOff x="2400480" y="4654440"/>
            <a:chExt cx="2238120" cy="905040"/>
          </a:xfrm>
        </p:grpSpPr>
        <p:sp>
          <p:nvSpPr>
            <p:cNvPr id="5127" name=""/>
            <p:cNvSpPr/>
            <p:nvPr/>
          </p:nvSpPr>
          <p:spPr>
            <a:xfrm>
              <a:off x="2400480" y="4654440"/>
              <a:ext cx="285480" cy="905040"/>
            </a:xfrm>
            <a:prstGeom prst="upArrow">
              <a:avLst>
                <a:gd name="adj1" fmla="val 50000"/>
                <a:gd name="adj2" fmla="val 79256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2784600" y="4768920"/>
              <a:ext cx="185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 user reques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/modify/del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9" name=""/>
          <p:cNvGrpSpPr/>
          <p:nvPr/>
        </p:nvGrpSpPr>
        <p:grpSpPr>
          <a:xfrm>
            <a:off x="2381400" y="2768760"/>
            <a:ext cx="2252160" cy="1342800"/>
            <a:chOff x="2381400" y="2768760"/>
            <a:chExt cx="2252160" cy="1342800"/>
          </a:xfrm>
        </p:grpSpPr>
        <p:sp>
          <p:nvSpPr>
            <p:cNvPr id="5130" name=""/>
            <p:cNvSpPr/>
            <p:nvPr/>
          </p:nvSpPr>
          <p:spPr>
            <a:xfrm>
              <a:off x="2381400" y="2768760"/>
              <a:ext cx="285480" cy="1342800"/>
            </a:xfrm>
            <a:prstGeom prst="upArrow">
              <a:avLst>
                <a:gd name="adj1" fmla="val 50000"/>
                <a:gd name="adj2" fmla="val 117591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2726280" y="2949480"/>
              <a:ext cx="1907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gistrar submi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d/modify/delet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 regis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2" name=""/>
          <p:cNvGrpSpPr/>
          <p:nvPr/>
        </p:nvGrpSpPr>
        <p:grpSpPr>
          <a:xfrm>
            <a:off x="522360" y="3873600"/>
            <a:ext cx="4448160" cy="772920"/>
            <a:chOff x="522360" y="3873600"/>
            <a:chExt cx="4448160" cy="772920"/>
          </a:xfrm>
        </p:grpSpPr>
        <p:sp>
          <p:nvSpPr>
            <p:cNvPr id="5133" name=""/>
            <p:cNvSpPr/>
            <p:nvPr/>
          </p:nvSpPr>
          <p:spPr>
            <a:xfrm>
              <a:off x="522360" y="3881520"/>
              <a:ext cx="1290600" cy="7635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gistr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3679920" y="3873600"/>
              <a:ext cx="1290600" cy="7635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gistr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2114640" y="3882960"/>
              <a:ext cx="1290600" cy="7635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gistr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6" name=""/>
          <p:cNvGrpSpPr/>
          <p:nvPr/>
        </p:nvGrpSpPr>
        <p:grpSpPr>
          <a:xfrm>
            <a:off x="4673520" y="1406520"/>
            <a:ext cx="2952720" cy="713880"/>
            <a:chOff x="4673520" y="1406520"/>
            <a:chExt cx="2952720" cy="713880"/>
          </a:xfrm>
        </p:grpSpPr>
        <p:sp>
          <p:nvSpPr>
            <p:cNvPr id="5137" name=""/>
            <p:cNvSpPr/>
            <p:nvPr/>
          </p:nvSpPr>
          <p:spPr>
            <a:xfrm>
              <a:off x="4673520" y="1406520"/>
              <a:ext cx="2952720" cy="588960"/>
            </a:xfrm>
            <a:custGeom>
              <a:avLst/>
              <a:gdLst>
                <a:gd name="textAreaLeft" fmla="*/ 596160 w 2952720"/>
                <a:gd name="textAreaRight" fmla="*/ 2061360 w 2952720"/>
                <a:gd name="textAreaTop" fmla="*/ 78840 h 588960"/>
                <a:gd name="textAreaBottom" fmla="*/ 510120 h 58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722" hR="21600" stAng="10800000" swAng="5400000"/>
                  <a:lnTo>
                    <a:pt x="10718" y="0"/>
                  </a:lnTo>
                  <a:arcTo wR="8722" hR="21600" stAng="-5400000" swAng="2927728"/>
                  <a:lnTo>
                    <a:pt x="21101" y="14400"/>
                  </a:lnTo>
                  <a:lnTo>
                    <a:pt x="18442" y="21600"/>
                  </a:lnTo>
                  <a:lnTo>
                    <a:pt x="14785" y="14400"/>
                  </a:lnTo>
                  <a:lnTo>
                    <a:pt x="16945" y="14400"/>
                  </a:lnTo>
                  <a:arcTo wR="8722" hR="21600" stAng="-2472272" swAng="-2767956"/>
                  <a:lnTo>
                    <a:pt x="9720" y="142"/>
                  </a:lnTo>
                  <a:arcTo wR="8722" hR="21600" stAng="-5559772" swAng="-5240228"/>
                  <a:close/>
                </a:path>
                <a:path fill="darkenLess" w="21600" h="21600">
                  <a:moveTo>
                    <a:pt x="0" y="21600"/>
                  </a:moveTo>
                  <a:arcTo wR="8722" hR="21600" stAng="10800000" swAng="5400000"/>
                  <a:lnTo>
                    <a:pt x="8722" y="0"/>
                  </a:lnTo>
                  <a:arcTo wR="8722" hR="21600" stAng="-5400000" swAng="159772"/>
                  <a:lnTo>
                    <a:pt x="9720" y="142"/>
                  </a:lnTo>
                  <a:arcTo wR="8722" hR="21600" stAng="-5559772" swAng="-5240228"/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579280" y="1477800"/>
              <a:ext cx="90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pda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9" name=""/>
          <p:cNvGrpSpPr/>
          <p:nvPr/>
        </p:nvGrpSpPr>
        <p:grpSpPr>
          <a:xfrm>
            <a:off x="1903320" y="1405080"/>
            <a:ext cx="3456000" cy="713880"/>
            <a:chOff x="1903320" y="1405080"/>
            <a:chExt cx="3456000" cy="713880"/>
          </a:xfrm>
        </p:grpSpPr>
        <p:sp>
          <p:nvSpPr>
            <p:cNvPr id="5140" name=""/>
            <p:cNvSpPr/>
            <p:nvPr/>
          </p:nvSpPr>
          <p:spPr>
            <a:xfrm>
              <a:off x="1903320" y="1405080"/>
              <a:ext cx="3456000" cy="588960"/>
            </a:xfrm>
            <a:custGeom>
              <a:avLst/>
              <a:gdLst>
                <a:gd name="textAreaLeft" fmla="*/ 697680 w 3456000"/>
                <a:gd name="textAreaRight" fmla="*/ 2412720 w 3456000"/>
                <a:gd name="textAreaTop" fmla="*/ 78840 h 588960"/>
                <a:gd name="textAreaBottom" fmla="*/ 510120 h 58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722" hR="21600" stAng="10800000" swAng="5400000"/>
                  <a:lnTo>
                    <a:pt x="10718" y="0"/>
                  </a:lnTo>
                  <a:arcTo wR="8722" hR="21600" stAng="-5400000" swAng="2927728"/>
                  <a:lnTo>
                    <a:pt x="21101" y="14400"/>
                  </a:lnTo>
                  <a:lnTo>
                    <a:pt x="18442" y="21600"/>
                  </a:lnTo>
                  <a:lnTo>
                    <a:pt x="14785" y="14400"/>
                  </a:lnTo>
                  <a:lnTo>
                    <a:pt x="16945" y="14400"/>
                  </a:lnTo>
                  <a:arcTo wR="8722" hR="21600" stAng="-2472272" swAng="-2767956"/>
                  <a:lnTo>
                    <a:pt x="9720" y="142"/>
                  </a:lnTo>
                  <a:arcTo wR="8722" hR="21600" stAng="-5559772" swAng="-5240228"/>
                  <a:close/>
                </a:path>
                <a:path fill="darkenLess" w="21600" h="21600">
                  <a:moveTo>
                    <a:pt x="0" y="21600"/>
                  </a:moveTo>
                  <a:arcTo wR="8722" hR="21600" stAng="10800000" swAng="5400000"/>
                  <a:lnTo>
                    <a:pt x="8722" y="0"/>
                  </a:lnTo>
                  <a:arcTo wR="8722" hR="21600" stAng="-5400000" swAng="159772"/>
                  <a:lnTo>
                    <a:pt x="9720" y="142"/>
                  </a:lnTo>
                  <a:arcTo wR="8722" hR="21600" stAng="-5559772" swAng="-5240228"/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2635560" y="1476360"/>
              <a:ext cx="171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gistry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2" name=""/>
          <p:cNvGrpSpPr/>
          <p:nvPr/>
        </p:nvGrpSpPr>
        <p:grpSpPr>
          <a:xfrm>
            <a:off x="5436360" y="2304000"/>
            <a:ext cx="2116800" cy="2032560"/>
            <a:chOff x="5436360" y="2304000"/>
            <a:chExt cx="2116800" cy="2032560"/>
          </a:xfrm>
        </p:grpSpPr>
        <p:sp>
          <p:nvSpPr>
            <p:cNvPr id="5143" name=""/>
            <p:cNvSpPr/>
            <p:nvPr/>
          </p:nvSpPr>
          <p:spPr>
            <a:xfrm rot="1611000">
              <a:off x="6133680" y="2298240"/>
              <a:ext cx="463680" cy="2043360"/>
            </a:xfrm>
            <a:prstGeom prst="downArrow">
              <a:avLst>
                <a:gd name="adj1" fmla="val 28769"/>
                <a:gd name="adj2" fmla="val 83526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7253280" y="2604960"/>
              <a:ext cx="299880" cy="865440"/>
            </a:xfrm>
            <a:prstGeom prst="downArrow">
              <a:avLst>
                <a:gd name="adj1" fmla="val 50000"/>
                <a:gd name="adj2" fmla="val 72149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5436360" y="2825640"/>
              <a:ext cx="90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lav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pda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6" name="mainfrm"/>
          <p:cNvSpPr/>
          <p:nvPr/>
        </p:nvSpPr>
        <p:spPr>
          <a:xfrm>
            <a:off x="6199200" y="2077920"/>
            <a:ext cx="2073240" cy="532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S as a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s to the database are “domain nam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ww.foo.com, 18.in-addr.arpa, 6.4.e164.ar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,000 domain names st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omain name contains one or more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as “resource record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ttribute individually retrie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the D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DNS in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conc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can handle the 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Root Servers get approximately 3000 queries per second (down from 8000 q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proofs (DDoS attacks) show root name servers can handle 50,000 queries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ation is network bandwidth, not the DNS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-addr.arpa zone, which translates numbers to names, gets about 2000 queries per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closest analogue to e164.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ance conc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is a very lightweigh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query –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performance limitations are the result of network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d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cong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ing/forwarding lat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Conc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DNS protocol (RFC 1034, 1035) is in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of” attacks ar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Security Enhancements (DNSSEC, RFC 2565) remedies this f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reates new 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S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plification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al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SEC strongly discourages large flat z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y (delegation) is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ly Speaking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UM is technically non-challen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igent delegation model will permit unlimited 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considerations at the feet of servic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concerns can be addressed by DNS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8" name=""/>
          <p:cNvSpPr txBox="1"/>
          <p:nvPr/>
        </p:nvSpPr>
        <p:spPr>
          <a:xfrm>
            <a:off x="2246400" y="2325600"/>
            <a:ext cx="4525920" cy="36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?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s maintained locally, but retrievable glob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ngle computer has all DN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lookups can be performed by any de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DNS data may be locally cached to improv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se Coher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tabase is always internally consis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ersion of a subset of the database (a zone) has a serial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rial number is incremented on each database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to the master copy of the database are replicated according to timing set by the zone 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ched data expires according to timeout set by zone 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5:40:27Z</dcterms:created>
  <dc:creator>David R. Conrad</dc:creator>
  <dc:description/>
  <dc:language>en-US</dc:language>
  <cp:lastModifiedBy>Jim Reid</cp:lastModifiedBy>
  <dcterms:modified xsi:type="dcterms:W3CDTF">2002-02-04T22:00:19Z</dcterms:modified>
  <cp:revision>44</cp:revision>
  <dc:subject/>
  <dc:title>The Domain Name System</dc:title>
</cp:coreProperties>
</file>