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9290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A95-21A0-49FA-AB9B-D2D6295C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F3A-B93E-4AD8-9EEB-60912CA0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41770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587-807A-43AC-A4EC-7B463FE2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828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828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41770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1770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73D-2560-4CE6-AEF2-796D74DD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d49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8288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6553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d49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8288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8AB-2C37-44F6-A53E-82869A00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41770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41770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828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828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41770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770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DB3-8D1F-45B1-BF44-7434C4A2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8288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392-B99E-45B7-A506-8341A18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8D6-1171-424B-B88F-9C45734A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6553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7D7-FCEC-4252-88B1-C5BFCD1A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8288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53A-778D-4464-9325-B500A32D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41770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219-56CE-458B-8419-639C116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828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8AE-4DEB-43AC-BBE6-05B2C1CA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lenor%20mal_inni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9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550"/>
              </a:spcBef>
              <a:buClr>
                <a:srgbClr val="2d49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6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176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27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40040" indent="-2271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40040" indent="-2271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40040" indent="-2271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2d4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6052-2955-45D0-AD43-4564909876AF}" type="datetime5">
              <a:rPr b="0" lang="nb-NO" sz="1000" spc="-1" strike="noStrike">
                <a:solidFill>
                  <a:srgbClr val="2d4999"/>
                </a:solidFill>
                <a:latin typeface="Arial"/>
              </a:rPr>
              <a:t>31.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47676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2d4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2d49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43400" y="64767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2d4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3FB8-7EE2-4364-87ED-AF80BC314DA5}" type="slidenum">
              <a:rPr b="0" lang="nb-NO" sz="1000" spc="-1" strike="noStrike">
                <a:solidFill>
                  <a:srgbClr val="2d49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telenor%20under%20hvit" descr=""/>
          <p:cNvPicPr/>
          <p:nvPr/>
        </p:nvPicPr>
        <p:blipFill>
          <a:blip r:embed="rId3"/>
          <a:stretch/>
        </p:blipFill>
        <p:spPr>
          <a:xfrm>
            <a:off x="8163000" y="228600"/>
            <a:ext cx="6001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lenor%20titel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9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pic>
        <p:nvPicPr>
          <p:cNvPr id="45" name="telenor%20hvit" descr=""/>
          <p:cNvPicPr/>
          <p:nvPr/>
        </p:nvPicPr>
        <p:blipFill>
          <a:blip r:embed="rId3"/>
          <a:stretch/>
        </p:blipFill>
        <p:spPr>
          <a:xfrm>
            <a:off x="6172200" y="1779480"/>
            <a:ext cx="182880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.164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(05/97)</a:t>
            </a:r>
            <a:endParaRPr b="0" lang="en-US" sz="44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he international publ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elecommunication numbering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verre Isak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eleno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enior Associated Rapport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TU SG2 Q.1/2 Numbering, naming and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EB4-AB28-4AC2-AE6F-85B19951DE0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42324-DE71-46A5-8A48-B643D1ADBCCD}" type="datetime5">
              <a:rPr lang="en-US"/>
              <a:t>Jul 31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for Glob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2209680"/>
            <a:ext cx="990720" cy="53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2209680"/>
            <a:ext cx="327636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9560" y="2286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5720" y="2286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G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0600" y="297036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3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75000" y="2971800"/>
            <a:ext cx="27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 12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0120" y="3505320"/>
            <a:ext cx="81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C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untry Code for global service (800, 808, 878, 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SN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lobal Subscrib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2280" y="4524480"/>
            <a:ext cx="788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he leading digits of GSN may indicate s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service specific characterics. The glob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services have only one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format, but access to global services 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71F-938E-4D18-AB14-4A4AFD1D63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170B9-A3E4-4EB8-B9D4-0CD2094DCF32}" type="datetime5">
              <a:rPr lang="en-US"/>
              <a:t>Jul 31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for Networks. Network is int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ationallly interconnected physical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and operational systems operated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maintained by one or more ROAs to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public telecommunic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4191120"/>
            <a:ext cx="1576440" cy="1476360"/>
          </a:xfrm>
          <a:custGeom>
            <a:avLst/>
            <a:gdLst/>
            <a:ahLst/>
            <a:rect l="l" t="t" r="r" b="b"/>
            <a:pathLst>
              <a:path w="993" h="930">
                <a:moveTo>
                  <a:pt x="407" y="123"/>
                </a:moveTo>
                <a:cubicBezTo>
                  <a:pt x="309" y="147"/>
                  <a:pt x="214" y="170"/>
                  <a:pt x="119" y="202"/>
                </a:cubicBezTo>
                <a:cubicBezTo>
                  <a:pt x="106" y="215"/>
                  <a:pt x="90" y="226"/>
                  <a:pt x="79" y="242"/>
                </a:cubicBezTo>
                <a:cubicBezTo>
                  <a:pt x="63" y="266"/>
                  <a:pt x="39" y="321"/>
                  <a:pt x="39" y="321"/>
                </a:cubicBezTo>
                <a:cubicBezTo>
                  <a:pt x="22" y="408"/>
                  <a:pt x="27" y="495"/>
                  <a:pt x="0" y="580"/>
                </a:cubicBezTo>
                <a:cubicBezTo>
                  <a:pt x="1" y="585"/>
                  <a:pt x="7" y="691"/>
                  <a:pt x="19" y="719"/>
                </a:cubicBezTo>
                <a:cubicBezTo>
                  <a:pt x="32" y="750"/>
                  <a:pt x="43" y="750"/>
                  <a:pt x="69" y="768"/>
                </a:cubicBezTo>
                <a:cubicBezTo>
                  <a:pt x="130" y="811"/>
                  <a:pt x="188" y="853"/>
                  <a:pt x="258" y="878"/>
                </a:cubicBezTo>
                <a:cubicBezTo>
                  <a:pt x="299" y="893"/>
                  <a:pt x="345" y="896"/>
                  <a:pt x="387" y="907"/>
                </a:cubicBezTo>
                <a:cubicBezTo>
                  <a:pt x="407" y="912"/>
                  <a:pt x="446" y="927"/>
                  <a:pt x="446" y="927"/>
                </a:cubicBezTo>
                <a:cubicBezTo>
                  <a:pt x="459" y="924"/>
                  <a:pt x="482" y="930"/>
                  <a:pt x="486" y="917"/>
                </a:cubicBezTo>
                <a:cubicBezTo>
                  <a:pt x="493" y="893"/>
                  <a:pt x="473" y="803"/>
                  <a:pt x="466" y="768"/>
                </a:cubicBezTo>
                <a:cubicBezTo>
                  <a:pt x="569" y="742"/>
                  <a:pt x="428" y="770"/>
                  <a:pt x="566" y="778"/>
                </a:cubicBezTo>
                <a:cubicBezTo>
                  <a:pt x="602" y="780"/>
                  <a:pt x="639" y="771"/>
                  <a:pt x="675" y="768"/>
                </a:cubicBezTo>
                <a:cubicBezTo>
                  <a:pt x="711" y="698"/>
                  <a:pt x="700" y="657"/>
                  <a:pt x="784" y="629"/>
                </a:cubicBezTo>
                <a:cubicBezTo>
                  <a:pt x="892" y="660"/>
                  <a:pt x="880" y="667"/>
                  <a:pt x="993" y="629"/>
                </a:cubicBezTo>
                <a:cubicBezTo>
                  <a:pt x="961" y="505"/>
                  <a:pt x="980" y="248"/>
                  <a:pt x="923" y="153"/>
                </a:cubicBezTo>
                <a:cubicBezTo>
                  <a:pt x="905" y="123"/>
                  <a:pt x="875" y="51"/>
                  <a:pt x="834" y="43"/>
                </a:cubicBezTo>
                <a:cubicBezTo>
                  <a:pt x="792" y="35"/>
                  <a:pt x="748" y="36"/>
                  <a:pt x="705" y="33"/>
                </a:cubicBezTo>
                <a:cubicBezTo>
                  <a:pt x="632" y="5"/>
                  <a:pt x="623" y="0"/>
                  <a:pt x="546" y="23"/>
                </a:cubicBezTo>
                <a:cubicBezTo>
                  <a:pt x="505" y="50"/>
                  <a:pt x="472" y="77"/>
                  <a:pt x="427" y="93"/>
                </a:cubicBezTo>
                <a:cubicBezTo>
                  <a:pt x="395" y="125"/>
                  <a:pt x="383" y="123"/>
                  <a:pt x="407" y="123"/>
                </a:cubicBez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289400"/>
            <a:ext cx="1703520" cy="1490760"/>
          </a:xfrm>
          <a:custGeom>
            <a:avLst/>
            <a:gdLst/>
            <a:ahLst/>
            <a:rect l="l" t="t" r="r" b="b"/>
            <a:pathLst>
              <a:path w="1073" h="939">
                <a:moveTo>
                  <a:pt x="70" y="19"/>
                </a:moveTo>
                <a:cubicBezTo>
                  <a:pt x="223" y="0"/>
                  <a:pt x="299" y="2"/>
                  <a:pt x="477" y="9"/>
                </a:cubicBezTo>
                <a:cubicBezTo>
                  <a:pt x="573" y="29"/>
                  <a:pt x="670" y="45"/>
                  <a:pt x="765" y="69"/>
                </a:cubicBezTo>
                <a:cubicBezTo>
                  <a:pt x="800" y="140"/>
                  <a:pt x="815" y="223"/>
                  <a:pt x="884" y="267"/>
                </a:cubicBezTo>
                <a:cubicBezTo>
                  <a:pt x="917" y="311"/>
                  <a:pt x="959" y="335"/>
                  <a:pt x="993" y="377"/>
                </a:cubicBezTo>
                <a:cubicBezTo>
                  <a:pt x="1011" y="399"/>
                  <a:pt x="1043" y="446"/>
                  <a:pt x="1043" y="446"/>
                </a:cubicBezTo>
                <a:cubicBezTo>
                  <a:pt x="1050" y="466"/>
                  <a:pt x="1056" y="486"/>
                  <a:pt x="1063" y="506"/>
                </a:cubicBezTo>
                <a:cubicBezTo>
                  <a:pt x="1066" y="516"/>
                  <a:pt x="1073" y="536"/>
                  <a:pt x="1073" y="536"/>
                </a:cubicBezTo>
                <a:cubicBezTo>
                  <a:pt x="1045" y="700"/>
                  <a:pt x="933" y="730"/>
                  <a:pt x="804" y="794"/>
                </a:cubicBezTo>
                <a:cubicBezTo>
                  <a:pt x="784" y="814"/>
                  <a:pt x="765" y="833"/>
                  <a:pt x="745" y="853"/>
                </a:cubicBezTo>
                <a:cubicBezTo>
                  <a:pt x="735" y="863"/>
                  <a:pt x="715" y="883"/>
                  <a:pt x="715" y="883"/>
                </a:cubicBezTo>
                <a:cubicBezTo>
                  <a:pt x="692" y="880"/>
                  <a:pt x="669" y="878"/>
                  <a:pt x="646" y="873"/>
                </a:cubicBezTo>
                <a:cubicBezTo>
                  <a:pt x="619" y="868"/>
                  <a:pt x="566" y="853"/>
                  <a:pt x="566" y="853"/>
                </a:cubicBezTo>
                <a:cubicBezTo>
                  <a:pt x="431" y="863"/>
                  <a:pt x="179" y="939"/>
                  <a:pt x="99" y="824"/>
                </a:cubicBezTo>
                <a:cubicBezTo>
                  <a:pt x="73" y="747"/>
                  <a:pt x="85" y="751"/>
                  <a:pt x="0" y="734"/>
                </a:cubicBezTo>
                <a:cubicBezTo>
                  <a:pt x="8" y="688"/>
                  <a:pt x="20" y="651"/>
                  <a:pt x="20" y="605"/>
                </a:cubicBezTo>
              </a:path>
            </a:pathLst>
          </a:custGeom>
          <a:solidFill>
            <a:srgbClr val="d7e3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52480" y="4800240"/>
            <a:ext cx="9907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32320" y="4441680"/>
            <a:ext cx="2492280" cy="1044720"/>
          </a:xfrm>
          <a:custGeom>
            <a:avLst/>
            <a:gdLst/>
            <a:ahLst/>
            <a:rect l="l" t="t" r="r" b="b"/>
            <a:pathLst>
              <a:path w="1570" h="658">
                <a:moveTo>
                  <a:pt x="0" y="22"/>
                </a:moveTo>
                <a:cubicBezTo>
                  <a:pt x="355" y="0"/>
                  <a:pt x="717" y="33"/>
                  <a:pt x="1072" y="42"/>
                </a:cubicBezTo>
                <a:cubicBezTo>
                  <a:pt x="1116" y="71"/>
                  <a:pt x="1100" y="90"/>
                  <a:pt x="1142" y="122"/>
                </a:cubicBezTo>
                <a:cubicBezTo>
                  <a:pt x="1170" y="144"/>
                  <a:pt x="1201" y="161"/>
                  <a:pt x="1231" y="181"/>
                </a:cubicBezTo>
                <a:cubicBezTo>
                  <a:pt x="1301" y="228"/>
                  <a:pt x="1400" y="225"/>
                  <a:pt x="1479" y="251"/>
                </a:cubicBezTo>
                <a:cubicBezTo>
                  <a:pt x="1497" y="287"/>
                  <a:pt x="1506" y="322"/>
                  <a:pt x="1519" y="360"/>
                </a:cubicBezTo>
                <a:cubicBezTo>
                  <a:pt x="1529" y="440"/>
                  <a:pt x="1570" y="581"/>
                  <a:pt x="1499" y="638"/>
                </a:cubicBezTo>
                <a:cubicBezTo>
                  <a:pt x="1493" y="643"/>
                  <a:pt x="1433" y="657"/>
                  <a:pt x="1430" y="658"/>
                </a:cubicBezTo>
                <a:cubicBezTo>
                  <a:pt x="1315" y="651"/>
                  <a:pt x="1203" y="646"/>
                  <a:pt x="1092" y="618"/>
                </a:cubicBezTo>
                <a:cubicBezTo>
                  <a:pt x="1047" y="591"/>
                  <a:pt x="1017" y="556"/>
                  <a:pt x="973" y="529"/>
                </a:cubicBezTo>
                <a:cubicBezTo>
                  <a:pt x="960" y="521"/>
                  <a:pt x="945" y="518"/>
                  <a:pt x="933" y="509"/>
                </a:cubicBezTo>
                <a:cubicBezTo>
                  <a:pt x="860" y="451"/>
                  <a:pt x="819" y="364"/>
                  <a:pt x="725" y="340"/>
                </a:cubicBezTo>
                <a:cubicBezTo>
                  <a:pt x="674" y="357"/>
                  <a:pt x="619" y="359"/>
                  <a:pt x="566" y="370"/>
                </a:cubicBezTo>
                <a:cubicBezTo>
                  <a:pt x="491" y="445"/>
                  <a:pt x="380" y="449"/>
                  <a:pt x="278" y="449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4800600"/>
            <a:ext cx="2590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65720" y="4226040"/>
            <a:ext cx="2695680" cy="1836720"/>
          </a:xfrm>
          <a:custGeom>
            <a:avLst/>
            <a:gdLst/>
            <a:ahLst/>
            <a:rect l="l" t="t" r="r" b="b"/>
            <a:pathLst>
              <a:path w="1698" h="1157">
                <a:moveTo>
                  <a:pt x="0" y="198"/>
                </a:moveTo>
                <a:cubicBezTo>
                  <a:pt x="78" y="178"/>
                  <a:pt x="152" y="155"/>
                  <a:pt x="228" y="129"/>
                </a:cubicBezTo>
                <a:cubicBezTo>
                  <a:pt x="260" y="105"/>
                  <a:pt x="292" y="87"/>
                  <a:pt x="328" y="69"/>
                </a:cubicBezTo>
                <a:cubicBezTo>
                  <a:pt x="359" y="53"/>
                  <a:pt x="395" y="53"/>
                  <a:pt x="427" y="39"/>
                </a:cubicBezTo>
                <a:cubicBezTo>
                  <a:pt x="471" y="20"/>
                  <a:pt x="498" y="9"/>
                  <a:pt x="546" y="0"/>
                </a:cubicBezTo>
                <a:cubicBezTo>
                  <a:pt x="669" y="3"/>
                  <a:pt x="791" y="3"/>
                  <a:pt x="914" y="9"/>
                </a:cubicBezTo>
                <a:cubicBezTo>
                  <a:pt x="930" y="10"/>
                  <a:pt x="1009" y="38"/>
                  <a:pt x="1013" y="39"/>
                </a:cubicBezTo>
                <a:cubicBezTo>
                  <a:pt x="1107" y="70"/>
                  <a:pt x="1212" y="54"/>
                  <a:pt x="1311" y="59"/>
                </a:cubicBezTo>
                <a:cubicBezTo>
                  <a:pt x="1341" y="62"/>
                  <a:pt x="1371" y="62"/>
                  <a:pt x="1400" y="69"/>
                </a:cubicBezTo>
                <a:cubicBezTo>
                  <a:pt x="1412" y="72"/>
                  <a:pt x="1419" y="85"/>
                  <a:pt x="1430" y="89"/>
                </a:cubicBezTo>
                <a:cubicBezTo>
                  <a:pt x="1446" y="95"/>
                  <a:pt x="1463" y="96"/>
                  <a:pt x="1480" y="99"/>
                </a:cubicBezTo>
                <a:cubicBezTo>
                  <a:pt x="1528" y="118"/>
                  <a:pt x="1562" y="132"/>
                  <a:pt x="1599" y="168"/>
                </a:cubicBezTo>
                <a:cubicBezTo>
                  <a:pt x="1625" y="271"/>
                  <a:pt x="1590" y="143"/>
                  <a:pt x="1629" y="248"/>
                </a:cubicBezTo>
                <a:cubicBezTo>
                  <a:pt x="1641" y="280"/>
                  <a:pt x="1643" y="325"/>
                  <a:pt x="1649" y="357"/>
                </a:cubicBezTo>
                <a:cubicBezTo>
                  <a:pt x="1661" y="417"/>
                  <a:pt x="1683" y="476"/>
                  <a:pt x="1698" y="536"/>
                </a:cubicBezTo>
                <a:cubicBezTo>
                  <a:pt x="1695" y="572"/>
                  <a:pt x="1697" y="610"/>
                  <a:pt x="1688" y="645"/>
                </a:cubicBezTo>
                <a:cubicBezTo>
                  <a:pt x="1683" y="664"/>
                  <a:pt x="1667" y="678"/>
                  <a:pt x="1658" y="695"/>
                </a:cubicBezTo>
                <a:cubicBezTo>
                  <a:pt x="1638" y="735"/>
                  <a:pt x="1624" y="776"/>
                  <a:pt x="1599" y="814"/>
                </a:cubicBezTo>
                <a:cubicBezTo>
                  <a:pt x="1587" y="863"/>
                  <a:pt x="1572" y="894"/>
                  <a:pt x="1529" y="923"/>
                </a:cubicBezTo>
                <a:cubicBezTo>
                  <a:pt x="1491" y="980"/>
                  <a:pt x="1442" y="982"/>
                  <a:pt x="1380" y="1003"/>
                </a:cubicBezTo>
                <a:cubicBezTo>
                  <a:pt x="1284" y="994"/>
                  <a:pt x="1198" y="981"/>
                  <a:pt x="1102" y="993"/>
                </a:cubicBezTo>
                <a:cubicBezTo>
                  <a:pt x="1064" y="1008"/>
                  <a:pt x="1022" y="1029"/>
                  <a:pt x="983" y="1042"/>
                </a:cubicBezTo>
                <a:cubicBezTo>
                  <a:pt x="920" y="1063"/>
                  <a:pt x="847" y="1067"/>
                  <a:pt x="785" y="1092"/>
                </a:cubicBezTo>
                <a:cubicBezTo>
                  <a:pt x="720" y="1118"/>
                  <a:pt x="665" y="1142"/>
                  <a:pt x="596" y="1152"/>
                </a:cubicBezTo>
                <a:cubicBezTo>
                  <a:pt x="569" y="1149"/>
                  <a:pt x="538" y="1157"/>
                  <a:pt x="516" y="1142"/>
                </a:cubicBezTo>
                <a:cubicBezTo>
                  <a:pt x="502" y="1133"/>
                  <a:pt x="513" y="1107"/>
                  <a:pt x="506" y="1092"/>
                </a:cubicBezTo>
                <a:cubicBezTo>
                  <a:pt x="500" y="1079"/>
                  <a:pt x="488" y="1071"/>
                  <a:pt x="477" y="1062"/>
                </a:cubicBezTo>
                <a:cubicBezTo>
                  <a:pt x="445" y="1035"/>
                  <a:pt x="406" y="1035"/>
                  <a:pt x="367" y="1022"/>
                </a:cubicBezTo>
                <a:cubicBezTo>
                  <a:pt x="355" y="950"/>
                  <a:pt x="340" y="888"/>
                  <a:pt x="308" y="824"/>
                </a:cubicBezTo>
                <a:cubicBezTo>
                  <a:pt x="303" y="815"/>
                  <a:pt x="309" y="794"/>
                  <a:pt x="298" y="794"/>
                </a:cubicBezTo>
                <a:cubicBezTo>
                  <a:pt x="288" y="794"/>
                  <a:pt x="298" y="814"/>
                  <a:pt x="298" y="824"/>
                </a:cubicBezTo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66520" y="4800240"/>
            <a:ext cx="358164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334120" y="4952880"/>
            <a:ext cx="1295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69680" y="42512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2000" y="42670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0760" y="4479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C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36760" y="41911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C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800600"/>
            <a:ext cx="228600" cy="2286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4648320"/>
            <a:ext cx="228600" cy="2286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5029200"/>
            <a:ext cx="228600" cy="2286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248520" y="4952880"/>
            <a:ext cx="3808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4800600"/>
            <a:ext cx="228600" cy="2286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5715000"/>
            <a:ext cx="228600" cy="2286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597-C8E9-472E-8798-426C336574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7AD7E-D30E-4666-BBB6-80D7C62029D2}" type="datetime5">
              <a:rPr lang="en-US"/>
              <a:t>Jul 31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for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2286000"/>
            <a:ext cx="990720" cy="53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2286000"/>
            <a:ext cx="220968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9560" y="23623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1420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0600" y="30463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3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3048120"/>
            <a:ext cx="27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 15-n (number of digits in CC+IC)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53720" y="4222800"/>
            <a:ext cx="556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C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untry Code for Networks (8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C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dentificatio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N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ubscrib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2286000"/>
            <a:ext cx="83808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9240" y="236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49840" y="3048120"/>
            <a:ext cx="10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1 to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1C9-6FA4-4897-844D-170C5CFDC9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6FF70-230D-4718-82F2-4FCFB0059D7A}" type="datetime5">
              <a:rPr lang="en-US"/>
              <a:t>Jul 31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for Networks, optional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2286000"/>
            <a:ext cx="990720" cy="53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286000"/>
            <a:ext cx="83808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2286000"/>
            <a:ext cx="220968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9560" y="23623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7440" y="236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1240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33720" y="3048120"/>
            <a:ext cx="83808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3048120"/>
            <a:ext cx="220968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7440" y="31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12400" y="31240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3809880"/>
            <a:ext cx="220968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12400" y="3886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58480" y="38862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etwork 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57400" y="23623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Incoming to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66040" y="31240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Between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3720" y="4586400"/>
            <a:ext cx="790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o use the three formats for the mentio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purposes each Network would have to cre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heir own Network internal prefi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C86-D517-45A1-B664-1ED2823E82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60957-3BD1-46BC-A3E9-C2F7A678D02C}" type="datetime5">
              <a:rPr lang="en-US"/>
              <a:t>Jul 31, 2026</a:t>
            </a:fld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for Groups of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2286000"/>
            <a:ext cx="990720" cy="53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2286000"/>
            <a:ext cx="83808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2286000"/>
            <a:ext cx="220968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9560" y="23623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71160" y="2362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4280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0600" y="31240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3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89400" y="3124080"/>
            <a:ext cx="30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 11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840" y="388620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C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untry Code for Groups of countries (t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IC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roup Identificatio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N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ubscrib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0320" y="31240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1 di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F91-7879-46DF-ADFC-8B7DD86692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6D679-C1D5-4B21-ADFA-FE212503B1D6}" type="datetime5">
              <a:rPr lang="en-US"/>
              <a:t>Jul 31, 20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for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2286000"/>
            <a:ext cx="990720" cy="53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2286000"/>
            <a:ext cx="83808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00400" y="2286000"/>
            <a:ext cx="220968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9560" y="23623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71520" y="23623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280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40600" y="31240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3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89400" y="3124080"/>
            <a:ext cx="30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 9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6200" y="3886200"/>
            <a:ext cx="50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C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untry Code for Trials (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IC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rial Identificatio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N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ubscrib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20320" y="31240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3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65C-BFE8-4BDF-83A1-4261637A1A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3EC2F-6CFA-47A0-9FB7-0008C36F9813}" type="datetime5">
              <a:rPr lang="en-US"/>
              <a:t>Jul 31, 20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66cc"/>
                </a:solidFill>
                <a:latin typeface="Arial"/>
              </a:rPr>
              <a:t>Numbering for geographic areas</a:t>
            </a: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Prefixes are not part of the E.164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and are not signalled over 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bound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E.164 indicates preference for the use of di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0 as national pre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he digit analysis should not be more than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digits to determine the country of destin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he most appropriate routeing and the pro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charg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D20-6F7D-4E0B-B131-BA5DB5791E1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E86E4-9A2F-4CFB-B490-8C8C775B6A71}" type="datetime5">
              <a:rPr lang="en-US"/>
              <a:t>Jul 31, 20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66cc"/>
                </a:solidFill>
                <a:latin typeface="Arial"/>
              </a:rPr>
              <a:t>Planning advices for geographic areas</a:t>
            </a: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The national numbering plans should be design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a) to allow for generous provision of future growt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b) so that the national networks be accessible to subscribers in other countries by means of international dialling procedu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c) so that subscribers would always be called by the same national number regardless of where the call is originated from  within a national numbering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It is recommended that notification of nat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numbering changes be submitted at least 2 years 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adv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FE7-D2F9-44CB-A832-13EE5274CB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CEBDC-2A24-40ED-8C9A-ABACD3AEA337}" type="datetime5">
              <a:rPr lang="en-US"/>
              <a:t>Jul 31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International prefix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E.164 recommends that Administ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hat are revising their number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adopt 00 as an international pre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3429000"/>
            <a:ext cx="1576440" cy="1476360"/>
          </a:xfrm>
          <a:custGeom>
            <a:avLst/>
            <a:gdLst/>
            <a:ahLst/>
            <a:rect l="l" t="t" r="r" b="b"/>
            <a:pathLst>
              <a:path w="993" h="930">
                <a:moveTo>
                  <a:pt x="407" y="123"/>
                </a:moveTo>
                <a:cubicBezTo>
                  <a:pt x="309" y="147"/>
                  <a:pt x="214" y="170"/>
                  <a:pt x="119" y="202"/>
                </a:cubicBezTo>
                <a:cubicBezTo>
                  <a:pt x="106" y="215"/>
                  <a:pt x="90" y="226"/>
                  <a:pt x="79" y="242"/>
                </a:cubicBezTo>
                <a:cubicBezTo>
                  <a:pt x="63" y="266"/>
                  <a:pt x="39" y="321"/>
                  <a:pt x="39" y="321"/>
                </a:cubicBezTo>
                <a:cubicBezTo>
                  <a:pt x="22" y="408"/>
                  <a:pt x="27" y="495"/>
                  <a:pt x="0" y="580"/>
                </a:cubicBezTo>
                <a:cubicBezTo>
                  <a:pt x="1" y="585"/>
                  <a:pt x="7" y="691"/>
                  <a:pt x="19" y="719"/>
                </a:cubicBezTo>
                <a:cubicBezTo>
                  <a:pt x="32" y="750"/>
                  <a:pt x="43" y="750"/>
                  <a:pt x="69" y="768"/>
                </a:cubicBezTo>
                <a:cubicBezTo>
                  <a:pt x="130" y="811"/>
                  <a:pt x="188" y="853"/>
                  <a:pt x="258" y="878"/>
                </a:cubicBezTo>
                <a:cubicBezTo>
                  <a:pt x="299" y="893"/>
                  <a:pt x="345" y="896"/>
                  <a:pt x="387" y="907"/>
                </a:cubicBezTo>
                <a:cubicBezTo>
                  <a:pt x="407" y="912"/>
                  <a:pt x="446" y="927"/>
                  <a:pt x="446" y="927"/>
                </a:cubicBezTo>
                <a:cubicBezTo>
                  <a:pt x="459" y="924"/>
                  <a:pt x="482" y="930"/>
                  <a:pt x="486" y="917"/>
                </a:cubicBezTo>
                <a:cubicBezTo>
                  <a:pt x="493" y="893"/>
                  <a:pt x="473" y="803"/>
                  <a:pt x="466" y="768"/>
                </a:cubicBezTo>
                <a:cubicBezTo>
                  <a:pt x="569" y="742"/>
                  <a:pt x="428" y="770"/>
                  <a:pt x="566" y="778"/>
                </a:cubicBezTo>
                <a:cubicBezTo>
                  <a:pt x="602" y="780"/>
                  <a:pt x="639" y="771"/>
                  <a:pt x="675" y="768"/>
                </a:cubicBezTo>
                <a:cubicBezTo>
                  <a:pt x="711" y="698"/>
                  <a:pt x="700" y="657"/>
                  <a:pt x="784" y="629"/>
                </a:cubicBezTo>
                <a:cubicBezTo>
                  <a:pt x="892" y="660"/>
                  <a:pt x="880" y="667"/>
                  <a:pt x="993" y="629"/>
                </a:cubicBezTo>
                <a:cubicBezTo>
                  <a:pt x="961" y="505"/>
                  <a:pt x="980" y="248"/>
                  <a:pt x="923" y="153"/>
                </a:cubicBezTo>
                <a:cubicBezTo>
                  <a:pt x="905" y="123"/>
                  <a:pt x="875" y="51"/>
                  <a:pt x="834" y="43"/>
                </a:cubicBezTo>
                <a:cubicBezTo>
                  <a:pt x="792" y="35"/>
                  <a:pt x="748" y="36"/>
                  <a:pt x="705" y="33"/>
                </a:cubicBezTo>
                <a:cubicBezTo>
                  <a:pt x="632" y="5"/>
                  <a:pt x="623" y="0"/>
                  <a:pt x="546" y="23"/>
                </a:cubicBezTo>
                <a:cubicBezTo>
                  <a:pt x="505" y="50"/>
                  <a:pt x="472" y="77"/>
                  <a:pt x="427" y="93"/>
                </a:cubicBezTo>
                <a:cubicBezTo>
                  <a:pt x="395" y="125"/>
                  <a:pt x="383" y="123"/>
                  <a:pt x="407" y="123"/>
                </a:cubicBez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3527280"/>
            <a:ext cx="1703520" cy="1490760"/>
          </a:xfrm>
          <a:custGeom>
            <a:avLst/>
            <a:gdLst/>
            <a:ahLst/>
            <a:rect l="l" t="t" r="r" b="b"/>
            <a:pathLst>
              <a:path w="1073" h="939">
                <a:moveTo>
                  <a:pt x="70" y="19"/>
                </a:moveTo>
                <a:cubicBezTo>
                  <a:pt x="223" y="0"/>
                  <a:pt x="299" y="2"/>
                  <a:pt x="477" y="9"/>
                </a:cubicBezTo>
                <a:cubicBezTo>
                  <a:pt x="573" y="29"/>
                  <a:pt x="670" y="45"/>
                  <a:pt x="765" y="69"/>
                </a:cubicBezTo>
                <a:cubicBezTo>
                  <a:pt x="800" y="140"/>
                  <a:pt x="815" y="223"/>
                  <a:pt x="884" y="267"/>
                </a:cubicBezTo>
                <a:cubicBezTo>
                  <a:pt x="917" y="311"/>
                  <a:pt x="959" y="335"/>
                  <a:pt x="993" y="377"/>
                </a:cubicBezTo>
                <a:cubicBezTo>
                  <a:pt x="1011" y="399"/>
                  <a:pt x="1043" y="446"/>
                  <a:pt x="1043" y="446"/>
                </a:cubicBezTo>
                <a:cubicBezTo>
                  <a:pt x="1050" y="466"/>
                  <a:pt x="1056" y="486"/>
                  <a:pt x="1063" y="506"/>
                </a:cubicBezTo>
                <a:cubicBezTo>
                  <a:pt x="1066" y="516"/>
                  <a:pt x="1073" y="536"/>
                  <a:pt x="1073" y="536"/>
                </a:cubicBezTo>
                <a:cubicBezTo>
                  <a:pt x="1045" y="700"/>
                  <a:pt x="933" y="730"/>
                  <a:pt x="804" y="794"/>
                </a:cubicBezTo>
                <a:cubicBezTo>
                  <a:pt x="784" y="814"/>
                  <a:pt x="765" y="833"/>
                  <a:pt x="745" y="853"/>
                </a:cubicBezTo>
                <a:cubicBezTo>
                  <a:pt x="735" y="863"/>
                  <a:pt x="715" y="883"/>
                  <a:pt x="715" y="883"/>
                </a:cubicBezTo>
                <a:cubicBezTo>
                  <a:pt x="692" y="880"/>
                  <a:pt x="669" y="878"/>
                  <a:pt x="646" y="873"/>
                </a:cubicBezTo>
                <a:cubicBezTo>
                  <a:pt x="619" y="868"/>
                  <a:pt x="566" y="853"/>
                  <a:pt x="566" y="853"/>
                </a:cubicBezTo>
                <a:cubicBezTo>
                  <a:pt x="431" y="863"/>
                  <a:pt x="179" y="939"/>
                  <a:pt x="99" y="824"/>
                </a:cubicBezTo>
                <a:cubicBezTo>
                  <a:pt x="73" y="747"/>
                  <a:pt x="85" y="751"/>
                  <a:pt x="0" y="734"/>
                </a:cubicBezTo>
                <a:cubicBezTo>
                  <a:pt x="8" y="688"/>
                  <a:pt x="20" y="651"/>
                  <a:pt x="20" y="605"/>
                </a:cubicBezTo>
              </a:path>
            </a:pathLst>
          </a:custGeom>
          <a:solidFill>
            <a:srgbClr val="d7e3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32320" y="3679920"/>
            <a:ext cx="2492280" cy="1044360"/>
          </a:xfrm>
          <a:custGeom>
            <a:avLst/>
            <a:gdLst/>
            <a:ahLst/>
            <a:rect l="l" t="t" r="r" b="b"/>
            <a:pathLst>
              <a:path w="1570" h="658">
                <a:moveTo>
                  <a:pt x="0" y="22"/>
                </a:moveTo>
                <a:cubicBezTo>
                  <a:pt x="355" y="0"/>
                  <a:pt x="717" y="33"/>
                  <a:pt x="1072" y="42"/>
                </a:cubicBezTo>
                <a:cubicBezTo>
                  <a:pt x="1116" y="71"/>
                  <a:pt x="1100" y="90"/>
                  <a:pt x="1142" y="122"/>
                </a:cubicBezTo>
                <a:cubicBezTo>
                  <a:pt x="1170" y="144"/>
                  <a:pt x="1201" y="161"/>
                  <a:pt x="1231" y="181"/>
                </a:cubicBezTo>
                <a:cubicBezTo>
                  <a:pt x="1301" y="228"/>
                  <a:pt x="1400" y="225"/>
                  <a:pt x="1479" y="251"/>
                </a:cubicBezTo>
                <a:cubicBezTo>
                  <a:pt x="1497" y="287"/>
                  <a:pt x="1506" y="322"/>
                  <a:pt x="1519" y="360"/>
                </a:cubicBezTo>
                <a:cubicBezTo>
                  <a:pt x="1529" y="440"/>
                  <a:pt x="1570" y="581"/>
                  <a:pt x="1499" y="638"/>
                </a:cubicBezTo>
                <a:cubicBezTo>
                  <a:pt x="1493" y="643"/>
                  <a:pt x="1433" y="657"/>
                  <a:pt x="1430" y="658"/>
                </a:cubicBezTo>
                <a:cubicBezTo>
                  <a:pt x="1315" y="651"/>
                  <a:pt x="1203" y="646"/>
                  <a:pt x="1092" y="618"/>
                </a:cubicBezTo>
                <a:cubicBezTo>
                  <a:pt x="1047" y="591"/>
                  <a:pt x="1017" y="556"/>
                  <a:pt x="973" y="529"/>
                </a:cubicBezTo>
                <a:cubicBezTo>
                  <a:pt x="960" y="521"/>
                  <a:pt x="945" y="518"/>
                  <a:pt x="933" y="509"/>
                </a:cubicBezTo>
                <a:cubicBezTo>
                  <a:pt x="860" y="451"/>
                  <a:pt x="819" y="364"/>
                  <a:pt x="725" y="340"/>
                </a:cubicBezTo>
                <a:cubicBezTo>
                  <a:pt x="674" y="357"/>
                  <a:pt x="619" y="359"/>
                  <a:pt x="566" y="370"/>
                </a:cubicBezTo>
                <a:cubicBezTo>
                  <a:pt x="491" y="445"/>
                  <a:pt x="380" y="449"/>
                  <a:pt x="278" y="449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65720" y="3463920"/>
            <a:ext cx="2695680" cy="1836720"/>
          </a:xfrm>
          <a:custGeom>
            <a:avLst/>
            <a:gdLst/>
            <a:ahLst/>
            <a:rect l="l" t="t" r="r" b="b"/>
            <a:pathLst>
              <a:path w="1698" h="1157">
                <a:moveTo>
                  <a:pt x="0" y="198"/>
                </a:moveTo>
                <a:cubicBezTo>
                  <a:pt x="78" y="178"/>
                  <a:pt x="152" y="155"/>
                  <a:pt x="228" y="129"/>
                </a:cubicBezTo>
                <a:cubicBezTo>
                  <a:pt x="260" y="105"/>
                  <a:pt x="292" y="87"/>
                  <a:pt x="328" y="69"/>
                </a:cubicBezTo>
                <a:cubicBezTo>
                  <a:pt x="359" y="53"/>
                  <a:pt x="395" y="53"/>
                  <a:pt x="427" y="39"/>
                </a:cubicBezTo>
                <a:cubicBezTo>
                  <a:pt x="471" y="20"/>
                  <a:pt x="498" y="9"/>
                  <a:pt x="546" y="0"/>
                </a:cubicBezTo>
                <a:cubicBezTo>
                  <a:pt x="669" y="3"/>
                  <a:pt x="791" y="3"/>
                  <a:pt x="914" y="9"/>
                </a:cubicBezTo>
                <a:cubicBezTo>
                  <a:pt x="930" y="10"/>
                  <a:pt x="1009" y="38"/>
                  <a:pt x="1013" y="39"/>
                </a:cubicBezTo>
                <a:cubicBezTo>
                  <a:pt x="1107" y="70"/>
                  <a:pt x="1212" y="54"/>
                  <a:pt x="1311" y="59"/>
                </a:cubicBezTo>
                <a:cubicBezTo>
                  <a:pt x="1341" y="62"/>
                  <a:pt x="1371" y="62"/>
                  <a:pt x="1400" y="69"/>
                </a:cubicBezTo>
                <a:cubicBezTo>
                  <a:pt x="1412" y="72"/>
                  <a:pt x="1419" y="85"/>
                  <a:pt x="1430" y="89"/>
                </a:cubicBezTo>
                <a:cubicBezTo>
                  <a:pt x="1446" y="95"/>
                  <a:pt x="1463" y="96"/>
                  <a:pt x="1480" y="99"/>
                </a:cubicBezTo>
                <a:cubicBezTo>
                  <a:pt x="1528" y="118"/>
                  <a:pt x="1562" y="132"/>
                  <a:pt x="1599" y="168"/>
                </a:cubicBezTo>
                <a:cubicBezTo>
                  <a:pt x="1625" y="271"/>
                  <a:pt x="1590" y="143"/>
                  <a:pt x="1629" y="248"/>
                </a:cubicBezTo>
                <a:cubicBezTo>
                  <a:pt x="1641" y="280"/>
                  <a:pt x="1643" y="325"/>
                  <a:pt x="1649" y="357"/>
                </a:cubicBezTo>
                <a:cubicBezTo>
                  <a:pt x="1661" y="417"/>
                  <a:pt x="1683" y="476"/>
                  <a:pt x="1698" y="536"/>
                </a:cubicBezTo>
                <a:cubicBezTo>
                  <a:pt x="1695" y="572"/>
                  <a:pt x="1697" y="610"/>
                  <a:pt x="1688" y="645"/>
                </a:cubicBezTo>
                <a:cubicBezTo>
                  <a:pt x="1683" y="664"/>
                  <a:pt x="1667" y="678"/>
                  <a:pt x="1658" y="695"/>
                </a:cubicBezTo>
                <a:cubicBezTo>
                  <a:pt x="1638" y="735"/>
                  <a:pt x="1624" y="776"/>
                  <a:pt x="1599" y="814"/>
                </a:cubicBezTo>
                <a:cubicBezTo>
                  <a:pt x="1587" y="863"/>
                  <a:pt x="1572" y="894"/>
                  <a:pt x="1529" y="923"/>
                </a:cubicBezTo>
                <a:cubicBezTo>
                  <a:pt x="1491" y="980"/>
                  <a:pt x="1442" y="982"/>
                  <a:pt x="1380" y="1003"/>
                </a:cubicBezTo>
                <a:cubicBezTo>
                  <a:pt x="1284" y="994"/>
                  <a:pt x="1198" y="981"/>
                  <a:pt x="1102" y="993"/>
                </a:cubicBezTo>
                <a:cubicBezTo>
                  <a:pt x="1064" y="1008"/>
                  <a:pt x="1022" y="1029"/>
                  <a:pt x="983" y="1042"/>
                </a:cubicBezTo>
                <a:cubicBezTo>
                  <a:pt x="920" y="1063"/>
                  <a:pt x="847" y="1067"/>
                  <a:pt x="785" y="1092"/>
                </a:cubicBezTo>
                <a:cubicBezTo>
                  <a:pt x="720" y="1118"/>
                  <a:pt x="665" y="1142"/>
                  <a:pt x="596" y="1152"/>
                </a:cubicBezTo>
                <a:cubicBezTo>
                  <a:pt x="569" y="1149"/>
                  <a:pt x="538" y="1157"/>
                  <a:pt x="516" y="1142"/>
                </a:cubicBezTo>
                <a:cubicBezTo>
                  <a:pt x="502" y="1133"/>
                  <a:pt x="513" y="1107"/>
                  <a:pt x="506" y="1092"/>
                </a:cubicBezTo>
                <a:cubicBezTo>
                  <a:pt x="500" y="1079"/>
                  <a:pt x="488" y="1071"/>
                  <a:pt x="477" y="1062"/>
                </a:cubicBezTo>
                <a:cubicBezTo>
                  <a:pt x="445" y="1035"/>
                  <a:pt x="406" y="1035"/>
                  <a:pt x="367" y="1022"/>
                </a:cubicBezTo>
                <a:cubicBezTo>
                  <a:pt x="355" y="950"/>
                  <a:pt x="340" y="888"/>
                  <a:pt x="308" y="824"/>
                </a:cubicBezTo>
                <a:cubicBezTo>
                  <a:pt x="303" y="815"/>
                  <a:pt x="309" y="794"/>
                  <a:pt x="298" y="794"/>
                </a:cubicBezTo>
                <a:cubicBezTo>
                  <a:pt x="288" y="794"/>
                  <a:pt x="298" y="814"/>
                  <a:pt x="298" y="824"/>
                </a:cubicBezTo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69680" y="34894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2000" y="35053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50760" y="37180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C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36760" y="34290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C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3" idx="0"/>
            <a:endCxn id="294" idx="0"/>
          </p:cNvCxnSpPr>
          <p:nvPr/>
        </p:nvCxnSpPr>
        <p:spPr>
          <a:xfrm flipH="1" flipV="1" rot="5400000">
            <a:off x="3995280" y="3911760"/>
            <a:ext cx="442080" cy="1593000"/>
          </a:xfrm>
          <a:prstGeom prst="curvedConnector5">
            <a:avLst>
              <a:gd name="adj1" fmla="val -71882"/>
              <a:gd name="adj2" fmla="val 50000"/>
              <a:gd name="adj3" fmla="val -718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3" idx="1"/>
            <a:endCxn id="295" idx="0"/>
          </p:cNvCxnSpPr>
          <p:nvPr/>
        </p:nvCxnSpPr>
        <p:spPr>
          <a:xfrm flipH="1" rot="16200000">
            <a:off x="4578120" y="3771000"/>
            <a:ext cx="348480" cy="2664360"/>
          </a:xfrm>
          <a:prstGeom prst="curvedConnector5">
            <a:avLst>
              <a:gd name="adj1" fmla="val 172595"/>
              <a:gd name="adj2" fmla="val 50000"/>
              <a:gd name="adj3" fmla="val 17259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3" idx="2"/>
            <a:endCxn id="292" idx="0"/>
          </p:cNvCxnSpPr>
          <p:nvPr/>
        </p:nvCxnSpPr>
        <p:spPr>
          <a:xfrm flipV="1" rot="16200000">
            <a:off x="2568960" y="4076640"/>
            <a:ext cx="45000" cy="1659600"/>
          </a:xfrm>
          <a:prstGeom prst="curvedConnector5">
            <a:avLst>
              <a:gd name="adj1" fmla="val -713709"/>
              <a:gd name="adj2" fmla="val 49989"/>
              <a:gd name="adj3" fmla="val -71370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2323080" y="562284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0 + E.164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77E-3641-4454-A4B0-B756909C03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FFE12-AEF8-471E-A1C2-344C8CAF2493}" type="datetime5">
              <a:rPr lang="en-US"/>
              <a:t>Jul 31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66cc"/>
                </a:solidFill>
                <a:latin typeface="Arial"/>
              </a:rPr>
              <a:t>Frequently asked question</a:t>
            </a:r>
            <a:endParaRPr b="0" lang="en-US" sz="32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When is a number an E.164 nu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3366cc"/>
                </a:solidFill>
                <a:latin typeface="Arial"/>
              </a:rPr>
              <a:t>When it satisfies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ce132c"/>
                </a:solidFill>
                <a:latin typeface="Arial"/>
              </a:rPr>
              <a:t>1.</a:t>
            </a:r>
            <a:r>
              <a:rPr b="1" lang="nb-NO" sz="2800" spc="-1" strike="noStrike">
                <a:solidFill>
                  <a:srgbClr val="ce132c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ce132c"/>
                </a:solidFill>
                <a:latin typeface="Arial"/>
              </a:rPr>
              <a:t>It has to be part of an ITU defined fixed international hierarchical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ce132c"/>
                </a:solidFill>
                <a:latin typeface="Arial"/>
              </a:rPr>
              <a:t>2.</a:t>
            </a:r>
            <a:r>
              <a:rPr b="1" lang="nb-NO" sz="2800" spc="-1" strike="noStrike">
                <a:solidFill>
                  <a:srgbClr val="ce132c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ce132c"/>
                </a:solidFill>
                <a:latin typeface="Arial"/>
              </a:rPr>
              <a:t>It has to be maximum 15 dig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ce132c"/>
                </a:solidFill>
                <a:latin typeface="Arial"/>
              </a:rPr>
              <a:t>3.</a:t>
            </a:r>
            <a:r>
              <a:rPr b="1" lang="nb-NO" sz="2800" spc="-1" strike="noStrike">
                <a:solidFill>
                  <a:srgbClr val="ce132c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ce132c"/>
                </a:solidFill>
                <a:latin typeface="Arial"/>
              </a:rPr>
              <a:t>It has to be unique in its international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FB0-47F0-431C-9271-C82A46C77E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EE2BD-A151-40D6-9E16-4445868EAA79}" type="datetime5">
              <a:rPr lang="en-US"/>
              <a:t>Jul 31, 2026</a:t>
            </a:fld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mp00502_" descr=""/>
          <p:cNvPicPr/>
          <p:nvPr/>
        </p:nvPicPr>
        <p:blipFill>
          <a:blip r:embed="rId1"/>
          <a:stretch/>
        </p:blipFill>
        <p:spPr>
          <a:xfrm>
            <a:off x="5732640" y="4589640"/>
            <a:ext cx="1353960" cy="1658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cope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E.164 provides the number structur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functionality for the following three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of International Public Tele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(E.164 number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Geographical 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  Net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areas 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MP00640_" descr=""/>
          <p:cNvPicPr/>
          <p:nvPr/>
        </p:nvPicPr>
        <p:blipFill>
          <a:blip r:embed="rId2"/>
          <a:stretch/>
        </p:blipFill>
        <p:spPr>
          <a:xfrm>
            <a:off x="3352680" y="4495680"/>
            <a:ext cx="175896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43600" y="5562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943600" y="5105520"/>
            <a:ext cx="5335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5105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0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4952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5410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8640" y="5029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 Black"/>
              </a:rPr>
              <a:t>+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Danmark" descr=""/>
          <p:cNvPicPr/>
          <p:nvPr/>
        </p:nvPicPr>
        <p:blipFill>
          <a:blip r:embed="rId3"/>
          <a:stretch/>
        </p:blipFill>
        <p:spPr>
          <a:xfrm>
            <a:off x="1077840" y="4572000"/>
            <a:ext cx="1436760" cy="1752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45160" y="518148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Arial"/>
              </a:rPr>
              <a:t>+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B62-28F5-4D54-8C1F-5108C78AEB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8BA3F-9D89-4D6B-A05E-F737658A9E84}" type="datetime5">
              <a:rPr lang="en-US"/>
              <a:t>Jul 31, 2026</a:t>
            </a:fld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mp00502_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1353960" cy="1658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cope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In addition to these three categorie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following two new categories will hop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appear in a revised E.1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Groups of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rials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countries 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4197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0510400">
            <a:off x="3738600" y="4947840"/>
            <a:ext cx="2071800" cy="8636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256360" y="5013360"/>
            <a:ext cx="150840" cy="162000"/>
            <a:chOff x="5256360" y="5013360"/>
            <a:chExt cx="150840" cy="162000"/>
          </a:xfrm>
        </p:grpSpPr>
        <p:sp>
          <p:nvSpPr>
            <p:cNvPr id="103" name=""/>
            <p:cNvSpPr/>
            <p:nvPr/>
          </p:nvSpPr>
          <p:spPr>
            <a:xfrm>
              <a:off x="5319000" y="5013360"/>
              <a:ext cx="50400" cy="6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44200" y="5075640"/>
              <a:ext cx="0" cy="9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5256360" y="5025600"/>
              <a:ext cx="8784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344200" y="5025600"/>
              <a:ext cx="630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56360" y="5141880"/>
            <a:ext cx="306000" cy="115920"/>
            <a:chOff x="5256360" y="5141880"/>
            <a:chExt cx="306000" cy="115920"/>
          </a:xfrm>
        </p:grpSpPr>
        <p:sp>
          <p:nvSpPr>
            <p:cNvPr id="108" name=""/>
            <p:cNvSpPr/>
            <p:nvPr/>
          </p:nvSpPr>
          <p:spPr>
            <a:xfrm>
              <a:off x="5256360" y="5146560"/>
              <a:ext cx="183960" cy="67680"/>
            </a:xfrm>
            <a:custGeom>
              <a:avLst/>
              <a:gdLst/>
              <a:ahLst/>
              <a:rect l="l" t="t" r="r" b="b"/>
              <a:pathLst>
                <a:path w="205" h="112">
                  <a:moveTo>
                    <a:pt x="204" y="4"/>
                  </a:moveTo>
                  <a:cubicBezTo>
                    <a:pt x="203" y="33"/>
                    <a:pt x="205" y="63"/>
                    <a:pt x="200" y="92"/>
                  </a:cubicBezTo>
                  <a:cubicBezTo>
                    <a:pt x="198" y="107"/>
                    <a:pt x="94" y="112"/>
                    <a:pt x="88" y="112"/>
                  </a:cubicBezTo>
                  <a:cubicBezTo>
                    <a:pt x="58" y="108"/>
                    <a:pt x="37" y="97"/>
                    <a:pt x="12" y="80"/>
                  </a:cubicBezTo>
                  <a:cubicBezTo>
                    <a:pt x="8" y="49"/>
                    <a:pt x="0" y="16"/>
                    <a:pt x="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70760" y="5166000"/>
              <a:ext cx="237960" cy="70560"/>
            </a:xfrm>
            <a:custGeom>
              <a:avLst/>
              <a:gdLst/>
              <a:ahLst/>
              <a:rect l="l" t="t" r="r" b="b"/>
              <a:pathLst>
                <a:path w="265" h="117">
                  <a:moveTo>
                    <a:pt x="248" y="0"/>
                  </a:moveTo>
                  <a:cubicBezTo>
                    <a:pt x="265" y="66"/>
                    <a:pt x="210" y="98"/>
                    <a:pt x="156" y="116"/>
                  </a:cubicBezTo>
                  <a:cubicBezTo>
                    <a:pt x="95" y="114"/>
                    <a:pt x="63" y="117"/>
                    <a:pt x="12" y="104"/>
                  </a:cubicBezTo>
                  <a:cubicBezTo>
                    <a:pt x="8" y="101"/>
                    <a:pt x="0" y="96"/>
                    <a:pt x="0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07200" y="5141880"/>
              <a:ext cx="155160" cy="115920"/>
            </a:xfrm>
            <a:custGeom>
              <a:avLst/>
              <a:gdLst/>
              <a:ahLst/>
              <a:rect l="l" t="t" r="r" b="b"/>
              <a:pathLst>
                <a:path w="173" h="192">
                  <a:moveTo>
                    <a:pt x="116" y="0"/>
                  </a:moveTo>
                  <a:cubicBezTo>
                    <a:pt x="139" y="16"/>
                    <a:pt x="145" y="38"/>
                    <a:pt x="160" y="60"/>
                  </a:cubicBezTo>
                  <a:cubicBezTo>
                    <a:pt x="173" y="114"/>
                    <a:pt x="156" y="153"/>
                    <a:pt x="104" y="168"/>
                  </a:cubicBezTo>
                  <a:cubicBezTo>
                    <a:pt x="86" y="173"/>
                    <a:pt x="67" y="180"/>
                    <a:pt x="48" y="184"/>
                  </a:cubicBezTo>
                  <a:cubicBezTo>
                    <a:pt x="32" y="187"/>
                    <a:pt x="0" y="192"/>
                    <a:pt x="0" y="1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628880" y="5334120"/>
            <a:ext cx="247680" cy="380160"/>
            <a:chOff x="4628880" y="5334120"/>
            <a:chExt cx="247680" cy="380160"/>
          </a:xfrm>
        </p:grpSpPr>
        <p:sp>
          <p:nvSpPr>
            <p:cNvPr id="112" name=""/>
            <p:cNvSpPr/>
            <p:nvPr/>
          </p:nvSpPr>
          <p:spPr>
            <a:xfrm>
              <a:off x="4736520" y="5334120"/>
              <a:ext cx="86040" cy="81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80080" y="5415840"/>
              <a:ext cx="0" cy="13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4628880" y="5349240"/>
              <a:ext cx="150840" cy="9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629240" y="5440320"/>
              <a:ext cx="12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80080" y="5510880"/>
              <a:ext cx="96480" cy="203400"/>
            </a:xfrm>
            <a:custGeom>
              <a:avLst/>
              <a:gdLst/>
              <a:ahLst/>
              <a:rect l="l" t="t" r="r" b="b"/>
              <a:pathLst>
                <a:path w="36" h="92">
                  <a:moveTo>
                    <a:pt x="0" y="0"/>
                  </a:moveTo>
                  <a:cubicBezTo>
                    <a:pt x="18" y="6"/>
                    <a:pt x="19" y="25"/>
                    <a:pt x="36" y="36"/>
                  </a:cubicBezTo>
                  <a:cubicBezTo>
                    <a:pt x="31" y="56"/>
                    <a:pt x="22" y="58"/>
                    <a:pt x="8" y="72"/>
                  </a:cubicBezTo>
                  <a:cubicBezTo>
                    <a:pt x="18" y="87"/>
                    <a:pt x="13" y="81"/>
                    <a:pt x="24" y="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82880" y="5519880"/>
              <a:ext cx="86040" cy="15048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32" y="0"/>
                  </a:moveTo>
                  <a:cubicBezTo>
                    <a:pt x="20" y="12"/>
                    <a:pt x="10" y="14"/>
                    <a:pt x="0" y="28"/>
                  </a:cubicBezTo>
                  <a:cubicBezTo>
                    <a:pt x="12" y="40"/>
                    <a:pt x="31" y="56"/>
                    <a:pt x="8" y="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351240" y="5032440"/>
            <a:ext cx="885960" cy="731880"/>
          </a:xfrm>
          <a:custGeom>
            <a:avLst/>
            <a:gdLst/>
            <a:ahLst/>
            <a:rect l="l" t="t" r="r" b="b"/>
            <a:pathLst>
              <a:path w="598" h="329">
                <a:moveTo>
                  <a:pt x="347" y="329"/>
                </a:moveTo>
                <a:cubicBezTo>
                  <a:pt x="390" y="288"/>
                  <a:pt x="332" y="262"/>
                  <a:pt x="366" y="192"/>
                </a:cubicBezTo>
                <a:cubicBezTo>
                  <a:pt x="371" y="181"/>
                  <a:pt x="390" y="187"/>
                  <a:pt x="402" y="183"/>
                </a:cubicBezTo>
                <a:cubicBezTo>
                  <a:pt x="420" y="178"/>
                  <a:pt x="457" y="165"/>
                  <a:pt x="457" y="165"/>
                </a:cubicBezTo>
                <a:cubicBezTo>
                  <a:pt x="489" y="133"/>
                  <a:pt x="506" y="136"/>
                  <a:pt x="539" y="110"/>
                </a:cubicBezTo>
                <a:cubicBezTo>
                  <a:pt x="546" y="105"/>
                  <a:pt x="551" y="97"/>
                  <a:pt x="558" y="92"/>
                </a:cubicBezTo>
                <a:cubicBezTo>
                  <a:pt x="567" y="85"/>
                  <a:pt x="576" y="79"/>
                  <a:pt x="585" y="73"/>
                </a:cubicBezTo>
                <a:cubicBezTo>
                  <a:pt x="588" y="64"/>
                  <a:pt x="598" y="55"/>
                  <a:pt x="594" y="46"/>
                </a:cubicBezTo>
                <a:cubicBezTo>
                  <a:pt x="590" y="36"/>
                  <a:pt x="577" y="31"/>
                  <a:pt x="567" y="28"/>
                </a:cubicBezTo>
                <a:cubicBezTo>
                  <a:pt x="493" y="8"/>
                  <a:pt x="394" y="6"/>
                  <a:pt x="320" y="0"/>
                </a:cubicBezTo>
                <a:cubicBezTo>
                  <a:pt x="122" y="13"/>
                  <a:pt x="229" y="9"/>
                  <a:pt x="0" y="9"/>
                </a:cubicBezTo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02000" y="5249880"/>
            <a:ext cx="887400" cy="770040"/>
          </a:xfrm>
          <a:custGeom>
            <a:avLst/>
            <a:gdLst/>
            <a:ahLst/>
            <a:rect l="l" t="t" r="r" b="b"/>
            <a:pathLst>
              <a:path w="567" h="455">
                <a:moveTo>
                  <a:pt x="0" y="0"/>
                </a:moveTo>
                <a:cubicBezTo>
                  <a:pt x="89" y="17"/>
                  <a:pt x="128" y="62"/>
                  <a:pt x="201" y="110"/>
                </a:cubicBezTo>
                <a:cubicBezTo>
                  <a:pt x="268" y="154"/>
                  <a:pt x="343" y="191"/>
                  <a:pt x="421" y="210"/>
                </a:cubicBezTo>
                <a:cubicBezTo>
                  <a:pt x="455" y="245"/>
                  <a:pt x="522" y="299"/>
                  <a:pt x="539" y="347"/>
                </a:cubicBezTo>
                <a:cubicBezTo>
                  <a:pt x="545" y="365"/>
                  <a:pt x="552" y="384"/>
                  <a:pt x="558" y="402"/>
                </a:cubicBezTo>
                <a:cubicBezTo>
                  <a:pt x="561" y="411"/>
                  <a:pt x="567" y="430"/>
                  <a:pt x="567" y="430"/>
                </a:cubicBezTo>
                <a:cubicBezTo>
                  <a:pt x="392" y="455"/>
                  <a:pt x="214" y="448"/>
                  <a:pt x="37" y="448"/>
                </a:cubicBez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801960" y="4300560"/>
            <a:ext cx="0" cy="13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82880" y="4211640"/>
            <a:ext cx="662040" cy="806400"/>
          </a:xfrm>
          <a:custGeom>
            <a:avLst/>
            <a:gdLst/>
            <a:ahLst/>
            <a:rect l="l" t="t" r="r" b="b"/>
            <a:pathLst>
              <a:path w="423" h="476">
                <a:moveTo>
                  <a:pt x="39" y="0"/>
                </a:moveTo>
                <a:cubicBezTo>
                  <a:pt x="76" y="56"/>
                  <a:pt x="109" y="125"/>
                  <a:pt x="177" y="147"/>
                </a:cubicBezTo>
                <a:cubicBezTo>
                  <a:pt x="216" y="176"/>
                  <a:pt x="259" y="196"/>
                  <a:pt x="305" y="211"/>
                </a:cubicBezTo>
                <a:cubicBezTo>
                  <a:pt x="343" y="236"/>
                  <a:pt x="385" y="248"/>
                  <a:pt x="423" y="275"/>
                </a:cubicBezTo>
                <a:cubicBezTo>
                  <a:pt x="416" y="343"/>
                  <a:pt x="404" y="409"/>
                  <a:pt x="396" y="476"/>
                </a:cubicBezTo>
                <a:cubicBezTo>
                  <a:pt x="378" y="458"/>
                  <a:pt x="359" y="439"/>
                  <a:pt x="341" y="421"/>
                </a:cubicBezTo>
                <a:cubicBezTo>
                  <a:pt x="321" y="401"/>
                  <a:pt x="323" y="347"/>
                  <a:pt x="314" y="320"/>
                </a:cubicBezTo>
                <a:cubicBezTo>
                  <a:pt x="311" y="341"/>
                  <a:pt x="309" y="363"/>
                  <a:pt x="305" y="384"/>
                </a:cubicBezTo>
                <a:cubicBezTo>
                  <a:pt x="302" y="399"/>
                  <a:pt x="311" y="430"/>
                  <a:pt x="295" y="430"/>
                </a:cubicBezTo>
                <a:cubicBezTo>
                  <a:pt x="279" y="430"/>
                  <a:pt x="291" y="399"/>
                  <a:pt x="286" y="384"/>
                </a:cubicBezTo>
                <a:cubicBezTo>
                  <a:pt x="282" y="374"/>
                  <a:pt x="274" y="366"/>
                  <a:pt x="268" y="357"/>
                </a:cubicBezTo>
                <a:cubicBezTo>
                  <a:pt x="265" y="345"/>
                  <a:pt x="270" y="313"/>
                  <a:pt x="259" y="320"/>
                </a:cubicBezTo>
                <a:cubicBezTo>
                  <a:pt x="235" y="336"/>
                  <a:pt x="241" y="375"/>
                  <a:pt x="231" y="403"/>
                </a:cubicBezTo>
                <a:cubicBezTo>
                  <a:pt x="228" y="412"/>
                  <a:pt x="222" y="430"/>
                  <a:pt x="222" y="430"/>
                </a:cubicBezTo>
                <a:cubicBezTo>
                  <a:pt x="211" y="375"/>
                  <a:pt x="204" y="320"/>
                  <a:pt x="186" y="266"/>
                </a:cubicBezTo>
                <a:cubicBezTo>
                  <a:pt x="159" y="341"/>
                  <a:pt x="174" y="332"/>
                  <a:pt x="158" y="284"/>
                </a:cubicBezTo>
                <a:cubicBezTo>
                  <a:pt x="153" y="268"/>
                  <a:pt x="147" y="253"/>
                  <a:pt x="140" y="238"/>
                </a:cubicBezTo>
                <a:cubicBezTo>
                  <a:pt x="132" y="219"/>
                  <a:pt x="122" y="202"/>
                  <a:pt x="113" y="183"/>
                </a:cubicBezTo>
                <a:cubicBezTo>
                  <a:pt x="106" y="168"/>
                  <a:pt x="100" y="153"/>
                  <a:pt x="94" y="138"/>
                </a:cubicBezTo>
                <a:cubicBezTo>
                  <a:pt x="91" y="153"/>
                  <a:pt x="88" y="168"/>
                  <a:pt x="85" y="183"/>
                </a:cubicBezTo>
                <a:cubicBezTo>
                  <a:pt x="82" y="201"/>
                  <a:pt x="89" y="225"/>
                  <a:pt x="76" y="238"/>
                </a:cubicBezTo>
                <a:cubicBezTo>
                  <a:pt x="67" y="247"/>
                  <a:pt x="70" y="214"/>
                  <a:pt x="67" y="202"/>
                </a:cubicBezTo>
                <a:cubicBezTo>
                  <a:pt x="64" y="193"/>
                  <a:pt x="61" y="183"/>
                  <a:pt x="58" y="174"/>
                </a:cubicBezTo>
                <a:cubicBezTo>
                  <a:pt x="55" y="211"/>
                  <a:pt x="53" y="247"/>
                  <a:pt x="49" y="284"/>
                </a:cubicBezTo>
                <a:cubicBezTo>
                  <a:pt x="47" y="305"/>
                  <a:pt x="55" y="333"/>
                  <a:pt x="39" y="348"/>
                </a:cubicBezTo>
                <a:cubicBezTo>
                  <a:pt x="28" y="359"/>
                  <a:pt x="34" y="317"/>
                  <a:pt x="30" y="302"/>
                </a:cubicBezTo>
                <a:cubicBezTo>
                  <a:pt x="25" y="283"/>
                  <a:pt x="12" y="247"/>
                  <a:pt x="12" y="247"/>
                </a:cubicBezTo>
                <a:cubicBezTo>
                  <a:pt x="17" y="131"/>
                  <a:pt x="0" y="83"/>
                  <a:pt x="39" y="0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9120" y="4243320"/>
            <a:ext cx="501840" cy="1006560"/>
          </a:xfrm>
          <a:custGeom>
            <a:avLst/>
            <a:gdLst/>
            <a:ahLst/>
            <a:rect l="l" t="t" r="r" b="b"/>
            <a:pathLst>
              <a:path w="320" h="594">
                <a:moveTo>
                  <a:pt x="18" y="0"/>
                </a:moveTo>
                <a:cubicBezTo>
                  <a:pt x="45" y="41"/>
                  <a:pt x="62" y="84"/>
                  <a:pt x="82" y="128"/>
                </a:cubicBezTo>
                <a:cubicBezTo>
                  <a:pt x="108" y="187"/>
                  <a:pt x="135" y="232"/>
                  <a:pt x="155" y="292"/>
                </a:cubicBezTo>
                <a:cubicBezTo>
                  <a:pt x="164" y="321"/>
                  <a:pt x="197" y="335"/>
                  <a:pt x="219" y="356"/>
                </a:cubicBezTo>
                <a:cubicBezTo>
                  <a:pt x="230" y="367"/>
                  <a:pt x="236" y="382"/>
                  <a:pt x="246" y="393"/>
                </a:cubicBezTo>
                <a:cubicBezTo>
                  <a:pt x="320" y="477"/>
                  <a:pt x="270" y="406"/>
                  <a:pt x="310" y="466"/>
                </a:cubicBezTo>
                <a:cubicBezTo>
                  <a:pt x="301" y="505"/>
                  <a:pt x="283" y="537"/>
                  <a:pt x="274" y="576"/>
                </a:cubicBezTo>
                <a:cubicBezTo>
                  <a:pt x="252" y="509"/>
                  <a:pt x="261" y="540"/>
                  <a:pt x="246" y="484"/>
                </a:cubicBezTo>
                <a:cubicBezTo>
                  <a:pt x="240" y="493"/>
                  <a:pt x="235" y="521"/>
                  <a:pt x="228" y="512"/>
                </a:cubicBezTo>
                <a:cubicBezTo>
                  <a:pt x="194" y="470"/>
                  <a:pt x="222" y="421"/>
                  <a:pt x="182" y="384"/>
                </a:cubicBezTo>
                <a:cubicBezTo>
                  <a:pt x="175" y="459"/>
                  <a:pt x="164" y="522"/>
                  <a:pt x="146" y="594"/>
                </a:cubicBezTo>
                <a:cubicBezTo>
                  <a:pt x="92" y="484"/>
                  <a:pt x="106" y="361"/>
                  <a:pt x="36" y="256"/>
                </a:cubicBezTo>
                <a:cubicBezTo>
                  <a:pt x="20" y="304"/>
                  <a:pt x="36" y="375"/>
                  <a:pt x="0" y="283"/>
                </a:cubicBezTo>
                <a:cubicBezTo>
                  <a:pt x="4" y="195"/>
                  <a:pt x="18" y="91"/>
                  <a:pt x="18" y="0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9720" y="4273560"/>
            <a:ext cx="522360" cy="1208160"/>
          </a:xfrm>
          <a:custGeom>
            <a:avLst/>
            <a:gdLst/>
            <a:ahLst/>
            <a:rect l="l" t="t" r="r" b="b"/>
            <a:pathLst>
              <a:path w="334" h="713">
                <a:moveTo>
                  <a:pt x="326" y="0"/>
                </a:moveTo>
                <a:cubicBezTo>
                  <a:pt x="308" y="66"/>
                  <a:pt x="258" y="115"/>
                  <a:pt x="225" y="174"/>
                </a:cubicBezTo>
                <a:cubicBezTo>
                  <a:pt x="218" y="186"/>
                  <a:pt x="215" y="200"/>
                  <a:pt x="207" y="210"/>
                </a:cubicBezTo>
                <a:cubicBezTo>
                  <a:pt x="191" y="230"/>
                  <a:pt x="152" y="265"/>
                  <a:pt x="152" y="265"/>
                </a:cubicBezTo>
                <a:cubicBezTo>
                  <a:pt x="130" y="311"/>
                  <a:pt x="98" y="350"/>
                  <a:pt x="70" y="393"/>
                </a:cubicBezTo>
                <a:cubicBezTo>
                  <a:pt x="65" y="401"/>
                  <a:pt x="67" y="414"/>
                  <a:pt x="60" y="421"/>
                </a:cubicBezTo>
                <a:cubicBezTo>
                  <a:pt x="53" y="428"/>
                  <a:pt x="42" y="427"/>
                  <a:pt x="33" y="430"/>
                </a:cubicBezTo>
                <a:cubicBezTo>
                  <a:pt x="0" y="530"/>
                  <a:pt x="44" y="625"/>
                  <a:pt x="88" y="713"/>
                </a:cubicBezTo>
                <a:cubicBezTo>
                  <a:pt x="113" y="663"/>
                  <a:pt x="125" y="611"/>
                  <a:pt x="143" y="558"/>
                </a:cubicBezTo>
                <a:cubicBezTo>
                  <a:pt x="136" y="481"/>
                  <a:pt x="137" y="445"/>
                  <a:pt x="97" y="384"/>
                </a:cubicBezTo>
                <a:cubicBezTo>
                  <a:pt x="102" y="417"/>
                  <a:pt x="119" y="543"/>
                  <a:pt x="124" y="558"/>
                </a:cubicBezTo>
                <a:cubicBezTo>
                  <a:pt x="127" y="567"/>
                  <a:pt x="130" y="539"/>
                  <a:pt x="134" y="530"/>
                </a:cubicBezTo>
                <a:cubicBezTo>
                  <a:pt x="139" y="520"/>
                  <a:pt x="147" y="512"/>
                  <a:pt x="152" y="503"/>
                </a:cubicBezTo>
                <a:cubicBezTo>
                  <a:pt x="159" y="491"/>
                  <a:pt x="164" y="478"/>
                  <a:pt x="170" y="466"/>
                </a:cubicBezTo>
                <a:cubicBezTo>
                  <a:pt x="173" y="443"/>
                  <a:pt x="173" y="299"/>
                  <a:pt x="198" y="411"/>
                </a:cubicBezTo>
                <a:cubicBezTo>
                  <a:pt x="215" y="377"/>
                  <a:pt x="225" y="348"/>
                  <a:pt x="234" y="311"/>
                </a:cubicBezTo>
                <a:cubicBezTo>
                  <a:pt x="237" y="320"/>
                  <a:pt x="240" y="329"/>
                  <a:pt x="243" y="338"/>
                </a:cubicBezTo>
                <a:cubicBezTo>
                  <a:pt x="246" y="350"/>
                  <a:pt x="239" y="375"/>
                  <a:pt x="252" y="375"/>
                </a:cubicBezTo>
                <a:cubicBezTo>
                  <a:pt x="265" y="375"/>
                  <a:pt x="259" y="351"/>
                  <a:pt x="262" y="338"/>
                </a:cubicBezTo>
                <a:cubicBezTo>
                  <a:pt x="266" y="320"/>
                  <a:pt x="268" y="301"/>
                  <a:pt x="271" y="283"/>
                </a:cubicBezTo>
                <a:cubicBezTo>
                  <a:pt x="274" y="292"/>
                  <a:pt x="277" y="302"/>
                  <a:pt x="280" y="311"/>
                </a:cubicBezTo>
                <a:cubicBezTo>
                  <a:pt x="283" y="323"/>
                  <a:pt x="278" y="341"/>
                  <a:pt x="289" y="347"/>
                </a:cubicBezTo>
                <a:cubicBezTo>
                  <a:pt x="297" y="351"/>
                  <a:pt x="296" y="329"/>
                  <a:pt x="298" y="320"/>
                </a:cubicBezTo>
                <a:cubicBezTo>
                  <a:pt x="320" y="232"/>
                  <a:pt x="295" y="309"/>
                  <a:pt x="316" y="247"/>
                </a:cubicBezTo>
                <a:cubicBezTo>
                  <a:pt x="330" y="160"/>
                  <a:pt x="334" y="89"/>
                  <a:pt x="326" y="0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0600" y="4516560"/>
            <a:ext cx="244440" cy="871560"/>
          </a:xfrm>
          <a:custGeom>
            <a:avLst/>
            <a:gdLst/>
            <a:ahLst/>
            <a:rect l="l" t="t" r="r" b="b"/>
            <a:pathLst>
              <a:path w="157" h="515">
                <a:moveTo>
                  <a:pt x="119" y="67"/>
                </a:moveTo>
                <a:cubicBezTo>
                  <a:pt x="104" y="113"/>
                  <a:pt x="92" y="146"/>
                  <a:pt x="64" y="186"/>
                </a:cubicBezTo>
                <a:cubicBezTo>
                  <a:pt x="61" y="195"/>
                  <a:pt x="59" y="205"/>
                  <a:pt x="55" y="214"/>
                </a:cubicBezTo>
                <a:cubicBezTo>
                  <a:pt x="50" y="224"/>
                  <a:pt x="41" y="231"/>
                  <a:pt x="37" y="241"/>
                </a:cubicBezTo>
                <a:cubicBezTo>
                  <a:pt x="22" y="277"/>
                  <a:pt x="29" y="296"/>
                  <a:pt x="0" y="323"/>
                </a:cubicBezTo>
                <a:cubicBezTo>
                  <a:pt x="3" y="372"/>
                  <a:pt x="4" y="421"/>
                  <a:pt x="9" y="470"/>
                </a:cubicBezTo>
                <a:cubicBezTo>
                  <a:pt x="10" y="482"/>
                  <a:pt x="8" y="512"/>
                  <a:pt x="19" y="506"/>
                </a:cubicBezTo>
                <a:cubicBezTo>
                  <a:pt x="33" y="499"/>
                  <a:pt x="25" y="475"/>
                  <a:pt x="28" y="460"/>
                </a:cubicBezTo>
                <a:cubicBezTo>
                  <a:pt x="34" y="436"/>
                  <a:pt x="40" y="411"/>
                  <a:pt x="46" y="387"/>
                </a:cubicBezTo>
                <a:cubicBezTo>
                  <a:pt x="49" y="375"/>
                  <a:pt x="55" y="351"/>
                  <a:pt x="55" y="351"/>
                </a:cubicBezTo>
                <a:cubicBezTo>
                  <a:pt x="58" y="397"/>
                  <a:pt x="40" y="449"/>
                  <a:pt x="64" y="488"/>
                </a:cubicBezTo>
                <a:cubicBezTo>
                  <a:pt x="81" y="515"/>
                  <a:pt x="75" y="426"/>
                  <a:pt x="83" y="396"/>
                </a:cubicBezTo>
                <a:cubicBezTo>
                  <a:pt x="94" y="350"/>
                  <a:pt x="88" y="372"/>
                  <a:pt x="101" y="332"/>
                </a:cubicBezTo>
                <a:cubicBezTo>
                  <a:pt x="98" y="299"/>
                  <a:pt x="92" y="265"/>
                  <a:pt x="92" y="232"/>
                </a:cubicBezTo>
                <a:cubicBezTo>
                  <a:pt x="92" y="207"/>
                  <a:pt x="97" y="281"/>
                  <a:pt x="101" y="305"/>
                </a:cubicBezTo>
                <a:cubicBezTo>
                  <a:pt x="103" y="314"/>
                  <a:pt x="107" y="323"/>
                  <a:pt x="110" y="332"/>
                </a:cubicBezTo>
                <a:cubicBezTo>
                  <a:pt x="121" y="299"/>
                  <a:pt x="137" y="232"/>
                  <a:pt x="137" y="232"/>
                </a:cubicBezTo>
                <a:cubicBezTo>
                  <a:pt x="133" y="159"/>
                  <a:pt x="157" y="0"/>
                  <a:pt x="110" y="95"/>
                </a:cubicBezTo>
                <a:cubicBezTo>
                  <a:pt x="98" y="119"/>
                  <a:pt x="94" y="140"/>
                  <a:pt x="73" y="159"/>
                </a:cubicBezTo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28920" y="3954600"/>
            <a:ext cx="588960" cy="861840"/>
          </a:xfrm>
          <a:custGeom>
            <a:avLst/>
            <a:gdLst/>
            <a:ahLst/>
            <a:rect l="l" t="t" r="r" b="b"/>
            <a:pathLst>
              <a:path w="376" h="509">
                <a:moveTo>
                  <a:pt x="275" y="98"/>
                </a:moveTo>
                <a:cubicBezTo>
                  <a:pt x="240" y="123"/>
                  <a:pt x="210" y="130"/>
                  <a:pt x="174" y="152"/>
                </a:cubicBezTo>
                <a:cubicBezTo>
                  <a:pt x="121" y="183"/>
                  <a:pt x="103" y="194"/>
                  <a:pt x="46" y="216"/>
                </a:cubicBezTo>
                <a:cubicBezTo>
                  <a:pt x="0" y="287"/>
                  <a:pt x="40" y="426"/>
                  <a:pt x="46" y="509"/>
                </a:cubicBezTo>
                <a:cubicBezTo>
                  <a:pt x="70" y="436"/>
                  <a:pt x="95" y="363"/>
                  <a:pt x="119" y="290"/>
                </a:cubicBezTo>
                <a:cubicBezTo>
                  <a:pt x="122" y="305"/>
                  <a:pt x="115" y="327"/>
                  <a:pt x="128" y="335"/>
                </a:cubicBezTo>
                <a:cubicBezTo>
                  <a:pt x="139" y="342"/>
                  <a:pt x="156" y="281"/>
                  <a:pt x="156" y="280"/>
                </a:cubicBezTo>
                <a:cubicBezTo>
                  <a:pt x="162" y="295"/>
                  <a:pt x="159" y="320"/>
                  <a:pt x="174" y="326"/>
                </a:cubicBezTo>
                <a:cubicBezTo>
                  <a:pt x="203" y="338"/>
                  <a:pt x="220" y="244"/>
                  <a:pt x="220" y="244"/>
                </a:cubicBezTo>
                <a:cubicBezTo>
                  <a:pt x="229" y="180"/>
                  <a:pt x="229" y="21"/>
                  <a:pt x="247" y="226"/>
                </a:cubicBezTo>
                <a:cubicBezTo>
                  <a:pt x="271" y="200"/>
                  <a:pt x="290" y="135"/>
                  <a:pt x="302" y="98"/>
                </a:cubicBezTo>
                <a:cubicBezTo>
                  <a:pt x="305" y="119"/>
                  <a:pt x="300" y="144"/>
                  <a:pt x="311" y="162"/>
                </a:cubicBezTo>
                <a:cubicBezTo>
                  <a:pt x="315" y="169"/>
                  <a:pt x="327" y="152"/>
                  <a:pt x="329" y="143"/>
                </a:cubicBezTo>
                <a:cubicBezTo>
                  <a:pt x="356" y="0"/>
                  <a:pt x="376" y="3"/>
                  <a:pt x="311" y="24"/>
                </a:cubicBezTo>
                <a:cubicBezTo>
                  <a:pt x="285" y="50"/>
                  <a:pt x="255" y="72"/>
                  <a:pt x="229" y="98"/>
                </a:cubicBezTo>
                <a:cubicBezTo>
                  <a:pt x="221" y="106"/>
                  <a:pt x="219" y="118"/>
                  <a:pt x="211" y="125"/>
                </a:cubicBezTo>
                <a:cubicBezTo>
                  <a:pt x="191" y="142"/>
                  <a:pt x="147" y="171"/>
                  <a:pt x="147" y="171"/>
                </a:cubicBezTo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54440" y="3886200"/>
            <a:ext cx="447840" cy="882720"/>
          </a:xfrm>
          <a:custGeom>
            <a:avLst/>
            <a:gdLst/>
            <a:ahLst/>
            <a:rect l="l" t="t" r="r" b="b"/>
            <a:pathLst>
              <a:path w="286" h="521">
                <a:moveTo>
                  <a:pt x="12" y="0"/>
                </a:moveTo>
                <a:cubicBezTo>
                  <a:pt x="21" y="28"/>
                  <a:pt x="21" y="60"/>
                  <a:pt x="39" y="83"/>
                </a:cubicBezTo>
                <a:cubicBezTo>
                  <a:pt x="59" y="108"/>
                  <a:pt x="88" y="136"/>
                  <a:pt x="103" y="165"/>
                </a:cubicBezTo>
                <a:cubicBezTo>
                  <a:pt x="107" y="173"/>
                  <a:pt x="106" y="185"/>
                  <a:pt x="112" y="192"/>
                </a:cubicBezTo>
                <a:cubicBezTo>
                  <a:pt x="164" y="259"/>
                  <a:pt x="248" y="291"/>
                  <a:pt x="286" y="366"/>
                </a:cubicBezTo>
                <a:cubicBezTo>
                  <a:pt x="272" y="489"/>
                  <a:pt x="282" y="460"/>
                  <a:pt x="268" y="375"/>
                </a:cubicBezTo>
                <a:cubicBezTo>
                  <a:pt x="264" y="350"/>
                  <a:pt x="257" y="334"/>
                  <a:pt x="249" y="311"/>
                </a:cubicBezTo>
                <a:cubicBezTo>
                  <a:pt x="245" y="356"/>
                  <a:pt x="242" y="521"/>
                  <a:pt x="222" y="357"/>
                </a:cubicBezTo>
                <a:cubicBezTo>
                  <a:pt x="213" y="363"/>
                  <a:pt x="201" y="366"/>
                  <a:pt x="195" y="375"/>
                </a:cubicBezTo>
                <a:cubicBezTo>
                  <a:pt x="188" y="386"/>
                  <a:pt x="197" y="417"/>
                  <a:pt x="185" y="412"/>
                </a:cubicBezTo>
                <a:cubicBezTo>
                  <a:pt x="171" y="405"/>
                  <a:pt x="180" y="381"/>
                  <a:pt x="176" y="366"/>
                </a:cubicBezTo>
                <a:cubicBezTo>
                  <a:pt x="165" y="323"/>
                  <a:pt x="145" y="281"/>
                  <a:pt x="131" y="238"/>
                </a:cubicBezTo>
                <a:cubicBezTo>
                  <a:pt x="86" y="267"/>
                  <a:pt x="87" y="301"/>
                  <a:pt x="76" y="348"/>
                </a:cubicBezTo>
                <a:cubicBezTo>
                  <a:pt x="73" y="311"/>
                  <a:pt x="72" y="274"/>
                  <a:pt x="67" y="238"/>
                </a:cubicBezTo>
                <a:cubicBezTo>
                  <a:pt x="66" y="228"/>
                  <a:pt x="65" y="206"/>
                  <a:pt x="57" y="211"/>
                </a:cubicBezTo>
                <a:cubicBezTo>
                  <a:pt x="52" y="214"/>
                  <a:pt x="34" y="271"/>
                  <a:pt x="30" y="284"/>
                </a:cubicBezTo>
                <a:cubicBezTo>
                  <a:pt x="0" y="191"/>
                  <a:pt x="5" y="96"/>
                  <a:pt x="12" y="0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2DC-70D0-41F7-8E07-33ADE41C6D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8625B-4BEB-41CE-851C-B76A613AC1B7}" type="datetime5">
              <a:rPr lang="en-US"/>
              <a:t>Jul 31, 2026</a:t>
            </a:fld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 structure for geographic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514600"/>
            <a:ext cx="990720" cy="53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514600"/>
            <a:ext cx="99036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2514600"/>
            <a:ext cx="20574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9560" y="25909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13280" y="25909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2800" y="2590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51120" y="3274920"/>
            <a:ext cx="10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1 to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5000" y="3276720"/>
            <a:ext cx="308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 15-n (number of digits in CC)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58040" y="4459320"/>
            <a:ext cx="463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C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untry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DC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tional Destinatio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N: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ubscrib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003-DE3E-4722-98D3-F0C90437D0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928C3-D4C6-4BF8-A934-25A0153C0DA8}" type="datetime5">
              <a:rPr lang="en-US"/>
              <a:t>Jul 31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for geographical areas,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for national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Option 1: separated NDC and 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809880"/>
            <a:ext cx="99036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048120"/>
            <a:ext cx="205740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13280" y="38862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42800" y="31240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3809880"/>
            <a:ext cx="20574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42800" y="3886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3048120"/>
            <a:ext cx="990720" cy="533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3048120"/>
            <a:ext cx="99036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572000"/>
            <a:ext cx="20574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9560" y="3124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32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42800" y="4648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9AE-9BD9-4D63-812F-94ACDD8AF2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E241E-C7AF-4D97-A402-057BB97A7D0C}" type="datetime5">
              <a:rPr lang="en-US"/>
              <a:t>Jul 31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for geographical areas,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for national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Option 1: separated NDC and 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3809880"/>
            <a:ext cx="99036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3048120"/>
            <a:ext cx="205740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13280" y="38862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42800" y="31240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09880"/>
            <a:ext cx="20574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42800" y="3886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048120"/>
            <a:ext cx="990720" cy="533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048120"/>
            <a:ext cx="99036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572000"/>
            <a:ext cx="20574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9560" y="3124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132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42800" y="4648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2" idx="1"/>
            <a:endCxn id="154" idx="1"/>
          </p:cNvCxnSpPr>
          <p:nvPr/>
        </p:nvCxnSpPr>
        <p:spPr>
          <a:xfrm rot="10800000">
            <a:off x="2133000" y="4075920"/>
            <a:ext cx="1219680" cy="762840"/>
          </a:xfrm>
          <a:prstGeom prst="curvedConnector5">
            <a:avLst>
              <a:gd name="adj1" fmla="val 118748"/>
              <a:gd name="adj2" fmla="val 50000"/>
              <a:gd name="adj3" fmla="val 11874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3"/>
            <a:endCxn id="155" idx="3"/>
          </p:cNvCxnSpPr>
          <p:nvPr/>
        </p:nvCxnSpPr>
        <p:spPr>
          <a:xfrm flipV="1">
            <a:off x="5409720" y="3314160"/>
            <a:ext cx="2520" cy="1524600"/>
          </a:xfrm>
          <a:prstGeom prst="curvedConnector5">
            <a:avLst>
              <a:gd name="adj1" fmla="val 120600000"/>
              <a:gd name="adj2" fmla="val 50000"/>
              <a:gd name="adj3" fmla="val 120600000"/>
            </a:avLst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686520" y="495288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ational 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24640" y="4952880"/>
            <a:ext cx="30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International 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609-70E8-47D9-89FE-B0B66EA85E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06525-6F0C-4AFA-BF3D-68A80BC3B3DC}" type="datetime5">
              <a:rPr lang="en-US"/>
              <a:t>Jul 31, 2026</a:t>
            </a:fld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33720" y="3809880"/>
            <a:ext cx="327636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for geographical areas,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for national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Option 2: connected NDC and 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3048120"/>
            <a:ext cx="327636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13280" y="38862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2800" y="31240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42800" y="3886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048120"/>
            <a:ext cx="990720" cy="533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9560" y="3124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132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809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000" y="5302080"/>
            <a:ext cx="81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he leading digits of the national subscr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indicates services and/or geograph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86200" y="444816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ational subscriber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6D7-F63B-44FD-B1C2-7FC31AA26C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5D2B9-82ED-45C6-A9DB-8504F71AC6FE}" type="datetime5">
              <a:rPr lang="en-US"/>
              <a:t>Jul 31, 2026</a:t>
            </a:fld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for geographical areas,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for national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Option 2: connected NDC and 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3048120"/>
            <a:ext cx="327636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42800" y="31240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3809880"/>
            <a:ext cx="327636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42800" y="3886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048120"/>
            <a:ext cx="990720" cy="533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9560" y="3124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132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76720" y="30477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endCxn id="185" idx="1"/>
          </p:cNvCxnSpPr>
          <p:nvPr/>
        </p:nvCxnSpPr>
        <p:spPr>
          <a:xfrm flipV="1" rot="16200000">
            <a:off x="-248400" y="4552200"/>
            <a:ext cx="2477160" cy="610200"/>
          </a:xfrm>
          <a:prstGeom prst="curvedConnector5">
            <a:avLst>
              <a:gd name="adj1" fmla="val 4607"/>
              <a:gd name="adj2" fmla="val 68713"/>
              <a:gd name="adj3" fmla="val 4607"/>
            </a:avLst>
          </a:prstGeom>
          <a:ln w="0">
            <a:noFill/>
          </a:ln>
        </p:spPr>
      </p:cxnSp>
      <p:sp>
        <p:nvSpPr>
          <p:cNvPr id="195" name=""/>
          <p:cNvSpPr/>
          <p:nvPr/>
        </p:nvSpPr>
        <p:spPr>
          <a:xfrm>
            <a:off x="2213280" y="38862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276720" y="3809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88" idx="3"/>
            <a:endCxn id="186" idx="3"/>
          </p:cNvCxnSpPr>
          <p:nvPr/>
        </p:nvCxnSpPr>
        <p:spPr>
          <a:xfrm flipV="1">
            <a:off x="5409720" y="3314520"/>
            <a:ext cx="2520" cy="762480"/>
          </a:xfrm>
          <a:prstGeom prst="curvedConnector5">
            <a:avLst>
              <a:gd name="adj1" fmla="val 23300000"/>
              <a:gd name="adj2" fmla="val 49976"/>
              <a:gd name="adj3" fmla="val 233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5837040" y="350532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International 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4800" y="4662360"/>
            <a:ext cx="79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When NDC and SN are inseparably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o form a single dialling sequence, a na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prefix is not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7FC-028D-4A9B-8EB1-F11FCD7D8A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5A541-3CB2-44DA-ABC1-930305900BB1}" type="datetime5">
              <a:rPr lang="en-US"/>
              <a:t>Jul 31, 2026</a:t>
            </a:fld>
          </a:p>
        </p:txBody>
      </p:sp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3366cc"/>
                </a:solidFill>
                <a:latin typeface="Arial"/>
              </a:rPr>
              <a:t>Structures and options</a:t>
            </a:r>
            <a:endParaRPr b="0" lang="en-US" sz="4000" spc="-1" strike="noStrike">
              <a:solidFill>
                <a:srgbClr val="2d49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 for geographical areas,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for national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Option 1 and 2 are normally used in parall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with option 1 for geographic number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option 2 for national location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Option 2 can however be used for both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of numbers natio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037-3538-4623-A060-4629BD8119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3EF7B-F894-4A91-A9D2-ED580ADE862D}" type="datetime5">
              <a:rPr lang="en-US"/>
              <a:t>Jul 31, 2026</a:t>
            </a:fld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09:14:20Z</dcterms:created>
  <dc:creator>Sverre Hugo Isaksen</dc:creator>
  <dc:description/>
  <dc:language>en-US</dc:language>
  <cp:lastModifiedBy>comas</cp:lastModifiedBy>
  <cp:lastPrinted>2001-02-12T12:35:54Z</cp:lastPrinted>
  <dcterms:modified xsi:type="dcterms:W3CDTF">2002-02-07T10:07:27Z</dcterms:modified>
  <cp:revision>61</cp:revision>
  <dc:subject/>
  <dc:title>PowerPoint-presentasjon</dc:title>
</cp:coreProperties>
</file>