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0361-2FC0-4184-A791-BA62B789C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Access to EHRs by clinicians is the number one web-based application in use toda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ly, pre-visit health screenings go from 7.8% in use today to 37% projected over the next four yea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Ambulatory Market Segments are driving the implementation of several web-based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 example, the Solo/Small practice segment has the highest level of implementation of patient appointments and/or admissions, and email between patients and clin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Solo/Small practice sector also appears to have higher than average plans for: Pre-visit Health screenings, evaluations, or assessments; and Post-visit patient edu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D40F-3C8E-47DA-A4F6-91337D884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4753-8E90-4F49-A234-2B70A10F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1E51-5D88-4807-ACDA-7FD6F0157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8890-CBE6-4D73-98CE-18D8F5588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0CDD-28F3-4328-831C-7894B904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FC4A-1CE3-4EDF-85AF-EC244907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2704-FCEB-4A9D-A002-D7C1BC3D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6DF1-6EE1-43A0-A230-A88E71E1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0CE3-6399-4B3D-B131-166F4837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794B-74FF-497E-B7B7-C0C4D364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B892-FBDA-4C05-8B84-722300FC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221E-F754-46C5-9C16-02338E1F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93E0-7431-453B-A872-8342C03DC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57202" b="0"/>
          <a:stretch/>
        </p:blipFill>
        <p:spPr>
          <a:xfrm>
            <a:off x="304920" y="152280"/>
            <a:ext cx="1523880" cy="544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752480" y="533520"/>
            <a:ext cx="6858000" cy="75960"/>
          </a:xfrm>
          <a:prstGeom prst="rect">
            <a:avLst/>
          </a:prstGeom>
          <a:gradFill rotWithShape="0">
            <a:gsLst>
              <a:gs pos="0">
                <a:srgbClr val="f07800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medrecinst.com/resources/survey2002/index.shtml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7772400" cy="1470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nefits of e-Healt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3048120"/>
            <a:ext cx="838188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. Peter Waegeman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O, Medical Records Institute (U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irman and Acting Director, Centre for the Advancement of Electronic Health Records (U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ir, ASTM E31 Standards Committee on Healthcare Informa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Chair, Mobile Healthcare Alliance (MoH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althcare ICT Mar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$45 Billion Annu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$25 Billion US and $20 All Other Count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st EMR Install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ston Hosp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iser Colo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ulatory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 Health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Niche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2057400"/>
            <a:ext cx="86108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Succes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lear Consen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ized to Organizational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Who Benefits from a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1828800"/>
            <a:ext cx="86104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Has ROI Been So Disappointing in Health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 Years of 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Driving Motives for Stakehold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2514600"/>
            <a:ext cx="86108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5257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epts, Systems, and Compon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Can Financial Returns be Achiev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Capture, Coding, Patient Retention, Savings Through Effici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ng the Reduction of Medical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Patient Satisfac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ent Web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828800"/>
            <a:ext cx="86104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447920" y="1079640"/>
            <a:ext cx="6858000" cy="5778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52280" y="3352680"/>
            <a:ext cx="2057400" cy="30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er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deral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lo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e of Pract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24480" y="4876920"/>
            <a:ext cx="2819520" cy="1831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HR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Docu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ient 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” Benefits for Practiti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350496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HR Sc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5943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cale Is Tip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114800" y="2619360"/>
            <a:ext cx="5029200" cy="42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8600" y="1905120"/>
            <a:ext cx="480060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deral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11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olidated Health Initiative (CH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11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deral Legi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11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lo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11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CVHS NHII Propos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s: Florida and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rs – R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ian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11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of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11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600200" y="762120"/>
            <a:ext cx="4572000" cy="914400"/>
          </a:xfrm>
          <a:prstGeom prst="cloudCallout">
            <a:avLst>
              <a:gd name="adj1" fmla="val -12430"/>
              <a:gd name="adj2" fmla="val 1298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Lots of Pressure to Create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38280" y="23623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H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00600" y="1676520"/>
            <a:ext cx="4343400" cy="3581280"/>
          </a:xfrm>
          <a:prstGeom prst="wedgeRoundRectCallout">
            <a:avLst>
              <a:gd name="adj1" fmla="val -70393"/>
              <a:gd name="adj2" fmla="val -21055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Organizations Working Are Making it 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s Organiz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L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TC 2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M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ous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388620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276720"/>
            <a:ext cx="495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onsensus on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ommon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certainty About Benefits to Practitioners and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te Lack of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Succ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38280" y="2362320"/>
            <a:ext cx="1524240" cy="761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9818600">
            <a:off x="381240" y="837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960200">
            <a:off x="6476760" y="57150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PAA – Control ov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676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tion of Medical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20020800">
            <a:off x="228600" y="22860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e Health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20005800">
            <a:off x="762480" y="58672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e Capture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343400" y="838080"/>
            <a:ext cx="1066680" cy="3049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6400" y="228600"/>
            <a:ext cx="5170680" cy="62485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733920" y="2590920"/>
            <a:ext cx="1295280" cy="764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L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4648320"/>
            <a:ext cx="236232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TM E3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19720" y="3657600"/>
            <a:ext cx="1752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 TC 2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5486400"/>
            <a:ext cx="3047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C X12N/EDIF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6248520"/>
            <a:ext cx="83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E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38280" y="1981080"/>
            <a:ext cx="1219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CP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1752480"/>
            <a:ext cx="129528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 25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1447920"/>
            <a:ext cx="914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304920"/>
            <a:ext cx="3276720" cy="301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ealthcare Informatics Standards Develop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76520" y="914400"/>
            <a:ext cx="1218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1143000"/>
            <a:ext cx="121932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NO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. Information Cont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nsist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Cultural Asp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029200" y="2889360"/>
            <a:ext cx="3809880" cy="3968640"/>
            <a:chOff x="5029200" y="2889360"/>
            <a:chExt cx="3809880" cy="3968640"/>
          </a:xfrm>
        </p:grpSpPr>
        <p:sp>
          <p:nvSpPr>
            <p:cNvPr id="124" name=""/>
            <p:cNvSpPr/>
            <p:nvPr/>
          </p:nvSpPr>
          <p:spPr>
            <a:xfrm flipH="1" flipV="1">
              <a:off x="6234120" y="3912840"/>
              <a:ext cx="466560" cy="63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5603760" y="3192480"/>
              <a:ext cx="795240" cy="797040"/>
              <a:chOff x="5603760" y="3192480"/>
              <a:chExt cx="795240" cy="797040"/>
            </a:xfrm>
          </p:grpSpPr>
          <p:sp>
            <p:nvSpPr>
              <p:cNvPr id="126" name=""/>
              <p:cNvSpPr/>
              <p:nvPr/>
            </p:nvSpPr>
            <p:spPr>
              <a:xfrm>
                <a:off x="5603760" y="3192480"/>
                <a:ext cx="795240" cy="797040"/>
              </a:xfrm>
              <a:prstGeom prst="ellipse">
                <a:avLst/>
              </a:prstGeom>
              <a:solidFill>
                <a:srgbClr val="ff33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603760" y="3192480"/>
                <a:ext cx="79524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 flipH="1" flipV="1">
              <a:off x="5803920" y="4508640"/>
              <a:ext cx="753840" cy="24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5029200" y="3986280"/>
              <a:ext cx="795240" cy="797040"/>
              <a:chOff x="5029200" y="3986280"/>
              <a:chExt cx="795240" cy="797040"/>
            </a:xfrm>
          </p:grpSpPr>
          <p:sp>
            <p:nvSpPr>
              <p:cNvPr id="130" name=""/>
              <p:cNvSpPr/>
              <p:nvPr/>
            </p:nvSpPr>
            <p:spPr>
              <a:xfrm>
                <a:off x="5029200" y="3986280"/>
                <a:ext cx="795240" cy="79704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029200" y="3986280"/>
                <a:ext cx="79524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 flipH="1">
              <a:off x="5805360" y="4997520"/>
              <a:ext cx="752400" cy="245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5029200" y="4965840"/>
              <a:ext cx="795240" cy="796680"/>
              <a:chOff x="5029200" y="4965840"/>
              <a:chExt cx="795240" cy="796680"/>
            </a:xfrm>
          </p:grpSpPr>
          <p:sp>
            <p:nvSpPr>
              <p:cNvPr id="134" name=""/>
              <p:cNvSpPr/>
              <p:nvPr/>
            </p:nvSpPr>
            <p:spPr>
              <a:xfrm>
                <a:off x="5029200" y="4965840"/>
                <a:ext cx="795240" cy="79668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029200" y="4965840"/>
                <a:ext cx="795240" cy="79668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 flipH="1">
              <a:off x="6236640" y="5195880"/>
              <a:ext cx="465480" cy="64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5605200" y="5757840"/>
              <a:ext cx="795600" cy="797040"/>
              <a:chOff x="5605200" y="5757840"/>
              <a:chExt cx="795600" cy="797040"/>
            </a:xfrm>
          </p:grpSpPr>
          <p:sp>
            <p:nvSpPr>
              <p:cNvPr id="138" name=""/>
              <p:cNvSpPr/>
              <p:nvPr/>
            </p:nvSpPr>
            <p:spPr>
              <a:xfrm>
                <a:off x="5605200" y="5757840"/>
                <a:ext cx="795600" cy="79704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605200" y="5757840"/>
                <a:ext cx="79560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6935760" y="5270400"/>
              <a:ext cx="1440" cy="79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6537240" y="6060960"/>
              <a:ext cx="795240" cy="797040"/>
              <a:chOff x="6537240" y="6060960"/>
              <a:chExt cx="795240" cy="797040"/>
            </a:xfrm>
          </p:grpSpPr>
          <p:sp>
            <p:nvSpPr>
              <p:cNvPr id="142" name=""/>
              <p:cNvSpPr/>
              <p:nvPr/>
            </p:nvSpPr>
            <p:spPr>
              <a:xfrm>
                <a:off x="6537240" y="6060960"/>
                <a:ext cx="795240" cy="79704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537240" y="6060960"/>
                <a:ext cx="79524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7167600" y="5194440"/>
              <a:ext cx="466560" cy="63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7468920" y="5757840"/>
              <a:ext cx="795600" cy="797040"/>
              <a:chOff x="7468920" y="5757840"/>
              <a:chExt cx="795600" cy="797040"/>
            </a:xfrm>
          </p:grpSpPr>
          <p:sp>
            <p:nvSpPr>
              <p:cNvPr id="146" name=""/>
              <p:cNvSpPr/>
              <p:nvPr/>
            </p:nvSpPr>
            <p:spPr>
              <a:xfrm>
                <a:off x="7468920" y="5757840"/>
                <a:ext cx="795600" cy="79704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468920" y="5757840"/>
                <a:ext cx="79560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7311960" y="4996080"/>
              <a:ext cx="753840" cy="24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8043840" y="4964040"/>
              <a:ext cx="795240" cy="797040"/>
              <a:chOff x="8043840" y="4964040"/>
              <a:chExt cx="795240" cy="797040"/>
            </a:xfrm>
          </p:grpSpPr>
          <p:sp>
            <p:nvSpPr>
              <p:cNvPr id="150" name=""/>
              <p:cNvSpPr/>
              <p:nvPr/>
            </p:nvSpPr>
            <p:spPr>
              <a:xfrm>
                <a:off x="8043840" y="4964040"/>
                <a:ext cx="795240" cy="79704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043840" y="4964040"/>
                <a:ext cx="79524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 flipV="1">
              <a:off x="7311960" y="4505040"/>
              <a:ext cx="752400" cy="24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8043840" y="3984840"/>
              <a:ext cx="795240" cy="796680"/>
              <a:chOff x="8043840" y="3984840"/>
              <a:chExt cx="795240" cy="796680"/>
            </a:xfrm>
          </p:grpSpPr>
          <p:sp>
            <p:nvSpPr>
              <p:cNvPr id="154" name=""/>
              <p:cNvSpPr/>
              <p:nvPr/>
            </p:nvSpPr>
            <p:spPr>
              <a:xfrm>
                <a:off x="8043840" y="3984840"/>
                <a:ext cx="795240" cy="79668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043840" y="3984840"/>
                <a:ext cx="795240" cy="79668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 flipV="1">
              <a:off x="7165800" y="3911400"/>
              <a:ext cx="465120" cy="63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7467480" y="3192480"/>
              <a:ext cx="797040" cy="795240"/>
              <a:chOff x="7467480" y="3192480"/>
              <a:chExt cx="797040" cy="795240"/>
            </a:xfrm>
          </p:grpSpPr>
          <p:sp>
            <p:nvSpPr>
              <p:cNvPr id="158" name=""/>
              <p:cNvSpPr/>
              <p:nvPr/>
            </p:nvSpPr>
            <p:spPr>
              <a:xfrm>
                <a:off x="7467480" y="3192480"/>
                <a:ext cx="797040" cy="79524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467480" y="3192480"/>
                <a:ext cx="797040" cy="7952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flipV="1">
              <a:off x="6933960" y="3684240"/>
              <a:ext cx="1800" cy="79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6535440" y="2889360"/>
              <a:ext cx="795600" cy="795240"/>
              <a:chOff x="6535440" y="2889360"/>
              <a:chExt cx="795600" cy="795240"/>
            </a:xfrm>
          </p:grpSpPr>
          <p:sp>
            <p:nvSpPr>
              <p:cNvPr id="162" name=""/>
              <p:cNvSpPr/>
              <p:nvPr/>
            </p:nvSpPr>
            <p:spPr>
              <a:xfrm>
                <a:off x="6535440" y="2889360"/>
                <a:ext cx="795600" cy="79524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535440" y="2889360"/>
                <a:ext cx="795600" cy="7952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6535440" y="4476960"/>
              <a:ext cx="795600" cy="796680"/>
              <a:chOff x="6535440" y="4476960"/>
              <a:chExt cx="795600" cy="796680"/>
            </a:xfrm>
          </p:grpSpPr>
          <p:sp>
            <p:nvSpPr>
              <p:cNvPr id="165" name=""/>
              <p:cNvSpPr/>
              <p:nvPr/>
            </p:nvSpPr>
            <p:spPr>
              <a:xfrm>
                <a:off x="6535440" y="4476960"/>
                <a:ext cx="795600" cy="79668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535440" y="4476960"/>
                <a:ext cx="795600" cy="79668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6697440" y="4757760"/>
              <a:ext cx="48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80880" y="2057400"/>
            <a:ext cx="86108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8229600" cy="715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 Features of e-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Practitioners Can No More Rely on Memory Al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ccess to Knowledge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Health Information To Be Shared Among Authorized Per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ontinuity of C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 Information Should be Available to Any Authorized Healthcare Profes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Patient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Leveraged Skill and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hanging Provider/Patient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1828800"/>
            <a:ext cx="86104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. Information Cap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get information into the compu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get Physicians to use computers in the exam ro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5334120" y="2889360"/>
            <a:ext cx="3809880" cy="3968640"/>
            <a:chOff x="5334120" y="2889360"/>
            <a:chExt cx="3809880" cy="3968640"/>
          </a:xfrm>
        </p:grpSpPr>
        <p:sp>
          <p:nvSpPr>
            <p:cNvPr id="172" name=""/>
            <p:cNvSpPr/>
            <p:nvPr/>
          </p:nvSpPr>
          <p:spPr>
            <a:xfrm flipH="1" flipV="1">
              <a:off x="6539040" y="3912840"/>
              <a:ext cx="466560" cy="63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5908680" y="3192480"/>
              <a:ext cx="795240" cy="797040"/>
              <a:chOff x="5908680" y="3192480"/>
              <a:chExt cx="795240" cy="797040"/>
            </a:xfrm>
          </p:grpSpPr>
          <p:sp>
            <p:nvSpPr>
              <p:cNvPr id="174" name=""/>
              <p:cNvSpPr/>
              <p:nvPr/>
            </p:nvSpPr>
            <p:spPr>
              <a:xfrm>
                <a:off x="5908680" y="3192480"/>
                <a:ext cx="795240" cy="797040"/>
              </a:xfrm>
              <a:prstGeom prst="ellipse">
                <a:avLst/>
              </a:prstGeom>
              <a:solidFill>
                <a:srgbClr val="ff99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908680" y="3192480"/>
                <a:ext cx="79524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 flipH="1" flipV="1">
              <a:off x="6108840" y="4508640"/>
              <a:ext cx="753840" cy="24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5334120" y="3986280"/>
              <a:ext cx="795240" cy="797040"/>
              <a:chOff x="5334120" y="3986280"/>
              <a:chExt cx="795240" cy="797040"/>
            </a:xfrm>
          </p:grpSpPr>
          <p:sp>
            <p:nvSpPr>
              <p:cNvPr id="178" name=""/>
              <p:cNvSpPr/>
              <p:nvPr/>
            </p:nvSpPr>
            <p:spPr>
              <a:xfrm>
                <a:off x="5334120" y="3986280"/>
                <a:ext cx="795240" cy="79704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334120" y="3986280"/>
                <a:ext cx="79524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 flipH="1">
              <a:off x="6110280" y="4997520"/>
              <a:ext cx="752400" cy="245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5334120" y="4965840"/>
              <a:ext cx="795240" cy="796680"/>
              <a:chOff x="5334120" y="4965840"/>
              <a:chExt cx="795240" cy="796680"/>
            </a:xfrm>
          </p:grpSpPr>
          <p:sp>
            <p:nvSpPr>
              <p:cNvPr id="182" name=""/>
              <p:cNvSpPr/>
              <p:nvPr/>
            </p:nvSpPr>
            <p:spPr>
              <a:xfrm>
                <a:off x="5334120" y="4965840"/>
                <a:ext cx="795240" cy="79668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334120" y="4965840"/>
                <a:ext cx="795240" cy="79668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 flipH="1">
              <a:off x="6541560" y="5195880"/>
              <a:ext cx="465480" cy="64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5910120" y="5757840"/>
              <a:ext cx="795600" cy="797040"/>
              <a:chOff x="5910120" y="5757840"/>
              <a:chExt cx="795600" cy="797040"/>
            </a:xfrm>
          </p:grpSpPr>
          <p:sp>
            <p:nvSpPr>
              <p:cNvPr id="186" name=""/>
              <p:cNvSpPr/>
              <p:nvPr/>
            </p:nvSpPr>
            <p:spPr>
              <a:xfrm>
                <a:off x="5910120" y="5757840"/>
                <a:ext cx="795600" cy="79704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910120" y="5757840"/>
                <a:ext cx="79560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7240680" y="5270400"/>
              <a:ext cx="1440" cy="79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6842160" y="6060960"/>
              <a:ext cx="795240" cy="797040"/>
              <a:chOff x="6842160" y="6060960"/>
              <a:chExt cx="795240" cy="797040"/>
            </a:xfrm>
          </p:grpSpPr>
          <p:sp>
            <p:nvSpPr>
              <p:cNvPr id="190" name=""/>
              <p:cNvSpPr/>
              <p:nvPr/>
            </p:nvSpPr>
            <p:spPr>
              <a:xfrm>
                <a:off x="6842160" y="6060960"/>
                <a:ext cx="795240" cy="79704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842160" y="6060960"/>
                <a:ext cx="79524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7472520" y="5194440"/>
              <a:ext cx="466560" cy="63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7773840" y="5757840"/>
              <a:ext cx="795600" cy="797040"/>
              <a:chOff x="7773840" y="5757840"/>
              <a:chExt cx="795600" cy="797040"/>
            </a:xfrm>
          </p:grpSpPr>
          <p:sp>
            <p:nvSpPr>
              <p:cNvPr id="194" name=""/>
              <p:cNvSpPr/>
              <p:nvPr/>
            </p:nvSpPr>
            <p:spPr>
              <a:xfrm>
                <a:off x="7773840" y="5757840"/>
                <a:ext cx="795600" cy="79704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773840" y="5757840"/>
                <a:ext cx="79560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7616880" y="4996080"/>
              <a:ext cx="753840" cy="24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8348760" y="4964040"/>
              <a:ext cx="795240" cy="797040"/>
              <a:chOff x="8348760" y="4964040"/>
              <a:chExt cx="795240" cy="797040"/>
            </a:xfrm>
          </p:grpSpPr>
          <p:sp>
            <p:nvSpPr>
              <p:cNvPr id="198" name=""/>
              <p:cNvSpPr/>
              <p:nvPr/>
            </p:nvSpPr>
            <p:spPr>
              <a:xfrm>
                <a:off x="8348760" y="4964040"/>
                <a:ext cx="795240" cy="79704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348760" y="4964040"/>
                <a:ext cx="79524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 flipV="1">
              <a:off x="7616880" y="4505040"/>
              <a:ext cx="752400" cy="24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8348760" y="3984840"/>
              <a:ext cx="795240" cy="796680"/>
              <a:chOff x="8348760" y="3984840"/>
              <a:chExt cx="795240" cy="796680"/>
            </a:xfrm>
          </p:grpSpPr>
          <p:sp>
            <p:nvSpPr>
              <p:cNvPr id="202" name=""/>
              <p:cNvSpPr/>
              <p:nvPr/>
            </p:nvSpPr>
            <p:spPr>
              <a:xfrm>
                <a:off x="8348760" y="3984840"/>
                <a:ext cx="795240" cy="79668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348760" y="3984840"/>
                <a:ext cx="795240" cy="79668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 flipV="1">
              <a:off x="7470720" y="3911400"/>
              <a:ext cx="465120" cy="63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7772400" y="3192480"/>
              <a:ext cx="797040" cy="795240"/>
              <a:chOff x="7772400" y="3192480"/>
              <a:chExt cx="797040" cy="795240"/>
            </a:xfrm>
          </p:grpSpPr>
          <p:sp>
            <p:nvSpPr>
              <p:cNvPr id="206" name=""/>
              <p:cNvSpPr/>
              <p:nvPr/>
            </p:nvSpPr>
            <p:spPr>
              <a:xfrm>
                <a:off x="7772400" y="3192480"/>
                <a:ext cx="797040" cy="79524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772400" y="3192480"/>
                <a:ext cx="797040" cy="7952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 flipV="1">
              <a:off x="7238880" y="3684240"/>
              <a:ext cx="1800" cy="79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6840360" y="2889360"/>
              <a:ext cx="795600" cy="795240"/>
              <a:chOff x="6840360" y="2889360"/>
              <a:chExt cx="795600" cy="795240"/>
            </a:xfrm>
          </p:grpSpPr>
          <p:sp>
            <p:nvSpPr>
              <p:cNvPr id="210" name=""/>
              <p:cNvSpPr/>
              <p:nvPr/>
            </p:nvSpPr>
            <p:spPr>
              <a:xfrm>
                <a:off x="6840360" y="2889360"/>
                <a:ext cx="795600" cy="795240"/>
              </a:xfrm>
              <a:prstGeom prst="ellipse">
                <a:avLst/>
              </a:prstGeom>
              <a:solidFill>
                <a:srgbClr val="ff33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840360" y="2889360"/>
                <a:ext cx="795600" cy="7952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6840360" y="4476960"/>
              <a:ext cx="795600" cy="796680"/>
              <a:chOff x="6840360" y="4476960"/>
              <a:chExt cx="795600" cy="796680"/>
            </a:xfrm>
          </p:grpSpPr>
          <p:sp>
            <p:nvSpPr>
              <p:cNvPr id="213" name=""/>
              <p:cNvSpPr/>
              <p:nvPr/>
            </p:nvSpPr>
            <p:spPr>
              <a:xfrm>
                <a:off x="6840360" y="4476960"/>
                <a:ext cx="795600" cy="79668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840360" y="4476960"/>
                <a:ext cx="795600" cy="79668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7002360" y="4757760"/>
              <a:ext cx="48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228600" y="1676520"/>
            <a:ext cx="86104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3. Information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nsistent Meaning of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Code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ical Code se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NO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34120" y="2889360"/>
            <a:ext cx="3809880" cy="3968640"/>
            <a:chOff x="5334120" y="2889360"/>
            <a:chExt cx="3809880" cy="3968640"/>
          </a:xfrm>
        </p:grpSpPr>
        <p:sp>
          <p:nvSpPr>
            <p:cNvPr id="220" name=""/>
            <p:cNvSpPr/>
            <p:nvPr/>
          </p:nvSpPr>
          <p:spPr>
            <a:xfrm flipH="1" flipV="1">
              <a:off x="6539040" y="3912840"/>
              <a:ext cx="466560" cy="63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5908680" y="3192480"/>
              <a:ext cx="795240" cy="797040"/>
              <a:chOff x="5908680" y="3192480"/>
              <a:chExt cx="795240" cy="797040"/>
            </a:xfrm>
          </p:grpSpPr>
          <p:sp>
            <p:nvSpPr>
              <p:cNvPr id="222" name=""/>
              <p:cNvSpPr/>
              <p:nvPr/>
            </p:nvSpPr>
            <p:spPr>
              <a:xfrm>
                <a:off x="5908680" y="3192480"/>
                <a:ext cx="795240" cy="797040"/>
              </a:xfrm>
              <a:prstGeom prst="ellipse">
                <a:avLst/>
              </a:prstGeom>
              <a:solidFill>
                <a:srgbClr val="ff99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908680" y="3192480"/>
                <a:ext cx="79524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 flipH="1" flipV="1">
              <a:off x="6108840" y="4508640"/>
              <a:ext cx="753840" cy="24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5334120" y="3986280"/>
              <a:ext cx="795240" cy="797040"/>
              <a:chOff x="5334120" y="3986280"/>
              <a:chExt cx="795240" cy="797040"/>
            </a:xfrm>
          </p:grpSpPr>
          <p:sp>
            <p:nvSpPr>
              <p:cNvPr id="226" name=""/>
              <p:cNvSpPr/>
              <p:nvPr/>
            </p:nvSpPr>
            <p:spPr>
              <a:xfrm>
                <a:off x="5334120" y="3986280"/>
                <a:ext cx="795240" cy="79704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334120" y="3986280"/>
                <a:ext cx="79524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 flipH="1">
              <a:off x="6110280" y="4997520"/>
              <a:ext cx="752400" cy="245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5334120" y="4965840"/>
              <a:ext cx="795240" cy="796680"/>
              <a:chOff x="5334120" y="4965840"/>
              <a:chExt cx="795240" cy="796680"/>
            </a:xfrm>
          </p:grpSpPr>
          <p:sp>
            <p:nvSpPr>
              <p:cNvPr id="230" name=""/>
              <p:cNvSpPr/>
              <p:nvPr/>
            </p:nvSpPr>
            <p:spPr>
              <a:xfrm>
                <a:off x="5334120" y="4965840"/>
                <a:ext cx="795240" cy="79668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334120" y="4965840"/>
                <a:ext cx="795240" cy="79668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 flipH="1">
              <a:off x="6541560" y="5195880"/>
              <a:ext cx="465480" cy="64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5910120" y="5757840"/>
              <a:ext cx="795600" cy="797040"/>
              <a:chOff x="5910120" y="5757840"/>
              <a:chExt cx="795600" cy="797040"/>
            </a:xfrm>
          </p:grpSpPr>
          <p:sp>
            <p:nvSpPr>
              <p:cNvPr id="234" name=""/>
              <p:cNvSpPr/>
              <p:nvPr/>
            </p:nvSpPr>
            <p:spPr>
              <a:xfrm>
                <a:off x="5910120" y="5757840"/>
                <a:ext cx="795600" cy="79704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910120" y="5757840"/>
                <a:ext cx="79560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7240680" y="5270400"/>
              <a:ext cx="1440" cy="79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6842160" y="6060960"/>
              <a:ext cx="795240" cy="797040"/>
              <a:chOff x="6842160" y="6060960"/>
              <a:chExt cx="795240" cy="797040"/>
            </a:xfrm>
          </p:grpSpPr>
          <p:sp>
            <p:nvSpPr>
              <p:cNvPr id="238" name=""/>
              <p:cNvSpPr/>
              <p:nvPr/>
            </p:nvSpPr>
            <p:spPr>
              <a:xfrm>
                <a:off x="6842160" y="6060960"/>
                <a:ext cx="795240" cy="79704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842160" y="6060960"/>
                <a:ext cx="79524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7472520" y="5194440"/>
              <a:ext cx="466560" cy="63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7773840" y="5757840"/>
              <a:ext cx="795600" cy="797040"/>
              <a:chOff x="7773840" y="5757840"/>
              <a:chExt cx="795600" cy="797040"/>
            </a:xfrm>
          </p:grpSpPr>
          <p:sp>
            <p:nvSpPr>
              <p:cNvPr id="242" name=""/>
              <p:cNvSpPr/>
              <p:nvPr/>
            </p:nvSpPr>
            <p:spPr>
              <a:xfrm>
                <a:off x="7773840" y="5757840"/>
                <a:ext cx="795600" cy="79704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773840" y="5757840"/>
                <a:ext cx="79560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7616880" y="4996080"/>
              <a:ext cx="753840" cy="24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8348760" y="4964040"/>
              <a:ext cx="795240" cy="797040"/>
              <a:chOff x="8348760" y="4964040"/>
              <a:chExt cx="795240" cy="797040"/>
            </a:xfrm>
          </p:grpSpPr>
          <p:sp>
            <p:nvSpPr>
              <p:cNvPr id="246" name=""/>
              <p:cNvSpPr/>
              <p:nvPr/>
            </p:nvSpPr>
            <p:spPr>
              <a:xfrm>
                <a:off x="8348760" y="4964040"/>
                <a:ext cx="795240" cy="79704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8348760" y="4964040"/>
                <a:ext cx="79524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 flipV="1">
              <a:off x="7616880" y="4505040"/>
              <a:ext cx="752400" cy="24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8348760" y="3984840"/>
              <a:ext cx="795240" cy="796680"/>
              <a:chOff x="8348760" y="3984840"/>
              <a:chExt cx="795240" cy="796680"/>
            </a:xfrm>
          </p:grpSpPr>
          <p:sp>
            <p:nvSpPr>
              <p:cNvPr id="250" name=""/>
              <p:cNvSpPr/>
              <p:nvPr/>
            </p:nvSpPr>
            <p:spPr>
              <a:xfrm>
                <a:off x="8348760" y="3984840"/>
                <a:ext cx="795240" cy="79668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348760" y="3984840"/>
                <a:ext cx="795240" cy="79668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 flipV="1">
              <a:off x="7470720" y="3911400"/>
              <a:ext cx="465120" cy="63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7772400" y="3192480"/>
              <a:ext cx="797040" cy="795240"/>
              <a:chOff x="7772400" y="3192480"/>
              <a:chExt cx="797040" cy="795240"/>
            </a:xfrm>
          </p:grpSpPr>
          <p:sp>
            <p:nvSpPr>
              <p:cNvPr id="254" name=""/>
              <p:cNvSpPr/>
              <p:nvPr/>
            </p:nvSpPr>
            <p:spPr>
              <a:xfrm>
                <a:off x="7772400" y="3192480"/>
                <a:ext cx="797040" cy="795240"/>
              </a:xfrm>
              <a:prstGeom prst="ellipse">
                <a:avLst/>
              </a:prstGeom>
              <a:solidFill>
                <a:srgbClr val="ff33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772400" y="3192480"/>
                <a:ext cx="797040" cy="7952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 flipV="1">
              <a:off x="7238880" y="3684240"/>
              <a:ext cx="1800" cy="79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6840360" y="2889360"/>
              <a:ext cx="795600" cy="795240"/>
              <a:chOff x="6840360" y="2889360"/>
              <a:chExt cx="795600" cy="795240"/>
            </a:xfrm>
          </p:grpSpPr>
          <p:sp>
            <p:nvSpPr>
              <p:cNvPr id="258" name=""/>
              <p:cNvSpPr/>
              <p:nvPr/>
            </p:nvSpPr>
            <p:spPr>
              <a:xfrm>
                <a:off x="6840360" y="2889360"/>
                <a:ext cx="795600" cy="795240"/>
              </a:xfrm>
              <a:prstGeom prst="ellipse">
                <a:avLst/>
              </a:prstGeom>
              <a:solidFill>
                <a:srgbClr val="ff99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840360" y="2889360"/>
                <a:ext cx="795600" cy="7952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6840360" y="4476960"/>
              <a:ext cx="795600" cy="796680"/>
              <a:chOff x="6840360" y="4476960"/>
              <a:chExt cx="795600" cy="796680"/>
            </a:xfrm>
          </p:grpSpPr>
          <p:sp>
            <p:nvSpPr>
              <p:cNvPr id="261" name=""/>
              <p:cNvSpPr/>
              <p:nvPr/>
            </p:nvSpPr>
            <p:spPr>
              <a:xfrm>
                <a:off x="6840360" y="4476960"/>
                <a:ext cx="795600" cy="79668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840360" y="4476960"/>
                <a:ext cx="795600" cy="79668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7002360" y="4757760"/>
              <a:ext cx="48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380880" y="2057400"/>
            <a:ext cx="86108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4. Data Models and Operational Conform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2819160"/>
            <a:ext cx="4800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er to achieve interoperability, a standardized model must be applied to as well as a standardized 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competing models are RIM, FAM, GEHR (OpenEHR)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5334120" y="2514600"/>
            <a:ext cx="3809880" cy="3968640"/>
            <a:chOff x="5334120" y="2514600"/>
            <a:chExt cx="3809880" cy="3968640"/>
          </a:xfrm>
        </p:grpSpPr>
        <p:sp>
          <p:nvSpPr>
            <p:cNvPr id="268" name=""/>
            <p:cNvSpPr/>
            <p:nvPr/>
          </p:nvSpPr>
          <p:spPr>
            <a:xfrm flipH="1" flipV="1">
              <a:off x="6539040" y="3538080"/>
              <a:ext cx="466560" cy="63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5908680" y="2817720"/>
              <a:ext cx="795240" cy="797040"/>
              <a:chOff x="5908680" y="2817720"/>
              <a:chExt cx="795240" cy="797040"/>
            </a:xfrm>
          </p:grpSpPr>
          <p:sp>
            <p:nvSpPr>
              <p:cNvPr id="270" name=""/>
              <p:cNvSpPr/>
              <p:nvPr/>
            </p:nvSpPr>
            <p:spPr>
              <a:xfrm>
                <a:off x="5908680" y="2817720"/>
                <a:ext cx="795240" cy="797040"/>
              </a:xfrm>
              <a:prstGeom prst="ellipse">
                <a:avLst/>
              </a:prstGeom>
              <a:solidFill>
                <a:srgbClr val="ff99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908680" y="2817720"/>
                <a:ext cx="79524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 flipH="1" flipV="1">
              <a:off x="6108840" y="4133880"/>
              <a:ext cx="753840" cy="24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5334120" y="3611520"/>
              <a:ext cx="795240" cy="797040"/>
              <a:chOff x="5334120" y="3611520"/>
              <a:chExt cx="795240" cy="797040"/>
            </a:xfrm>
          </p:grpSpPr>
          <p:sp>
            <p:nvSpPr>
              <p:cNvPr id="274" name=""/>
              <p:cNvSpPr/>
              <p:nvPr/>
            </p:nvSpPr>
            <p:spPr>
              <a:xfrm>
                <a:off x="5334120" y="3611520"/>
                <a:ext cx="795240" cy="79704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334120" y="3611520"/>
                <a:ext cx="79524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 flipH="1">
              <a:off x="6110280" y="4622760"/>
              <a:ext cx="752400" cy="245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5334120" y="4591080"/>
              <a:ext cx="795240" cy="796680"/>
              <a:chOff x="5334120" y="4591080"/>
              <a:chExt cx="795240" cy="796680"/>
            </a:xfrm>
          </p:grpSpPr>
          <p:sp>
            <p:nvSpPr>
              <p:cNvPr id="278" name=""/>
              <p:cNvSpPr/>
              <p:nvPr/>
            </p:nvSpPr>
            <p:spPr>
              <a:xfrm>
                <a:off x="5334120" y="4591080"/>
                <a:ext cx="795240" cy="79668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334120" y="4591080"/>
                <a:ext cx="795240" cy="79668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 flipH="1">
              <a:off x="6541560" y="4821120"/>
              <a:ext cx="465480" cy="64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5910120" y="5383080"/>
              <a:ext cx="795600" cy="797040"/>
              <a:chOff x="5910120" y="5383080"/>
              <a:chExt cx="795600" cy="797040"/>
            </a:xfrm>
          </p:grpSpPr>
          <p:sp>
            <p:nvSpPr>
              <p:cNvPr id="282" name=""/>
              <p:cNvSpPr/>
              <p:nvPr/>
            </p:nvSpPr>
            <p:spPr>
              <a:xfrm>
                <a:off x="5910120" y="5383080"/>
                <a:ext cx="795600" cy="79704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910120" y="5383080"/>
                <a:ext cx="79560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7240680" y="4895640"/>
              <a:ext cx="1440" cy="79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6842160" y="5686200"/>
              <a:ext cx="795240" cy="797040"/>
              <a:chOff x="6842160" y="5686200"/>
              <a:chExt cx="795240" cy="797040"/>
            </a:xfrm>
          </p:grpSpPr>
          <p:sp>
            <p:nvSpPr>
              <p:cNvPr id="286" name=""/>
              <p:cNvSpPr/>
              <p:nvPr/>
            </p:nvSpPr>
            <p:spPr>
              <a:xfrm>
                <a:off x="6842160" y="5686200"/>
                <a:ext cx="795240" cy="79704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842160" y="5686200"/>
                <a:ext cx="79524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7472520" y="4819680"/>
              <a:ext cx="466560" cy="63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7773840" y="5383080"/>
              <a:ext cx="795600" cy="797040"/>
              <a:chOff x="7773840" y="5383080"/>
              <a:chExt cx="795600" cy="797040"/>
            </a:xfrm>
          </p:grpSpPr>
          <p:sp>
            <p:nvSpPr>
              <p:cNvPr id="290" name=""/>
              <p:cNvSpPr/>
              <p:nvPr/>
            </p:nvSpPr>
            <p:spPr>
              <a:xfrm>
                <a:off x="7773840" y="5383080"/>
                <a:ext cx="795600" cy="79704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773840" y="5383080"/>
                <a:ext cx="79560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7616880" y="4621320"/>
              <a:ext cx="753840" cy="24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8348760" y="4589280"/>
              <a:ext cx="795240" cy="797040"/>
              <a:chOff x="8348760" y="4589280"/>
              <a:chExt cx="795240" cy="797040"/>
            </a:xfrm>
          </p:grpSpPr>
          <p:sp>
            <p:nvSpPr>
              <p:cNvPr id="294" name=""/>
              <p:cNvSpPr/>
              <p:nvPr/>
            </p:nvSpPr>
            <p:spPr>
              <a:xfrm>
                <a:off x="8348760" y="4589280"/>
                <a:ext cx="795240" cy="79704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348760" y="4589280"/>
                <a:ext cx="79524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 flipV="1">
              <a:off x="7616880" y="4130280"/>
              <a:ext cx="752400" cy="24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8348760" y="3610080"/>
              <a:ext cx="795240" cy="796680"/>
              <a:chOff x="8348760" y="3610080"/>
              <a:chExt cx="795240" cy="796680"/>
            </a:xfrm>
          </p:grpSpPr>
          <p:sp>
            <p:nvSpPr>
              <p:cNvPr id="298" name=""/>
              <p:cNvSpPr/>
              <p:nvPr/>
            </p:nvSpPr>
            <p:spPr>
              <a:xfrm>
                <a:off x="8348760" y="3610080"/>
                <a:ext cx="795240" cy="796680"/>
              </a:xfrm>
              <a:prstGeom prst="ellipse">
                <a:avLst/>
              </a:prstGeom>
              <a:solidFill>
                <a:srgbClr val="ff33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8348760" y="3610080"/>
                <a:ext cx="795240" cy="79668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 flipV="1">
              <a:off x="7470720" y="3536640"/>
              <a:ext cx="465120" cy="63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7772400" y="2817720"/>
              <a:ext cx="797040" cy="795240"/>
              <a:chOff x="7772400" y="2817720"/>
              <a:chExt cx="797040" cy="795240"/>
            </a:xfrm>
          </p:grpSpPr>
          <p:sp>
            <p:nvSpPr>
              <p:cNvPr id="302" name=""/>
              <p:cNvSpPr/>
              <p:nvPr/>
            </p:nvSpPr>
            <p:spPr>
              <a:xfrm>
                <a:off x="7772400" y="2817720"/>
                <a:ext cx="797040" cy="795240"/>
              </a:xfrm>
              <a:prstGeom prst="ellipse">
                <a:avLst/>
              </a:prstGeom>
              <a:solidFill>
                <a:srgbClr val="ff99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772400" y="2817720"/>
                <a:ext cx="797040" cy="7952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 flipV="1">
              <a:off x="7238880" y="3309480"/>
              <a:ext cx="1800" cy="79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6840360" y="2514600"/>
              <a:ext cx="795600" cy="795240"/>
              <a:chOff x="6840360" y="2514600"/>
              <a:chExt cx="795600" cy="795240"/>
            </a:xfrm>
          </p:grpSpPr>
          <p:sp>
            <p:nvSpPr>
              <p:cNvPr id="306" name=""/>
              <p:cNvSpPr/>
              <p:nvPr/>
            </p:nvSpPr>
            <p:spPr>
              <a:xfrm>
                <a:off x="6840360" y="2514600"/>
                <a:ext cx="795600" cy="795240"/>
              </a:xfrm>
              <a:prstGeom prst="ellipse">
                <a:avLst/>
              </a:prstGeom>
              <a:solidFill>
                <a:srgbClr val="ff99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840360" y="2514600"/>
                <a:ext cx="795600" cy="7952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6840360" y="4102200"/>
              <a:ext cx="795600" cy="796680"/>
              <a:chOff x="6840360" y="4102200"/>
              <a:chExt cx="795600" cy="796680"/>
            </a:xfrm>
          </p:grpSpPr>
          <p:sp>
            <p:nvSpPr>
              <p:cNvPr id="309" name=""/>
              <p:cNvSpPr/>
              <p:nvPr/>
            </p:nvSpPr>
            <p:spPr>
              <a:xfrm>
                <a:off x="6840360" y="4102200"/>
                <a:ext cx="795600" cy="79668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840360" y="4102200"/>
                <a:ext cx="795600" cy="79668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7002360" y="4383000"/>
              <a:ext cx="48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533520" y="2209680"/>
            <a:ext cx="86104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5. Clinical Prac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ng Guidelines and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ing Information on th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coming Issues of 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5334120" y="2514600"/>
            <a:ext cx="3809880" cy="3968640"/>
            <a:chOff x="5334120" y="2514600"/>
            <a:chExt cx="3809880" cy="3968640"/>
          </a:xfrm>
        </p:grpSpPr>
        <p:sp>
          <p:nvSpPr>
            <p:cNvPr id="316" name=""/>
            <p:cNvSpPr/>
            <p:nvPr/>
          </p:nvSpPr>
          <p:spPr>
            <a:xfrm flipH="1" flipV="1">
              <a:off x="6539040" y="3538080"/>
              <a:ext cx="466560" cy="63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5908680" y="2817720"/>
              <a:ext cx="795240" cy="797040"/>
              <a:chOff x="5908680" y="2817720"/>
              <a:chExt cx="795240" cy="797040"/>
            </a:xfrm>
          </p:grpSpPr>
          <p:sp>
            <p:nvSpPr>
              <p:cNvPr id="318" name=""/>
              <p:cNvSpPr/>
              <p:nvPr/>
            </p:nvSpPr>
            <p:spPr>
              <a:xfrm>
                <a:off x="5908680" y="2817720"/>
                <a:ext cx="795240" cy="797040"/>
              </a:xfrm>
              <a:prstGeom prst="ellipse">
                <a:avLst/>
              </a:prstGeom>
              <a:solidFill>
                <a:srgbClr val="ff99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908680" y="2817720"/>
                <a:ext cx="79524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 flipH="1" flipV="1">
              <a:off x="6108840" y="4133880"/>
              <a:ext cx="753840" cy="24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5334120" y="3611520"/>
              <a:ext cx="795240" cy="797040"/>
              <a:chOff x="5334120" y="3611520"/>
              <a:chExt cx="795240" cy="797040"/>
            </a:xfrm>
          </p:grpSpPr>
          <p:sp>
            <p:nvSpPr>
              <p:cNvPr id="322" name=""/>
              <p:cNvSpPr/>
              <p:nvPr/>
            </p:nvSpPr>
            <p:spPr>
              <a:xfrm>
                <a:off x="5334120" y="3611520"/>
                <a:ext cx="795240" cy="79704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334120" y="3611520"/>
                <a:ext cx="79524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 flipH="1">
              <a:off x="6110280" y="4622760"/>
              <a:ext cx="752400" cy="245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5334120" y="4591080"/>
              <a:ext cx="795240" cy="796680"/>
              <a:chOff x="5334120" y="4591080"/>
              <a:chExt cx="795240" cy="796680"/>
            </a:xfrm>
          </p:grpSpPr>
          <p:sp>
            <p:nvSpPr>
              <p:cNvPr id="326" name=""/>
              <p:cNvSpPr/>
              <p:nvPr/>
            </p:nvSpPr>
            <p:spPr>
              <a:xfrm>
                <a:off x="5334120" y="4591080"/>
                <a:ext cx="795240" cy="79668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334120" y="4591080"/>
                <a:ext cx="795240" cy="79668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 flipH="1">
              <a:off x="6541560" y="4821120"/>
              <a:ext cx="465480" cy="64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5910120" y="5383080"/>
              <a:ext cx="795600" cy="797040"/>
              <a:chOff x="5910120" y="5383080"/>
              <a:chExt cx="795600" cy="797040"/>
            </a:xfrm>
          </p:grpSpPr>
          <p:sp>
            <p:nvSpPr>
              <p:cNvPr id="330" name=""/>
              <p:cNvSpPr/>
              <p:nvPr/>
            </p:nvSpPr>
            <p:spPr>
              <a:xfrm>
                <a:off x="5910120" y="5383080"/>
                <a:ext cx="795600" cy="79704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910120" y="5383080"/>
                <a:ext cx="79560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7240680" y="4895640"/>
              <a:ext cx="1440" cy="79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6842160" y="5686200"/>
              <a:ext cx="795240" cy="797040"/>
              <a:chOff x="6842160" y="5686200"/>
              <a:chExt cx="795240" cy="797040"/>
            </a:xfrm>
          </p:grpSpPr>
          <p:sp>
            <p:nvSpPr>
              <p:cNvPr id="334" name=""/>
              <p:cNvSpPr/>
              <p:nvPr/>
            </p:nvSpPr>
            <p:spPr>
              <a:xfrm>
                <a:off x="6842160" y="5686200"/>
                <a:ext cx="795240" cy="79704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842160" y="5686200"/>
                <a:ext cx="79524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7472520" y="4819680"/>
              <a:ext cx="466560" cy="63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7773840" y="5383080"/>
              <a:ext cx="795600" cy="797040"/>
              <a:chOff x="7773840" y="5383080"/>
              <a:chExt cx="795600" cy="797040"/>
            </a:xfrm>
          </p:grpSpPr>
          <p:sp>
            <p:nvSpPr>
              <p:cNvPr id="338" name=""/>
              <p:cNvSpPr/>
              <p:nvPr/>
            </p:nvSpPr>
            <p:spPr>
              <a:xfrm>
                <a:off x="7773840" y="5383080"/>
                <a:ext cx="795600" cy="79704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773840" y="5383080"/>
                <a:ext cx="79560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7616880" y="4621320"/>
              <a:ext cx="753840" cy="24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8348760" y="4589280"/>
              <a:ext cx="795240" cy="797040"/>
              <a:chOff x="8348760" y="4589280"/>
              <a:chExt cx="795240" cy="797040"/>
            </a:xfrm>
          </p:grpSpPr>
          <p:sp>
            <p:nvSpPr>
              <p:cNvPr id="342" name=""/>
              <p:cNvSpPr/>
              <p:nvPr/>
            </p:nvSpPr>
            <p:spPr>
              <a:xfrm>
                <a:off x="8348760" y="4589280"/>
                <a:ext cx="795240" cy="797040"/>
              </a:xfrm>
              <a:prstGeom prst="ellipse">
                <a:avLst/>
              </a:prstGeom>
              <a:solidFill>
                <a:srgbClr val="ff33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348760" y="4589280"/>
                <a:ext cx="79524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 flipV="1">
              <a:off x="7616880" y="4130280"/>
              <a:ext cx="752400" cy="24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8348760" y="3610080"/>
              <a:ext cx="795240" cy="796680"/>
              <a:chOff x="8348760" y="3610080"/>
              <a:chExt cx="795240" cy="796680"/>
            </a:xfrm>
          </p:grpSpPr>
          <p:sp>
            <p:nvSpPr>
              <p:cNvPr id="346" name=""/>
              <p:cNvSpPr/>
              <p:nvPr/>
            </p:nvSpPr>
            <p:spPr>
              <a:xfrm>
                <a:off x="8348760" y="3610080"/>
                <a:ext cx="795240" cy="796680"/>
              </a:xfrm>
              <a:prstGeom prst="ellipse">
                <a:avLst/>
              </a:prstGeom>
              <a:solidFill>
                <a:srgbClr val="ff99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8348760" y="3610080"/>
                <a:ext cx="795240" cy="79668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" name=""/>
            <p:cNvSpPr/>
            <p:nvPr/>
          </p:nvSpPr>
          <p:spPr>
            <a:xfrm flipV="1">
              <a:off x="7470720" y="3536640"/>
              <a:ext cx="465120" cy="63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7772400" y="2817720"/>
              <a:ext cx="797040" cy="795240"/>
              <a:chOff x="7772400" y="2817720"/>
              <a:chExt cx="797040" cy="795240"/>
            </a:xfrm>
          </p:grpSpPr>
          <p:sp>
            <p:nvSpPr>
              <p:cNvPr id="350" name=""/>
              <p:cNvSpPr/>
              <p:nvPr/>
            </p:nvSpPr>
            <p:spPr>
              <a:xfrm>
                <a:off x="7772400" y="2817720"/>
                <a:ext cx="797040" cy="795240"/>
              </a:xfrm>
              <a:prstGeom prst="ellipse">
                <a:avLst/>
              </a:prstGeom>
              <a:solidFill>
                <a:srgbClr val="ff99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772400" y="2817720"/>
                <a:ext cx="797040" cy="7952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 flipV="1">
              <a:off x="7238880" y="3309480"/>
              <a:ext cx="1800" cy="79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6840360" y="2514600"/>
              <a:ext cx="795600" cy="795240"/>
              <a:chOff x="6840360" y="2514600"/>
              <a:chExt cx="795600" cy="795240"/>
            </a:xfrm>
          </p:grpSpPr>
          <p:sp>
            <p:nvSpPr>
              <p:cNvPr id="354" name=""/>
              <p:cNvSpPr/>
              <p:nvPr/>
            </p:nvSpPr>
            <p:spPr>
              <a:xfrm>
                <a:off x="6840360" y="2514600"/>
                <a:ext cx="795600" cy="795240"/>
              </a:xfrm>
              <a:prstGeom prst="ellipse">
                <a:avLst/>
              </a:prstGeom>
              <a:solidFill>
                <a:srgbClr val="ff99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840360" y="2514600"/>
                <a:ext cx="795600" cy="7952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6840360" y="4102200"/>
              <a:ext cx="795600" cy="796680"/>
              <a:chOff x="6840360" y="4102200"/>
              <a:chExt cx="795600" cy="796680"/>
            </a:xfrm>
          </p:grpSpPr>
          <p:sp>
            <p:nvSpPr>
              <p:cNvPr id="357" name=""/>
              <p:cNvSpPr/>
              <p:nvPr/>
            </p:nvSpPr>
            <p:spPr>
              <a:xfrm>
                <a:off x="6840360" y="4102200"/>
                <a:ext cx="795600" cy="79668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840360" y="4102200"/>
                <a:ext cx="795600" cy="79668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7002360" y="4383000"/>
              <a:ext cx="48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380880" y="2057400"/>
            <a:ext cx="86108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6. Decision Sup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560" y="233208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ized Decision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ssion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g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tic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Entry and Tes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5334120" y="2514600"/>
            <a:ext cx="3809880" cy="3968640"/>
            <a:chOff x="5334120" y="2514600"/>
            <a:chExt cx="3809880" cy="3968640"/>
          </a:xfrm>
        </p:grpSpPr>
        <p:sp>
          <p:nvSpPr>
            <p:cNvPr id="364" name=""/>
            <p:cNvSpPr/>
            <p:nvPr/>
          </p:nvSpPr>
          <p:spPr>
            <a:xfrm flipH="1" flipV="1">
              <a:off x="6539040" y="3538080"/>
              <a:ext cx="466560" cy="63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5908680" y="2817720"/>
              <a:ext cx="795240" cy="797040"/>
              <a:chOff x="5908680" y="2817720"/>
              <a:chExt cx="795240" cy="797040"/>
            </a:xfrm>
          </p:grpSpPr>
          <p:sp>
            <p:nvSpPr>
              <p:cNvPr id="366" name=""/>
              <p:cNvSpPr/>
              <p:nvPr/>
            </p:nvSpPr>
            <p:spPr>
              <a:xfrm>
                <a:off x="5908680" y="2817720"/>
                <a:ext cx="795240" cy="797040"/>
              </a:xfrm>
              <a:prstGeom prst="ellipse">
                <a:avLst/>
              </a:prstGeom>
              <a:solidFill>
                <a:srgbClr val="ff99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908680" y="2817720"/>
                <a:ext cx="79524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 flipH="1" flipV="1">
              <a:off x="6108840" y="4133880"/>
              <a:ext cx="753840" cy="24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5334120" y="3611520"/>
              <a:ext cx="795240" cy="797040"/>
              <a:chOff x="5334120" y="3611520"/>
              <a:chExt cx="795240" cy="797040"/>
            </a:xfrm>
          </p:grpSpPr>
          <p:sp>
            <p:nvSpPr>
              <p:cNvPr id="370" name=""/>
              <p:cNvSpPr/>
              <p:nvPr/>
            </p:nvSpPr>
            <p:spPr>
              <a:xfrm>
                <a:off x="5334120" y="3611520"/>
                <a:ext cx="795240" cy="79704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334120" y="3611520"/>
                <a:ext cx="79524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 flipH="1">
              <a:off x="6110280" y="4622760"/>
              <a:ext cx="752400" cy="245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5334120" y="4591080"/>
              <a:ext cx="795240" cy="796680"/>
              <a:chOff x="5334120" y="4591080"/>
              <a:chExt cx="795240" cy="796680"/>
            </a:xfrm>
          </p:grpSpPr>
          <p:sp>
            <p:nvSpPr>
              <p:cNvPr id="374" name=""/>
              <p:cNvSpPr/>
              <p:nvPr/>
            </p:nvSpPr>
            <p:spPr>
              <a:xfrm>
                <a:off x="5334120" y="4591080"/>
                <a:ext cx="795240" cy="79668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334120" y="4591080"/>
                <a:ext cx="795240" cy="79668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 flipH="1">
              <a:off x="6541560" y="4821120"/>
              <a:ext cx="465480" cy="64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5910120" y="5383080"/>
              <a:ext cx="795600" cy="797040"/>
              <a:chOff x="5910120" y="5383080"/>
              <a:chExt cx="795600" cy="797040"/>
            </a:xfrm>
          </p:grpSpPr>
          <p:sp>
            <p:nvSpPr>
              <p:cNvPr id="378" name=""/>
              <p:cNvSpPr/>
              <p:nvPr/>
            </p:nvSpPr>
            <p:spPr>
              <a:xfrm>
                <a:off x="5910120" y="5383080"/>
                <a:ext cx="795600" cy="79704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910120" y="5383080"/>
                <a:ext cx="79560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7240680" y="4895640"/>
              <a:ext cx="1440" cy="79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6842160" y="5686200"/>
              <a:ext cx="795240" cy="797040"/>
              <a:chOff x="6842160" y="5686200"/>
              <a:chExt cx="795240" cy="797040"/>
            </a:xfrm>
          </p:grpSpPr>
          <p:sp>
            <p:nvSpPr>
              <p:cNvPr id="382" name=""/>
              <p:cNvSpPr/>
              <p:nvPr/>
            </p:nvSpPr>
            <p:spPr>
              <a:xfrm>
                <a:off x="6842160" y="5686200"/>
                <a:ext cx="795240" cy="79704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842160" y="5686200"/>
                <a:ext cx="79524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>
              <a:off x="7472520" y="4819680"/>
              <a:ext cx="466560" cy="63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7773840" y="5383080"/>
              <a:ext cx="795600" cy="797040"/>
              <a:chOff x="7773840" y="5383080"/>
              <a:chExt cx="795600" cy="797040"/>
            </a:xfrm>
          </p:grpSpPr>
          <p:sp>
            <p:nvSpPr>
              <p:cNvPr id="386" name=""/>
              <p:cNvSpPr/>
              <p:nvPr/>
            </p:nvSpPr>
            <p:spPr>
              <a:xfrm>
                <a:off x="7773840" y="5383080"/>
                <a:ext cx="795600" cy="797040"/>
              </a:xfrm>
              <a:prstGeom prst="ellipse">
                <a:avLst/>
              </a:prstGeom>
              <a:solidFill>
                <a:srgbClr val="ff33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773840" y="5383080"/>
                <a:ext cx="79560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7616880" y="4621320"/>
              <a:ext cx="753840" cy="24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8348760" y="4589280"/>
              <a:ext cx="795240" cy="797040"/>
              <a:chOff x="8348760" y="4589280"/>
              <a:chExt cx="795240" cy="797040"/>
            </a:xfrm>
          </p:grpSpPr>
          <p:sp>
            <p:nvSpPr>
              <p:cNvPr id="390" name=""/>
              <p:cNvSpPr/>
              <p:nvPr/>
            </p:nvSpPr>
            <p:spPr>
              <a:xfrm>
                <a:off x="8348760" y="4589280"/>
                <a:ext cx="795240" cy="797040"/>
              </a:xfrm>
              <a:prstGeom prst="ellipse">
                <a:avLst/>
              </a:prstGeom>
              <a:solidFill>
                <a:srgbClr val="ff99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8348760" y="4589280"/>
                <a:ext cx="79524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 flipV="1">
              <a:off x="7616880" y="4130280"/>
              <a:ext cx="752400" cy="24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8348760" y="3610080"/>
              <a:ext cx="795240" cy="796680"/>
              <a:chOff x="8348760" y="3610080"/>
              <a:chExt cx="795240" cy="796680"/>
            </a:xfrm>
          </p:grpSpPr>
          <p:sp>
            <p:nvSpPr>
              <p:cNvPr id="394" name=""/>
              <p:cNvSpPr/>
              <p:nvPr/>
            </p:nvSpPr>
            <p:spPr>
              <a:xfrm>
                <a:off x="8348760" y="3610080"/>
                <a:ext cx="795240" cy="796680"/>
              </a:xfrm>
              <a:prstGeom prst="ellipse">
                <a:avLst/>
              </a:prstGeom>
              <a:solidFill>
                <a:srgbClr val="ff99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348760" y="3610080"/>
                <a:ext cx="795240" cy="79668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"/>
            <p:cNvSpPr/>
            <p:nvPr/>
          </p:nvSpPr>
          <p:spPr>
            <a:xfrm flipV="1">
              <a:off x="7470720" y="3536640"/>
              <a:ext cx="465120" cy="63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7" name=""/>
            <p:cNvGrpSpPr/>
            <p:nvPr/>
          </p:nvGrpSpPr>
          <p:grpSpPr>
            <a:xfrm>
              <a:off x="7772400" y="2817720"/>
              <a:ext cx="797040" cy="795240"/>
              <a:chOff x="7772400" y="2817720"/>
              <a:chExt cx="797040" cy="795240"/>
            </a:xfrm>
          </p:grpSpPr>
          <p:sp>
            <p:nvSpPr>
              <p:cNvPr id="398" name=""/>
              <p:cNvSpPr/>
              <p:nvPr/>
            </p:nvSpPr>
            <p:spPr>
              <a:xfrm>
                <a:off x="7772400" y="2817720"/>
                <a:ext cx="797040" cy="795240"/>
              </a:xfrm>
              <a:prstGeom prst="ellipse">
                <a:avLst/>
              </a:prstGeom>
              <a:solidFill>
                <a:srgbClr val="ff99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772400" y="2817720"/>
                <a:ext cx="797040" cy="7952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 flipV="1">
              <a:off x="7238880" y="3309480"/>
              <a:ext cx="1800" cy="79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6840360" y="2514600"/>
              <a:ext cx="795600" cy="795240"/>
              <a:chOff x="6840360" y="2514600"/>
              <a:chExt cx="795600" cy="795240"/>
            </a:xfrm>
          </p:grpSpPr>
          <p:sp>
            <p:nvSpPr>
              <p:cNvPr id="402" name=""/>
              <p:cNvSpPr/>
              <p:nvPr/>
            </p:nvSpPr>
            <p:spPr>
              <a:xfrm>
                <a:off x="6840360" y="2514600"/>
                <a:ext cx="795600" cy="795240"/>
              </a:xfrm>
              <a:prstGeom prst="ellipse">
                <a:avLst/>
              </a:prstGeom>
              <a:solidFill>
                <a:srgbClr val="ff99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840360" y="2514600"/>
                <a:ext cx="795600" cy="7952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6840360" y="4102200"/>
              <a:ext cx="795600" cy="796680"/>
              <a:chOff x="6840360" y="4102200"/>
              <a:chExt cx="795600" cy="796680"/>
            </a:xfrm>
          </p:grpSpPr>
          <p:sp>
            <p:nvSpPr>
              <p:cNvPr id="405" name=""/>
              <p:cNvSpPr/>
              <p:nvPr/>
            </p:nvSpPr>
            <p:spPr>
              <a:xfrm>
                <a:off x="6840360" y="4102200"/>
                <a:ext cx="795600" cy="79668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840360" y="4102200"/>
                <a:ext cx="795600" cy="79668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>
              <a:off x="7002360" y="4383000"/>
              <a:ext cx="48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380880" y="2057400"/>
            <a:ext cx="86108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28600" y="9140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7. Technical Interope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interoperability system is go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ucceed in health c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BA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HR/OpenE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L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Internet: XML with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5638680" y="2133720"/>
            <a:ext cx="3504960" cy="3276000"/>
            <a:chOff x="5638680" y="2133720"/>
            <a:chExt cx="3504960" cy="3276000"/>
          </a:xfrm>
        </p:grpSpPr>
        <p:sp>
          <p:nvSpPr>
            <p:cNvPr id="412" name=""/>
            <p:cNvSpPr/>
            <p:nvPr/>
          </p:nvSpPr>
          <p:spPr>
            <a:xfrm flipH="1" flipV="1">
              <a:off x="6747120" y="2978280"/>
              <a:ext cx="429120" cy="52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6167160" y="2383920"/>
              <a:ext cx="731520" cy="657720"/>
              <a:chOff x="6167160" y="2383920"/>
              <a:chExt cx="731520" cy="657720"/>
            </a:xfrm>
          </p:grpSpPr>
          <p:sp>
            <p:nvSpPr>
              <p:cNvPr id="414" name=""/>
              <p:cNvSpPr/>
              <p:nvPr/>
            </p:nvSpPr>
            <p:spPr>
              <a:xfrm>
                <a:off x="6167160" y="2383920"/>
                <a:ext cx="731520" cy="657720"/>
              </a:xfrm>
              <a:prstGeom prst="ellipse">
                <a:avLst/>
              </a:prstGeom>
              <a:solidFill>
                <a:srgbClr val="ff99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167160" y="2383920"/>
                <a:ext cx="731520" cy="65772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 flipH="1" flipV="1">
              <a:off x="6351120" y="3470400"/>
              <a:ext cx="693360" cy="20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5638680" y="3039120"/>
              <a:ext cx="731520" cy="657720"/>
              <a:chOff x="5638680" y="3039120"/>
              <a:chExt cx="731520" cy="657720"/>
            </a:xfrm>
          </p:grpSpPr>
          <p:sp>
            <p:nvSpPr>
              <p:cNvPr id="418" name=""/>
              <p:cNvSpPr/>
              <p:nvPr/>
            </p:nvSpPr>
            <p:spPr>
              <a:xfrm>
                <a:off x="5638680" y="3039120"/>
                <a:ext cx="731520" cy="65772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638680" y="3039120"/>
                <a:ext cx="731520" cy="65772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 flipH="1">
              <a:off x="6352560" y="3873960"/>
              <a:ext cx="691920" cy="20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5638680" y="3847680"/>
              <a:ext cx="731520" cy="657720"/>
              <a:chOff x="5638680" y="3847680"/>
              <a:chExt cx="731520" cy="657720"/>
            </a:xfrm>
          </p:grpSpPr>
          <p:sp>
            <p:nvSpPr>
              <p:cNvPr id="422" name=""/>
              <p:cNvSpPr/>
              <p:nvPr/>
            </p:nvSpPr>
            <p:spPr>
              <a:xfrm>
                <a:off x="5638680" y="3847680"/>
                <a:ext cx="731520" cy="657720"/>
              </a:xfrm>
              <a:prstGeom prst="ellipse">
                <a:avLst/>
              </a:prstGeom>
              <a:solidFill>
                <a:srgbClr val="ff33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638680" y="3847680"/>
                <a:ext cx="731520" cy="65772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 flipH="1">
              <a:off x="6749280" y="4037760"/>
              <a:ext cx="428040" cy="52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6168600" y="4501800"/>
              <a:ext cx="731880" cy="657720"/>
              <a:chOff x="6168600" y="4501800"/>
              <a:chExt cx="731880" cy="657720"/>
            </a:xfrm>
          </p:grpSpPr>
          <p:sp>
            <p:nvSpPr>
              <p:cNvPr id="426" name=""/>
              <p:cNvSpPr/>
              <p:nvPr/>
            </p:nvSpPr>
            <p:spPr>
              <a:xfrm>
                <a:off x="6168600" y="4501800"/>
                <a:ext cx="731880" cy="657720"/>
              </a:xfrm>
              <a:prstGeom prst="ellipse">
                <a:avLst/>
              </a:prstGeom>
              <a:solidFill>
                <a:srgbClr val="ff99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168600" y="4501800"/>
                <a:ext cx="731880" cy="65772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>
              <a:off x="7392600" y="4099320"/>
              <a:ext cx="1080" cy="65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7026120" y="4752000"/>
              <a:ext cx="731520" cy="657720"/>
              <a:chOff x="7026120" y="4752000"/>
              <a:chExt cx="731520" cy="657720"/>
            </a:xfrm>
          </p:grpSpPr>
          <p:sp>
            <p:nvSpPr>
              <p:cNvPr id="430" name=""/>
              <p:cNvSpPr/>
              <p:nvPr/>
            </p:nvSpPr>
            <p:spPr>
              <a:xfrm>
                <a:off x="7026120" y="4752000"/>
                <a:ext cx="731520" cy="657720"/>
              </a:xfrm>
              <a:prstGeom prst="ellipse">
                <a:avLst/>
              </a:prstGeom>
              <a:solidFill>
                <a:srgbClr val="ff99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026120" y="4752000"/>
                <a:ext cx="731520" cy="65772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7606080" y="4036680"/>
              <a:ext cx="429120" cy="52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7883280" y="4501800"/>
              <a:ext cx="731880" cy="657720"/>
              <a:chOff x="7883280" y="4501800"/>
              <a:chExt cx="731880" cy="657720"/>
            </a:xfrm>
          </p:grpSpPr>
          <p:sp>
            <p:nvSpPr>
              <p:cNvPr id="434" name=""/>
              <p:cNvSpPr/>
              <p:nvPr/>
            </p:nvSpPr>
            <p:spPr>
              <a:xfrm>
                <a:off x="7883280" y="4501800"/>
                <a:ext cx="731880" cy="657720"/>
              </a:xfrm>
              <a:prstGeom prst="ellipse">
                <a:avLst/>
              </a:prstGeom>
              <a:solidFill>
                <a:srgbClr val="ff99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883280" y="4501800"/>
                <a:ext cx="731880" cy="65772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7738920" y="3872880"/>
              <a:ext cx="693360" cy="20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7" name=""/>
            <p:cNvGrpSpPr/>
            <p:nvPr/>
          </p:nvGrpSpPr>
          <p:grpSpPr>
            <a:xfrm>
              <a:off x="8412120" y="3846240"/>
              <a:ext cx="731520" cy="657720"/>
              <a:chOff x="8412120" y="3846240"/>
              <a:chExt cx="731520" cy="657720"/>
            </a:xfrm>
          </p:grpSpPr>
          <p:sp>
            <p:nvSpPr>
              <p:cNvPr id="438" name=""/>
              <p:cNvSpPr/>
              <p:nvPr/>
            </p:nvSpPr>
            <p:spPr>
              <a:xfrm>
                <a:off x="8412120" y="3846240"/>
                <a:ext cx="731520" cy="657720"/>
              </a:xfrm>
              <a:prstGeom prst="ellipse">
                <a:avLst/>
              </a:prstGeom>
              <a:solidFill>
                <a:srgbClr val="ff99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8412120" y="3846240"/>
                <a:ext cx="731520" cy="65772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 flipV="1">
              <a:off x="7738920" y="3467880"/>
              <a:ext cx="691920" cy="20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8412120" y="3038040"/>
              <a:ext cx="731520" cy="657720"/>
              <a:chOff x="8412120" y="3038040"/>
              <a:chExt cx="731520" cy="657720"/>
            </a:xfrm>
          </p:grpSpPr>
          <p:sp>
            <p:nvSpPr>
              <p:cNvPr id="442" name=""/>
              <p:cNvSpPr/>
              <p:nvPr/>
            </p:nvSpPr>
            <p:spPr>
              <a:xfrm>
                <a:off x="8412120" y="3038040"/>
                <a:ext cx="731520" cy="657720"/>
              </a:xfrm>
              <a:prstGeom prst="ellipse">
                <a:avLst/>
              </a:prstGeom>
              <a:solidFill>
                <a:srgbClr val="ff99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8412120" y="3038040"/>
                <a:ext cx="731520" cy="65772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" name=""/>
            <p:cNvSpPr/>
            <p:nvPr/>
          </p:nvSpPr>
          <p:spPr>
            <a:xfrm flipV="1">
              <a:off x="7604280" y="2977200"/>
              <a:ext cx="427680" cy="52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" name=""/>
            <p:cNvGrpSpPr/>
            <p:nvPr/>
          </p:nvGrpSpPr>
          <p:grpSpPr>
            <a:xfrm>
              <a:off x="7881840" y="2383920"/>
              <a:ext cx="733320" cy="656280"/>
              <a:chOff x="7881840" y="2383920"/>
              <a:chExt cx="733320" cy="656280"/>
            </a:xfrm>
          </p:grpSpPr>
          <p:sp>
            <p:nvSpPr>
              <p:cNvPr id="446" name=""/>
              <p:cNvSpPr/>
              <p:nvPr/>
            </p:nvSpPr>
            <p:spPr>
              <a:xfrm>
                <a:off x="7881840" y="2383920"/>
                <a:ext cx="733320" cy="656280"/>
              </a:xfrm>
              <a:prstGeom prst="ellipse">
                <a:avLst/>
              </a:prstGeom>
              <a:solidFill>
                <a:srgbClr val="ff99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7881840" y="2383920"/>
                <a:ext cx="733320" cy="65628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 flipV="1">
              <a:off x="7391160" y="2789640"/>
              <a:ext cx="1440" cy="65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024320" y="2133720"/>
              <a:ext cx="731880" cy="656280"/>
              <a:chOff x="7024320" y="2133720"/>
              <a:chExt cx="731880" cy="656280"/>
            </a:xfrm>
          </p:grpSpPr>
          <p:sp>
            <p:nvSpPr>
              <p:cNvPr id="450" name=""/>
              <p:cNvSpPr/>
              <p:nvPr/>
            </p:nvSpPr>
            <p:spPr>
              <a:xfrm>
                <a:off x="7024320" y="2133720"/>
                <a:ext cx="731880" cy="656280"/>
              </a:xfrm>
              <a:prstGeom prst="ellipse">
                <a:avLst/>
              </a:prstGeom>
              <a:solidFill>
                <a:srgbClr val="ff99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024320" y="2133720"/>
                <a:ext cx="731880" cy="65628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7024320" y="3444120"/>
              <a:ext cx="731880" cy="657720"/>
              <a:chOff x="7024320" y="3444120"/>
              <a:chExt cx="731880" cy="657720"/>
            </a:xfrm>
          </p:grpSpPr>
          <p:sp>
            <p:nvSpPr>
              <p:cNvPr id="453" name=""/>
              <p:cNvSpPr/>
              <p:nvPr/>
            </p:nvSpPr>
            <p:spPr>
              <a:xfrm>
                <a:off x="7024320" y="3444120"/>
                <a:ext cx="731880" cy="65772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024320" y="3444120"/>
                <a:ext cx="731880" cy="65772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7173720" y="3678840"/>
              <a:ext cx="48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304920" y="1600200"/>
            <a:ext cx="86104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28600" y="10663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ediments to an EP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80880" y="1981080"/>
            <a:ext cx="8305920" cy="44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SzPct val="12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ck of interoperability due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tionality within standards (HL7 Z fiel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ck of single standardized implementation gu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mited conformanc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mited use of clinically specific codes and vocabul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80880" y="1905120"/>
            <a:ext cx="86108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28600" y="10663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ace for Interoper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I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s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Management Group (CORBAm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OM/RSNA:  E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L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TM E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80880" y="2057400"/>
            <a:ext cx="86108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"/>
          <p:cNvGrpSpPr/>
          <p:nvPr/>
        </p:nvGrpSpPr>
        <p:grpSpPr>
          <a:xfrm>
            <a:off x="6172200" y="3538440"/>
            <a:ext cx="1181160" cy="282600"/>
            <a:chOff x="6172200" y="3538440"/>
            <a:chExt cx="1181160" cy="282600"/>
          </a:xfrm>
        </p:grpSpPr>
        <p:grpSp>
          <p:nvGrpSpPr>
            <p:cNvPr id="464" name=""/>
            <p:cNvGrpSpPr/>
            <p:nvPr/>
          </p:nvGrpSpPr>
          <p:grpSpPr>
            <a:xfrm>
              <a:off x="6172200" y="3538440"/>
              <a:ext cx="533520" cy="282600"/>
              <a:chOff x="6172200" y="3538440"/>
              <a:chExt cx="533520" cy="282600"/>
            </a:xfrm>
          </p:grpSpPr>
          <p:sp>
            <p:nvSpPr>
              <p:cNvPr id="465" name=""/>
              <p:cNvSpPr/>
              <p:nvPr/>
            </p:nvSpPr>
            <p:spPr>
              <a:xfrm>
                <a:off x="6219720" y="3579840"/>
                <a:ext cx="486000" cy="241200"/>
              </a:xfrm>
              <a:prstGeom prst="rect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172200" y="3538440"/>
                <a:ext cx="471600" cy="2271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7035840" y="3538440"/>
              <a:ext cx="317520" cy="282600"/>
              <a:chOff x="7035840" y="3538440"/>
              <a:chExt cx="317520" cy="282600"/>
            </a:xfrm>
          </p:grpSpPr>
          <p:sp>
            <p:nvSpPr>
              <p:cNvPr id="468" name=""/>
              <p:cNvSpPr/>
              <p:nvPr/>
            </p:nvSpPr>
            <p:spPr>
              <a:xfrm>
                <a:off x="7083360" y="3579840"/>
                <a:ext cx="270000" cy="241200"/>
              </a:xfrm>
              <a:prstGeom prst="ellipse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035840" y="3538440"/>
                <a:ext cx="255600" cy="227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0" name=""/>
          <p:cNvSpPr/>
          <p:nvPr/>
        </p:nvSpPr>
        <p:spPr>
          <a:xfrm>
            <a:off x="2137320" y="685800"/>
            <a:ext cx="3131280" cy="5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OMA Overview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840680" y="2882880"/>
            <a:ext cx="1163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9600" rIns="3960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vantGarde"/>
              </a:rPr>
              <a:t>Applic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vantGarde"/>
              </a:rPr>
              <a:t>Obje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957640" y="2882880"/>
            <a:ext cx="16297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9600" rIns="3960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vantGarde"/>
              </a:rPr>
              <a:t>Horizont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vantGarde"/>
              </a:rPr>
              <a:t>CORBA Facilit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1946160" y="3538440"/>
            <a:ext cx="316080" cy="282600"/>
            <a:chOff x="1946160" y="3538440"/>
            <a:chExt cx="316080" cy="282600"/>
          </a:xfrm>
        </p:grpSpPr>
        <p:sp>
          <p:nvSpPr>
            <p:cNvPr id="474" name=""/>
            <p:cNvSpPr/>
            <p:nvPr/>
          </p:nvSpPr>
          <p:spPr>
            <a:xfrm>
              <a:off x="1994040" y="3579840"/>
              <a:ext cx="268200" cy="241200"/>
            </a:xfrm>
            <a:prstGeom prst="ellipse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946160" y="3538440"/>
              <a:ext cx="255600" cy="227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2655720" y="3538440"/>
            <a:ext cx="317520" cy="282600"/>
            <a:chOff x="2655720" y="3538440"/>
            <a:chExt cx="317520" cy="282600"/>
          </a:xfrm>
        </p:grpSpPr>
        <p:sp>
          <p:nvSpPr>
            <p:cNvPr id="477" name=""/>
            <p:cNvSpPr/>
            <p:nvPr/>
          </p:nvSpPr>
          <p:spPr>
            <a:xfrm>
              <a:off x="2703600" y="3579840"/>
              <a:ext cx="269640" cy="241200"/>
            </a:xfrm>
            <a:prstGeom prst="ellipse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655720" y="3538440"/>
              <a:ext cx="255600" cy="227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1611360" y="2806560"/>
            <a:ext cx="1601640" cy="1130400"/>
            <a:chOff x="1611360" y="2806560"/>
            <a:chExt cx="1601640" cy="1130400"/>
          </a:xfrm>
        </p:grpSpPr>
        <p:sp>
          <p:nvSpPr>
            <p:cNvPr id="480" name=""/>
            <p:cNvSpPr/>
            <p:nvPr/>
          </p:nvSpPr>
          <p:spPr>
            <a:xfrm>
              <a:off x="1611360" y="2806560"/>
              <a:ext cx="1601640" cy="1130400"/>
            </a:xfrm>
            <a:prstGeom prst="roundRect">
              <a:avLst>
                <a:gd name="adj" fmla="val 12394"/>
              </a:avLst>
            </a:prstGeom>
            <a:noFill/>
            <a:ln w="12600">
              <a:solidFill>
                <a:srgbClr val="00b7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623960" y="2820960"/>
              <a:ext cx="1576440" cy="1100160"/>
            </a:xfrm>
            <a:prstGeom prst="roundRect">
              <a:avLst>
                <a:gd name="adj" fmla="val 11454"/>
              </a:avLst>
            </a:prstGeom>
            <a:noFill/>
            <a:ln w="12600">
              <a:solidFill>
                <a:srgbClr val="00b7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5850000" y="2806560"/>
            <a:ext cx="1816200" cy="1130400"/>
            <a:chOff x="5850000" y="2806560"/>
            <a:chExt cx="1816200" cy="1130400"/>
          </a:xfrm>
        </p:grpSpPr>
        <p:sp>
          <p:nvSpPr>
            <p:cNvPr id="483" name=""/>
            <p:cNvSpPr/>
            <p:nvPr/>
          </p:nvSpPr>
          <p:spPr>
            <a:xfrm>
              <a:off x="5850000" y="2806560"/>
              <a:ext cx="1816200" cy="1130400"/>
            </a:xfrm>
            <a:prstGeom prst="roundRect">
              <a:avLst>
                <a:gd name="adj" fmla="val 12394"/>
              </a:avLst>
            </a:prstGeom>
            <a:noFill/>
            <a:ln w="12600">
              <a:solidFill>
                <a:srgbClr val="00b7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864400" y="2820960"/>
              <a:ext cx="1787400" cy="1101600"/>
            </a:xfrm>
            <a:prstGeom prst="roundRect">
              <a:avLst>
                <a:gd name="adj" fmla="val 11454"/>
              </a:avLst>
            </a:prstGeom>
            <a:noFill/>
            <a:ln w="12600">
              <a:solidFill>
                <a:srgbClr val="00b7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3598920" y="4368960"/>
            <a:ext cx="22287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9600" rIns="3960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vantGarde"/>
              </a:rPr>
              <a:t>Object Request Brok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850200" y="5487840"/>
            <a:ext cx="1566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9600" rIns="3960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vantGarde"/>
              </a:rPr>
              <a:t>CORBA Servi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841400" y="4278240"/>
            <a:ext cx="5537160" cy="0"/>
          </a:xfrm>
          <a:prstGeom prst="line">
            <a:avLst/>
          </a:prstGeom>
          <a:ln w="255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841400" y="4667400"/>
            <a:ext cx="5537160" cy="0"/>
          </a:xfrm>
          <a:prstGeom prst="line">
            <a:avLst/>
          </a:prstGeom>
          <a:ln w="255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218960" y="4116240"/>
            <a:ext cx="618840" cy="685800"/>
            <a:chOff x="1218960" y="4116240"/>
            <a:chExt cx="618840" cy="685800"/>
          </a:xfrm>
        </p:grpSpPr>
        <p:sp>
          <p:nvSpPr>
            <p:cNvPr id="490" name=""/>
            <p:cNvSpPr/>
            <p:nvPr/>
          </p:nvSpPr>
          <p:spPr>
            <a:xfrm flipV="1">
              <a:off x="1825560" y="4116240"/>
              <a:ext cx="0" cy="17640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1218960" y="4141800"/>
              <a:ext cx="618840" cy="31284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825560" y="4675320"/>
              <a:ext cx="0" cy="12672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244520" y="4481640"/>
              <a:ext cx="576360" cy="31752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3290760" y="5060880"/>
            <a:ext cx="317520" cy="284400"/>
            <a:chOff x="3290760" y="5060880"/>
            <a:chExt cx="317520" cy="284400"/>
          </a:xfrm>
        </p:grpSpPr>
        <p:sp>
          <p:nvSpPr>
            <p:cNvPr id="495" name=""/>
            <p:cNvSpPr/>
            <p:nvPr/>
          </p:nvSpPr>
          <p:spPr>
            <a:xfrm>
              <a:off x="3338640" y="5103720"/>
              <a:ext cx="269640" cy="241560"/>
            </a:xfrm>
            <a:prstGeom prst="ellipse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290760" y="5060880"/>
              <a:ext cx="255600" cy="227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4481640" y="5060880"/>
            <a:ext cx="315720" cy="284400"/>
            <a:chOff x="4481640" y="5060880"/>
            <a:chExt cx="315720" cy="284400"/>
          </a:xfrm>
        </p:grpSpPr>
        <p:sp>
          <p:nvSpPr>
            <p:cNvPr id="498" name=""/>
            <p:cNvSpPr/>
            <p:nvPr/>
          </p:nvSpPr>
          <p:spPr>
            <a:xfrm>
              <a:off x="4529160" y="5103720"/>
              <a:ext cx="268200" cy="241560"/>
            </a:xfrm>
            <a:prstGeom prst="ellipse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1640" y="5060880"/>
              <a:ext cx="255600" cy="227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5454720" y="5060880"/>
            <a:ext cx="641160" cy="284400"/>
            <a:chOff x="5454720" y="5060880"/>
            <a:chExt cx="641160" cy="284400"/>
          </a:xfrm>
        </p:grpSpPr>
        <p:sp>
          <p:nvSpPr>
            <p:cNvPr id="501" name=""/>
            <p:cNvSpPr/>
            <p:nvPr/>
          </p:nvSpPr>
          <p:spPr>
            <a:xfrm>
              <a:off x="5502240" y="5103720"/>
              <a:ext cx="593640" cy="2415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454720" y="5060880"/>
              <a:ext cx="579240" cy="227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"/>
          <p:cNvSpPr/>
          <p:nvPr/>
        </p:nvSpPr>
        <p:spPr>
          <a:xfrm flipV="1">
            <a:off x="3448080" y="46605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4635360" y="46605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718240" y="46735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2863800" y="4915080"/>
            <a:ext cx="3616200" cy="893520"/>
            <a:chOff x="2863800" y="4915080"/>
            <a:chExt cx="3616200" cy="893520"/>
          </a:xfrm>
        </p:grpSpPr>
        <p:sp>
          <p:nvSpPr>
            <p:cNvPr id="507" name=""/>
            <p:cNvSpPr/>
            <p:nvPr/>
          </p:nvSpPr>
          <p:spPr>
            <a:xfrm>
              <a:off x="2863800" y="4915080"/>
              <a:ext cx="3616200" cy="893520"/>
            </a:xfrm>
            <a:prstGeom prst="roundRect">
              <a:avLst>
                <a:gd name="adj" fmla="val 12375"/>
              </a:avLst>
            </a:prstGeom>
            <a:noFill/>
            <a:ln w="12600">
              <a:solidFill>
                <a:srgbClr val="00b7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876400" y="4929120"/>
              <a:ext cx="3589560" cy="865080"/>
            </a:xfrm>
            <a:prstGeom prst="roundRect">
              <a:avLst>
                <a:gd name="adj" fmla="val 11255"/>
              </a:avLst>
            </a:prstGeom>
            <a:noFill/>
            <a:ln w="12600">
              <a:solidFill>
                <a:srgbClr val="00b7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7386480" y="4120920"/>
            <a:ext cx="588960" cy="704880"/>
            <a:chOff x="7386480" y="4120920"/>
            <a:chExt cx="588960" cy="704880"/>
          </a:xfrm>
        </p:grpSpPr>
        <p:sp>
          <p:nvSpPr>
            <p:cNvPr id="510" name=""/>
            <p:cNvSpPr/>
            <p:nvPr/>
          </p:nvSpPr>
          <p:spPr>
            <a:xfrm flipV="1">
              <a:off x="7386480" y="4120920"/>
              <a:ext cx="0" cy="17604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386480" y="4680000"/>
              <a:ext cx="0" cy="12708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7399440" y="4460400"/>
              <a:ext cx="569880" cy="36540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399440" y="4146480"/>
              <a:ext cx="576000" cy="31608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3828960" y="3538440"/>
            <a:ext cx="533520" cy="282600"/>
            <a:chOff x="3828960" y="3538440"/>
            <a:chExt cx="533520" cy="282600"/>
          </a:xfrm>
        </p:grpSpPr>
        <p:sp>
          <p:nvSpPr>
            <p:cNvPr id="515" name=""/>
            <p:cNvSpPr/>
            <p:nvPr/>
          </p:nvSpPr>
          <p:spPr>
            <a:xfrm>
              <a:off x="3876840" y="3579840"/>
              <a:ext cx="485640" cy="24120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828960" y="3538440"/>
              <a:ext cx="471600" cy="227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4863960" y="3538440"/>
            <a:ext cx="317520" cy="282600"/>
            <a:chOff x="4863960" y="3538440"/>
            <a:chExt cx="317520" cy="282600"/>
          </a:xfrm>
        </p:grpSpPr>
        <p:sp>
          <p:nvSpPr>
            <p:cNvPr id="518" name=""/>
            <p:cNvSpPr/>
            <p:nvPr/>
          </p:nvSpPr>
          <p:spPr>
            <a:xfrm>
              <a:off x="4911840" y="3579840"/>
              <a:ext cx="269640" cy="241200"/>
            </a:xfrm>
            <a:prstGeom prst="ellipse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863960" y="3538440"/>
              <a:ext cx="255600" cy="227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3430440" y="2882880"/>
            <a:ext cx="22831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vantGarde"/>
              </a:rPr>
              <a:t>Vertic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vantGarde"/>
              </a:rPr>
              <a:t>CORBA Facilit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3602160" y="2806560"/>
            <a:ext cx="1939680" cy="1130400"/>
            <a:chOff x="3602160" y="2806560"/>
            <a:chExt cx="1939680" cy="1130400"/>
          </a:xfrm>
        </p:grpSpPr>
        <p:sp>
          <p:nvSpPr>
            <p:cNvPr id="522" name=""/>
            <p:cNvSpPr/>
            <p:nvPr/>
          </p:nvSpPr>
          <p:spPr>
            <a:xfrm>
              <a:off x="3602160" y="2806560"/>
              <a:ext cx="1939680" cy="1130400"/>
            </a:xfrm>
            <a:prstGeom prst="roundRect">
              <a:avLst>
                <a:gd name="adj" fmla="val 12394"/>
              </a:avLst>
            </a:prstGeom>
            <a:noFill/>
            <a:ln w="12600">
              <a:solidFill>
                <a:srgbClr val="00b7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618000" y="2820960"/>
              <a:ext cx="1908000" cy="1100160"/>
            </a:xfrm>
            <a:prstGeom prst="roundRect">
              <a:avLst>
                <a:gd name="adj" fmla="val 11454"/>
              </a:avLst>
            </a:prstGeom>
            <a:noFill/>
            <a:ln w="12600">
              <a:solidFill>
                <a:srgbClr val="00b7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376200" y="4929120"/>
            <a:ext cx="1666800" cy="1367640"/>
          </a:xfrm>
          <a:prstGeom prst="rect">
            <a:avLst/>
          </a:prstGeom>
          <a:noFill/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fe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m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182000" y="4929120"/>
            <a:ext cx="1662120" cy="1367640"/>
          </a:xfrm>
          <a:prstGeom prst="rect">
            <a:avLst/>
          </a:prstGeom>
          <a:noFill/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cen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400800" y="1519200"/>
            <a:ext cx="1824120" cy="941400"/>
          </a:xfrm>
          <a:prstGeom prst="rect">
            <a:avLst/>
          </a:prstGeom>
          <a:noFill/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ound Do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ject Lin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lp Fac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ktop Mg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23960" y="1519200"/>
            <a:ext cx="1881000" cy="941400"/>
          </a:xfrm>
          <a:prstGeom prst="rect">
            <a:avLst/>
          </a:prstGeom>
          <a:noFill/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 standardized by OMG; Scope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ngle application or ven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645000" y="1519200"/>
            <a:ext cx="1950840" cy="941400"/>
          </a:xfrm>
          <a:prstGeom prst="rect">
            <a:avLst/>
          </a:prstGeom>
          <a:noFill/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iness Ob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alth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lecommun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092480" y="3745080"/>
            <a:ext cx="0" cy="52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987800" y="3745080"/>
            <a:ext cx="0" cy="52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063880" y="3745080"/>
            <a:ext cx="0" cy="52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778120" y="3745080"/>
            <a:ext cx="0" cy="52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426360" y="3745080"/>
            <a:ext cx="0" cy="52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174080" y="3745080"/>
            <a:ext cx="0" cy="52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674640" y="-1122480"/>
            <a:ext cx="6681960" cy="798048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685800" y="0"/>
            <a:ext cx="662940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 from the Imaging Point of View:  I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ctronic Commun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ing (HL7, DICOM, Other EDI Syste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:  3 Billion Prescriptions on NCPDP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medi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e Heal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R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Opportunities (Integrating Pho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304920" y="5715000"/>
            <a:ext cx="853416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L 7 Version 3.0 Messaging Based on Trigger-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066680" y="4800600"/>
            <a:ext cx="693432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L7 Terminology Eff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914400" y="2438280"/>
            <a:ext cx="7620120" cy="2128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L7 Clinical Documentation Architecture (C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1:  He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2: Body (Type of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3:  DT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371600" y="1219320"/>
            <a:ext cx="6781680" cy="101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L7 Reference Information Model (RI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lig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971800" y="5335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L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:  Peter Waegemann’s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derstanding and Definitions on e-Health Sp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Health or m-Heal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derstanding of Current Standards Eff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We Needs Another Standards Effor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 for Wireless Healthcar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for general e-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portun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bile Healthcare Alli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ly international not-for-profit organization in mobile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ressing hurdles and standard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moting the advantages of point-of-care computing in health c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w.mohca.or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rent Working Groups in MoH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s and Strategies (WG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C (WG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 with Wireless Devices (WG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Standards (WG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s Integration (Ne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Issues (Ne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0" y="914400"/>
            <a:ext cx="8686800" cy="5943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066680" y="1295280"/>
            <a:ext cx="6553440" cy="419112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200400" y="2286000"/>
            <a:ext cx="2895480" cy="28195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895480" y="2971800"/>
            <a:ext cx="5410440" cy="259092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676520" y="4191120"/>
            <a:ext cx="4647960" cy="1523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191120" y="3200400"/>
            <a:ext cx="365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lectronic Health Rec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57200" y="524196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-Heal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581280" y="464832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-Heal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505320" y="25146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Pharm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666880" y="15238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tive and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600200" y="22096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562720" y="21337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752480" y="4495680"/>
            <a:ext cx="175284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752480" y="48006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Telemed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1828800" y="1447920"/>
            <a:ext cx="73152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Thank Yo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563" name=""/>
          <p:cNvSpPr/>
          <p:nvPr/>
        </p:nvSpPr>
        <p:spPr>
          <a:xfrm>
            <a:off x="5257800" y="627696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ies of these slides may be obtained by emailing peterw@medrecins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2743200"/>
            <a:ext cx="6248520" cy="29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e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HRE 2003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don, UK December 2-3,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rvey on Electronic Health Record Usage and Trend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edrecinst.com/resources/survey2002/index.s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ww.medrecins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RO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Tangible, Measurable Benefits Derived From a Technology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Gains or 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Patient Satisf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Practitioner and Employee Satisf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of Medical Errors (Should be #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Higher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590920"/>
            <a:ext cx="86104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nual Surv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x. 1500 Respondents on Annual Survey on Trends and Usage of EH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Driving For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Barri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Milestones to Ta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medrecinst.com/resources/survey/survey02/index.s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4495680"/>
            <a:ext cx="79250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447920"/>
            <a:ext cx="86104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1430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EH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914400" y="1676520"/>
          <a:ext cx="7226280" cy="4876560"/>
        </p:xfrm>
        <a:graphic>
          <a:graphicData uri="http://schemas.openxmlformats.org/drawingml/2006/table">
            <a:tbl>
              <a:tblPr/>
              <a:tblGrid>
                <a:gridCol w="2894040"/>
                <a:gridCol w="1206360"/>
                <a:gridCol w="989280"/>
                <a:gridCol w="987120"/>
                <a:gridCol w="1149480"/>
              </a:tblGrid>
              <a:tr h="674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agement/Administrative Motiv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cent of Total Respond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Mgrs and Analys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ysicians &amp; Nurs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-IT Manage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need to share comparable patient data among different sites within a multi-entity healthcare delivery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.7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.8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.9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.8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need to improve clinical documentation to support appropriate billing service lev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.3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.7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.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requirement to contain or reduce healthcare delivery co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.3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.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.9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.7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need to establish a more efficient and effective information infrastructure as a competitive advant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.3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.9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.5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.8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need to meet the requirements of legal, regulatory, or accreditation standa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.4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.7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.3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.7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need to manage capitation contracts (global capitated contracts, specialty carve-outs, subcapitation for Medications, Hospitalization, etc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8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9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Responses to this Ques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in of Err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/- 3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/- 5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/- 7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/- 11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0" y="558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419720" y="3352680"/>
            <a:ext cx="33908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?     ?     ?     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380880" y="1066680"/>
          <a:ext cx="6172200" cy="5632560"/>
        </p:xfrm>
        <a:graphic>
          <a:graphicData uri="http://schemas.openxmlformats.org/drawingml/2006/table">
            <a:tbl>
              <a:tblPr/>
              <a:tblGrid>
                <a:gridCol w="3043440"/>
                <a:gridCol w="819000"/>
                <a:gridCol w="770040"/>
                <a:gridCol w="770040"/>
                <a:gridCol w="769680"/>
              </a:tblGrid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inical Fact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END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rove the ability to share patient record information among healthcare practitioners and professionals within the enterpri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rove quality of ca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rove clinical processes or workflow efficien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rove clinical data cap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duce medical errors (improve patient safet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vide access to patient records at remote loc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cilitate clinical decision supp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rove employee/physician satisfa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rove patient satisfa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rove efficiency via pre-visit health assessments and post-visit patient edu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1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port and integrate patient healthcare information from Web-based personal health reco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ain health plan membershi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of Respondents for This Ques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in of Err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/- 5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/- 5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/- 3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0" y="625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934320" y="14479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sons for Implementing EH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581280" y="2057400"/>
            <a:ext cx="2971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?     ?     ?    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57200" y="1523880"/>
          <a:ext cx="8305920" cy="4680000"/>
        </p:xfrm>
        <a:graphic>
          <a:graphicData uri="http://schemas.openxmlformats.org/drawingml/2006/table">
            <a:tbl>
              <a:tblPr/>
              <a:tblGrid>
                <a:gridCol w="5230800"/>
                <a:gridCol w="1541520"/>
                <a:gridCol w="1533600"/>
              </a:tblGrid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Market Seg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Use To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ed for 1-4 Y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-visit Health Screenings, Evaluations, or Assess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ote Access to EHRs by clinici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.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ient Appointments and/or Admis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-visit Patient Edu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ail between patients and clinician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 about health conditions, diseases, wellness, or new developments in healthcar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-based Applications or Email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57200" y="1523880"/>
          <a:ext cx="8305920" cy="4680000"/>
        </p:xfrm>
        <a:graphic>
          <a:graphicData uri="http://schemas.openxmlformats.org/drawingml/2006/table">
            <a:tbl>
              <a:tblPr/>
              <a:tblGrid>
                <a:gridCol w="5230800"/>
                <a:gridCol w="1541520"/>
                <a:gridCol w="1533600"/>
              </a:tblGrid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o/Small Market Seg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Use To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ed for 1-4 Y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-visit Health Screenings, Evaluations, or Assess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-visit Patient Edu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ote Access to EHRs by clinici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ient Appointments and/or Admis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ail between patients and clinician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 about health conditions, diseases, wellness, or new developments in healthcar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-based Applications or Email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3:23:29Z</dcterms:created>
  <dc:creator>peter</dc:creator>
  <dc:description/>
  <dc:language>en-US</dc:language>
  <cp:lastModifiedBy>Peter Waegemann</cp:lastModifiedBy>
  <dcterms:modified xsi:type="dcterms:W3CDTF">2003-05-25T10:00:47Z</dcterms:modified>
  <cp:revision>21</cp:revision>
  <dc:subject/>
  <dc:title>Slide 1</dc:title>
</cp:coreProperties>
</file>