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5E20-1B33-4591-BFE5-A70202502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Access to EHRs by clinicians is the number one web-based application in use to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ly, pre-visit health screenings go from 7.8% in use today to 37% projected over the next four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mbulatory Market Segments are driving the implementation of several web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xample, the Solo/Small practice segment has the highest level of implementation of patient appointments and/or admissions, and email between patients and cli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olo/Small practice sector also appears to have higher than average plans for: Pre-visit Health screenings, evaluations, or assessments; and Post-visit patient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B77-5E63-4D89-983B-0A9A784A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FC7-04B7-4AEF-BDBC-4F60B0F7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E50-4B51-4A9F-990D-BA1FD4AD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B80-7144-4161-8147-58748D6E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0AC-2069-4D89-8BD2-565F1EEE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132-E804-4E2F-9ADA-C662EBB9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328-90F9-4056-AF0F-40B3A48A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2D9-B562-4761-B7C3-E27A58E4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B67-441F-495E-BEF1-A2CDC7ED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22C-86CB-47ED-A337-C92C1A71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645-AF2E-4558-9876-667D5B71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EF5-BB80-491A-8C4D-FBCF9A90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AB3E-2F91-4C2C-98AF-2B567CAA3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57202" b="0"/>
          <a:stretch/>
        </p:blipFill>
        <p:spPr>
          <a:xfrm>
            <a:off x="304920" y="152280"/>
            <a:ext cx="1523880" cy="544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752480" y="533520"/>
            <a:ext cx="6858000" cy="75960"/>
          </a:xfrm>
          <a:prstGeom prst="rect">
            <a:avLst/>
          </a:prstGeom>
          <a:gradFill rotWithShape="0">
            <a:gsLst>
              <a:gs pos="0">
                <a:srgbClr val="f078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edrecinst.com/resources/survey2002/index.s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nefits of e-Heal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048120"/>
            <a:ext cx="838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. Peter Waege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O, Medical Records Institute (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man and Acting Director, Centre for the Advancement of Electronic Health Records (U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, ASTM E31 Standards Committee on Healthcare Infor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, Mobile Healthcare Alliance (MoH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care ICT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45 Billion Ann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25 Billion US and $20 All Other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t EMR Instal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ton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iser Col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ulator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ich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lear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ized to Organization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o Benefits from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82880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Has ROI Been So Disappointing in Heal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Years of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Driving Motives for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5146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s, Systems, and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an Financial Returns be Achie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Capture, Coding, Patient Retention, Savings Through Effici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ng the Reduction of Medic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Patient Satisfa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82880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1079640"/>
            <a:ext cx="6858000" cy="577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3352680"/>
            <a:ext cx="2057400" cy="30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of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4876920"/>
            <a:ext cx="2819520" cy="183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” Benefits for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3504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HR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cale Is Ti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14800" y="2619360"/>
            <a:ext cx="5029200" cy="42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1905120"/>
            <a:ext cx="48006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ed Health Initiative (C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HS NHII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: Florida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s – R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762120"/>
            <a:ext cx="4572000" cy="914400"/>
          </a:xfrm>
          <a:prstGeom prst="cloudCallout">
            <a:avLst>
              <a:gd name="adj1" fmla="val -12430"/>
              <a:gd name="adj2" fmla="val 129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ots of Pressure to Crea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362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H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1676520"/>
            <a:ext cx="4343400" cy="3581280"/>
          </a:xfrm>
          <a:prstGeom prst="wedgeRoundRectCallout">
            <a:avLst>
              <a:gd name="adj1" fmla="val -70393"/>
              <a:gd name="adj2" fmla="val -2105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rganizations Working Are Making it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TC 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8620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7672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nsensus on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mon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 About Benefits to Practitioners an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Lack of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Su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362320"/>
            <a:ext cx="152424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818600">
            <a:off x="381240" y="837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60200">
            <a:off x="6476760" y="5715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– Control o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of Medical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020800">
            <a:off x="228600" y="2286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ealth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0005800">
            <a:off x="76248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 Captur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43400" y="838080"/>
            <a:ext cx="106668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6400" y="228600"/>
            <a:ext cx="5170680" cy="624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33920" y="2590920"/>
            <a:ext cx="129528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L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4648320"/>
            <a:ext cx="236232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TM E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65760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 TC 2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486400"/>
            <a:ext cx="304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C X12N/EDI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6248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9810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752480"/>
            <a:ext cx="1295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 2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44792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04920"/>
            <a:ext cx="3276720" cy="301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althcare Informatics Standards Develop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914400"/>
            <a:ext cx="121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143000"/>
            <a:ext cx="1219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. Information 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ultura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29200" y="2889360"/>
            <a:ext cx="3809880" cy="3968640"/>
            <a:chOff x="5029200" y="2889360"/>
            <a:chExt cx="3809880" cy="3968640"/>
          </a:xfrm>
        </p:grpSpPr>
        <p:sp>
          <p:nvSpPr>
            <p:cNvPr id="124" name=""/>
            <p:cNvSpPr/>
            <p:nvPr/>
          </p:nvSpPr>
          <p:spPr>
            <a:xfrm flipH="1" flipV="1">
              <a:off x="6234120" y="39128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603760" y="3192480"/>
              <a:ext cx="795240" cy="797040"/>
              <a:chOff x="5603760" y="3192480"/>
              <a:chExt cx="795240" cy="797040"/>
            </a:xfrm>
          </p:grpSpPr>
          <p:sp>
            <p:nvSpPr>
              <p:cNvPr id="126" name=""/>
              <p:cNvSpPr/>
              <p:nvPr/>
            </p:nvSpPr>
            <p:spPr>
              <a:xfrm>
                <a:off x="5603760" y="3192480"/>
                <a:ext cx="795240" cy="7970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03760" y="31924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 flipV="1">
              <a:off x="5803920" y="450864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029200" y="3986280"/>
              <a:ext cx="795240" cy="797040"/>
              <a:chOff x="5029200" y="3986280"/>
              <a:chExt cx="795240" cy="797040"/>
            </a:xfrm>
          </p:grpSpPr>
          <p:sp>
            <p:nvSpPr>
              <p:cNvPr id="130" name=""/>
              <p:cNvSpPr/>
              <p:nvPr/>
            </p:nvSpPr>
            <p:spPr>
              <a:xfrm>
                <a:off x="5029200" y="398628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29200" y="3986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H="1">
              <a:off x="5805360" y="499752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029200" y="4965840"/>
              <a:ext cx="795240" cy="796680"/>
              <a:chOff x="5029200" y="4965840"/>
              <a:chExt cx="795240" cy="796680"/>
            </a:xfrm>
          </p:grpSpPr>
          <p:sp>
            <p:nvSpPr>
              <p:cNvPr id="134" name=""/>
              <p:cNvSpPr/>
              <p:nvPr/>
            </p:nvSpPr>
            <p:spPr>
              <a:xfrm>
                <a:off x="5029200" y="4965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29200" y="4965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H="1">
              <a:off x="6236640" y="519588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605200" y="5757840"/>
              <a:ext cx="795600" cy="797040"/>
              <a:chOff x="5605200" y="5757840"/>
              <a:chExt cx="795600" cy="797040"/>
            </a:xfrm>
          </p:grpSpPr>
          <p:sp>
            <p:nvSpPr>
              <p:cNvPr id="138" name=""/>
              <p:cNvSpPr/>
              <p:nvPr/>
            </p:nvSpPr>
            <p:spPr>
              <a:xfrm>
                <a:off x="560520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0520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35760" y="527040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537240" y="6060960"/>
              <a:ext cx="795240" cy="797040"/>
              <a:chOff x="6537240" y="6060960"/>
              <a:chExt cx="795240" cy="797040"/>
            </a:xfrm>
          </p:grpSpPr>
          <p:sp>
            <p:nvSpPr>
              <p:cNvPr id="142" name=""/>
              <p:cNvSpPr/>
              <p:nvPr/>
            </p:nvSpPr>
            <p:spPr>
              <a:xfrm>
                <a:off x="6537240" y="606096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37240" y="606096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167600" y="51944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7468920" y="5757840"/>
              <a:ext cx="795600" cy="797040"/>
              <a:chOff x="7468920" y="5757840"/>
              <a:chExt cx="795600" cy="797040"/>
            </a:xfrm>
          </p:grpSpPr>
          <p:sp>
            <p:nvSpPr>
              <p:cNvPr id="146" name=""/>
              <p:cNvSpPr/>
              <p:nvPr/>
            </p:nvSpPr>
            <p:spPr>
              <a:xfrm>
                <a:off x="746892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6892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311960" y="49960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8043840" y="4964040"/>
              <a:ext cx="795240" cy="797040"/>
              <a:chOff x="8043840" y="4964040"/>
              <a:chExt cx="795240" cy="797040"/>
            </a:xfrm>
          </p:grpSpPr>
          <p:sp>
            <p:nvSpPr>
              <p:cNvPr id="150" name=""/>
              <p:cNvSpPr/>
              <p:nvPr/>
            </p:nvSpPr>
            <p:spPr>
              <a:xfrm>
                <a:off x="8043840" y="496404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43840" y="496404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flipV="1">
              <a:off x="7311960" y="450504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043840" y="3984840"/>
              <a:ext cx="795240" cy="796680"/>
              <a:chOff x="8043840" y="3984840"/>
              <a:chExt cx="795240" cy="796680"/>
            </a:xfrm>
          </p:grpSpPr>
          <p:sp>
            <p:nvSpPr>
              <p:cNvPr id="154" name=""/>
              <p:cNvSpPr/>
              <p:nvPr/>
            </p:nvSpPr>
            <p:spPr>
              <a:xfrm>
                <a:off x="8043840" y="3984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43840" y="3984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V="1">
              <a:off x="7165800" y="391140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467480" y="3192480"/>
              <a:ext cx="797040" cy="795240"/>
              <a:chOff x="7467480" y="3192480"/>
              <a:chExt cx="797040" cy="795240"/>
            </a:xfrm>
          </p:grpSpPr>
          <p:sp>
            <p:nvSpPr>
              <p:cNvPr id="158" name=""/>
              <p:cNvSpPr/>
              <p:nvPr/>
            </p:nvSpPr>
            <p:spPr>
              <a:xfrm>
                <a:off x="7467480" y="3192480"/>
                <a:ext cx="797040" cy="7952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67480" y="319248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6933960" y="368424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535440" y="2889360"/>
              <a:ext cx="795600" cy="795240"/>
              <a:chOff x="6535440" y="2889360"/>
              <a:chExt cx="795600" cy="795240"/>
            </a:xfrm>
          </p:grpSpPr>
          <p:sp>
            <p:nvSpPr>
              <p:cNvPr id="162" name=""/>
              <p:cNvSpPr/>
              <p:nvPr/>
            </p:nvSpPr>
            <p:spPr>
              <a:xfrm>
                <a:off x="6535440" y="2889360"/>
                <a:ext cx="795600" cy="7952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35440" y="288936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535440" y="4476960"/>
              <a:ext cx="795600" cy="796680"/>
              <a:chOff x="6535440" y="4476960"/>
              <a:chExt cx="795600" cy="796680"/>
            </a:xfrm>
          </p:grpSpPr>
          <p:sp>
            <p:nvSpPr>
              <p:cNvPr id="165" name=""/>
              <p:cNvSpPr/>
              <p:nvPr/>
            </p:nvSpPr>
            <p:spPr>
              <a:xfrm>
                <a:off x="6535440" y="447696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35440" y="447696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697440" y="475776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71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Features of e-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actitioners Can No More Rely on Memory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ccess to Knowledg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ealth Information To Be Shared Among Authorized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tinuity of C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Information Should be Available to Any Authorized Healthcare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veraged Skill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nging Provider/Patient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82880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 Information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information into the comp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Physicians to use computers in the exam 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334120" y="2889360"/>
            <a:ext cx="3809880" cy="3968640"/>
            <a:chOff x="5334120" y="2889360"/>
            <a:chExt cx="3809880" cy="3968640"/>
          </a:xfrm>
        </p:grpSpPr>
        <p:sp>
          <p:nvSpPr>
            <p:cNvPr id="172" name=""/>
            <p:cNvSpPr/>
            <p:nvPr/>
          </p:nvSpPr>
          <p:spPr>
            <a:xfrm flipH="1" flipV="1">
              <a:off x="6539040" y="39128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5908680" y="3192480"/>
              <a:ext cx="795240" cy="797040"/>
              <a:chOff x="5908680" y="3192480"/>
              <a:chExt cx="795240" cy="797040"/>
            </a:xfrm>
          </p:grpSpPr>
          <p:sp>
            <p:nvSpPr>
              <p:cNvPr id="174" name=""/>
              <p:cNvSpPr/>
              <p:nvPr/>
            </p:nvSpPr>
            <p:spPr>
              <a:xfrm>
                <a:off x="5908680" y="319248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08680" y="31924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H="1" flipV="1">
              <a:off x="6108840" y="450864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334120" y="3986280"/>
              <a:ext cx="795240" cy="797040"/>
              <a:chOff x="5334120" y="3986280"/>
              <a:chExt cx="795240" cy="797040"/>
            </a:xfrm>
          </p:grpSpPr>
          <p:sp>
            <p:nvSpPr>
              <p:cNvPr id="178" name=""/>
              <p:cNvSpPr/>
              <p:nvPr/>
            </p:nvSpPr>
            <p:spPr>
              <a:xfrm>
                <a:off x="5334120" y="398628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34120" y="3986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H="1">
              <a:off x="6110280" y="499752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34120" y="4965840"/>
              <a:ext cx="795240" cy="796680"/>
              <a:chOff x="5334120" y="4965840"/>
              <a:chExt cx="795240" cy="796680"/>
            </a:xfrm>
          </p:grpSpPr>
          <p:sp>
            <p:nvSpPr>
              <p:cNvPr id="182" name=""/>
              <p:cNvSpPr/>
              <p:nvPr/>
            </p:nvSpPr>
            <p:spPr>
              <a:xfrm>
                <a:off x="5334120" y="4965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4120" y="4965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H="1">
              <a:off x="6541560" y="519588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5910120" y="5757840"/>
              <a:ext cx="795600" cy="797040"/>
              <a:chOff x="5910120" y="5757840"/>
              <a:chExt cx="795600" cy="797040"/>
            </a:xfrm>
          </p:grpSpPr>
          <p:sp>
            <p:nvSpPr>
              <p:cNvPr id="186" name=""/>
              <p:cNvSpPr/>
              <p:nvPr/>
            </p:nvSpPr>
            <p:spPr>
              <a:xfrm>
                <a:off x="591012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1012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7240680" y="527040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842160" y="6060960"/>
              <a:ext cx="795240" cy="797040"/>
              <a:chOff x="6842160" y="6060960"/>
              <a:chExt cx="795240" cy="797040"/>
            </a:xfrm>
          </p:grpSpPr>
          <p:sp>
            <p:nvSpPr>
              <p:cNvPr id="190" name=""/>
              <p:cNvSpPr/>
              <p:nvPr/>
            </p:nvSpPr>
            <p:spPr>
              <a:xfrm>
                <a:off x="6842160" y="606096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42160" y="606096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7472520" y="51944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773840" y="5757840"/>
              <a:ext cx="795600" cy="797040"/>
              <a:chOff x="7773840" y="5757840"/>
              <a:chExt cx="795600" cy="797040"/>
            </a:xfrm>
          </p:grpSpPr>
          <p:sp>
            <p:nvSpPr>
              <p:cNvPr id="194" name=""/>
              <p:cNvSpPr/>
              <p:nvPr/>
            </p:nvSpPr>
            <p:spPr>
              <a:xfrm>
                <a:off x="777384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7384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616880" y="49960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8348760" y="4964040"/>
              <a:ext cx="795240" cy="797040"/>
              <a:chOff x="8348760" y="4964040"/>
              <a:chExt cx="795240" cy="797040"/>
            </a:xfrm>
          </p:grpSpPr>
          <p:sp>
            <p:nvSpPr>
              <p:cNvPr id="198" name=""/>
              <p:cNvSpPr/>
              <p:nvPr/>
            </p:nvSpPr>
            <p:spPr>
              <a:xfrm>
                <a:off x="8348760" y="496404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348760" y="496404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flipV="1">
              <a:off x="7616880" y="450504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8348760" y="3984840"/>
              <a:ext cx="795240" cy="796680"/>
              <a:chOff x="8348760" y="3984840"/>
              <a:chExt cx="795240" cy="79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8348760" y="3984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348760" y="3984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V="1">
              <a:off x="7470720" y="391140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7772400" y="3192480"/>
              <a:ext cx="797040" cy="795240"/>
              <a:chOff x="7772400" y="3192480"/>
              <a:chExt cx="797040" cy="795240"/>
            </a:xfrm>
          </p:grpSpPr>
          <p:sp>
            <p:nvSpPr>
              <p:cNvPr id="206" name=""/>
              <p:cNvSpPr/>
              <p:nvPr/>
            </p:nvSpPr>
            <p:spPr>
              <a:xfrm>
                <a:off x="7772400" y="3192480"/>
                <a:ext cx="797040" cy="7952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72400" y="319248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7238880" y="368424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840360" y="2889360"/>
              <a:ext cx="795600" cy="795240"/>
              <a:chOff x="6840360" y="2889360"/>
              <a:chExt cx="795600" cy="795240"/>
            </a:xfrm>
          </p:grpSpPr>
          <p:sp>
            <p:nvSpPr>
              <p:cNvPr id="210" name=""/>
              <p:cNvSpPr/>
              <p:nvPr/>
            </p:nvSpPr>
            <p:spPr>
              <a:xfrm>
                <a:off x="6840360" y="2889360"/>
                <a:ext cx="795600" cy="7952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40360" y="288936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840360" y="4476960"/>
              <a:ext cx="795600" cy="796680"/>
              <a:chOff x="6840360" y="4476960"/>
              <a:chExt cx="795600" cy="79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6840360" y="447696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40360" y="447696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7002360" y="475776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. Information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Meaning of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de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Code s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4120" y="2889360"/>
            <a:ext cx="3809880" cy="3968640"/>
            <a:chOff x="5334120" y="2889360"/>
            <a:chExt cx="3809880" cy="3968640"/>
          </a:xfrm>
        </p:grpSpPr>
        <p:sp>
          <p:nvSpPr>
            <p:cNvPr id="220" name=""/>
            <p:cNvSpPr/>
            <p:nvPr/>
          </p:nvSpPr>
          <p:spPr>
            <a:xfrm flipH="1" flipV="1">
              <a:off x="6539040" y="39128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908680" y="3192480"/>
              <a:ext cx="795240" cy="797040"/>
              <a:chOff x="5908680" y="3192480"/>
              <a:chExt cx="795240" cy="797040"/>
            </a:xfrm>
          </p:grpSpPr>
          <p:sp>
            <p:nvSpPr>
              <p:cNvPr id="222" name=""/>
              <p:cNvSpPr/>
              <p:nvPr/>
            </p:nvSpPr>
            <p:spPr>
              <a:xfrm>
                <a:off x="5908680" y="319248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08680" y="31924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 flipV="1">
              <a:off x="6108840" y="450864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334120" y="3986280"/>
              <a:ext cx="795240" cy="797040"/>
              <a:chOff x="5334120" y="3986280"/>
              <a:chExt cx="795240" cy="797040"/>
            </a:xfrm>
          </p:grpSpPr>
          <p:sp>
            <p:nvSpPr>
              <p:cNvPr id="226" name=""/>
              <p:cNvSpPr/>
              <p:nvPr/>
            </p:nvSpPr>
            <p:spPr>
              <a:xfrm>
                <a:off x="5334120" y="398628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34120" y="3986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>
              <a:off x="6110280" y="499752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334120" y="4965840"/>
              <a:ext cx="795240" cy="796680"/>
              <a:chOff x="5334120" y="4965840"/>
              <a:chExt cx="795240" cy="796680"/>
            </a:xfrm>
          </p:grpSpPr>
          <p:sp>
            <p:nvSpPr>
              <p:cNvPr id="230" name=""/>
              <p:cNvSpPr/>
              <p:nvPr/>
            </p:nvSpPr>
            <p:spPr>
              <a:xfrm>
                <a:off x="5334120" y="4965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34120" y="4965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H="1">
              <a:off x="6541560" y="519588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910120" y="5757840"/>
              <a:ext cx="795600" cy="797040"/>
              <a:chOff x="5910120" y="5757840"/>
              <a:chExt cx="795600" cy="797040"/>
            </a:xfrm>
          </p:grpSpPr>
          <p:sp>
            <p:nvSpPr>
              <p:cNvPr id="234" name=""/>
              <p:cNvSpPr/>
              <p:nvPr/>
            </p:nvSpPr>
            <p:spPr>
              <a:xfrm>
                <a:off x="591012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1012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7240680" y="527040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842160" y="6060960"/>
              <a:ext cx="795240" cy="797040"/>
              <a:chOff x="6842160" y="6060960"/>
              <a:chExt cx="795240" cy="797040"/>
            </a:xfrm>
          </p:grpSpPr>
          <p:sp>
            <p:nvSpPr>
              <p:cNvPr id="238" name=""/>
              <p:cNvSpPr/>
              <p:nvPr/>
            </p:nvSpPr>
            <p:spPr>
              <a:xfrm>
                <a:off x="6842160" y="606096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842160" y="606096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7472520" y="519444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773840" y="5757840"/>
              <a:ext cx="795600" cy="797040"/>
              <a:chOff x="7773840" y="5757840"/>
              <a:chExt cx="795600" cy="797040"/>
            </a:xfrm>
          </p:grpSpPr>
          <p:sp>
            <p:nvSpPr>
              <p:cNvPr id="242" name=""/>
              <p:cNvSpPr/>
              <p:nvPr/>
            </p:nvSpPr>
            <p:spPr>
              <a:xfrm>
                <a:off x="7773840" y="575784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73840" y="575784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616880" y="49960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8348760" y="4964040"/>
              <a:ext cx="795240" cy="797040"/>
              <a:chOff x="8348760" y="4964040"/>
              <a:chExt cx="795240" cy="797040"/>
            </a:xfrm>
          </p:grpSpPr>
          <p:sp>
            <p:nvSpPr>
              <p:cNvPr id="246" name=""/>
              <p:cNvSpPr/>
              <p:nvPr/>
            </p:nvSpPr>
            <p:spPr>
              <a:xfrm>
                <a:off x="8348760" y="496404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348760" y="496404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V="1">
              <a:off x="7616880" y="450504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8348760" y="3984840"/>
              <a:ext cx="795240" cy="796680"/>
              <a:chOff x="8348760" y="3984840"/>
              <a:chExt cx="795240" cy="796680"/>
            </a:xfrm>
          </p:grpSpPr>
          <p:sp>
            <p:nvSpPr>
              <p:cNvPr id="250" name=""/>
              <p:cNvSpPr/>
              <p:nvPr/>
            </p:nvSpPr>
            <p:spPr>
              <a:xfrm>
                <a:off x="8348760" y="398484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348760" y="398484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 flipV="1">
              <a:off x="7470720" y="391140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772400" y="3192480"/>
              <a:ext cx="797040" cy="795240"/>
              <a:chOff x="7772400" y="3192480"/>
              <a:chExt cx="797040" cy="795240"/>
            </a:xfrm>
          </p:grpSpPr>
          <p:sp>
            <p:nvSpPr>
              <p:cNvPr id="254" name=""/>
              <p:cNvSpPr/>
              <p:nvPr/>
            </p:nvSpPr>
            <p:spPr>
              <a:xfrm>
                <a:off x="7772400" y="3192480"/>
                <a:ext cx="797040" cy="7952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72400" y="319248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 flipV="1">
              <a:off x="7238880" y="368424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840360" y="2889360"/>
              <a:ext cx="795600" cy="795240"/>
              <a:chOff x="6840360" y="2889360"/>
              <a:chExt cx="795600" cy="795240"/>
            </a:xfrm>
          </p:grpSpPr>
          <p:sp>
            <p:nvSpPr>
              <p:cNvPr id="258" name=""/>
              <p:cNvSpPr/>
              <p:nvPr/>
            </p:nvSpPr>
            <p:spPr>
              <a:xfrm>
                <a:off x="6840360" y="2889360"/>
                <a:ext cx="79560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40360" y="288936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840360" y="4476960"/>
              <a:ext cx="795600" cy="796680"/>
              <a:chOff x="6840360" y="4476960"/>
              <a:chExt cx="795600" cy="796680"/>
            </a:xfrm>
          </p:grpSpPr>
          <p:sp>
            <p:nvSpPr>
              <p:cNvPr id="261" name=""/>
              <p:cNvSpPr/>
              <p:nvPr/>
            </p:nvSpPr>
            <p:spPr>
              <a:xfrm>
                <a:off x="6840360" y="447696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840360" y="447696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002360" y="475776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. Data Models and Operational Confor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4800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achieve interoperability, a standardized model must be applied to as well as a standardized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ompeting models are RIM, FAM, GEHR (OpenEHR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334120" y="2514600"/>
            <a:ext cx="3809880" cy="3968640"/>
            <a:chOff x="5334120" y="2514600"/>
            <a:chExt cx="3809880" cy="3968640"/>
          </a:xfrm>
        </p:grpSpPr>
        <p:sp>
          <p:nvSpPr>
            <p:cNvPr id="268" name=""/>
            <p:cNvSpPr/>
            <p:nvPr/>
          </p:nvSpPr>
          <p:spPr>
            <a:xfrm flipH="1" flipV="1">
              <a:off x="6539040" y="35380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908680" y="2817720"/>
              <a:ext cx="795240" cy="797040"/>
              <a:chOff x="5908680" y="2817720"/>
              <a:chExt cx="795240" cy="797040"/>
            </a:xfrm>
          </p:grpSpPr>
          <p:sp>
            <p:nvSpPr>
              <p:cNvPr id="270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 flipV="1">
              <a:off x="6108840" y="41338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3611520"/>
              <a:ext cx="795240" cy="797040"/>
              <a:chOff x="5334120" y="3611520"/>
              <a:chExt cx="795240" cy="79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H="1">
              <a:off x="6110280" y="462276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334120" y="4591080"/>
              <a:ext cx="795240" cy="796680"/>
              <a:chOff x="5334120" y="4591080"/>
              <a:chExt cx="795240" cy="796680"/>
            </a:xfrm>
          </p:grpSpPr>
          <p:sp>
            <p:nvSpPr>
              <p:cNvPr id="278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H="1">
              <a:off x="6541560" y="482112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910120" y="5383080"/>
              <a:ext cx="795600" cy="797040"/>
              <a:chOff x="5910120" y="5383080"/>
              <a:chExt cx="795600" cy="797040"/>
            </a:xfrm>
          </p:grpSpPr>
          <p:sp>
            <p:nvSpPr>
              <p:cNvPr id="282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7240680" y="489564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6842160" y="5686200"/>
              <a:ext cx="795240" cy="797040"/>
              <a:chOff x="6842160" y="5686200"/>
              <a:chExt cx="795240" cy="797040"/>
            </a:xfrm>
          </p:grpSpPr>
          <p:sp>
            <p:nvSpPr>
              <p:cNvPr id="286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472520" y="48196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7773840" y="5383080"/>
              <a:ext cx="795600" cy="797040"/>
              <a:chOff x="7773840" y="5383080"/>
              <a:chExt cx="795600" cy="797040"/>
            </a:xfrm>
          </p:grpSpPr>
          <p:sp>
            <p:nvSpPr>
              <p:cNvPr id="290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7616880" y="462132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8348760" y="4589280"/>
              <a:ext cx="795240" cy="797040"/>
              <a:chOff x="8348760" y="4589280"/>
              <a:chExt cx="795240" cy="797040"/>
            </a:xfrm>
          </p:grpSpPr>
          <p:sp>
            <p:nvSpPr>
              <p:cNvPr id="294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7616880" y="413028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8348760" y="3610080"/>
              <a:ext cx="795240" cy="796680"/>
              <a:chOff x="8348760" y="3610080"/>
              <a:chExt cx="795240" cy="796680"/>
            </a:xfrm>
          </p:grpSpPr>
          <p:sp>
            <p:nvSpPr>
              <p:cNvPr id="298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V="1">
              <a:off x="7470720" y="353664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7772400" y="2817720"/>
              <a:ext cx="797040" cy="795240"/>
              <a:chOff x="7772400" y="2817720"/>
              <a:chExt cx="797040" cy="795240"/>
            </a:xfrm>
          </p:grpSpPr>
          <p:sp>
            <p:nvSpPr>
              <p:cNvPr id="302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7238880" y="330948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840360" y="2514600"/>
              <a:ext cx="795600" cy="795240"/>
              <a:chOff x="6840360" y="2514600"/>
              <a:chExt cx="795600" cy="795240"/>
            </a:xfrm>
          </p:grpSpPr>
          <p:sp>
            <p:nvSpPr>
              <p:cNvPr id="306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840360" y="4102200"/>
              <a:ext cx="795600" cy="796680"/>
              <a:chOff x="6840360" y="4102200"/>
              <a:chExt cx="795600" cy="796680"/>
            </a:xfrm>
          </p:grpSpPr>
          <p:sp>
            <p:nvSpPr>
              <p:cNvPr id="309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002360" y="438300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33520" y="220968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5. Clinical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ng Guidelines an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ng Information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ing Issues of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34120" y="2514600"/>
            <a:ext cx="3809880" cy="3968640"/>
            <a:chOff x="5334120" y="2514600"/>
            <a:chExt cx="3809880" cy="3968640"/>
          </a:xfrm>
        </p:grpSpPr>
        <p:sp>
          <p:nvSpPr>
            <p:cNvPr id="316" name=""/>
            <p:cNvSpPr/>
            <p:nvPr/>
          </p:nvSpPr>
          <p:spPr>
            <a:xfrm flipH="1" flipV="1">
              <a:off x="6539040" y="35380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908680" y="2817720"/>
              <a:ext cx="795240" cy="797040"/>
              <a:chOff x="5908680" y="2817720"/>
              <a:chExt cx="795240" cy="797040"/>
            </a:xfrm>
          </p:grpSpPr>
          <p:sp>
            <p:nvSpPr>
              <p:cNvPr id="318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 flipH="1" flipV="1">
              <a:off x="6108840" y="41338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334120" y="3611520"/>
              <a:ext cx="795240" cy="797040"/>
              <a:chOff x="5334120" y="3611520"/>
              <a:chExt cx="795240" cy="7970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H="1">
              <a:off x="6110280" y="462276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334120" y="4591080"/>
              <a:ext cx="795240" cy="796680"/>
              <a:chOff x="5334120" y="4591080"/>
              <a:chExt cx="795240" cy="796680"/>
            </a:xfrm>
          </p:grpSpPr>
          <p:sp>
            <p:nvSpPr>
              <p:cNvPr id="326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 flipH="1">
              <a:off x="6541560" y="482112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5910120" y="5383080"/>
              <a:ext cx="795600" cy="797040"/>
              <a:chOff x="5910120" y="5383080"/>
              <a:chExt cx="795600" cy="7970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240680" y="489564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842160" y="5686200"/>
              <a:ext cx="795240" cy="797040"/>
              <a:chOff x="6842160" y="5686200"/>
              <a:chExt cx="795240" cy="797040"/>
            </a:xfrm>
          </p:grpSpPr>
          <p:sp>
            <p:nvSpPr>
              <p:cNvPr id="334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472520" y="48196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7773840" y="5383080"/>
              <a:ext cx="795600" cy="797040"/>
              <a:chOff x="7773840" y="5383080"/>
              <a:chExt cx="795600" cy="797040"/>
            </a:xfrm>
          </p:grpSpPr>
          <p:sp>
            <p:nvSpPr>
              <p:cNvPr id="338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7616880" y="462132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8348760" y="4589280"/>
              <a:ext cx="795240" cy="797040"/>
              <a:chOff x="8348760" y="4589280"/>
              <a:chExt cx="795240" cy="797040"/>
            </a:xfrm>
          </p:grpSpPr>
          <p:sp>
            <p:nvSpPr>
              <p:cNvPr id="342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V="1">
              <a:off x="7616880" y="413028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8348760" y="3610080"/>
              <a:ext cx="795240" cy="796680"/>
              <a:chOff x="8348760" y="3610080"/>
              <a:chExt cx="795240" cy="796680"/>
            </a:xfrm>
          </p:grpSpPr>
          <p:sp>
            <p:nvSpPr>
              <p:cNvPr id="346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V="1">
              <a:off x="7470720" y="353664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7772400" y="2817720"/>
              <a:ext cx="797040" cy="795240"/>
              <a:chOff x="7772400" y="2817720"/>
              <a:chExt cx="797040" cy="795240"/>
            </a:xfrm>
          </p:grpSpPr>
          <p:sp>
            <p:nvSpPr>
              <p:cNvPr id="350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V="1">
              <a:off x="7238880" y="330948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6840360" y="2514600"/>
              <a:ext cx="795600" cy="795240"/>
              <a:chOff x="6840360" y="2514600"/>
              <a:chExt cx="795600" cy="79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840360" y="4102200"/>
              <a:ext cx="795600" cy="796680"/>
              <a:chOff x="6840360" y="4102200"/>
              <a:chExt cx="795600" cy="796680"/>
            </a:xfrm>
          </p:grpSpPr>
          <p:sp>
            <p:nvSpPr>
              <p:cNvPr id="357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7002360" y="438300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6. Decision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Decis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ss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Entry and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334120" y="2514600"/>
            <a:ext cx="3809880" cy="3968640"/>
            <a:chOff x="5334120" y="2514600"/>
            <a:chExt cx="3809880" cy="3968640"/>
          </a:xfrm>
        </p:grpSpPr>
        <p:sp>
          <p:nvSpPr>
            <p:cNvPr id="364" name=""/>
            <p:cNvSpPr/>
            <p:nvPr/>
          </p:nvSpPr>
          <p:spPr>
            <a:xfrm flipH="1" flipV="1">
              <a:off x="6539040" y="35380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908680" y="2817720"/>
              <a:ext cx="795240" cy="797040"/>
              <a:chOff x="5908680" y="2817720"/>
              <a:chExt cx="795240" cy="797040"/>
            </a:xfrm>
          </p:grpSpPr>
          <p:sp>
            <p:nvSpPr>
              <p:cNvPr id="366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08680" y="28177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 flipH="1" flipV="1">
              <a:off x="6108840" y="413388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334120" y="3611520"/>
              <a:ext cx="795240" cy="797040"/>
              <a:chOff x="5334120" y="3611520"/>
              <a:chExt cx="795240" cy="797040"/>
            </a:xfrm>
          </p:grpSpPr>
          <p:sp>
            <p:nvSpPr>
              <p:cNvPr id="370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4120" y="361152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H="1">
              <a:off x="6110280" y="4622760"/>
              <a:ext cx="7524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334120" y="4591080"/>
              <a:ext cx="795240" cy="796680"/>
              <a:chOff x="5334120" y="4591080"/>
              <a:chExt cx="795240" cy="796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34120" y="4591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 flipH="1">
              <a:off x="6541560" y="4821120"/>
              <a:ext cx="46548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910120" y="5383080"/>
              <a:ext cx="795600" cy="797040"/>
              <a:chOff x="5910120" y="5383080"/>
              <a:chExt cx="795600" cy="797040"/>
            </a:xfrm>
          </p:grpSpPr>
          <p:sp>
            <p:nvSpPr>
              <p:cNvPr id="378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1012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240680" y="4895640"/>
              <a:ext cx="144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842160" y="5686200"/>
              <a:ext cx="795240" cy="797040"/>
              <a:chOff x="6842160" y="5686200"/>
              <a:chExt cx="795240" cy="797040"/>
            </a:xfrm>
          </p:grpSpPr>
          <p:sp>
            <p:nvSpPr>
              <p:cNvPr id="382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42160" y="568620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7472520" y="4819680"/>
              <a:ext cx="46656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773840" y="5383080"/>
              <a:ext cx="795600" cy="797040"/>
              <a:chOff x="7773840" y="5383080"/>
              <a:chExt cx="795600" cy="797040"/>
            </a:xfrm>
          </p:grpSpPr>
          <p:sp>
            <p:nvSpPr>
              <p:cNvPr id="386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73840" y="5383080"/>
                <a:ext cx="79560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7616880" y="4621320"/>
              <a:ext cx="753840" cy="24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8348760" y="4589280"/>
              <a:ext cx="795240" cy="797040"/>
              <a:chOff x="8348760" y="4589280"/>
              <a:chExt cx="795240" cy="797040"/>
            </a:xfrm>
          </p:grpSpPr>
          <p:sp>
            <p:nvSpPr>
              <p:cNvPr id="390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348760" y="4589280"/>
                <a:ext cx="795240" cy="7970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flipV="1">
              <a:off x="7616880" y="4130280"/>
              <a:ext cx="75240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8348760" y="3610080"/>
              <a:ext cx="795240" cy="796680"/>
              <a:chOff x="8348760" y="3610080"/>
              <a:chExt cx="795240" cy="796680"/>
            </a:xfrm>
          </p:grpSpPr>
          <p:sp>
            <p:nvSpPr>
              <p:cNvPr id="394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48760" y="3610080"/>
                <a:ext cx="79524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 flipV="1">
              <a:off x="7470720" y="3536640"/>
              <a:ext cx="46512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772400" y="2817720"/>
              <a:ext cx="797040" cy="795240"/>
              <a:chOff x="7772400" y="2817720"/>
              <a:chExt cx="797040" cy="795240"/>
            </a:xfrm>
          </p:grpSpPr>
          <p:sp>
            <p:nvSpPr>
              <p:cNvPr id="398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72400" y="2817720"/>
                <a:ext cx="79704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 flipV="1">
              <a:off x="7238880" y="3309480"/>
              <a:ext cx="180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840360" y="2514600"/>
              <a:ext cx="795600" cy="795240"/>
              <a:chOff x="6840360" y="2514600"/>
              <a:chExt cx="795600" cy="795240"/>
            </a:xfrm>
          </p:grpSpPr>
          <p:sp>
            <p:nvSpPr>
              <p:cNvPr id="402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40360" y="2514600"/>
                <a:ext cx="795600" cy="79524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840360" y="4102200"/>
              <a:ext cx="795600" cy="796680"/>
              <a:chOff x="6840360" y="4102200"/>
              <a:chExt cx="795600" cy="7966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40360" y="4102200"/>
                <a:ext cx="795600" cy="7966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7002360" y="438300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7. Technical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nteroperability system is go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cceed in health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BA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R/Open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Internet: XML with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638680" y="2133720"/>
            <a:ext cx="3504960" cy="3276000"/>
            <a:chOff x="5638680" y="2133720"/>
            <a:chExt cx="3504960" cy="3276000"/>
          </a:xfrm>
        </p:grpSpPr>
        <p:sp>
          <p:nvSpPr>
            <p:cNvPr id="412" name=""/>
            <p:cNvSpPr/>
            <p:nvPr/>
          </p:nvSpPr>
          <p:spPr>
            <a:xfrm flipH="1" flipV="1">
              <a:off x="6747120" y="2978280"/>
              <a:ext cx="429120" cy="52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6167160" y="2383920"/>
              <a:ext cx="731520" cy="657720"/>
              <a:chOff x="6167160" y="2383920"/>
              <a:chExt cx="731520" cy="657720"/>
            </a:xfrm>
          </p:grpSpPr>
          <p:sp>
            <p:nvSpPr>
              <p:cNvPr id="414" name=""/>
              <p:cNvSpPr/>
              <p:nvPr/>
            </p:nvSpPr>
            <p:spPr>
              <a:xfrm>
                <a:off x="6167160" y="2383920"/>
                <a:ext cx="73152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67160" y="238392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H="1" flipV="1">
              <a:off x="6351120" y="3470400"/>
              <a:ext cx="69336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5638680" y="3039120"/>
              <a:ext cx="731520" cy="657720"/>
              <a:chOff x="5638680" y="3039120"/>
              <a:chExt cx="731520" cy="657720"/>
            </a:xfrm>
          </p:grpSpPr>
          <p:sp>
            <p:nvSpPr>
              <p:cNvPr id="418" name=""/>
              <p:cNvSpPr/>
              <p:nvPr/>
            </p:nvSpPr>
            <p:spPr>
              <a:xfrm>
                <a:off x="5638680" y="3039120"/>
                <a:ext cx="731520" cy="65772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38680" y="303912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 flipH="1">
              <a:off x="6352560" y="3873960"/>
              <a:ext cx="691920" cy="20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5638680" y="3847680"/>
              <a:ext cx="731520" cy="657720"/>
              <a:chOff x="5638680" y="3847680"/>
              <a:chExt cx="731520" cy="657720"/>
            </a:xfrm>
          </p:grpSpPr>
          <p:sp>
            <p:nvSpPr>
              <p:cNvPr id="422" name=""/>
              <p:cNvSpPr/>
              <p:nvPr/>
            </p:nvSpPr>
            <p:spPr>
              <a:xfrm>
                <a:off x="5638680" y="3847680"/>
                <a:ext cx="731520" cy="657720"/>
              </a:xfrm>
              <a:prstGeom prst="ellipse">
                <a:avLst/>
              </a:pr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38680" y="384768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flipH="1">
              <a:off x="6749280" y="4037760"/>
              <a:ext cx="428040" cy="52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168600" y="4501800"/>
              <a:ext cx="731880" cy="657720"/>
              <a:chOff x="6168600" y="4501800"/>
              <a:chExt cx="731880" cy="6577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68600" y="4501800"/>
                <a:ext cx="73188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68600" y="4501800"/>
                <a:ext cx="73188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7392600" y="4099320"/>
              <a:ext cx="108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7026120" y="4752000"/>
              <a:ext cx="731520" cy="657720"/>
              <a:chOff x="7026120" y="4752000"/>
              <a:chExt cx="731520" cy="657720"/>
            </a:xfrm>
          </p:grpSpPr>
          <p:sp>
            <p:nvSpPr>
              <p:cNvPr id="430" name=""/>
              <p:cNvSpPr/>
              <p:nvPr/>
            </p:nvSpPr>
            <p:spPr>
              <a:xfrm>
                <a:off x="7026120" y="4752000"/>
                <a:ext cx="73152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026120" y="475200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606080" y="4036680"/>
              <a:ext cx="429120" cy="52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883280" y="4501800"/>
              <a:ext cx="731880" cy="657720"/>
              <a:chOff x="7883280" y="4501800"/>
              <a:chExt cx="731880" cy="657720"/>
            </a:xfrm>
          </p:grpSpPr>
          <p:sp>
            <p:nvSpPr>
              <p:cNvPr id="434" name=""/>
              <p:cNvSpPr/>
              <p:nvPr/>
            </p:nvSpPr>
            <p:spPr>
              <a:xfrm>
                <a:off x="7883280" y="4501800"/>
                <a:ext cx="73188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83280" y="4501800"/>
                <a:ext cx="73188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7738920" y="3872880"/>
              <a:ext cx="69336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8412120" y="3846240"/>
              <a:ext cx="731520" cy="657720"/>
              <a:chOff x="8412120" y="3846240"/>
              <a:chExt cx="731520" cy="657720"/>
            </a:xfrm>
          </p:grpSpPr>
          <p:sp>
            <p:nvSpPr>
              <p:cNvPr id="438" name=""/>
              <p:cNvSpPr/>
              <p:nvPr/>
            </p:nvSpPr>
            <p:spPr>
              <a:xfrm>
                <a:off x="8412120" y="3846240"/>
                <a:ext cx="73152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412120" y="384624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 flipV="1">
              <a:off x="7738920" y="3467880"/>
              <a:ext cx="69192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8412120" y="3038040"/>
              <a:ext cx="731520" cy="657720"/>
              <a:chOff x="8412120" y="3038040"/>
              <a:chExt cx="731520" cy="657720"/>
            </a:xfrm>
          </p:grpSpPr>
          <p:sp>
            <p:nvSpPr>
              <p:cNvPr id="442" name=""/>
              <p:cNvSpPr/>
              <p:nvPr/>
            </p:nvSpPr>
            <p:spPr>
              <a:xfrm>
                <a:off x="8412120" y="3038040"/>
                <a:ext cx="731520" cy="65772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412120" y="3038040"/>
                <a:ext cx="73152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V="1">
              <a:off x="7604280" y="2977200"/>
              <a:ext cx="427680" cy="52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7881840" y="2383920"/>
              <a:ext cx="733320" cy="656280"/>
              <a:chOff x="7881840" y="2383920"/>
              <a:chExt cx="733320" cy="656280"/>
            </a:xfrm>
          </p:grpSpPr>
          <p:sp>
            <p:nvSpPr>
              <p:cNvPr id="446" name=""/>
              <p:cNvSpPr/>
              <p:nvPr/>
            </p:nvSpPr>
            <p:spPr>
              <a:xfrm>
                <a:off x="7881840" y="2383920"/>
                <a:ext cx="733320" cy="65628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881840" y="2383920"/>
                <a:ext cx="733320" cy="6562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flipV="1">
              <a:off x="7391160" y="2789640"/>
              <a:ext cx="144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024320" y="2133720"/>
              <a:ext cx="731880" cy="656280"/>
              <a:chOff x="7024320" y="2133720"/>
              <a:chExt cx="731880" cy="656280"/>
            </a:xfrm>
          </p:grpSpPr>
          <p:sp>
            <p:nvSpPr>
              <p:cNvPr id="450" name=""/>
              <p:cNvSpPr/>
              <p:nvPr/>
            </p:nvSpPr>
            <p:spPr>
              <a:xfrm>
                <a:off x="7024320" y="2133720"/>
                <a:ext cx="731880" cy="656280"/>
              </a:xfrm>
              <a:prstGeom prst="ellipse">
                <a:avLst/>
              </a:prstGeom>
              <a:solidFill>
                <a:srgbClr val="ff99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024320" y="2133720"/>
                <a:ext cx="731880" cy="65628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7024320" y="3444120"/>
              <a:ext cx="731880" cy="657720"/>
              <a:chOff x="7024320" y="3444120"/>
              <a:chExt cx="731880" cy="657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024320" y="3444120"/>
                <a:ext cx="731880" cy="657720"/>
              </a:xfrm>
              <a:prstGeom prst="ellipse">
                <a:avLst/>
              </a:pr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24320" y="3444120"/>
                <a:ext cx="731880" cy="65772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173720" y="367884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04920" y="160020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ediments to an EP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0880" y="1981080"/>
            <a:ext cx="830592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SzPct val="12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interoperability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ality within standards (HL7 Z fiel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single standardized implementation gu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use of clinically specific codes and vocabu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190512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ace for 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anagement Group (CORBAm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M/RSNA:  E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M E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2057400"/>
            <a:ext cx="8610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6172200" y="3538440"/>
            <a:ext cx="1181160" cy="282600"/>
            <a:chOff x="6172200" y="3538440"/>
            <a:chExt cx="1181160" cy="282600"/>
          </a:xfrm>
        </p:grpSpPr>
        <p:grpSp>
          <p:nvGrpSpPr>
            <p:cNvPr id="464" name=""/>
            <p:cNvGrpSpPr/>
            <p:nvPr/>
          </p:nvGrpSpPr>
          <p:grpSpPr>
            <a:xfrm>
              <a:off x="6172200" y="3538440"/>
              <a:ext cx="533520" cy="282600"/>
              <a:chOff x="6172200" y="3538440"/>
              <a:chExt cx="533520" cy="282600"/>
            </a:xfrm>
          </p:grpSpPr>
          <p:sp>
            <p:nvSpPr>
              <p:cNvPr id="465" name=""/>
              <p:cNvSpPr/>
              <p:nvPr/>
            </p:nvSpPr>
            <p:spPr>
              <a:xfrm>
                <a:off x="6219720" y="3579840"/>
                <a:ext cx="486000" cy="241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200" y="3538440"/>
                <a:ext cx="471600" cy="227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7035840" y="3538440"/>
              <a:ext cx="317520" cy="282600"/>
              <a:chOff x="7035840" y="3538440"/>
              <a:chExt cx="317520" cy="282600"/>
            </a:xfrm>
          </p:grpSpPr>
          <p:sp>
            <p:nvSpPr>
              <p:cNvPr id="468" name=""/>
              <p:cNvSpPr/>
              <p:nvPr/>
            </p:nvSpPr>
            <p:spPr>
              <a:xfrm>
                <a:off x="7083360" y="3579840"/>
                <a:ext cx="270000" cy="24120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35840" y="3538440"/>
                <a:ext cx="255600" cy="227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2137320" y="685800"/>
            <a:ext cx="313128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MA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40680" y="2882880"/>
            <a:ext cx="1163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Obje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57640" y="2882880"/>
            <a:ext cx="1629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Horizo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CORBA Facil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946160" y="3538440"/>
            <a:ext cx="316080" cy="282600"/>
            <a:chOff x="1946160" y="3538440"/>
            <a:chExt cx="316080" cy="282600"/>
          </a:xfrm>
        </p:grpSpPr>
        <p:sp>
          <p:nvSpPr>
            <p:cNvPr id="474" name=""/>
            <p:cNvSpPr/>
            <p:nvPr/>
          </p:nvSpPr>
          <p:spPr>
            <a:xfrm>
              <a:off x="1994040" y="3579840"/>
              <a:ext cx="268200" cy="24120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46160" y="353844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655720" y="3538440"/>
            <a:ext cx="317520" cy="282600"/>
            <a:chOff x="2655720" y="3538440"/>
            <a:chExt cx="317520" cy="282600"/>
          </a:xfrm>
        </p:grpSpPr>
        <p:sp>
          <p:nvSpPr>
            <p:cNvPr id="477" name=""/>
            <p:cNvSpPr/>
            <p:nvPr/>
          </p:nvSpPr>
          <p:spPr>
            <a:xfrm>
              <a:off x="2703600" y="3579840"/>
              <a:ext cx="269640" cy="24120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55720" y="353844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611360" y="2806560"/>
            <a:ext cx="1601640" cy="1130400"/>
            <a:chOff x="1611360" y="2806560"/>
            <a:chExt cx="1601640" cy="1130400"/>
          </a:xfrm>
        </p:grpSpPr>
        <p:sp>
          <p:nvSpPr>
            <p:cNvPr id="480" name=""/>
            <p:cNvSpPr/>
            <p:nvPr/>
          </p:nvSpPr>
          <p:spPr>
            <a:xfrm>
              <a:off x="1611360" y="2806560"/>
              <a:ext cx="1601640" cy="1130400"/>
            </a:xfrm>
            <a:prstGeom prst="roundRect">
              <a:avLst>
                <a:gd name="adj" fmla="val 1239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23960" y="2820960"/>
              <a:ext cx="1576440" cy="1100160"/>
            </a:xfrm>
            <a:prstGeom prst="roundRect">
              <a:avLst>
                <a:gd name="adj" fmla="val 1145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850000" y="2806560"/>
            <a:ext cx="1816200" cy="1130400"/>
            <a:chOff x="5850000" y="2806560"/>
            <a:chExt cx="1816200" cy="1130400"/>
          </a:xfrm>
        </p:grpSpPr>
        <p:sp>
          <p:nvSpPr>
            <p:cNvPr id="483" name=""/>
            <p:cNvSpPr/>
            <p:nvPr/>
          </p:nvSpPr>
          <p:spPr>
            <a:xfrm>
              <a:off x="5850000" y="2806560"/>
              <a:ext cx="1816200" cy="1130400"/>
            </a:xfrm>
            <a:prstGeom prst="roundRect">
              <a:avLst>
                <a:gd name="adj" fmla="val 1239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4400" y="2820960"/>
              <a:ext cx="1787400" cy="1101600"/>
            </a:xfrm>
            <a:prstGeom prst="roundRect">
              <a:avLst>
                <a:gd name="adj" fmla="val 1145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598920" y="4368960"/>
            <a:ext cx="2228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Object Request Brok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50200" y="5487840"/>
            <a:ext cx="1566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CORBA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841400" y="4278240"/>
            <a:ext cx="55371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41400" y="4667400"/>
            <a:ext cx="55371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18960" y="4116240"/>
            <a:ext cx="618840" cy="685800"/>
            <a:chOff x="1218960" y="4116240"/>
            <a:chExt cx="618840" cy="685800"/>
          </a:xfrm>
        </p:grpSpPr>
        <p:sp>
          <p:nvSpPr>
            <p:cNvPr id="490" name=""/>
            <p:cNvSpPr/>
            <p:nvPr/>
          </p:nvSpPr>
          <p:spPr>
            <a:xfrm flipV="1">
              <a:off x="1825560" y="4116240"/>
              <a:ext cx="0" cy="1764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218960" y="4141800"/>
              <a:ext cx="618840" cy="3128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25560" y="4675320"/>
              <a:ext cx="0" cy="1267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44520" y="4481640"/>
              <a:ext cx="576360" cy="31752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3290760" y="5060880"/>
            <a:ext cx="317520" cy="284400"/>
            <a:chOff x="3290760" y="5060880"/>
            <a:chExt cx="317520" cy="284400"/>
          </a:xfrm>
        </p:grpSpPr>
        <p:sp>
          <p:nvSpPr>
            <p:cNvPr id="495" name=""/>
            <p:cNvSpPr/>
            <p:nvPr/>
          </p:nvSpPr>
          <p:spPr>
            <a:xfrm>
              <a:off x="3338640" y="5103720"/>
              <a:ext cx="269640" cy="24156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90760" y="506088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481640" y="5060880"/>
            <a:ext cx="315720" cy="284400"/>
            <a:chOff x="4481640" y="5060880"/>
            <a:chExt cx="315720" cy="284400"/>
          </a:xfrm>
        </p:grpSpPr>
        <p:sp>
          <p:nvSpPr>
            <p:cNvPr id="498" name=""/>
            <p:cNvSpPr/>
            <p:nvPr/>
          </p:nvSpPr>
          <p:spPr>
            <a:xfrm>
              <a:off x="4529160" y="5103720"/>
              <a:ext cx="268200" cy="24156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1640" y="506088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454720" y="5060880"/>
            <a:ext cx="641160" cy="284400"/>
            <a:chOff x="5454720" y="5060880"/>
            <a:chExt cx="641160" cy="284400"/>
          </a:xfrm>
        </p:grpSpPr>
        <p:sp>
          <p:nvSpPr>
            <p:cNvPr id="501" name=""/>
            <p:cNvSpPr/>
            <p:nvPr/>
          </p:nvSpPr>
          <p:spPr>
            <a:xfrm>
              <a:off x="5502240" y="5103720"/>
              <a:ext cx="593640" cy="241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54720" y="5060880"/>
              <a:ext cx="579240" cy="227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 flipV="1">
            <a:off x="3448080" y="46605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635360" y="46605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18240" y="46735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863800" y="4915080"/>
            <a:ext cx="3616200" cy="893520"/>
            <a:chOff x="2863800" y="4915080"/>
            <a:chExt cx="3616200" cy="893520"/>
          </a:xfrm>
        </p:grpSpPr>
        <p:sp>
          <p:nvSpPr>
            <p:cNvPr id="507" name=""/>
            <p:cNvSpPr/>
            <p:nvPr/>
          </p:nvSpPr>
          <p:spPr>
            <a:xfrm>
              <a:off x="2863800" y="4915080"/>
              <a:ext cx="3616200" cy="893520"/>
            </a:xfrm>
            <a:prstGeom prst="roundRect">
              <a:avLst>
                <a:gd name="adj" fmla="val 12375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6400" y="4929120"/>
              <a:ext cx="3589560" cy="865080"/>
            </a:xfrm>
            <a:prstGeom prst="roundRect">
              <a:avLst>
                <a:gd name="adj" fmla="val 11255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386480" y="4120920"/>
            <a:ext cx="588960" cy="704880"/>
            <a:chOff x="7386480" y="4120920"/>
            <a:chExt cx="588960" cy="704880"/>
          </a:xfrm>
        </p:grpSpPr>
        <p:sp>
          <p:nvSpPr>
            <p:cNvPr id="510" name=""/>
            <p:cNvSpPr/>
            <p:nvPr/>
          </p:nvSpPr>
          <p:spPr>
            <a:xfrm flipV="1">
              <a:off x="7386480" y="4120920"/>
              <a:ext cx="0" cy="17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86480" y="4680000"/>
              <a:ext cx="0" cy="12708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399440" y="4460400"/>
              <a:ext cx="569880" cy="3654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99440" y="4146480"/>
              <a:ext cx="576000" cy="31608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828960" y="3538440"/>
            <a:ext cx="533520" cy="282600"/>
            <a:chOff x="3828960" y="3538440"/>
            <a:chExt cx="533520" cy="282600"/>
          </a:xfrm>
        </p:grpSpPr>
        <p:sp>
          <p:nvSpPr>
            <p:cNvPr id="515" name=""/>
            <p:cNvSpPr/>
            <p:nvPr/>
          </p:nvSpPr>
          <p:spPr>
            <a:xfrm>
              <a:off x="3876840" y="3579840"/>
              <a:ext cx="485640" cy="2412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28960" y="3538440"/>
              <a:ext cx="471600" cy="227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863960" y="3538440"/>
            <a:ext cx="317520" cy="282600"/>
            <a:chOff x="4863960" y="3538440"/>
            <a:chExt cx="317520" cy="282600"/>
          </a:xfrm>
        </p:grpSpPr>
        <p:sp>
          <p:nvSpPr>
            <p:cNvPr id="518" name=""/>
            <p:cNvSpPr/>
            <p:nvPr/>
          </p:nvSpPr>
          <p:spPr>
            <a:xfrm>
              <a:off x="4911840" y="3579840"/>
              <a:ext cx="269640" cy="24120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63960" y="3538440"/>
              <a:ext cx="255600" cy="227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430440" y="2882880"/>
            <a:ext cx="22831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Verti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vantGarde"/>
              </a:rPr>
              <a:t>CORBA Facil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602160" y="2806560"/>
            <a:ext cx="1939680" cy="1130400"/>
            <a:chOff x="3602160" y="2806560"/>
            <a:chExt cx="1939680" cy="1130400"/>
          </a:xfrm>
        </p:grpSpPr>
        <p:sp>
          <p:nvSpPr>
            <p:cNvPr id="522" name=""/>
            <p:cNvSpPr/>
            <p:nvPr/>
          </p:nvSpPr>
          <p:spPr>
            <a:xfrm>
              <a:off x="3602160" y="2806560"/>
              <a:ext cx="1939680" cy="1130400"/>
            </a:xfrm>
            <a:prstGeom prst="roundRect">
              <a:avLst>
                <a:gd name="adj" fmla="val 1239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18000" y="2820960"/>
              <a:ext cx="1908000" cy="1100160"/>
            </a:xfrm>
            <a:prstGeom prst="roundRect">
              <a:avLst>
                <a:gd name="adj" fmla="val 11454"/>
              </a:avLst>
            </a:prstGeom>
            <a:noFill/>
            <a:ln w="1260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76200" y="4929120"/>
            <a:ext cx="1666800" cy="136764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82000" y="4929120"/>
            <a:ext cx="1662120" cy="136764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1519200"/>
            <a:ext cx="1824120" cy="9414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und 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L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 Fac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ktop Mg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23960" y="1519200"/>
            <a:ext cx="1881000" cy="9414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standardized by OMG; Scope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gle application or ven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45000" y="1519200"/>
            <a:ext cx="1950840" cy="9414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9248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8780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6388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7812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42636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174080" y="3745080"/>
            <a:ext cx="0" cy="5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674640" y="-1122480"/>
            <a:ext cx="6681960" cy="79804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685800" y="0"/>
            <a:ext cx="66294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from the Imaging Point of View:  I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ing (HL7, DICOM, Other EDI Sys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:  3 Billion Prescriptions on NCPDP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pportunities (Integrating Ph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 7 Version 3.0 Messaging Based on Trigger-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66680" y="4800600"/>
            <a:ext cx="69343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 Terminology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14400" y="2438280"/>
            <a:ext cx="7620120" cy="212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7 Clinical Documentation Architecture (C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Body (Type of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 DT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1219320"/>
            <a:ext cx="678168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L7 Reference Information Model (R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ig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971800" y="533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L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:  Peter Waegemann’s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and Definitions on e-Health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Health or m-Heal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of Current Standards Eff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We Needs Another Standards Eff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for Wireless Healthca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or general e-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bile Healthcare Al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international not-for-profit organization in mobile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ressing hurdles and standar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oting the advantages of point-of-care computing in health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mohca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Working Groups in MoH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and Strategies (WG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C (WG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with Wireless Devices (WG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tandards (WG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Integration (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Issues (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914400"/>
            <a:ext cx="8686800" cy="594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66680" y="1295280"/>
            <a:ext cx="6553440" cy="41911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2286000"/>
            <a:ext cx="2895480" cy="28195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95480" y="2971800"/>
            <a:ext cx="5410440" cy="25909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76520" y="4191120"/>
            <a:ext cx="464796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320040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Health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52419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4648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-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2514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and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00200" y="2209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6272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752480" y="4495680"/>
            <a:ext cx="175284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Tele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1828800" y="14479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63" name=""/>
          <p:cNvSpPr/>
          <p:nvPr/>
        </p:nvSpPr>
        <p:spPr>
          <a:xfrm>
            <a:off x="5257800" y="627696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es of these slides may be obtained by emailing peterw@medrecins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2743200"/>
            <a:ext cx="624852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HRE 2003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don, UK December 2-3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on Electronic Health Record Usage and Trend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recinst.com/resources/survey2002/index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medrecins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RO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angible, Measurable Benefits Derived From a Technolog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Gains or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atient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ractitioner and Employee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Medical Errors (Should be #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igher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59092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Su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1500 Respondents on Annual Survey on Trends and Usage of E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Driving Fo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Barr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ilestones to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edrecinst.com/resources/survey/survey02/index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495680"/>
            <a:ext cx="79250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610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1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EH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1676520"/>
          <a:ext cx="7226280" cy="4876560"/>
        </p:xfrm>
        <a:graphic>
          <a:graphicData uri="http://schemas.openxmlformats.org/drawingml/2006/table">
            <a:tbl>
              <a:tblPr/>
              <a:tblGrid>
                <a:gridCol w="2894040"/>
                <a:gridCol w="1206360"/>
                <a:gridCol w="989280"/>
                <a:gridCol w="987120"/>
                <a:gridCol w="1149480"/>
              </a:tblGrid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ment/Administrative Moti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 of Total Respond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Mgrs and Analys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ians &amp; Nur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IT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share comparable patient data among different sites within a multi-entity healthcare delivery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improve clinical documentation to support appropriate billing service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requirement to contain or reduce healthcare delivery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establish a more efficient and effective information infrastructure as a competitive advan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meet the requirements of legal, regulatory, or accreditation standa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ed to manage capitation contracts (global capitated contracts, specialty carve-outs, subcapitation for Medications, Hospitalization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sponses to this 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 of 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3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5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1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558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19720" y="33526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?     ?     ?    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1066680"/>
          <a:ext cx="6172200" cy="5632560"/>
        </p:xfrm>
        <a:graphic>
          <a:graphicData uri="http://schemas.openxmlformats.org/drawingml/2006/table">
            <a:tbl>
              <a:tblPr/>
              <a:tblGrid>
                <a:gridCol w="3043440"/>
                <a:gridCol w="819000"/>
                <a:gridCol w="770040"/>
                <a:gridCol w="770040"/>
                <a:gridCol w="76968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the ability to share patient record information among healthcare practitioners and professionals within the enter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quality of c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clinical processes or workflow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clinical data cap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e medical errors (improve patient safe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de access to patient records at remote lo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tate clinical decision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employee/physician satisf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atient satisf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efficiency via pre-visit health assessments and post-visit patient edu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ort and integrate patient healthcare information from Web-based personal health rec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ain health plan member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f Respondents for This 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 of 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5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5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/- 3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625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1447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for Implementing E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81280" y="2057400"/>
            <a:ext cx="2971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?     ?     ?   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1523880"/>
          <a:ext cx="8305920" cy="4680000"/>
        </p:xfrm>
        <a:graphic>
          <a:graphicData uri="http://schemas.openxmlformats.org/drawingml/2006/table">
            <a:tbl>
              <a:tblPr/>
              <a:tblGrid>
                <a:gridCol w="5230800"/>
                <a:gridCol w="1541520"/>
                <a:gridCol w="153360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Market Seg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se To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for 1-4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visit Health Screenings, Evaluations, or Assess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te Access to EHRs by clinici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Appointments and/or Ad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visit Patient 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between patients and clinici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about health conditions, diseases, wellness, or new developments in health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Applications or Emai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523880"/>
          <a:ext cx="8305920" cy="4680000"/>
        </p:xfrm>
        <a:graphic>
          <a:graphicData uri="http://schemas.openxmlformats.org/drawingml/2006/table">
            <a:tbl>
              <a:tblPr/>
              <a:tblGrid>
                <a:gridCol w="5230800"/>
                <a:gridCol w="1541520"/>
                <a:gridCol w="153360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/Small Market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se To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for 1-4 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visit Health Screenings, Evaluations, or Assess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visit Patient 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te Access to EHRs by clinici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Appointments and/or Ad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between patients and clinici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about health conditions, diseases, wellness, or new developments in health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Applications or Emai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3:23:29Z</dcterms:created>
  <dc:creator>peter</dc:creator>
  <dc:description/>
  <dc:language>en-US</dc:language>
  <cp:lastModifiedBy>Peter Waegemann</cp:lastModifiedBy>
  <dcterms:modified xsi:type="dcterms:W3CDTF">2003-05-25T10:00:47Z</dcterms:modified>
  <cp:revision>21</cp:revision>
  <dc:subject/>
  <dc:title>Slide 1</dc:title>
</cp:coreProperties>
</file>