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A4EA24-6027-4427-B9BF-7E1638F01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4BA6-9066-44E0-9101-97E26F761F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057E-D90A-428A-8DF0-D0DDF827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AECB-A6C8-4FE0-9FEE-7711667F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EBE0-EF17-4E6E-9AD3-0289FC1B3D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4CF4-46A9-4E07-A4EC-D1D095B0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CE77-575A-4F6B-9437-AF6607F3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6EF0-5A93-4D64-8F18-27AFECA6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059E-0A3D-4717-BF1F-F3730718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CFDD-7342-4401-9ACF-B11C7C92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32DA-7601-4EEA-A41C-7210ACE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5C26-F7B4-4A45-9278-4475075E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DFBD-BB4C-488C-915F-811AFF3B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on Standardization in E-health, Geneva, 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3808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FD2A-95CA-4283-BE03-03330A19DD7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8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nclusions &amp; 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Jean-Yves Monfor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hairman of ITU-T SG12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5787-7278-45E4-9295-B5E38D88004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C6883-12A2-41E0-A93B-37F64AD417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commendations and conclu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There is a lack of communication… (heard several times); could such workshop help to create contacts. These contacts need to be maintained and to begin productive after the workshop. As a first step, this could be done by the different session chair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Exchange of pieces of information on experiment/trial results in healthcare should permit to improve the existing requirements, in particular on QoS.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4C40-E61E-4EF1-A948-E1184ADB91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2CD36-5749-432F-9C48-B5B7EA227C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esentations in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Times New Roman"/>
              </a:rPr>
              <a:t>Interoperability and QoS implications of ISO TC 215 WG2</a:t>
            </a:r>
            <a:r>
              <a:rPr b="0" lang="fr-FR" sz="2000" spc="-1" strike="noStrike">
                <a:solidFill>
                  <a:srgbClr val="990033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. Cooper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irman, IEEE 1073, Technical Director, MDCIG / IEEE-ISTOPresident, Breakthrough Solutions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Times New Roman"/>
              </a:rPr>
              <a:t>Architectures review for interoperability in e-health</a:t>
            </a:r>
            <a:r>
              <a:rPr b="0" lang="fr-FR" sz="2000" spc="-1" strike="noStrike">
                <a:solidFill>
                  <a:srgbClr val="990033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. Traver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Mincho"/>
              </a:rPr>
              <a:t>Project manager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ioelectronic, Engineering and Telemedicine Group, ITAC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olytechnic University of Valencia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Times New Roman"/>
              </a:rPr>
              <a:t>Basic requirements to Quality of Service (IP centric</a:t>
            </a:r>
            <a:r>
              <a:rPr b="0" lang="fr-FR" sz="2000" spc="-1" strike="noStrike">
                <a:solidFill>
                  <a:srgbClr val="990033"/>
                </a:solidFill>
                <a:latin typeface="Times New Roman"/>
              </a:rPr>
              <a:t>);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JY Monfort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TU-T SG 12 Chairman, France Teleom T&amp;I/R&amp;D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990033"/>
                </a:solidFill>
                <a:latin typeface="Times New Roman"/>
              </a:rPr>
              <a:t>ETHEL Interoperability in e-Health</a:t>
            </a:r>
            <a:r>
              <a:rPr b="0" lang="fr-FR" sz="2000" spc="-1" strike="noStrike">
                <a:solidFill>
                  <a:srgbClr val="990033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r.med. M. D. Denz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HTEL AWG Health Authorities, Swiss Medical Association FMH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Times New Roman"/>
              </a:rPr>
              <a:t>Europe : TM-Alliance, facilitating eHealth interoperability</a:t>
            </a:r>
            <a:r>
              <a:rPr b="0" lang="fr-FR" sz="2000" spc="-1" strike="noStrike">
                <a:solidFill>
                  <a:srgbClr val="990033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. Bescos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lemedecine Coordinator of TM-Alliance Project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an Space Agency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EF98-F747-4177-9EB7-1DCD0E74DF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2E710-BE06-4504-A7E7-3B1386A3DE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8.1 “</a:t>
            </a:r>
            <a:r>
              <a:rPr b="0" lang="fr-FR" sz="2800" spc="-1" strike="noStrike">
                <a:solidFill>
                  <a:srgbClr val="a50021"/>
                </a:solidFill>
                <a:latin typeface="Times New Roman"/>
              </a:rPr>
              <a:t>Interoperability and QoS implications of ISO TC 215 WG2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Presentation of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ISO TC215 Interoperability &amp; QoS across all working groups. The non-medical device interoperability work is concentrated on ISO layer 7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Presentation of ISO/IEEE/CEN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X73 point-of-care medical device communication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(real time Plug-n- Play; efficient exchange of vital signs and medical data). It include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QoS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Management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Need additional pilot projects to show capabilities of X73 protocols, as well as demand for interoperability from health care organizations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upport is welcome  in adding security, web services, and rigorous LAN-based QoS support to the existing standard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6295-CF31-402D-94DE-1307CB8734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84D13-E435-4813-BCA1-1140B79BF9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8.2 “</a:t>
            </a:r>
            <a:r>
              <a:rPr b="0" lang="fr-FR" sz="2800" spc="-1" strike="noStrike">
                <a:solidFill>
                  <a:srgbClr val="a50021"/>
                </a:solidFill>
                <a:latin typeface="Times New Roman"/>
              </a:rPr>
              <a:t>Architectures review for interoperability in e-health »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n exhaustive presentation of available architectures for interoperability purposes IEEE 1471-2000, TOGAF, paying special attention  and special on “Telemedicine system Interoperability Architecture”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ere is a need of a common framework/architecture for the use of standard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 list of standards for e-health and Telemedecine has been given. Each e-health domain has developped its own standards. It is needed to solve problems of interoperability in several fields that have been indentified (</a:t>
            </a:r>
            <a:r>
              <a:rPr b="0" lang="es-ES" sz="1400" spc="-1" strike="noStrike">
                <a:solidFill>
                  <a:srgbClr val="990033"/>
                </a:solidFill>
                <a:latin typeface="Times New Roman"/>
              </a:rPr>
              <a:t>Distribution of components</a:t>
            </a:r>
            <a:r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s-ES" sz="1400" spc="-1" strike="noStrike">
                <a:solidFill>
                  <a:srgbClr val="990033"/>
                </a:solidFill>
                <a:latin typeface="Times New Roman"/>
              </a:rPr>
              <a:t>Buses, User Interfaces, Medical devices, Terminology, Communications,…)</a:t>
            </a:r>
            <a:endParaRPr b="0" lang="en-US" sz="14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A63A-DB70-42E7-A476-91EED7DD87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A3126-EBBF-40FB-90C2-017A7B80CC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8850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8.3</a:t>
            </a:r>
            <a:br>
              <a:rPr sz="28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0" lang="fr-FR" sz="2400" spc="-1" strike="noStrike">
                <a:solidFill>
                  <a:srgbClr val="a50021"/>
                </a:solidFill>
                <a:latin typeface="Times New Roman"/>
              </a:rPr>
              <a:t>Basic requirements to Quality of Service (IP centric</a:t>
            </a:r>
            <a:r>
              <a:rPr b="1" lang="fr-FR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verall presentation of ITU-T activities in QoS and NP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vailibility of preliminary limits for IP services. These data should be applied and adapted for telemedecine need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isponibility of QoS classes and ways to implement/signal/assess them under development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ore efficient integration of the uses context in QoS (Concept of Quality of experience) that could be applied to Telemedecine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2DE6-635F-4B40-A67E-22401A50B4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EAB98-97E7-4DB5-A2D0-217E128A4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8.4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0" lang="fr-FR" sz="2800" spc="-1" strike="noStrike">
                <a:solidFill>
                  <a:srgbClr val="a50021"/>
                </a:solidFill>
                <a:latin typeface="Times New Roman"/>
              </a:rPr>
              <a:t>ETHEL Interoperability in e-Health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33"/>
                </a:solidFill>
                <a:latin typeface="Times New Roman"/>
              </a:rPr>
              <a:t>Key problems are not a technology issues, it is a matter of organisational development.</a:t>
            </a:r>
            <a:endParaRPr b="0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33"/>
                </a:solidFill>
                <a:latin typeface="Times New Roman"/>
              </a:rPr>
              <a:t>Therefore eHealth has to be seen as change management in healthcare by using ICT.</a:t>
            </a:r>
            <a:endParaRPr b="0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33"/>
                </a:solidFill>
                <a:latin typeface="Times New Roman"/>
              </a:rPr>
              <a:t>Ethel has identified critical success factors :</a:t>
            </a:r>
            <a:endParaRPr b="0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Human-human interaction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Understanding users need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Transcultural management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Education and training </a:t>
            </a: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(skills)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Organisational development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33"/>
                </a:solidFill>
                <a:latin typeface="Times New Roman"/>
              </a:rPr>
              <a:t>Conclusions are :</a:t>
            </a:r>
            <a:endParaRPr b="0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Emphasize on communication and relationship management 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Lower the number of competing standards, and the number of different data available (redundancy)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Avoid over-specification of standards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Interoperabilty has to be improved by interfacing heterogeneous systems. Need for modelling ICT into healthcare (coherence through existing models)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EB43-6088-4BCB-A62E-14540F694E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1FC13-C825-47B9-9644-7C5762F93A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8.5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0" lang="fr-FR" sz="2800" spc="-1" strike="noStrike">
                <a:solidFill>
                  <a:srgbClr val="a50021"/>
                </a:solidFill>
                <a:latin typeface="Times New Roman"/>
              </a:rPr>
              <a:t>Europe : TM-Alliance, 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facilitating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E-h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ealth interoperability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Times New Roman"/>
              </a:rPr>
              <a:t>Constatation : Complexity in Europe to achieve a common e-health approach. Lessons learnt.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Times New Roman"/>
              </a:rPr>
              <a:t>The aim of TM-Alliance (ESA, WHO, ITU) in interoperability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Gathering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multidisciplinary and international experts for th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definition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 of Interfaces,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Promoting and facilitating consensus, Disseminating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 the agreements among the national policy makers, mass media and general public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The r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le: to facilitate the coordination between all the relevant actors in e-Health. To disseminate and promote “best practices”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00"/>
                </a:solidFill>
                <a:latin typeface="Times New Roman"/>
              </a:rPr>
              <a:t>Even if some concerns were expressed on the creation of one more coordination structure, TM Alliance received a important support. Feedback from the experts is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cc0000"/>
                </a:solidFill>
                <a:latin typeface="Times New Roman"/>
              </a:rPr>
              <a:t>welcomed</a:t>
            </a:r>
            <a:endParaRPr b="0" lang="en-US" sz="1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0985-CEDB-48D9-8A1F-B492EF8F7B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FED68-2A6E-4B5C-AE0C-1CEA9C622B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verview of issues in the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eroperability issues have been addressed during this session, but these problems have also been highlighted in other session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eroperability issues are not only technical,…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eroperability architectures do exist, but there is a need of a common framework/architecture for the use of standards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dardization is ongoing on LAN-based QoS for the real-time applications (remote control,…)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D821-D3C4-4FBA-8FA8-DA3F415E4D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2A6B3-E882-4734-A1C6-32BAFD03A8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Follow-up ac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Cooperation should be useful to identify QoS requirements with respect to regulated, safe and effective exchange of healthcare information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The different approaches identified under the  “interoperability” should be more detailed to increase the mutual understanding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Interoperability “events” –see ETSI, IMTC and other fora – might be used to fix the first implementations of standards (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 H.323, SIP,…) at reasonable cost.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The necessity to take into account the user’s experience (acceptability). From user’s requirements, it appears important to provide “user-friendly” interfaces in order to avoid misuses, lack of use or, even worse diagnose mistakes/errors.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F8F2A-0474-4A22-A9AE-3CC896ABAD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554E1-3A11-4A47-892A-EE2E3A851A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TSB</dc:creator>
  <dc:description/>
  <dc:language>en-US</dc:language>
  <cp:lastModifiedBy>TSB-Simao</cp:lastModifiedBy>
  <dcterms:modified xsi:type="dcterms:W3CDTF">2003-05-26T19:20:17Z</dcterms:modified>
  <cp:revision>63</cp:revision>
  <dc:subject/>
  <dc:title>PowerPoint Presentation</dc:title>
</cp:coreProperties>
</file>