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4B7-AEF6-415A-AE17-DE7995F0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1200" y="413244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99E0-9E2A-474D-BBC0-375E9D9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584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C0B4-8C08-4319-B7B0-994E8836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06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12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06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E6A4-3667-45B9-9F2A-B82A857F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2080" y="580680"/>
            <a:ext cx="86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457B-D8DF-4449-BA38-6E8E1455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584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1200" y="413244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584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06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0000" y="198288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12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06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0000" y="4132440"/>
            <a:ext cx="279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85CF-D484-44AF-B584-455A6017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58B9-77E7-4723-BC0C-0ABF10C4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C9D4-3B67-47C2-9E61-B13134C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62080" y="580680"/>
            <a:ext cx="86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501D-E2B0-44A7-8490-F48F4BED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CF74-CE88-4CC2-AF81-97A2081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5840" y="413244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A243-32EC-456F-AF97-02B796C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5840" y="1982880"/>
            <a:ext cx="42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1200" y="4132440"/>
            <a:ext cx="869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2C35-6E60-42DD-A308-AAF5DF7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4B6C-8B04-4C3A-9D31-F33717EB38E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 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276880" y="-633240"/>
            <a:ext cx="2882880" cy="1242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896000" y="-1243080"/>
            <a:ext cx="37335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24000" y="52560"/>
            <a:ext cx="2882880" cy="1242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-285840" y="814320"/>
            <a:ext cx="37339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pic>
        <p:nvPicPr>
          <p:cNvPr id="48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saBanner" descr=""/>
          <p:cNvPicPr/>
          <p:nvPr/>
        </p:nvPicPr>
        <p:blipFill>
          <a:blip r:embed="rId3"/>
          <a:stretch/>
        </p:blipFill>
        <p:spPr>
          <a:xfrm>
            <a:off x="71280" y="5711760"/>
            <a:ext cx="5080320" cy="101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280" y="615960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chography_hr_eng.mpg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a.int/telemedicine-alliance" TargetMode="External"/><Relationship Id="rId2" Type="http://schemas.openxmlformats.org/officeDocument/2006/relationships/hyperlink" Target="http://www.esa.int/telemedicine-alliance" TargetMode="External"/><Relationship Id="rId3" Type="http://schemas.openxmlformats.org/officeDocument/2006/relationships/hyperlink" Target="http://www.esa.int/telemedicine-alliance" TargetMode="External"/><Relationship Id="rId4" Type="http://schemas.openxmlformats.org/officeDocument/2006/relationships/hyperlink" Target="http://www.esa.int/telemedicine-alliance" TargetMode="External"/><Relationship Id="rId5" Type="http://schemas.openxmlformats.org/officeDocument/2006/relationships/hyperlink" Target="http://www.esa.int/telemedicine-alliance" TargetMode="External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0280" y="1055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Europe:</a:t>
            </a:r>
            <a:br>
              <a:rPr sz="5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TM-Alliance, facilitating e-Health Interoperability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ristina Besco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opean Space Agency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ESA: Satellites and Telemedicin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1200" y="1170000"/>
            <a:ext cx="869328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arth Observ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avigation and Position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munic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sat + earth 0502_small" descr=""/>
          <p:cNvPicPr/>
          <p:nvPr/>
        </p:nvPicPr>
        <p:blipFill>
          <a:blip r:embed="rId1"/>
          <a:stretch/>
        </p:blipFill>
        <p:spPr>
          <a:xfrm>
            <a:off x="4838760" y="3600360"/>
            <a:ext cx="4124160" cy="2990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667480" y="1279440"/>
            <a:ext cx="3057480" cy="2149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8600" y="2887560"/>
            <a:ext cx="5257800" cy="33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42B3-8344-4F73-99C0-B731698574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58A1FCC-4C30-4101-A14A-DD96CD0DB5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Health: The European Cas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uropean Uni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ong legal infrastructure/ Protection of Privacy Righ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allel non-coordinated technical develop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ood Medical Care Delive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pulation a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fferent Countri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ltural/Regional/Medical Infrastru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turity level in Health Telema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269040" y="3429000"/>
            <a:ext cx="2587680" cy="3219120"/>
            <a:chOff x="6269040" y="3429000"/>
            <a:chExt cx="2587680" cy="3219120"/>
          </a:xfrm>
        </p:grpSpPr>
        <p:sp>
          <p:nvSpPr>
            <p:cNvPr id="94" name=""/>
            <p:cNvSpPr/>
            <p:nvPr/>
          </p:nvSpPr>
          <p:spPr>
            <a:xfrm>
              <a:off x="6269040" y="5626080"/>
              <a:ext cx="300240" cy="460440"/>
            </a:xfrm>
            <a:custGeom>
              <a:avLst/>
              <a:gdLst/>
              <a:ahLst/>
              <a:rect l="l" t="t" r="r" b="b"/>
              <a:pathLst>
                <a:path w="427" h="655">
                  <a:moveTo>
                    <a:pt x="216" y="6"/>
                  </a:moveTo>
                  <a:lnTo>
                    <a:pt x="247" y="0"/>
                  </a:lnTo>
                  <a:lnTo>
                    <a:pt x="268" y="25"/>
                  </a:lnTo>
                  <a:lnTo>
                    <a:pt x="271" y="55"/>
                  </a:lnTo>
                  <a:lnTo>
                    <a:pt x="279" y="61"/>
                  </a:lnTo>
                  <a:lnTo>
                    <a:pt x="295" y="57"/>
                  </a:lnTo>
                  <a:lnTo>
                    <a:pt x="344" y="78"/>
                  </a:lnTo>
                  <a:lnTo>
                    <a:pt x="358" y="67"/>
                  </a:lnTo>
                  <a:lnTo>
                    <a:pt x="377" y="66"/>
                  </a:lnTo>
                  <a:lnTo>
                    <a:pt x="390" y="84"/>
                  </a:lnTo>
                  <a:lnTo>
                    <a:pt x="401" y="114"/>
                  </a:lnTo>
                  <a:lnTo>
                    <a:pt x="416" y="134"/>
                  </a:lnTo>
                  <a:lnTo>
                    <a:pt x="427" y="144"/>
                  </a:lnTo>
                  <a:lnTo>
                    <a:pt x="423" y="155"/>
                  </a:lnTo>
                  <a:lnTo>
                    <a:pt x="387" y="165"/>
                  </a:lnTo>
                  <a:lnTo>
                    <a:pt x="346" y="189"/>
                  </a:lnTo>
                  <a:lnTo>
                    <a:pt x="348" y="230"/>
                  </a:lnTo>
                  <a:lnTo>
                    <a:pt x="324" y="251"/>
                  </a:lnTo>
                  <a:lnTo>
                    <a:pt x="304" y="269"/>
                  </a:lnTo>
                  <a:lnTo>
                    <a:pt x="302" y="308"/>
                  </a:lnTo>
                  <a:lnTo>
                    <a:pt x="302" y="334"/>
                  </a:lnTo>
                  <a:lnTo>
                    <a:pt x="286" y="352"/>
                  </a:lnTo>
                  <a:lnTo>
                    <a:pt x="274" y="334"/>
                  </a:lnTo>
                  <a:lnTo>
                    <a:pt x="251" y="341"/>
                  </a:lnTo>
                  <a:lnTo>
                    <a:pt x="249" y="354"/>
                  </a:lnTo>
                  <a:lnTo>
                    <a:pt x="244" y="387"/>
                  </a:lnTo>
                  <a:lnTo>
                    <a:pt x="253" y="399"/>
                  </a:lnTo>
                  <a:lnTo>
                    <a:pt x="249" y="430"/>
                  </a:lnTo>
                  <a:lnTo>
                    <a:pt x="235" y="445"/>
                  </a:lnTo>
                  <a:lnTo>
                    <a:pt x="216" y="471"/>
                  </a:lnTo>
                  <a:lnTo>
                    <a:pt x="208" y="492"/>
                  </a:lnTo>
                  <a:lnTo>
                    <a:pt x="212" y="531"/>
                  </a:lnTo>
                  <a:lnTo>
                    <a:pt x="228" y="554"/>
                  </a:lnTo>
                  <a:lnTo>
                    <a:pt x="218" y="567"/>
                  </a:lnTo>
                  <a:lnTo>
                    <a:pt x="177" y="581"/>
                  </a:lnTo>
                  <a:lnTo>
                    <a:pt x="162" y="598"/>
                  </a:lnTo>
                  <a:lnTo>
                    <a:pt x="161" y="616"/>
                  </a:lnTo>
                  <a:lnTo>
                    <a:pt x="161" y="649"/>
                  </a:lnTo>
                  <a:lnTo>
                    <a:pt x="115" y="649"/>
                  </a:lnTo>
                  <a:lnTo>
                    <a:pt x="82" y="655"/>
                  </a:lnTo>
                  <a:lnTo>
                    <a:pt x="46" y="610"/>
                  </a:lnTo>
                  <a:lnTo>
                    <a:pt x="27" y="610"/>
                  </a:lnTo>
                  <a:lnTo>
                    <a:pt x="10" y="610"/>
                  </a:lnTo>
                  <a:lnTo>
                    <a:pt x="0" y="593"/>
                  </a:lnTo>
                  <a:lnTo>
                    <a:pt x="10" y="576"/>
                  </a:lnTo>
                  <a:lnTo>
                    <a:pt x="31" y="543"/>
                  </a:lnTo>
                  <a:lnTo>
                    <a:pt x="42" y="510"/>
                  </a:lnTo>
                  <a:lnTo>
                    <a:pt x="67" y="471"/>
                  </a:lnTo>
                  <a:lnTo>
                    <a:pt x="73" y="448"/>
                  </a:lnTo>
                  <a:lnTo>
                    <a:pt x="61" y="432"/>
                  </a:lnTo>
                  <a:lnTo>
                    <a:pt x="46" y="417"/>
                  </a:lnTo>
                  <a:lnTo>
                    <a:pt x="42" y="408"/>
                  </a:lnTo>
                  <a:lnTo>
                    <a:pt x="61" y="402"/>
                  </a:lnTo>
                  <a:lnTo>
                    <a:pt x="73" y="379"/>
                  </a:lnTo>
                  <a:lnTo>
                    <a:pt x="52" y="373"/>
                  </a:lnTo>
                  <a:lnTo>
                    <a:pt x="31" y="385"/>
                  </a:lnTo>
                  <a:lnTo>
                    <a:pt x="31" y="357"/>
                  </a:lnTo>
                  <a:lnTo>
                    <a:pt x="42" y="340"/>
                  </a:lnTo>
                  <a:lnTo>
                    <a:pt x="52" y="323"/>
                  </a:lnTo>
                  <a:lnTo>
                    <a:pt x="57" y="301"/>
                  </a:lnTo>
                  <a:lnTo>
                    <a:pt x="61" y="284"/>
                  </a:lnTo>
                  <a:lnTo>
                    <a:pt x="73" y="280"/>
                  </a:lnTo>
                  <a:lnTo>
                    <a:pt x="88" y="290"/>
                  </a:lnTo>
                  <a:lnTo>
                    <a:pt x="115" y="251"/>
                  </a:lnTo>
                  <a:lnTo>
                    <a:pt x="130" y="224"/>
                  </a:lnTo>
                  <a:lnTo>
                    <a:pt x="170" y="173"/>
                  </a:lnTo>
                  <a:lnTo>
                    <a:pt x="170" y="152"/>
                  </a:lnTo>
                  <a:lnTo>
                    <a:pt x="191" y="117"/>
                  </a:lnTo>
                  <a:lnTo>
                    <a:pt x="197" y="78"/>
                  </a:lnTo>
                  <a:lnTo>
                    <a:pt x="207" y="57"/>
                  </a:lnTo>
                  <a:lnTo>
                    <a:pt x="216" y="6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382080" y="5481720"/>
              <a:ext cx="825120" cy="758520"/>
              <a:chOff x="6382080" y="5481720"/>
              <a:chExt cx="825120" cy="758520"/>
            </a:xfrm>
          </p:grpSpPr>
          <p:sp>
            <p:nvSpPr>
              <p:cNvPr id="96" name=""/>
              <p:cNvSpPr/>
              <p:nvPr/>
            </p:nvSpPr>
            <p:spPr>
              <a:xfrm>
                <a:off x="6382080" y="5481720"/>
                <a:ext cx="794520" cy="758520"/>
              </a:xfrm>
              <a:custGeom>
                <a:avLst/>
                <a:gdLst/>
                <a:ahLst/>
                <a:rect l="l" t="t" r="r" b="b"/>
                <a:pathLst>
                  <a:path w="1129" h="1080">
                    <a:moveTo>
                      <a:pt x="57" y="213"/>
                    </a:moveTo>
                    <a:lnTo>
                      <a:pt x="51" y="196"/>
                    </a:lnTo>
                    <a:lnTo>
                      <a:pt x="57" y="173"/>
                    </a:lnTo>
                    <a:lnTo>
                      <a:pt x="88" y="118"/>
                    </a:lnTo>
                    <a:lnTo>
                      <a:pt x="72" y="106"/>
                    </a:lnTo>
                    <a:lnTo>
                      <a:pt x="78" y="89"/>
                    </a:lnTo>
                    <a:lnTo>
                      <a:pt x="61" y="85"/>
                    </a:lnTo>
                    <a:lnTo>
                      <a:pt x="61" y="62"/>
                    </a:lnTo>
                    <a:lnTo>
                      <a:pt x="72" y="45"/>
                    </a:lnTo>
                    <a:lnTo>
                      <a:pt x="124" y="29"/>
                    </a:lnTo>
                    <a:lnTo>
                      <a:pt x="166" y="33"/>
                    </a:lnTo>
                    <a:lnTo>
                      <a:pt x="170" y="17"/>
                    </a:lnTo>
                    <a:lnTo>
                      <a:pt x="201" y="0"/>
                    </a:lnTo>
                    <a:lnTo>
                      <a:pt x="217" y="6"/>
                    </a:lnTo>
                    <a:lnTo>
                      <a:pt x="252" y="56"/>
                    </a:lnTo>
                    <a:lnTo>
                      <a:pt x="310" y="85"/>
                    </a:lnTo>
                    <a:lnTo>
                      <a:pt x="361" y="85"/>
                    </a:lnTo>
                    <a:lnTo>
                      <a:pt x="375" y="89"/>
                    </a:lnTo>
                    <a:lnTo>
                      <a:pt x="514" y="173"/>
                    </a:lnTo>
                    <a:lnTo>
                      <a:pt x="555" y="179"/>
                    </a:lnTo>
                    <a:lnTo>
                      <a:pt x="586" y="213"/>
                    </a:lnTo>
                    <a:lnTo>
                      <a:pt x="632" y="201"/>
                    </a:lnTo>
                    <a:lnTo>
                      <a:pt x="659" y="219"/>
                    </a:lnTo>
                    <a:lnTo>
                      <a:pt x="685" y="246"/>
                    </a:lnTo>
                    <a:lnTo>
                      <a:pt x="716" y="246"/>
                    </a:lnTo>
                    <a:lnTo>
                      <a:pt x="737" y="252"/>
                    </a:lnTo>
                    <a:lnTo>
                      <a:pt x="747" y="262"/>
                    </a:lnTo>
                    <a:lnTo>
                      <a:pt x="737" y="279"/>
                    </a:lnTo>
                    <a:lnTo>
                      <a:pt x="737" y="301"/>
                    </a:lnTo>
                    <a:lnTo>
                      <a:pt x="819" y="363"/>
                    </a:lnTo>
                    <a:lnTo>
                      <a:pt x="866" y="402"/>
                    </a:lnTo>
                    <a:lnTo>
                      <a:pt x="886" y="396"/>
                    </a:lnTo>
                    <a:lnTo>
                      <a:pt x="912" y="390"/>
                    </a:lnTo>
                    <a:lnTo>
                      <a:pt x="990" y="430"/>
                    </a:lnTo>
                    <a:lnTo>
                      <a:pt x="1000" y="458"/>
                    </a:lnTo>
                    <a:lnTo>
                      <a:pt x="1011" y="469"/>
                    </a:lnTo>
                    <a:lnTo>
                      <a:pt x="1036" y="475"/>
                    </a:lnTo>
                    <a:lnTo>
                      <a:pt x="1051" y="485"/>
                    </a:lnTo>
                    <a:lnTo>
                      <a:pt x="1072" y="485"/>
                    </a:lnTo>
                    <a:lnTo>
                      <a:pt x="1093" y="485"/>
                    </a:lnTo>
                    <a:lnTo>
                      <a:pt x="1114" y="491"/>
                    </a:lnTo>
                    <a:lnTo>
                      <a:pt x="1120" y="485"/>
                    </a:lnTo>
                    <a:lnTo>
                      <a:pt x="1129" y="508"/>
                    </a:lnTo>
                    <a:lnTo>
                      <a:pt x="1129" y="536"/>
                    </a:lnTo>
                    <a:lnTo>
                      <a:pt x="1114" y="553"/>
                    </a:lnTo>
                    <a:lnTo>
                      <a:pt x="1032" y="618"/>
                    </a:lnTo>
                    <a:lnTo>
                      <a:pt x="995" y="618"/>
                    </a:lnTo>
                    <a:lnTo>
                      <a:pt x="892" y="645"/>
                    </a:lnTo>
                    <a:lnTo>
                      <a:pt x="856" y="651"/>
                    </a:lnTo>
                    <a:lnTo>
                      <a:pt x="856" y="684"/>
                    </a:lnTo>
                    <a:lnTo>
                      <a:pt x="835" y="684"/>
                    </a:lnTo>
                    <a:lnTo>
                      <a:pt x="814" y="701"/>
                    </a:lnTo>
                    <a:lnTo>
                      <a:pt x="793" y="729"/>
                    </a:lnTo>
                    <a:lnTo>
                      <a:pt x="772" y="750"/>
                    </a:lnTo>
                    <a:lnTo>
                      <a:pt x="747" y="756"/>
                    </a:lnTo>
                    <a:lnTo>
                      <a:pt x="726" y="785"/>
                    </a:lnTo>
                    <a:lnTo>
                      <a:pt x="726" y="824"/>
                    </a:lnTo>
                    <a:lnTo>
                      <a:pt x="741" y="845"/>
                    </a:lnTo>
                    <a:lnTo>
                      <a:pt x="747" y="862"/>
                    </a:lnTo>
                    <a:lnTo>
                      <a:pt x="747" y="890"/>
                    </a:lnTo>
                    <a:lnTo>
                      <a:pt x="741" y="901"/>
                    </a:lnTo>
                    <a:lnTo>
                      <a:pt x="720" y="907"/>
                    </a:lnTo>
                    <a:lnTo>
                      <a:pt x="690" y="936"/>
                    </a:lnTo>
                    <a:lnTo>
                      <a:pt x="649" y="975"/>
                    </a:lnTo>
                    <a:lnTo>
                      <a:pt x="632" y="991"/>
                    </a:lnTo>
                    <a:lnTo>
                      <a:pt x="623" y="1002"/>
                    </a:lnTo>
                    <a:lnTo>
                      <a:pt x="623" y="1018"/>
                    </a:lnTo>
                    <a:lnTo>
                      <a:pt x="576" y="1018"/>
                    </a:lnTo>
                    <a:lnTo>
                      <a:pt x="550" y="1024"/>
                    </a:lnTo>
                    <a:lnTo>
                      <a:pt x="529" y="1030"/>
                    </a:lnTo>
                    <a:lnTo>
                      <a:pt x="519" y="1041"/>
                    </a:lnTo>
                    <a:lnTo>
                      <a:pt x="504" y="1064"/>
                    </a:lnTo>
                    <a:lnTo>
                      <a:pt x="477" y="1074"/>
                    </a:lnTo>
                    <a:lnTo>
                      <a:pt x="462" y="1074"/>
                    </a:lnTo>
                    <a:lnTo>
                      <a:pt x="431" y="1070"/>
                    </a:lnTo>
                    <a:lnTo>
                      <a:pt x="379" y="1064"/>
                    </a:lnTo>
                    <a:lnTo>
                      <a:pt x="289" y="1024"/>
                    </a:lnTo>
                    <a:lnTo>
                      <a:pt x="252" y="1018"/>
                    </a:lnTo>
                    <a:lnTo>
                      <a:pt x="217" y="1030"/>
                    </a:lnTo>
                    <a:lnTo>
                      <a:pt x="191" y="1047"/>
                    </a:lnTo>
                    <a:lnTo>
                      <a:pt x="160" y="1052"/>
                    </a:lnTo>
                    <a:lnTo>
                      <a:pt x="134" y="1070"/>
                    </a:lnTo>
                    <a:lnTo>
                      <a:pt x="118" y="1080"/>
                    </a:lnTo>
                    <a:lnTo>
                      <a:pt x="61" y="1014"/>
                    </a:lnTo>
                    <a:lnTo>
                      <a:pt x="61" y="919"/>
                    </a:lnTo>
                    <a:lnTo>
                      <a:pt x="36" y="884"/>
                    </a:lnTo>
                    <a:lnTo>
                      <a:pt x="5" y="857"/>
                    </a:lnTo>
                    <a:lnTo>
                      <a:pt x="0" y="841"/>
                    </a:lnTo>
                    <a:lnTo>
                      <a:pt x="0" y="806"/>
                    </a:lnTo>
                    <a:lnTo>
                      <a:pt x="15" y="789"/>
                    </a:lnTo>
                    <a:lnTo>
                      <a:pt x="57" y="773"/>
                    </a:lnTo>
                    <a:lnTo>
                      <a:pt x="67" y="762"/>
                    </a:lnTo>
                    <a:lnTo>
                      <a:pt x="51" y="740"/>
                    </a:lnTo>
                    <a:lnTo>
                      <a:pt x="46" y="701"/>
                    </a:lnTo>
                    <a:lnTo>
                      <a:pt x="61" y="667"/>
                    </a:lnTo>
                    <a:lnTo>
                      <a:pt x="93" y="634"/>
                    </a:lnTo>
                    <a:lnTo>
                      <a:pt x="93" y="609"/>
                    </a:lnTo>
                    <a:lnTo>
                      <a:pt x="82" y="586"/>
                    </a:lnTo>
                    <a:lnTo>
                      <a:pt x="93" y="547"/>
                    </a:lnTo>
                    <a:lnTo>
                      <a:pt x="97" y="542"/>
                    </a:lnTo>
                    <a:lnTo>
                      <a:pt x="113" y="542"/>
                    </a:lnTo>
                    <a:lnTo>
                      <a:pt x="124" y="559"/>
                    </a:lnTo>
                    <a:lnTo>
                      <a:pt x="139" y="536"/>
                    </a:lnTo>
                    <a:lnTo>
                      <a:pt x="145" y="475"/>
                    </a:lnTo>
                    <a:lnTo>
                      <a:pt x="185" y="436"/>
                    </a:lnTo>
                    <a:lnTo>
                      <a:pt x="185" y="413"/>
                    </a:lnTo>
                    <a:lnTo>
                      <a:pt x="185" y="396"/>
                    </a:lnTo>
                    <a:lnTo>
                      <a:pt x="227" y="369"/>
                    </a:lnTo>
                    <a:lnTo>
                      <a:pt x="258" y="363"/>
                    </a:lnTo>
                    <a:lnTo>
                      <a:pt x="269" y="351"/>
                    </a:lnTo>
                    <a:lnTo>
                      <a:pt x="243" y="324"/>
                    </a:lnTo>
                    <a:lnTo>
                      <a:pt x="222" y="279"/>
                    </a:lnTo>
                    <a:lnTo>
                      <a:pt x="212" y="268"/>
                    </a:lnTo>
                    <a:lnTo>
                      <a:pt x="181" y="285"/>
                    </a:lnTo>
                    <a:lnTo>
                      <a:pt x="160" y="274"/>
                    </a:lnTo>
                    <a:lnTo>
                      <a:pt x="129" y="262"/>
                    </a:lnTo>
                    <a:lnTo>
                      <a:pt x="118" y="268"/>
                    </a:lnTo>
                    <a:lnTo>
                      <a:pt x="109" y="256"/>
                    </a:lnTo>
                    <a:lnTo>
                      <a:pt x="109" y="235"/>
                    </a:lnTo>
                    <a:lnTo>
                      <a:pt x="93" y="213"/>
                    </a:lnTo>
                    <a:lnTo>
                      <a:pt x="82" y="207"/>
                    </a:lnTo>
                    <a:lnTo>
                      <a:pt x="57" y="21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986520" y="611064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0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11" y="34"/>
                    </a:lnTo>
                    <a:lnTo>
                      <a:pt x="32" y="3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75080" y="6051960"/>
                <a:ext cx="70200" cy="5868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2" y="0"/>
                    </a:moveTo>
                    <a:lnTo>
                      <a:pt x="62" y="11"/>
                    </a:lnTo>
                    <a:lnTo>
                      <a:pt x="21" y="17"/>
                    </a:lnTo>
                    <a:lnTo>
                      <a:pt x="0" y="45"/>
                    </a:lnTo>
                    <a:lnTo>
                      <a:pt x="30" y="68"/>
                    </a:lnTo>
                    <a:lnTo>
                      <a:pt x="47" y="84"/>
                    </a:lnTo>
                    <a:lnTo>
                      <a:pt x="78" y="78"/>
                    </a:lnTo>
                    <a:lnTo>
                      <a:pt x="99" y="68"/>
                    </a:lnTo>
                    <a:lnTo>
                      <a:pt x="93" y="45"/>
                    </a:lnTo>
                    <a:lnTo>
                      <a:pt x="78" y="2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84880" y="60559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1" y="0"/>
                    </a:moveTo>
                    <a:lnTo>
                      <a:pt x="0" y="11"/>
                    </a:lnTo>
                    <a:lnTo>
                      <a:pt x="16" y="27"/>
                    </a:lnTo>
                    <a:lnTo>
                      <a:pt x="32" y="4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445520" y="5505480"/>
              <a:ext cx="722520" cy="980640"/>
              <a:chOff x="7445520" y="5505480"/>
              <a:chExt cx="722520" cy="980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470720" y="6023520"/>
                <a:ext cx="116640" cy="204480"/>
              </a:xfrm>
              <a:custGeom>
                <a:avLst/>
                <a:gdLst/>
                <a:ahLst/>
                <a:rect l="l" t="t" r="r" b="b"/>
                <a:pathLst>
                  <a:path w="165" h="291">
                    <a:moveTo>
                      <a:pt x="98" y="0"/>
                    </a:moveTo>
                    <a:lnTo>
                      <a:pt x="72" y="16"/>
                    </a:lnTo>
                    <a:lnTo>
                      <a:pt x="52" y="33"/>
                    </a:lnTo>
                    <a:lnTo>
                      <a:pt x="31" y="39"/>
                    </a:lnTo>
                    <a:lnTo>
                      <a:pt x="0" y="33"/>
                    </a:lnTo>
                    <a:lnTo>
                      <a:pt x="5" y="68"/>
                    </a:lnTo>
                    <a:lnTo>
                      <a:pt x="21" y="89"/>
                    </a:lnTo>
                    <a:lnTo>
                      <a:pt x="15" y="146"/>
                    </a:lnTo>
                    <a:lnTo>
                      <a:pt x="15" y="173"/>
                    </a:lnTo>
                    <a:lnTo>
                      <a:pt x="21" y="196"/>
                    </a:lnTo>
                    <a:lnTo>
                      <a:pt x="5" y="241"/>
                    </a:lnTo>
                    <a:lnTo>
                      <a:pt x="10" y="274"/>
                    </a:lnTo>
                    <a:lnTo>
                      <a:pt x="31" y="291"/>
                    </a:lnTo>
                    <a:lnTo>
                      <a:pt x="61" y="268"/>
                    </a:lnTo>
                    <a:lnTo>
                      <a:pt x="72" y="262"/>
                    </a:lnTo>
                    <a:lnTo>
                      <a:pt x="103" y="268"/>
                    </a:lnTo>
                    <a:lnTo>
                      <a:pt x="124" y="245"/>
                    </a:lnTo>
                    <a:lnTo>
                      <a:pt x="124" y="223"/>
                    </a:lnTo>
                    <a:lnTo>
                      <a:pt x="149" y="179"/>
                    </a:lnTo>
                    <a:lnTo>
                      <a:pt x="159" y="151"/>
                    </a:lnTo>
                    <a:lnTo>
                      <a:pt x="149" y="123"/>
                    </a:lnTo>
                    <a:lnTo>
                      <a:pt x="165" y="89"/>
                    </a:lnTo>
                    <a:lnTo>
                      <a:pt x="155" y="39"/>
                    </a:lnTo>
                    <a:lnTo>
                      <a:pt x="149" y="1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40360" y="6341760"/>
                <a:ext cx="212040" cy="144360"/>
              </a:xfrm>
              <a:custGeom>
                <a:avLst/>
                <a:gdLst/>
                <a:ahLst/>
                <a:rect l="l" t="t" r="r" b="b"/>
                <a:pathLst>
                  <a:path w="301" h="205">
                    <a:moveTo>
                      <a:pt x="286" y="0"/>
                    </a:moveTo>
                    <a:lnTo>
                      <a:pt x="301" y="17"/>
                    </a:lnTo>
                    <a:lnTo>
                      <a:pt x="291" y="33"/>
                    </a:lnTo>
                    <a:lnTo>
                      <a:pt x="280" y="60"/>
                    </a:lnTo>
                    <a:lnTo>
                      <a:pt x="265" y="77"/>
                    </a:lnTo>
                    <a:lnTo>
                      <a:pt x="270" y="128"/>
                    </a:lnTo>
                    <a:lnTo>
                      <a:pt x="280" y="166"/>
                    </a:lnTo>
                    <a:lnTo>
                      <a:pt x="254" y="182"/>
                    </a:lnTo>
                    <a:lnTo>
                      <a:pt x="250" y="199"/>
                    </a:lnTo>
                    <a:lnTo>
                      <a:pt x="229" y="205"/>
                    </a:lnTo>
                    <a:lnTo>
                      <a:pt x="198" y="172"/>
                    </a:lnTo>
                    <a:lnTo>
                      <a:pt x="177" y="172"/>
                    </a:lnTo>
                    <a:lnTo>
                      <a:pt x="160" y="145"/>
                    </a:lnTo>
                    <a:lnTo>
                      <a:pt x="129" y="128"/>
                    </a:lnTo>
                    <a:lnTo>
                      <a:pt x="108" y="122"/>
                    </a:lnTo>
                    <a:lnTo>
                      <a:pt x="88" y="112"/>
                    </a:lnTo>
                    <a:lnTo>
                      <a:pt x="67" y="94"/>
                    </a:lnTo>
                    <a:lnTo>
                      <a:pt x="30" y="66"/>
                    </a:lnTo>
                    <a:lnTo>
                      <a:pt x="15" y="60"/>
                    </a:lnTo>
                    <a:lnTo>
                      <a:pt x="0" y="44"/>
                    </a:lnTo>
                    <a:lnTo>
                      <a:pt x="0" y="23"/>
                    </a:lnTo>
                    <a:lnTo>
                      <a:pt x="5" y="6"/>
                    </a:lnTo>
                    <a:lnTo>
                      <a:pt x="36" y="11"/>
                    </a:lnTo>
                    <a:lnTo>
                      <a:pt x="83" y="11"/>
                    </a:lnTo>
                    <a:lnTo>
                      <a:pt x="93" y="27"/>
                    </a:lnTo>
                    <a:lnTo>
                      <a:pt x="145" y="27"/>
                    </a:lnTo>
                    <a:lnTo>
                      <a:pt x="181" y="27"/>
                    </a:lnTo>
                    <a:lnTo>
                      <a:pt x="229" y="17"/>
                    </a:lnTo>
                    <a:lnTo>
                      <a:pt x="286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45520" y="5505480"/>
                <a:ext cx="722520" cy="875520"/>
              </a:xfrm>
              <a:custGeom>
                <a:avLst/>
                <a:gdLst/>
                <a:ahLst/>
                <a:rect l="l" t="t" r="r" b="b"/>
                <a:pathLst>
                  <a:path w="1026" h="1249">
                    <a:moveTo>
                      <a:pt x="744" y="1232"/>
                    </a:moveTo>
                    <a:lnTo>
                      <a:pt x="759" y="1249"/>
                    </a:lnTo>
                    <a:lnTo>
                      <a:pt x="786" y="1232"/>
                    </a:lnTo>
                    <a:lnTo>
                      <a:pt x="817" y="1187"/>
                    </a:lnTo>
                    <a:lnTo>
                      <a:pt x="832" y="1121"/>
                    </a:lnTo>
                    <a:lnTo>
                      <a:pt x="847" y="1115"/>
                    </a:lnTo>
                    <a:lnTo>
                      <a:pt x="858" y="1125"/>
                    </a:lnTo>
                    <a:lnTo>
                      <a:pt x="879" y="1104"/>
                    </a:lnTo>
                    <a:lnTo>
                      <a:pt x="874" y="1076"/>
                    </a:lnTo>
                    <a:lnTo>
                      <a:pt x="884" y="1053"/>
                    </a:lnTo>
                    <a:lnTo>
                      <a:pt x="879" y="1043"/>
                    </a:lnTo>
                    <a:lnTo>
                      <a:pt x="853" y="1020"/>
                    </a:lnTo>
                    <a:lnTo>
                      <a:pt x="843" y="1020"/>
                    </a:lnTo>
                    <a:lnTo>
                      <a:pt x="847" y="1008"/>
                    </a:lnTo>
                    <a:lnTo>
                      <a:pt x="828" y="1014"/>
                    </a:lnTo>
                    <a:lnTo>
                      <a:pt x="817" y="1003"/>
                    </a:lnTo>
                    <a:lnTo>
                      <a:pt x="817" y="991"/>
                    </a:lnTo>
                    <a:lnTo>
                      <a:pt x="847" y="970"/>
                    </a:lnTo>
                    <a:lnTo>
                      <a:pt x="863" y="948"/>
                    </a:lnTo>
                    <a:lnTo>
                      <a:pt x="863" y="913"/>
                    </a:lnTo>
                    <a:lnTo>
                      <a:pt x="879" y="909"/>
                    </a:lnTo>
                    <a:lnTo>
                      <a:pt x="931" y="936"/>
                    </a:lnTo>
                    <a:lnTo>
                      <a:pt x="951" y="942"/>
                    </a:lnTo>
                    <a:lnTo>
                      <a:pt x="977" y="981"/>
                    </a:lnTo>
                    <a:lnTo>
                      <a:pt x="987" y="1003"/>
                    </a:lnTo>
                    <a:lnTo>
                      <a:pt x="1002" y="1003"/>
                    </a:lnTo>
                    <a:lnTo>
                      <a:pt x="1018" y="981"/>
                    </a:lnTo>
                    <a:lnTo>
                      <a:pt x="1026" y="958"/>
                    </a:lnTo>
                    <a:lnTo>
                      <a:pt x="1008" y="919"/>
                    </a:lnTo>
                    <a:lnTo>
                      <a:pt x="987" y="897"/>
                    </a:lnTo>
                    <a:lnTo>
                      <a:pt x="967" y="897"/>
                    </a:lnTo>
                    <a:lnTo>
                      <a:pt x="967" y="892"/>
                    </a:lnTo>
                    <a:lnTo>
                      <a:pt x="956" y="892"/>
                    </a:lnTo>
                    <a:lnTo>
                      <a:pt x="905" y="835"/>
                    </a:lnTo>
                    <a:lnTo>
                      <a:pt x="879" y="841"/>
                    </a:lnTo>
                    <a:lnTo>
                      <a:pt x="847" y="797"/>
                    </a:lnTo>
                    <a:lnTo>
                      <a:pt x="828" y="791"/>
                    </a:lnTo>
                    <a:lnTo>
                      <a:pt x="796" y="758"/>
                    </a:lnTo>
                    <a:lnTo>
                      <a:pt x="780" y="746"/>
                    </a:lnTo>
                    <a:lnTo>
                      <a:pt x="791" y="735"/>
                    </a:lnTo>
                    <a:lnTo>
                      <a:pt x="807" y="729"/>
                    </a:lnTo>
                    <a:lnTo>
                      <a:pt x="786" y="713"/>
                    </a:lnTo>
                    <a:lnTo>
                      <a:pt x="759" y="723"/>
                    </a:lnTo>
                    <a:lnTo>
                      <a:pt x="740" y="713"/>
                    </a:lnTo>
                    <a:lnTo>
                      <a:pt x="683" y="662"/>
                    </a:lnTo>
                    <a:lnTo>
                      <a:pt x="677" y="640"/>
                    </a:lnTo>
                    <a:lnTo>
                      <a:pt x="656" y="634"/>
                    </a:lnTo>
                    <a:lnTo>
                      <a:pt x="636" y="618"/>
                    </a:lnTo>
                    <a:lnTo>
                      <a:pt x="583" y="497"/>
                    </a:lnTo>
                    <a:lnTo>
                      <a:pt x="568" y="481"/>
                    </a:lnTo>
                    <a:lnTo>
                      <a:pt x="527" y="442"/>
                    </a:lnTo>
                    <a:lnTo>
                      <a:pt x="480" y="363"/>
                    </a:lnTo>
                    <a:lnTo>
                      <a:pt x="480" y="318"/>
                    </a:lnTo>
                    <a:lnTo>
                      <a:pt x="507" y="302"/>
                    </a:lnTo>
                    <a:lnTo>
                      <a:pt x="507" y="279"/>
                    </a:lnTo>
                    <a:lnTo>
                      <a:pt x="486" y="258"/>
                    </a:lnTo>
                    <a:lnTo>
                      <a:pt x="476" y="246"/>
                    </a:lnTo>
                    <a:lnTo>
                      <a:pt x="480" y="229"/>
                    </a:lnTo>
                    <a:lnTo>
                      <a:pt x="501" y="219"/>
                    </a:lnTo>
                    <a:lnTo>
                      <a:pt x="564" y="202"/>
                    </a:lnTo>
                    <a:lnTo>
                      <a:pt x="589" y="184"/>
                    </a:lnTo>
                    <a:lnTo>
                      <a:pt x="610" y="163"/>
                    </a:lnTo>
                    <a:lnTo>
                      <a:pt x="604" y="106"/>
                    </a:lnTo>
                    <a:lnTo>
                      <a:pt x="610" y="85"/>
                    </a:lnTo>
                    <a:lnTo>
                      <a:pt x="579" y="79"/>
                    </a:lnTo>
                    <a:lnTo>
                      <a:pt x="512" y="62"/>
                    </a:lnTo>
                    <a:lnTo>
                      <a:pt x="501" y="46"/>
                    </a:lnTo>
                    <a:lnTo>
                      <a:pt x="497" y="40"/>
                    </a:lnTo>
                    <a:lnTo>
                      <a:pt x="497" y="23"/>
                    </a:lnTo>
                    <a:lnTo>
                      <a:pt x="491" y="6"/>
                    </a:lnTo>
                    <a:lnTo>
                      <a:pt x="455" y="0"/>
                    </a:lnTo>
                    <a:lnTo>
                      <a:pt x="367" y="6"/>
                    </a:lnTo>
                    <a:lnTo>
                      <a:pt x="357" y="29"/>
                    </a:lnTo>
                    <a:lnTo>
                      <a:pt x="325" y="34"/>
                    </a:lnTo>
                    <a:lnTo>
                      <a:pt x="305" y="79"/>
                    </a:lnTo>
                    <a:lnTo>
                      <a:pt x="305" y="95"/>
                    </a:lnTo>
                    <a:lnTo>
                      <a:pt x="284" y="79"/>
                    </a:lnTo>
                    <a:lnTo>
                      <a:pt x="252" y="73"/>
                    </a:lnTo>
                    <a:lnTo>
                      <a:pt x="233" y="85"/>
                    </a:lnTo>
                    <a:lnTo>
                      <a:pt x="217" y="118"/>
                    </a:lnTo>
                    <a:lnTo>
                      <a:pt x="185" y="95"/>
                    </a:lnTo>
                    <a:lnTo>
                      <a:pt x="191" y="62"/>
                    </a:lnTo>
                    <a:lnTo>
                      <a:pt x="181" y="40"/>
                    </a:lnTo>
                    <a:lnTo>
                      <a:pt x="160" y="46"/>
                    </a:lnTo>
                    <a:lnTo>
                      <a:pt x="155" y="73"/>
                    </a:lnTo>
                    <a:lnTo>
                      <a:pt x="139" y="89"/>
                    </a:lnTo>
                    <a:lnTo>
                      <a:pt x="124" y="89"/>
                    </a:lnTo>
                    <a:lnTo>
                      <a:pt x="51" y="79"/>
                    </a:lnTo>
                    <a:lnTo>
                      <a:pt x="26" y="101"/>
                    </a:lnTo>
                    <a:lnTo>
                      <a:pt x="30" y="128"/>
                    </a:lnTo>
                    <a:lnTo>
                      <a:pt x="36" y="151"/>
                    </a:lnTo>
                    <a:lnTo>
                      <a:pt x="0" y="184"/>
                    </a:lnTo>
                    <a:lnTo>
                      <a:pt x="9" y="207"/>
                    </a:lnTo>
                    <a:lnTo>
                      <a:pt x="21" y="219"/>
                    </a:lnTo>
                    <a:lnTo>
                      <a:pt x="0" y="246"/>
                    </a:lnTo>
                    <a:lnTo>
                      <a:pt x="0" y="285"/>
                    </a:lnTo>
                    <a:lnTo>
                      <a:pt x="9" y="302"/>
                    </a:lnTo>
                    <a:lnTo>
                      <a:pt x="30" y="302"/>
                    </a:lnTo>
                    <a:lnTo>
                      <a:pt x="41" y="314"/>
                    </a:lnTo>
                    <a:lnTo>
                      <a:pt x="51" y="341"/>
                    </a:lnTo>
                    <a:lnTo>
                      <a:pt x="51" y="369"/>
                    </a:lnTo>
                    <a:lnTo>
                      <a:pt x="72" y="375"/>
                    </a:lnTo>
                    <a:lnTo>
                      <a:pt x="88" y="369"/>
                    </a:lnTo>
                    <a:lnTo>
                      <a:pt x="145" y="308"/>
                    </a:lnTo>
                    <a:lnTo>
                      <a:pt x="170" y="318"/>
                    </a:lnTo>
                    <a:lnTo>
                      <a:pt x="222" y="347"/>
                    </a:lnTo>
                    <a:lnTo>
                      <a:pt x="258" y="375"/>
                    </a:lnTo>
                    <a:lnTo>
                      <a:pt x="264" y="409"/>
                    </a:lnTo>
                    <a:lnTo>
                      <a:pt x="284" y="431"/>
                    </a:lnTo>
                    <a:lnTo>
                      <a:pt x="294" y="470"/>
                    </a:lnTo>
                    <a:lnTo>
                      <a:pt x="305" y="531"/>
                    </a:lnTo>
                    <a:lnTo>
                      <a:pt x="321" y="559"/>
                    </a:lnTo>
                    <a:lnTo>
                      <a:pt x="340" y="582"/>
                    </a:lnTo>
                    <a:lnTo>
                      <a:pt x="377" y="597"/>
                    </a:lnTo>
                    <a:lnTo>
                      <a:pt x="409" y="651"/>
                    </a:lnTo>
                    <a:lnTo>
                      <a:pt x="439" y="696"/>
                    </a:lnTo>
                    <a:lnTo>
                      <a:pt x="470" y="719"/>
                    </a:lnTo>
                    <a:lnTo>
                      <a:pt x="527" y="791"/>
                    </a:lnTo>
                    <a:lnTo>
                      <a:pt x="568" y="791"/>
                    </a:lnTo>
                    <a:lnTo>
                      <a:pt x="615" y="835"/>
                    </a:lnTo>
                    <a:lnTo>
                      <a:pt x="615" y="880"/>
                    </a:lnTo>
                    <a:lnTo>
                      <a:pt x="631" y="892"/>
                    </a:lnTo>
                    <a:lnTo>
                      <a:pt x="662" y="869"/>
                    </a:lnTo>
                    <a:lnTo>
                      <a:pt x="667" y="892"/>
                    </a:lnTo>
                    <a:lnTo>
                      <a:pt x="667" y="919"/>
                    </a:lnTo>
                    <a:lnTo>
                      <a:pt x="698" y="948"/>
                    </a:lnTo>
                    <a:lnTo>
                      <a:pt x="708" y="964"/>
                    </a:lnTo>
                    <a:lnTo>
                      <a:pt x="750" y="952"/>
                    </a:lnTo>
                    <a:lnTo>
                      <a:pt x="755" y="970"/>
                    </a:lnTo>
                    <a:lnTo>
                      <a:pt x="750" y="1008"/>
                    </a:lnTo>
                    <a:lnTo>
                      <a:pt x="770" y="1043"/>
                    </a:lnTo>
                    <a:lnTo>
                      <a:pt x="776" y="1070"/>
                    </a:lnTo>
                    <a:lnTo>
                      <a:pt x="786" y="1098"/>
                    </a:lnTo>
                    <a:lnTo>
                      <a:pt x="780" y="1121"/>
                    </a:lnTo>
                    <a:lnTo>
                      <a:pt x="759" y="1144"/>
                    </a:lnTo>
                    <a:lnTo>
                      <a:pt x="755" y="1171"/>
                    </a:lnTo>
                    <a:lnTo>
                      <a:pt x="740" y="1204"/>
                    </a:lnTo>
                    <a:lnTo>
                      <a:pt x="744" y="1232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7410600" y="5381640"/>
              <a:ext cx="291960" cy="204840"/>
            </a:xfrm>
            <a:custGeom>
              <a:avLst/>
              <a:gdLst/>
              <a:ahLst/>
              <a:rect l="l" t="t" r="r" b="b"/>
              <a:pathLst>
                <a:path w="415" h="292">
                  <a:moveTo>
                    <a:pt x="218" y="56"/>
                  </a:moveTo>
                  <a:lnTo>
                    <a:pt x="197" y="36"/>
                  </a:lnTo>
                  <a:lnTo>
                    <a:pt x="200" y="29"/>
                  </a:lnTo>
                  <a:lnTo>
                    <a:pt x="187" y="17"/>
                  </a:lnTo>
                  <a:lnTo>
                    <a:pt x="176" y="0"/>
                  </a:lnTo>
                  <a:lnTo>
                    <a:pt x="164" y="17"/>
                  </a:lnTo>
                  <a:lnTo>
                    <a:pt x="155" y="11"/>
                  </a:lnTo>
                  <a:lnTo>
                    <a:pt x="140" y="26"/>
                  </a:lnTo>
                  <a:lnTo>
                    <a:pt x="140" y="33"/>
                  </a:lnTo>
                  <a:lnTo>
                    <a:pt x="122" y="42"/>
                  </a:lnTo>
                  <a:lnTo>
                    <a:pt x="76" y="82"/>
                  </a:lnTo>
                  <a:lnTo>
                    <a:pt x="63" y="98"/>
                  </a:lnTo>
                  <a:lnTo>
                    <a:pt x="63" y="118"/>
                  </a:lnTo>
                  <a:lnTo>
                    <a:pt x="46" y="124"/>
                  </a:lnTo>
                  <a:lnTo>
                    <a:pt x="13" y="163"/>
                  </a:lnTo>
                  <a:lnTo>
                    <a:pt x="13" y="176"/>
                  </a:lnTo>
                  <a:lnTo>
                    <a:pt x="0" y="193"/>
                  </a:lnTo>
                  <a:lnTo>
                    <a:pt x="6" y="213"/>
                  </a:lnTo>
                  <a:lnTo>
                    <a:pt x="21" y="202"/>
                  </a:lnTo>
                  <a:lnTo>
                    <a:pt x="37" y="184"/>
                  </a:lnTo>
                  <a:lnTo>
                    <a:pt x="60" y="179"/>
                  </a:lnTo>
                  <a:lnTo>
                    <a:pt x="76" y="184"/>
                  </a:lnTo>
                  <a:lnTo>
                    <a:pt x="81" y="213"/>
                  </a:lnTo>
                  <a:lnTo>
                    <a:pt x="78" y="232"/>
                  </a:lnTo>
                  <a:lnTo>
                    <a:pt x="88" y="246"/>
                  </a:lnTo>
                  <a:lnTo>
                    <a:pt x="101" y="255"/>
                  </a:lnTo>
                  <a:lnTo>
                    <a:pt x="127" y="258"/>
                  </a:lnTo>
                  <a:lnTo>
                    <a:pt x="185" y="265"/>
                  </a:lnTo>
                  <a:lnTo>
                    <a:pt x="197" y="258"/>
                  </a:lnTo>
                  <a:lnTo>
                    <a:pt x="206" y="246"/>
                  </a:lnTo>
                  <a:lnTo>
                    <a:pt x="211" y="220"/>
                  </a:lnTo>
                  <a:lnTo>
                    <a:pt x="232" y="219"/>
                  </a:lnTo>
                  <a:lnTo>
                    <a:pt x="239" y="235"/>
                  </a:lnTo>
                  <a:lnTo>
                    <a:pt x="239" y="273"/>
                  </a:lnTo>
                  <a:lnTo>
                    <a:pt x="266" y="292"/>
                  </a:lnTo>
                  <a:lnTo>
                    <a:pt x="285" y="259"/>
                  </a:lnTo>
                  <a:lnTo>
                    <a:pt x="306" y="249"/>
                  </a:lnTo>
                  <a:lnTo>
                    <a:pt x="330" y="252"/>
                  </a:lnTo>
                  <a:lnTo>
                    <a:pt x="348" y="262"/>
                  </a:lnTo>
                  <a:lnTo>
                    <a:pt x="355" y="271"/>
                  </a:lnTo>
                  <a:lnTo>
                    <a:pt x="361" y="243"/>
                  </a:lnTo>
                  <a:lnTo>
                    <a:pt x="375" y="210"/>
                  </a:lnTo>
                  <a:lnTo>
                    <a:pt x="405" y="204"/>
                  </a:lnTo>
                  <a:lnTo>
                    <a:pt x="415" y="182"/>
                  </a:lnTo>
                  <a:lnTo>
                    <a:pt x="405" y="164"/>
                  </a:lnTo>
                  <a:lnTo>
                    <a:pt x="391" y="157"/>
                  </a:lnTo>
                  <a:lnTo>
                    <a:pt x="352" y="149"/>
                  </a:lnTo>
                  <a:lnTo>
                    <a:pt x="351" y="128"/>
                  </a:lnTo>
                  <a:lnTo>
                    <a:pt x="351" y="106"/>
                  </a:lnTo>
                  <a:lnTo>
                    <a:pt x="351" y="89"/>
                  </a:lnTo>
                  <a:lnTo>
                    <a:pt x="327" y="75"/>
                  </a:lnTo>
                  <a:lnTo>
                    <a:pt x="315" y="82"/>
                  </a:lnTo>
                  <a:lnTo>
                    <a:pt x="294" y="65"/>
                  </a:lnTo>
                  <a:lnTo>
                    <a:pt x="291" y="53"/>
                  </a:lnTo>
                  <a:lnTo>
                    <a:pt x="282" y="39"/>
                  </a:lnTo>
                  <a:lnTo>
                    <a:pt x="282" y="33"/>
                  </a:lnTo>
                  <a:lnTo>
                    <a:pt x="260" y="26"/>
                  </a:lnTo>
                  <a:lnTo>
                    <a:pt x="252" y="36"/>
                  </a:lnTo>
                  <a:lnTo>
                    <a:pt x="236" y="48"/>
                  </a:lnTo>
                  <a:lnTo>
                    <a:pt x="218" y="56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43880" y="5357880"/>
              <a:ext cx="444600" cy="217440"/>
            </a:xfrm>
            <a:custGeom>
              <a:avLst/>
              <a:gdLst/>
              <a:ahLst/>
              <a:rect l="l" t="t" r="r" b="b"/>
              <a:pathLst>
                <a:path w="631" h="310">
                  <a:moveTo>
                    <a:pt x="0" y="112"/>
                  </a:moveTo>
                  <a:lnTo>
                    <a:pt x="26" y="108"/>
                  </a:lnTo>
                  <a:lnTo>
                    <a:pt x="36" y="105"/>
                  </a:lnTo>
                  <a:lnTo>
                    <a:pt x="50" y="124"/>
                  </a:lnTo>
                  <a:lnTo>
                    <a:pt x="67" y="118"/>
                  </a:lnTo>
                  <a:lnTo>
                    <a:pt x="88" y="121"/>
                  </a:lnTo>
                  <a:lnTo>
                    <a:pt x="100" y="131"/>
                  </a:lnTo>
                  <a:lnTo>
                    <a:pt x="123" y="118"/>
                  </a:lnTo>
                  <a:lnTo>
                    <a:pt x="152" y="119"/>
                  </a:lnTo>
                  <a:lnTo>
                    <a:pt x="164" y="133"/>
                  </a:lnTo>
                  <a:lnTo>
                    <a:pt x="183" y="137"/>
                  </a:lnTo>
                  <a:lnTo>
                    <a:pt x="192" y="128"/>
                  </a:lnTo>
                  <a:lnTo>
                    <a:pt x="225" y="122"/>
                  </a:lnTo>
                  <a:lnTo>
                    <a:pt x="240" y="122"/>
                  </a:lnTo>
                  <a:lnTo>
                    <a:pt x="264" y="131"/>
                  </a:lnTo>
                  <a:lnTo>
                    <a:pt x="292" y="151"/>
                  </a:lnTo>
                  <a:lnTo>
                    <a:pt x="313" y="142"/>
                  </a:lnTo>
                  <a:lnTo>
                    <a:pt x="317" y="122"/>
                  </a:lnTo>
                  <a:lnTo>
                    <a:pt x="303" y="96"/>
                  </a:lnTo>
                  <a:lnTo>
                    <a:pt x="296" y="60"/>
                  </a:lnTo>
                  <a:lnTo>
                    <a:pt x="367" y="8"/>
                  </a:lnTo>
                  <a:lnTo>
                    <a:pt x="382" y="8"/>
                  </a:lnTo>
                  <a:lnTo>
                    <a:pt x="385" y="26"/>
                  </a:lnTo>
                  <a:lnTo>
                    <a:pt x="406" y="30"/>
                  </a:lnTo>
                  <a:lnTo>
                    <a:pt x="451" y="24"/>
                  </a:lnTo>
                  <a:lnTo>
                    <a:pt x="469" y="3"/>
                  </a:lnTo>
                  <a:lnTo>
                    <a:pt x="525" y="0"/>
                  </a:lnTo>
                  <a:lnTo>
                    <a:pt x="537" y="26"/>
                  </a:lnTo>
                  <a:lnTo>
                    <a:pt x="560" y="26"/>
                  </a:lnTo>
                  <a:lnTo>
                    <a:pt x="581" y="12"/>
                  </a:lnTo>
                  <a:lnTo>
                    <a:pt x="616" y="36"/>
                  </a:lnTo>
                  <a:lnTo>
                    <a:pt x="616" y="78"/>
                  </a:lnTo>
                  <a:lnTo>
                    <a:pt x="631" y="96"/>
                  </a:lnTo>
                  <a:lnTo>
                    <a:pt x="627" y="124"/>
                  </a:lnTo>
                  <a:lnTo>
                    <a:pt x="616" y="151"/>
                  </a:lnTo>
                  <a:lnTo>
                    <a:pt x="597" y="151"/>
                  </a:lnTo>
                  <a:lnTo>
                    <a:pt x="590" y="158"/>
                  </a:lnTo>
                  <a:lnTo>
                    <a:pt x="602" y="181"/>
                  </a:lnTo>
                  <a:lnTo>
                    <a:pt x="602" y="203"/>
                  </a:lnTo>
                  <a:lnTo>
                    <a:pt x="590" y="223"/>
                  </a:lnTo>
                  <a:lnTo>
                    <a:pt x="560" y="240"/>
                  </a:lnTo>
                  <a:lnTo>
                    <a:pt x="558" y="259"/>
                  </a:lnTo>
                  <a:lnTo>
                    <a:pt x="558" y="279"/>
                  </a:lnTo>
                  <a:lnTo>
                    <a:pt x="530" y="285"/>
                  </a:lnTo>
                  <a:lnTo>
                    <a:pt x="483" y="282"/>
                  </a:lnTo>
                  <a:lnTo>
                    <a:pt x="461" y="289"/>
                  </a:lnTo>
                  <a:lnTo>
                    <a:pt x="420" y="289"/>
                  </a:lnTo>
                  <a:lnTo>
                    <a:pt x="403" y="310"/>
                  </a:lnTo>
                  <a:lnTo>
                    <a:pt x="339" y="288"/>
                  </a:lnTo>
                  <a:lnTo>
                    <a:pt x="307" y="289"/>
                  </a:lnTo>
                  <a:lnTo>
                    <a:pt x="226" y="270"/>
                  </a:lnTo>
                  <a:lnTo>
                    <a:pt x="215" y="249"/>
                  </a:lnTo>
                  <a:lnTo>
                    <a:pt x="215" y="226"/>
                  </a:lnTo>
                  <a:lnTo>
                    <a:pt x="209" y="212"/>
                  </a:lnTo>
                  <a:lnTo>
                    <a:pt x="199" y="206"/>
                  </a:lnTo>
                  <a:lnTo>
                    <a:pt x="149" y="209"/>
                  </a:lnTo>
                  <a:lnTo>
                    <a:pt x="79" y="217"/>
                  </a:lnTo>
                  <a:lnTo>
                    <a:pt x="72" y="199"/>
                  </a:lnTo>
                  <a:lnTo>
                    <a:pt x="60" y="193"/>
                  </a:lnTo>
                  <a:lnTo>
                    <a:pt x="39" y="185"/>
                  </a:lnTo>
                  <a:lnTo>
                    <a:pt x="18" y="179"/>
                  </a:lnTo>
                  <a:lnTo>
                    <a:pt x="18" y="158"/>
                  </a:lnTo>
                  <a:lnTo>
                    <a:pt x="18" y="12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34480" y="5386320"/>
              <a:ext cx="412920" cy="268200"/>
            </a:xfrm>
            <a:custGeom>
              <a:avLst/>
              <a:gdLst/>
              <a:ahLst/>
              <a:rect l="l" t="t" r="r" b="b"/>
              <a:pathLst>
                <a:path w="586" h="383">
                  <a:moveTo>
                    <a:pt x="2" y="243"/>
                  </a:moveTo>
                  <a:lnTo>
                    <a:pt x="20" y="259"/>
                  </a:lnTo>
                  <a:lnTo>
                    <a:pt x="18" y="268"/>
                  </a:lnTo>
                  <a:lnTo>
                    <a:pt x="23" y="285"/>
                  </a:lnTo>
                  <a:lnTo>
                    <a:pt x="39" y="285"/>
                  </a:lnTo>
                  <a:lnTo>
                    <a:pt x="97" y="347"/>
                  </a:lnTo>
                  <a:lnTo>
                    <a:pt x="115" y="350"/>
                  </a:lnTo>
                  <a:lnTo>
                    <a:pt x="163" y="383"/>
                  </a:lnTo>
                  <a:lnTo>
                    <a:pt x="185" y="363"/>
                  </a:lnTo>
                  <a:lnTo>
                    <a:pt x="219" y="366"/>
                  </a:lnTo>
                  <a:lnTo>
                    <a:pt x="230" y="374"/>
                  </a:lnTo>
                  <a:lnTo>
                    <a:pt x="255" y="363"/>
                  </a:lnTo>
                  <a:lnTo>
                    <a:pt x="307" y="341"/>
                  </a:lnTo>
                  <a:lnTo>
                    <a:pt x="367" y="330"/>
                  </a:lnTo>
                  <a:lnTo>
                    <a:pt x="392" y="335"/>
                  </a:lnTo>
                  <a:lnTo>
                    <a:pt x="400" y="350"/>
                  </a:lnTo>
                  <a:lnTo>
                    <a:pt x="421" y="324"/>
                  </a:lnTo>
                  <a:lnTo>
                    <a:pt x="449" y="313"/>
                  </a:lnTo>
                  <a:lnTo>
                    <a:pt x="476" y="309"/>
                  </a:lnTo>
                  <a:lnTo>
                    <a:pt x="522" y="259"/>
                  </a:lnTo>
                  <a:lnTo>
                    <a:pt x="534" y="229"/>
                  </a:lnTo>
                  <a:lnTo>
                    <a:pt x="540" y="170"/>
                  </a:lnTo>
                  <a:lnTo>
                    <a:pt x="546" y="122"/>
                  </a:lnTo>
                  <a:lnTo>
                    <a:pt x="564" y="121"/>
                  </a:lnTo>
                  <a:lnTo>
                    <a:pt x="578" y="103"/>
                  </a:lnTo>
                  <a:lnTo>
                    <a:pt x="586" y="89"/>
                  </a:lnTo>
                  <a:lnTo>
                    <a:pt x="568" y="76"/>
                  </a:lnTo>
                  <a:lnTo>
                    <a:pt x="558" y="82"/>
                  </a:lnTo>
                  <a:lnTo>
                    <a:pt x="532" y="76"/>
                  </a:lnTo>
                  <a:lnTo>
                    <a:pt x="516" y="53"/>
                  </a:lnTo>
                  <a:lnTo>
                    <a:pt x="501" y="23"/>
                  </a:lnTo>
                  <a:lnTo>
                    <a:pt x="483" y="23"/>
                  </a:lnTo>
                  <a:lnTo>
                    <a:pt x="455" y="0"/>
                  </a:lnTo>
                  <a:lnTo>
                    <a:pt x="439" y="3"/>
                  </a:lnTo>
                  <a:lnTo>
                    <a:pt x="382" y="11"/>
                  </a:lnTo>
                  <a:lnTo>
                    <a:pt x="371" y="29"/>
                  </a:lnTo>
                  <a:lnTo>
                    <a:pt x="356" y="50"/>
                  </a:lnTo>
                  <a:lnTo>
                    <a:pt x="335" y="62"/>
                  </a:lnTo>
                  <a:lnTo>
                    <a:pt x="315" y="66"/>
                  </a:lnTo>
                  <a:lnTo>
                    <a:pt x="301" y="62"/>
                  </a:lnTo>
                  <a:lnTo>
                    <a:pt x="289" y="53"/>
                  </a:lnTo>
                  <a:lnTo>
                    <a:pt x="279" y="50"/>
                  </a:lnTo>
                  <a:lnTo>
                    <a:pt x="261" y="59"/>
                  </a:lnTo>
                  <a:lnTo>
                    <a:pt x="237" y="73"/>
                  </a:lnTo>
                  <a:lnTo>
                    <a:pt x="188" y="95"/>
                  </a:lnTo>
                  <a:lnTo>
                    <a:pt x="167" y="98"/>
                  </a:lnTo>
                  <a:lnTo>
                    <a:pt x="115" y="95"/>
                  </a:lnTo>
                  <a:lnTo>
                    <a:pt x="108" y="92"/>
                  </a:lnTo>
                  <a:lnTo>
                    <a:pt x="95" y="69"/>
                  </a:lnTo>
                  <a:lnTo>
                    <a:pt x="78" y="59"/>
                  </a:lnTo>
                  <a:lnTo>
                    <a:pt x="72" y="66"/>
                  </a:lnTo>
                  <a:lnTo>
                    <a:pt x="69" y="89"/>
                  </a:lnTo>
                  <a:lnTo>
                    <a:pt x="60" y="112"/>
                  </a:lnTo>
                  <a:lnTo>
                    <a:pt x="41" y="112"/>
                  </a:lnTo>
                  <a:lnTo>
                    <a:pt x="36" y="118"/>
                  </a:lnTo>
                  <a:lnTo>
                    <a:pt x="46" y="140"/>
                  </a:lnTo>
                  <a:lnTo>
                    <a:pt x="43" y="163"/>
                  </a:lnTo>
                  <a:lnTo>
                    <a:pt x="30" y="184"/>
                  </a:lnTo>
                  <a:lnTo>
                    <a:pt x="20" y="193"/>
                  </a:lnTo>
                  <a:lnTo>
                    <a:pt x="5" y="201"/>
                  </a:lnTo>
                  <a:lnTo>
                    <a:pt x="0" y="219"/>
                  </a:lnTo>
                  <a:lnTo>
                    <a:pt x="2" y="24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56640" y="5554440"/>
              <a:ext cx="195480" cy="12240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3" y="95"/>
                  </a:moveTo>
                  <a:lnTo>
                    <a:pt x="51" y="125"/>
                  </a:lnTo>
                  <a:lnTo>
                    <a:pt x="43" y="140"/>
                  </a:lnTo>
                  <a:lnTo>
                    <a:pt x="30" y="151"/>
                  </a:lnTo>
                  <a:lnTo>
                    <a:pt x="15" y="154"/>
                  </a:lnTo>
                  <a:lnTo>
                    <a:pt x="0" y="157"/>
                  </a:lnTo>
                  <a:lnTo>
                    <a:pt x="28" y="170"/>
                  </a:lnTo>
                  <a:lnTo>
                    <a:pt x="39" y="173"/>
                  </a:lnTo>
                  <a:lnTo>
                    <a:pt x="74" y="151"/>
                  </a:lnTo>
                  <a:lnTo>
                    <a:pt x="151" y="172"/>
                  </a:lnTo>
                  <a:lnTo>
                    <a:pt x="201" y="112"/>
                  </a:lnTo>
                  <a:lnTo>
                    <a:pt x="211" y="86"/>
                  </a:lnTo>
                  <a:lnTo>
                    <a:pt x="220" y="79"/>
                  </a:lnTo>
                  <a:lnTo>
                    <a:pt x="248" y="82"/>
                  </a:lnTo>
                  <a:lnTo>
                    <a:pt x="276" y="45"/>
                  </a:lnTo>
                  <a:lnTo>
                    <a:pt x="273" y="23"/>
                  </a:lnTo>
                  <a:lnTo>
                    <a:pt x="254" y="0"/>
                  </a:lnTo>
                  <a:lnTo>
                    <a:pt x="241" y="3"/>
                  </a:lnTo>
                  <a:lnTo>
                    <a:pt x="227" y="8"/>
                  </a:lnTo>
                  <a:lnTo>
                    <a:pt x="202" y="2"/>
                  </a:lnTo>
                  <a:lnTo>
                    <a:pt x="177" y="3"/>
                  </a:lnTo>
                  <a:lnTo>
                    <a:pt x="152" y="11"/>
                  </a:lnTo>
                  <a:lnTo>
                    <a:pt x="117" y="8"/>
                  </a:lnTo>
                  <a:lnTo>
                    <a:pt x="102" y="30"/>
                  </a:lnTo>
                  <a:lnTo>
                    <a:pt x="43" y="11"/>
                  </a:lnTo>
                  <a:lnTo>
                    <a:pt x="21" y="11"/>
                  </a:lnTo>
                  <a:lnTo>
                    <a:pt x="21" y="48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28320" y="5776920"/>
              <a:ext cx="376200" cy="295200"/>
            </a:xfrm>
            <a:custGeom>
              <a:avLst/>
              <a:gdLst/>
              <a:ahLst/>
              <a:rect l="l" t="t" r="r" b="b"/>
              <a:pathLst>
                <a:path w="534" h="422">
                  <a:moveTo>
                    <a:pt x="12" y="50"/>
                  </a:moveTo>
                  <a:lnTo>
                    <a:pt x="9" y="59"/>
                  </a:lnTo>
                  <a:lnTo>
                    <a:pt x="0" y="70"/>
                  </a:lnTo>
                  <a:lnTo>
                    <a:pt x="2" y="89"/>
                  </a:lnTo>
                  <a:lnTo>
                    <a:pt x="18" y="121"/>
                  </a:lnTo>
                  <a:lnTo>
                    <a:pt x="39" y="124"/>
                  </a:lnTo>
                  <a:lnTo>
                    <a:pt x="43" y="138"/>
                  </a:lnTo>
                  <a:lnTo>
                    <a:pt x="41" y="174"/>
                  </a:lnTo>
                  <a:lnTo>
                    <a:pt x="33" y="184"/>
                  </a:lnTo>
                  <a:lnTo>
                    <a:pt x="8" y="202"/>
                  </a:lnTo>
                  <a:lnTo>
                    <a:pt x="5" y="211"/>
                  </a:lnTo>
                  <a:lnTo>
                    <a:pt x="12" y="238"/>
                  </a:lnTo>
                  <a:lnTo>
                    <a:pt x="15" y="260"/>
                  </a:lnTo>
                  <a:lnTo>
                    <a:pt x="8" y="279"/>
                  </a:lnTo>
                  <a:lnTo>
                    <a:pt x="0" y="294"/>
                  </a:lnTo>
                  <a:lnTo>
                    <a:pt x="12" y="314"/>
                  </a:lnTo>
                  <a:lnTo>
                    <a:pt x="23" y="311"/>
                  </a:lnTo>
                  <a:lnTo>
                    <a:pt x="41" y="333"/>
                  </a:lnTo>
                  <a:lnTo>
                    <a:pt x="43" y="354"/>
                  </a:lnTo>
                  <a:lnTo>
                    <a:pt x="43" y="383"/>
                  </a:lnTo>
                  <a:lnTo>
                    <a:pt x="41" y="397"/>
                  </a:lnTo>
                  <a:lnTo>
                    <a:pt x="61" y="422"/>
                  </a:lnTo>
                  <a:lnTo>
                    <a:pt x="103" y="413"/>
                  </a:lnTo>
                  <a:lnTo>
                    <a:pt x="152" y="397"/>
                  </a:lnTo>
                  <a:lnTo>
                    <a:pt x="188" y="372"/>
                  </a:lnTo>
                  <a:lnTo>
                    <a:pt x="206" y="354"/>
                  </a:lnTo>
                  <a:lnTo>
                    <a:pt x="230" y="389"/>
                  </a:lnTo>
                  <a:lnTo>
                    <a:pt x="248" y="380"/>
                  </a:lnTo>
                  <a:lnTo>
                    <a:pt x="273" y="389"/>
                  </a:lnTo>
                  <a:lnTo>
                    <a:pt x="289" y="394"/>
                  </a:lnTo>
                  <a:lnTo>
                    <a:pt x="319" y="380"/>
                  </a:lnTo>
                  <a:lnTo>
                    <a:pt x="338" y="374"/>
                  </a:lnTo>
                  <a:lnTo>
                    <a:pt x="338" y="357"/>
                  </a:lnTo>
                  <a:lnTo>
                    <a:pt x="340" y="330"/>
                  </a:lnTo>
                  <a:lnTo>
                    <a:pt x="356" y="321"/>
                  </a:lnTo>
                  <a:lnTo>
                    <a:pt x="377" y="330"/>
                  </a:lnTo>
                  <a:lnTo>
                    <a:pt x="379" y="341"/>
                  </a:lnTo>
                  <a:lnTo>
                    <a:pt x="395" y="318"/>
                  </a:lnTo>
                  <a:lnTo>
                    <a:pt x="434" y="299"/>
                  </a:lnTo>
                  <a:lnTo>
                    <a:pt x="467" y="294"/>
                  </a:lnTo>
                  <a:lnTo>
                    <a:pt x="498" y="294"/>
                  </a:lnTo>
                  <a:lnTo>
                    <a:pt x="493" y="263"/>
                  </a:lnTo>
                  <a:lnTo>
                    <a:pt x="488" y="246"/>
                  </a:lnTo>
                  <a:lnTo>
                    <a:pt x="456" y="220"/>
                  </a:lnTo>
                  <a:lnTo>
                    <a:pt x="455" y="213"/>
                  </a:lnTo>
                  <a:lnTo>
                    <a:pt x="473" y="187"/>
                  </a:lnTo>
                  <a:lnTo>
                    <a:pt x="491" y="183"/>
                  </a:lnTo>
                  <a:lnTo>
                    <a:pt x="486" y="168"/>
                  </a:lnTo>
                  <a:lnTo>
                    <a:pt x="495" y="141"/>
                  </a:lnTo>
                  <a:lnTo>
                    <a:pt x="495" y="124"/>
                  </a:lnTo>
                  <a:lnTo>
                    <a:pt x="501" y="92"/>
                  </a:lnTo>
                  <a:lnTo>
                    <a:pt x="507" y="79"/>
                  </a:lnTo>
                  <a:lnTo>
                    <a:pt x="525" y="82"/>
                  </a:lnTo>
                  <a:lnTo>
                    <a:pt x="534" y="59"/>
                  </a:lnTo>
                  <a:lnTo>
                    <a:pt x="525" y="40"/>
                  </a:lnTo>
                  <a:lnTo>
                    <a:pt x="519" y="14"/>
                  </a:lnTo>
                  <a:lnTo>
                    <a:pt x="507" y="17"/>
                  </a:lnTo>
                  <a:lnTo>
                    <a:pt x="446" y="3"/>
                  </a:lnTo>
                  <a:lnTo>
                    <a:pt x="407" y="0"/>
                  </a:lnTo>
                  <a:lnTo>
                    <a:pt x="370" y="10"/>
                  </a:lnTo>
                  <a:lnTo>
                    <a:pt x="336" y="26"/>
                  </a:lnTo>
                  <a:lnTo>
                    <a:pt x="297" y="49"/>
                  </a:lnTo>
                  <a:lnTo>
                    <a:pt x="268" y="73"/>
                  </a:lnTo>
                  <a:lnTo>
                    <a:pt x="240" y="76"/>
                  </a:lnTo>
                  <a:lnTo>
                    <a:pt x="201" y="68"/>
                  </a:lnTo>
                  <a:lnTo>
                    <a:pt x="164" y="82"/>
                  </a:lnTo>
                  <a:lnTo>
                    <a:pt x="142" y="88"/>
                  </a:lnTo>
                  <a:lnTo>
                    <a:pt x="115" y="79"/>
                  </a:lnTo>
                  <a:lnTo>
                    <a:pt x="78" y="62"/>
                  </a:lnTo>
                  <a:lnTo>
                    <a:pt x="57" y="56"/>
                  </a:lnTo>
                  <a:lnTo>
                    <a:pt x="28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12320" y="5959440"/>
              <a:ext cx="144360" cy="262080"/>
            </a:xfrm>
            <a:custGeom>
              <a:avLst/>
              <a:gdLst/>
              <a:ahLst/>
              <a:rect l="l" t="t" r="r" b="b"/>
              <a:pathLst>
                <a:path w="207" h="374">
                  <a:moveTo>
                    <a:pt x="15" y="84"/>
                  </a:moveTo>
                  <a:lnTo>
                    <a:pt x="28" y="95"/>
                  </a:lnTo>
                  <a:lnTo>
                    <a:pt x="28" y="111"/>
                  </a:lnTo>
                  <a:lnTo>
                    <a:pt x="26" y="122"/>
                  </a:lnTo>
                  <a:lnTo>
                    <a:pt x="18" y="137"/>
                  </a:lnTo>
                  <a:lnTo>
                    <a:pt x="18" y="173"/>
                  </a:lnTo>
                  <a:lnTo>
                    <a:pt x="24" y="187"/>
                  </a:lnTo>
                  <a:lnTo>
                    <a:pt x="6" y="217"/>
                  </a:lnTo>
                  <a:lnTo>
                    <a:pt x="10" y="223"/>
                  </a:lnTo>
                  <a:lnTo>
                    <a:pt x="0" y="239"/>
                  </a:lnTo>
                  <a:lnTo>
                    <a:pt x="8" y="256"/>
                  </a:lnTo>
                  <a:lnTo>
                    <a:pt x="10" y="268"/>
                  </a:lnTo>
                  <a:lnTo>
                    <a:pt x="15" y="253"/>
                  </a:lnTo>
                  <a:lnTo>
                    <a:pt x="31" y="273"/>
                  </a:lnTo>
                  <a:lnTo>
                    <a:pt x="28" y="292"/>
                  </a:lnTo>
                  <a:lnTo>
                    <a:pt x="21" y="301"/>
                  </a:lnTo>
                  <a:lnTo>
                    <a:pt x="31" y="318"/>
                  </a:lnTo>
                  <a:lnTo>
                    <a:pt x="43" y="324"/>
                  </a:lnTo>
                  <a:lnTo>
                    <a:pt x="64" y="337"/>
                  </a:lnTo>
                  <a:lnTo>
                    <a:pt x="82" y="354"/>
                  </a:lnTo>
                  <a:lnTo>
                    <a:pt x="85" y="364"/>
                  </a:lnTo>
                  <a:lnTo>
                    <a:pt x="106" y="374"/>
                  </a:lnTo>
                  <a:lnTo>
                    <a:pt x="124" y="364"/>
                  </a:lnTo>
                  <a:lnTo>
                    <a:pt x="147" y="351"/>
                  </a:lnTo>
                  <a:lnTo>
                    <a:pt x="158" y="327"/>
                  </a:lnTo>
                  <a:lnTo>
                    <a:pt x="168" y="312"/>
                  </a:lnTo>
                  <a:lnTo>
                    <a:pt x="186" y="276"/>
                  </a:lnTo>
                  <a:lnTo>
                    <a:pt x="191" y="249"/>
                  </a:lnTo>
                  <a:lnTo>
                    <a:pt x="194" y="223"/>
                  </a:lnTo>
                  <a:lnTo>
                    <a:pt x="207" y="206"/>
                  </a:lnTo>
                  <a:lnTo>
                    <a:pt x="186" y="200"/>
                  </a:lnTo>
                  <a:lnTo>
                    <a:pt x="179" y="190"/>
                  </a:lnTo>
                  <a:lnTo>
                    <a:pt x="168" y="193"/>
                  </a:lnTo>
                  <a:lnTo>
                    <a:pt x="149" y="184"/>
                  </a:lnTo>
                  <a:lnTo>
                    <a:pt x="145" y="158"/>
                  </a:lnTo>
                  <a:lnTo>
                    <a:pt x="140" y="140"/>
                  </a:lnTo>
                  <a:lnTo>
                    <a:pt x="149" y="121"/>
                  </a:lnTo>
                  <a:lnTo>
                    <a:pt x="149" y="62"/>
                  </a:lnTo>
                  <a:lnTo>
                    <a:pt x="149" y="42"/>
                  </a:lnTo>
                  <a:lnTo>
                    <a:pt x="140" y="30"/>
                  </a:lnTo>
                  <a:lnTo>
                    <a:pt x="121" y="29"/>
                  </a:lnTo>
                  <a:lnTo>
                    <a:pt x="109" y="23"/>
                  </a:lnTo>
                  <a:lnTo>
                    <a:pt x="98" y="3"/>
                  </a:lnTo>
                  <a:lnTo>
                    <a:pt x="85" y="0"/>
                  </a:lnTo>
                  <a:lnTo>
                    <a:pt x="80" y="9"/>
                  </a:lnTo>
                  <a:lnTo>
                    <a:pt x="78" y="3"/>
                  </a:lnTo>
                  <a:lnTo>
                    <a:pt x="57" y="6"/>
                  </a:lnTo>
                  <a:lnTo>
                    <a:pt x="46" y="0"/>
                  </a:lnTo>
                  <a:lnTo>
                    <a:pt x="31" y="11"/>
                  </a:lnTo>
                  <a:lnTo>
                    <a:pt x="28" y="45"/>
                  </a:lnTo>
                  <a:lnTo>
                    <a:pt x="24" y="66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8520" y="5410080"/>
              <a:ext cx="538200" cy="425520"/>
            </a:xfrm>
            <a:custGeom>
              <a:avLst/>
              <a:gdLst/>
              <a:ahLst/>
              <a:rect l="l" t="t" r="r" b="b"/>
              <a:pathLst>
                <a:path w="767" h="606">
                  <a:moveTo>
                    <a:pt x="185" y="53"/>
                  </a:moveTo>
                  <a:lnTo>
                    <a:pt x="171" y="70"/>
                  </a:lnTo>
                  <a:lnTo>
                    <a:pt x="161" y="82"/>
                  </a:lnTo>
                  <a:lnTo>
                    <a:pt x="143" y="86"/>
                  </a:lnTo>
                  <a:lnTo>
                    <a:pt x="134" y="180"/>
                  </a:lnTo>
                  <a:lnTo>
                    <a:pt x="133" y="196"/>
                  </a:lnTo>
                  <a:lnTo>
                    <a:pt x="112" y="232"/>
                  </a:lnTo>
                  <a:lnTo>
                    <a:pt x="87" y="255"/>
                  </a:lnTo>
                  <a:lnTo>
                    <a:pt x="70" y="274"/>
                  </a:lnTo>
                  <a:lnTo>
                    <a:pt x="27" y="285"/>
                  </a:lnTo>
                  <a:lnTo>
                    <a:pt x="4" y="306"/>
                  </a:lnTo>
                  <a:lnTo>
                    <a:pt x="0" y="324"/>
                  </a:lnTo>
                  <a:lnTo>
                    <a:pt x="16" y="338"/>
                  </a:lnTo>
                  <a:lnTo>
                    <a:pt x="24" y="357"/>
                  </a:lnTo>
                  <a:lnTo>
                    <a:pt x="21" y="371"/>
                  </a:lnTo>
                  <a:lnTo>
                    <a:pt x="24" y="389"/>
                  </a:lnTo>
                  <a:lnTo>
                    <a:pt x="36" y="396"/>
                  </a:lnTo>
                  <a:lnTo>
                    <a:pt x="57" y="396"/>
                  </a:lnTo>
                  <a:lnTo>
                    <a:pt x="64" y="413"/>
                  </a:lnTo>
                  <a:lnTo>
                    <a:pt x="73" y="445"/>
                  </a:lnTo>
                  <a:lnTo>
                    <a:pt x="76" y="469"/>
                  </a:lnTo>
                  <a:lnTo>
                    <a:pt x="83" y="488"/>
                  </a:lnTo>
                  <a:lnTo>
                    <a:pt x="97" y="494"/>
                  </a:lnTo>
                  <a:lnTo>
                    <a:pt x="106" y="488"/>
                  </a:lnTo>
                  <a:lnTo>
                    <a:pt x="124" y="475"/>
                  </a:lnTo>
                  <a:lnTo>
                    <a:pt x="145" y="491"/>
                  </a:lnTo>
                  <a:lnTo>
                    <a:pt x="143" y="508"/>
                  </a:lnTo>
                  <a:lnTo>
                    <a:pt x="145" y="517"/>
                  </a:lnTo>
                  <a:lnTo>
                    <a:pt x="155" y="521"/>
                  </a:lnTo>
                  <a:lnTo>
                    <a:pt x="171" y="540"/>
                  </a:lnTo>
                  <a:lnTo>
                    <a:pt x="166" y="559"/>
                  </a:lnTo>
                  <a:lnTo>
                    <a:pt x="171" y="570"/>
                  </a:lnTo>
                  <a:lnTo>
                    <a:pt x="194" y="570"/>
                  </a:lnTo>
                  <a:lnTo>
                    <a:pt x="224" y="583"/>
                  </a:lnTo>
                  <a:lnTo>
                    <a:pt x="277" y="606"/>
                  </a:lnTo>
                  <a:lnTo>
                    <a:pt x="298" y="606"/>
                  </a:lnTo>
                  <a:lnTo>
                    <a:pt x="327" y="600"/>
                  </a:lnTo>
                  <a:lnTo>
                    <a:pt x="352" y="589"/>
                  </a:lnTo>
                  <a:lnTo>
                    <a:pt x="394" y="597"/>
                  </a:lnTo>
                  <a:lnTo>
                    <a:pt x="415" y="595"/>
                  </a:lnTo>
                  <a:lnTo>
                    <a:pt x="425" y="592"/>
                  </a:lnTo>
                  <a:lnTo>
                    <a:pt x="451" y="573"/>
                  </a:lnTo>
                  <a:lnTo>
                    <a:pt x="510" y="537"/>
                  </a:lnTo>
                  <a:lnTo>
                    <a:pt x="555" y="521"/>
                  </a:lnTo>
                  <a:lnTo>
                    <a:pt x="578" y="520"/>
                  </a:lnTo>
                  <a:lnTo>
                    <a:pt x="615" y="527"/>
                  </a:lnTo>
                  <a:lnTo>
                    <a:pt x="645" y="531"/>
                  </a:lnTo>
                  <a:lnTo>
                    <a:pt x="661" y="537"/>
                  </a:lnTo>
                  <a:lnTo>
                    <a:pt x="685" y="534"/>
                  </a:lnTo>
                  <a:lnTo>
                    <a:pt x="689" y="511"/>
                  </a:lnTo>
                  <a:lnTo>
                    <a:pt x="689" y="469"/>
                  </a:lnTo>
                  <a:lnTo>
                    <a:pt x="691" y="425"/>
                  </a:lnTo>
                  <a:lnTo>
                    <a:pt x="704" y="402"/>
                  </a:lnTo>
                  <a:lnTo>
                    <a:pt x="718" y="396"/>
                  </a:lnTo>
                  <a:lnTo>
                    <a:pt x="731" y="405"/>
                  </a:lnTo>
                  <a:lnTo>
                    <a:pt x="743" y="396"/>
                  </a:lnTo>
                  <a:lnTo>
                    <a:pt x="752" y="386"/>
                  </a:lnTo>
                  <a:lnTo>
                    <a:pt x="749" y="374"/>
                  </a:lnTo>
                  <a:lnTo>
                    <a:pt x="764" y="369"/>
                  </a:lnTo>
                  <a:lnTo>
                    <a:pt x="767" y="354"/>
                  </a:lnTo>
                  <a:lnTo>
                    <a:pt x="752" y="347"/>
                  </a:lnTo>
                  <a:lnTo>
                    <a:pt x="728" y="341"/>
                  </a:lnTo>
                  <a:lnTo>
                    <a:pt x="710" y="347"/>
                  </a:lnTo>
                  <a:lnTo>
                    <a:pt x="682" y="351"/>
                  </a:lnTo>
                  <a:lnTo>
                    <a:pt x="655" y="351"/>
                  </a:lnTo>
                  <a:lnTo>
                    <a:pt x="637" y="341"/>
                  </a:lnTo>
                  <a:lnTo>
                    <a:pt x="630" y="324"/>
                  </a:lnTo>
                  <a:lnTo>
                    <a:pt x="630" y="302"/>
                  </a:lnTo>
                  <a:lnTo>
                    <a:pt x="627" y="279"/>
                  </a:lnTo>
                  <a:lnTo>
                    <a:pt x="615" y="262"/>
                  </a:lnTo>
                  <a:lnTo>
                    <a:pt x="606" y="246"/>
                  </a:lnTo>
                  <a:lnTo>
                    <a:pt x="606" y="223"/>
                  </a:lnTo>
                  <a:lnTo>
                    <a:pt x="609" y="201"/>
                  </a:lnTo>
                  <a:lnTo>
                    <a:pt x="609" y="187"/>
                  </a:lnTo>
                  <a:lnTo>
                    <a:pt x="597" y="154"/>
                  </a:lnTo>
                  <a:lnTo>
                    <a:pt x="576" y="131"/>
                  </a:lnTo>
                  <a:lnTo>
                    <a:pt x="567" y="109"/>
                  </a:lnTo>
                  <a:lnTo>
                    <a:pt x="564" y="92"/>
                  </a:lnTo>
                  <a:lnTo>
                    <a:pt x="560" y="85"/>
                  </a:lnTo>
                  <a:lnTo>
                    <a:pt x="531" y="62"/>
                  </a:lnTo>
                  <a:lnTo>
                    <a:pt x="521" y="43"/>
                  </a:lnTo>
                  <a:lnTo>
                    <a:pt x="509" y="14"/>
                  </a:lnTo>
                  <a:lnTo>
                    <a:pt x="497" y="3"/>
                  </a:lnTo>
                  <a:lnTo>
                    <a:pt x="485" y="0"/>
                  </a:lnTo>
                  <a:lnTo>
                    <a:pt x="472" y="6"/>
                  </a:lnTo>
                  <a:lnTo>
                    <a:pt x="458" y="20"/>
                  </a:lnTo>
                  <a:lnTo>
                    <a:pt x="451" y="23"/>
                  </a:lnTo>
                  <a:lnTo>
                    <a:pt x="428" y="23"/>
                  </a:lnTo>
                  <a:lnTo>
                    <a:pt x="412" y="26"/>
                  </a:lnTo>
                  <a:lnTo>
                    <a:pt x="401" y="40"/>
                  </a:lnTo>
                  <a:lnTo>
                    <a:pt x="381" y="47"/>
                  </a:lnTo>
                  <a:lnTo>
                    <a:pt x="360" y="46"/>
                  </a:lnTo>
                  <a:lnTo>
                    <a:pt x="349" y="33"/>
                  </a:lnTo>
                  <a:lnTo>
                    <a:pt x="327" y="20"/>
                  </a:lnTo>
                  <a:lnTo>
                    <a:pt x="309" y="26"/>
                  </a:lnTo>
                  <a:lnTo>
                    <a:pt x="285" y="37"/>
                  </a:lnTo>
                  <a:lnTo>
                    <a:pt x="267" y="40"/>
                  </a:lnTo>
                  <a:lnTo>
                    <a:pt x="252" y="33"/>
                  </a:lnTo>
                  <a:lnTo>
                    <a:pt x="233" y="23"/>
                  </a:lnTo>
                  <a:lnTo>
                    <a:pt x="210" y="30"/>
                  </a:lnTo>
                  <a:lnTo>
                    <a:pt x="194" y="40"/>
                  </a:lnTo>
                  <a:lnTo>
                    <a:pt x="189" y="43"/>
                  </a:lnTo>
                  <a:lnTo>
                    <a:pt x="185" y="46"/>
                  </a:lnTo>
                  <a:lnTo>
                    <a:pt x="179" y="47"/>
                  </a:lnTo>
                  <a:lnTo>
                    <a:pt x="185" y="5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2320" y="5005440"/>
              <a:ext cx="206280" cy="19692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49"/>
                  </a:moveTo>
                  <a:lnTo>
                    <a:pt x="7" y="39"/>
                  </a:lnTo>
                  <a:lnTo>
                    <a:pt x="4" y="25"/>
                  </a:lnTo>
                  <a:lnTo>
                    <a:pt x="48" y="0"/>
                  </a:lnTo>
                  <a:lnTo>
                    <a:pt x="53" y="9"/>
                  </a:lnTo>
                  <a:lnTo>
                    <a:pt x="85" y="3"/>
                  </a:lnTo>
                  <a:lnTo>
                    <a:pt x="110" y="4"/>
                  </a:lnTo>
                  <a:lnTo>
                    <a:pt x="100" y="18"/>
                  </a:lnTo>
                  <a:lnTo>
                    <a:pt x="106" y="36"/>
                  </a:lnTo>
                  <a:lnTo>
                    <a:pt x="127" y="43"/>
                  </a:lnTo>
                  <a:lnTo>
                    <a:pt x="148" y="42"/>
                  </a:lnTo>
                  <a:lnTo>
                    <a:pt x="164" y="28"/>
                  </a:lnTo>
                  <a:lnTo>
                    <a:pt x="192" y="25"/>
                  </a:lnTo>
                  <a:lnTo>
                    <a:pt x="201" y="37"/>
                  </a:lnTo>
                  <a:lnTo>
                    <a:pt x="217" y="48"/>
                  </a:lnTo>
                  <a:lnTo>
                    <a:pt x="241" y="49"/>
                  </a:lnTo>
                  <a:lnTo>
                    <a:pt x="237" y="70"/>
                  </a:lnTo>
                  <a:lnTo>
                    <a:pt x="238" y="112"/>
                  </a:lnTo>
                  <a:lnTo>
                    <a:pt x="243" y="138"/>
                  </a:lnTo>
                  <a:lnTo>
                    <a:pt x="269" y="135"/>
                  </a:lnTo>
                  <a:lnTo>
                    <a:pt x="278" y="153"/>
                  </a:lnTo>
                  <a:lnTo>
                    <a:pt x="279" y="168"/>
                  </a:lnTo>
                  <a:lnTo>
                    <a:pt x="293" y="189"/>
                  </a:lnTo>
                  <a:lnTo>
                    <a:pt x="276" y="204"/>
                  </a:lnTo>
                  <a:lnTo>
                    <a:pt x="261" y="216"/>
                  </a:lnTo>
                  <a:lnTo>
                    <a:pt x="244" y="216"/>
                  </a:lnTo>
                  <a:lnTo>
                    <a:pt x="224" y="222"/>
                  </a:lnTo>
                  <a:lnTo>
                    <a:pt x="224" y="245"/>
                  </a:lnTo>
                  <a:lnTo>
                    <a:pt x="216" y="260"/>
                  </a:lnTo>
                  <a:lnTo>
                    <a:pt x="195" y="278"/>
                  </a:lnTo>
                  <a:lnTo>
                    <a:pt x="160" y="250"/>
                  </a:lnTo>
                  <a:lnTo>
                    <a:pt x="150" y="224"/>
                  </a:lnTo>
                  <a:lnTo>
                    <a:pt x="118" y="216"/>
                  </a:lnTo>
                  <a:lnTo>
                    <a:pt x="107" y="183"/>
                  </a:lnTo>
                  <a:lnTo>
                    <a:pt x="85" y="164"/>
                  </a:lnTo>
                  <a:lnTo>
                    <a:pt x="76" y="140"/>
                  </a:lnTo>
                  <a:lnTo>
                    <a:pt x="58" y="115"/>
                  </a:lnTo>
                  <a:lnTo>
                    <a:pt x="46" y="91"/>
                  </a:lnTo>
                  <a:lnTo>
                    <a:pt x="22" y="7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2000" y="5157720"/>
              <a:ext cx="56880" cy="745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58" y="107"/>
                  </a:moveTo>
                  <a:lnTo>
                    <a:pt x="62" y="73"/>
                  </a:lnTo>
                  <a:lnTo>
                    <a:pt x="80" y="59"/>
                  </a:lnTo>
                  <a:lnTo>
                    <a:pt x="80" y="43"/>
                  </a:lnTo>
                  <a:lnTo>
                    <a:pt x="70" y="31"/>
                  </a:lnTo>
                  <a:lnTo>
                    <a:pt x="60" y="14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24" y="6"/>
                  </a:lnTo>
                  <a:lnTo>
                    <a:pt x="24" y="29"/>
                  </a:lnTo>
                  <a:lnTo>
                    <a:pt x="13" y="49"/>
                  </a:lnTo>
                  <a:lnTo>
                    <a:pt x="0" y="55"/>
                  </a:lnTo>
                  <a:lnTo>
                    <a:pt x="6" y="71"/>
                  </a:lnTo>
                  <a:lnTo>
                    <a:pt x="23" y="76"/>
                  </a:lnTo>
                  <a:lnTo>
                    <a:pt x="39" y="80"/>
                  </a:lnTo>
                  <a:lnTo>
                    <a:pt x="49" y="91"/>
                  </a:lnTo>
                  <a:lnTo>
                    <a:pt x="58" y="10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83600" y="4862520"/>
              <a:ext cx="211320" cy="241200"/>
            </a:xfrm>
            <a:custGeom>
              <a:avLst/>
              <a:gdLst/>
              <a:ahLst/>
              <a:rect l="l" t="t" r="r" b="b"/>
              <a:pathLst>
                <a:path w="298" h="342">
                  <a:moveTo>
                    <a:pt x="124" y="9"/>
                  </a:moveTo>
                  <a:lnTo>
                    <a:pt x="93" y="50"/>
                  </a:lnTo>
                  <a:lnTo>
                    <a:pt x="93" y="62"/>
                  </a:lnTo>
                  <a:lnTo>
                    <a:pt x="75" y="82"/>
                  </a:lnTo>
                  <a:lnTo>
                    <a:pt x="78" y="86"/>
                  </a:lnTo>
                  <a:lnTo>
                    <a:pt x="72" y="100"/>
                  </a:lnTo>
                  <a:lnTo>
                    <a:pt x="54" y="119"/>
                  </a:lnTo>
                  <a:lnTo>
                    <a:pt x="36" y="142"/>
                  </a:lnTo>
                  <a:lnTo>
                    <a:pt x="29" y="154"/>
                  </a:lnTo>
                  <a:lnTo>
                    <a:pt x="36" y="164"/>
                  </a:lnTo>
                  <a:lnTo>
                    <a:pt x="30" y="181"/>
                  </a:lnTo>
                  <a:lnTo>
                    <a:pt x="21" y="194"/>
                  </a:lnTo>
                  <a:lnTo>
                    <a:pt x="12" y="201"/>
                  </a:lnTo>
                  <a:lnTo>
                    <a:pt x="0" y="217"/>
                  </a:lnTo>
                  <a:lnTo>
                    <a:pt x="1" y="234"/>
                  </a:lnTo>
                  <a:lnTo>
                    <a:pt x="15" y="243"/>
                  </a:lnTo>
                  <a:lnTo>
                    <a:pt x="48" y="243"/>
                  </a:lnTo>
                  <a:lnTo>
                    <a:pt x="68" y="231"/>
                  </a:lnTo>
                  <a:lnTo>
                    <a:pt x="88" y="228"/>
                  </a:lnTo>
                  <a:lnTo>
                    <a:pt x="103" y="243"/>
                  </a:lnTo>
                  <a:lnTo>
                    <a:pt x="118" y="250"/>
                  </a:lnTo>
                  <a:lnTo>
                    <a:pt x="139" y="253"/>
                  </a:lnTo>
                  <a:lnTo>
                    <a:pt x="134" y="279"/>
                  </a:lnTo>
                  <a:lnTo>
                    <a:pt x="141" y="342"/>
                  </a:lnTo>
                  <a:lnTo>
                    <a:pt x="159" y="341"/>
                  </a:lnTo>
                  <a:lnTo>
                    <a:pt x="170" y="339"/>
                  </a:lnTo>
                  <a:lnTo>
                    <a:pt x="174" y="321"/>
                  </a:lnTo>
                  <a:lnTo>
                    <a:pt x="177" y="283"/>
                  </a:lnTo>
                  <a:lnTo>
                    <a:pt x="191" y="264"/>
                  </a:lnTo>
                  <a:lnTo>
                    <a:pt x="191" y="231"/>
                  </a:lnTo>
                  <a:lnTo>
                    <a:pt x="202" y="211"/>
                  </a:lnTo>
                  <a:lnTo>
                    <a:pt x="224" y="201"/>
                  </a:lnTo>
                  <a:lnTo>
                    <a:pt x="268" y="148"/>
                  </a:lnTo>
                  <a:lnTo>
                    <a:pt x="273" y="125"/>
                  </a:lnTo>
                  <a:lnTo>
                    <a:pt x="266" y="89"/>
                  </a:lnTo>
                  <a:lnTo>
                    <a:pt x="294" y="65"/>
                  </a:lnTo>
                  <a:lnTo>
                    <a:pt x="298" y="24"/>
                  </a:lnTo>
                  <a:lnTo>
                    <a:pt x="279" y="6"/>
                  </a:lnTo>
                  <a:lnTo>
                    <a:pt x="266" y="3"/>
                  </a:lnTo>
                  <a:lnTo>
                    <a:pt x="243" y="0"/>
                  </a:lnTo>
                  <a:lnTo>
                    <a:pt x="191" y="0"/>
                  </a:lnTo>
                  <a:lnTo>
                    <a:pt x="176" y="14"/>
                  </a:lnTo>
                  <a:lnTo>
                    <a:pt x="163" y="30"/>
                  </a:lnTo>
                  <a:lnTo>
                    <a:pt x="166" y="45"/>
                  </a:lnTo>
                  <a:lnTo>
                    <a:pt x="184" y="59"/>
                  </a:lnTo>
                  <a:lnTo>
                    <a:pt x="196" y="75"/>
                  </a:lnTo>
                  <a:lnTo>
                    <a:pt x="196" y="98"/>
                  </a:lnTo>
                  <a:lnTo>
                    <a:pt x="176" y="115"/>
                  </a:lnTo>
                  <a:lnTo>
                    <a:pt x="155" y="119"/>
                  </a:lnTo>
                  <a:lnTo>
                    <a:pt x="139" y="122"/>
                  </a:lnTo>
                  <a:lnTo>
                    <a:pt x="132" y="109"/>
                  </a:lnTo>
                  <a:lnTo>
                    <a:pt x="127" y="89"/>
                  </a:lnTo>
                  <a:lnTo>
                    <a:pt x="136" y="72"/>
                  </a:lnTo>
                  <a:lnTo>
                    <a:pt x="134" y="53"/>
                  </a:lnTo>
                  <a:lnTo>
                    <a:pt x="132" y="33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67560" y="4486320"/>
              <a:ext cx="298440" cy="290520"/>
            </a:xfrm>
            <a:custGeom>
              <a:avLst/>
              <a:gdLst/>
              <a:ahLst/>
              <a:rect l="l" t="t" r="r" b="b"/>
              <a:pathLst>
                <a:path w="424" h="416">
                  <a:moveTo>
                    <a:pt x="157" y="157"/>
                  </a:moveTo>
                  <a:lnTo>
                    <a:pt x="151" y="173"/>
                  </a:lnTo>
                  <a:lnTo>
                    <a:pt x="157" y="196"/>
                  </a:lnTo>
                  <a:lnTo>
                    <a:pt x="148" y="209"/>
                  </a:lnTo>
                  <a:lnTo>
                    <a:pt x="136" y="200"/>
                  </a:lnTo>
                  <a:lnTo>
                    <a:pt x="121" y="203"/>
                  </a:lnTo>
                  <a:lnTo>
                    <a:pt x="121" y="220"/>
                  </a:lnTo>
                  <a:lnTo>
                    <a:pt x="88" y="252"/>
                  </a:lnTo>
                  <a:lnTo>
                    <a:pt x="70" y="259"/>
                  </a:lnTo>
                  <a:lnTo>
                    <a:pt x="47" y="288"/>
                  </a:lnTo>
                  <a:lnTo>
                    <a:pt x="31" y="295"/>
                  </a:lnTo>
                  <a:lnTo>
                    <a:pt x="19" y="294"/>
                  </a:lnTo>
                  <a:lnTo>
                    <a:pt x="13" y="298"/>
                  </a:lnTo>
                  <a:lnTo>
                    <a:pt x="9" y="303"/>
                  </a:lnTo>
                  <a:lnTo>
                    <a:pt x="16" y="312"/>
                  </a:lnTo>
                  <a:lnTo>
                    <a:pt x="16" y="331"/>
                  </a:lnTo>
                  <a:lnTo>
                    <a:pt x="0" y="349"/>
                  </a:lnTo>
                  <a:lnTo>
                    <a:pt x="6" y="368"/>
                  </a:lnTo>
                  <a:lnTo>
                    <a:pt x="6" y="368"/>
                  </a:lnTo>
                  <a:lnTo>
                    <a:pt x="24" y="368"/>
                  </a:lnTo>
                  <a:lnTo>
                    <a:pt x="31" y="354"/>
                  </a:lnTo>
                  <a:lnTo>
                    <a:pt x="42" y="366"/>
                  </a:lnTo>
                  <a:lnTo>
                    <a:pt x="28" y="377"/>
                  </a:lnTo>
                  <a:lnTo>
                    <a:pt x="34" y="393"/>
                  </a:lnTo>
                  <a:lnTo>
                    <a:pt x="42" y="396"/>
                  </a:lnTo>
                  <a:lnTo>
                    <a:pt x="76" y="402"/>
                  </a:lnTo>
                  <a:lnTo>
                    <a:pt x="81" y="405"/>
                  </a:lnTo>
                  <a:lnTo>
                    <a:pt x="112" y="416"/>
                  </a:lnTo>
                  <a:lnTo>
                    <a:pt x="125" y="410"/>
                  </a:lnTo>
                  <a:lnTo>
                    <a:pt x="151" y="393"/>
                  </a:lnTo>
                  <a:lnTo>
                    <a:pt x="190" y="402"/>
                  </a:lnTo>
                  <a:lnTo>
                    <a:pt x="260" y="402"/>
                  </a:lnTo>
                  <a:lnTo>
                    <a:pt x="299" y="393"/>
                  </a:lnTo>
                  <a:lnTo>
                    <a:pt x="317" y="363"/>
                  </a:lnTo>
                  <a:lnTo>
                    <a:pt x="341" y="349"/>
                  </a:lnTo>
                  <a:lnTo>
                    <a:pt x="348" y="331"/>
                  </a:lnTo>
                  <a:lnTo>
                    <a:pt x="357" y="307"/>
                  </a:lnTo>
                  <a:lnTo>
                    <a:pt x="375" y="294"/>
                  </a:lnTo>
                  <a:lnTo>
                    <a:pt x="390" y="252"/>
                  </a:lnTo>
                  <a:lnTo>
                    <a:pt x="387" y="203"/>
                  </a:lnTo>
                  <a:lnTo>
                    <a:pt x="424" y="181"/>
                  </a:lnTo>
                  <a:lnTo>
                    <a:pt x="403" y="161"/>
                  </a:lnTo>
                  <a:lnTo>
                    <a:pt x="396" y="128"/>
                  </a:lnTo>
                  <a:lnTo>
                    <a:pt x="382" y="114"/>
                  </a:lnTo>
                  <a:lnTo>
                    <a:pt x="366" y="114"/>
                  </a:lnTo>
                  <a:lnTo>
                    <a:pt x="351" y="105"/>
                  </a:lnTo>
                  <a:lnTo>
                    <a:pt x="323" y="69"/>
                  </a:lnTo>
                  <a:lnTo>
                    <a:pt x="336" y="62"/>
                  </a:lnTo>
                  <a:lnTo>
                    <a:pt x="384" y="14"/>
                  </a:lnTo>
                  <a:lnTo>
                    <a:pt x="379" y="0"/>
                  </a:lnTo>
                  <a:lnTo>
                    <a:pt x="364" y="3"/>
                  </a:lnTo>
                  <a:lnTo>
                    <a:pt x="312" y="6"/>
                  </a:lnTo>
                  <a:lnTo>
                    <a:pt x="294" y="20"/>
                  </a:lnTo>
                  <a:lnTo>
                    <a:pt x="281" y="29"/>
                  </a:lnTo>
                  <a:lnTo>
                    <a:pt x="263" y="26"/>
                  </a:lnTo>
                  <a:lnTo>
                    <a:pt x="252" y="33"/>
                  </a:lnTo>
                  <a:lnTo>
                    <a:pt x="260" y="48"/>
                  </a:lnTo>
                  <a:lnTo>
                    <a:pt x="285" y="66"/>
                  </a:lnTo>
                  <a:lnTo>
                    <a:pt x="267" y="69"/>
                  </a:lnTo>
                  <a:lnTo>
                    <a:pt x="221" y="75"/>
                  </a:lnTo>
                  <a:lnTo>
                    <a:pt x="190" y="62"/>
                  </a:lnTo>
                  <a:lnTo>
                    <a:pt x="158" y="48"/>
                  </a:lnTo>
                  <a:lnTo>
                    <a:pt x="148" y="56"/>
                  </a:lnTo>
                  <a:lnTo>
                    <a:pt x="140" y="81"/>
                  </a:lnTo>
                  <a:lnTo>
                    <a:pt x="143" y="95"/>
                  </a:lnTo>
                  <a:lnTo>
                    <a:pt x="139" y="101"/>
                  </a:lnTo>
                  <a:lnTo>
                    <a:pt x="121" y="108"/>
                  </a:lnTo>
                  <a:lnTo>
                    <a:pt x="122" y="134"/>
                  </a:lnTo>
                  <a:lnTo>
                    <a:pt x="121" y="140"/>
                  </a:lnTo>
                  <a:lnTo>
                    <a:pt x="101" y="167"/>
                  </a:lnTo>
                  <a:lnTo>
                    <a:pt x="118" y="193"/>
                  </a:lnTo>
                  <a:lnTo>
                    <a:pt x="125" y="190"/>
                  </a:lnTo>
                  <a:lnTo>
                    <a:pt x="157" y="15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490160" y="4738680"/>
              <a:ext cx="501480" cy="722160"/>
              <a:chOff x="7490160" y="4738680"/>
              <a:chExt cx="501480" cy="722160"/>
            </a:xfrm>
          </p:grpSpPr>
          <p:sp>
            <p:nvSpPr>
              <p:cNvPr id="116" name=""/>
              <p:cNvSpPr/>
              <p:nvPr/>
            </p:nvSpPr>
            <p:spPr>
              <a:xfrm>
                <a:off x="7915680" y="48070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2" y="0"/>
                    </a:moveTo>
                    <a:lnTo>
                      <a:pt x="0" y="6"/>
                    </a:lnTo>
                    <a:lnTo>
                      <a:pt x="2" y="22"/>
                    </a:lnTo>
                    <a:lnTo>
                      <a:pt x="20" y="33"/>
                    </a:lnTo>
                    <a:lnTo>
                      <a:pt x="33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90160" y="4738680"/>
                <a:ext cx="501480" cy="722160"/>
              </a:xfrm>
              <a:custGeom>
                <a:avLst/>
                <a:gdLst/>
                <a:ahLst/>
                <a:rect l="l" t="t" r="r" b="b"/>
                <a:pathLst>
                  <a:path w="713" h="1029">
                    <a:moveTo>
                      <a:pt x="294" y="0"/>
                    </a:moveTo>
                    <a:lnTo>
                      <a:pt x="279" y="11"/>
                    </a:lnTo>
                    <a:lnTo>
                      <a:pt x="279" y="23"/>
                    </a:lnTo>
                    <a:lnTo>
                      <a:pt x="282" y="33"/>
                    </a:lnTo>
                    <a:lnTo>
                      <a:pt x="285" y="50"/>
                    </a:lnTo>
                    <a:lnTo>
                      <a:pt x="288" y="72"/>
                    </a:lnTo>
                    <a:lnTo>
                      <a:pt x="279" y="81"/>
                    </a:lnTo>
                    <a:lnTo>
                      <a:pt x="279" y="95"/>
                    </a:lnTo>
                    <a:lnTo>
                      <a:pt x="282" y="108"/>
                    </a:lnTo>
                    <a:lnTo>
                      <a:pt x="303" y="128"/>
                    </a:lnTo>
                    <a:lnTo>
                      <a:pt x="315" y="131"/>
                    </a:lnTo>
                    <a:lnTo>
                      <a:pt x="321" y="161"/>
                    </a:lnTo>
                    <a:lnTo>
                      <a:pt x="292" y="154"/>
                    </a:lnTo>
                    <a:lnTo>
                      <a:pt x="276" y="137"/>
                    </a:lnTo>
                    <a:lnTo>
                      <a:pt x="264" y="145"/>
                    </a:lnTo>
                    <a:lnTo>
                      <a:pt x="240" y="176"/>
                    </a:lnTo>
                    <a:lnTo>
                      <a:pt x="230" y="187"/>
                    </a:lnTo>
                    <a:lnTo>
                      <a:pt x="219" y="184"/>
                    </a:lnTo>
                    <a:lnTo>
                      <a:pt x="218" y="170"/>
                    </a:lnTo>
                    <a:lnTo>
                      <a:pt x="209" y="160"/>
                    </a:lnTo>
                    <a:lnTo>
                      <a:pt x="188" y="151"/>
                    </a:lnTo>
                    <a:lnTo>
                      <a:pt x="158" y="151"/>
                    </a:lnTo>
                    <a:lnTo>
                      <a:pt x="148" y="164"/>
                    </a:lnTo>
                    <a:lnTo>
                      <a:pt x="131" y="184"/>
                    </a:lnTo>
                    <a:lnTo>
                      <a:pt x="145" y="197"/>
                    </a:lnTo>
                    <a:lnTo>
                      <a:pt x="145" y="223"/>
                    </a:lnTo>
                    <a:lnTo>
                      <a:pt x="142" y="236"/>
                    </a:lnTo>
                    <a:lnTo>
                      <a:pt x="137" y="248"/>
                    </a:lnTo>
                    <a:lnTo>
                      <a:pt x="119" y="262"/>
                    </a:lnTo>
                    <a:lnTo>
                      <a:pt x="113" y="265"/>
                    </a:lnTo>
                    <a:lnTo>
                      <a:pt x="116" y="285"/>
                    </a:lnTo>
                    <a:lnTo>
                      <a:pt x="124" y="298"/>
                    </a:lnTo>
                    <a:lnTo>
                      <a:pt x="119" y="315"/>
                    </a:lnTo>
                    <a:lnTo>
                      <a:pt x="106" y="334"/>
                    </a:lnTo>
                    <a:lnTo>
                      <a:pt x="91" y="354"/>
                    </a:lnTo>
                    <a:lnTo>
                      <a:pt x="79" y="367"/>
                    </a:lnTo>
                    <a:lnTo>
                      <a:pt x="61" y="383"/>
                    </a:lnTo>
                    <a:lnTo>
                      <a:pt x="49" y="387"/>
                    </a:lnTo>
                    <a:lnTo>
                      <a:pt x="39" y="410"/>
                    </a:lnTo>
                    <a:lnTo>
                      <a:pt x="36" y="443"/>
                    </a:lnTo>
                    <a:lnTo>
                      <a:pt x="26" y="462"/>
                    </a:lnTo>
                    <a:lnTo>
                      <a:pt x="26" y="491"/>
                    </a:lnTo>
                    <a:lnTo>
                      <a:pt x="15" y="505"/>
                    </a:lnTo>
                    <a:lnTo>
                      <a:pt x="12" y="514"/>
                    </a:lnTo>
                    <a:lnTo>
                      <a:pt x="21" y="527"/>
                    </a:lnTo>
                    <a:lnTo>
                      <a:pt x="26" y="550"/>
                    </a:lnTo>
                    <a:lnTo>
                      <a:pt x="39" y="569"/>
                    </a:lnTo>
                    <a:lnTo>
                      <a:pt x="3" y="602"/>
                    </a:lnTo>
                    <a:lnTo>
                      <a:pt x="10" y="622"/>
                    </a:lnTo>
                    <a:lnTo>
                      <a:pt x="24" y="636"/>
                    </a:lnTo>
                    <a:lnTo>
                      <a:pt x="26" y="639"/>
                    </a:lnTo>
                    <a:lnTo>
                      <a:pt x="26" y="652"/>
                    </a:lnTo>
                    <a:lnTo>
                      <a:pt x="8" y="666"/>
                    </a:lnTo>
                    <a:lnTo>
                      <a:pt x="0" y="685"/>
                    </a:lnTo>
                    <a:lnTo>
                      <a:pt x="8" y="711"/>
                    </a:lnTo>
                    <a:lnTo>
                      <a:pt x="18" y="727"/>
                    </a:lnTo>
                    <a:lnTo>
                      <a:pt x="39" y="736"/>
                    </a:lnTo>
                    <a:lnTo>
                      <a:pt x="64" y="741"/>
                    </a:lnTo>
                    <a:lnTo>
                      <a:pt x="91" y="744"/>
                    </a:lnTo>
                    <a:lnTo>
                      <a:pt x="112" y="747"/>
                    </a:lnTo>
                    <a:lnTo>
                      <a:pt x="127" y="759"/>
                    </a:lnTo>
                    <a:lnTo>
                      <a:pt x="142" y="773"/>
                    </a:lnTo>
                    <a:lnTo>
                      <a:pt x="124" y="783"/>
                    </a:lnTo>
                    <a:lnTo>
                      <a:pt x="109" y="800"/>
                    </a:lnTo>
                    <a:lnTo>
                      <a:pt x="93" y="813"/>
                    </a:lnTo>
                    <a:lnTo>
                      <a:pt x="91" y="831"/>
                    </a:lnTo>
                    <a:lnTo>
                      <a:pt x="82" y="872"/>
                    </a:lnTo>
                    <a:lnTo>
                      <a:pt x="70" y="898"/>
                    </a:lnTo>
                    <a:lnTo>
                      <a:pt x="61" y="914"/>
                    </a:lnTo>
                    <a:lnTo>
                      <a:pt x="82" y="944"/>
                    </a:lnTo>
                    <a:lnTo>
                      <a:pt x="88" y="953"/>
                    </a:lnTo>
                    <a:lnTo>
                      <a:pt x="100" y="964"/>
                    </a:lnTo>
                    <a:lnTo>
                      <a:pt x="113" y="962"/>
                    </a:lnTo>
                    <a:lnTo>
                      <a:pt x="130" y="953"/>
                    </a:lnTo>
                    <a:lnTo>
                      <a:pt x="137" y="944"/>
                    </a:lnTo>
                    <a:lnTo>
                      <a:pt x="139" y="940"/>
                    </a:lnTo>
                    <a:lnTo>
                      <a:pt x="163" y="944"/>
                    </a:lnTo>
                    <a:lnTo>
                      <a:pt x="173" y="959"/>
                    </a:lnTo>
                    <a:lnTo>
                      <a:pt x="181" y="976"/>
                    </a:lnTo>
                    <a:lnTo>
                      <a:pt x="191" y="989"/>
                    </a:lnTo>
                    <a:lnTo>
                      <a:pt x="207" y="993"/>
                    </a:lnTo>
                    <a:lnTo>
                      <a:pt x="237" y="989"/>
                    </a:lnTo>
                    <a:lnTo>
                      <a:pt x="253" y="986"/>
                    </a:lnTo>
                    <a:lnTo>
                      <a:pt x="274" y="1003"/>
                    </a:lnTo>
                    <a:lnTo>
                      <a:pt x="289" y="996"/>
                    </a:lnTo>
                    <a:lnTo>
                      <a:pt x="304" y="1000"/>
                    </a:lnTo>
                    <a:lnTo>
                      <a:pt x="318" y="1012"/>
                    </a:lnTo>
                    <a:lnTo>
                      <a:pt x="343" y="1000"/>
                    </a:lnTo>
                    <a:lnTo>
                      <a:pt x="367" y="1000"/>
                    </a:lnTo>
                    <a:lnTo>
                      <a:pt x="385" y="1012"/>
                    </a:lnTo>
                    <a:lnTo>
                      <a:pt x="398" y="1018"/>
                    </a:lnTo>
                    <a:lnTo>
                      <a:pt x="413" y="1006"/>
                    </a:lnTo>
                    <a:lnTo>
                      <a:pt x="429" y="1006"/>
                    </a:lnTo>
                    <a:lnTo>
                      <a:pt x="455" y="1000"/>
                    </a:lnTo>
                    <a:lnTo>
                      <a:pt x="473" y="1012"/>
                    </a:lnTo>
                    <a:lnTo>
                      <a:pt x="476" y="1006"/>
                    </a:lnTo>
                    <a:lnTo>
                      <a:pt x="496" y="1020"/>
                    </a:lnTo>
                    <a:lnTo>
                      <a:pt x="512" y="1029"/>
                    </a:lnTo>
                    <a:lnTo>
                      <a:pt x="532" y="1020"/>
                    </a:lnTo>
                    <a:lnTo>
                      <a:pt x="535" y="1006"/>
                    </a:lnTo>
                    <a:lnTo>
                      <a:pt x="522" y="986"/>
                    </a:lnTo>
                    <a:lnTo>
                      <a:pt x="519" y="976"/>
                    </a:lnTo>
                    <a:lnTo>
                      <a:pt x="512" y="943"/>
                    </a:lnTo>
                    <a:lnTo>
                      <a:pt x="584" y="892"/>
                    </a:lnTo>
                    <a:lnTo>
                      <a:pt x="602" y="892"/>
                    </a:lnTo>
                    <a:lnTo>
                      <a:pt x="605" y="884"/>
                    </a:lnTo>
                    <a:lnTo>
                      <a:pt x="579" y="874"/>
                    </a:lnTo>
                    <a:lnTo>
                      <a:pt x="561" y="852"/>
                    </a:lnTo>
                    <a:lnTo>
                      <a:pt x="515" y="809"/>
                    </a:lnTo>
                    <a:lnTo>
                      <a:pt x="510" y="776"/>
                    </a:lnTo>
                    <a:lnTo>
                      <a:pt x="483" y="770"/>
                    </a:lnTo>
                    <a:lnTo>
                      <a:pt x="480" y="736"/>
                    </a:lnTo>
                    <a:lnTo>
                      <a:pt x="475" y="708"/>
                    </a:lnTo>
                    <a:lnTo>
                      <a:pt x="463" y="694"/>
                    </a:lnTo>
                    <a:lnTo>
                      <a:pt x="470" y="681"/>
                    </a:lnTo>
                    <a:lnTo>
                      <a:pt x="476" y="675"/>
                    </a:lnTo>
                    <a:lnTo>
                      <a:pt x="490" y="676"/>
                    </a:lnTo>
                    <a:lnTo>
                      <a:pt x="533" y="663"/>
                    </a:lnTo>
                    <a:lnTo>
                      <a:pt x="625" y="611"/>
                    </a:lnTo>
                    <a:lnTo>
                      <a:pt x="645" y="602"/>
                    </a:lnTo>
                    <a:lnTo>
                      <a:pt x="665" y="589"/>
                    </a:lnTo>
                    <a:lnTo>
                      <a:pt x="680" y="607"/>
                    </a:lnTo>
                    <a:lnTo>
                      <a:pt x="701" y="598"/>
                    </a:lnTo>
                    <a:lnTo>
                      <a:pt x="706" y="575"/>
                    </a:lnTo>
                    <a:lnTo>
                      <a:pt x="705" y="562"/>
                    </a:lnTo>
                    <a:lnTo>
                      <a:pt x="713" y="547"/>
                    </a:lnTo>
                    <a:lnTo>
                      <a:pt x="702" y="529"/>
                    </a:lnTo>
                    <a:lnTo>
                      <a:pt x="690" y="497"/>
                    </a:lnTo>
                    <a:lnTo>
                      <a:pt x="698" y="452"/>
                    </a:lnTo>
                    <a:lnTo>
                      <a:pt x="684" y="429"/>
                    </a:lnTo>
                    <a:lnTo>
                      <a:pt x="679" y="407"/>
                    </a:lnTo>
                    <a:lnTo>
                      <a:pt x="686" y="386"/>
                    </a:lnTo>
                    <a:lnTo>
                      <a:pt x="681" y="367"/>
                    </a:lnTo>
                    <a:lnTo>
                      <a:pt x="652" y="333"/>
                    </a:lnTo>
                    <a:lnTo>
                      <a:pt x="667" y="312"/>
                    </a:lnTo>
                    <a:lnTo>
                      <a:pt x="667" y="276"/>
                    </a:lnTo>
                    <a:lnTo>
                      <a:pt x="670" y="233"/>
                    </a:lnTo>
                    <a:lnTo>
                      <a:pt x="638" y="196"/>
                    </a:lnTo>
                    <a:lnTo>
                      <a:pt x="623" y="173"/>
                    </a:lnTo>
                    <a:lnTo>
                      <a:pt x="605" y="154"/>
                    </a:lnTo>
                    <a:lnTo>
                      <a:pt x="577" y="128"/>
                    </a:lnTo>
                    <a:lnTo>
                      <a:pt x="558" y="114"/>
                    </a:lnTo>
                    <a:lnTo>
                      <a:pt x="546" y="111"/>
                    </a:lnTo>
                    <a:lnTo>
                      <a:pt x="528" y="125"/>
                    </a:lnTo>
                    <a:lnTo>
                      <a:pt x="514" y="134"/>
                    </a:lnTo>
                    <a:lnTo>
                      <a:pt x="473" y="167"/>
                    </a:lnTo>
                    <a:lnTo>
                      <a:pt x="444" y="160"/>
                    </a:lnTo>
                    <a:lnTo>
                      <a:pt x="431" y="160"/>
                    </a:lnTo>
                    <a:lnTo>
                      <a:pt x="431" y="148"/>
                    </a:lnTo>
                    <a:lnTo>
                      <a:pt x="437" y="131"/>
                    </a:lnTo>
                    <a:lnTo>
                      <a:pt x="444" y="117"/>
                    </a:lnTo>
                    <a:lnTo>
                      <a:pt x="406" y="92"/>
                    </a:lnTo>
                    <a:lnTo>
                      <a:pt x="395" y="89"/>
                    </a:lnTo>
                    <a:lnTo>
                      <a:pt x="377" y="72"/>
                    </a:lnTo>
                    <a:lnTo>
                      <a:pt x="370" y="42"/>
                    </a:lnTo>
                    <a:lnTo>
                      <a:pt x="362" y="23"/>
                    </a:lnTo>
                    <a:lnTo>
                      <a:pt x="349" y="26"/>
                    </a:lnTo>
                    <a:lnTo>
                      <a:pt x="334" y="6"/>
                    </a:lnTo>
                    <a:lnTo>
                      <a:pt x="313" y="3"/>
                    </a:lnTo>
                    <a:lnTo>
                      <a:pt x="294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950240" y="4797360"/>
              <a:ext cx="540000" cy="546120"/>
            </a:xfrm>
            <a:custGeom>
              <a:avLst/>
              <a:gdLst/>
              <a:ahLst/>
              <a:rect l="l" t="t" r="r" b="b"/>
              <a:pathLst>
                <a:path w="768" h="778">
                  <a:moveTo>
                    <a:pt x="18" y="147"/>
                  </a:moveTo>
                  <a:lnTo>
                    <a:pt x="15" y="196"/>
                  </a:lnTo>
                  <a:lnTo>
                    <a:pt x="15" y="226"/>
                  </a:lnTo>
                  <a:lnTo>
                    <a:pt x="0" y="248"/>
                  </a:lnTo>
                  <a:lnTo>
                    <a:pt x="31" y="287"/>
                  </a:lnTo>
                  <a:lnTo>
                    <a:pt x="34" y="298"/>
                  </a:lnTo>
                  <a:lnTo>
                    <a:pt x="27" y="324"/>
                  </a:lnTo>
                  <a:lnTo>
                    <a:pt x="28" y="340"/>
                  </a:lnTo>
                  <a:lnTo>
                    <a:pt x="43" y="363"/>
                  </a:lnTo>
                  <a:lnTo>
                    <a:pt x="42" y="376"/>
                  </a:lnTo>
                  <a:lnTo>
                    <a:pt x="39" y="419"/>
                  </a:lnTo>
                  <a:lnTo>
                    <a:pt x="52" y="447"/>
                  </a:lnTo>
                  <a:lnTo>
                    <a:pt x="61" y="464"/>
                  </a:lnTo>
                  <a:lnTo>
                    <a:pt x="54" y="474"/>
                  </a:lnTo>
                  <a:lnTo>
                    <a:pt x="54" y="491"/>
                  </a:lnTo>
                  <a:lnTo>
                    <a:pt x="46" y="500"/>
                  </a:lnTo>
                  <a:lnTo>
                    <a:pt x="46" y="510"/>
                  </a:lnTo>
                  <a:lnTo>
                    <a:pt x="67" y="513"/>
                  </a:lnTo>
                  <a:lnTo>
                    <a:pt x="82" y="519"/>
                  </a:lnTo>
                  <a:lnTo>
                    <a:pt x="88" y="530"/>
                  </a:lnTo>
                  <a:lnTo>
                    <a:pt x="88" y="550"/>
                  </a:lnTo>
                  <a:lnTo>
                    <a:pt x="109" y="572"/>
                  </a:lnTo>
                  <a:lnTo>
                    <a:pt x="127" y="581"/>
                  </a:lnTo>
                  <a:lnTo>
                    <a:pt x="131" y="601"/>
                  </a:lnTo>
                  <a:lnTo>
                    <a:pt x="155" y="634"/>
                  </a:lnTo>
                  <a:lnTo>
                    <a:pt x="176" y="614"/>
                  </a:lnTo>
                  <a:lnTo>
                    <a:pt x="194" y="608"/>
                  </a:lnTo>
                  <a:lnTo>
                    <a:pt x="207" y="611"/>
                  </a:lnTo>
                  <a:lnTo>
                    <a:pt x="243" y="653"/>
                  </a:lnTo>
                  <a:lnTo>
                    <a:pt x="251" y="656"/>
                  </a:lnTo>
                  <a:lnTo>
                    <a:pt x="295" y="678"/>
                  </a:lnTo>
                  <a:lnTo>
                    <a:pt x="304" y="681"/>
                  </a:lnTo>
                  <a:lnTo>
                    <a:pt x="323" y="676"/>
                  </a:lnTo>
                  <a:lnTo>
                    <a:pt x="344" y="673"/>
                  </a:lnTo>
                  <a:lnTo>
                    <a:pt x="362" y="681"/>
                  </a:lnTo>
                  <a:lnTo>
                    <a:pt x="385" y="703"/>
                  </a:lnTo>
                  <a:lnTo>
                    <a:pt x="395" y="715"/>
                  </a:lnTo>
                  <a:lnTo>
                    <a:pt x="406" y="706"/>
                  </a:lnTo>
                  <a:lnTo>
                    <a:pt x="419" y="703"/>
                  </a:lnTo>
                  <a:lnTo>
                    <a:pt x="437" y="720"/>
                  </a:lnTo>
                  <a:lnTo>
                    <a:pt x="458" y="736"/>
                  </a:lnTo>
                  <a:lnTo>
                    <a:pt x="473" y="748"/>
                  </a:lnTo>
                  <a:lnTo>
                    <a:pt x="494" y="756"/>
                  </a:lnTo>
                  <a:lnTo>
                    <a:pt x="504" y="753"/>
                  </a:lnTo>
                  <a:lnTo>
                    <a:pt x="514" y="742"/>
                  </a:lnTo>
                  <a:lnTo>
                    <a:pt x="528" y="736"/>
                  </a:lnTo>
                  <a:lnTo>
                    <a:pt x="553" y="745"/>
                  </a:lnTo>
                  <a:lnTo>
                    <a:pt x="672" y="778"/>
                  </a:lnTo>
                  <a:lnTo>
                    <a:pt x="690" y="762"/>
                  </a:lnTo>
                  <a:lnTo>
                    <a:pt x="677" y="736"/>
                  </a:lnTo>
                  <a:lnTo>
                    <a:pt x="665" y="696"/>
                  </a:lnTo>
                  <a:lnTo>
                    <a:pt x="747" y="614"/>
                  </a:lnTo>
                  <a:lnTo>
                    <a:pt x="763" y="595"/>
                  </a:lnTo>
                  <a:lnTo>
                    <a:pt x="768" y="563"/>
                  </a:lnTo>
                  <a:lnTo>
                    <a:pt x="756" y="522"/>
                  </a:lnTo>
                  <a:lnTo>
                    <a:pt x="742" y="488"/>
                  </a:lnTo>
                  <a:lnTo>
                    <a:pt x="719" y="449"/>
                  </a:lnTo>
                  <a:lnTo>
                    <a:pt x="704" y="432"/>
                  </a:lnTo>
                  <a:lnTo>
                    <a:pt x="701" y="408"/>
                  </a:lnTo>
                  <a:lnTo>
                    <a:pt x="704" y="382"/>
                  </a:lnTo>
                  <a:lnTo>
                    <a:pt x="711" y="357"/>
                  </a:lnTo>
                  <a:lnTo>
                    <a:pt x="701" y="340"/>
                  </a:lnTo>
                  <a:lnTo>
                    <a:pt x="689" y="330"/>
                  </a:lnTo>
                  <a:lnTo>
                    <a:pt x="701" y="313"/>
                  </a:lnTo>
                  <a:lnTo>
                    <a:pt x="722" y="281"/>
                  </a:lnTo>
                  <a:lnTo>
                    <a:pt x="729" y="274"/>
                  </a:lnTo>
                  <a:lnTo>
                    <a:pt x="725" y="220"/>
                  </a:lnTo>
                  <a:lnTo>
                    <a:pt x="716" y="193"/>
                  </a:lnTo>
                  <a:lnTo>
                    <a:pt x="708" y="164"/>
                  </a:lnTo>
                  <a:lnTo>
                    <a:pt x="708" y="137"/>
                  </a:lnTo>
                  <a:lnTo>
                    <a:pt x="693" y="111"/>
                  </a:lnTo>
                  <a:lnTo>
                    <a:pt x="672" y="89"/>
                  </a:lnTo>
                  <a:lnTo>
                    <a:pt x="649" y="86"/>
                  </a:lnTo>
                  <a:lnTo>
                    <a:pt x="582" y="84"/>
                  </a:lnTo>
                  <a:lnTo>
                    <a:pt x="546" y="81"/>
                  </a:lnTo>
                  <a:lnTo>
                    <a:pt x="479" y="75"/>
                  </a:lnTo>
                  <a:lnTo>
                    <a:pt x="453" y="62"/>
                  </a:lnTo>
                  <a:lnTo>
                    <a:pt x="425" y="59"/>
                  </a:lnTo>
                  <a:lnTo>
                    <a:pt x="409" y="65"/>
                  </a:lnTo>
                  <a:lnTo>
                    <a:pt x="391" y="78"/>
                  </a:lnTo>
                  <a:lnTo>
                    <a:pt x="374" y="72"/>
                  </a:lnTo>
                  <a:lnTo>
                    <a:pt x="359" y="56"/>
                  </a:lnTo>
                  <a:lnTo>
                    <a:pt x="341" y="56"/>
                  </a:lnTo>
                  <a:lnTo>
                    <a:pt x="334" y="48"/>
                  </a:lnTo>
                  <a:lnTo>
                    <a:pt x="328" y="22"/>
                  </a:lnTo>
                  <a:lnTo>
                    <a:pt x="304" y="3"/>
                  </a:lnTo>
                  <a:lnTo>
                    <a:pt x="288" y="0"/>
                  </a:lnTo>
                  <a:lnTo>
                    <a:pt x="256" y="9"/>
                  </a:lnTo>
                  <a:lnTo>
                    <a:pt x="230" y="16"/>
                  </a:lnTo>
                  <a:lnTo>
                    <a:pt x="210" y="30"/>
                  </a:lnTo>
                  <a:lnTo>
                    <a:pt x="173" y="53"/>
                  </a:lnTo>
                  <a:lnTo>
                    <a:pt x="137" y="65"/>
                  </a:lnTo>
                  <a:lnTo>
                    <a:pt x="106" y="78"/>
                  </a:lnTo>
                  <a:lnTo>
                    <a:pt x="73" y="95"/>
                  </a:lnTo>
                  <a:lnTo>
                    <a:pt x="54" y="117"/>
                  </a:lnTo>
                  <a:lnTo>
                    <a:pt x="34" y="137"/>
                  </a:lnTo>
                  <a:lnTo>
                    <a:pt x="18" y="14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18480" y="5151240"/>
              <a:ext cx="393840" cy="231840"/>
            </a:xfrm>
            <a:custGeom>
              <a:avLst/>
              <a:gdLst/>
              <a:ahLst/>
              <a:rect l="l" t="t" r="r" b="b"/>
              <a:pathLst>
                <a:path w="561" h="330">
                  <a:moveTo>
                    <a:pt x="138" y="317"/>
                  </a:moveTo>
                  <a:lnTo>
                    <a:pt x="134" y="299"/>
                  </a:lnTo>
                  <a:lnTo>
                    <a:pt x="116" y="288"/>
                  </a:lnTo>
                  <a:lnTo>
                    <a:pt x="50" y="223"/>
                  </a:lnTo>
                  <a:lnTo>
                    <a:pt x="46" y="190"/>
                  </a:lnTo>
                  <a:lnTo>
                    <a:pt x="17" y="186"/>
                  </a:lnTo>
                  <a:lnTo>
                    <a:pt x="18" y="154"/>
                  </a:lnTo>
                  <a:lnTo>
                    <a:pt x="8" y="124"/>
                  </a:lnTo>
                  <a:lnTo>
                    <a:pt x="0" y="107"/>
                  </a:lnTo>
                  <a:lnTo>
                    <a:pt x="5" y="89"/>
                  </a:lnTo>
                  <a:lnTo>
                    <a:pt x="26" y="89"/>
                  </a:lnTo>
                  <a:lnTo>
                    <a:pt x="63" y="80"/>
                  </a:lnTo>
                  <a:lnTo>
                    <a:pt x="176" y="17"/>
                  </a:lnTo>
                  <a:lnTo>
                    <a:pt x="200" y="0"/>
                  </a:lnTo>
                  <a:lnTo>
                    <a:pt x="215" y="20"/>
                  </a:lnTo>
                  <a:lnTo>
                    <a:pt x="239" y="9"/>
                  </a:lnTo>
                  <a:lnTo>
                    <a:pt x="261" y="11"/>
                  </a:lnTo>
                  <a:lnTo>
                    <a:pt x="275" y="21"/>
                  </a:lnTo>
                  <a:lnTo>
                    <a:pt x="275" y="50"/>
                  </a:lnTo>
                  <a:lnTo>
                    <a:pt x="316" y="79"/>
                  </a:lnTo>
                  <a:lnTo>
                    <a:pt x="318" y="98"/>
                  </a:lnTo>
                  <a:lnTo>
                    <a:pt x="334" y="121"/>
                  </a:lnTo>
                  <a:lnTo>
                    <a:pt x="345" y="130"/>
                  </a:lnTo>
                  <a:lnTo>
                    <a:pt x="352" y="121"/>
                  </a:lnTo>
                  <a:lnTo>
                    <a:pt x="381" y="104"/>
                  </a:lnTo>
                  <a:lnTo>
                    <a:pt x="394" y="107"/>
                  </a:lnTo>
                  <a:lnTo>
                    <a:pt x="430" y="151"/>
                  </a:lnTo>
                  <a:lnTo>
                    <a:pt x="438" y="149"/>
                  </a:lnTo>
                  <a:lnTo>
                    <a:pt x="476" y="174"/>
                  </a:lnTo>
                  <a:lnTo>
                    <a:pt x="532" y="171"/>
                  </a:lnTo>
                  <a:lnTo>
                    <a:pt x="561" y="190"/>
                  </a:lnTo>
                  <a:lnTo>
                    <a:pt x="500" y="226"/>
                  </a:lnTo>
                  <a:lnTo>
                    <a:pt x="497" y="271"/>
                  </a:lnTo>
                  <a:lnTo>
                    <a:pt x="459" y="309"/>
                  </a:lnTo>
                  <a:lnTo>
                    <a:pt x="419" y="308"/>
                  </a:lnTo>
                  <a:lnTo>
                    <a:pt x="397" y="318"/>
                  </a:lnTo>
                  <a:lnTo>
                    <a:pt x="369" y="330"/>
                  </a:lnTo>
                  <a:lnTo>
                    <a:pt x="334" y="306"/>
                  </a:lnTo>
                  <a:lnTo>
                    <a:pt x="311" y="318"/>
                  </a:lnTo>
                  <a:lnTo>
                    <a:pt x="292" y="323"/>
                  </a:lnTo>
                  <a:lnTo>
                    <a:pt x="275" y="294"/>
                  </a:lnTo>
                  <a:lnTo>
                    <a:pt x="226" y="296"/>
                  </a:lnTo>
                  <a:lnTo>
                    <a:pt x="211" y="308"/>
                  </a:lnTo>
                  <a:lnTo>
                    <a:pt x="200" y="320"/>
                  </a:lnTo>
                  <a:lnTo>
                    <a:pt x="179" y="320"/>
                  </a:lnTo>
                  <a:lnTo>
                    <a:pt x="156" y="324"/>
                  </a:lnTo>
                  <a:lnTo>
                    <a:pt x="138" y="31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6640" y="5581440"/>
              <a:ext cx="355680" cy="378000"/>
            </a:xfrm>
            <a:custGeom>
              <a:avLst/>
              <a:gdLst/>
              <a:ahLst/>
              <a:rect l="l" t="t" r="r" b="b"/>
              <a:pathLst>
                <a:path w="507" h="536">
                  <a:moveTo>
                    <a:pt x="0" y="120"/>
                  </a:moveTo>
                  <a:lnTo>
                    <a:pt x="10" y="153"/>
                  </a:lnTo>
                  <a:lnTo>
                    <a:pt x="21" y="179"/>
                  </a:lnTo>
                  <a:lnTo>
                    <a:pt x="30" y="196"/>
                  </a:lnTo>
                  <a:lnTo>
                    <a:pt x="43" y="199"/>
                  </a:lnTo>
                  <a:lnTo>
                    <a:pt x="57" y="190"/>
                  </a:lnTo>
                  <a:lnTo>
                    <a:pt x="64" y="173"/>
                  </a:lnTo>
                  <a:lnTo>
                    <a:pt x="78" y="147"/>
                  </a:lnTo>
                  <a:lnTo>
                    <a:pt x="96" y="163"/>
                  </a:lnTo>
                  <a:lnTo>
                    <a:pt x="114" y="167"/>
                  </a:lnTo>
                  <a:lnTo>
                    <a:pt x="127" y="176"/>
                  </a:lnTo>
                  <a:lnTo>
                    <a:pt x="124" y="203"/>
                  </a:lnTo>
                  <a:lnTo>
                    <a:pt x="124" y="221"/>
                  </a:lnTo>
                  <a:lnTo>
                    <a:pt x="142" y="251"/>
                  </a:lnTo>
                  <a:lnTo>
                    <a:pt x="163" y="277"/>
                  </a:lnTo>
                  <a:lnTo>
                    <a:pt x="160" y="285"/>
                  </a:lnTo>
                  <a:lnTo>
                    <a:pt x="137" y="285"/>
                  </a:lnTo>
                  <a:lnTo>
                    <a:pt x="148" y="300"/>
                  </a:lnTo>
                  <a:lnTo>
                    <a:pt x="218" y="385"/>
                  </a:lnTo>
                  <a:lnTo>
                    <a:pt x="225" y="391"/>
                  </a:lnTo>
                  <a:lnTo>
                    <a:pt x="246" y="391"/>
                  </a:lnTo>
                  <a:lnTo>
                    <a:pt x="261" y="396"/>
                  </a:lnTo>
                  <a:lnTo>
                    <a:pt x="292" y="411"/>
                  </a:lnTo>
                  <a:lnTo>
                    <a:pt x="318" y="438"/>
                  </a:lnTo>
                  <a:lnTo>
                    <a:pt x="324" y="450"/>
                  </a:lnTo>
                  <a:lnTo>
                    <a:pt x="334" y="471"/>
                  </a:lnTo>
                  <a:lnTo>
                    <a:pt x="342" y="470"/>
                  </a:lnTo>
                  <a:lnTo>
                    <a:pt x="349" y="470"/>
                  </a:lnTo>
                  <a:lnTo>
                    <a:pt x="370" y="479"/>
                  </a:lnTo>
                  <a:lnTo>
                    <a:pt x="382" y="489"/>
                  </a:lnTo>
                  <a:lnTo>
                    <a:pt x="422" y="536"/>
                  </a:lnTo>
                  <a:lnTo>
                    <a:pt x="405" y="488"/>
                  </a:lnTo>
                  <a:lnTo>
                    <a:pt x="395" y="470"/>
                  </a:lnTo>
                  <a:lnTo>
                    <a:pt x="403" y="453"/>
                  </a:lnTo>
                  <a:lnTo>
                    <a:pt x="398" y="438"/>
                  </a:lnTo>
                  <a:lnTo>
                    <a:pt x="378" y="414"/>
                  </a:lnTo>
                  <a:lnTo>
                    <a:pt x="342" y="369"/>
                  </a:lnTo>
                  <a:lnTo>
                    <a:pt x="318" y="349"/>
                  </a:lnTo>
                  <a:lnTo>
                    <a:pt x="310" y="340"/>
                  </a:lnTo>
                  <a:lnTo>
                    <a:pt x="297" y="343"/>
                  </a:lnTo>
                  <a:lnTo>
                    <a:pt x="279" y="327"/>
                  </a:lnTo>
                  <a:lnTo>
                    <a:pt x="276" y="327"/>
                  </a:lnTo>
                  <a:lnTo>
                    <a:pt x="266" y="316"/>
                  </a:lnTo>
                  <a:lnTo>
                    <a:pt x="261" y="297"/>
                  </a:lnTo>
                  <a:lnTo>
                    <a:pt x="255" y="277"/>
                  </a:lnTo>
                  <a:lnTo>
                    <a:pt x="236" y="248"/>
                  </a:lnTo>
                  <a:lnTo>
                    <a:pt x="194" y="202"/>
                  </a:lnTo>
                  <a:lnTo>
                    <a:pt x="191" y="190"/>
                  </a:lnTo>
                  <a:lnTo>
                    <a:pt x="194" y="184"/>
                  </a:lnTo>
                  <a:lnTo>
                    <a:pt x="215" y="179"/>
                  </a:lnTo>
                  <a:lnTo>
                    <a:pt x="272" y="199"/>
                  </a:lnTo>
                  <a:lnTo>
                    <a:pt x="310" y="153"/>
                  </a:lnTo>
                  <a:lnTo>
                    <a:pt x="342" y="182"/>
                  </a:lnTo>
                  <a:lnTo>
                    <a:pt x="354" y="184"/>
                  </a:lnTo>
                  <a:lnTo>
                    <a:pt x="361" y="196"/>
                  </a:lnTo>
                  <a:lnTo>
                    <a:pt x="373" y="184"/>
                  </a:lnTo>
                  <a:lnTo>
                    <a:pt x="394" y="184"/>
                  </a:lnTo>
                  <a:lnTo>
                    <a:pt x="412" y="187"/>
                  </a:lnTo>
                  <a:lnTo>
                    <a:pt x="437" y="173"/>
                  </a:lnTo>
                  <a:lnTo>
                    <a:pt x="463" y="184"/>
                  </a:lnTo>
                  <a:lnTo>
                    <a:pt x="479" y="199"/>
                  </a:lnTo>
                  <a:lnTo>
                    <a:pt x="497" y="203"/>
                  </a:lnTo>
                  <a:lnTo>
                    <a:pt x="498" y="190"/>
                  </a:lnTo>
                  <a:lnTo>
                    <a:pt x="507" y="167"/>
                  </a:lnTo>
                  <a:lnTo>
                    <a:pt x="497" y="156"/>
                  </a:lnTo>
                  <a:lnTo>
                    <a:pt x="480" y="137"/>
                  </a:lnTo>
                  <a:lnTo>
                    <a:pt x="479" y="117"/>
                  </a:lnTo>
                  <a:lnTo>
                    <a:pt x="479" y="104"/>
                  </a:lnTo>
                  <a:lnTo>
                    <a:pt x="480" y="87"/>
                  </a:lnTo>
                  <a:lnTo>
                    <a:pt x="458" y="81"/>
                  </a:lnTo>
                  <a:lnTo>
                    <a:pt x="447" y="78"/>
                  </a:lnTo>
                  <a:lnTo>
                    <a:pt x="435" y="87"/>
                  </a:lnTo>
                  <a:lnTo>
                    <a:pt x="422" y="98"/>
                  </a:lnTo>
                  <a:lnTo>
                    <a:pt x="409" y="98"/>
                  </a:lnTo>
                  <a:lnTo>
                    <a:pt x="388" y="75"/>
                  </a:lnTo>
                  <a:lnTo>
                    <a:pt x="370" y="65"/>
                  </a:lnTo>
                  <a:lnTo>
                    <a:pt x="352" y="68"/>
                  </a:lnTo>
                  <a:lnTo>
                    <a:pt x="336" y="50"/>
                  </a:lnTo>
                  <a:lnTo>
                    <a:pt x="294" y="3"/>
                  </a:lnTo>
                  <a:lnTo>
                    <a:pt x="276" y="0"/>
                  </a:lnTo>
                  <a:lnTo>
                    <a:pt x="248" y="39"/>
                  </a:lnTo>
                  <a:lnTo>
                    <a:pt x="219" y="36"/>
                  </a:lnTo>
                  <a:lnTo>
                    <a:pt x="206" y="50"/>
                  </a:lnTo>
                  <a:lnTo>
                    <a:pt x="202" y="68"/>
                  </a:lnTo>
                  <a:lnTo>
                    <a:pt x="148" y="131"/>
                  </a:lnTo>
                  <a:lnTo>
                    <a:pt x="111" y="120"/>
                  </a:lnTo>
                  <a:lnTo>
                    <a:pt x="75" y="111"/>
                  </a:lnTo>
                  <a:lnTo>
                    <a:pt x="57" y="120"/>
                  </a:lnTo>
                  <a:lnTo>
                    <a:pt x="33" y="131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8274240" y="6003720"/>
              <a:ext cx="572760" cy="644400"/>
              <a:chOff x="8274240" y="6003720"/>
              <a:chExt cx="572760" cy="644400"/>
            </a:xfrm>
          </p:grpSpPr>
          <p:sp>
            <p:nvSpPr>
              <p:cNvPr id="122" name=""/>
              <p:cNvSpPr/>
              <p:nvPr/>
            </p:nvSpPr>
            <p:spPr>
              <a:xfrm>
                <a:off x="8286480" y="6342120"/>
                <a:ext cx="23760" cy="2628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25" y="0"/>
                    </a:moveTo>
                    <a:lnTo>
                      <a:pt x="34" y="11"/>
                    </a:lnTo>
                    <a:lnTo>
                      <a:pt x="31" y="24"/>
                    </a:lnTo>
                    <a:lnTo>
                      <a:pt x="34" y="35"/>
                    </a:lnTo>
                    <a:lnTo>
                      <a:pt x="25" y="38"/>
                    </a:lnTo>
                    <a:lnTo>
                      <a:pt x="10" y="35"/>
                    </a:lnTo>
                    <a:lnTo>
                      <a:pt x="0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334360" y="6353280"/>
                <a:ext cx="181080" cy="171360"/>
              </a:xfrm>
              <a:custGeom>
                <a:avLst/>
                <a:gdLst/>
                <a:ahLst/>
                <a:rect l="l" t="t" r="r" b="b"/>
                <a:pathLst>
                  <a:path w="256" h="244">
                    <a:moveTo>
                      <a:pt x="36" y="11"/>
                    </a:moveTo>
                    <a:lnTo>
                      <a:pt x="23" y="17"/>
                    </a:lnTo>
                    <a:lnTo>
                      <a:pt x="27" y="30"/>
                    </a:lnTo>
                    <a:lnTo>
                      <a:pt x="15" y="47"/>
                    </a:lnTo>
                    <a:lnTo>
                      <a:pt x="5" y="45"/>
                    </a:lnTo>
                    <a:lnTo>
                      <a:pt x="0" y="53"/>
                    </a:lnTo>
                    <a:lnTo>
                      <a:pt x="2" y="70"/>
                    </a:lnTo>
                    <a:lnTo>
                      <a:pt x="44" y="86"/>
                    </a:lnTo>
                    <a:lnTo>
                      <a:pt x="54" y="124"/>
                    </a:lnTo>
                    <a:lnTo>
                      <a:pt x="67" y="170"/>
                    </a:lnTo>
                    <a:lnTo>
                      <a:pt x="82" y="196"/>
                    </a:lnTo>
                    <a:lnTo>
                      <a:pt x="100" y="180"/>
                    </a:lnTo>
                    <a:lnTo>
                      <a:pt x="124" y="213"/>
                    </a:lnTo>
                    <a:lnTo>
                      <a:pt x="148" y="244"/>
                    </a:lnTo>
                    <a:lnTo>
                      <a:pt x="157" y="220"/>
                    </a:lnTo>
                    <a:lnTo>
                      <a:pt x="150" y="204"/>
                    </a:lnTo>
                    <a:lnTo>
                      <a:pt x="160" y="196"/>
                    </a:lnTo>
                    <a:lnTo>
                      <a:pt x="196" y="226"/>
                    </a:lnTo>
                    <a:lnTo>
                      <a:pt x="208" y="217"/>
                    </a:lnTo>
                    <a:lnTo>
                      <a:pt x="210" y="207"/>
                    </a:lnTo>
                    <a:lnTo>
                      <a:pt x="192" y="167"/>
                    </a:lnTo>
                    <a:lnTo>
                      <a:pt x="192" y="160"/>
                    </a:lnTo>
                    <a:lnTo>
                      <a:pt x="175" y="128"/>
                    </a:lnTo>
                    <a:lnTo>
                      <a:pt x="168" y="106"/>
                    </a:lnTo>
                    <a:lnTo>
                      <a:pt x="175" y="104"/>
                    </a:lnTo>
                    <a:lnTo>
                      <a:pt x="196" y="109"/>
                    </a:lnTo>
                    <a:lnTo>
                      <a:pt x="220" y="131"/>
                    </a:lnTo>
                    <a:lnTo>
                      <a:pt x="233" y="115"/>
                    </a:lnTo>
                    <a:lnTo>
                      <a:pt x="254" y="118"/>
                    </a:lnTo>
                    <a:lnTo>
                      <a:pt x="256" y="112"/>
                    </a:lnTo>
                    <a:lnTo>
                      <a:pt x="230" y="76"/>
                    </a:lnTo>
                    <a:lnTo>
                      <a:pt x="210" y="79"/>
                    </a:lnTo>
                    <a:lnTo>
                      <a:pt x="205" y="67"/>
                    </a:lnTo>
                    <a:lnTo>
                      <a:pt x="192" y="39"/>
                    </a:lnTo>
                    <a:lnTo>
                      <a:pt x="181" y="50"/>
                    </a:lnTo>
                    <a:lnTo>
                      <a:pt x="156" y="39"/>
                    </a:lnTo>
                    <a:lnTo>
                      <a:pt x="139" y="11"/>
                    </a:lnTo>
                    <a:lnTo>
                      <a:pt x="108" y="14"/>
                    </a:lnTo>
                    <a:lnTo>
                      <a:pt x="85" y="17"/>
                    </a:lnTo>
                    <a:lnTo>
                      <a:pt x="69" y="0"/>
                    </a:lnTo>
                    <a:lnTo>
                      <a:pt x="57" y="9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274240" y="6003720"/>
                <a:ext cx="421200" cy="408600"/>
              </a:xfrm>
              <a:custGeom>
                <a:avLst/>
                <a:gdLst/>
                <a:ahLst/>
                <a:rect l="l" t="t" r="r" b="b"/>
                <a:pathLst>
                  <a:path w="599" h="582">
                    <a:moveTo>
                      <a:pt x="121" y="143"/>
                    </a:moveTo>
                    <a:lnTo>
                      <a:pt x="109" y="154"/>
                    </a:lnTo>
                    <a:lnTo>
                      <a:pt x="95" y="204"/>
                    </a:lnTo>
                    <a:lnTo>
                      <a:pt x="77" y="252"/>
                    </a:lnTo>
                    <a:lnTo>
                      <a:pt x="70" y="258"/>
                    </a:lnTo>
                    <a:lnTo>
                      <a:pt x="61" y="274"/>
                    </a:lnTo>
                    <a:lnTo>
                      <a:pt x="52" y="291"/>
                    </a:lnTo>
                    <a:lnTo>
                      <a:pt x="33" y="301"/>
                    </a:lnTo>
                    <a:lnTo>
                      <a:pt x="18" y="308"/>
                    </a:lnTo>
                    <a:lnTo>
                      <a:pt x="0" y="308"/>
                    </a:lnTo>
                    <a:lnTo>
                      <a:pt x="24" y="363"/>
                    </a:lnTo>
                    <a:lnTo>
                      <a:pt x="43" y="392"/>
                    </a:lnTo>
                    <a:lnTo>
                      <a:pt x="61" y="392"/>
                    </a:lnTo>
                    <a:lnTo>
                      <a:pt x="80" y="392"/>
                    </a:lnTo>
                    <a:lnTo>
                      <a:pt x="85" y="405"/>
                    </a:lnTo>
                    <a:lnTo>
                      <a:pt x="67" y="419"/>
                    </a:lnTo>
                    <a:lnTo>
                      <a:pt x="67" y="437"/>
                    </a:lnTo>
                    <a:lnTo>
                      <a:pt x="80" y="464"/>
                    </a:lnTo>
                    <a:lnTo>
                      <a:pt x="95" y="487"/>
                    </a:lnTo>
                    <a:lnTo>
                      <a:pt x="106" y="497"/>
                    </a:lnTo>
                    <a:lnTo>
                      <a:pt x="112" y="481"/>
                    </a:lnTo>
                    <a:lnTo>
                      <a:pt x="127" y="478"/>
                    </a:lnTo>
                    <a:lnTo>
                      <a:pt x="145" y="494"/>
                    </a:lnTo>
                    <a:lnTo>
                      <a:pt x="149" y="481"/>
                    </a:lnTo>
                    <a:lnTo>
                      <a:pt x="179" y="484"/>
                    </a:lnTo>
                    <a:lnTo>
                      <a:pt x="222" y="490"/>
                    </a:lnTo>
                    <a:lnTo>
                      <a:pt x="253" y="500"/>
                    </a:lnTo>
                    <a:lnTo>
                      <a:pt x="265" y="514"/>
                    </a:lnTo>
                    <a:lnTo>
                      <a:pt x="279" y="533"/>
                    </a:lnTo>
                    <a:lnTo>
                      <a:pt x="289" y="545"/>
                    </a:lnTo>
                    <a:lnTo>
                      <a:pt x="302" y="533"/>
                    </a:lnTo>
                    <a:lnTo>
                      <a:pt x="320" y="532"/>
                    </a:lnTo>
                    <a:lnTo>
                      <a:pt x="346" y="552"/>
                    </a:lnTo>
                    <a:lnTo>
                      <a:pt x="377" y="582"/>
                    </a:lnTo>
                    <a:lnTo>
                      <a:pt x="385" y="576"/>
                    </a:lnTo>
                    <a:lnTo>
                      <a:pt x="387" y="553"/>
                    </a:lnTo>
                    <a:lnTo>
                      <a:pt x="387" y="529"/>
                    </a:lnTo>
                    <a:lnTo>
                      <a:pt x="385" y="506"/>
                    </a:lnTo>
                    <a:lnTo>
                      <a:pt x="371" y="481"/>
                    </a:lnTo>
                    <a:lnTo>
                      <a:pt x="362" y="487"/>
                    </a:lnTo>
                    <a:lnTo>
                      <a:pt x="338" y="475"/>
                    </a:lnTo>
                    <a:lnTo>
                      <a:pt x="300" y="445"/>
                    </a:lnTo>
                    <a:lnTo>
                      <a:pt x="289" y="434"/>
                    </a:lnTo>
                    <a:lnTo>
                      <a:pt x="264" y="431"/>
                    </a:lnTo>
                    <a:lnTo>
                      <a:pt x="250" y="422"/>
                    </a:lnTo>
                    <a:lnTo>
                      <a:pt x="250" y="411"/>
                    </a:lnTo>
                    <a:lnTo>
                      <a:pt x="265" y="395"/>
                    </a:lnTo>
                    <a:lnTo>
                      <a:pt x="271" y="389"/>
                    </a:lnTo>
                    <a:lnTo>
                      <a:pt x="261" y="375"/>
                    </a:lnTo>
                    <a:lnTo>
                      <a:pt x="255" y="356"/>
                    </a:lnTo>
                    <a:lnTo>
                      <a:pt x="261" y="347"/>
                    </a:lnTo>
                    <a:lnTo>
                      <a:pt x="282" y="369"/>
                    </a:lnTo>
                    <a:lnTo>
                      <a:pt x="300" y="378"/>
                    </a:lnTo>
                    <a:lnTo>
                      <a:pt x="300" y="359"/>
                    </a:lnTo>
                    <a:lnTo>
                      <a:pt x="289" y="336"/>
                    </a:lnTo>
                    <a:lnTo>
                      <a:pt x="265" y="305"/>
                    </a:lnTo>
                    <a:lnTo>
                      <a:pt x="240" y="262"/>
                    </a:lnTo>
                    <a:lnTo>
                      <a:pt x="237" y="241"/>
                    </a:lnTo>
                    <a:lnTo>
                      <a:pt x="235" y="222"/>
                    </a:lnTo>
                    <a:lnTo>
                      <a:pt x="230" y="202"/>
                    </a:lnTo>
                    <a:lnTo>
                      <a:pt x="228" y="183"/>
                    </a:lnTo>
                    <a:lnTo>
                      <a:pt x="246" y="176"/>
                    </a:lnTo>
                    <a:lnTo>
                      <a:pt x="243" y="190"/>
                    </a:lnTo>
                    <a:lnTo>
                      <a:pt x="258" y="210"/>
                    </a:lnTo>
                    <a:lnTo>
                      <a:pt x="268" y="210"/>
                    </a:lnTo>
                    <a:lnTo>
                      <a:pt x="265" y="222"/>
                    </a:lnTo>
                    <a:lnTo>
                      <a:pt x="316" y="274"/>
                    </a:lnTo>
                    <a:lnTo>
                      <a:pt x="317" y="265"/>
                    </a:lnTo>
                    <a:lnTo>
                      <a:pt x="307" y="241"/>
                    </a:lnTo>
                    <a:lnTo>
                      <a:pt x="323" y="235"/>
                    </a:lnTo>
                    <a:lnTo>
                      <a:pt x="346" y="246"/>
                    </a:lnTo>
                    <a:lnTo>
                      <a:pt x="359" y="265"/>
                    </a:lnTo>
                    <a:lnTo>
                      <a:pt x="362" y="252"/>
                    </a:lnTo>
                    <a:lnTo>
                      <a:pt x="343" y="229"/>
                    </a:lnTo>
                    <a:lnTo>
                      <a:pt x="346" y="219"/>
                    </a:lnTo>
                    <a:lnTo>
                      <a:pt x="359" y="213"/>
                    </a:lnTo>
                    <a:lnTo>
                      <a:pt x="392" y="229"/>
                    </a:lnTo>
                    <a:lnTo>
                      <a:pt x="401" y="223"/>
                    </a:lnTo>
                    <a:lnTo>
                      <a:pt x="398" y="207"/>
                    </a:lnTo>
                    <a:lnTo>
                      <a:pt x="383" y="196"/>
                    </a:lnTo>
                    <a:lnTo>
                      <a:pt x="359" y="184"/>
                    </a:lnTo>
                    <a:lnTo>
                      <a:pt x="343" y="170"/>
                    </a:lnTo>
                    <a:lnTo>
                      <a:pt x="341" y="160"/>
                    </a:lnTo>
                    <a:lnTo>
                      <a:pt x="346" y="148"/>
                    </a:lnTo>
                    <a:lnTo>
                      <a:pt x="380" y="143"/>
                    </a:lnTo>
                    <a:lnTo>
                      <a:pt x="416" y="131"/>
                    </a:lnTo>
                    <a:lnTo>
                      <a:pt x="441" y="134"/>
                    </a:lnTo>
                    <a:lnTo>
                      <a:pt x="487" y="124"/>
                    </a:lnTo>
                    <a:lnTo>
                      <a:pt x="496" y="118"/>
                    </a:lnTo>
                    <a:lnTo>
                      <a:pt x="526" y="131"/>
                    </a:lnTo>
                    <a:lnTo>
                      <a:pt x="553" y="146"/>
                    </a:lnTo>
                    <a:lnTo>
                      <a:pt x="566" y="115"/>
                    </a:lnTo>
                    <a:lnTo>
                      <a:pt x="589" y="82"/>
                    </a:lnTo>
                    <a:lnTo>
                      <a:pt x="596" y="73"/>
                    </a:lnTo>
                    <a:lnTo>
                      <a:pt x="599" y="14"/>
                    </a:lnTo>
                    <a:lnTo>
                      <a:pt x="596" y="9"/>
                    </a:lnTo>
                    <a:lnTo>
                      <a:pt x="584" y="0"/>
                    </a:lnTo>
                    <a:lnTo>
                      <a:pt x="568" y="0"/>
                    </a:lnTo>
                    <a:lnTo>
                      <a:pt x="560" y="9"/>
                    </a:lnTo>
                    <a:lnTo>
                      <a:pt x="560" y="30"/>
                    </a:lnTo>
                    <a:lnTo>
                      <a:pt x="563" y="48"/>
                    </a:lnTo>
                    <a:lnTo>
                      <a:pt x="542" y="53"/>
                    </a:lnTo>
                    <a:lnTo>
                      <a:pt x="526" y="65"/>
                    </a:lnTo>
                    <a:lnTo>
                      <a:pt x="517" y="68"/>
                    </a:lnTo>
                    <a:lnTo>
                      <a:pt x="483" y="59"/>
                    </a:lnTo>
                    <a:lnTo>
                      <a:pt x="471" y="50"/>
                    </a:lnTo>
                    <a:lnTo>
                      <a:pt x="452" y="62"/>
                    </a:lnTo>
                    <a:lnTo>
                      <a:pt x="426" y="30"/>
                    </a:lnTo>
                    <a:lnTo>
                      <a:pt x="398" y="53"/>
                    </a:lnTo>
                    <a:lnTo>
                      <a:pt x="377" y="68"/>
                    </a:lnTo>
                    <a:lnTo>
                      <a:pt x="356" y="79"/>
                    </a:lnTo>
                    <a:lnTo>
                      <a:pt x="323" y="85"/>
                    </a:lnTo>
                    <a:lnTo>
                      <a:pt x="300" y="92"/>
                    </a:lnTo>
                    <a:lnTo>
                      <a:pt x="282" y="92"/>
                    </a:lnTo>
                    <a:lnTo>
                      <a:pt x="274" y="95"/>
                    </a:lnTo>
                    <a:lnTo>
                      <a:pt x="255" y="118"/>
                    </a:lnTo>
                    <a:lnTo>
                      <a:pt x="240" y="118"/>
                    </a:lnTo>
                    <a:lnTo>
                      <a:pt x="214" y="124"/>
                    </a:lnTo>
                    <a:lnTo>
                      <a:pt x="188" y="121"/>
                    </a:lnTo>
                    <a:lnTo>
                      <a:pt x="176" y="146"/>
                    </a:lnTo>
                    <a:lnTo>
                      <a:pt x="155" y="148"/>
                    </a:lnTo>
                    <a:lnTo>
                      <a:pt x="137" y="146"/>
                    </a:lnTo>
                    <a:lnTo>
                      <a:pt x="121" y="14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83400" y="6284520"/>
                <a:ext cx="103680" cy="91080"/>
              </a:xfrm>
              <a:custGeom>
                <a:avLst/>
                <a:gdLst/>
                <a:ahLst/>
                <a:rect l="l" t="t" r="r" b="b"/>
                <a:pathLst>
                  <a:path w="148" h="131">
                    <a:moveTo>
                      <a:pt x="12" y="0"/>
                    </a:moveTo>
                    <a:lnTo>
                      <a:pt x="0" y="11"/>
                    </a:lnTo>
                    <a:lnTo>
                      <a:pt x="15" y="40"/>
                    </a:lnTo>
                    <a:lnTo>
                      <a:pt x="33" y="46"/>
                    </a:lnTo>
                    <a:lnTo>
                      <a:pt x="54" y="70"/>
                    </a:lnTo>
                    <a:lnTo>
                      <a:pt x="72" y="82"/>
                    </a:lnTo>
                    <a:lnTo>
                      <a:pt x="102" y="106"/>
                    </a:lnTo>
                    <a:lnTo>
                      <a:pt x="120" y="115"/>
                    </a:lnTo>
                    <a:lnTo>
                      <a:pt x="142" y="131"/>
                    </a:lnTo>
                    <a:lnTo>
                      <a:pt x="148" y="122"/>
                    </a:lnTo>
                    <a:lnTo>
                      <a:pt x="102" y="85"/>
                    </a:lnTo>
                    <a:lnTo>
                      <a:pt x="99" y="67"/>
                    </a:lnTo>
                    <a:lnTo>
                      <a:pt x="93" y="50"/>
                    </a:lnTo>
                    <a:lnTo>
                      <a:pt x="75" y="31"/>
                    </a:lnTo>
                    <a:lnTo>
                      <a:pt x="70" y="34"/>
                    </a:lnTo>
                    <a:lnTo>
                      <a:pt x="44" y="14"/>
                    </a:lnTo>
                    <a:lnTo>
                      <a:pt x="31" y="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516880" y="6591960"/>
                <a:ext cx="196560" cy="56160"/>
              </a:xfrm>
              <a:custGeom>
                <a:avLst/>
                <a:gdLst/>
                <a:ahLst/>
                <a:rect l="l" t="t" r="r" b="b"/>
                <a:pathLst>
                  <a:path w="280" h="81">
                    <a:moveTo>
                      <a:pt x="58" y="16"/>
                    </a:moveTo>
                    <a:lnTo>
                      <a:pt x="78" y="6"/>
                    </a:lnTo>
                    <a:lnTo>
                      <a:pt x="88" y="16"/>
                    </a:lnTo>
                    <a:lnTo>
                      <a:pt x="97" y="19"/>
                    </a:lnTo>
                    <a:lnTo>
                      <a:pt x="112" y="10"/>
                    </a:lnTo>
                    <a:lnTo>
                      <a:pt x="122" y="6"/>
                    </a:lnTo>
                    <a:lnTo>
                      <a:pt x="166" y="10"/>
                    </a:lnTo>
                    <a:lnTo>
                      <a:pt x="210" y="9"/>
                    </a:lnTo>
                    <a:lnTo>
                      <a:pt x="222" y="22"/>
                    </a:lnTo>
                    <a:lnTo>
                      <a:pt x="222" y="30"/>
                    </a:lnTo>
                    <a:lnTo>
                      <a:pt x="253" y="25"/>
                    </a:lnTo>
                    <a:lnTo>
                      <a:pt x="270" y="28"/>
                    </a:lnTo>
                    <a:lnTo>
                      <a:pt x="280" y="39"/>
                    </a:lnTo>
                    <a:lnTo>
                      <a:pt x="270" y="52"/>
                    </a:lnTo>
                    <a:lnTo>
                      <a:pt x="243" y="51"/>
                    </a:lnTo>
                    <a:lnTo>
                      <a:pt x="225" y="61"/>
                    </a:lnTo>
                    <a:lnTo>
                      <a:pt x="194" y="61"/>
                    </a:lnTo>
                    <a:lnTo>
                      <a:pt x="164" y="75"/>
                    </a:lnTo>
                    <a:lnTo>
                      <a:pt x="137" y="81"/>
                    </a:lnTo>
                    <a:lnTo>
                      <a:pt x="116" y="67"/>
                    </a:lnTo>
                    <a:lnTo>
                      <a:pt x="88" y="51"/>
                    </a:lnTo>
                    <a:lnTo>
                      <a:pt x="60" y="51"/>
                    </a:lnTo>
                    <a:lnTo>
                      <a:pt x="24" y="42"/>
                    </a:lnTo>
                    <a:lnTo>
                      <a:pt x="10" y="30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37" y="6"/>
                    </a:lnTo>
                    <a:lnTo>
                      <a:pt x="58" y="16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00040" y="6175080"/>
                <a:ext cx="29160" cy="291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15" y="0"/>
                    </a:lnTo>
                    <a:lnTo>
                      <a:pt x="3" y="9"/>
                    </a:lnTo>
                    <a:lnTo>
                      <a:pt x="0" y="23"/>
                    </a:lnTo>
                    <a:lnTo>
                      <a:pt x="0" y="39"/>
                    </a:lnTo>
                    <a:lnTo>
                      <a:pt x="13" y="42"/>
                    </a:lnTo>
                    <a:lnTo>
                      <a:pt x="36" y="2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800560" y="6453000"/>
                <a:ext cx="40680" cy="2376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57" y="9"/>
                    </a:moveTo>
                    <a:lnTo>
                      <a:pt x="31" y="34"/>
                    </a:lnTo>
                    <a:lnTo>
                      <a:pt x="12" y="34"/>
                    </a:lnTo>
                    <a:lnTo>
                      <a:pt x="0" y="23"/>
                    </a:lnTo>
                    <a:lnTo>
                      <a:pt x="8" y="3"/>
                    </a:lnTo>
                    <a:lnTo>
                      <a:pt x="36" y="0"/>
                    </a:lnTo>
                    <a:lnTo>
                      <a:pt x="57" y="9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806320" y="6506280"/>
                <a:ext cx="40680" cy="35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59" y="0"/>
                    </a:moveTo>
                    <a:lnTo>
                      <a:pt x="59" y="16"/>
                    </a:lnTo>
                    <a:lnTo>
                      <a:pt x="23" y="42"/>
                    </a:lnTo>
                    <a:lnTo>
                      <a:pt x="7" y="49"/>
                    </a:lnTo>
                    <a:lnTo>
                      <a:pt x="0" y="46"/>
                    </a:lnTo>
                    <a:lnTo>
                      <a:pt x="6" y="28"/>
                    </a:lnTo>
                    <a:lnTo>
                      <a:pt x="31" y="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656200" y="6225480"/>
                <a:ext cx="50400" cy="38880"/>
              </a:xfrm>
              <a:custGeom>
                <a:avLst/>
                <a:gdLst/>
                <a:ahLst/>
                <a:rect l="l" t="t" r="r" b="b"/>
                <a:pathLst>
                  <a:path w="73" h="55">
                    <a:moveTo>
                      <a:pt x="39" y="0"/>
                    </a:moveTo>
                    <a:lnTo>
                      <a:pt x="73" y="39"/>
                    </a:lnTo>
                    <a:lnTo>
                      <a:pt x="67" y="49"/>
                    </a:lnTo>
                    <a:lnTo>
                      <a:pt x="49" y="55"/>
                    </a:lnTo>
                    <a:lnTo>
                      <a:pt x="46" y="42"/>
                    </a:lnTo>
                    <a:lnTo>
                      <a:pt x="39" y="36"/>
                    </a:lnTo>
                    <a:lnTo>
                      <a:pt x="28" y="42"/>
                    </a:lnTo>
                    <a:lnTo>
                      <a:pt x="16" y="33"/>
                    </a:lnTo>
                    <a:lnTo>
                      <a:pt x="10" y="25"/>
                    </a:lnTo>
                    <a:lnTo>
                      <a:pt x="18" y="19"/>
                    </a:lnTo>
                    <a:lnTo>
                      <a:pt x="3" y="28"/>
                    </a:lnTo>
                    <a:lnTo>
                      <a:pt x="0" y="19"/>
                    </a:lnTo>
                    <a:lnTo>
                      <a:pt x="21" y="1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45929" dir="18228878" blurRad="0" rotWithShape="0">
                  <a:srgbClr val="e271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843960" y="5037120"/>
              <a:ext cx="747720" cy="956880"/>
              <a:chOff x="6843960" y="5037120"/>
              <a:chExt cx="747720" cy="956880"/>
            </a:xfrm>
          </p:grpSpPr>
          <p:sp>
            <p:nvSpPr>
              <p:cNvPr id="132" name=""/>
              <p:cNvSpPr/>
              <p:nvPr/>
            </p:nvSpPr>
            <p:spPr>
              <a:xfrm>
                <a:off x="7525440" y="5864760"/>
                <a:ext cx="65880" cy="129240"/>
              </a:xfrm>
              <a:custGeom>
                <a:avLst/>
                <a:gdLst/>
                <a:ahLst/>
                <a:rect l="l" t="t" r="r" b="b"/>
                <a:pathLst>
                  <a:path w="93" h="182">
                    <a:moveTo>
                      <a:pt x="93" y="0"/>
                    </a:moveTo>
                    <a:lnTo>
                      <a:pt x="63" y="39"/>
                    </a:lnTo>
                    <a:lnTo>
                      <a:pt x="26" y="39"/>
                    </a:lnTo>
                    <a:lnTo>
                      <a:pt x="0" y="62"/>
                    </a:lnTo>
                    <a:lnTo>
                      <a:pt x="5" y="92"/>
                    </a:lnTo>
                    <a:lnTo>
                      <a:pt x="5" y="143"/>
                    </a:lnTo>
                    <a:lnTo>
                      <a:pt x="26" y="182"/>
                    </a:lnTo>
                    <a:lnTo>
                      <a:pt x="51" y="172"/>
                    </a:lnTo>
                    <a:lnTo>
                      <a:pt x="57" y="149"/>
                    </a:lnTo>
                    <a:lnTo>
                      <a:pt x="83" y="98"/>
                    </a:lnTo>
                    <a:lnTo>
                      <a:pt x="83" y="71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43960" y="5037120"/>
                <a:ext cx="747720" cy="788400"/>
              </a:xfrm>
              <a:custGeom>
                <a:avLst/>
                <a:gdLst/>
                <a:ahLst/>
                <a:rect l="l" t="t" r="r" b="b"/>
                <a:pathLst>
                  <a:path w="1064" h="1122">
                    <a:moveTo>
                      <a:pt x="18" y="159"/>
                    </a:moveTo>
                    <a:lnTo>
                      <a:pt x="28" y="186"/>
                    </a:lnTo>
                    <a:lnTo>
                      <a:pt x="18" y="209"/>
                    </a:lnTo>
                    <a:lnTo>
                      <a:pt x="15" y="218"/>
                    </a:lnTo>
                    <a:lnTo>
                      <a:pt x="0" y="212"/>
                    </a:lnTo>
                    <a:lnTo>
                      <a:pt x="6" y="226"/>
                    </a:lnTo>
                    <a:lnTo>
                      <a:pt x="6" y="239"/>
                    </a:lnTo>
                    <a:lnTo>
                      <a:pt x="18" y="262"/>
                    </a:lnTo>
                    <a:lnTo>
                      <a:pt x="42" y="254"/>
                    </a:lnTo>
                    <a:lnTo>
                      <a:pt x="73" y="290"/>
                    </a:lnTo>
                    <a:lnTo>
                      <a:pt x="85" y="314"/>
                    </a:lnTo>
                    <a:lnTo>
                      <a:pt x="103" y="333"/>
                    </a:lnTo>
                    <a:lnTo>
                      <a:pt x="127" y="333"/>
                    </a:lnTo>
                    <a:lnTo>
                      <a:pt x="137" y="354"/>
                    </a:lnTo>
                    <a:lnTo>
                      <a:pt x="158" y="373"/>
                    </a:lnTo>
                    <a:lnTo>
                      <a:pt x="170" y="376"/>
                    </a:lnTo>
                    <a:lnTo>
                      <a:pt x="173" y="384"/>
                    </a:lnTo>
                    <a:lnTo>
                      <a:pt x="166" y="402"/>
                    </a:lnTo>
                    <a:lnTo>
                      <a:pt x="166" y="418"/>
                    </a:lnTo>
                    <a:lnTo>
                      <a:pt x="163" y="435"/>
                    </a:lnTo>
                    <a:lnTo>
                      <a:pt x="158" y="464"/>
                    </a:lnTo>
                    <a:lnTo>
                      <a:pt x="179" y="491"/>
                    </a:lnTo>
                    <a:lnTo>
                      <a:pt x="203" y="510"/>
                    </a:lnTo>
                    <a:lnTo>
                      <a:pt x="203" y="524"/>
                    </a:lnTo>
                    <a:lnTo>
                      <a:pt x="200" y="572"/>
                    </a:lnTo>
                    <a:lnTo>
                      <a:pt x="194" y="611"/>
                    </a:lnTo>
                    <a:lnTo>
                      <a:pt x="200" y="628"/>
                    </a:lnTo>
                    <a:lnTo>
                      <a:pt x="221" y="644"/>
                    </a:lnTo>
                    <a:lnTo>
                      <a:pt x="221" y="677"/>
                    </a:lnTo>
                    <a:lnTo>
                      <a:pt x="221" y="700"/>
                    </a:lnTo>
                    <a:lnTo>
                      <a:pt x="197" y="667"/>
                    </a:lnTo>
                    <a:lnTo>
                      <a:pt x="184" y="644"/>
                    </a:lnTo>
                    <a:lnTo>
                      <a:pt x="176" y="650"/>
                    </a:lnTo>
                    <a:lnTo>
                      <a:pt x="182" y="667"/>
                    </a:lnTo>
                    <a:lnTo>
                      <a:pt x="173" y="686"/>
                    </a:lnTo>
                    <a:lnTo>
                      <a:pt x="161" y="706"/>
                    </a:lnTo>
                    <a:lnTo>
                      <a:pt x="152" y="720"/>
                    </a:lnTo>
                    <a:lnTo>
                      <a:pt x="163" y="733"/>
                    </a:lnTo>
                    <a:lnTo>
                      <a:pt x="155" y="748"/>
                    </a:lnTo>
                    <a:lnTo>
                      <a:pt x="137" y="768"/>
                    </a:lnTo>
                    <a:lnTo>
                      <a:pt x="134" y="784"/>
                    </a:lnTo>
                    <a:lnTo>
                      <a:pt x="124" y="804"/>
                    </a:lnTo>
                    <a:lnTo>
                      <a:pt x="96" y="840"/>
                    </a:lnTo>
                    <a:lnTo>
                      <a:pt x="80" y="876"/>
                    </a:lnTo>
                    <a:lnTo>
                      <a:pt x="80" y="882"/>
                    </a:lnTo>
                    <a:lnTo>
                      <a:pt x="88" y="893"/>
                    </a:lnTo>
                    <a:lnTo>
                      <a:pt x="78" y="909"/>
                    </a:lnTo>
                    <a:lnTo>
                      <a:pt x="82" y="929"/>
                    </a:lnTo>
                    <a:lnTo>
                      <a:pt x="98" y="955"/>
                    </a:lnTo>
                    <a:lnTo>
                      <a:pt x="163" y="994"/>
                    </a:lnTo>
                    <a:lnTo>
                      <a:pt x="210" y="1036"/>
                    </a:lnTo>
                    <a:lnTo>
                      <a:pt x="225" y="1030"/>
                    </a:lnTo>
                    <a:lnTo>
                      <a:pt x="249" y="1021"/>
                    </a:lnTo>
                    <a:lnTo>
                      <a:pt x="328" y="1057"/>
                    </a:lnTo>
                    <a:lnTo>
                      <a:pt x="339" y="1069"/>
                    </a:lnTo>
                    <a:lnTo>
                      <a:pt x="346" y="1092"/>
                    </a:lnTo>
                    <a:lnTo>
                      <a:pt x="360" y="1099"/>
                    </a:lnTo>
                    <a:lnTo>
                      <a:pt x="379" y="1102"/>
                    </a:lnTo>
                    <a:lnTo>
                      <a:pt x="406" y="1119"/>
                    </a:lnTo>
                    <a:lnTo>
                      <a:pt x="453" y="1122"/>
                    </a:lnTo>
                    <a:lnTo>
                      <a:pt x="466" y="1102"/>
                    </a:lnTo>
                    <a:lnTo>
                      <a:pt x="471" y="1080"/>
                    </a:lnTo>
                    <a:lnTo>
                      <a:pt x="471" y="1055"/>
                    </a:lnTo>
                    <a:lnTo>
                      <a:pt x="492" y="1036"/>
                    </a:lnTo>
                    <a:lnTo>
                      <a:pt x="531" y="1013"/>
                    </a:lnTo>
                    <a:lnTo>
                      <a:pt x="549" y="1010"/>
                    </a:lnTo>
                    <a:lnTo>
                      <a:pt x="570" y="998"/>
                    </a:lnTo>
                    <a:lnTo>
                      <a:pt x="588" y="998"/>
                    </a:lnTo>
                    <a:lnTo>
                      <a:pt x="609" y="1013"/>
                    </a:lnTo>
                    <a:lnTo>
                      <a:pt x="624" y="1033"/>
                    </a:lnTo>
                    <a:lnTo>
                      <a:pt x="642" y="1033"/>
                    </a:lnTo>
                    <a:lnTo>
                      <a:pt x="658" y="1037"/>
                    </a:lnTo>
                    <a:lnTo>
                      <a:pt x="689" y="1040"/>
                    </a:lnTo>
                    <a:lnTo>
                      <a:pt x="710" y="1069"/>
                    </a:lnTo>
                    <a:lnTo>
                      <a:pt x="728" y="1083"/>
                    </a:lnTo>
                    <a:lnTo>
                      <a:pt x="754" y="1092"/>
                    </a:lnTo>
                    <a:lnTo>
                      <a:pt x="777" y="1105"/>
                    </a:lnTo>
                    <a:lnTo>
                      <a:pt x="789" y="1108"/>
                    </a:lnTo>
                    <a:lnTo>
                      <a:pt x="821" y="1074"/>
                    </a:lnTo>
                    <a:lnTo>
                      <a:pt x="842" y="1069"/>
                    </a:lnTo>
                    <a:lnTo>
                      <a:pt x="858" y="1055"/>
                    </a:lnTo>
                    <a:lnTo>
                      <a:pt x="880" y="1037"/>
                    </a:lnTo>
                    <a:lnTo>
                      <a:pt x="909" y="1036"/>
                    </a:lnTo>
                    <a:lnTo>
                      <a:pt x="906" y="997"/>
                    </a:lnTo>
                    <a:lnTo>
                      <a:pt x="901" y="985"/>
                    </a:lnTo>
                    <a:lnTo>
                      <a:pt x="888" y="965"/>
                    </a:lnTo>
                    <a:lnTo>
                      <a:pt x="879" y="968"/>
                    </a:lnTo>
                    <a:lnTo>
                      <a:pt x="867" y="965"/>
                    </a:lnTo>
                    <a:lnTo>
                      <a:pt x="858" y="949"/>
                    </a:lnTo>
                    <a:lnTo>
                      <a:pt x="855" y="909"/>
                    </a:lnTo>
                    <a:lnTo>
                      <a:pt x="876" y="884"/>
                    </a:lnTo>
                    <a:lnTo>
                      <a:pt x="860" y="863"/>
                    </a:lnTo>
                    <a:lnTo>
                      <a:pt x="860" y="854"/>
                    </a:lnTo>
                    <a:lnTo>
                      <a:pt x="891" y="821"/>
                    </a:lnTo>
                    <a:lnTo>
                      <a:pt x="891" y="808"/>
                    </a:lnTo>
                    <a:lnTo>
                      <a:pt x="885" y="768"/>
                    </a:lnTo>
                    <a:lnTo>
                      <a:pt x="904" y="748"/>
                    </a:lnTo>
                    <a:lnTo>
                      <a:pt x="888" y="726"/>
                    </a:lnTo>
                    <a:lnTo>
                      <a:pt x="888" y="709"/>
                    </a:lnTo>
                    <a:lnTo>
                      <a:pt x="885" y="680"/>
                    </a:lnTo>
                    <a:lnTo>
                      <a:pt x="879" y="673"/>
                    </a:lnTo>
                    <a:lnTo>
                      <a:pt x="860" y="673"/>
                    </a:lnTo>
                    <a:lnTo>
                      <a:pt x="844" y="677"/>
                    </a:lnTo>
                    <a:lnTo>
                      <a:pt x="839" y="683"/>
                    </a:lnTo>
                    <a:lnTo>
                      <a:pt x="828" y="694"/>
                    </a:lnTo>
                    <a:lnTo>
                      <a:pt x="813" y="700"/>
                    </a:lnTo>
                    <a:lnTo>
                      <a:pt x="807" y="683"/>
                    </a:lnTo>
                    <a:lnTo>
                      <a:pt x="818" y="670"/>
                    </a:lnTo>
                    <a:lnTo>
                      <a:pt x="824" y="658"/>
                    </a:lnTo>
                    <a:lnTo>
                      <a:pt x="824" y="644"/>
                    </a:lnTo>
                    <a:lnTo>
                      <a:pt x="852" y="614"/>
                    </a:lnTo>
                    <a:lnTo>
                      <a:pt x="867" y="608"/>
                    </a:lnTo>
                    <a:lnTo>
                      <a:pt x="870" y="586"/>
                    </a:lnTo>
                    <a:lnTo>
                      <a:pt x="885" y="566"/>
                    </a:lnTo>
                    <a:lnTo>
                      <a:pt x="930" y="530"/>
                    </a:lnTo>
                    <a:lnTo>
                      <a:pt x="943" y="530"/>
                    </a:lnTo>
                    <a:lnTo>
                      <a:pt x="948" y="516"/>
                    </a:lnTo>
                    <a:lnTo>
                      <a:pt x="964" y="500"/>
                    </a:lnTo>
                    <a:lnTo>
                      <a:pt x="976" y="500"/>
                    </a:lnTo>
                    <a:lnTo>
                      <a:pt x="982" y="491"/>
                    </a:lnTo>
                    <a:lnTo>
                      <a:pt x="989" y="485"/>
                    </a:lnTo>
                    <a:lnTo>
                      <a:pt x="1000" y="465"/>
                    </a:lnTo>
                    <a:lnTo>
                      <a:pt x="1010" y="435"/>
                    </a:lnTo>
                    <a:lnTo>
                      <a:pt x="1013" y="415"/>
                    </a:lnTo>
                    <a:lnTo>
                      <a:pt x="1013" y="399"/>
                    </a:lnTo>
                    <a:lnTo>
                      <a:pt x="1028" y="379"/>
                    </a:lnTo>
                    <a:lnTo>
                      <a:pt x="1052" y="366"/>
                    </a:lnTo>
                    <a:lnTo>
                      <a:pt x="1064" y="352"/>
                    </a:lnTo>
                    <a:lnTo>
                      <a:pt x="1064" y="346"/>
                    </a:lnTo>
                    <a:lnTo>
                      <a:pt x="1043" y="330"/>
                    </a:lnTo>
                    <a:lnTo>
                      <a:pt x="1034" y="324"/>
                    </a:lnTo>
                    <a:lnTo>
                      <a:pt x="1003" y="321"/>
                    </a:lnTo>
                    <a:lnTo>
                      <a:pt x="968" y="314"/>
                    </a:lnTo>
                    <a:lnTo>
                      <a:pt x="955" y="313"/>
                    </a:lnTo>
                    <a:lnTo>
                      <a:pt x="943" y="307"/>
                    </a:lnTo>
                    <a:lnTo>
                      <a:pt x="930" y="293"/>
                    </a:lnTo>
                    <a:lnTo>
                      <a:pt x="919" y="271"/>
                    </a:lnTo>
                    <a:lnTo>
                      <a:pt x="909" y="257"/>
                    </a:lnTo>
                    <a:lnTo>
                      <a:pt x="895" y="251"/>
                    </a:lnTo>
                    <a:lnTo>
                      <a:pt x="880" y="245"/>
                    </a:lnTo>
                    <a:lnTo>
                      <a:pt x="873" y="242"/>
                    </a:lnTo>
                    <a:lnTo>
                      <a:pt x="852" y="223"/>
                    </a:lnTo>
                    <a:lnTo>
                      <a:pt x="825" y="200"/>
                    </a:lnTo>
                    <a:lnTo>
                      <a:pt x="810" y="179"/>
                    </a:lnTo>
                    <a:lnTo>
                      <a:pt x="792" y="173"/>
                    </a:lnTo>
                    <a:lnTo>
                      <a:pt x="782" y="164"/>
                    </a:lnTo>
                    <a:lnTo>
                      <a:pt x="774" y="143"/>
                    </a:lnTo>
                    <a:lnTo>
                      <a:pt x="751" y="114"/>
                    </a:lnTo>
                    <a:lnTo>
                      <a:pt x="746" y="95"/>
                    </a:lnTo>
                    <a:lnTo>
                      <a:pt x="728" y="75"/>
                    </a:lnTo>
                    <a:lnTo>
                      <a:pt x="719" y="58"/>
                    </a:lnTo>
                    <a:lnTo>
                      <a:pt x="710" y="45"/>
                    </a:lnTo>
                    <a:lnTo>
                      <a:pt x="691" y="30"/>
                    </a:lnTo>
                    <a:lnTo>
                      <a:pt x="673" y="9"/>
                    </a:lnTo>
                    <a:lnTo>
                      <a:pt x="658" y="0"/>
                    </a:lnTo>
                    <a:lnTo>
                      <a:pt x="619" y="3"/>
                    </a:lnTo>
                    <a:lnTo>
                      <a:pt x="603" y="3"/>
                    </a:lnTo>
                    <a:lnTo>
                      <a:pt x="582" y="19"/>
                    </a:lnTo>
                    <a:lnTo>
                      <a:pt x="595" y="33"/>
                    </a:lnTo>
                    <a:lnTo>
                      <a:pt x="580" y="52"/>
                    </a:lnTo>
                    <a:lnTo>
                      <a:pt x="541" y="105"/>
                    </a:lnTo>
                    <a:lnTo>
                      <a:pt x="521" y="117"/>
                    </a:lnTo>
                    <a:lnTo>
                      <a:pt x="466" y="123"/>
                    </a:lnTo>
                    <a:lnTo>
                      <a:pt x="443" y="131"/>
                    </a:lnTo>
                    <a:lnTo>
                      <a:pt x="430" y="144"/>
                    </a:lnTo>
                    <a:lnTo>
                      <a:pt x="425" y="156"/>
                    </a:lnTo>
                    <a:lnTo>
                      <a:pt x="404" y="150"/>
                    </a:lnTo>
                    <a:lnTo>
                      <a:pt x="370" y="156"/>
                    </a:lnTo>
                    <a:lnTo>
                      <a:pt x="349" y="153"/>
                    </a:lnTo>
                    <a:lnTo>
                      <a:pt x="331" y="140"/>
                    </a:lnTo>
                    <a:lnTo>
                      <a:pt x="318" y="123"/>
                    </a:lnTo>
                    <a:lnTo>
                      <a:pt x="306" y="117"/>
                    </a:lnTo>
                    <a:lnTo>
                      <a:pt x="316" y="104"/>
                    </a:lnTo>
                    <a:lnTo>
                      <a:pt x="300" y="89"/>
                    </a:lnTo>
                    <a:lnTo>
                      <a:pt x="288" y="86"/>
                    </a:lnTo>
                    <a:lnTo>
                      <a:pt x="277" y="84"/>
                    </a:lnTo>
                    <a:lnTo>
                      <a:pt x="275" y="89"/>
                    </a:lnTo>
                    <a:lnTo>
                      <a:pt x="285" y="101"/>
                    </a:lnTo>
                    <a:lnTo>
                      <a:pt x="279" y="108"/>
                    </a:lnTo>
                    <a:lnTo>
                      <a:pt x="285" y="125"/>
                    </a:lnTo>
                    <a:lnTo>
                      <a:pt x="288" y="144"/>
                    </a:lnTo>
                    <a:lnTo>
                      <a:pt x="288" y="159"/>
                    </a:lnTo>
                    <a:lnTo>
                      <a:pt x="285" y="162"/>
                    </a:lnTo>
                    <a:lnTo>
                      <a:pt x="275" y="170"/>
                    </a:lnTo>
                    <a:lnTo>
                      <a:pt x="272" y="183"/>
                    </a:lnTo>
                    <a:lnTo>
                      <a:pt x="272" y="199"/>
                    </a:lnTo>
                    <a:lnTo>
                      <a:pt x="270" y="209"/>
                    </a:lnTo>
                    <a:lnTo>
                      <a:pt x="254" y="206"/>
                    </a:lnTo>
                    <a:lnTo>
                      <a:pt x="236" y="195"/>
                    </a:lnTo>
                    <a:lnTo>
                      <a:pt x="225" y="206"/>
                    </a:lnTo>
                    <a:lnTo>
                      <a:pt x="207" y="192"/>
                    </a:lnTo>
                    <a:lnTo>
                      <a:pt x="197" y="189"/>
                    </a:lnTo>
                    <a:lnTo>
                      <a:pt x="184" y="200"/>
                    </a:lnTo>
                    <a:lnTo>
                      <a:pt x="173" y="199"/>
                    </a:lnTo>
                    <a:lnTo>
                      <a:pt x="173" y="189"/>
                    </a:lnTo>
                    <a:lnTo>
                      <a:pt x="130" y="144"/>
                    </a:lnTo>
                    <a:lnTo>
                      <a:pt x="119" y="143"/>
                    </a:lnTo>
                    <a:lnTo>
                      <a:pt x="112" y="150"/>
                    </a:lnTo>
                    <a:lnTo>
                      <a:pt x="94" y="159"/>
                    </a:lnTo>
                    <a:lnTo>
                      <a:pt x="82" y="162"/>
                    </a:lnTo>
                    <a:lnTo>
                      <a:pt x="70" y="147"/>
                    </a:lnTo>
                    <a:lnTo>
                      <a:pt x="39" y="147"/>
                    </a:lnTo>
                    <a:lnTo>
                      <a:pt x="18" y="159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6851880" y="4241880"/>
              <a:ext cx="441360" cy="788760"/>
            </a:xfrm>
            <a:custGeom>
              <a:avLst/>
              <a:gdLst/>
              <a:ahLst/>
              <a:rect l="l" t="t" r="r" b="b"/>
              <a:pathLst>
                <a:path w="630" h="1120">
                  <a:moveTo>
                    <a:pt x="189" y="718"/>
                  </a:moveTo>
                  <a:lnTo>
                    <a:pt x="218" y="747"/>
                  </a:lnTo>
                  <a:lnTo>
                    <a:pt x="206" y="774"/>
                  </a:lnTo>
                  <a:lnTo>
                    <a:pt x="187" y="796"/>
                  </a:lnTo>
                  <a:lnTo>
                    <a:pt x="158" y="811"/>
                  </a:lnTo>
                  <a:lnTo>
                    <a:pt x="136" y="825"/>
                  </a:lnTo>
                  <a:lnTo>
                    <a:pt x="112" y="828"/>
                  </a:lnTo>
                  <a:lnTo>
                    <a:pt x="99" y="839"/>
                  </a:lnTo>
                  <a:lnTo>
                    <a:pt x="118" y="872"/>
                  </a:lnTo>
                  <a:lnTo>
                    <a:pt x="145" y="872"/>
                  </a:lnTo>
                  <a:lnTo>
                    <a:pt x="158" y="875"/>
                  </a:lnTo>
                  <a:lnTo>
                    <a:pt x="158" y="897"/>
                  </a:lnTo>
                  <a:lnTo>
                    <a:pt x="173" y="897"/>
                  </a:lnTo>
                  <a:lnTo>
                    <a:pt x="185" y="891"/>
                  </a:lnTo>
                  <a:lnTo>
                    <a:pt x="192" y="914"/>
                  </a:lnTo>
                  <a:lnTo>
                    <a:pt x="207" y="933"/>
                  </a:lnTo>
                  <a:lnTo>
                    <a:pt x="233" y="933"/>
                  </a:lnTo>
                  <a:lnTo>
                    <a:pt x="252" y="927"/>
                  </a:lnTo>
                  <a:lnTo>
                    <a:pt x="267" y="933"/>
                  </a:lnTo>
                  <a:lnTo>
                    <a:pt x="228" y="970"/>
                  </a:lnTo>
                  <a:lnTo>
                    <a:pt x="212" y="979"/>
                  </a:lnTo>
                  <a:lnTo>
                    <a:pt x="192" y="970"/>
                  </a:lnTo>
                  <a:lnTo>
                    <a:pt x="145" y="950"/>
                  </a:lnTo>
                  <a:lnTo>
                    <a:pt x="122" y="950"/>
                  </a:lnTo>
                  <a:lnTo>
                    <a:pt x="101" y="970"/>
                  </a:lnTo>
                  <a:lnTo>
                    <a:pt x="73" y="995"/>
                  </a:lnTo>
                  <a:lnTo>
                    <a:pt x="57" y="1009"/>
                  </a:lnTo>
                  <a:lnTo>
                    <a:pt x="39" y="1015"/>
                  </a:lnTo>
                  <a:lnTo>
                    <a:pt x="18" y="1025"/>
                  </a:lnTo>
                  <a:lnTo>
                    <a:pt x="3" y="1039"/>
                  </a:lnTo>
                  <a:lnTo>
                    <a:pt x="0" y="1048"/>
                  </a:lnTo>
                  <a:lnTo>
                    <a:pt x="18" y="1051"/>
                  </a:lnTo>
                  <a:lnTo>
                    <a:pt x="31" y="1064"/>
                  </a:lnTo>
                  <a:lnTo>
                    <a:pt x="49" y="1073"/>
                  </a:lnTo>
                  <a:lnTo>
                    <a:pt x="67" y="1064"/>
                  </a:lnTo>
                  <a:lnTo>
                    <a:pt x="83" y="1055"/>
                  </a:lnTo>
                  <a:lnTo>
                    <a:pt x="101" y="1058"/>
                  </a:lnTo>
                  <a:lnTo>
                    <a:pt x="127" y="1075"/>
                  </a:lnTo>
                  <a:lnTo>
                    <a:pt x="154" y="1087"/>
                  </a:lnTo>
                  <a:lnTo>
                    <a:pt x="171" y="1075"/>
                  </a:lnTo>
                  <a:lnTo>
                    <a:pt x="179" y="1054"/>
                  </a:lnTo>
                  <a:lnTo>
                    <a:pt x="207" y="1036"/>
                  </a:lnTo>
                  <a:lnTo>
                    <a:pt x="225" y="1036"/>
                  </a:lnTo>
                  <a:lnTo>
                    <a:pt x="242" y="1055"/>
                  </a:lnTo>
                  <a:lnTo>
                    <a:pt x="254" y="1067"/>
                  </a:lnTo>
                  <a:lnTo>
                    <a:pt x="275" y="1067"/>
                  </a:lnTo>
                  <a:lnTo>
                    <a:pt x="303" y="1070"/>
                  </a:lnTo>
                  <a:lnTo>
                    <a:pt x="321" y="1078"/>
                  </a:lnTo>
                  <a:lnTo>
                    <a:pt x="340" y="1064"/>
                  </a:lnTo>
                  <a:lnTo>
                    <a:pt x="355" y="1064"/>
                  </a:lnTo>
                  <a:lnTo>
                    <a:pt x="370" y="1073"/>
                  </a:lnTo>
                  <a:lnTo>
                    <a:pt x="388" y="1095"/>
                  </a:lnTo>
                  <a:lnTo>
                    <a:pt x="412" y="1098"/>
                  </a:lnTo>
                  <a:lnTo>
                    <a:pt x="439" y="1104"/>
                  </a:lnTo>
                  <a:lnTo>
                    <a:pt x="457" y="1114"/>
                  </a:lnTo>
                  <a:lnTo>
                    <a:pt x="479" y="1120"/>
                  </a:lnTo>
                  <a:lnTo>
                    <a:pt x="497" y="1110"/>
                  </a:lnTo>
                  <a:lnTo>
                    <a:pt x="521" y="1095"/>
                  </a:lnTo>
                  <a:lnTo>
                    <a:pt x="537" y="1092"/>
                  </a:lnTo>
                  <a:lnTo>
                    <a:pt x="555" y="1087"/>
                  </a:lnTo>
                  <a:lnTo>
                    <a:pt x="573" y="1070"/>
                  </a:lnTo>
                  <a:lnTo>
                    <a:pt x="560" y="1054"/>
                  </a:lnTo>
                  <a:lnTo>
                    <a:pt x="531" y="1036"/>
                  </a:lnTo>
                  <a:lnTo>
                    <a:pt x="521" y="1025"/>
                  </a:lnTo>
                  <a:lnTo>
                    <a:pt x="521" y="1015"/>
                  </a:lnTo>
                  <a:lnTo>
                    <a:pt x="534" y="1003"/>
                  </a:lnTo>
                  <a:lnTo>
                    <a:pt x="555" y="1000"/>
                  </a:lnTo>
                  <a:lnTo>
                    <a:pt x="576" y="989"/>
                  </a:lnTo>
                  <a:lnTo>
                    <a:pt x="609" y="950"/>
                  </a:lnTo>
                  <a:lnTo>
                    <a:pt x="624" y="930"/>
                  </a:lnTo>
                  <a:lnTo>
                    <a:pt x="630" y="897"/>
                  </a:lnTo>
                  <a:lnTo>
                    <a:pt x="630" y="878"/>
                  </a:lnTo>
                  <a:lnTo>
                    <a:pt x="615" y="864"/>
                  </a:lnTo>
                  <a:lnTo>
                    <a:pt x="594" y="848"/>
                  </a:lnTo>
                  <a:lnTo>
                    <a:pt x="576" y="839"/>
                  </a:lnTo>
                  <a:lnTo>
                    <a:pt x="555" y="842"/>
                  </a:lnTo>
                  <a:lnTo>
                    <a:pt x="542" y="849"/>
                  </a:lnTo>
                  <a:lnTo>
                    <a:pt x="537" y="836"/>
                  </a:lnTo>
                  <a:lnTo>
                    <a:pt x="548" y="813"/>
                  </a:lnTo>
                  <a:lnTo>
                    <a:pt x="552" y="796"/>
                  </a:lnTo>
                  <a:lnTo>
                    <a:pt x="549" y="766"/>
                  </a:lnTo>
                  <a:lnTo>
                    <a:pt x="548" y="724"/>
                  </a:lnTo>
                  <a:lnTo>
                    <a:pt x="555" y="691"/>
                  </a:lnTo>
                  <a:lnTo>
                    <a:pt x="549" y="671"/>
                  </a:lnTo>
                  <a:lnTo>
                    <a:pt x="537" y="649"/>
                  </a:lnTo>
                  <a:lnTo>
                    <a:pt x="506" y="590"/>
                  </a:lnTo>
                  <a:lnTo>
                    <a:pt x="493" y="563"/>
                  </a:lnTo>
                  <a:lnTo>
                    <a:pt x="488" y="530"/>
                  </a:lnTo>
                  <a:lnTo>
                    <a:pt x="485" y="510"/>
                  </a:lnTo>
                  <a:lnTo>
                    <a:pt x="493" y="477"/>
                  </a:lnTo>
                  <a:lnTo>
                    <a:pt x="493" y="451"/>
                  </a:lnTo>
                  <a:lnTo>
                    <a:pt x="488" y="423"/>
                  </a:lnTo>
                  <a:lnTo>
                    <a:pt x="475" y="409"/>
                  </a:lnTo>
                  <a:lnTo>
                    <a:pt x="451" y="384"/>
                  </a:lnTo>
                  <a:lnTo>
                    <a:pt x="433" y="376"/>
                  </a:lnTo>
                  <a:lnTo>
                    <a:pt x="415" y="373"/>
                  </a:lnTo>
                  <a:lnTo>
                    <a:pt x="402" y="370"/>
                  </a:lnTo>
                  <a:lnTo>
                    <a:pt x="402" y="357"/>
                  </a:lnTo>
                  <a:lnTo>
                    <a:pt x="409" y="346"/>
                  </a:lnTo>
                  <a:lnTo>
                    <a:pt x="430" y="343"/>
                  </a:lnTo>
                  <a:lnTo>
                    <a:pt x="449" y="351"/>
                  </a:lnTo>
                  <a:lnTo>
                    <a:pt x="461" y="354"/>
                  </a:lnTo>
                  <a:lnTo>
                    <a:pt x="469" y="340"/>
                  </a:lnTo>
                  <a:lnTo>
                    <a:pt x="467" y="323"/>
                  </a:lnTo>
                  <a:lnTo>
                    <a:pt x="542" y="248"/>
                  </a:lnTo>
                  <a:lnTo>
                    <a:pt x="555" y="232"/>
                  </a:lnTo>
                  <a:lnTo>
                    <a:pt x="555" y="197"/>
                  </a:lnTo>
                  <a:lnTo>
                    <a:pt x="537" y="180"/>
                  </a:lnTo>
                  <a:lnTo>
                    <a:pt x="516" y="177"/>
                  </a:lnTo>
                  <a:lnTo>
                    <a:pt x="497" y="147"/>
                  </a:lnTo>
                  <a:lnTo>
                    <a:pt x="461" y="147"/>
                  </a:lnTo>
                  <a:lnTo>
                    <a:pt x="461" y="147"/>
                  </a:lnTo>
                  <a:lnTo>
                    <a:pt x="428" y="153"/>
                  </a:lnTo>
                  <a:lnTo>
                    <a:pt x="421" y="150"/>
                  </a:lnTo>
                  <a:lnTo>
                    <a:pt x="412" y="137"/>
                  </a:lnTo>
                  <a:lnTo>
                    <a:pt x="428" y="125"/>
                  </a:lnTo>
                  <a:lnTo>
                    <a:pt x="443" y="108"/>
                  </a:lnTo>
                  <a:lnTo>
                    <a:pt x="475" y="78"/>
                  </a:lnTo>
                  <a:lnTo>
                    <a:pt x="500" y="75"/>
                  </a:lnTo>
                  <a:lnTo>
                    <a:pt x="524" y="55"/>
                  </a:lnTo>
                  <a:lnTo>
                    <a:pt x="548" y="36"/>
                  </a:lnTo>
                  <a:lnTo>
                    <a:pt x="495" y="22"/>
                  </a:lnTo>
                  <a:lnTo>
                    <a:pt x="472" y="19"/>
                  </a:lnTo>
                  <a:lnTo>
                    <a:pt x="446" y="16"/>
                  </a:lnTo>
                  <a:lnTo>
                    <a:pt x="415" y="0"/>
                  </a:lnTo>
                  <a:lnTo>
                    <a:pt x="387" y="33"/>
                  </a:lnTo>
                  <a:lnTo>
                    <a:pt x="388" y="49"/>
                  </a:lnTo>
                  <a:lnTo>
                    <a:pt x="373" y="55"/>
                  </a:lnTo>
                  <a:lnTo>
                    <a:pt x="348" y="72"/>
                  </a:lnTo>
                  <a:lnTo>
                    <a:pt x="324" y="81"/>
                  </a:lnTo>
                  <a:lnTo>
                    <a:pt x="324" y="105"/>
                  </a:lnTo>
                  <a:lnTo>
                    <a:pt x="321" y="125"/>
                  </a:lnTo>
                  <a:lnTo>
                    <a:pt x="300" y="156"/>
                  </a:lnTo>
                  <a:lnTo>
                    <a:pt x="267" y="195"/>
                  </a:lnTo>
                  <a:lnTo>
                    <a:pt x="254" y="215"/>
                  </a:lnTo>
                  <a:lnTo>
                    <a:pt x="261" y="229"/>
                  </a:lnTo>
                  <a:lnTo>
                    <a:pt x="296" y="226"/>
                  </a:lnTo>
                  <a:lnTo>
                    <a:pt x="298" y="233"/>
                  </a:lnTo>
                  <a:lnTo>
                    <a:pt x="298" y="248"/>
                  </a:lnTo>
                  <a:lnTo>
                    <a:pt x="252" y="311"/>
                  </a:lnTo>
                  <a:lnTo>
                    <a:pt x="236" y="346"/>
                  </a:lnTo>
                  <a:lnTo>
                    <a:pt x="225" y="376"/>
                  </a:lnTo>
                  <a:lnTo>
                    <a:pt x="236" y="390"/>
                  </a:lnTo>
                  <a:lnTo>
                    <a:pt x="257" y="363"/>
                  </a:lnTo>
                  <a:lnTo>
                    <a:pt x="278" y="331"/>
                  </a:lnTo>
                  <a:lnTo>
                    <a:pt x="293" y="340"/>
                  </a:lnTo>
                  <a:lnTo>
                    <a:pt x="296" y="387"/>
                  </a:lnTo>
                  <a:lnTo>
                    <a:pt x="298" y="418"/>
                  </a:lnTo>
                  <a:lnTo>
                    <a:pt x="270" y="435"/>
                  </a:lnTo>
                  <a:lnTo>
                    <a:pt x="252" y="454"/>
                  </a:lnTo>
                  <a:lnTo>
                    <a:pt x="246" y="471"/>
                  </a:lnTo>
                  <a:lnTo>
                    <a:pt x="282" y="504"/>
                  </a:lnTo>
                  <a:lnTo>
                    <a:pt x="314" y="498"/>
                  </a:lnTo>
                  <a:lnTo>
                    <a:pt x="321" y="518"/>
                  </a:lnTo>
                  <a:lnTo>
                    <a:pt x="355" y="495"/>
                  </a:lnTo>
                  <a:lnTo>
                    <a:pt x="352" y="513"/>
                  </a:lnTo>
                  <a:lnTo>
                    <a:pt x="324" y="549"/>
                  </a:lnTo>
                  <a:lnTo>
                    <a:pt x="337" y="589"/>
                  </a:lnTo>
                  <a:lnTo>
                    <a:pt x="340" y="610"/>
                  </a:lnTo>
                  <a:lnTo>
                    <a:pt x="369" y="613"/>
                  </a:lnTo>
                  <a:lnTo>
                    <a:pt x="370" y="632"/>
                  </a:lnTo>
                  <a:lnTo>
                    <a:pt x="337" y="674"/>
                  </a:lnTo>
                  <a:lnTo>
                    <a:pt x="324" y="668"/>
                  </a:lnTo>
                  <a:lnTo>
                    <a:pt x="312" y="682"/>
                  </a:lnTo>
                  <a:lnTo>
                    <a:pt x="309" y="704"/>
                  </a:lnTo>
                  <a:lnTo>
                    <a:pt x="275" y="685"/>
                  </a:lnTo>
                  <a:lnTo>
                    <a:pt x="189" y="718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4624200"/>
              <a:ext cx="38160" cy="2880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26" y="0"/>
                  </a:moveTo>
                  <a:lnTo>
                    <a:pt x="49" y="3"/>
                  </a:lnTo>
                  <a:lnTo>
                    <a:pt x="52" y="18"/>
                  </a:lnTo>
                  <a:lnTo>
                    <a:pt x="28" y="35"/>
                  </a:lnTo>
                  <a:lnTo>
                    <a:pt x="3" y="41"/>
                  </a:lnTo>
                  <a:lnTo>
                    <a:pt x="0" y="2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86880" y="4438440"/>
              <a:ext cx="36360" cy="3024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43" y="0"/>
                  </a:moveTo>
                  <a:lnTo>
                    <a:pt x="51" y="19"/>
                  </a:lnTo>
                  <a:lnTo>
                    <a:pt x="26" y="34"/>
                  </a:lnTo>
                  <a:lnTo>
                    <a:pt x="5" y="40"/>
                  </a:lnTo>
                  <a:lnTo>
                    <a:pt x="0" y="21"/>
                  </a:lnTo>
                  <a:lnTo>
                    <a:pt x="9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37640" y="4295880"/>
              <a:ext cx="20520" cy="5400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13" y="78"/>
                  </a:moveTo>
                  <a:lnTo>
                    <a:pt x="28" y="59"/>
                  </a:lnTo>
                  <a:lnTo>
                    <a:pt x="22" y="33"/>
                  </a:lnTo>
                  <a:lnTo>
                    <a:pt x="18" y="20"/>
                  </a:lnTo>
                  <a:lnTo>
                    <a:pt x="13" y="0"/>
                  </a:lnTo>
                  <a:lnTo>
                    <a:pt x="0" y="9"/>
                  </a:lnTo>
                  <a:lnTo>
                    <a:pt x="7" y="3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4720" y="4510080"/>
              <a:ext cx="95040" cy="104760"/>
            </a:xfrm>
            <a:custGeom>
              <a:avLst/>
              <a:gdLst/>
              <a:ahLst/>
              <a:rect l="l" t="t" r="r" b="b"/>
              <a:pathLst>
                <a:path w="135" h="149">
                  <a:moveTo>
                    <a:pt x="47" y="0"/>
                  </a:moveTo>
                  <a:lnTo>
                    <a:pt x="78" y="0"/>
                  </a:lnTo>
                  <a:lnTo>
                    <a:pt x="102" y="6"/>
                  </a:lnTo>
                  <a:lnTo>
                    <a:pt x="117" y="30"/>
                  </a:lnTo>
                  <a:lnTo>
                    <a:pt x="132" y="69"/>
                  </a:lnTo>
                  <a:lnTo>
                    <a:pt x="135" y="102"/>
                  </a:lnTo>
                  <a:lnTo>
                    <a:pt x="120" y="119"/>
                  </a:lnTo>
                  <a:lnTo>
                    <a:pt x="114" y="141"/>
                  </a:lnTo>
                  <a:lnTo>
                    <a:pt x="99" y="149"/>
                  </a:lnTo>
                  <a:lnTo>
                    <a:pt x="83" y="129"/>
                  </a:lnTo>
                  <a:lnTo>
                    <a:pt x="69" y="93"/>
                  </a:lnTo>
                  <a:lnTo>
                    <a:pt x="60" y="79"/>
                  </a:lnTo>
                  <a:lnTo>
                    <a:pt x="33" y="76"/>
                  </a:lnTo>
                  <a:lnTo>
                    <a:pt x="0" y="3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  <a:effectLst>
              <a:outerShdw dist="45929" dir="18228878" blurRad="0" rotWithShape="0">
                <a:srgbClr val="e27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35840" y="4233960"/>
              <a:ext cx="49320" cy="378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62" y="0"/>
                  </a:moveTo>
                  <a:lnTo>
                    <a:pt x="70" y="14"/>
                  </a:lnTo>
                  <a:lnTo>
                    <a:pt x="44" y="30"/>
                  </a:lnTo>
                  <a:lnTo>
                    <a:pt x="19" y="56"/>
                  </a:lnTo>
                  <a:lnTo>
                    <a:pt x="3" y="5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4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6729480" y="3429000"/>
              <a:ext cx="1863360" cy="1364400"/>
              <a:chOff x="6729480" y="3429000"/>
              <a:chExt cx="1863360" cy="13644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7678080" y="4544280"/>
                <a:ext cx="336600" cy="249120"/>
                <a:chOff x="7678080" y="4544280"/>
                <a:chExt cx="336600" cy="249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78080" y="4594320"/>
                  <a:ext cx="141840" cy="163800"/>
                </a:xfrm>
                <a:custGeom>
                  <a:avLst/>
                  <a:gdLst/>
                  <a:ahLst/>
                  <a:rect l="l" t="t" r="r" b="b"/>
                  <a:pathLst>
                    <a:path w="202" h="268">
                      <a:moveTo>
                        <a:pt x="15" y="229"/>
                      </a:moveTo>
                      <a:lnTo>
                        <a:pt x="26" y="248"/>
                      </a:lnTo>
                      <a:lnTo>
                        <a:pt x="48" y="248"/>
                      </a:lnTo>
                      <a:lnTo>
                        <a:pt x="69" y="255"/>
                      </a:lnTo>
                      <a:lnTo>
                        <a:pt x="85" y="268"/>
                      </a:lnTo>
                      <a:lnTo>
                        <a:pt x="102" y="268"/>
                      </a:lnTo>
                      <a:lnTo>
                        <a:pt x="90" y="251"/>
                      </a:lnTo>
                      <a:lnTo>
                        <a:pt x="99" y="229"/>
                      </a:lnTo>
                      <a:lnTo>
                        <a:pt x="108" y="203"/>
                      </a:lnTo>
                      <a:lnTo>
                        <a:pt x="114" y="176"/>
                      </a:lnTo>
                      <a:lnTo>
                        <a:pt x="138" y="160"/>
                      </a:lnTo>
                      <a:lnTo>
                        <a:pt x="157" y="148"/>
                      </a:lnTo>
                      <a:lnTo>
                        <a:pt x="156" y="131"/>
                      </a:lnTo>
                      <a:lnTo>
                        <a:pt x="156" y="104"/>
                      </a:lnTo>
                      <a:lnTo>
                        <a:pt x="160" y="92"/>
                      </a:lnTo>
                      <a:lnTo>
                        <a:pt x="178" y="89"/>
                      </a:lnTo>
                      <a:lnTo>
                        <a:pt x="187" y="95"/>
                      </a:lnTo>
                      <a:lnTo>
                        <a:pt x="202" y="75"/>
                      </a:lnTo>
                      <a:lnTo>
                        <a:pt x="196" y="59"/>
                      </a:lnTo>
                      <a:lnTo>
                        <a:pt x="187" y="56"/>
                      </a:lnTo>
                      <a:lnTo>
                        <a:pt x="169" y="56"/>
                      </a:lnTo>
                      <a:lnTo>
                        <a:pt x="160" y="56"/>
                      </a:lnTo>
                      <a:lnTo>
                        <a:pt x="156" y="30"/>
                      </a:lnTo>
                      <a:lnTo>
                        <a:pt x="157" y="6"/>
                      </a:lnTo>
                      <a:lnTo>
                        <a:pt x="145" y="0"/>
                      </a:lnTo>
                      <a:lnTo>
                        <a:pt x="139" y="9"/>
                      </a:lnTo>
                      <a:lnTo>
                        <a:pt x="108" y="3"/>
                      </a:lnTo>
                      <a:lnTo>
                        <a:pt x="102" y="11"/>
                      </a:lnTo>
                      <a:lnTo>
                        <a:pt x="108" y="33"/>
                      </a:lnTo>
                      <a:lnTo>
                        <a:pt x="106" y="56"/>
                      </a:lnTo>
                      <a:lnTo>
                        <a:pt x="93" y="39"/>
                      </a:lnTo>
                      <a:lnTo>
                        <a:pt x="88" y="26"/>
                      </a:lnTo>
                      <a:lnTo>
                        <a:pt x="69" y="29"/>
                      </a:lnTo>
                      <a:lnTo>
                        <a:pt x="62" y="42"/>
                      </a:lnTo>
                      <a:lnTo>
                        <a:pt x="57" y="48"/>
                      </a:lnTo>
                      <a:lnTo>
                        <a:pt x="57" y="68"/>
                      </a:lnTo>
                      <a:lnTo>
                        <a:pt x="54" y="65"/>
                      </a:lnTo>
                      <a:lnTo>
                        <a:pt x="39" y="39"/>
                      </a:lnTo>
                      <a:lnTo>
                        <a:pt x="30" y="30"/>
                      </a:lnTo>
                      <a:lnTo>
                        <a:pt x="21" y="36"/>
                      </a:lnTo>
                      <a:lnTo>
                        <a:pt x="23" y="50"/>
                      </a:lnTo>
                      <a:lnTo>
                        <a:pt x="23" y="59"/>
                      </a:lnTo>
                      <a:lnTo>
                        <a:pt x="9" y="65"/>
                      </a:lnTo>
                      <a:lnTo>
                        <a:pt x="9" y="84"/>
                      </a:lnTo>
                      <a:lnTo>
                        <a:pt x="21" y="104"/>
                      </a:lnTo>
                      <a:lnTo>
                        <a:pt x="21" y="117"/>
                      </a:lnTo>
                      <a:lnTo>
                        <a:pt x="15" y="131"/>
                      </a:lnTo>
                      <a:lnTo>
                        <a:pt x="0" y="145"/>
                      </a:lnTo>
                      <a:lnTo>
                        <a:pt x="2" y="160"/>
                      </a:lnTo>
                      <a:lnTo>
                        <a:pt x="18" y="173"/>
                      </a:lnTo>
                      <a:lnTo>
                        <a:pt x="23" y="187"/>
                      </a:lnTo>
                      <a:lnTo>
                        <a:pt x="21" y="212"/>
                      </a:lnTo>
                      <a:lnTo>
                        <a:pt x="15" y="229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07600" y="4544280"/>
                  <a:ext cx="106560" cy="62280"/>
                </a:xfrm>
                <a:custGeom>
                  <a:avLst/>
                  <a:gdLst/>
                  <a:ahLst/>
                  <a:rect l="l" t="t" r="r" b="b"/>
                  <a:pathLst>
                    <a:path w="153" h="103">
                      <a:moveTo>
                        <a:pt x="0" y="100"/>
                      </a:moveTo>
                      <a:lnTo>
                        <a:pt x="13" y="103"/>
                      </a:lnTo>
                      <a:lnTo>
                        <a:pt x="28" y="91"/>
                      </a:lnTo>
                      <a:lnTo>
                        <a:pt x="44" y="71"/>
                      </a:lnTo>
                      <a:lnTo>
                        <a:pt x="86" y="71"/>
                      </a:lnTo>
                      <a:lnTo>
                        <a:pt x="122" y="63"/>
                      </a:lnTo>
                      <a:lnTo>
                        <a:pt x="143" y="45"/>
                      </a:lnTo>
                      <a:lnTo>
                        <a:pt x="150" y="23"/>
                      </a:lnTo>
                      <a:lnTo>
                        <a:pt x="153" y="0"/>
                      </a:lnTo>
                      <a:lnTo>
                        <a:pt x="125" y="14"/>
                      </a:lnTo>
                      <a:lnTo>
                        <a:pt x="73" y="39"/>
                      </a:lnTo>
                      <a:lnTo>
                        <a:pt x="59" y="42"/>
                      </a:lnTo>
                      <a:lnTo>
                        <a:pt x="44" y="54"/>
                      </a:lnTo>
                      <a:lnTo>
                        <a:pt x="13" y="60"/>
                      </a:lnTo>
                      <a:lnTo>
                        <a:pt x="0" y="68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62320" y="46972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65" h="84">
                      <a:moveTo>
                        <a:pt x="21" y="0"/>
                      </a:moveTo>
                      <a:lnTo>
                        <a:pt x="63" y="28"/>
                      </a:lnTo>
                      <a:lnTo>
                        <a:pt x="65" y="42"/>
                      </a:lnTo>
                      <a:lnTo>
                        <a:pt x="50" y="58"/>
                      </a:lnTo>
                      <a:lnTo>
                        <a:pt x="36" y="70"/>
                      </a:lnTo>
                      <a:lnTo>
                        <a:pt x="39" y="84"/>
                      </a:lnTo>
                      <a:lnTo>
                        <a:pt x="21" y="81"/>
                      </a:lnTo>
                      <a:lnTo>
                        <a:pt x="2" y="58"/>
                      </a:lnTo>
                      <a:lnTo>
                        <a:pt x="0" y="42"/>
                      </a:lnTo>
                      <a:lnTo>
                        <a:pt x="8" y="2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819920" y="4682520"/>
                  <a:ext cx="66960" cy="75600"/>
                </a:xfrm>
                <a:custGeom>
                  <a:avLst/>
                  <a:gdLst/>
                  <a:ahLst/>
                  <a:rect l="l" t="t" r="r" b="b"/>
                  <a:pathLst>
                    <a:path w="96" h="123">
                      <a:moveTo>
                        <a:pt x="91" y="0"/>
                      </a:moveTo>
                      <a:lnTo>
                        <a:pt x="96" y="6"/>
                      </a:lnTo>
                      <a:lnTo>
                        <a:pt x="91" y="13"/>
                      </a:lnTo>
                      <a:lnTo>
                        <a:pt x="96" y="27"/>
                      </a:lnTo>
                      <a:lnTo>
                        <a:pt x="89" y="43"/>
                      </a:lnTo>
                      <a:lnTo>
                        <a:pt x="75" y="54"/>
                      </a:lnTo>
                      <a:lnTo>
                        <a:pt x="81" y="67"/>
                      </a:lnTo>
                      <a:lnTo>
                        <a:pt x="75" y="79"/>
                      </a:lnTo>
                      <a:lnTo>
                        <a:pt x="81" y="93"/>
                      </a:lnTo>
                      <a:lnTo>
                        <a:pt x="63" y="123"/>
                      </a:lnTo>
                      <a:lnTo>
                        <a:pt x="22" y="93"/>
                      </a:lnTo>
                      <a:lnTo>
                        <a:pt x="0" y="76"/>
                      </a:lnTo>
                      <a:lnTo>
                        <a:pt x="13" y="67"/>
                      </a:lnTo>
                      <a:lnTo>
                        <a:pt x="13" y="48"/>
                      </a:lnTo>
                      <a:lnTo>
                        <a:pt x="38" y="33"/>
                      </a:lnTo>
                      <a:lnTo>
                        <a:pt x="50" y="39"/>
                      </a:lnTo>
                      <a:lnTo>
                        <a:pt x="63" y="33"/>
                      </a:lnTo>
                      <a:lnTo>
                        <a:pt x="84" y="1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811280" y="4760640"/>
                  <a:ext cx="26640" cy="32760"/>
                </a:xfrm>
                <a:custGeom>
                  <a:avLst/>
                  <a:gdLst/>
                  <a:ahLst/>
                  <a:rect l="l" t="t" r="r" b="b"/>
                  <a:pathLst>
                    <a:path w="40" h="52">
                      <a:moveTo>
                        <a:pt x="0" y="0"/>
                      </a:moveTo>
                      <a:lnTo>
                        <a:pt x="27" y="9"/>
                      </a:lnTo>
                      <a:lnTo>
                        <a:pt x="37" y="22"/>
                      </a:lnTo>
                      <a:lnTo>
                        <a:pt x="40" y="42"/>
                      </a:lnTo>
                      <a:lnTo>
                        <a:pt x="27" y="52"/>
                      </a:lnTo>
                      <a:lnTo>
                        <a:pt x="7" y="43"/>
                      </a:lnTo>
                      <a:lnTo>
                        <a:pt x="3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99200" y="4753440"/>
                  <a:ext cx="15480" cy="252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0" y="30"/>
                      </a:lnTo>
                      <a:lnTo>
                        <a:pt x="15" y="44"/>
                      </a:lnTo>
                      <a:lnTo>
                        <a:pt x="22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6729480" y="3429000"/>
                <a:ext cx="363960" cy="295920"/>
              </a:xfrm>
              <a:custGeom>
                <a:avLst/>
                <a:gdLst/>
                <a:ahLst/>
                <a:rect l="l" t="t" r="r" b="b"/>
                <a:pathLst>
                  <a:path w="519" h="485">
                    <a:moveTo>
                      <a:pt x="40" y="115"/>
                    </a:moveTo>
                    <a:lnTo>
                      <a:pt x="24" y="134"/>
                    </a:lnTo>
                    <a:lnTo>
                      <a:pt x="42" y="167"/>
                    </a:lnTo>
                    <a:lnTo>
                      <a:pt x="63" y="173"/>
                    </a:lnTo>
                    <a:lnTo>
                      <a:pt x="81" y="187"/>
                    </a:lnTo>
                    <a:lnTo>
                      <a:pt x="83" y="240"/>
                    </a:lnTo>
                    <a:lnTo>
                      <a:pt x="65" y="276"/>
                    </a:lnTo>
                    <a:lnTo>
                      <a:pt x="49" y="285"/>
                    </a:lnTo>
                    <a:lnTo>
                      <a:pt x="6" y="276"/>
                    </a:lnTo>
                    <a:lnTo>
                      <a:pt x="0" y="282"/>
                    </a:lnTo>
                    <a:lnTo>
                      <a:pt x="52" y="338"/>
                    </a:lnTo>
                    <a:lnTo>
                      <a:pt x="67" y="347"/>
                    </a:lnTo>
                    <a:lnTo>
                      <a:pt x="76" y="384"/>
                    </a:lnTo>
                    <a:lnTo>
                      <a:pt x="94" y="423"/>
                    </a:lnTo>
                    <a:lnTo>
                      <a:pt x="125" y="452"/>
                    </a:lnTo>
                    <a:lnTo>
                      <a:pt x="158" y="457"/>
                    </a:lnTo>
                    <a:lnTo>
                      <a:pt x="179" y="475"/>
                    </a:lnTo>
                    <a:lnTo>
                      <a:pt x="197" y="475"/>
                    </a:lnTo>
                    <a:lnTo>
                      <a:pt x="221" y="463"/>
                    </a:lnTo>
                    <a:lnTo>
                      <a:pt x="267" y="476"/>
                    </a:lnTo>
                    <a:lnTo>
                      <a:pt x="291" y="485"/>
                    </a:lnTo>
                    <a:lnTo>
                      <a:pt x="322" y="479"/>
                    </a:lnTo>
                    <a:lnTo>
                      <a:pt x="343" y="475"/>
                    </a:lnTo>
                    <a:lnTo>
                      <a:pt x="361" y="457"/>
                    </a:lnTo>
                    <a:lnTo>
                      <a:pt x="373" y="463"/>
                    </a:lnTo>
                    <a:lnTo>
                      <a:pt x="391" y="479"/>
                    </a:lnTo>
                    <a:lnTo>
                      <a:pt x="410" y="469"/>
                    </a:lnTo>
                    <a:lnTo>
                      <a:pt x="425" y="455"/>
                    </a:lnTo>
                    <a:lnTo>
                      <a:pt x="436" y="443"/>
                    </a:lnTo>
                    <a:lnTo>
                      <a:pt x="477" y="433"/>
                    </a:lnTo>
                    <a:lnTo>
                      <a:pt x="485" y="419"/>
                    </a:lnTo>
                    <a:lnTo>
                      <a:pt x="491" y="399"/>
                    </a:lnTo>
                    <a:lnTo>
                      <a:pt x="516" y="377"/>
                    </a:lnTo>
                    <a:lnTo>
                      <a:pt x="519" y="362"/>
                    </a:lnTo>
                    <a:lnTo>
                      <a:pt x="509" y="351"/>
                    </a:lnTo>
                    <a:lnTo>
                      <a:pt x="495" y="332"/>
                    </a:lnTo>
                    <a:lnTo>
                      <a:pt x="492" y="262"/>
                    </a:lnTo>
                    <a:lnTo>
                      <a:pt x="513" y="253"/>
                    </a:lnTo>
                    <a:lnTo>
                      <a:pt x="500" y="229"/>
                    </a:lnTo>
                    <a:lnTo>
                      <a:pt x="485" y="232"/>
                    </a:lnTo>
                    <a:lnTo>
                      <a:pt x="474" y="229"/>
                    </a:lnTo>
                    <a:lnTo>
                      <a:pt x="479" y="217"/>
                    </a:lnTo>
                    <a:lnTo>
                      <a:pt x="474" y="196"/>
                    </a:lnTo>
                    <a:lnTo>
                      <a:pt x="461" y="190"/>
                    </a:lnTo>
                    <a:lnTo>
                      <a:pt x="440" y="204"/>
                    </a:lnTo>
                    <a:lnTo>
                      <a:pt x="422" y="220"/>
                    </a:lnTo>
                    <a:lnTo>
                      <a:pt x="410" y="217"/>
                    </a:lnTo>
                    <a:lnTo>
                      <a:pt x="397" y="210"/>
                    </a:lnTo>
                    <a:lnTo>
                      <a:pt x="376" y="196"/>
                    </a:lnTo>
                    <a:lnTo>
                      <a:pt x="355" y="190"/>
                    </a:lnTo>
                    <a:lnTo>
                      <a:pt x="343" y="196"/>
                    </a:lnTo>
                    <a:lnTo>
                      <a:pt x="331" y="187"/>
                    </a:lnTo>
                    <a:lnTo>
                      <a:pt x="330" y="170"/>
                    </a:lnTo>
                    <a:lnTo>
                      <a:pt x="319" y="167"/>
                    </a:lnTo>
                    <a:lnTo>
                      <a:pt x="298" y="173"/>
                    </a:lnTo>
                    <a:lnTo>
                      <a:pt x="276" y="170"/>
                    </a:lnTo>
                    <a:lnTo>
                      <a:pt x="276" y="157"/>
                    </a:lnTo>
                    <a:lnTo>
                      <a:pt x="267" y="145"/>
                    </a:lnTo>
                    <a:lnTo>
                      <a:pt x="252" y="142"/>
                    </a:lnTo>
                    <a:lnTo>
                      <a:pt x="243" y="157"/>
                    </a:lnTo>
                    <a:lnTo>
                      <a:pt x="239" y="164"/>
                    </a:lnTo>
                    <a:lnTo>
                      <a:pt x="228" y="157"/>
                    </a:lnTo>
                    <a:lnTo>
                      <a:pt x="213" y="161"/>
                    </a:lnTo>
                    <a:lnTo>
                      <a:pt x="197" y="176"/>
                    </a:lnTo>
                    <a:lnTo>
                      <a:pt x="188" y="164"/>
                    </a:lnTo>
                    <a:lnTo>
                      <a:pt x="189" y="122"/>
                    </a:lnTo>
                    <a:lnTo>
                      <a:pt x="200" y="101"/>
                    </a:lnTo>
                    <a:lnTo>
                      <a:pt x="213" y="89"/>
                    </a:lnTo>
                    <a:lnTo>
                      <a:pt x="210" y="62"/>
                    </a:lnTo>
                    <a:lnTo>
                      <a:pt x="213" y="33"/>
                    </a:lnTo>
                    <a:lnTo>
                      <a:pt x="207" y="0"/>
                    </a:lnTo>
                    <a:lnTo>
                      <a:pt x="197" y="0"/>
                    </a:lnTo>
                    <a:lnTo>
                      <a:pt x="188" y="14"/>
                    </a:lnTo>
                    <a:lnTo>
                      <a:pt x="182" y="42"/>
                    </a:lnTo>
                    <a:lnTo>
                      <a:pt x="174" y="62"/>
                    </a:lnTo>
                    <a:lnTo>
                      <a:pt x="161" y="45"/>
                    </a:lnTo>
                    <a:lnTo>
                      <a:pt x="169" y="23"/>
                    </a:lnTo>
                    <a:lnTo>
                      <a:pt x="155" y="9"/>
                    </a:lnTo>
                    <a:lnTo>
                      <a:pt x="134" y="14"/>
                    </a:lnTo>
                    <a:lnTo>
                      <a:pt x="125" y="29"/>
                    </a:lnTo>
                    <a:lnTo>
                      <a:pt x="130" y="42"/>
                    </a:lnTo>
                    <a:lnTo>
                      <a:pt x="122" y="56"/>
                    </a:lnTo>
                    <a:lnTo>
                      <a:pt x="112" y="50"/>
                    </a:lnTo>
                    <a:lnTo>
                      <a:pt x="98" y="39"/>
                    </a:lnTo>
                    <a:lnTo>
                      <a:pt x="88" y="42"/>
                    </a:lnTo>
                    <a:lnTo>
                      <a:pt x="79" y="56"/>
                    </a:lnTo>
                    <a:lnTo>
                      <a:pt x="91" y="79"/>
                    </a:lnTo>
                    <a:lnTo>
                      <a:pt x="109" y="82"/>
                    </a:lnTo>
                    <a:lnTo>
                      <a:pt x="133" y="104"/>
                    </a:lnTo>
                    <a:lnTo>
                      <a:pt x="143" y="112"/>
                    </a:lnTo>
                    <a:lnTo>
                      <a:pt x="143" y="125"/>
                    </a:lnTo>
                    <a:lnTo>
                      <a:pt x="122" y="131"/>
                    </a:lnTo>
                    <a:lnTo>
                      <a:pt x="125" y="151"/>
                    </a:lnTo>
                    <a:lnTo>
                      <a:pt x="133" y="164"/>
                    </a:lnTo>
                    <a:lnTo>
                      <a:pt x="125" y="176"/>
                    </a:lnTo>
                    <a:lnTo>
                      <a:pt x="107" y="173"/>
                    </a:lnTo>
                    <a:lnTo>
                      <a:pt x="81" y="145"/>
                    </a:lnTo>
                    <a:lnTo>
                      <a:pt x="63" y="125"/>
                    </a:lnTo>
                    <a:lnTo>
                      <a:pt x="40" y="115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866360" y="3654000"/>
                <a:ext cx="543600" cy="1090800"/>
                <a:chOff x="7866360" y="3654000"/>
                <a:chExt cx="543600" cy="10908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7866360" y="3654000"/>
                  <a:ext cx="543600" cy="1090800"/>
                  <a:chOff x="7866360" y="3654000"/>
                  <a:chExt cx="543600" cy="10908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8082360" y="4599000"/>
                    <a:ext cx="3636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38">
                        <a:moveTo>
                          <a:pt x="52" y="0"/>
                        </a:moveTo>
                        <a:lnTo>
                          <a:pt x="49" y="46"/>
                        </a:lnTo>
                        <a:lnTo>
                          <a:pt x="34" y="82"/>
                        </a:lnTo>
                        <a:lnTo>
                          <a:pt x="10" y="105"/>
                        </a:lnTo>
                        <a:lnTo>
                          <a:pt x="16" y="129"/>
                        </a:lnTo>
                        <a:lnTo>
                          <a:pt x="6" y="138"/>
                        </a:lnTo>
                        <a:lnTo>
                          <a:pt x="0" y="108"/>
                        </a:lnTo>
                        <a:lnTo>
                          <a:pt x="9" y="85"/>
                        </a:lnTo>
                        <a:lnTo>
                          <a:pt x="16" y="60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162640" y="4558680"/>
                    <a:ext cx="489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10">
                        <a:moveTo>
                          <a:pt x="54" y="0"/>
                        </a:moveTo>
                        <a:lnTo>
                          <a:pt x="70" y="0"/>
                        </a:lnTo>
                        <a:lnTo>
                          <a:pt x="52" y="22"/>
                        </a:lnTo>
                        <a:lnTo>
                          <a:pt x="49" y="39"/>
                        </a:lnTo>
                        <a:lnTo>
                          <a:pt x="54" y="61"/>
                        </a:lnTo>
                        <a:lnTo>
                          <a:pt x="36" y="84"/>
                        </a:lnTo>
                        <a:lnTo>
                          <a:pt x="12" y="110"/>
                        </a:lnTo>
                        <a:lnTo>
                          <a:pt x="8" y="84"/>
                        </a:lnTo>
                        <a:lnTo>
                          <a:pt x="0" y="74"/>
                        </a:lnTo>
                        <a:lnTo>
                          <a:pt x="0" y="54"/>
                        </a:lnTo>
                        <a:lnTo>
                          <a:pt x="21" y="33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866360" y="3654000"/>
                    <a:ext cx="543600" cy="1090800"/>
                    <a:chOff x="7866360" y="3654000"/>
                    <a:chExt cx="543600" cy="10908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866360" y="3654000"/>
                      <a:ext cx="543600" cy="109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3" h="1785">
                          <a:moveTo>
                            <a:pt x="582" y="0"/>
                          </a:moveTo>
                          <a:lnTo>
                            <a:pt x="592" y="5"/>
                          </a:lnTo>
                          <a:lnTo>
                            <a:pt x="607" y="32"/>
                          </a:lnTo>
                          <a:lnTo>
                            <a:pt x="676" y="104"/>
                          </a:lnTo>
                          <a:lnTo>
                            <a:pt x="685" y="88"/>
                          </a:lnTo>
                          <a:lnTo>
                            <a:pt x="712" y="110"/>
                          </a:lnTo>
                          <a:lnTo>
                            <a:pt x="722" y="133"/>
                          </a:lnTo>
                          <a:lnTo>
                            <a:pt x="722" y="149"/>
                          </a:lnTo>
                          <a:lnTo>
                            <a:pt x="722" y="178"/>
                          </a:lnTo>
                          <a:lnTo>
                            <a:pt x="712" y="195"/>
                          </a:lnTo>
                          <a:lnTo>
                            <a:pt x="732" y="217"/>
                          </a:lnTo>
                          <a:lnTo>
                            <a:pt x="747" y="238"/>
                          </a:lnTo>
                          <a:lnTo>
                            <a:pt x="747" y="256"/>
                          </a:lnTo>
                          <a:lnTo>
                            <a:pt x="747" y="283"/>
                          </a:lnTo>
                          <a:lnTo>
                            <a:pt x="743" y="317"/>
                          </a:lnTo>
                          <a:lnTo>
                            <a:pt x="732" y="329"/>
                          </a:lnTo>
                          <a:lnTo>
                            <a:pt x="747" y="345"/>
                          </a:lnTo>
                          <a:lnTo>
                            <a:pt x="764" y="372"/>
                          </a:lnTo>
                          <a:lnTo>
                            <a:pt x="773" y="401"/>
                          </a:lnTo>
                          <a:lnTo>
                            <a:pt x="773" y="411"/>
                          </a:lnTo>
                          <a:lnTo>
                            <a:pt x="758" y="417"/>
                          </a:lnTo>
                          <a:lnTo>
                            <a:pt x="691" y="417"/>
                          </a:lnTo>
                          <a:lnTo>
                            <a:pt x="676" y="417"/>
                          </a:lnTo>
                          <a:lnTo>
                            <a:pt x="665" y="428"/>
                          </a:lnTo>
                          <a:lnTo>
                            <a:pt x="665" y="451"/>
                          </a:lnTo>
                          <a:lnTo>
                            <a:pt x="655" y="467"/>
                          </a:lnTo>
                          <a:lnTo>
                            <a:pt x="624" y="496"/>
                          </a:lnTo>
                          <a:lnTo>
                            <a:pt x="628" y="518"/>
                          </a:lnTo>
                          <a:lnTo>
                            <a:pt x="624" y="535"/>
                          </a:lnTo>
                          <a:lnTo>
                            <a:pt x="613" y="545"/>
                          </a:lnTo>
                          <a:lnTo>
                            <a:pt x="624" y="580"/>
                          </a:lnTo>
                          <a:lnTo>
                            <a:pt x="628" y="601"/>
                          </a:lnTo>
                          <a:lnTo>
                            <a:pt x="618" y="618"/>
                          </a:lnTo>
                          <a:lnTo>
                            <a:pt x="597" y="636"/>
                          </a:lnTo>
                          <a:lnTo>
                            <a:pt x="592" y="657"/>
                          </a:lnTo>
                          <a:lnTo>
                            <a:pt x="588" y="686"/>
                          </a:lnTo>
                          <a:lnTo>
                            <a:pt x="551" y="702"/>
                          </a:lnTo>
                          <a:lnTo>
                            <a:pt x="530" y="719"/>
                          </a:lnTo>
                          <a:lnTo>
                            <a:pt x="500" y="741"/>
                          </a:lnTo>
                          <a:lnTo>
                            <a:pt x="504" y="758"/>
                          </a:lnTo>
                          <a:lnTo>
                            <a:pt x="479" y="764"/>
                          </a:lnTo>
                          <a:lnTo>
                            <a:pt x="468" y="774"/>
                          </a:lnTo>
                          <a:lnTo>
                            <a:pt x="442" y="814"/>
                          </a:lnTo>
                          <a:lnTo>
                            <a:pt x="421" y="830"/>
                          </a:lnTo>
                          <a:lnTo>
                            <a:pt x="427" y="859"/>
                          </a:lnTo>
                          <a:lnTo>
                            <a:pt x="415" y="866"/>
                          </a:lnTo>
                          <a:lnTo>
                            <a:pt x="403" y="878"/>
                          </a:lnTo>
                          <a:lnTo>
                            <a:pt x="415" y="922"/>
                          </a:lnTo>
                          <a:lnTo>
                            <a:pt x="409" y="951"/>
                          </a:lnTo>
                          <a:lnTo>
                            <a:pt x="382" y="967"/>
                          </a:lnTo>
                          <a:lnTo>
                            <a:pt x="378" y="1012"/>
                          </a:lnTo>
                          <a:lnTo>
                            <a:pt x="382" y="1068"/>
                          </a:lnTo>
                          <a:lnTo>
                            <a:pt x="394" y="1095"/>
                          </a:lnTo>
                          <a:lnTo>
                            <a:pt x="431" y="1130"/>
                          </a:lnTo>
                          <a:lnTo>
                            <a:pt x="447" y="1163"/>
                          </a:lnTo>
                          <a:lnTo>
                            <a:pt x="463" y="1196"/>
                          </a:lnTo>
                          <a:lnTo>
                            <a:pt x="473" y="1219"/>
                          </a:lnTo>
                          <a:lnTo>
                            <a:pt x="463" y="1241"/>
                          </a:lnTo>
                          <a:lnTo>
                            <a:pt x="442" y="1258"/>
                          </a:lnTo>
                          <a:lnTo>
                            <a:pt x="427" y="1252"/>
                          </a:lnTo>
                          <a:lnTo>
                            <a:pt x="415" y="1235"/>
                          </a:lnTo>
                          <a:lnTo>
                            <a:pt x="394" y="1241"/>
                          </a:lnTo>
                          <a:lnTo>
                            <a:pt x="388" y="1258"/>
                          </a:lnTo>
                          <a:lnTo>
                            <a:pt x="357" y="1258"/>
                          </a:lnTo>
                          <a:lnTo>
                            <a:pt x="310" y="1252"/>
                          </a:lnTo>
                          <a:lnTo>
                            <a:pt x="300" y="1264"/>
                          </a:lnTo>
                          <a:lnTo>
                            <a:pt x="331" y="1280"/>
                          </a:lnTo>
                          <a:lnTo>
                            <a:pt x="373" y="1264"/>
                          </a:lnTo>
                          <a:lnTo>
                            <a:pt x="382" y="1285"/>
                          </a:lnTo>
                          <a:lnTo>
                            <a:pt x="415" y="1291"/>
                          </a:lnTo>
                          <a:lnTo>
                            <a:pt x="437" y="1302"/>
                          </a:lnTo>
                          <a:lnTo>
                            <a:pt x="427" y="1314"/>
                          </a:lnTo>
                          <a:lnTo>
                            <a:pt x="398" y="1308"/>
                          </a:lnTo>
                          <a:lnTo>
                            <a:pt x="394" y="1320"/>
                          </a:lnTo>
                          <a:lnTo>
                            <a:pt x="398" y="1336"/>
                          </a:lnTo>
                          <a:lnTo>
                            <a:pt x="382" y="1359"/>
                          </a:lnTo>
                          <a:lnTo>
                            <a:pt x="357" y="1380"/>
                          </a:lnTo>
                          <a:lnTo>
                            <a:pt x="346" y="1386"/>
                          </a:lnTo>
                          <a:lnTo>
                            <a:pt x="336" y="1392"/>
                          </a:lnTo>
                          <a:lnTo>
                            <a:pt x="342" y="1419"/>
                          </a:lnTo>
                          <a:lnTo>
                            <a:pt x="331" y="1436"/>
                          </a:lnTo>
                          <a:lnTo>
                            <a:pt x="315" y="1470"/>
                          </a:lnTo>
                          <a:lnTo>
                            <a:pt x="321" y="1503"/>
                          </a:lnTo>
                          <a:lnTo>
                            <a:pt x="310" y="1553"/>
                          </a:lnTo>
                          <a:lnTo>
                            <a:pt x="300" y="1576"/>
                          </a:lnTo>
                          <a:lnTo>
                            <a:pt x="300" y="1609"/>
                          </a:lnTo>
                          <a:lnTo>
                            <a:pt x="285" y="1631"/>
                          </a:lnTo>
                          <a:lnTo>
                            <a:pt x="264" y="1671"/>
                          </a:lnTo>
                          <a:lnTo>
                            <a:pt x="258" y="1699"/>
                          </a:lnTo>
                          <a:lnTo>
                            <a:pt x="222" y="1693"/>
                          </a:lnTo>
                          <a:lnTo>
                            <a:pt x="185" y="1693"/>
                          </a:lnTo>
                          <a:lnTo>
                            <a:pt x="181" y="1710"/>
                          </a:lnTo>
                          <a:lnTo>
                            <a:pt x="160" y="1716"/>
                          </a:lnTo>
                          <a:lnTo>
                            <a:pt x="149" y="1722"/>
                          </a:lnTo>
                          <a:lnTo>
                            <a:pt x="155" y="1740"/>
                          </a:lnTo>
                          <a:lnTo>
                            <a:pt x="149" y="1768"/>
                          </a:lnTo>
                          <a:lnTo>
                            <a:pt x="124" y="1785"/>
                          </a:lnTo>
                          <a:lnTo>
                            <a:pt x="109" y="1768"/>
                          </a:lnTo>
                          <a:lnTo>
                            <a:pt x="88" y="1785"/>
                          </a:lnTo>
                          <a:lnTo>
                            <a:pt x="61" y="1785"/>
                          </a:lnTo>
                          <a:lnTo>
                            <a:pt x="51" y="1768"/>
                          </a:lnTo>
                          <a:lnTo>
                            <a:pt x="61" y="1756"/>
                          </a:lnTo>
                          <a:lnTo>
                            <a:pt x="67" y="1726"/>
                          </a:lnTo>
                          <a:lnTo>
                            <a:pt x="46" y="1683"/>
                          </a:lnTo>
                          <a:lnTo>
                            <a:pt x="36" y="1660"/>
                          </a:lnTo>
                          <a:lnTo>
                            <a:pt x="42" y="1648"/>
                          </a:lnTo>
                          <a:lnTo>
                            <a:pt x="51" y="1648"/>
                          </a:lnTo>
                          <a:lnTo>
                            <a:pt x="57" y="1637"/>
                          </a:lnTo>
                          <a:lnTo>
                            <a:pt x="61" y="1625"/>
                          </a:lnTo>
                          <a:lnTo>
                            <a:pt x="67" y="1615"/>
                          </a:lnTo>
                          <a:lnTo>
                            <a:pt x="61" y="1604"/>
                          </a:lnTo>
                          <a:lnTo>
                            <a:pt x="51" y="1582"/>
                          </a:lnTo>
                          <a:lnTo>
                            <a:pt x="30" y="1549"/>
                          </a:lnTo>
                          <a:lnTo>
                            <a:pt x="36" y="1514"/>
                          </a:lnTo>
                          <a:lnTo>
                            <a:pt x="21" y="1487"/>
                          </a:lnTo>
                          <a:lnTo>
                            <a:pt x="5" y="1470"/>
                          </a:lnTo>
                          <a:lnTo>
                            <a:pt x="15" y="1442"/>
                          </a:lnTo>
                          <a:lnTo>
                            <a:pt x="26" y="1386"/>
                          </a:lnTo>
                          <a:lnTo>
                            <a:pt x="5" y="1359"/>
                          </a:lnTo>
                          <a:lnTo>
                            <a:pt x="0" y="1330"/>
                          </a:lnTo>
                          <a:lnTo>
                            <a:pt x="0" y="1314"/>
                          </a:lnTo>
                          <a:lnTo>
                            <a:pt x="9" y="1280"/>
                          </a:lnTo>
                          <a:lnTo>
                            <a:pt x="26" y="1285"/>
                          </a:lnTo>
                          <a:lnTo>
                            <a:pt x="42" y="1241"/>
                          </a:lnTo>
                          <a:lnTo>
                            <a:pt x="42" y="1190"/>
                          </a:lnTo>
                          <a:lnTo>
                            <a:pt x="46" y="1174"/>
                          </a:lnTo>
                          <a:lnTo>
                            <a:pt x="67" y="1157"/>
                          </a:lnTo>
                          <a:lnTo>
                            <a:pt x="97" y="1134"/>
                          </a:lnTo>
                          <a:lnTo>
                            <a:pt x="97" y="1107"/>
                          </a:lnTo>
                          <a:lnTo>
                            <a:pt x="93" y="1023"/>
                          </a:lnTo>
                          <a:lnTo>
                            <a:pt x="82" y="1012"/>
                          </a:lnTo>
                          <a:lnTo>
                            <a:pt x="82" y="990"/>
                          </a:lnTo>
                          <a:lnTo>
                            <a:pt x="109" y="978"/>
                          </a:lnTo>
                          <a:lnTo>
                            <a:pt x="118" y="967"/>
                          </a:lnTo>
                          <a:lnTo>
                            <a:pt x="103" y="934"/>
                          </a:lnTo>
                          <a:lnTo>
                            <a:pt x="82" y="901"/>
                          </a:lnTo>
                          <a:lnTo>
                            <a:pt x="88" y="863"/>
                          </a:lnTo>
                          <a:lnTo>
                            <a:pt x="93" y="836"/>
                          </a:lnTo>
                          <a:lnTo>
                            <a:pt x="114" y="786"/>
                          </a:lnTo>
                          <a:lnTo>
                            <a:pt x="114" y="764"/>
                          </a:lnTo>
                          <a:lnTo>
                            <a:pt x="114" y="719"/>
                          </a:lnTo>
                          <a:lnTo>
                            <a:pt x="130" y="680"/>
                          </a:lnTo>
                          <a:lnTo>
                            <a:pt x="155" y="657"/>
                          </a:lnTo>
                          <a:lnTo>
                            <a:pt x="181" y="640"/>
                          </a:lnTo>
                          <a:lnTo>
                            <a:pt x="206" y="646"/>
                          </a:lnTo>
                          <a:lnTo>
                            <a:pt x="233" y="657"/>
                          </a:lnTo>
                          <a:lnTo>
                            <a:pt x="243" y="618"/>
                          </a:lnTo>
                          <a:lnTo>
                            <a:pt x="233" y="585"/>
                          </a:lnTo>
                          <a:lnTo>
                            <a:pt x="222" y="562"/>
                          </a:lnTo>
                          <a:lnTo>
                            <a:pt x="218" y="545"/>
                          </a:lnTo>
                          <a:lnTo>
                            <a:pt x="222" y="529"/>
                          </a:lnTo>
                          <a:lnTo>
                            <a:pt x="239" y="523"/>
                          </a:lnTo>
                          <a:lnTo>
                            <a:pt x="243" y="485"/>
                          </a:lnTo>
                          <a:lnTo>
                            <a:pt x="254" y="451"/>
                          </a:lnTo>
                          <a:lnTo>
                            <a:pt x="258" y="423"/>
                          </a:lnTo>
                          <a:lnTo>
                            <a:pt x="258" y="395"/>
                          </a:lnTo>
                          <a:lnTo>
                            <a:pt x="273" y="368"/>
                          </a:lnTo>
                          <a:lnTo>
                            <a:pt x="306" y="345"/>
                          </a:lnTo>
                          <a:lnTo>
                            <a:pt x="327" y="339"/>
                          </a:lnTo>
                          <a:lnTo>
                            <a:pt x="327" y="312"/>
                          </a:lnTo>
                          <a:lnTo>
                            <a:pt x="336" y="294"/>
                          </a:lnTo>
                          <a:lnTo>
                            <a:pt x="357" y="267"/>
                          </a:lnTo>
                          <a:lnTo>
                            <a:pt x="378" y="250"/>
                          </a:lnTo>
                          <a:lnTo>
                            <a:pt x="367" y="202"/>
                          </a:lnTo>
                          <a:lnTo>
                            <a:pt x="406" y="155"/>
                          </a:lnTo>
                          <a:lnTo>
                            <a:pt x="415" y="136"/>
                          </a:lnTo>
                          <a:lnTo>
                            <a:pt x="442" y="130"/>
                          </a:lnTo>
                          <a:lnTo>
                            <a:pt x="461" y="104"/>
                          </a:lnTo>
                          <a:lnTo>
                            <a:pt x="461" y="88"/>
                          </a:lnTo>
                          <a:lnTo>
                            <a:pt x="479" y="68"/>
                          </a:lnTo>
                          <a:lnTo>
                            <a:pt x="512" y="64"/>
                          </a:lnTo>
                          <a:lnTo>
                            <a:pt x="551" y="64"/>
                          </a:lnTo>
                          <a:lnTo>
                            <a:pt x="582" y="32"/>
                          </a:lnTo>
                          <a:lnTo>
                            <a:pt x="577" y="0"/>
                          </a:lnTo>
                          <a:lnTo>
                            <a:pt x="582" y="0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866360" y="3654000"/>
                      <a:ext cx="543600" cy="109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3" h="1785">
                          <a:moveTo>
                            <a:pt x="582" y="0"/>
                          </a:moveTo>
                          <a:lnTo>
                            <a:pt x="592" y="5"/>
                          </a:lnTo>
                          <a:lnTo>
                            <a:pt x="607" y="32"/>
                          </a:lnTo>
                          <a:lnTo>
                            <a:pt x="676" y="104"/>
                          </a:lnTo>
                          <a:lnTo>
                            <a:pt x="685" y="88"/>
                          </a:lnTo>
                          <a:lnTo>
                            <a:pt x="712" y="110"/>
                          </a:lnTo>
                          <a:lnTo>
                            <a:pt x="722" y="133"/>
                          </a:lnTo>
                          <a:lnTo>
                            <a:pt x="722" y="149"/>
                          </a:lnTo>
                          <a:lnTo>
                            <a:pt x="722" y="178"/>
                          </a:lnTo>
                          <a:lnTo>
                            <a:pt x="712" y="195"/>
                          </a:lnTo>
                          <a:lnTo>
                            <a:pt x="732" y="217"/>
                          </a:lnTo>
                          <a:lnTo>
                            <a:pt x="747" y="238"/>
                          </a:lnTo>
                          <a:lnTo>
                            <a:pt x="747" y="256"/>
                          </a:lnTo>
                          <a:lnTo>
                            <a:pt x="747" y="283"/>
                          </a:lnTo>
                          <a:lnTo>
                            <a:pt x="743" y="317"/>
                          </a:lnTo>
                          <a:lnTo>
                            <a:pt x="732" y="329"/>
                          </a:lnTo>
                          <a:lnTo>
                            <a:pt x="747" y="345"/>
                          </a:lnTo>
                          <a:lnTo>
                            <a:pt x="764" y="372"/>
                          </a:lnTo>
                          <a:lnTo>
                            <a:pt x="773" y="401"/>
                          </a:lnTo>
                          <a:lnTo>
                            <a:pt x="773" y="411"/>
                          </a:lnTo>
                          <a:lnTo>
                            <a:pt x="758" y="417"/>
                          </a:lnTo>
                          <a:lnTo>
                            <a:pt x="691" y="417"/>
                          </a:lnTo>
                          <a:lnTo>
                            <a:pt x="676" y="417"/>
                          </a:lnTo>
                          <a:lnTo>
                            <a:pt x="665" y="428"/>
                          </a:lnTo>
                          <a:lnTo>
                            <a:pt x="665" y="451"/>
                          </a:lnTo>
                          <a:lnTo>
                            <a:pt x="655" y="467"/>
                          </a:lnTo>
                          <a:lnTo>
                            <a:pt x="624" y="496"/>
                          </a:lnTo>
                          <a:lnTo>
                            <a:pt x="628" y="518"/>
                          </a:lnTo>
                          <a:lnTo>
                            <a:pt x="624" y="535"/>
                          </a:lnTo>
                          <a:lnTo>
                            <a:pt x="613" y="545"/>
                          </a:lnTo>
                          <a:lnTo>
                            <a:pt x="624" y="580"/>
                          </a:lnTo>
                          <a:lnTo>
                            <a:pt x="628" y="601"/>
                          </a:lnTo>
                          <a:lnTo>
                            <a:pt x="618" y="618"/>
                          </a:lnTo>
                          <a:lnTo>
                            <a:pt x="597" y="636"/>
                          </a:lnTo>
                          <a:lnTo>
                            <a:pt x="592" y="657"/>
                          </a:lnTo>
                          <a:lnTo>
                            <a:pt x="588" y="686"/>
                          </a:lnTo>
                          <a:lnTo>
                            <a:pt x="551" y="702"/>
                          </a:lnTo>
                          <a:lnTo>
                            <a:pt x="530" y="719"/>
                          </a:lnTo>
                          <a:lnTo>
                            <a:pt x="500" y="741"/>
                          </a:lnTo>
                          <a:lnTo>
                            <a:pt x="504" y="758"/>
                          </a:lnTo>
                          <a:lnTo>
                            <a:pt x="479" y="764"/>
                          </a:lnTo>
                          <a:lnTo>
                            <a:pt x="468" y="774"/>
                          </a:lnTo>
                          <a:lnTo>
                            <a:pt x="442" y="814"/>
                          </a:lnTo>
                          <a:lnTo>
                            <a:pt x="421" y="830"/>
                          </a:lnTo>
                          <a:lnTo>
                            <a:pt x="427" y="859"/>
                          </a:lnTo>
                          <a:lnTo>
                            <a:pt x="415" y="866"/>
                          </a:lnTo>
                          <a:lnTo>
                            <a:pt x="403" y="878"/>
                          </a:lnTo>
                          <a:lnTo>
                            <a:pt x="415" y="922"/>
                          </a:lnTo>
                          <a:lnTo>
                            <a:pt x="409" y="951"/>
                          </a:lnTo>
                          <a:lnTo>
                            <a:pt x="382" y="967"/>
                          </a:lnTo>
                          <a:lnTo>
                            <a:pt x="378" y="1012"/>
                          </a:lnTo>
                          <a:lnTo>
                            <a:pt x="382" y="1068"/>
                          </a:lnTo>
                          <a:lnTo>
                            <a:pt x="394" y="1095"/>
                          </a:lnTo>
                          <a:lnTo>
                            <a:pt x="431" y="1130"/>
                          </a:lnTo>
                          <a:lnTo>
                            <a:pt x="447" y="1163"/>
                          </a:lnTo>
                          <a:lnTo>
                            <a:pt x="463" y="1196"/>
                          </a:lnTo>
                          <a:lnTo>
                            <a:pt x="473" y="1219"/>
                          </a:lnTo>
                          <a:lnTo>
                            <a:pt x="463" y="1241"/>
                          </a:lnTo>
                          <a:lnTo>
                            <a:pt x="442" y="1258"/>
                          </a:lnTo>
                          <a:lnTo>
                            <a:pt x="427" y="1252"/>
                          </a:lnTo>
                          <a:lnTo>
                            <a:pt x="415" y="1235"/>
                          </a:lnTo>
                          <a:lnTo>
                            <a:pt x="394" y="1241"/>
                          </a:lnTo>
                          <a:lnTo>
                            <a:pt x="388" y="1258"/>
                          </a:lnTo>
                          <a:lnTo>
                            <a:pt x="357" y="1258"/>
                          </a:lnTo>
                          <a:lnTo>
                            <a:pt x="310" y="1252"/>
                          </a:lnTo>
                          <a:lnTo>
                            <a:pt x="300" y="1264"/>
                          </a:lnTo>
                          <a:lnTo>
                            <a:pt x="331" y="1280"/>
                          </a:lnTo>
                          <a:lnTo>
                            <a:pt x="373" y="1264"/>
                          </a:lnTo>
                          <a:lnTo>
                            <a:pt x="382" y="1285"/>
                          </a:lnTo>
                          <a:lnTo>
                            <a:pt x="415" y="1291"/>
                          </a:lnTo>
                          <a:lnTo>
                            <a:pt x="437" y="1302"/>
                          </a:lnTo>
                          <a:lnTo>
                            <a:pt x="427" y="1314"/>
                          </a:lnTo>
                          <a:lnTo>
                            <a:pt x="398" y="1308"/>
                          </a:lnTo>
                          <a:lnTo>
                            <a:pt x="394" y="1320"/>
                          </a:lnTo>
                          <a:lnTo>
                            <a:pt x="398" y="1336"/>
                          </a:lnTo>
                          <a:lnTo>
                            <a:pt x="382" y="1359"/>
                          </a:lnTo>
                          <a:lnTo>
                            <a:pt x="357" y="1380"/>
                          </a:lnTo>
                          <a:lnTo>
                            <a:pt x="346" y="1386"/>
                          </a:lnTo>
                          <a:lnTo>
                            <a:pt x="336" y="1392"/>
                          </a:lnTo>
                          <a:lnTo>
                            <a:pt x="342" y="1419"/>
                          </a:lnTo>
                          <a:lnTo>
                            <a:pt x="331" y="1436"/>
                          </a:lnTo>
                          <a:lnTo>
                            <a:pt x="315" y="1470"/>
                          </a:lnTo>
                          <a:lnTo>
                            <a:pt x="321" y="1503"/>
                          </a:lnTo>
                          <a:lnTo>
                            <a:pt x="310" y="1553"/>
                          </a:lnTo>
                          <a:lnTo>
                            <a:pt x="300" y="1576"/>
                          </a:lnTo>
                          <a:lnTo>
                            <a:pt x="300" y="1609"/>
                          </a:lnTo>
                          <a:lnTo>
                            <a:pt x="285" y="1631"/>
                          </a:lnTo>
                          <a:lnTo>
                            <a:pt x="264" y="1671"/>
                          </a:lnTo>
                          <a:lnTo>
                            <a:pt x="258" y="1699"/>
                          </a:lnTo>
                          <a:lnTo>
                            <a:pt x="222" y="1693"/>
                          </a:lnTo>
                          <a:lnTo>
                            <a:pt x="185" y="1693"/>
                          </a:lnTo>
                          <a:lnTo>
                            <a:pt x="181" y="1710"/>
                          </a:lnTo>
                          <a:lnTo>
                            <a:pt x="160" y="1716"/>
                          </a:lnTo>
                          <a:lnTo>
                            <a:pt x="149" y="1722"/>
                          </a:lnTo>
                          <a:lnTo>
                            <a:pt x="155" y="1740"/>
                          </a:lnTo>
                          <a:lnTo>
                            <a:pt x="149" y="1768"/>
                          </a:lnTo>
                          <a:lnTo>
                            <a:pt x="124" y="1785"/>
                          </a:lnTo>
                          <a:lnTo>
                            <a:pt x="109" y="1768"/>
                          </a:lnTo>
                          <a:lnTo>
                            <a:pt x="88" y="1785"/>
                          </a:lnTo>
                          <a:lnTo>
                            <a:pt x="61" y="1785"/>
                          </a:lnTo>
                          <a:lnTo>
                            <a:pt x="51" y="1768"/>
                          </a:lnTo>
                          <a:lnTo>
                            <a:pt x="61" y="1756"/>
                          </a:lnTo>
                          <a:lnTo>
                            <a:pt x="67" y="1726"/>
                          </a:lnTo>
                          <a:lnTo>
                            <a:pt x="46" y="1683"/>
                          </a:lnTo>
                          <a:lnTo>
                            <a:pt x="36" y="1660"/>
                          </a:lnTo>
                          <a:lnTo>
                            <a:pt x="42" y="1648"/>
                          </a:lnTo>
                          <a:lnTo>
                            <a:pt x="51" y="1648"/>
                          </a:lnTo>
                          <a:lnTo>
                            <a:pt x="57" y="1637"/>
                          </a:lnTo>
                          <a:lnTo>
                            <a:pt x="61" y="1625"/>
                          </a:lnTo>
                          <a:lnTo>
                            <a:pt x="67" y="1615"/>
                          </a:lnTo>
                          <a:lnTo>
                            <a:pt x="61" y="1604"/>
                          </a:lnTo>
                          <a:lnTo>
                            <a:pt x="51" y="1582"/>
                          </a:lnTo>
                          <a:lnTo>
                            <a:pt x="30" y="1549"/>
                          </a:lnTo>
                          <a:lnTo>
                            <a:pt x="36" y="1514"/>
                          </a:lnTo>
                          <a:lnTo>
                            <a:pt x="21" y="1487"/>
                          </a:lnTo>
                          <a:lnTo>
                            <a:pt x="5" y="1470"/>
                          </a:lnTo>
                          <a:lnTo>
                            <a:pt x="15" y="1442"/>
                          </a:lnTo>
                          <a:lnTo>
                            <a:pt x="26" y="1386"/>
                          </a:lnTo>
                          <a:lnTo>
                            <a:pt x="5" y="1359"/>
                          </a:lnTo>
                          <a:lnTo>
                            <a:pt x="0" y="1330"/>
                          </a:lnTo>
                          <a:lnTo>
                            <a:pt x="0" y="1314"/>
                          </a:lnTo>
                          <a:lnTo>
                            <a:pt x="9" y="1280"/>
                          </a:lnTo>
                          <a:lnTo>
                            <a:pt x="26" y="1285"/>
                          </a:lnTo>
                          <a:lnTo>
                            <a:pt x="42" y="1241"/>
                          </a:lnTo>
                          <a:lnTo>
                            <a:pt x="42" y="1190"/>
                          </a:lnTo>
                          <a:lnTo>
                            <a:pt x="46" y="1174"/>
                          </a:lnTo>
                          <a:lnTo>
                            <a:pt x="67" y="1157"/>
                          </a:lnTo>
                          <a:lnTo>
                            <a:pt x="97" y="1134"/>
                          </a:lnTo>
                          <a:lnTo>
                            <a:pt x="97" y="1107"/>
                          </a:lnTo>
                          <a:lnTo>
                            <a:pt x="93" y="1023"/>
                          </a:lnTo>
                          <a:lnTo>
                            <a:pt x="82" y="1012"/>
                          </a:lnTo>
                          <a:lnTo>
                            <a:pt x="82" y="990"/>
                          </a:lnTo>
                          <a:lnTo>
                            <a:pt x="109" y="978"/>
                          </a:lnTo>
                          <a:lnTo>
                            <a:pt x="118" y="967"/>
                          </a:lnTo>
                          <a:lnTo>
                            <a:pt x="103" y="934"/>
                          </a:lnTo>
                          <a:lnTo>
                            <a:pt x="82" y="901"/>
                          </a:lnTo>
                          <a:lnTo>
                            <a:pt x="88" y="863"/>
                          </a:lnTo>
                          <a:lnTo>
                            <a:pt x="93" y="836"/>
                          </a:lnTo>
                          <a:lnTo>
                            <a:pt x="114" y="786"/>
                          </a:lnTo>
                          <a:lnTo>
                            <a:pt x="114" y="764"/>
                          </a:lnTo>
                          <a:lnTo>
                            <a:pt x="114" y="719"/>
                          </a:lnTo>
                          <a:lnTo>
                            <a:pt x="130" y="680"/>
                          </a:lnTo>
                          <a:lnTo>
                            <a:pt x="155" y="657"/>
                          </a:lnTo>
                          <a:lnTo>
                            <a:pt x="181" y="640"/>
                          </a:lnTo>
                          <a:lnTo>
                            <a:pt x="206" y="646"/>
                          </a:lnTo>
                          <a:lnTo>
                            <a:pt x="233" y="657"/>
                          </a:lnTo>
                          <a:lnTo>
                            <a:pt x="243" y="618"/>
                          </a:lnTo>
                          <a:lnTo>
                            <a:pt x="233" y="585"/>
                          </a:lnTo>
                          <a:lnTo>
                            <a:pt x="222" y="562"/>
                          </a:lnTo>
                          <a:lnTo>
                            <a:pt x="218" y="545"/>
                          </a:lnTo>
                          <a:lnTo>
                            <a:pt x="222" y="529"/>
                          </a:lnTo>
                          <a:lnTo>
                            <a:pt x="239" y="523"/>
                          </a:lnTo>
                          <a:lnTo>
                            <a:pt x="243" y="485"/>
                          </a:lnTo>
                          <a:lnTo>
                            <a:pt x="254" y="451"/>
                          </a:lnTo>
                          <a:lnTo>
                            <a:pt x="258" y="423"/>
                          </a:lnTo>
                          <a:lnTo>
                            <a:pt x="258" y="395"/>
                          </a:lnTo>
                          <a:lnTo>
                            <a:pt x="273" y="368"/>
                          </a:lnTo>
                          <a:lnTo>
                            <a:pt x="306" y="345"/>
                          </a:lnTo>
                          <a:lnTo>
                            <a:pt x="327" y="339"/>
                          </a:lnTo>
                          <a:lnTo>
                            <a:pt x="327" y="312"/>
                          </a:lnTo>
                          <a:lnTo>
                            <a:pt x="336" y="294"/>
                          </a:lnTo>
                          <a:lnTo>
                            <a:pt x="357" y="267"/>
                          </a:lnTo>
                          <a:lnTo>
                            <a:pt x="378" y="250"/>
                          </a:lnTo>
                          <a:lnTo>
                            <a:pt x="367" y="202"/>
                          </a:lnTo>
                          <a:lnTo>
                            <a:pt x="406" y="155"/>
                          </a:lnTo>
                          <a:lnTo>
                            <a:pt x="415" y="136"/>
                          </a:lnTo>
                          <a:lnTo>
                            <a:pt x="442" y="130"/>
                          </a:lnTo>
                          <a:lnTo>
                            <a:pt x="461" y="104"/>
                          </a:lnTo>
                          <a:lnTo>
                            <a:pt x="461" y="88"/>
                          </a:lnTo>
                          <a:lnTo>
                            <a:pt x="479" y="68"/>
                          </a:lnTo>
                          <a:lnTo>
                            <a:pt x="512" y="64"/>
                          </a:lnTo>
                          <a:lnTo>
                            <a:pt x="551" y="64"/>
                          </a:lnTo>
                          <a:lnTo>
                            <a:pt x="582" y="32"/>
                          </a:lnTo>
                          <a:lnTo>
                            <a:pt x="577" y="0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915680" y="4419360"/>
                  <a:ext cx="123480" cy="126360"/>
                  <a:chOff x="7915680" y="4419360"/>
                  <a:chExt cx="123480" cy="12636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7981560" y="4456800"/>
                    <a:ext cx="57600" cy="88920"/>
                    <a:chOff x="7981560" y="4456800"/>
                    <a:chExt cx="57600" cy="8892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981560" y="4456800"/>
                      <a:ext cx="57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46">
                          <a:moveTo>
                            <a:pt x="74" y="0"/>
                          </a:moveTo>
                          <a:lnTo>
                            <a:pt x="74" y="25"/>
                          </a:lnTo>
                          <a:lnTo>
                            <a:pt x="84" y="48"/>
                          </a:lnTo>
                          <a:lnTo>
                            <a:pt x="74" y="73"/>
                          </a:lnTo>
                          <a:lnTo>
                            <a:pt x="60" y="94"/>
                          </a:lnTo>
                          <a:lnTo>
                            <a:pt x="34" y="120"/>
                          </a:lnTo>
                          <a:lnTo>
                            <a:pt x="13" y="146"/>
                          </a:lnTo>
                          <a:lnTo>
                            <a:pt x="0" y="120"/>
                          </a:lnTo>
                          <a:lnTo>
                            <a:pt x="8" y="110"/>
                          </a:lnTo>
                          <a:lnTo>
                            <a:pt x="34" y="81"/>
                          </a:lnTo>
                          <a:lnTo>
                            <a:pt x="32" y="64"/>
                          </a:lnTo>
                          <a:lnTo>
                            <a:pt x="45" y="42"/>
                          </a:lnTo>
                          <a:lnTo>
                            <a:pt x="76" y="13"/>
                          </a:lnTo>
                          <a:lnTo>
                            <a:pt x="76" y="22"/>
                          </a:lnTo>
                          <a:lnTo>
                            <a:pt x="81" y="36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981560" y="4456800"/>
                      <a:ext cx="57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46">
                          <a:moveTo>
                            <a:pt x="74" y="0"/>
                          </a:moveTo>
                          <a:lnTo>
                            <a:pt x="74" y="25"/>
                          </a:lnTo>
                          <a:lnTo>
                            <a:pt x="84" y="48"/>
                          </a:lnTo>
                          <a:lnTo>
                            <a:pt x="74" y="73"/>
                          </a:lnTo>
                          <a:lnTo>
                            <a:pt x="60" y="94"/>
                          </a:lnTo>
                          <a:lnTo>
                            <a:pt x="34" y="120"/>
                          </a:lnTo>
                          <a:lnTo>
                            <a:pt x="13" y="146"/>
                          </a:lnTo>
                          <a:lnTo>
                            <a:pt x="0" y="120"/>
                          </a:lnTo>
                          <a:lnTo>
                            <a:pt x="8" y="110"/>
                          </a:lnTo>
                          <a:lnTo>
                            <a:pt x="34" y="81"/>
                          </a:lnTo>
                          <a:lnTo>
                            <a:pt x="32" y="64"/>
                          </a:lnTo>
                          <a:lnTo>
                            <a:pt x="45" y="42"/>
                          </a:lnTo>
                          <a:lnTo>
                            <a:pt x="76" y="13"/>
                          </a:lnTo>
                          <a:lnTo>
                            <a:pt x="76" y="22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>
                    <a:off x="7915680" y="4419360"/>
                    <a:ext cx="741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17">
                        <a:moveTo>
                          <a:pt x="82" y="0"/>
                        </a:moveTo>
                        <a:lnTo>
                          <a:pt x="69" y="16"/>
                        </a:lnTo>
                        <a:lnTo>
                          <a:pt x="48" y="13"/>
                        </a:lnTo>
                        <a:lnTo>
                          <a:pt x="36" y="10"/>
                        </a:lnTo>
                        <a:lnTo>
                          <a:pt x="41" y="30"/>
                        </a:lnTo>
                        <a:lnTo>
                          <a:pt x="44" y="45"/>
                        </a:lnTo>
                        <a:lnTo>
                          <a:pt x="46" y="56"/>
                        </a:lnTo>
                        <a:lnTo>
                          <a:pt x="39" y="59"/>
                        </a:lnTo>
                        <a:lnTo>
                          <a:pt x="26" y="53"/>
                        </a:lnTo>
                        <a:lnTo>
                          <a:pt x="26" y="45"/>
                        </a:lnTo>
                        <a:lnTo>
                          <a:pt x="15" y="45"/>
                        </a:lnTo>
                        <a:lnTo>
                          <a:pt x="18" y="59"/>
                        </a:lnTo>
                        <a:lnTo>
                          <a:pt x="12" y="72"/>
                        </a:lnTo>
                        <a:lnTo>
                          <a:pt x="0" y="92"/>
                        </a:lnTo>
                        <a:lnTo>
                          <a:pt x="5" y="108"/>
                        </a:lnTo>
                        <a:lnTo>
                          <a:pt x="18" y="117"/>
                        </a:lnTo>
                        <a:lnTo>
                          <a:pt x="30" y="108"/>
                        </a:lnTo>
                        <a:lnTo>
                          <a:pt x="46" y="98"/>
                        </a:lnTo>
                        <a:lnTo>
                          <a:pt x="75" y="89"/>
                        </a:lnTo>
                        <a:lnTo>
                          <a:pt x="88" y="92"/>
                        </a:lnTo>
                        <a:lnTo>
                          <a:pt x="82" y="72"/>
                        </a:lnTo>
                        <a:lnTo>
                          <a:pt x="93" y="62"/>
                        </a:lnTo>
                        <a:lnTo>
                          <a:pt x="106" y="42"/>
                        </a:lnTo>
                        <a:lnTo>
                          <a:pt x="100" y="30"/>
                        </a:lnTo>
                        <a:lnTo>
                          <a:pt x="90" y="16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" name=""/>
              <p:cNvGrpSpPr/>
              <p:nvPr/>
            </p:nvGrpSpPr>
            <p:grpSpPr>
              <a:xfrm>
                <a:off x="7600680" y="3477960"/>
                <a:ext cx="992160" cy="1020960"/>
                <a:chOff x="7600680" y="3477960"/>
                <a:chExt cx="992160" cy="10209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7600680" y="3477960"/>
                  <a:ext cx="992160" cy="1020960"/>
                  <a:chOff x="7600680" y="3477960"/>
                  <a:chExt cx="992160" cy="10209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600680" y="3477960"/>
                    <a:ext cx="992160" cy="10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0" h="1668">
                        <a:moveTo>
                          <a:pt x="378" y="1570"/>
                        </a:moveTo>
                        <a:lnTo>
                          <a:pt x="382" y="1567"/>
                        </a:lnTo>
                        <a:lnTo>
                          <a:pt x="398" y="1563"/>
                        </a:lnTo>
                        <a:lnTo>
                          <a:pt x="409" y="1545"/>
                        </a:lnTo>
                        <a:lnTo>
                          <a:pt x="414" y="1524"/>
                        </a:lnTo>
                        <a:lnTo>
                          <a:pt x="419" y="1512"/>
                        </a:lnTo>
                        <a:lnTo>
                          <a:pt x="414" y="1479"/>
                        </a:lnTo>
                        <a:lnTo>
                          <a:pt x="419" y="1456"/>
                        </a:lnTo>
                        <a:lnTo>
                          <a:pt x="434" y="1445"/>
                        </a:lnTo>
                        <a:lnTo>
                          <a:pt x="470" y="1429"/>
                        </a:lnTo>
                        <a:lnTo>
                          <a:pt x="476" y="1411"/>
                        </a:lnTo>
                        <a:lnTo>
                          <a:pt x="470" y="1355"/>
                        </a:lnTo>
                        <a:lnTo>
                          <a:pt x="466" y="1345"/>
                        </a:lnTo>
                        <a:lnTo>
                          <a:pt x="466" y="1311"/>
                        </a:lnTo>
                        <a:lnTo>
                          <a:pt x="455" y="1299"/>
                        </a:lnTo>
                        <a:lnTo>
                          <a:pt x="461" y="1272"/>
                        </a:lnTo>
                        <a:lnTo>
                          <a:pt x="470" y="1272"/>
                        </a:lnTo>
                        <a:lnTo>
                          <a:pt x="497" y="1256"/>
                        </a:lnTo>
                        <a:lnTo>
                          <a:pt x="476" y="1204"/>
                        </a:lnTo>
                        <a:lnTo>
                          <a:pt x="466" y="1188"/>
                        </a:lnTo>
                        <a:lnTo>
                          <a:pt x="466" y="1183"/>
                        </a:lnTo>
                        <a:lnTo>
                          <a:pt x="466" y="1141"/>
                        </a:lnTo>
                        <a:lnTo>
                          <a:pt x="481" y="1108"/>
                        </a:lnTo>
                        <a:lnTo>
                          <a:pt x="486" y="1073"/>
                        </a:lnTo>
                        <a:lnTo>
                          <a:pt x="491" y="1034"/>
                        </a:lnTo>
                        <a:lnTo>
                          <a:pt x="486" y="1001"/>
                        </a:lnTo>
                        <a:lnTo>
                          <a:pt x="497" y="979"/>
                        </a:lnTo>
                        <a:lnTo>
                          <a:pt x="502" y="962"/>
                        </a:lnTo>
                        <a:lnTo>
                          <a:pt x="533" y="939"/>
                        </a:lnTo>
                        <a:lnTo>
                          <a:pt x="564" y="929"/>
                        </a:lnTo>
                        <a:lnTo>
                          <a:pt x="590" y="939"/>
                        </a:lnTo>
                        <a:lnTo>
                          <a:pt x="600" y="945"/>
                        </a:lnTo>
                        <a:lnTo>
                          <a:pt x="616" y="923"/>
                        </a:lnTo>
                        <a:lnTo>
                          <a:pt x="616" y="896"/>
                        </a:lnTo>
                        <a:lnTo>
                          <a:pt x="600" y="845"/>
                        </a:lnTo>
                        <a:lnTo>
                          <a:pt x="595" y="823"/>
                        </a:lnTo>
                        <a:lnTo>
                          <a:pt x="600" y="811"/>
                        </a:lnTo>
                        <a:lnTo>
                          <a:pt x="610" y="811"/>
                        </a:lnTo>
                        <a:lnTo>
                          <a:pt x="621" y="795"/>
                        </a:lnTo>
                        <a:lnTo>
                          <a:pt x="627" y="762"/>
                        </a:lnTo>
                        <a:lnTo>
                          <a:pt x="631" y="716"/>
                        </a:lnTo>
                        <a:lnTo>
                          <a:pt x="636" y="673"/>
                        </a:lnTo>
                        <a:lnTo>
                          <a:pt x="652" y="655"/>
                        </a:lnTo>
                        <a:lnTo>
                          <a:pt x="683" y="634"/>
                        </a:lnTo>
                        <a:lnTo>
                          <a:pt x="704" y="622"/>
                        </a:lnTo>
                        <a:lnTo>
                          <a:pt x="709" y="588"/>
                        </a:lnTo>
                        <a:lnTo>
                          <a:pt x="719" y="566"/>
                        </a:lnTo>
                        <a:lnTo>
                          <a:pt x="745" y="543"/>
                        </a:lnTo>
                        <a:lnTo>
                          <a:pt x="751" y="527"/>
                        </a:lnTo>
                        <a:lnTo>
                          <a:pt x="745" y="510"/>
                        </a:lnTo>
                        <a:lnTo>
                          <a:pt x="745" y="488"/>
                        </a:lnTo>
                        <a:lnTo>
                          <a:pt x="766" y="471"/>
                        </a:lnTo>
                        <a:lnTo>
                          <a:pt x="792" y="421"/>
                        </a:lnTo>
                        <a:lnTo>
                          <a:pt x="810" y="426"/>
                        </a:lnTo>
                        <a:lnTo>
                          <a:pt x="840" y="399"/>
                        </a:lnTo>
                        <a:lnTo>
                          <a:pt x="836" y="376"/>
                        </a:lnTo>
                        <a:lnTo>
                          <a:pt x="856" y="354"/>
                        </a:lnTo>
                        <a:lnTo>
                          <a:pt x="867" y="360"/>
                        </a:lnTo>
                        <a:lnTo>
                          <a:pt x="888" y="354"/>
                        </a:lnTo>
                        <a:lnTo>
                          <a:pt x="919" y="360"/>
                        </a:lnTo>
                        <a:lnTo>
                          <a:pt x="959" y="320"/>
                        </a:lnTo>
                        <a:lnTo>
                          <a:pt x="955" y="298"/>
                        </a:lnTo>
                        <a:lnTo>
                          <a:pt x="959" y="287"/>
                        </a:lnTo>
                        <a:lnTo>
                          <a:pt x="949" y="283"/>
                        </a:lnTo>
                        <a:lnTo>
                          <a:pt x="970" y="262"/>
                        </a:lnTo>
                        <a:lnTo>
                          <a:pt x="1001" y="257"/>
                        </a:lnTo>
                        <a:lnTo>
                          <a:pt x="1022" y="287"/>
                        </a:lnTo>
                        <a:lnTo>
                          <a:pt x="1058" y="331"/>
                        </a:lnTo>
                        <a:lnTo>
                          <a:pt x="1074" y="331"/>
                        </a:lnTo>
                        <a:lnTo>
                          <a:pt x="1095" y="314"/>
                        </a:lnTo>
                        <a:lnTo>
                          <a:pt x="1110" y="310"/>
                        </a:lnTo>
                        <a:lnTo>
                          <a:pt x="1120" y="314"/>
                        </a:lnTo>
                        <a:lnTo>
                          <a:pt x="1136" y="331"/>
                        </a:lnTo>
                        <a:lnTo>
                          <a:pt x="1156" y="337"/>
                        </a:lnTo>
                        <a:lnTo>
                          <a:pt x="1162" y="331"/>
                        </a:lnTo>
                        <a:lnTo>
                          <a:pt x="1171" y="310"/>
                        </a:lnTo>
                        <a:lnTo>
                          <a:pt x="1177" y="298"/>
                        </a:lnTo>
                        <a:lnTo>
                          <a:pt x="1198" y="262"/>
                        </a:lnTo>
                        <a:lnTo>
                          <a:pt x="1204" y="257"/>
                        </a:lnTo>
                        <a:lnTo>
                          <a:pt x="1198" y="200"/>
                        </a:lnTo>
                        <a:lnTo>
                          <a:pt x="1224" y="173"/>
                        </a:lnTo>
                        <a:lnTo>
                          <a:pt x="1234" y="179"/>
                        </a:lnTo>
                        <a:lnTo>
                          <a:pt x="1265" y="144"/>
                        </a:lnTo>
                        <a:lnTo>
                          <a:pt x="1291" y="179"/>
                        </a:lnTo>
                        <a:lnTo>
                          <a:pt x="1301" y="189"/>
                        </a:lnTo>
                        <a:lnTo>
                          <a:pt x="1317" y="183"/>
                        </a:lnTo>
                        <a:lnTo>
                          <a:pt x="1328" y="200"/>
                        </a:lnTo>
                        <a:lnTo>
                          <a:pt x="1328" y="212"/>
                        </a:lnTo>
                        <a:lnTo>
                          <a:pt x="1338" y="222"/>
                        </a:lnTo>
                        <a:lnTo>
                          <a:pt x="1338" y="239"/>
                        </a:lnTo>
                        <a:lnTo>
                          <a:pt x="1353" y="218"/>
                        </a:lnTo>
                        <a:lnTo>
                          <a:pt x="1379" y="195"/>
                        </a:lnTo>
                        <a:lnTo>
                          <a:pt x="1395" y="161"/>
                        </a:lnTo>
                        <a:lnTo>
                          <a:pt x="1384" y="156"/>
                        </a:lnTo>
                        <a:lnTo>
                          <a:pt x="1368" y="173"/>
                        </a:lnTo>
                        <a:lnTo>
                          <a:pt x="1364" y="144"/>
                        </a:lnTo>
                        <a:lnTo>
                          <a:pt x="1353" y="140"/>
                        </a:lnTo>
                        <a:lnTo>
                          <a:pt x="1349" y="123"/>
                        </a:lnTo>
                        <a:lnTo>
                          <a:pt x="1389" y="88"/>
                        </a:lnTo>
                        <a:lnTo>
                          <a:pt x="1405" y="94"/>
                        </a:lnTo>
                        <a:lnTo>
                          <a:pt x="1410" y="72"/>
                        </a:lnTo>
                        <a:lnTo>
                          <a:pt x="1400" y="66"/>
                        </a:lnTo>
                        <a:lnTo>
                          <a:pt x="1374" y="55"/>
                        </a:lnTo>
                        <a:lnTo>
                          <a:pt x="1359" y="49"/>
                        </a:lnTo>
                        <a:lnTo>
                          <a:pt x="1338" y="28"/>
                        </a:lnTo>
                        <a:lnTo>
                          <a:pt x="1317" y="22"/>
                        </a:lnTo>
                        <a:lnTo>
                          <a:pt x="1296" y="45"/>
                        </a:lnTo>
                        <a:lnTo>
                          <a:pt x="1286" y="61"/>
                        </a:lnTo>
                        <a:lnTo>
                          <a:pt x="1265" y="45"/>
                        </a:lnTo>
                        <a:lnTo>
                          <a:pt x="1276" y="33"/>
                        </a:lnTo>
                        <a:lnTo>
                          <a:pt x="1280" y="6"/>
                        </a:lnTo>
                        <a:lnTo>
                          <a:pt x="1276" y="0"/>
                        </a:lnTo>
                        <a:lnTo>
                          <a:pt x="1250" y="0"/>
                        </a:lnTo>
                        <a:lnTo>
                          <a:pt x="1244" y="10"/>
                        </a:lnTo>
                        <a:lnTo>
                          <a:pt x="1240" y="28"/>
                        </a:lnTo>
                        <a:lnTo>
                          <a:pt x="1244" y="45"/>
                        </a:lnTo>
                        <a:lnTo>
                          <a:pt x="1224" y="66"/>
                        </a:lnTo>
                        <a:lnTo>
                          <a:pt x="1208" y="33"/>
                        </a:lnTo>
                        <a:lnTo>
                          <a:pt x="1192" y="39"/>
                        </a:lnTo>
                        <a:lnTo>
                          <a:pt x="1188" y="66"/>
                        </a:lnTo>
                        <a:lnTo>
                          <a:pt x="1177" y="105"/>
                        </a:lnTo>
                        <a:lnTo>
                          <a:pt x="1152" y="134"/>
                        </a:lnTo>
                        <a:lnTo>
                          <a:pt x="1136" y="100"/>
                        </a:lnTo>
                        <a:lnTo>
                          <a:pt x="1162" y="78"/>
                        </a:lnTo>
                        <a:lnTo>
                          <a:pt x="1167" y="45"/>
                        </a:lnTo>
                        <a:lnTo>
                          <a:pt x="1152" y="45"/>
                        </a:lnTo>
                        <a:lnTo>
                          <a:pt x="1125" y="45"/>
                        </a:lnTo>
                        <a:lnTo>
                          <a:pt x="1104" y="78"/>
                        </a:lnTo>
                        <a:lnTo>
                          <a:pt x="1079" y="123"/>
                        </a:lnTo>
                        <a:lnTo>
                          <a:pt x="1089" y="144"/>
                        </a:lnTo>
                        <a:lnTo>
                          <a:pt x="1074" y="156"/>
                        </a:lnTo>
                        <a:lnTo>
                          <a:pt x="1053" y="140"/>
                        </a:lnTo>
                        <a:lnTo>
                          <a:pt x="1032" y="150"/>
                        </a:lnTo>
                        <a:lnTo>
                          <a:pt x="1037" y="173"/>
                        </a:lnTo>
                        <a:lnTo>
                          <a:pt x="1012" y="173"/>
                        </a:lnTo>
                        <a:lnTo>
                          <a:pt x="995" y="179"/>
                        </a:lnTo>
                        <a:lnTo>
                          <a:pt x="976" y="206"/>
                        </a:lnTo>
                        <a:lnTo>
                          <a:pt x="949" y="200"/>
                        </a:lnTo>
                        <a:lnTo>
                          <a:pt x="949" y="218"/>
                        </a:lnTo>
                        <a:lnTo>
                          <a:pt x="928" y="200"/>
                        </a:lnTo>
                        <a:lnTo>
                          <a:pt x="903" y="212"/>
                        </a:lnTo>
                        <a:lnTo>
                          <a:pt x="898" y="235"/>
                        </a:lnTo>
                        <a:lnTo>
                          <a:pt x="877" y="239"/>
                        </a:lnTo>
                        <a:lnTo>
                          <a:pt x="861" y="218"/>
                        </a:lnTo>
                        <a:lnTo>
                          <a:pt x="831" y="222"/>
                        </a:lnTo>
                        <a:lnTo>
                          <a:pt x="800" y="235"/>
                        </a:lnTo>
                        <a:lnTo>
                          <a:pt x="800" y="268"/>
                        </a:lnTo>
                        <a:lnTo>
                          <a:pt x="819" y="274"/>
                        </a:lnTo>
                        <a:lnTo>
                          <a:pt x="819" y="283"/>
                        </a:lnTo>
                        <a:lnTo>
                          <a:pt x="819" y="304"/>
                        </a:lnTo>
                        <a:lnTo>
                          <a:pt x="804" y="298"/>
                        </a:lnTo>
                        <a:lnTo>
                          <a:pt x="786" y="310"/>
                        </a:lnTo>
                        <a:lnTo>
                          <a:pt x="792" y="331"/>
                        </a:lnTo>
                        <a:lnTo>
                          <a:pt x="810" y="349"/>
                        </a:lnTo>
                        <a:lnTo>
                          <a:pt x="810" y="376"/>
                        </a:lnTo>
                        <a:lnTo>
                          <a:pt x="792" y="366"/>
                        </a:lnTo>
                        <a:lnTo>
                          <a:pt x="776" y="370"/>
                        </a:lnTo>
                        <a:lnTo>
                          <a:pt x="776" y="393"/>
                        </a:lnTo>
                        <a:lnTo>
                          <a:pt x="751" y="393"/>
                        </a:lnTo>
                        <a:lnTo>
                          <a:pt x="730" y="393"/>
                        </a:lnTo>
                        <a:lnTo>
                          <a:pt x="724" y="409"/>
                        </a:lnTo>
                        <a:lnTo>
                          <a:pt x="719" y="421"/>
                        </a:lnTo>
                        <a:lnTo>
                          <a:pt x="704" y="426"/>
                        </a:lnTo>
                        <a:lnTo>
                          <a:pt x="698" y="438"/>
                        </a:lnTo>
                        <a:lnTo>
                          <a:pt x="704" y="454"/>
                        </a:lnTo>
                        <a:lnTo>
                          <a:pt x="673" y="465"/>
                        </a:lnTo>
                        <a:lnTo>
                          <a:pt x="694" y="488"/>
                        </a:lnTo>
                        <a:lnTo>
                          <a:pt x="698" y="500"/>
                        </a:lnTo>
                        <a:lnTo>
                          <a:pt x="678" y="516"/>
                        </a:lnTo>
                        <a:lnTo>
                          <a:pt x="642" y="543"/>
                        </a:lnTo>
                        <a:lnTo>
                          <a:pt x="616" y="566"/>
                        </a:lnTo>
                        <a:lnTo>
                          <a:pt x="600" y="599"/>
                        </a:lnTo>
                        <a:lnTo>
                          <a:pt x="574" y="622"/>
                        </a:lnTo>
                        <a:lnTo>
                          <a:pt x="574" y="638"/>
                        </a:lnTo>
                        <a:lnTo>
                          <a:pt x="579" y="655"/>
                        </a:lnTo>
                        <a:lnTo>
                          <a:pt x="558" y="673"/>
                        </a:lnTo>
                        <a:lnTo>
                          <a:pt x="564" y="694"/>
                        </a:lnTo>
                        <a:lnTo>
                          <a:pt x="543" y="733"/>
                        </a:lnTo>
                        <a:lnTo>
                          <a:pt x="528" y="739"/>
                        </a:lnTo>
                        <a:lnTo>
                          <a:pt x="528" y="768"/>
                        </a:lnTo>
                        <a:lnTo>
                          <a:pt x="539" y="784"/>
                        </a:lnTo>
                        <a:lnTo>
                          <a:pt x="522" y="801"/>
                        </a:lnTo>
                        <a:lnTo>
                          <a:pt x="512" y="789"/>
                        </a:lnTo>
                        <a:lnTo>
                          <a:pt x="491" y="801"/>
                        </a:lnTo>
                        <a:lnTo>
                          <a:pt x="497" y="834"/>
                        </a:lnTo>
                        <a:lnTo>
                          <a:pt x="476" y="845"/>
                        </a:lnTo>
                        <a:lnTo>
                          <a:pt x="445" y="851"/>
                        </a:lnTo>
                        <a:lnTo>
                          <a:pt x="424" y="879"/>
                        </a:lnTo>
                        <a:lnTo>
                          <a:pt x="419" y="906"/>
                        </a:lnTo>
                        <a:lnTo>
                          <a:pt x="398" y="929"/>
                        </a:lnTo>
                        <a:lnTo>
                          <a:pt x="398" y="945"/>
                        </a:lnTo>
                        <a:lnTo>
                          <a:pt x="424" y="923"/>
                        </a:lnTo>
                        <a:lnTo>
                          <a:pt x="455" y="900"/>
                        </a:lnTo>
                        <a:lnTo>
                          <a:pt x="466" y="906"/>
                        </a:lnTo>
                        <a:lnTo>
                          <a:pt x="455" y="939"/>
                        </a:lnTo>
                        <a:lnTo>
                          <a:pt x="430" y="957"/>
                        </a:lnTo>
                        <a:lnTo>
                          <a:pt x="403" y="951"/>
                        </a:lnTo>
                        <a:lnTo>
                          <a:pt x="409" y="974"/>
                        </a:lnTo>
                        <a:lnTo>
                          <a:pt x="373" y="991"/>
                        </a:lnTo>
                        <a:lnTo>
                          <a:pt x="367" y="957"/>
                        </a:lnTo>
                        <a:lnTo>
                          <a:pt x="352" y="945"/>
                        </a:lnTo>
                        <a:lnTo>
                          <a:pt x="331" y="979"/>
                        </a:lnTo>
                        <a:lnTo>
                          <a:pt x="310" y="979"/>
                        </a:lnTo>
                        <a:lnTo>
                          <a:pt x="287" y="985"/>
                        </a:lnTo>
                        <a:lnTo>
                          <a:pt x="285" y="1013"/>
                        </a:lnTo>
                        <a:lnTo>
                          <a:pt x="273" y="1018"/>
                        </a:lnTo>
                        <a:lnTo>
                          <a:pt x="273" y="1033"/>
                        </a:lnTo>
                        <a:lnTo>
                          <a:pt x="261" y="1027"/>
                        </a:lnTo>
                        <a:lnTo>
                          <a:pt x="243" y="1015"/>
                        </a:lnTo>
                        <a:lnTo>
                          <a:pt x="215" y="1018"/>
                        </a:lnTo>
                        <a:lnTo>
                          <a:pt x="215" y="1034"/>
                        </a:lnTo>
                        <a:lnTo>
                          <a:pt x="217" y="1049"/>
                        </a:lnTo>
                        <a:lnTo>
                          <a:pt x="206" y="1054"/>
                        </a:lnTo>
                        <a:lnTo>
                          <a:pt x="181" y="1040"/>
                        </a:lnTo>
                        <a:lnTo>
                          <a:pt x="157" y="1060"/>
                        </a:lnTo>
                        <a:lnTo>
                          <a:pt x="163" y="1076"/>
                        </a:lnTo>
                        <a:lnTo>
                          <a:pt x="160" y="1088"/>
                        </a:lnTo>
                        <a:lnTo>
                          <a:pt x="136" y="1076"/>
                        </a:lnTo>
                        <a:lnTo>
                          <a:pt x="130" y="1092"/>
                        </a:lnTo>
                        <a:lnTo>
                          <a:pt x="121" y="1102"/>
                        </a:lnTo>
                        <a:lnTo>
                          <a:pt x="93" y="1096"/>
                        </a:lnTo>
                        <a:lnTo>
                          <a:pt x="78" y="1099"/>
                        </a:lnTo>
                        <a:lnTo>
                          <a:pt x="75" y="1122"/>
                        </a:lnTo>
                        <a:lnTo>
                          <a:pt x="64" y="1128"/>
                        </a:lnTo>
                        <a:lnTo>
                          <a:pt x="49" y="1152"/>
                        </a:lnTo>
                        <a:lnTo>
                          <a:pt x="51" y="1183"/>
                        </a:lnTo>
                        <a:lnTo>
                          <a:pt x="46" y="1227"/>
                        </a:lnTo>
                        <a:lnTo>
                          <a:pt x="39" y="1272"/>
                        </a:lnTo>
                        <a:lnTo>
                          <a:pt x="33" y="1314"/>
                        </a:lnTo>
                        <a:lnTo>
                          <a:pt x="28" y="1335"/>
                        </a:lnTo>
                        <a:lnTo>
                          <a:pt x="42" y="1355"/>
                        </a:lnTo>
                        <a:lnTo>
                          <a:pt x="64" y="1339"/>
                        </a:lnTo>
                        <a:lnTo>
                          <a:pt x="79" y="1348"/>
                        </a:lnTo>
                        <a:lnTo>
                          <a:pt x="79" y="1364"/>
                        </a:lnTo>
                        <a:lnTo>
                          <a:pt x="57" y="1378"/>
                        </a:lnTo>
                        <a:lnTo>
                          <a:pt x="54" y="1406"/>
                        </a:lnTo>
                        <a:lnTo>
                          <a:pt x="49" y="1420"/>
                        </a:lnTo>
                        <a:lnTo>
                          <a:pt x="26" y="1417"/>
                        </a:lnTo>
                        <a:lnTo>
                          <a:pt x="18" y="1450"/>
                        </a:lnTo>
                        <a:lnTo>
                          <a:pt x="28" y="1459"/>
                        </a:lnTo>
                        <a:lnTo>
                          <a:pt x="49" y="1453"/>
                        </a:lnTo>
                        <a:lnTo>
                          <a:pt x="60" y="1468"/>
                        </a:lnTo>
                        <a:lnTo>
                          <a:pt x="61" y="1476"/>
                        </a:lnTo>
                        <a:lnTo>
                          <a:pt x="44" y="1488"/>
                        </a:lnTo>
                        <a:lnTo>
                          <a:pt x="46" y="1507"/>
                        </a:lnTo>
                        <a:lnTo>
                          <a:pt x="26" y="1512"/>
                        </a:lnTo>
                        <a:lnTo>
                          <a:pt x="12" y="1501"/>
                        </a:lnTo>
                        <a:lnTo>
                          <a:pt x="15" y="1528"/>
                        </a:lnTo>
                        <a:lnTo>
                          <a:pt x="12" y="1548"/>
                        </a:lnTo>
                        <a:lnTo>
                          <a:pt x="0" y="1548"/>
                        </a:lnTo>
                        <a:lnTo>
                          <a:pt x="30" y="1582"/>
                        </a:lnTo>
                        <a:lnTo>
                          <a:pt x="46" y="1602"/>
                        </a:lnTo>
                        <a:lnTo>
                          <a:pt x="54" y="1629"/>
                        </a:lnTo>
                        <a:lnTo>
                          <a:pt x="85" y="1649"/>
                        </a:lnTo>
                        <a:lnTo>
                          <a:pt x="118" y="1668"/>
                        </a:lnTo>
                        <a:lnTo>
                          <a:pt x="150" y="1668"/>
                        </a:lnTo>
                        <a:lnTo>
                          <a:pt x="197" y="1635"/>
                        </a:lnTo>
                        <a:lnTo>
                          <a:pt x="243" y="1599"/>
                        </a:lnTo>
                        <a:lnTo>
                          <a:pt x="285" y="1537"/>
                        </a:lnTo>
                        <a:lnTo>
                          <a:pt x="292" y="1531"/>
                        </a:lnTo>
                        <a:lnTo>
                          <a:pt x="303" y="1551"/>
                        </a:lnTo>
                        <a:lnTo>
                          <a:pt x="324" y="1537"/>
                        </a:lnTo>
                        <a:lnTo>
                          <a:pt x="331" y="1515"/>
                        </a:lnTo>
                        <a:lnTo>
                          <a:pt x="333" y="1488"/>
                        </a:lnTo>
                        <a:lnTo>
                          <a:pt x="354" y="1453"/>
                        </a:lnTo>
                        <a:lnTo>
                          <a:pt x="346" y="1492"/>
                        </a:lnTo>
                        <a:lnTo>
                          <a:pt x="357" y="1498"/>
                        </a:lnTo>
                        <a:lnTo>
                          <a:pt x="352" y="1515"/>
                        </a:lnTo>
                        <a:lnTo>
                          <a:pt x="357" y="1545"/>
                        </a:lnTo>
                        <a:lnTo>
                          <a:pt x="367" y="1570"/>
                        </a:lnTo>
                        <a:lnTo>
                          <a:pt x="380" y="1563"/>
                        </a:lnTo>
                        <a:lnTo>
                          <a:pt x="378" y="157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600680" y="3477960"/>
                    <a:ext cx="992160" cy="10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0" h="1668">
                        <a:moveTo>
                          <a:pt x="378" y="1570"/>
                        </a:moveTo>
                        <a:lnTo>
                          <a:pt x="382" y="1567"/>
                        </a:lnTo>
                        <a:lnTo>
                          <a:pt x="398" y="1563"/>
                        </a:lnTo>
                        <a:lnTo>
                          <a:pt x="409" y="1545"/>
                        </a:lnTo>
                        <a:lnTo>
                          <a:pt x="414" y="1524"/>
                        </a:lnTo>
                        <a:lnTo>
                          <a:pt x="419" y="1512"/>
                        </a:lnTo>
                        <a:lnTo>
                          <a:pt x="414" y="1479"/>
                        </a:lnTo>
                        <a:lnTo>
                          <a:pt x="419" y="1456"/>
                        </a:lnTo>
                        <a:lnTo>
                          <a:pt x="434" y="1445"/>
                        </a:lnTo>
                        <a:lnTo>
                          <a:pt x="470" y="1429"/>
                        </a:lnTo>
                        <a:lnTo>
                          <a:pt x="476" y="1411"/>
                        </a:lnTo>
                        <a:lnTo>
                          <a:pt x="470" y="1355"/>
                        </a:lnTo>
                        <a:lnTo>
                          <a:pt x="466" y="1345"/>
                        </a:lnTo>
                        <a:lnTo>
                          <a:pt x="466" y="1311"/>
                        </a:lnTo>
                        <a:lnTo>
                          <a:pt x="455" y="1299"/>
                        </a:lnTo>
                        <a:lnTo>
                          <a:pt x="461" y="1272"/>
                        </a:lnTo>
                        <a:lnTo>
                          <a:pt x="470" y="1272"/>
                        </a:lnTo>
                        <a:lnTo>
                          <a:pt x="497" y="1256"/>
                        </a:lnTo>
                        <a:lnTo>
                          <a:pt x="476" y="1204"/>
                        </a:lnTo>
                        <a:lnTo>
                          <a:pt x="466" y="1188"/>
                        </a:lnTo>
                        <a:lnTo>
                          <a:pt x="466" y="1183"/>
                        </a:lnTo>
                        <a:lnTo>
                          <a:pt x="466" y="1141"/>
                        </a:lnTo>
                        <a:lnTo>
                          <a:pt x="481" y="1108"/>
                        </a:lnTo>
                        <a:lnTo>
                          <a:pt x="486" y="1073"/>
                        </a:lnTo>
                        <a:lnTo>
                          <a:pt x="491" y="1034"/>
                        </a:lnTo>
                        <a:lnTo>
                          <a:pt x="486" y="1001"/>
                        </a:lnTo>
                        <a:lnTo>
                          <a:pt x="497" y="979"/>
                        </a:lnTo>
                        <a:lnTo>
                          <a:pt x="502" y="962"/>
                        </a:lnTo>
                        <a:lnTo>
                          <a:pt x="533" y="939"/>
                        </a:lnTo>
                        <a:lnTo>
                          <a:pt x="564" y="929"/>
                        </a:lnTo>
                        <a:lnTo>
                          <a:pt x="590" y="939"/>
                        </a:lnTo>
                        <a:lnTo>
                          <a:pt x="600" y="945"/>
                        </a:lnTo>
                        <a:lnTo>
                          <a:pt x="616" y="923"/>
                        </a:lnTo>
                        <a:lnTo>
                          <a:pt x="616" y="896"/>
                        </a:lnTo>
                        <a:lnTo>
                          <a:pt x="600" y="845"/>
                        </a:lnTo>
                        <a:lnTo>
                          <a:pt x="595" y="823"/>
                        </a:lnTo>
                        <a:lnTo>
                          <a:pt x="600" y="811"/>
                        </a:lnTo>
                        <a:lnTo>
                          <a:pt x="610" y="811"/>
                        </a:lnTo>
                        <a:lnTo>
                          <a:pt x="621" y="795"/>
                        </a:lnTo>
                        <a:lnTo>
                          <a:pt x="627" y="762"/>
                        </a:lnTo>
                        <a:lnTo>
                          <a:pt x="631" y="716"/>
                        </a:lnTo>
                        <a:lnTo>
                          <a:pt x="636" y="673"/>
                        </a:lnTo>
                        <a:lnTo>
                          <a:pt x="652" y="655"/>
                        </a:lnTo>
                        <a:lnTo>
                          <a:pt x="683" y="634"/>
                        </a:lnTo>
                        <a:lnTo>
                          <a:pt x="704" y="622"/>
                        </a:lnTo>
                        <a:lnTo>
                          <a:pt x="709" y="588"/>
                        </a:lnTo>
                        <a:lnTo>
                          <a:pt x="719" y="566"/>
                        </a:lnTo>
                        <a:lnTo>
                          <a:pt x="745" y="543"/>
                        </a:lnTo>
                        <a:lnTo>
                          <a:pt x="751" y="527"/>
                        </a:lnTo>
                        <a:lnTo>
                          <a:pt x="745" y="510"/>
                        </a:lnTo>
                        <a:lnTo>
                          <a:pt x="745" y="488"/>
                        </a:lnTo>
                        <a:lnTo>
                          <a:pt x="766" y="471"/>
                        </a:lnTo>
                        <a:lnTo>
                          <a:pt x="792" y="421"/>
                        </a:lnTo>
                        <a:lnTo>
                          <a:pt x="810" y="426"/>
                        </a:lnTo>
                        <a:lnTo>
                          <a:pt x="840" y="399"/>
                        </a:lnTo>
                        <a:lnTo>
                          <a:pt x="836" y="376"/>
                        </a:lnTo>
                        <a:lnTo>
                          <a:pt x="856" y="354"/>
                        </a:lnTo>
                        <a:lnTo>
                          <a:pt x="867" y="360"/>
                        </a:lnTo>
                        <a:lnTo>
                          <a:pt x="888" y="354"/>
                        </a:lnTo>
                        <a:lnTo>
                          <a:pt x="919" y="360"/>
                        </a:lnTo>
                        <a:lnTo>
                          <a:pt x="959" y="320"/>
                        </a:lnTo>
                        <a:lnTo>
                          <a:pt x="955" y="298"/>
                        </a:lnTo>
                        <a:lnTo>
                          <a:pt x="959" y="287"/>
                        </a:lnTo>
                        <a:lnTo>
                          <a:pt x="949" y="283"/>
                        </a:lnTo>
                        <a:lnTo>
                          <a:pt x="970" y="262"/>
                        </a:lnTo>
                        <a:lnTo>
                          <a:pt x="1001" y="257"/>
                        </a:lnTo>
                        <a:lnTo>
                          <a:pt x="1022" y="287"/>
                        </a:lnTo>
                        <a:lnTo>
                          <a:pt x="1058" y="331"/>
                        </a:lnTo>
                        <a:lnTo>
                          <a:pt x="1074" y="331"/>
                        </a:lnTo>
                        <a:lnTo>
                          <a:pt x="1095" y="314"/>
                        </a:lnTo>
                        <a:lnTo>
                          <a:pt x="1110" y="310"/>
                        </a:lnTo>
                        <a:lnTo>
                          <a:pt x="1120" y="314"/>
                        </a:lnTo>
                        <a:lnTo>
                          <a:pt x="1136" y="331"/>
                        </a:lnTo>
                        <a:lnTo>
                          <a:pt x="1156" y="337"/>
                        </a:lnTo>
                        <a:lnTo>
                          <a:pt x="1162" y="331"/>
                        </a:lnTo>
                        <a:lnTo>
                          <a:pt x="1171" y="310"/>
                        </a:lnTo>
                        <a:lnTo>
                          <a:pt x="1177" y="298"/>
                        </a:lnTo>
                        <a:lnTo>
                          <a:pt x="1198" y="262"/>
                        </a:lnTo>
                        <a:lnTo>
                          <a:pt x="1204" y="257"/>
                        </a:lnTo>
                        <a:lnTo>
                          <a:pt x="1198" y="200"/>
                        </a:lnTo>
                        <a:lnTo>
                          <a:pt x="1224" y="173"/>
                        </a:lnTo>
                        <a:lnTo>
                          <a:pt x="1234" y="179"/>
                        </a:lnTo>
                        <a:lnTo>
                          <a:pt x="1265" y="144"/>
                        </a:lnTo>
                        <a:lnTo>
                          <a:pt x="1291" y="179"/>
                        </a:lnTo>
                        <a:lnTo>
                          <a:pt x="1301" y="189"/>
                        </a:lnTo>
                        <a:lnTo>
                          <a:pt x="1317" y="183"/>
                        </a:lnTo>
                        <a:lnTo>
                          <a:pt x="1328" y="200"/>
                        </a:lnTo>
                        <a:lnTo>
                          <a:pt x="1328" y="212"/>
                        </a:lnTo>
                        <a:lnTo>
                          <a:pt x="1338" y="222"/>
                        </a:lnTo>
                        <a:lnTo>
                          <a:pt x="1338" y="239"/>
                        </a:lnTo>
                        <a:lnTo>
                          <a:pt x="1353" y="218"/>
                        </a:lnTo>
                        <a:lnTo>
                          <a:pt x="1379" y="195"/>
                        </a:lnTo>
                        <a:lnTo>
                          <a:pt x="1395" y="161"/>
                        </a:lnTo>
                        <a:lnTo>
                          <a:pt x="1384" y="156"/>
                        </a:lnTo>
                        <a:lnTo>
                          <a:pt x="1368" y="173"/>
                        </a:lnTo>
                        <a:lnTo>
                          <a:pt x="1364" y="144"/>
                        </a:lnTo>
                        <a:lnTo>
                          <a:pt x="1353" y="140"/>
                        </a:lnTo>
                        <a:lnTo>
                          <a:pt x="1349" y="123"/>
                        </a:lnTo>
                        <a:lnTo>
                          <a:pt x="1389" y="88"/>
                        </a:lnTo>
                        <a:lnTo>
                          <a:pt x="1405" y="94"/>
                        </a:lnTo>
                        <a:lnTo>
                          <a:pt x="1410" y="72"/>
                        </a:lnTo>
                        <a:lnTo>
                          <a:pt x="1400" y="66"/>
                        </a:lnTo>
                        <a:lnTo>
                          <a:pt x="1374" y="55"/>
                        </a:lnTo>
                        <a:lnTo>
                          <a:pt x="1359" y="49"/>
                        </a:lnTo>
                        <a:lnTo>
                          <a:pt x="1338" y="28"/>
                        </a:lnTo>
                        <a:lnTo>
                          <a:pt x="1317" y="22"/>
                        </a:lnTo>
                        <a:lnTo>
                          <a:pt x="1296" y="45"/>
                        </a:lnTo>
                        <a:lnTo>
                          <a:pt x="1286" y="61"/>
                        </a:lnTo>
                        <a:lnTo>
                          <a:pt x="1265" y="45"/>
                        </a:lnTo>
                        <a:lnTo>
                          <a:pt x="1276" y="33"/>
                        </a:lnTo>
                        <a:lnTo>
                          <a:pt x="1280" y="6"/>
                        </a:lnTo>
                        <a:lnTo>
                          <a:pt x="1276" y="0"/>
                        </a:lnTo>
                        <a:lnTo>
                          <a:pt x="1250" y="0"/>
                        </a:lnTo>
                        <a:lnTo>
                          <a:pt x="1244" y="10"/>
                        </a:lnTo>
                        <a:lnTo>
                          <a:pt x="1240" y="28"/>
                        </a:lnTo>
                        <a:lnTo>
                          <a:pt x="1244" y="45"/>
                        </a:lnTo>
                        <a:lnTo>
                          <a:pt x="1224" y="66"/>
                        </a:lnTo>
                        <a:lnTo>
                          <a:pt x="1208" y="33"/>
                        </a:lnTo>
                        <a:lnTo>
                          <a:pt x="1192" y="39"/>
                        </a:lnTo>
                        <a:lnTo>
                          <a:pt x="1188" y="66"/>
                        </a:lnTo>
                        <a:lnTo>
                          <a:pt x="1177" y="105"/>
                        </a:lnTo>
                        <a:lnTo>
                          <a:pt x="1152" y="134"/>
                        </a:lnTo>
                        <a:lnTo>
                          <a:pt x="1136" y="100"/>
                        </a:lnTo>
                        <a:lnTo>
                          <a:pt x="1162" y="78"/>
                        </a:lnTo>
                        <a:lnTo>
                          <a:pt x="1167" y="45"/>
                        </a:lnTo>
                        <a:lnTo>
                          <a:pt x="1152" y="45"/>
                        </a:lnTo>
                        <a:lnTo>
                          <a:pt x="1125" y="45"/>
                        </a:lnTo>
                        <a:lnTo>
                          <a:pt x="1104" y="78"/>
                        </a:lnTo>
                        <a:lnTo>
                          <a:pt x="1079" y="123"/>
                        </a:lnTo>
                        <a:lnTo>
                          <a:pt x="1089" y="144"/>
                        </a:lnTo>
                        <a:lnTo>
                          <a:pt x="1074" y="156"/>
                        </a:lnTo>
                        <a:lnTo>
                          <a:pt x="1053" y="140"/>
                        </a:lnTo>
                        <a:lnTo>
                          <a:pt x="1032" y="150"/>
                        </a:lnTo>
                        <a:lnTo>
                          <a:pt x="1037" y="173"/>
                        </a:lnTo>
                        <a:lnTo>
                          <a:pt x="1012" y="173"/>
                        </a:lnTo>
                        <a:lnTo>
                          <a:pt x="995" y="179"/>
                        </a:lnTo>
                        <a:lnTo>
                          <a:pt x="976" y="206"/>
                        </a:lnTo>
                        <a:lnTo>
                          <a:pt x="949" y="200"/>
                        </a:lnTo>
                        <a:lnTo>
                          <a:pt x="949" y="218"/>
                        </a:lnTo>
                        <a:lnTo>
                          <a:pt x="928" y="200"/>
                        </a:lnTo>
                        <a:lnTo>
                          <a:pt x="903" y="212"/>
                        </a:lnTo>
                        <a:lnTo>
                          <a:pt x="898" y="235"/>
                        </a:lnTo>
                        <a:lnTo>
                          <a:pt x="877" y="239"/>
                        </a:lnTo>
                        <a:lnTo>
                          <a:pt x="861" y="218"/>
                        </a:lnTo>
                        <a:lnTo>
                          <a:pt x="831" y="222"/>
                        </a:lnTo>
                        <a:lnTo>
                          <a:pt x="800" y="235"/>
                        </a:lnTo>
                        <a:lnTo>
                          <a:pt x="800" y="268"/>
                        </a:lnTo>
                        <a:lnTo>
                          <a:pt x="819" y="274"/>
                        </a:lnTo>
                        <a:lnTo>
                          <a:pt x="819" y="283"/>
                        </a:lnTo>
                        <a:lnTo>
                          <a:pt x="819" y="304"/>
                        </a:lnTo>
                        <a:lnTo>
                          <a:pt x="804" y="298"/>
                        </a:lnTo>
                        <a:lnTo>
                          <a:pt x="786" y="310"/>
                        </a:lnTo>
                        <a:lnTo>
                          <a:pt x="792" y="331"/>
                        </a:lnTo>
                        <a:lnTo>
                          <a:pt x="810" y="349"/>
                        </a:lnTo>
                        <a:lnTo>
                          <a:pt x="810" y="376"/>
                        </a:lnTo>
                        <a:lnTo>
                          <a:pt x="792" y="366"/>
                        </a:lnTo>
                        <a:lnTo>
                          <a:pt x="776" y="370"/>
                        </a:lnTo>
                        <a:lnTo>
                          <a:pt x="776" y="393"/>
                        </a:lnTo>
                        <a:lnTo>
                          <a:pt x="751" y="393"/>
                        </a:lnTo>
                        <a:lnTo>
                          <a:pt x="730" y="393"/>
                        </a:lnTo>
                        <a:lnTo>
                          <a:pt x="724" y="409"/>
                        </a:lnTo>
                        <a:lnTo>
                          <a:pt x="719" y="421"/>
                        </a:lnTo>
                        <a:lnTo>
                          <a:pt x="704" y="426"/>
                        </a:lnTo>
                        <a:lnTo>
                          <a:pt x="698" y="438"/>
                        </a:lnTo>
                        <a:lnTo>
                          <a:pt x="704" y="454"/>
                        </a:lnTo>
                        <a:lnTo>
                          <a:pt x="673" y="465"/>
                        </a:lnTo>
                        <a:lnTo>
                          <a:pt x="694" y="488"/>
                        </a:lnTo>
                        <a:lnTo>
                          <a:pt x="698" y="500"/>
                        </a:lnTo>
                        <a:lnTo>
                          <a:pt x="678" y="516"/>
                        </a:lnTo>
                        <a:lnTo>
                          <a:pt x="642" y="543"/>
                        </a:lnTo>
                        <a:lnTo>
                          <a:pt x="616" y="566"/>
                        </a:lnTo>
                        <a:lnTo>
                          <a:pt x="600" y="599"/>
                        </a:lnTo>
                        <a:lnTo>
                          <a:pt x="574" y="622"/>
                        </a:lnTo>
                        <a:lnTo>
                          <a:pt x="574" y="638"/>
                        </a:lnTo>
                        <a:lnTo>
                          <a:pt x="579" y="655"/>
                        </a:lnTo>
                        <a:lnTo>
                          <a:pt x="558" y="673"/>
                        </a:lnTo>
                        <a:lnTo>
                          <a:pt x="564" y="694"/>
                        </a:lnTo>
                        <a:lnTo>
                          <a:pt x="543" y="733"/>
                        </a:lnTo>
                        <a:lnTo>
                          <a:pt x="528" y="739"/>
                        </a:lnTo>
                        <a:lnTo>
                          <a:pt x="528" y="768"/>
                        </a:lnTo>
                        <a:lnTo>
                          <a:pt x="539" y="784"/>
                        </a:lnTo>
                        <a:lnTo>
                          <a:pt x="522" y="801"/>
                        </a:lnTo>
                        <a:lnTo>
                          <a:pt x="512" y="789"/>
                        </a:lnTo>
                        <a:lnTo>
                          <a:pt x="491" y="801"/>
                        </a:lnTo>
                        <a:lnTo>
                          <a:pt x="497" y="834"/>
                        </a:lnTo>
                        <a:lnTo>
                          <a:pt x="476" y="845"/>
                        </a:lnTo>
                        <a:lnTo>
                          <a:pt x="445" y="851"/>
                        </a:lnTo>
                        <a:lnTo>
                          <a:pt x="424" y="879"/>
                        </a:lnTo>
                        <a:lnTo>
                          <a:pt x="419" y="906"/>
                        </a:lnTo>
                        <a:lnTo>
                          <a:pt x="398" y="929"/>
                        </a:lnTo>
                        <a:lnTo>
                          <a:pt x="398" y="945"/>
                        </a:lnTo>
                        <a:lnTo>
                          <a:pt x="424" y="923"/>
                        </a:lnTo>
                        <a:lnTo>
                          <a:pt x="455" y="900"/>
                        </a:lnTo>
                        <a:lnTo>
                          <a:pt x="466" y="906"/>
                        </a:lnTo>
                        <a:lnTo>
                          <a:pt x="455" y="939"/>
                        </a:lnTo>
                        <a:lnTo>
                          <a:pt x="430" y="957"/>
                        </a:lnTo>
                        <a:lnTo>
                          <a:pt x="403" y="951"/>
                        </a:lnTo>
                        <a:lnTo>
                          <a:pt x="409" y="974"/>
                        </a:lnTo>
                        <a:lnTo>
                          <a:pt x="373" y="991"/>
                        </a:lnTo>
                        <a:lnTo>
                          <a:pt x="367" y="957"/>
                        </a:lnTo>
                        <a:lnTo>
                          <a:pt x="352" y="945"/>
                        </a:lnTo>
                        <a:lnTo>
                          <a:pt x="331" y="979"/>
                        </a:lnTo>
                        <a:lnTo>
                          <a:pt x="310" y="979"/>
                        </a:lnTo>
                        <a:lnTo>
                          <a:pt x="287" y="985"/>
                        </a:lnTo>
                        <a:lnTo>
                          <a:pt x="285" y="1013"/>
                        </a:lnTo>
                        <a:lnTo>
                          <a:pt x="273" y="1018"/>
                        </a:lnTo>
                        <a:lnTo>
                          <a:pt x="273" y="1033"/>
                        </a:lnTo>
                        <a:lnTo>
                          <a:pt x="261" y="1027"/>
                        </a:lnTo>
                        <a:lnTo>
                          <a:pt x="243" y="1015"/>
                        </a:lnTo>
                        <a:lnTo>
                          <a:pt x="215" y="1018"/>
                        </a:lnTo>
                        <a:lnTo>
                          <a:pt x="215" y="1034"/>
                        </a:lnTo>
                        <a:lnTo>
                          <a:pt x="217" y="1049"/>
                        </a:lnTo>
                        <a:lnTo>
                          <a:pt x="206" y="1054"/>
                        </a:lnTo>
                        <a:lnTo>
                          <a:pt x="181" y="1040"/>
                        </a:lnTo>
                        <a:lnTo>
                          <a:pt x="157" y="1060"/>
                        </a:lnTo>
                        <a:lnTo>
                          <a:pt x="163" y="1076"/>
                        </a:lnTo>
                        <a:lnTo>
                          <a:pt x="160" y="1088"/>
                        </a:lnTo>
                        <a:lnTo>
                          <a:pt x="136" y="1076"/>
                        </a:lnTo>
                        <a:lnTo>
                          <a:pt x="130" y="1092"/>
                        </a:lnTo>
                        <a:lnTo>
                          <a:pt x="121" y="1102"/>
                        </a:lnTo>
                        <a:lnTo>
                          <a:pt x="93" y="1096"/>
                        </a:lnTo>
                        <a:lnTo>
                          <a:pt x="78" y="1099"/>
                        </a:lnTo>
                        <a:lnTo>
                          <a:pt x="75" y="1122"/>
                        </a:lnTo>
                        <a:lnTo>
                          <a:pt x="64" y="1128"/>
                        </a:lnTo>
                        <a:lnTo>
                          <a:pt x="49" y="1152"/>
                        </a:lnTo>
                        <a:lnTo>
                          <a:pt x="51" y="1183"/>
                        </a:lnTo>
                        <a:lnTo>
                          <a:pt x="46" y="1227"/>
                        </a:lnTo>
                        <a:lnTo>
                          <a:pt x="39" y="1272"/>
                        </a:lnTo>
                        <a:lnTo>
                          <a:pt x="33" y="1314"/>
                        </a:lnTo>
                        <a:lnTo>
                          <a:pt x="28" y="1335"/>
                        </a:lnTo>
                        <a:lnTo>
                          <a:pt x="42" y="1355"/>
                        </a:lnTo>
                        <a:lnTo>
                          <a:pt x="64" y="1339"/>
                        </a:lnTo>
                        <a:lnTo>
                          <a:pt x="79" y="1348"/>
                        </a:lnTo>
                        <a:lnTo>
                          <a:pt x="79" y="1364"/>
                        </a:lnTo>
                        <a:lnTo>
                          <a:pt x="57" y="1378"/>
                        </a:lnTo>
                        <a:lnTo>
                          <a:pt x="54" y="1406"/>
                        </a:lnTo>
                        <a:lnTo>
                          <a:pt x="49" y="1420"/>
                        </a:lnTo>
                        <a:lnTo>
                          <a:pt x="26" y="1417"/>
                        </a:lnTo>
                        <a:lnTo>
                          <a:pt x="18" y="1450"/>
                        </a:lnTo>
                        <a:lnTo>
                          <a:pt x="28" y="1459"/>
                        </a:lnTo>
                        <a:lnTo>
                          <a:pt x="49" y="1453"/>
                        </a:lnTo>
                        <a:lnTo>
                          <a:pt x="60" y="1468"/>
                        </a:lnTo>
                        <a:lnTo>
                          <a:pt x="61" y="1476"/>
                        </a:lnTo>
                        <a:lnTo>
                          <a:pt x="44" y="1488"/>
                        </a:lnTo>
                        <a:lnTo>
                          <a:pt x="46" y="1507"/>
                        </a:lnTo>
                        <a:lnTo>
                          <a:pt x="26" y="1512"/>
                        </a:lnTo>
                        <a:lnTo>
                          <a:pt x="12" y="1501"/>
                        </a:lnTo>
                        <a:lnTo>
                          <a:pt x="15" y="1528"/>
                        </a:lnTo>
                        <a:lnTo>
                          <a:pt x="12" y="1548"/>
                        </a:lnTo>
                        <a:lnTo>
                          <a:pt x="0" y="1548"/>
                        </a:lnTo>
                        <a:lnTo>
                          <a:pt x="30" y="1582"/>
                        </a:lnTo>
                        <a:lnTo>
                          <a:pt x="46" y="1602"/>
                        </a:lnTo>
                        <a:lnTo>
                          <a:pt x="54" y="1629"/>
                        </a:lnTo>
                        <a:lnTo>
                          <a:pt x="85" y="1649"/>
                        </a:lnTo>
                        <a:lnTo>
                          <a:pt x="118" y="1668"/>
                        </a:lnTo>
                        <a:lnTo>
                          <a:pt x="150" y="1668"/>
                        </a:lnTo>
                        <a:lnTo>
                          <a:pt x="197" y="1635"/>
                        </a:lnTo>
                        <a:lnTo>
                          <a:pt x="243" y="1599"/>
                        </a:lnTo>
                        <a:lnTo>
                          <a:pt x="285" y="1537"/>
                        </a:lnTo>
                        <a:lnTo>
                          <a:pt x="292" y="1531"/>
                        </a:lnTo>
                        <a:lnTo>
                          <a:pt x="303" y="1551"/>
                        </a:lnTo>
                        <a:lnTo>
                          <a:pt x="324" y="1537"/>
                        </a:lnTo>
                        <a:lnTo>
                          <a:pt x="331" y="1515"/>
                        </a:lnTo>
                        <a:lnTo>
                          <a:pt x="333" y="1488"/>
                        </a:lnTo>
                        <a:lnTo>
                          <a:pt x="354" y="1453"/>
                        </a:lnTo>
                        <a:lnTo>
                          <a:pt x="346" y="1492"/>
                        </a:lnTo>
                        <a:lnTo>
                          <a:pt x="357" y="1498"/>
                        </a:lnTo>
                        <a:lnTo>
                          <a:pt x="352" y="1515"/>
                        </a:lnTo>
                        <a:lnTo>
                          <a:pt x="357" y="1545"/>
                        </a:lnTo>
                        <a:lnTo>
                          <a:pt x="367" y="1570"/>
                        </a:lnTo>
                        <a:lnTo>
                          <a:pt x="380" y="1563"/>
                        </a:lnTo>
                        <a:lnTo>
                          <a:pt x="378" y="157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600680" y="3477960"/>
                    <a:ext cx="992160" cy="10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0" h="1668">
                        <a:moveTo>
                          <a:pt x="378" y="1570"/>
                        </a:moveTo>
                        <a:lnTo>
                          <a:pt x="382" y="1567"/>
                        </a:lnTo>
                        <a:lnTo>
                          <a:pt x="398" y="1563"/>
                        </a:lnTo>
                        <a:lnTo>
                          <a:pt x="409" y="1545"/>
                        </a:lnTo>
                        <a:lnTo>
                          <a:pt x="414" y="1524"/>
                        </a:lnTo>
                        <a:lnTo>
                          <a:pt x="419" y="1512"/>
                        </a:lnTo>
                        <a:lnTo>
                          <a:pt x="414" y="1479"/>
                        </a:lnTo>
                        <a:lnTo>
                          <a:pt x="419" y="1456"/>
                        </a:lnTo>
                        <a:lnTo>
                          <a:pt x="434" y="1445"/>
                        </a:lnTo>
                        <a:lnTo>
                          <a:pt x="470" y="1429"/>
                        </a:lnTo>
                        <a:lnTo>
                          <a:pt x="476" y="1411"/>
                        </a:lnTo>
                        <a:lnTo>
                          <a:pt x="470" y="1355"/>
                        </a:lnTo>
                        <a:lnTo>
                          <a:pt x="466" y="1345"/>
                        </a:lnTo>
                        <a:lnTo>
                          <a:pt x="466" y="1311"/>
                        </a:lnTo>
                        <a:lnTo>
                          <a:pt x="455" y="1299"/>
                        </a:lnTo>
                        <a:lnTo>
                          <a:pt x="461" y="1272"/>
                        </a:lnTo>
                        <a:lnTo>
                          <a:pt x="470" y="1272"/>
                        </a:lnTo>
                        <a:lnTo>
                          <a:pt x="497" y="1256"/>
                        </a:lnTo>
                        <a:lnTo>
                          <a:pt x="476" y="1204"/>
                        </a:lnTo>
                        <a:lnTo>
                          <a:pt x="466" y="1188"/>
                        </a:lnTo>
                        <a:lnTo>
                          <a:pt x="466" y="1183"/>
                        </a:lnTo>
                        <a:lnTo>
                          <a:pt x="466" y="1141"/>
                        </a:lnTo>
                        <a:lnTo>
                          <a:pt x="481" y="1108"/>
                        </a:lnTo>
                        <a:lnTo>
                          <a:pt x="486" y="1073"/>
                        </a:lnTo>
                        <a:lnTo>
                          <a:pt x="491" y="1034"/>
                        </a:lnTo>
                        <a:lnTo>
                          <a:pt x="486" y="1001"/>
                        </a:lnTo>
                        <a:lnTo>
                          <a:pt x="497" y="979"/>
                        </a:lnTo>
                        <a:lnTo>
                          <a:pt x="502" y="962"/>
                        </a:lnTo>
                        <a:lnTo>
                          <a:pt x="533" y="939"/>
                        </a:lnTo>
                        <a:lnTo>
                          <a:pt x="564" y="929"/>
                        </a:lnTo>
                        <a:lnTo>
                          <a:pt x="590" y="939"/>
                        </a:lnTo>
                        <a:lnTo>
                          <a:pt x="600" y="945"/>
                        </a:lnTo>
                        <a:lnTo>
                          <a:pt x="616" y="923"/>
                        </a:lnTo>
                        <a:lnTo>
                          <a:pt x="616" y="896"/>
                        </a:lnTo>
                        <a:lnTo>
                          <a:pt x="600" y="845"/>
                        </a:lnTo>
                        <a:lnTo>
                          <a:pt x="595" y="823"/>
                        </a:lnTo>
                        <a:lnTo>
                          <a:pt x="600" y="811"/>
                        </a:lnTo>
                        <a:lnTo>
                          <a:pt x="610" y="811"/>
                        </a:lnTo>
                        <a:lnTo>
                          <a:pt x="621" y="795"/>
                        </a:lnTo>
                        <a:lnTo>
                          <a:pt x="627" y="762"/>
                        </a:lnTo>
                        <a:lnTo>
                          <a:pt x="631" y="716"/>
                        </a:lnTo>
                        <a:lnTo>
                          <a:pt x="636" y="673"/>
                        </a:lnTo>
                        <a:lnTo>
                          <a:pt x="652" y="655"/>
                        </a:lnTo>
                        <a:lnTo>
                          <a:pt x="683" y="634"/>
                        </a:lnTo>
                        <a:lnTo>
                          <a:pt x="704" y="622"/>
                        </a:lnTo>
                        <a:lnTo>
                          <a:pt x="709" y="588"/>
                        </a:lnTo>
                        <a:lnTo>
                          <a:pt x="719" y="566"/>
                        </a:lnTo>
                        <a:lnTo>
                          <a:pt x="745" y="543"/>
                        </a:lnTo>
                        <a:lnTo>
                          <a:pt x="751" y="527"/>
                        </a:lnTo>
                        <a:lnTo>
                          <a:pt x="745" y="510"/>
                        </a:lnTo>
                        <a:lnTo>
                          <a:pt x="745" y="488"/>
                        </a:lnTo>
                        <a:lnTo>
                          <a:pt x="766" y="471"/>
                        </a:lnTo>
                        <a:lnTo>
                          <a:pt x="792" y="421"/>
                        </a:lnTo>
                        <a:lnTo>
                          <a:pt x="810" y="426"/>
                        </a:lnTo>
                        <a:lnTo>
                          <a:pt x="840" y="399"/>
                        </a:lnTo>
                        <a:lnTo>
                          <a:pt x="836" y="376"/>
                        </a:lnTo>
                        <a:lnTo>
                          <a:pt x="856" y="354"/>
                        </a:lnTo>
                        <a:lnTo>
                          <a:pt x="867" y="360"/>
                        </a:lnTo>
                        <a:lnTo>
                          <a:pt x="888" y="354"/>
                        </a:lnTo>
                        <a:lnTo>
                          <a:pt x="919" y="360"/>
                        </a:lnTo>
                        <a:lnTo>
                          <a:pt x="959" y="320"/>
                        </a:lnTo>
                        <a:lnTo>
                          <a:pt x="955" y="298"/>
                        </a:lnTo>
                        <a:lnTo>
                          <a:pt x="959" y="287"/>
                        </a:lnTo>
                        <a:lnTo>
                          <a:pt x="949" y="283"/>
                        </a:lnTo>
                        <a:lnTo>
                          <a:pt x="970" y="262"/>
                        </a:lnTo>
                        <a:lnTo>
                          <a:pt x="1001" y="257"/>
                        </a:lnTo>
                        <a:lnTo>
                          <a:pt x="1022" y="287"/>
                        </a:lnTo>
                        <a:lnTo>
                          <a:pt x="1058" y="331"/>
                        </a:lnTo>
                        <a:lnTo>
                          <a:pt x="1074" y="331"/>
                        </a:lnTo>
                        <a:lnTo>
                          <a:pt x="1095" y="314"/>
                        </a:lnTo>
                        <a:lnTo>
                          <a:pt x="1110" y="310"/>
                        </a:lnTo>
                        <a:lnTo>
                          <a:pt x="1120" y="314"/>
                        </a:lnTo>
                        <a:lnTo>
                          <a:pt x="1136" y="331"/>
                        </a:lnTo>
                        <a:lnTo>
                          <a:pt x="1156" y="337"/>
                        </a:lnTo>
                        <a:lnTo>
                          <a:pt x="1162" y="331"/>
                        </a:lnTo>
                        <a:lnTo>
                          <a:pt x="1171" y="310"/>
                        </a:lnTo>
                        <a:lnTo>
                          <a:pt x="1177" y="298"/>
                        </a:lnTo>
                        <a:lnTo>
                          <a:pt x="1198" y="262"/>
                        </a:lnTo>
                        <a:lnTo>
                          <a:pt x="1204" y="257"/>
                        </a:lnTo>
                        <a:lnTo>
                          <a:pt x="1198" y="200"/>
                        </a:lnTo>
                        <a:lnTo>
                          <a:pt x="1224" y="173"/>
                        </a:lnTo>
                        <a:lnTo>
                          <a:pt x="1234" y="179"/>
                        </a:lnTo>
                        <a:lnTo>
                          <a:pt x="1265" y="144"/>
                        </a:lnTo>
                        <a:lnTo>
                          <a:pt x="1291" y="179"/>
                        </a:lnTo>
                        <a:lnTo>
                          <a:pt x="1301" y="189"/>
                        </a:lnTo>
                        <a:lnTo>
                          <a:pt x="1317" y="183"/>
                        </a:lnTo>
                        <a:lnTo>
                          <a:pt x="1328" y="200"/>
                        </a:lnTo>
                        <a:lnTo>
                          <a:pt x="1328" y="212"/>
                        </a:lnTo>
                        <a:lnTo>
                          <a:pt x="1338" y="222"/>
                        </a:lnTo>
                        <a:lnTo>
                          <a:pt x="1338" y="239"/>
                        </a:lnTo>
                        <a:lnTo>
                          <a:pt x="1353" y="218"/>
                        </a:lnTo>
                        <a:lnTo>
                          <a:pt x="1379" y="195"/>
                        </a:lnTo>
                        <a:lnTo>
                          <a:pt x="1395" y="161"/>
                        </a:lnTo>
                        <a:lnTo>
                          <a:pt x="1384" y="156"/>
                        </a:lnTo>
                        <a:lnTo>
                          <a:pt x="1368" y="173"/>
                        </a:lnTo>
                        <a:lnTo>
                          <a:pt x="1364" y="144"/>
                        </a:lnTo>
                        <a:lnTo>
                          <a:pt x="1353" y="140"/>
                        </a:lnTo>
                        <a:lnTo>
                          <a:pt x="1349" y="123"/>
                        </a:lnTo>
                        <a:lnTo>
                          <a:pt x="1389" y="88"/>
                        </a:lnTo>
                        <a:lnTo>
                          <a:pt x="1405" y="94"/>
                        </a:lnTo>
                        <a:lnTo>
                          <a:pt x="1410" y="72"/>
                        </a:lnTo>
                        <a:lnTo>
                          <a:pt x="1400" y="66"/>
                        </a:lnTo>
                        <a:lnTo>
                          <a:pt x="1374" y="55"/>
                        </a:lnTo>
                        <a:lnTo>
                          <a:pt x="1359" y="49"/>
                        </a:lnTo>
                        <a:lnTo>
                          <a:pt x="1338" y="28"/>
                        </a:lnTo>
                        <a:lnTo>
                          <a:pt x="1317" y="22"/>
                        </a:lnTo>
                        <a:lnTo>
                          <a:pt x="1296" y="45"/>
                        </a:lnTo>
                        <a:lnTo>
                          <a:pt x="1286" y="61"/>
                        </a:lnTo>
                        <a:lnTo>
                          <a:pt x="1265" y="45"/>
                        </a:lnTo>
                        <a:lnTo>
                          <a:pt x="1276" y="33"/>
                        </a:lnTo>
                        <a:lnTo>
                          <a:pt x="1280" y="6"/>
                        </a:lnTo>
                        <a:lnTo>
                          <a:pt x="1276" y="0"/>
                        </a:lnTo>
                        <a:lnTo>
                          <a:pt x="1250" y="0"/>
                        </a:lnTo>
                        <a:lnTo>
                          <a:pt x="1244" y="10"/>
                        </a:lnTo>
                        <a:lnTo>
                          <a:pt x="1240" y="28"/>
                        </a:lnTo>
                        <a:lnTo>
                          <a:pt x="1244" y="45"/>
                        </a:lnTo>
                        <a:lnTo>
                          <a:pt x="1224" y="66"/>
                        </a:lnTo>
                        <a:lnTo>
                          <a:pt x="1208" y="33"/>
                        </a:lnTo>
                        <a:lnTo>
                          <a:pt x="1192" y="39"/>
                        </a:lnTo>
                        <a:lnTo>
                          <a:pt x="1188" y="66"/>
                        </a:lnTo>
                        <a:lnTo>
                          <a:pt x="1177" y="105"/>
                        </a:lnTo>
                        <a:lnTo>
                          <a:pt x="1152" y="134"/>
                        </a:lnTo>
                        <a:lnTo>
                          <a:pt x="1136" y="100"/>
                        </a:lnTo>
                        <a:lnTo>
                          <a:pt x="1162" y="78"/>
                        </a:lnTo>
                        <a:lnTo>
                          <a:pt x="1167" y="45"/>
                        </a:lnTo>
                        <a:lnTo>
                          <a:pt x="1152" y="45"/>
                        </a:lnTo>
                        <a:lnTo>
                          <a:pt x="1125" y="45"/>
                        </a:lnTo>
                        <a:lnTo>
                          <a:pt x="1104" y="78"/>
                        </a:lnTo>
                        <a:lnTo>
                          <a:pt x="1079" y="123"/>
                        </a:lnTo>
                        <a:lnTo>
                          <a:pt x="1089" y="144"/>
                        </a:lnTo>
                        <a:lnTo>
                          <a:pt x="1074" y="156"/>
                        </a:lnTo>
                        <a:lnTo>
                          <a:pt x="1053" y="140"/>
                        </a:lnTo>
                        <a:lnTo>
                          <a:pt x="1032" y="150"/>
                        </a:lnTo>
                        <a:lnTo>
                          <a:pt x="1037" y="173"/>
                        </a:lnTo>
                        <a:lnTo>
                          <a:pt x="1012" y="173"/>
                        </a:lnTo>
                        <a:lnTo>
                          <a:pt x="995" y="179"/>
                        </a:lnTo>
                        <a:lnTo>
                          <a:pt x="976" y="206"/>
                        </a:lnTo>
                        <a:lnTo>
                          <a:pt x="949" y="200"/>
                        </a:lnTo>
                        <a:lnTo>
                          <a:pt x="949" y="218"/>
                        </a:lnTo>
                        <a:lnTo>
                          <a:pt x="928" y="200"/>
                        </a:lnTo>
                        <a:lnTo>
                          <a:pt x="903" y="212"/>
                        </a:lnTo>
                        <a:lnTo>
                          <a:pt x="898" y="235"/>
                        </a:lnTo>
                        <a:lnTo>
                          <a:pt x="877" y="239"/>
                        </a:lnTo>
                        <a:lnTo>
                          <a:pt x="861" y="218"/>
                        </a:lnTo>
                        <a:lnTo>
                          <a:pt x="831" y="222"/>
                        </a:lnTo>
                        <a:lnTo>
                          <a:pt x="800" y="235"/>
                        </a:lnTo>
                        <a:lnTo>
                          <a:pt x="800" y="268"/>
                        </a:lnTo>
                        <a:lnTo>
                          <a:pt x="819" y="274"/>
                        </a:lnTo>
                        <a:lnTo>
                          <a:pt x="819" y="283"/>
                        </a:lnTo>
                        <a:lnTo>
                          <a:pt x="819" y="304"/>
                        </a:lnTo>
                        <a:lnTo>
                          <a:pt x="804" y="298"/>
                        </a:lnTo>
                        <a:lnTo>
                          <a:pt x="786" y="310"/>
                        </a:lnTo>
                        <a:lnTo>
                          <a:pt x="792" y="331"/>
                        </a:lnTo>
                        <a:lnTo>
                          <a:pt x="810" y="349"/>
                        </a:lnTo>
                        <a:lnTo>
                          <a:pt x="810" y="376"/>
                        </a:lnTo>
                        <a:lnTo>
                          <a:pt x="792" y="366"/>
                        </a:lnTo>
                        <a:lnTo>
                          <a:pt x="776" y="370"/>
                        </a:lnTo>
                        <a:lnTo>
                          <a:pt x="776" y="393"/>
                        </a:lnTo>
                        <a:lnTo>
                          <a:pt x="751" y="393"/>
                        </a:lnTo>
                        <a:lnTo>
                          <a:pt x="730" y="393"/>
                        </a:lnTo>
                        <a:lnTo>
                          <a:pt x="724" y="409"/>
                        </a:lnTo>
                        <a:lnTo>
                          <a:pt x="719" y="421"/>
                        </a:lnTo>
                        <a:lnTo>
                          <a:pt x="704" y="426"/>
                        </a:lnTo>
                        <a:lnTo>
                          <a:pt x="698" y="438"/>
                        </a:lnTo>
                        <a:lnTo>
                          <a:pt x="704" y="454"/>
                        </a:lnTo>
                        <a:lnTo>
                          <a:pt x="673" y="465"/>
                        </a:lnTo>
                        <a:lnTo>
                          <a:pt x="694" y="488"/>
                        </a:lnTo>
                        <a:lnTo>
                          <a:pt x="698" y="500"/>
                        </a:lnTo>
                        <a:lnTo>
                          <a:pt x="678" y="516"/>
                        </a:lnTo>
                        <a:lnTo>
                          <a:pt x="642" y="543"/>
                        </a:lnTo>
                        <a:lnTo>
                          <a:pt x="616" y="566"/>
                        </a:lnTo>
                        <a:lnTo>
                          <a:pt x="600" y="599"/>
                        </a:lnTo>
                        <a:lnTo>
                          <a:pt x="574" y="622"/>
                        </a:lnTo>
                        <a:lnTo>
                          <a:pt x="574" y="638"/>
                        </a:lnTo>
                        <a:lnTo>
                          <a:pt x="579" y="655"/>
                        </a:lnTo>
                        <a:lnTo>
                          <a:pt x="558" y="673"/>
                        </a:lnTo>
                        <a:lnTo>
                          <a:pt x="564" y="694"/>
                        </a:lnTo>
                        <a:lnTo>
                          <a:pt x="543" y="733"/>
                        </a:lnTo>
                        <a:lnTo>
                          <a:pt x="528" y="739"/>
                        </a:lnTo>
                        <a:lnTo>
                          <a:pt x="528" y="768"/>
                        </a:lnTo>
                        <a:lnTo>
                          <a:pt x="539" y="784"/>
                        </a:lnTo>
                        <a:lnTo>
                          <a:pt x="522" y="801"/>
                        </a:lnTo>
                        <a:lnTo>
                          <a:pt x="512" y="789"/>
                        </a:lnTo>
                        <a:lnTo>
                          <a:pt x="491" y="801"/>
                        </a:lnTo>
                        <a:lnTo>
                          <a:pt x="497" y="834"/>
                        </a:lnTo>
                        <a:lnTo>
                          <a:pt x="476" y="845"/>
                        </a:lnTo>
                        <a:lnTo>
                          <a:pt x="445" y="851"/>
                        </a:lnTo>
                        <a:lnTo>
                          <a:pt x="424" y="879"/>
                        </a:lnTo>
                        <a:lnTo>
                          <a:pt x="419" y="906"/>
                        </a:lnTo>
                        <a:lnTo>
                          <a:pt x="398" y="929"/>
                        </a:lnTo>
                        <a:lnTo>
                          <a:pt x="398" y="945"/>
                        </a:lnTo>
                        <a:lnTo>
                          <a:pt x="424" y="923"/>
                        </a:lnTo>
                        <a:lnTo>
                          <a:pt x="455" y="900"/>
                        </a:lnTo>
                        <a:lnTo>
                          <a:pt x="466" y="906"/>
                        </a:lnTo>
                        <a:lnTo>
                          <a:pt x="455" y="939"/>
                        </a:lnTo>
                        <a:lnTo>
                          <a:pt x="430" y="957"/>
                        </a:lnTo>
                        <a:lnTo>
                          <a:pt x="403" y="951"/>
                        </a:lnTo>
                        <a:lnTo>
                          <a:pt x="409" y="974"/>
                        </a:lnTo>
                        <a:lnTo>
                          <a:pt x="373" y="991"/>
                        </a:lnTo>
                        <a:lnTo>
                          <a:pt x="367" y="957"/>
                        </a:lnTo>
                        <a:lnTo>
                          <a:pt x="352" y="945"/>
                        </a:lnTo>
                        <a:lnTo>
                          <a:pt x="331" y="979"/>
                        </a:lnTo>
                        <a:lnTo>
                          <a:pt x="310" y="979"/>
                        </a:lnTo>
                        <a:lnTo>
                          <a:pt x="287" y="985"/>
                        </a:lnTo>
                        <a:lnTo>
                          <a:pt x="285" y="1013"/>
                        </a:lnTo>
                        <a:lnTo>
                          <a:pt x="273" y="1018"/>
                        </a:lnTo>
                        <a:lnTo>
                          <a:pt x="273" y="1033"/>
                        </a:lnTo>
                        <a:lnTo>
                          <a:pt x="261" y="1027"/>
                        </a:lnTo>
                        <a:lnTo>
                          <a:pt x="243" y="1015"/>
                        </a:lnTo>
                        <a:lnTo>
                          <a:pt x="215" y="1018"/>
                        </a:lnTo>
                        <a:lnTo>
                          <a:pt x="215" y="1034"/>
                        </a:lnTo>
                        <a:lnTo>
                          <a:pt x="217" y="1049"/>
                        </a:lnTo>
                        <a:lnTo>
                          <a:pt x="206" y="1054"/>
                        </a:lnTo>
                        <a:lnTo>
                          <a:pt x="181" y="1040"/>
                        </a:lnTo>
                        <a:lnTo>
                          <a:pt x="157" y="1060"/>
                        </a:lnTo>
                        <a:lnTo>
                          <a:pt x="163" y="1076"/>
                        </a:lnTo>
                        <a:lnTo>
                          <a:pt x="160" y="1088"/>
                        </a:lnTo>
                        <a:lnTo>
                          <a:pt x="136" y="1076"/>
                        </a:lnTo>
                        <a:lnTo>
                          <a:pt x="130" y="1092"/>
                        </a:lnTo>
                        <a:lnTo>
                          <a:pt x="121" y="1102"/>
                        </a:lnTo>
                        <a:lnTo>
                          <a:pt x="93" y="1096"/>
                        </a:lnTo>
                        <a:lnTo>
                          <a:pt x="78" y="1099"/>
                        </a:lnTo>
                        <a:lnTo>
                          <a:pt x="75" y="1122"/>
                        </a:lnTo>
                        <a:lnTo>
                          <a:pt x="64" y="1128"/>
                        </a:lnTo>
                        <a:lnTo>
                          <a:pt x="49" y="1152"/>
                        </a:lnTo>
                        <a:lnTo>
                          <a:pt x="51" y="1183"/>
                        </a:lnTo>
                        <a:lnTo>
                          <a:pt x="46" y="1227"/>
                        </a:lnTo>
                        <a:lnTo>
                          <a:pt x="39" y="1272"/>
                        </a:lnTo>
                        <a:lnTo>
                          <a:pt x="33" y="1314"/>
                        </a:lnTo>
                        <a:lnTo>
                          <a:pt x="28" y="1335"/>
                        </a:lnTo>
                        <a:lnTo>
                          <a:pt x="42" y="1355"/>
                        </a:lnTo>
                        <a:lnTo>
                          <a:pt x="64" y="1339"/>
                        </a:lnTo>
                        <a:lnTo>
                          <a:pt x="79" y="1348"/>
                        </a:lnTo>
                        <a:lnTo>
                          <a:pt x="79" y="1364"/>
                        </a:lnTo>
                        <a:lnTo>
                          <a:pt x="57" y="1378"/>
                        </a:lnTo>
                        <a:lnTo>
                          <a:pt x="54" y="1406"/>
                        </a:lnTo>
                        <a:lnTo>
                          <a:pt x="49" y="1420"/>
                        </a:lnTo>
                        <a:lnTo>
                          <a:pt x="26" y="1417"/>
                        </a:lnTo>
                        <a:lnTo>
                          <a:pt x="18" y="1450"/>
                        </a:lnTo>
                        <a:lnTo>
                          <a:pt x="28" y="1459"/>
                        </a:lnTo>
                        <a:lnTo>
                          <a:pt x="49" y="1453"/>
                        </a:lnTo>
                        <a:lnTo>
                          <a:pt x="60" y="1468"/>
                        </a:lnTo>
                        <a:lnTo>
                          <a:pt x="61" y="1476"/>
                        </a:lnTo>
                        <a:lnTo>
                          <a:pt x="44" y="1488"/>
                        </a:lnTo>
                        <a:lnTo>
                          <a:pt x="46" y="1507"/>
                        </a:lnTo>
                        <a:lnTo>
                          <a:pt x="26" y="1512"/>
                        </a:lnTo>
                        <a:lnTo>
                          <a:pt x="12" y="1501"/>
                        </a:lnTo>
                        <a:lnTo>
                          <a:pt x="15" y="1528"/>
                        </a:lnTo>
                        <a:lnTo>
                          <a:pt x="12" y="1548"/>
                        </a:lnTo>
                        <a:lnTo>
                          <a:pt x="0" y="1548"/>
                        </a:lnTo>
                        <a:lnTo>
                          <a:pt x="30" y="1582"/>
                        </a:lnTo>
                        <a:lnTo>
                          <a:pt x="46" y="1602"/>
                        </a:lnTo>
                        <a:lnTo>
                          <a:pt x="54" y="1629"/>
                        </a:lnTo>
                        <a:lnTo>
                          <a:pt x="85" y="1649"/>
                        </a:lnTo>
                        <a:lnTo>
                          <a:pt x="118" y="1668"/>
                        </a:lnTo>
                        <a:lnTo>
                          <a:pt x="150" y="1668"/>
                        </a:lnTo>
                        <a:lnTo>
                          <a:pt x="197" y="1635"/>
                        </a:lnTo>
                        <a:lnTo>
                          <a:pt x="243" y="1599"/>
                        </a:lnTo>
                        <a:lnTo>
                          <a:pt x="285" y="1537"/>
                        </a:lnTo>
                        <a:lnTo>
                          <a:pt x="292" y="1531"/>
                        </a:lnTo>
                        <a:lnTo>
                          <a:pt x="303" y="1551"/>
                        </a:lnTo>
                        <a:lnTo>
                          <a:pt x="324" y="1537"/>
                        </a:lnTo>
                        <a:lnTo>
                          <a:pt x="331" y="1515"/>
                        </a:lnTo>
                        <a:lnTo>
                          <a:pt x="333" y="1488"/>
                        </a:lnTo>
                        <a:lnTo>
                          <a:pt x="354" y="1453"/>
                        </a:lnTo>
                        <a:lnTo>
                          <a:pt x="346" y="1492"/>
                        </a:lnTo>
                        <a:lnTo>
                          <a:pt x="357" y="1498"/>
                        </a:lnTo>
                        <a:lnTo>
                          <a:pt x="352" y="1515"/>
                        </a:lnTo>
                        <a:lnTo>
                          <a:pt x="357" y="1545"/>
                        </a:lnTo>
                        <a:lnTo>
                          <a:pt x="367" y="1570"/>
                        </a:lnTo>
                        <a:lnTo>
                          <a:pt x="380" y="1563"/>
                        </a:lnTo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801200" y="3477960"/>
                  <a:ext cx="627840" cy="583920"/>
                  <a:chOff x="7801200" y="3477960"/>
                  <a:chExt cx="627840" cy="5839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8097840" y="3656160"/>
                    <a:ext cx="291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9">
                        <a:moveTo>
                          <a:pt x="42" y="9"/>
                        </a:moveTo>
                        <a:lnTo>
                          <a:pt x="37" y="23"/>
                        </a:lnTo>
                        <a:lnTo>
                          <a:pt x="42" y="50"/>
                        </a:lnTo>
                        <a:lnTo>
                          <a:pt x="12" y="59"/>
                        </a:lnTo>
                        <a:lnTo>
                          <a:pt x="0" y="45"/>
                        </a:lnTo>
                        <a:lnTo>
                          <a:pt x="0" y="23"/>
                        </a:lnTo>
                        <a:lnTo>
                          <a:pt x="8" y="0"/>
                        </a:lnTo>
                        <a:lnTo>
                          <a:pt x="42" y="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051400" y="3680640"/>
                    <a:ext cx="266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2">
                        <a:moveTo>
                          <a:pt x="33" y="0"/>
                        </a:moveTo>
                        <a:lnTo>
                          <a:pt x="37" y="23"/>
                        </a:lnTo>
                        <a:lnTo>
                          <a:pt x="8" y="32"/>
                        </a:lnTo>
                        <a:lnTo>
                          <a:pt x="0" y="9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059680" y="3641760"/>
                    <a:ext cx="32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8">
                        <a:moveTo>
                          <a:pt x="0" y="24"/>
                        </a:moveTo>
                        <a:lnTo>
                          <a:pt x="34" y="38"/>
                        </a:lnTo>
                        <a:lnTo>
                          <a:pt x="46" y="9"/>
                        </a:lnTo>
                        <a:lnTo>
                          <a:pt x="25" y="0"/>
                        </a:lnTo>
                        <a:lnTo>
                          <a:pt x="13" y="9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097840" y="3619800"/>
                    <a:ext cx="237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24"/>
                        </a:moveTo>
                        <a:lnTo>
                          <a:pt x="25" y="0"/>
                        </a:lnTo>
                        <a:lnTo>
                          <a:pt x="33" y="9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13240" y="368928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21" y="0"/>
                        </a:moveTo>
                        <a:lnTo>
                          <a:pt x="25" y="23"/>
                        </a:lnTo>
                        <a:lnTo>
                          <a:pt x="0" y="2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198640" y="3574440"/>
                    <a:ext cx="32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0">
                        <a:moveTo>
                          <a:pt x="21" y="0"/>
                        </a:moveTo>
                        <a:lnTo>
                          <a:pt x="0" y="18"/>
                        </a:lnTo>
                        <a:lnTo>
                          <a:pt x="29" y="40"/>
                        </a:lnTo>
                        <a:lnTo>
                          <a:pt x="46" y="1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228520" y="3552480"/>
                    <a:ext cx="32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0" y="13"/>
                        </a:moveTo>
                        <a:lnTo>
                          <a:pt x="21" y="40"/>
                        </a:lnTo>
                        <a:lnTo>
                          <a:pt x="47" y="22"/>
                        </a:lnTo>
                        <a:lnTo>
                          <a:pt x="26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314200" y="3506040"/>
                    <a:ext cx="47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9">
                        <a:moveTo>
                          <a:pt x="29" y="13"/>
                        </a:moveTo>
                        <a:lnTo>
                          <a:pt x="42" y="22"/>
                        </a:lnTo>
                        <a:lnTo>
                          <a:pt x="67" y="0"/>
                        </a:lnTo>
                        <a:lnTo>
                          <a:pt x="54" y="45"/>
                        </a:lnTo>
                        <a:lnTo>
                          <a:pt x="29" y="49"/>
                        </a:lnTo>
                        <a:lnTo>
                          <a:pt x="0" y="18"/>
                        </a:lnTo>
                        <a:lnTo>
                          <a:pt x="29" y="1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405640" y="3477960"/>
                    <a:ext cx="234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17" y="0"/>
                        </a:moveTo>
                        <a:lnTo>
                          <a:pt x="29" y="9"/>
                        </a:lnTo>
                        <a:lnTo>
                          <a:pt x="33" y="27"/>
                        </a:lnTo>
                        <a:lnTo>
                          <a:pt x="0" y="27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801200" y="4042440"/>
                    <a:ext cx="35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1">
                        <a:moveTo>
                          <a:pt x="50" y="18"/>
                        </a:moveTo>
                        <a:lnTo>
                          <a:pt x="12" y="0"/>
                        </a:lnTo>
                        <a:lnTo>
                          <a:pt x="0" y="13"/>
                        </a:lnTo>
                        <a:lnTo>
                          <a:pt x="4" y="31"/>
                        </a:lnTo>
                        <a:lnTo>
                          <a:pt x="50" y="18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7" name=""/>
            <p:cNvSpPr/>
            <p:nvPr/>
          </p:nvSpPr>
          <p:spPr>
            <a:xfrm>
              <a:off x="8077320" y="5288040"/>
              <a:ext cx="344520" cy="164880"/>
            </a:xfrm>
            <a:custGeom>
              <a:avLst/>
              <a:gdLst/>
              <a:ahLst/>
              <a:rect l="l" t="t" r="r" b="b"/>
              <a:pathLst>
                <a:path w="492" h="235">
                  <a:moveTo>
                    <a:pt x="168" y="12"/>
                  </a:moveTo>
                  <a:lnTo>
                    <a:pt x="185" y="0"/>
                  </a:lnTo>
                  <a:lnTo>
                    <a:pt x="204" y="0"/>
                  </a:lnTo>
                  <a:lnTo>
                    <a:pt x="212" y="16"/>
                  </a:lnTo>
                  <a:lnTo>
                    <a:pt x="231" y="3"/>
                  </a:lnTo>
                  <a:lnTo>
                    <a:pt x="249" y="9"/>
                  </a:lnTo>
                  <a:lnTo>
                    <a:pt x="277" y="39"/>
                  </a:lnTo>
                  <a:lnTo>
                    <a:pt x="307" y="52"/>
                  </a:lnTo>
                  <a:lnTo>
                    <a:pt x="319" y="55"/>
                  </a:lnTo>
                  <a:lnTo>
                    <a:pt x="334" y="42"/>
                  </a:lnTo>
                  <a:lnTo>
                    <a:pt x="349" y="36"/>
                  </a:lnTo>
                  <a:lnTo>
                    <a:pt x="391" y="48"/>
                  </a:lnTo>
                  <a:lnTo>
                    <a:pt x="447" y="61"/>
                  </a:lnTo>
                  <a:lnTo>
                    <a:pt x="492" y="75"/>
                  </a:lnTo>
                  <a:lnTo>
                    <a:pt x="476" y="95"/>
                  </a:lnTo>
                  <a:lnTo>
                    <a:pt x="447" y="126"/>
                  </a:lnTo>
                  <a:lnTo>
                    <a:pt x="440" y="137"/>
                  </a:lnTo>
                  <a:lnTo>
                    <a:pt x="443" y="159"/>
                  </a:lnTo>
                  <a:lnTo>
                    <a:pt x="422" y="159"/>
                  </a:lnTo>
                  <a:lnTo>
                    <a:pt x="401" y="143"/>
                  </a:lnTo>
                  <a:lnTo>
                    <a:pt x="380" y="137"/>
                  </a:lnTo>
                  <a:lnTo>
                    <a:pt x="326" y="150"/>
                  </a:lnTo>
                  <a:lnTo>
                    <a:pt x="312" y="164"/>
                  </a:lnTo>
                  <a:lnTo>
                    <a:pt x="296" y="185"/>
                  </a:lnTo>
                  <a:lnTo>
                    <a:pt x="267" y="204"/>
                  </a:lnTo>
                  <a:lnTo>
                    <a:pt x="250" y="204"/>
                  </a:lnTo>
                  <a:lnTo>
                    <a:pt x="232" y="188"/>
                  </a:lnTo>
                  <a:lnTo>
                    <a:pt x="217" y="188"/>
                  </a:lnTo>
                  <a:lnTo>
                    <a:pt x="161" y="217"/>
                  </a:lnTo>
                  <a:lnTo>
                    <a:pt x="134" y="232"/>
                  </a:lnTo>
                  <a:lnTo>
                    <a:pt x="115" y="235"/>
                  </a:lnTo>
                  <a:lnTo>
                    <a:pt x="70" y="232"/>
                  </a:lnTo>
                  <a:lnTo>
                    <a:pt x="52" y="232"/>
                  </a:lnTo>
                  <a:lnTo>
                    <a:pt x="38" y="209"/>
                  </a:lnTo>
                  <a:lnTo>
                    <a:pt x="31" y="201"/>
                  </a:lnTo>
                  <a:lnTo>
                    <a:pt x="16" y="192"/>
                  </a:lnTo>
                  <a:lnTo>
                    <a:pt x="7" y="182"/>
                  </a:lnTo>
                  <a:lnTo>
                    <a:pt x="0" y="159"/>
                  </a:lnTo>
                  <a:lnTo>
                    <a:pt x="0" y="134"/>
                  </a:lnTo>
                  <a:lnTo>
                    <a:pt x="48" y="113"/>
                  </a:lnTo>
                  <a:lnTo>
                    <a:pt x="101" y="113"/>
                  </a:lnTo>
                  <a:lnTo>
                    <a:pt x="133" y="81"/>
                  </a:lnTo>
                  <a:lnTo>
                    <a:pt x="137" y="27"/>
                  </a:lnTo>
                  <a:lnTo>
                    <a:pt x="168" y="12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91640" y="5691240"/>
              <a:ext cx="233280" cy="231840"/>
            </a:xfrm>
            <a:custGeom>
              <a:avLst/>
              <a:gdLst/>
              <a:ahLst/>
              <a:rect l="l" t="t" r="r" b="b"/>
              <a:pathLst>
                <a:path w="331" h="332">
                  <a:moveTo>
                    <a:pt x="306" y="47"/>
                  </a:moveTo>
                  <a:lnTo>
                    <a:pt x="289" y="47"/>
                  </a:lnTo>
                  <a:lnTo>
                    <a:pt x="271" y="34"/>
                  </a:lnTo>
                  <a:lnTo>
                    <a:pt x="247" y="20"/>
                  </a:lnTo>
                  <a:lnTo>
                    <a:pt x="218" y="37"/>
                  </a:lnTo>
                  <a:lnTo>
                    <a:pt x="191" y="29"/>
                  </a:lnTo>
                  <a:lnTo>
                    <a:pt x="168" y="41"/>
                  </a:lnTo>
                  <a:lnTo>
                    <a:pt x="166" y="29"/>
                  </a:lnTo>
                  <a:lnTo>
                    <a:pt x="145" y="28"/>
                  </a:lnTo>
                  <a:lnTo>
                    <a:pt x="120" y="0"/>
                  </a:lnTo>
                  <a:lnTo>
                    <a:pt x="82" y="46"/>
                  </a:lnTo>
                  <a:lnTo>
                    <a:pt x="24" y="25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63" y="118"/>
                  </a:lnTo>
                  <a:lnTo>
                    <a:pt x="78" y="165"/>
                  </a:lnTo>
                  <a:lnTo>
                    <a:pt x="112" y="192"/>
                  </a:lnTo>
                  <a:lnTo>
                    <a:pt x="126" y="187"/>
                  </a:lnTo>
                  <a:lnTo>
                    <a:pt x="208" y="282"/>
                  </a:lnTo>
                  <a:lnTo>
                    <a:pt x="214" y="303"/>
                  </a:lnTo>
                  <a:lnTo>
                    <a:pt x="208" y="317"/>
                  </a:lnTo>
                  <a:lnTo>
                    <a:pt x="214" y="332"/>
                  </a:lnTo>
                  <a:lnTo>
                    <a:pt x="238" y="318"/>
                  </a:lnTo>
                  <a:lnTo>
                    <a:pt x="256" y="312"/>
                  </a:lnTo>
                  <a:lnTo>
                    <a:pt x="256" y="281"/>
                  </a:lnTo>
                  <a:lnTo>
                    <a:pt x="279" y="260"/>
                  </a:lnTo>
                  <a:lnTo>
                    <a:pt x="289" y="237"/>
                  </a:lnTo>
                  <a:lnTo>
                    <a:pt x="314" y="226"/>
                  </a:lnTo>
                  <a:lnTo>
                    <a:pt x="319" y="199"/>
                  </a:lnTo>
                  <a:lnTo>
                    <a:pt x="314" y="174"/>
                  </a:lnTo>
                  <a:lnTo>
                    <a:pt x="327" y="163"/>
                  </a:lnTo>
                  <a:lnTo>
                    <a:pt x="305" y="128"/>
                  </a:lnTo>
                  <a:lnTo>
                    <a:pt x="331" y="79"/>
                  </a:lnTo>
                  <a:lnTo>
                    <a:pt x="306" y="4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10600" y="5994360"/>
              <a:ext cx="158760" cy="114120"/>
            </a:xfrm>
            <a:custGeom>
              <a:avLst/>
              <a:gdLst/>
              <a:ahLst/>
              <a:rect l="l" t="t" r="r" b="b"/>
              <a:pathLst>
                <a:path w="226" h="166">
                  <a:moveTo>
                    <a:pt x="8" y="50"/>
                  </a:moveTo>
                  <a:lnTo>
                    <a:pt x="47" y="21"/>
                  </a:lnTo>
                  <a:lnTo>
                    <a:pt x="72" y="17"/>
                  </a:lnTo>
                  <a:lnTo>
                    <a:pt x="97" y="9"/>
                  </a:lnTo>
                  <a:lnTo>
                    <a:pt x="118" y="9"/>
                  </a:lnTo>
                  <a:lnTo>
                    <a:pt x="139" y="0"/>
                  </a:lnTo>
                  <a:lnTo>
                    <a:pt x="176" y="9"/>
                  </a:lnTo>
                  <a:lnTo>
                    <a:pt x="197" y="8"/>
                  </a:lnTo>
                  <a:lnTo>
                    <a:pt x="217" y="30"/>
                  </a:lnTo>
                  <a:lnTo>
                    <a:pt x="215" y="95"/>
                  </a:lnTo>
                  <a:lnTo>
                    <a:pt x="226" y="103"/>
                  </a:lnTo>
                  <a:lnTo>
                    <a:pt x="210" y="130"/>
                  </a:lnTo>
                  <a:lnTo>
                    <a:pt x="160" y="140"/>
                  </a:lnTo>
                  <a:lnTo>
                    <a:pt x="139" y="134"/>
                  </a:lnTo>
                  <a:lnTo>
                    <a:pt x="125" y="166"/>
                  </a:lnTo>
                  <a:lnTo>
                    <a:pt x="88" y="163"/>
                  </a:lnTo>
                  <a:lnTo>
                    <a:pt x="72" y="158"/>
                  </a:lnTo>
                  <a:lnTo>
                    <a:pt x="50" y="157"/>
                  </a:lnTo>
                  <a:lnTo>
                    <a:pt x="37" y="143"/>
                  </a:lnTo>
                  <a:lnTo>
                    <a:pt x="29" y="148"/>
                  </a:lnTo>
                  <a:lnTo>
                    <a:pt x="12" y="134"/>
                  </a:lnTo>
                  <a:lnTo>
                    <a:pt x="0" y="95"/>
                  </a:lnTo>
                  <a:lnTo>
                    <a:pt x="9" y="76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39240" y="5618160"/>
              <a:ext cx="320760" cy="409680"/>
            </a:xfrm>
            <a:custGeom>
              <a:avLst/>
              <a:gdLst/>
              <a:ahLst/>
              <a:rect l="l" t="t" r="r" b="b"/>
              <a:pathLst>
                <a:path w="457" h="582">
                  <a:moveTo>
                    <a:pt x="77" y="40"/>
                  </a:moveTo>
                  <a:lnTo>
                    <a:pt x="168" y="4"/>
                  </a:lnTo>
                  <a:lnTo>
                    <a:pt x="209" y="0"/>
                  </a:lnTo>
                  <a:lnTo>
                    <a:pt x="235" y="1"/>
                  </a:lnTo>
                  <a:lnTo>
                    <a:pt x="244" y="9"/>
                  </a:lnTo>
                  <a:lnTo>
                    <a:pt x="251" y="18"/>
                  </a:lnTo>
                  <a:lnTo>
                    <a:pt x="253" y="28"/>
                  </a:lnTo>
                  <a:lnTo>
                    <a:pt x="261" y="31"/>
                  </a:lnTo>
                  <a:lnTo>
                    <a:pt x="272" y="54"/>
                  </a:lnTo>
                  <a:lnTo>
                    <a:pt x="274" y="87"/>
                  </a:lnTo>
                  <a:lnTo>
                    <a:pt x="285" y="99"/>
                  </a:lnTo>
                  <a:lnTo>
                    <a:pt x="311" y="99"/>
                  </a:lnTo>
                  <a:lnTo>
                    <a:pt x="328" y="146"/>
                  </a:lnTo>
                  <a:lnTo>
                    <a:pt x="328" y="177"/>
                  </a:lnTo>
                  <a:lnTo>
                    <a:pt x="339" y="198"/>
                  </a:lnTo>
                  <a:lnTo>
                    <a:pt x="352" y="198"/>
                  </a:lnTo>
                  <a:lnTo>
                    <a:pt x="378" y="177"/>
                  </a:lnTo>
                  <a:lnTo>
                    <a:pt x="394" y="191"/>
                  </a:lnTo>
                  <a:lnTo>
                    <a:pt x="395" y="218"/>
                  </a:lnTo>
                  <a:lnTo>
                    <a:pt x="423" y="235"/>
                  </a:lnTo>
                  <a:lnTo>
                    <a:pt x="419" y="263"/>
                  </a:lnTo>
                  <a:lnTo>
                    <a:pt x="420" y="271"/>
                  </a:lnTo>
                  <a:lnTo>
                    <a:pt x="425" y="275"/>
                  </a:lnTo>
                  <a:lnTo>
                    <a:pt x="415" y="290"/>
                  </a:lnTo>
                  <a:lnTo>
                    <a:pt x="412" y="308"/>
                  </a:lnTo>
                  <a:lnTo>
                    <a:pt x="427" y="344"/>
                  </a:lnTo>
                  <a:lnTo>
                    <a:pt x="450" y="349"/>
                  </a:lnTo>
                  <a:lnTo>
                    <a:pt x="457" y="367"/>
                  </a:lnTo>
                  <a:lnTo>
                    <a:pt x="450" y="403"/>
                  </a:lnTo>
                  <a:lnTo>
                    <a:pt x="416" y="435"/>
                  </a:lnTo>
                  <a:lnTo>
                    <a:pt x="425" y="492"/>
                  </a:lnTo>
                  <a:lnTo>
                    <a:pt x="412" y="516"/>
                  </a:lnTo>
                  <a:lnTo>
                    <a:pt x="420" y="543"/>
                  </a:lnTo>
                  <a:lnTo>
                    <a:pt x="378" y="534"/>
                  </a:lnTo>
                  <a:lnTo>
                    <a:pt x="358" y="543"/>
                  </a:lnTo>
                  <a:lnTo>
                    <a:pt x="337" y="543"/>
                  </a:lnTo>
                  <a:lnTo>
                    <a:pt x="311" y="551"/>
                  </a:lnTo>
                  <a:lnTo>
                    <a:pt x="286" y="555"/>
                  </a:lnTo>
                  <a:lnTo>
                    <a:pt x="247" y="582"/>
                  </a:lnTo>
                  <a:lnTo>
                    <a:pt x="249" y="530"/>
                  </a:lnTo>
                  <a:lnTo>
                    <a:pt x="240" y="516"/>
                  </a:lnTo>
                  <a:lnTo>
                    <a:pt x="214" y="512"/>
                  </a:lnTo>
                  <a:lnTo>
                    <a:pt x="205" y="489"/>
                  </a:lnTo>
                  <a:lnTo>
                    <a:pt x="189" y="488"/>
                  </a:lnTo>
                  <a:lnTo>
                    <a:pt x="182" y="494"/>
                  </a:lnTo>
                  <a:lnTo>
                    <a:pt x="147" y="488"/>
                  </a:lnTo>
                  <a:lnTo>
                    <a:pt x="134" y="498"/>
                  </a:lnTo>
                  <a:lnTo>
                    <a:pt x="127" y="539"/>
                  </a:lnTo>
                  <a:lnTo>
                    <a:pt x="113" y="570"/>
                  </a:lnTo>
                  <a:lnTo>
                    <a:pt x="18" y="480"/>
                  </a:lnTo>
                  <a:lnTo>
                    <a:pt x="0" y="438"/>
                  </a:lnTo>
                  <a:lnTo>
                    <a:pt x="25" y="426"/>
                  </a:lnTo>
                  <a:lnTo>
                    <a:pt x="46" y="415"/>
                  </a:lnTo>
                  <a:lnTo>
                    <a:pt x="46" y="381"/>
                  </a:lnTo>
                  <a:lnTo>
                    <a:pt x="67" y="367"/>
                  </a:lnTo>
                  <a:lnTo>
                    <a:pt x="77" y="343"/>
                  </a:lnTo>
                  <a:lnTo>
                    <a:pt x="101" y="326"/>
                  </a:lnTo>
                  <a:lnTo>
                    <a:pt x="105" y="304"/>
                  </a:lnTo>
                  <a:lnTo>
                    <a:pt x="102" y="280"/>
                  </a:lnTo>
                  <a:lnTo>
                    <a:pt x="117" y="266"/>
                  </a:lnTo>
                  <a:lnTo>
                    <a:pt x="96" y="231"/>
                  </a:lnTo>
                  <a:lnTo>
                    <a:pt x="119" y="185"/>
                  </a:lnTo>
                  <a:lnTo>
                    <a:pt x="94" y="153"/>
                  </a:lnTo>
                  <a:lnTo>
                    <a:pt x="101" y="119"/>
                  </a:lnTo>
                  <a:lnTo>
                    <a:pt x="77" y="87"/>
                  </a:lnTo>
                  <a:lnTo>
                    <a:pt x="77" y="4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1615-98B7-4F8D-AADA-8783C78C8E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4C1B8A-3428-4D35-BA83-6AB0D4816E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need for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ight of freedom of movement within EU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ight to receive the necessary health ca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bstacle for Invest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isk to loose previous incompatible solu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H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itical M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nsuring the quality of c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stribution of the points of c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5202-8408-41EA-8B33-04B26C336C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40DE0D-0A8A-43A2-A19A-3CB91A4ACA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echelons of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roperability i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chnical stand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dical proced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ganisational protocol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imbursement, certif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litical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081400" y="4284000"/>
            <a:ext cx="3605040" cy="2049120"/>
            <a:chOff x="5081400" y="4284000"/>
            <a:chExt cx="3605040" cy="2049120"/>
          </a:xfrm>
        </p:grpSpPr>
        <p:sp>
          <p:nvSpPr>
            <p:cNvPr id="186" name=""/>
            <p:cNvSpPr/>
            <p:nvPr/>
          </p:nvSpPr>
          <p:spPr>
            <a:xfrm rot="5404800">
              <a:off x="7108560" y="4755600"/>
              <a:ext cx="1871640" cy="1281240"/>
            </a:xfrm>
            <a:prstGeom prst="irregularSeal2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4800">
              <a:off x="4600080" y="4767120"/>
              <a:ext cx="2046240" cy="1081080"/>
            </a:xfrm>
            <a:prstGeom prst="hexagon">
              <a:avLst>
                <a:gd name="adj" fmla="val 47319"/>
                <a:gd name="vf" fmla="val 11547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57320" y="2747880"/>
            <a:ext cx="2979720" cy="3603240"/>
            <a:chOff x="157320" y="2747880"/>
            <a:chExt cx="2979720" cy="3603240"/>
          </a:xfrm>
        </p:grpSpPr>
        <p:sp>
          <p:nvSpPr>
            <p:cNvPr id="189" name=""/>
            <p:cNvSpPr/>
            <p:nvPr/>
          </p:nvSpPr>
          <p:spPr>
            <a:xfrm>
              <a:off x="157320" y="2747880"/>
              <a:ext cx="479160" cy="2874960"/>
            </a:xfrm>
            <a:prstGeom prst="downArrow">
              <a:avLst>
                <a:gd name="adj1" fmla="val 50000"/>
                <a:gd name="adj2" fmla="val 1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2200" y="5708520"/>
              <a:ext cx="28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Verdana"/>
                </a:rPr>
                <a:t>Time?????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15800" y="2221560"/>
            <a:ext cx="2363760" cy="1207440"/>
            <a:chOff x="5815800" y="2221560"/>
            <a:chExt cx="2363760" cy="1207440"/>
          </a:xfrm>
        </p:grpSpPr>
        <p:sp>
          <p:nvSpPr>
            <p:cNvPr id="192" name=""/>
            <p:cNvSpPr/>
            <p:nvPr/>
          </p:nvSpPr>
          <p:spPr>
            <a:xfrm flipH="1" rot="5405400">
              <a:off x="7248240" y="2401560"/>
              <a:ext cx="1104840" cy="755640"/>
            </a:xfrm>
            <a:prstGeom prst="irregularSeal2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5405400">
              <a:off x="5532480" y="2505960"/>
              <a:ext cx="1206360" cy="638280"/>
            </a:xfrm>
            <a:prstGeom prst="hexagon">
              <a:avLst>
                <a:gd name="adj" fmla="val 47250"/>
                <a:gd name="vf" fmla="val 11547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63560" y="2704680"/>
            <a:ext cx="1323360" cy="2950920"/>
            <a:chOff x="6163560" y="2704680"/>
            <a:chExt cx="1323360" cy="2950920"/>
          </a:xfrm>
        </p:grpSpPr>
        <p:sp>
          <p:nvSpPr>
            <p:cNvPr id="195" name=""/>
            <p:cNvSpPr/>
            <p:nvPr/>
          </p:nvSpPr>
          <p:spPr>
            <a:xfrm rot="5404800">
              <a:off x="6432840" y="4601160"/>
              <a:ext cx="784080" cy="13222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330480 h 1322280"/>
                <a:gd name="textAreaBottom" fmla="*/ 99180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5405400">
              <a:off x="6727320" y="2546280"/>
              <a:ext cx="463680" cy="781200"/>
            </a:xfrm>
            <a:custGeom>
              <a:avLst/>
              <a:gdLst>
                <a:gd name="textAreaLeft" fmla="*/ 360 w 463680"/>
                <a:gd name="textAreaRight" fmla="*/ 464400 w 463680"/>
                <a:gd name="textAreaTop" fmla="*/ 195120 h 781200"/>
                <a:gd name="textAreaBottom" fmla="*/ 586080 h 78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4320" y="3429000"/>
              <a:ext cx="479520" cy="1335240"/>
            </a:xfrm>
            <a:prstGeom prst="downArrow">
              <a:avLst>
                <a:gd name="adj1" fmla="val 50000"/>
                <a:gd name="adj2" fmla="val 69613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8AE1-2E9E-4416-9EBC-D0DCEA9BDC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359F7A-6A5C-4019-86BB-28BAECD9B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M-Allia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152880"/>
            <a:ext cx="8229600" cy="3429000"/>
          </a:xfrm>
          <a:prstGeom prst="roundRect">
            <a:avLst>
              <a:gd name="adj" fmla="val 16667"/>
            </a:avLst>
          </a:prstGeom>
          <a:solidFill>
            <a:srgbClr val="878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4194360"/>
            <a:ext cx="2934000" cy="1320120"/>
          </a:xfrm>
          <a:prstGeom prst="roundRect">
            <a:avLst>
              <a:gd name="adj" fmla="val 16667"/>
            </a:avLst>
          </a:prstGeom>
          <a:solidFill>
            <a:srgbClr val="c2c2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ositio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mbin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4521600">
            <a:off x="1428840" y="2504880"/>
            <a:ext cx="990360" cy="49536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7760" y="1224000"/>
            <a:ext cx="2359080" cy="734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 Telecom pi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E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2240" y="5920560"/>
            <a:ext cx="2781360" cy="5094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-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48480" y="3399840"/>
            <a:ext cx="158112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323520"/>
            <a:ext cx="158112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5576760"/>
            <a:ext cx="2359080" cy="908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343400" y="301932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/>
          </p:cNvPr>
          <p:cNvSpPr/>
          <p:nvPr/>
        </p:nvSpPr>
        <p:spPr>
          <a:xfrm>
            <a:off x="3321000" y="1983600"/>
            <a:ext cx="2359080" cy="133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 Tele-monitoring and Tele-operation in Manned F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1880" y="3577680"/>
            <a:ext cx="120024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960" y="1500120"/>
            <a:ext cx="2359080" cy="734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of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51400" y="2000160"/>
            <a:ext cx="2435400" cy="734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7720" y="4011120"/>
            <a:ext cx="1895400" cy="1015560"/>
          </a:xfrm>
          <a:prstGeom prst="roundRect">
            <a:avLst>
              <a:gd name="adj" fmla="val 16667"/>
            </a:avLst>
          </a:prstGeom>
          <a:solidFill>
            <a:srgbClr val="c2c2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86480" y="4011120"/>
            <a:ext cx="1895400" cy="1015560"/>
          </a:xfrm>
          <a:prstGeom prst="roundRect">
            <a:avLst>
              <a:gd name="adj" fmla="val 16667"/>
            </a:avLst>
          </a:prstGeom>
          <a:solidFill>
            <a:srgbClr val="c2c2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6343800">
            <a:off x="6838200" y="2784600"/>
            <a:ext cx="568440" cy="495000"/>
          </a:xfrm>
          <a:prstGeom prst="rightArrow">
            <a:avLst>
              <a:gd name="adj1" fmla="val 50000"/>
              <a:gd name="adj2" fmla="val 2870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896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18360" y="1137960"/>
            <a:ext cx="2435040" cy="734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8D13-6172-4AEE-9D83-05E43FE87B8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D8E8094-2A63-41C5-A3FB-4016848369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M-Alliance and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Gathering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ultidisciplinary and international experts for th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efinition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of Interfa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Promoting and facilitating consensu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issemina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the agreements among the national policy makers, mass media and general public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A5F3-A9F2-4C52-B65A-57B0F75231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5833B1-3BEB-4B5B-B4F5-2718426A8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M-Alliance and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1200" y="198288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There is a risk that existing important results of the European standardization efforts in this area are not taken up simply because they are not always known, neither to buyers nor to supplier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rebuchet MS"/>
              </a:rPr>
              <a:t>The use of experts to produce standards does not ensure </a:t>
            </a: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r>
              <a:rPr b="0" i="1" lang="en-US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rebuchet MS"/>
              </a:rPr>
              <a:t>to the wider community; only adequately resourced, technically expert, publicists can ensure this.”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ket, environment and objectives of CEN/TC 251 (200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35C1-E940-463E-A2BE-F872B4EFFB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1BD45D-19E3-4B2A-AD75-401EF55D32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2080" y="580680"/>
            <a:ext cx="86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TM-Alliance Workshop: Electronic Cards in Citizen Health Ca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2" name="TM%20Alliance%20Workshop" descr=""/>
          <p:cNvPicPr/>
          <p:nvPr/>
        </p:nvPicPr>
        <p:blipFill>
          <a:blip r:embed="rId1"/>
          <a:stretch/>
        </p:blipFill>
        <p:spPr>
          <a:xfrm>
            <a:off x="144360" y="49320"/>
            <a:ext cx="8775720" cy="62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A340-A592-43C1-9D95-38984F2927A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141A53-946F-4A06-AFA7-0CA98E5683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0551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Thank you for your attention</a:t>
            </a:r>
            <a:br>
              <a:rPr sz="5400"/>
            </a:br>
            <a:br>
              <a:rPr sz="2800"/>
            </a:br>
            <a:r>
              <a:rPr b="1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www.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sa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.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int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/telemedicine-alliance</a:t>
            </a:r>
            <a:br>
              <a:rPr sz="3200"/>
            </a:br>
            <a:r>
              <a:rPr b="1" lang="en-US" sz="3200" spc="-1" strike="noStrike">
                <a:solidFill>
                  <a:srgbClr val="c5f1ff"/>
                </a:solidFill>
                <a:latin typeface="Trebuchet MS"/>
              </a:rPr>
              <a:t>Cristina.Bescos@esa.int</a:t>
            </a:r>
            <a:endParaRPr b="1" lang="en-US" sz="32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00280" y="4732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ristina Besco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opean Space Agency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TSB</dc:creator>
  <dc:description/>
  <dc:language>en-US</dc:language>
  <cp:lastModifiedBy>Cristina Bescos</cp:lastModifiedBy>
  <cp:lastPrinted>2001-03-15T13:10:50Z</cp:lastPrinted>
  <dcterms:modified xsi:type="dcterms:W3CDTF">2003-05-21T11:32:32Z</dcterms:modified>
  <cp:revision>143</cp:revision>
  <dc:subject/>
  <dc:title>afaefafe</dc:title>
</cp:coreProperties>
</file>