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82C2-8F16-47F7-A8DB-2A724CD3A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B5E8-C7D5-4ED3-87B1-08C226E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0052-D752-4C5C-B862-7987FBE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91EB-299F-4D82-B48A-F2C0F5753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BD67-ABAA-4137-8E1B-42E12C0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E109-FEA5-482F-8AD1-F8F38AC8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69F5-D167-4353-AEA4-C622B87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BBD1-109A-4CFA-AE49-101C455C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4427-5AC8-4F0C-82D7-36CD9E23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A735-8D7A-4DDA-AF50-2496596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2264-F358-4ADC-98CD-DCC76DA1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4EAF-D570-41B0-8E29-AD66DFF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3CF-840F-4EDF-85ED-4CF869A93918}" type="datetime">
              <a:rPr b="0" lang="ja-JP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Session 7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Conclusions &amp;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sao Nakajim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Vice-Rapporteur ITU-D SG-2 Q14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Tokai University Institute of Medical Scienc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0335-9E35-401D-BAF8-E2018E430A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83B0-E449-4987-8B7A-F750948F7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Presentations in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MPEG-4 video transmission on image and video coding/ Mr. M. Hashimoto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Standard encoding protocols on image and video coding/ Mr. D. Lindbergh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Success of DICOM standard/Mr. C. Loef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Clinical Study on MPEG-2 Compression Based on the Rec. ITU-R BT. 500-9/ I. Nakajim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3036-830D-47CA-844F-38B8438351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50CB9-9665-4A95-84F4-359DD9106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1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MPEG-4 video transmission on image and video coding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057400"/>
            <a:ext cx="74678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MPEG-4 video transmission was developed and applied to support real time tele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Using multi-screen and vital data display, medical doctor can obtain realistic sensations at a triage c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n algorithm using the spatial similarity in pictures was developed to recover raster errors and conceal packe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1453-64D3-4D9A-BB6C-C721897066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37BD-FBE0-47B8-9895-9E6FE27217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2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Standard encoding protocols on image and video coding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SG-16, Q.6/16 activities are present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Overview of image coding standards, JPEG, JBIG, and JPEG-2000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Overview of several video coding standards, especially H.261, H.263, and H.264/AVC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s regards H.264 (a joint effort of ITU-T SG 16 and MPEG), gains of more than 50% can be achieved over MPEG-2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1D36-E321-4EE0-85DE-BC580DC2A4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0B06E-0989-418C-85D1-46CBBBC6F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8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3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Success of DICOM standard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DICOM is well positioned to continue to serve integration needs of medical imaging, including workflow, evidence information recording, effective access to imaging results in the enterprise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ctive cooperation with other standards assures DICOM objects integration into future EHR – whether by reference, or through well-defined trans-coding mechanism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2B51-6383-4B24-83B4-59199822FC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0EAA-0E70-4721-BE70-29D473AB7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4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Clinical Study on MPEG-2 Compression Based on the Rec. ITU-R BT. 500-9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MS PGothic"/>
              </a:rPr>
              <a:t>Based on the Rec. ITU-R BT. 500-9, clinical study on MPEG-2 compression was perform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MS PGothic"/>
              </a:rPr>
              <a:t>It is reported that at least 3 Mbps bandwidth required to transmit MPEG-2 with SD forma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 is possible to calculate circuit(transponder) capacity based on suitable bandwidth and traffic number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 is reported that video in ambulance might be effective to save human life and reduce medical cost, if reliability channels are secured.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DB9B-A424-49AF-8009-F9C66E7E3D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AC487-5D3B-438A-A5B2-7695AC988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Overview of issues in the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DICOM is well positioned to continue to serve integration needs of medical imaging, including workflow, evidence information recording, effective access to imaging results in the enterprise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dvance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video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coding (H.264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/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V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C) might be expected to support telemedicine, not only for video conferencing but also for remote medical diagnosis.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ncreased compression gains will enable signals with good video quality over lower bandwidth channel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B5E8-1388-4EA4-B14E-926558D57E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C625-4052-4DD1-B211-D0FB1FE309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Recommendations and 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and DICOM should investigate the potential areas where collaboration between the two organizations would be mutually benefi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should investigate the application of H.264 for performance of remote medical observation with real cases</a:t>
            </a:r>
            <a:r>
              <a:rPr b="0" lang="ja-JP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(with support from ITU-R) should develop a suitable video coding for fading channel to support mobile telemedicine, especially ambulator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23BC-095A-4BFB-84CE-FDCCD7684C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352A7-6DF1-408F-8F5C-953A4F058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18:03Z</dcterms:modified>
  <cp:revision>85</cp:revision>
  <dc:subject/>
  <dc:title>PowerPoint Presentation</dc:title>
</cp:coreProperties>
</file>