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2913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380B-5BF6-4A9E-93CB-D87B1CB11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F5E0-0A86-45A0-A585-BD210087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D6B5-BE29-4B91-93EC-2F52559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4845-9E74-4136-85ED-993BAF0C2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7DED-8AA7-4DDA-B0B5-F78C23C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9F04-16B7-4F26-B080-0951359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0D23-1B31-4BF6-A8C5-98EB6A1B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B0B7-732A-403B-A647-7A8DCDF6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5511-E036-449E-AC91-155DE7D7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8DFA-C913-4259-AC84-B26D897A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A115-34CF-4180-9335-C5B10EE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09CB-7EB0-4A11-B14B-4C02FC0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C5A-D131-4182-AFA9-E605C42FA01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ssion 6 – Telecommunications in support of E-Health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nclusions &amp; Recommendations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P.A.Probst/Swisscom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2B9B-B3A4-4EAA-81EC-3A20582F8CD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13FC0-4E9E-4613-995D-D9E3C41981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Presentations in Session 6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elecommunications in support of E-healt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H.323 MM-Systems for Telemedicine</a:t>
            </a:r>
            <a:br>
              <a:rPr sz="2400"/>
            </a:b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.E.Jones, Rapporteur for Q2/16 ITU-T SG16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ber Optics and xDSL last mile technologies applicable to E-Health</a:t>
            </a:r>
            <a:br>
              <a:rPr sz="2400"/>
            </a:b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.Rosa, Counselor ITU-T SG15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nnecting the Health Community: the next Dimension for Patient Centered Care</a:t>
            </a:r>
            <a:br>
              <a:rPr sz="2400"/>
            </a:b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J.Zimmermann, Siemens Medical Solutions/US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4E4C-8D82-4C9B-882A-1074B6C8CA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4E0D7-257E-4FBC-A610-3FE33D08F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112500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ghlights from Presentation 1: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.323 MM-Systems for Telemedecine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.E.Jones, Rapporteur for Q2/16 ITU-T SG16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H.323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as built from the ground-up as a multimedia conferencing protoco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H.323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ained huge acceptance for VoIP and 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nternational recognised standard for multimedia communication over packet based networks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H.323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arries 9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0%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of Vo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P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 traffic today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H.323 is a system standards integrating audio, video and data functional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Specific E-Health requirements will need to be analyse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C881-0908-4D74-90FE-DA3D46B0A6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A0D91-EDD3-493E-AFE5-0968A5E3AE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62028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Highlights from Presentation 2: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iber Optics and xDSL last mile technologies applicable to E-Health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P.Rosa, Counselor ITU-T SG15</a:t>
            </a:r>
            <a:br>
              <a:rPr sz="2000"/>
            </a:b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iber optic and xDSL access systems standards are in the mandate of ITU-T/SG15 as lead SG for Access Network Transport (ANT) and Optical Technology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xDSL Standards allow today the transport of up to 26 Mbit/s from the local exchange to the user on the existing copper wire. The family of standards includes ADSL, VDSL, SHDSL, HDSL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iber optic access systems standardized in SG15 are based on the Passive Optical Network concept (PON) using passive optical components and mono/bi-directional WDM technique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Optical Systems for PON access networks are specified in the G.983.x/ G.984.x series of Recs (symmetric or asymmetric, 155, 622 and 2488 Mbit/s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FD43-13A2-4CB0-8BC0-9534BE6777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58A3B-B5C2-4C0D-8DE0-B647775B0A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Highlights from presentation 3: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onnecting the Health Community: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he next Dimension for Patient Centered Care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J.Zimmermann, Siemens Medical Solutions/USA</a:t>
            </a:r>
            <a:br>
              <a:rPr sz="2000"/>
            </a:b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Role of industry to support and add value to the E-Health customers and their communitie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Presentation of the IHE Vision for Growth as a model with four dimensions: workflows inside department, common consistent data, vertically integration of department, community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Definition of a rational business framework and analysis of the workflows based on the patient, physician and payers expectation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Focus on areas like privacy/confidentiality, architecture, standards/vocabulary, safety/quality, …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Providing measurable benefits to patients and physicians creates the best chance for lasting succes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Choose the sequence of innovation introduction carefully, select for adoption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AD81-CD8D-4EE2-B3B4-5B52EBF921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9B664-F38E-4097-81AE-BF4302819F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Improve the coordination and cooperation among ITU, IEC, ISO, other SDOs and other involved parties (e.g.DICOM) in order to ensure the interoperability of MM-Systems and benefits from the economic advantages of global recognised standard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Adopt a business process oriented approach and set up prioritie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In the design for E-Health application, specific characteristics and suitability of the different technologies like copper, optics, satellite, mobile, WLAN, Bluetooth, etc.. have to be considered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Special attention should be given to the specific need of developing countrie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Promote the implementation of wireless and/or fix network infrastructure in developing countries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0EB0-E986-45B1-9758-D5AAF0CDED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050AB-AE47-4341-B8E9-F78BCA167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52320" y="990720"/>
          <a:ext cx="7837560" cy="4179600"/>
        </p:xfrm>
        <a:graphic>
          <a:graphicData uri="http://schemas.openxmlformats.org/drawingml/2006/table">
            <a:tbl>
              <a:tblPr/>
              <a:tblGrid>
                <a:gridCol w="3878280"/>
                <a:gridCol w="1184400"/>
                <a:gridCol w="1649520"/>
                <a:gridCol w="1125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ther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Capabilities of MM-Systems to support E-health applications (Service definitions and description, architecture, coding, LDAP, security, 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SG16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(ITU-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TU-T, ITU-D, ITU-R, ISO, IEC, CEN,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mote E-Health applications and the deployment of suitable access technologies in developing countries (e.g. international pilot projects,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SG 2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(ITU-D)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TU-T, ITU-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UN-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dustr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elcos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Analysis of the need for standards based on the main  business processe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CG,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M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All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D7EB-508C-4AB5-9909-BBD26258F93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AEB5A-77CC-4D08-9B82-DA89DB37F5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TSB</dc:creator>
  <dc:description/>
  <dc:language>en-US</dc:language>
  <cp:lastModifiedBy>TSB-Simao</cp:lastModifiedBy>
  <dcterms:modified xsi:type="dcterms:W3CDTF">2003-05-26T19:07:53Z</dcterms:modified>
  <cp:revision>63</cp:revision>
  <dc:subject/>
  <dc:title>PowerPoint Presentation</dc:title>
</cp:coreProperties>
</file>