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1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11.jpeg" ContentType="image/jpeg"/>
  <Override PartName="/ppt/media/image13.png" ContentType="image/png"/>
  <Override PartName="/ppt/media/image5.gif" ContentType="image/gif"/>
  <Override PartName="/ppt/media/image8.wmf" ContentType="image/x-wmf"/>
  <Override PartName="/ppt/media/image9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F3325-90DB-48E8-BEBB-15043649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32080" y="413244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28B8-F53B-4BBF-99D0-D7584994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7652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7F497-06A4-4769-ACBA-9CA4EC66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6900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0556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3208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6900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0556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75DA3-76A3-4C16-A550-8082A82B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A26DA-5D50-4F68-BDEB-F5AEF86AC1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EC38E-213B-4281-BD8C-EEFDF1C16B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CF23D-6DF6-48BA-9DD2-EED2D22272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6C513-262F-46B2-BDEB-A93AC612F4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50408-C21B-4BE6-AFF5-85D13384B6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06160" y="380520"/>
            <a:ext cx="755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D544B-6C5C-4351-BFD5-346FC822AF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F524F-B0C2-4C1E-BFF9-EC8FA8ACFF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8F22E-A8A0-4A9C-A09E-DFA07DA3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652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6B029-4686-4C1E-A2C8-0399DC8019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135AF-CBC8-48C7-8CF5-22A7CCA947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2080" y="413244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049FF-2CB7-47C1-B4C4-02FAE628F8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652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4A709-6BFD-40A5-B093-051556746B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6900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556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208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6900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556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EBCFE-4B93-4914-8341-3D47F3A847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F23F0-4D42-4DFA-B724-EE031367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93ED-49F9-475F-9D24-7A659D95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C0F79-FECB-433E-9AD2-425BCC3A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06160" y="380520"/>
            <a:ext cx="755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5E747-0A89-4232-8112-2F29EAC5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73C83-875A-454A-B284-0BD06D2F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7652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300AB-AE5E-4BC1-AE9D-5AB84279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83508-0145-4DF3-B5E6-EA9594B8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4D1C-3FB9-49A3-B670-1AE1159643F0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1222200" cy="6882840"/>
            <a:chOff x="0" y="0"/>
            <a:chExt cx="1222200" cy="6882840"/>
          </a:xfrm>
        </p:grpSpPr>
        <p:sp>
          <p:nvSpPr>
            <p:cNvPr id="4" name=""/>
            <p:cNvSpPr/>
            <p:nvPr/>
          </p:nvSpPr>
          <p:spPr>
            <a:xfrm>
              <a:off x="0" y="1257480"/>
              <a:ext cx="1222200" cy="56253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" name="itulogo-en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22200" cy="13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Trebuchet MS"/>
              </a:rPr>
              <a:t>23-25 May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1829880" y="6565680"/>
            <a:ext cx="67057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Workshop on Standardization in E-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itulogo-en" descr=""/>
          <p:cNvPicPr/>
          <p:nvPr/>
        </p:nvPicPr>
        <p:blipFill>
          <a:blip r:embed="rId3"/>
          <a:srcRect l="12710" t="0" r="17799" b="0"/>
          <a:stretch/>
        </p:blipFill>
        <p:spPr>
          <a:xfrm>
            <a:off x="0" y="0"/>
            <a:ext cx="1219320" cy="1293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-141120" y="1074600"/>
            <a:ext cx="15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TU-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17680"/>
            <a:ext cx="9144000" cy="63374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edit the title text format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- </a:t>
            </a:r>
            <a:fld id="{4C21B30A-000A-47E4-93B3-64E7EE37E450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66880" cy="1306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47800" y="0"/>
            <a:ext cx="7396200" cy="106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International Telecommunication Un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98760" y="624852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Workshop on Standardization in E-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Geneva, 23-25 May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1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6.png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9.wmf"/><Relationship Id="rId13" Type="http://schemas.openxmlformats.org/officeDocument/2006/relationships/image" Target="../media/image6.png"/><Relationship Id="rId14" Type="http://schemas.openxmlformats.org/officeDocument/2006/relationships/image" Target="../media/image9.wmf"/><Relationship Id="rId15" Type="http://schemas.openxmlformats.org/officeDocument/2006/relationships/image" Target="../media/image9.wmf"/><Relationship Id="rId16" Type="http://schemas.openxmlformats.org/officeDocument/2006/relationships/image" Target="../media/image9.wmf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packetizer.com/" TargetMode="External"/><Relationship Id="rId2" Type="http://schemas.openxmlformats.org/officeDocument/2006/relationships/hyperlink" Target="http://www.packetizer.com/" TargetMode="External"/><Relationship Id="rId3" Type="http://schemas.openxmlformats.org/officeDocument/2006/relationships/hyperlink" Target="http://www.packetizer.com/" TargetMode="External"/><Relationship Id="rId4" Type="http://schemas.openxmlformats.org/officeDocument/2006/relationships/hyperlink" Target="http://www.h323forum.org/" TargetMode="External"/><Relationship Id="rId5" Type="http://schemas.openxmlformats.org/officeDocument/2006/relationships/hyperlink" Target="http://www.openh323.org/" TargetMode="External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tu.int/ITU-T/" TargetMode="External"/><Relationship Id="rId2" Type="http://schemas.openxmlformats.org/officeDocument/2006/relationships/hyperlink" Target="http://www.itu.int/ITU-T/" TargetMode="External"/><Relationship Id="rId3" Type="http://schemas.openxmlformats.org/officeDocument/2006/relationships/hyperlink" Target="http://www.itu.int/ITU-T/" TargetMode="External"/><Relationship Id="rId4" Type="http://schemas.openxmlformats.org/officeDocument/2006/relationships/hyperlink" Target="http://www.itu.int/ITU-T/" TargetMode="External"/><Relationship Id="rId5" Type="http://schemas.openxmlformats.org/officeDocument/2006/relationships/hyperlink" Target="http://www.itu.int/ITU-T/" TargetMode="External"/><Relationship Id="rId6" Type="http://schemas.openxmlformats.org/officeDocument/2006/relationships/hyperlink" Target="http://www.unsystem.org/" TargetMode="External"/><Relationship Id="rId7" Type="http://schemas.openxmlformats.org/officeDocument/2006/relationships/hyperlink" Target="http://www.unsystem.org/" TargetMode="External"/><Relationship Id="rId8" Type="http://schemas.openxmlformats.org/officeDocument/2006/relationships/hyperlink" Target="http://www.unsystem.org/" TargetMode="Externa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00280" y="2883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5f1ff"/>
                </a:solidFill>
                <a:latin typeface="Trebuchet MS"/>
              </a:rPr>
              <a:t>H.323 for Telemedicine</a:t>
            </a:r>
            <a:endParaRPr b="1" lang="en-US" sz="48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00280" y="481788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Paul E. Jones</a:t>
            </a:r>
            <a:endParaRPr b="0" lang="en-US" sz="36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apporteur, ITU-T Q2/16</a:t>
            </a:r>
            <a:endParaRPr b="0" lang="en-US" sz="28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isco Systems, Inc.</a:t>
            </a:r>
            <a:endParaRPr b="0" lang="en-US" sz="28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Version Interoperability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While H.323 has been revised a number of time, focus has always remained on backward compatibilit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ach new major version introduced a number of new features, but did not sacrifice interoperabilit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ven so, interoperability events have been necessary to ensure vendor interoperability, with output of those meetings going as input into the SG16 proces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At every meeting, an updated H.323 Implementers Guide is published to provide corrections and guidance to implementers of the protoco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B31C-34CB-4C98-B7FD-5CFCCD1F401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CA17715-C9A5-4935-A3F6-60B4B625A6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A Cry for Stability… Heard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nterprise and service providers have requested “stability”, citing a real need for a mature protocol that is not a “moving target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.323 version 4 introduced a new extension mechanism, referred to as the “Generic Extensibility Framework” (GEF) that facilitates the addition of new features without making changes to the core standard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ll new features that are not considered horizontally useful are being added as separate, optional extensions via the GEF mechanis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52F09-7401-44DB-B882-D96DDE240D9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9A606AA-F758-4F10-BBD6-5A0CEE444C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H.248: Scalability of the Gateway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353960" y="2371680"/>
            <a:ext cx="7710120" cy="2666160"/>
            <a:chOff x="1353960" y="2371680"/>
            <a:chExt cx="7710120" cy="2666160"/>
          </a:xfrm>
        </p:grpSpPr>
        <p:sp>
          <p:nvSpPr>
            <p:cNvPr id="128" name=""/>
            <p:cNvSpPr/>
            <p:nvPr/>
          </p:nvSpPr>
          <p:spPr>
            <a:xfrm>
              <a:off x="3814920" y="2371680"/>
              <a:ext cx="1546920" cy="100728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378000"/>
                  <a:tab algn="l" pos="66348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UniversS 47 CondensedLight"/>
                </a:rPr>
                <a:t>Med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397"/>
                </a:lnSpc>
                <a:tabLst>
                  <a:tab algn="l" pos="0"/>
                  <a:tab algn="l" pos="378000"/>
                  <a:tab algn="l" pos="66348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UniversS 47 CondensedLight"/>
                </a:rPr>
                <a:t>Gate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397"/>
                </a:lnSpc>
                <a:tabLst>
                  <a:tab algn="l" pos="0"/>
                  <a:tab algn="l" pos="378000"/>
                  <a:tab algn="l" pos="66348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UniversS 47 CondensedLight"/>
                </a:rPr>
                <a:t>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397"/>
                </a:lnSpc>
                <a:tabLst>
                  <a:tab algn="l" pos="0"/>
                  <a:tab algn="l" pos="378000"/>
                  <a:tab algn="l" pos="66348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UniversS 47 CondensedLight"/>
                </a:rPr>
                <a:t>(“Softswitch”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32400" y="2786040"/>
              <a:ext cx="274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4360" y="243072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.3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71200" y="351972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.24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23520" y="3319560"/>
              <a:ext cx="281160" cy="770400"/>
            </a:xfrm>
            <a:custGeom>
              <a:avLst/>
              <a:gdLst>
                <a:gd name="textAreaLeft" fmla="*/ 0 w 281160"/>
                <a:gd name="textAreaRight" fmla="*/ 101520 w 281160"/>
                <a:gd name="textAreaTop" fmla="*/ 19800 h 770400"/>
                <a:gd name="textAreaBottom" fmla="*/ 750600 h 77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88560" y="3378960"/>
              <a:ext cx="0" cy="41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16280" y="3794040"/>
              <a:ext cx="527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1640" y="3794040"/>
              <a:ext cx="0" cy="29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25880" y="3794040"/>
              <a:ext cx="0" cy="29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81040" y="3794040"/>
              <a:ext cx="0" cy="29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35840" y="3794040"/>
              <a:ext cx="0" cy="29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90640" y="3794040"/>
              <a:ext cx="0" cy="29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16280" y="3794040"/>
              <a:ext cx="0" cy="29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1353960" y="4149360"/>
              <a:ext cx="984240" cy="888480"/>
              <a:chOff x="1353960" y="4149360"/>
              <a:chExt cx="984240" cy="888480"/>
            </a:xfrm>
          </p:grpSpPr>
          <p:sp>
            <p:nvSpPr>
              <p:cNvPr id="142" name=""/>
              <p:cNvSpPr/>
              <p:nvPr/>
            </p:nvSpPr>
            <p:spPr>
              <a:xfrm>
                <a:off x="1353960" y="4800960"/>
                <a:ext cx="491760" cy="236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378000"/>
                    <a:tab algn="l" pos="663480"/>
                    <a:tab algn="l" pos="868320"/>
                    <a:tab algn="l" pos="1736640"/>
                    <a:tab algn="l" pos="2604960"/>
                    <a:tab algn="l" pos="3473280"/>
                    <a:tab algn="l" pos="4341960"/>
                    <a:tab algn="l" pos="5210280"/>
                    <a:tab algn="l" pos="6078600"/>
                    <a:tab algn="l" pos="6946920"/>
                    <a:tab algn="l" pos="7815240"/>
                    <a:tab algn="l" pos="8683560"/>
                    <a:tab algn="l" pos="9551880"/>
                    <a:tab algn="l" pos="104202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UniversS 47 CondensedLight"/>
                  </a:rPr>
                  <a:t>SC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845720" y="4800960"/>
                <a:ext cx="492120" cy="236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378000"/>
                    <a:tab algn="l" pos="663480"/>
                    <a:tab algn="l" pos="868320"/>
                    <a:tab algn="l" pos="1736640"/>
                    <a:tab algn="l" pos="2604960"/>
                    <a:tab algn="l" pos="3473280"/>
                    <a:tab algn="l" pos="4341960"/>
                    <a:tab algn="l" pos="5210280"/>
                    <a:tab algn="l" pos="6078600"/>
                    <a:tab algn="l" pos="6946920"/>
                    <a:tab algn="l" pos="7815240"/>
                    <a:tab algn="l" pos="8683560"/>
                    <a:tab algn="l" pos="9551880"/>
                    <a:tab algn="l" pos="104202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UniversS 47 CondensedLight"/>
                  </a:rPr>
                  <a:t>RT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353960" y="4149360"/>
                <a:ext cx="984240" cy="65160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378000"/>
                    <a:tab algn="l" pos="663480"/>
                    <a:tab algn="l" pos="868320"/>
                    <a:tab algn="l" pos="1736640"/>
                    <a:tab algn="l" pos="2604960"/>
                    <a:tab algn="l" pos="3473280"/>
                    <a:tab algn="l" pos="4341960"/>
                    <a:tab algn="l" pos="5210280"/>
                    <a:tab algn="l" pos="6078600"/>
                    <a:tab algn="l" pos="6946920"/>
                    <a:tab algn="l" pos="7815240"/>
                    <a:tab algn="l" pos="8683560"/>
                    <a:tab algn="l" pos="9551880"/>
                    <a:tab algn="l" pos="104202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UniversS 47 CondensedLight"/>
                  </a:rPr>
                  <a:t>Med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397"/>
                  </a:lnSpc>
                  <a:tabLst>
                    <a:tab algn="l" pos="0"/>
                    <a:tab algn="l" pos="378000"/>
                    <a:tab algn="l" pos="663480"/>
                    <a:tab algn="l" pos="868320"/>
                    <a:tab algn="l" pos="1736640"/>
                    <a:tab algn="l" pos="2604960"/>
                    <a:tab algn="l" pos="3473280"/>
                    <a:tab algn="l" pos="4341960"/>
                    <a:tab algn="l" pos="5210280"/>
                    <a:tab algn="l" pos="6078600"/>
                    <a:tab algn="l" pos="6946920"/>
                    <a:tab algn="l" pos="7815240"/>
                    <a:tab algn="l" pos="8683560"/>
                    <a:tab algn="l" pos="9551880"/>
                    <a:tab algn="l" pos="104202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UniversS 47 CondensedLight"/>
                  </a:rPr>
                  <a:t>Gatew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2408760" y="4149360"/>
              <a:ext cx="984240" cy="888480"/>
              <a:chOff x="2408760" y="4149360"/>
              <a:chExt cx="984240" cy="888480"/>
            </a:xfrm>
          </p:grpSpPr>
          <p:sp>
            <p:nvSpPr>
              <p:cNvPr id="146" name=""/>
              <p:cNvSpPr/>
              <p:nvPr/>
            </p:nvSpPr>
            <p:spPr>
              <a:xfrm>
                <a:off x="2408760" y="4800960"/>
                <a:ext cx="491760" cy="236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378000"/>
                    <a:tab algn="l" pos="663480"/>
                    <a:tab algn="l" pos="868320"/>
                    <a:tab algn="l" pos="1736640"/>
                    <a:tab algn="l" pos="2604960"/>
                    <a:tab algn="l" pos="3473280"/>
                    <a:tab algn="l" pos="4341960"/>
                    <a:tab algn="l" pos="5210280"/>
                    <a:tab algn="l" pos="6078600"/>
                    <a:tab algn="l" pos="6946920"/>
                    <a:tab algn="l" pos="7815240"/>
                    <a:tab algn="l" pos="8683560"/>
                    <a:tab algn="l" pos="9551880"/>
                    <a:tab algn="l" pos="104202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UniversS 47 CondensedLight"/>
                  </a:rPr>
                  <a:t>SC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900520" y="4800960"/>
                <a:ext cx="492120" cy="236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378000"/>
                    <a:tab algn="l" pos="663480"/>
                    <a:tab algn="l" pos="868320"/>
                    <a:tab algn="l" pos="1736640"/>
                    <a:tab algn="l" pos="2604960"/>
                    <a:tab algn="l" pos="3473280"/>
                    <a:tab algn="l" pos="4341960"/>
                    <a:tab algn="l" pos="5210280"/>
                    <a:tab algn="l" pos="6078600"/>
                    <a:tab algn="l" pos="6946920"/>
                    <a:tab algn="l" pos="7815240"/>
                    <a:tab algn="l" pos="8683560"/>
                    <a:tab algn="l" pos="9551880"/>
                    <a:tab algn="l" pos="104202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UniversS 47 CondensedLight"/>
                  </a:rPr>
                  <a:t>RT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408760" y="4149360"/>
                <a:ext cx="984240" cy="65160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378000"/>
                    <a:tab algn="l" pos="663480"/>
                    <a:tab algn="l" pos="868320"/>
                    <a:tab algn="l" pos="1736640"/>
                    <a:tab algn="l" pos="2604960"/>
                    <a:tab algn="l" pos="3473280"/>
                    <a:tab algn="l" pos="4341960"/>
                    <a:tab algn="l" pos="5210280"/>
                    <a:tab algn="l" pos="6078600"/>
                    <a:tab algn="l" pos="6946920"/>
                    <a:tab algn="l" pos="7815240"/>
                    <a:tab algn="l" pos="8683560"/>
                    <a:tab algn="l" pos="9551880"/>
                    <a:tab algn="l" pos="104202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UniversS 47 CondensedLight"/>
                  </a:rPr>
                  <a:t>Med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397"/>
                  </a:lnSpc>
                  <a:tabLst>
                    <a:tab algn="l" pos="0"/>
                    <a:tab algn="l" pos="378000"/>
                    <a:tab algn="l" pos="663480"/>
                    <a:tab algn="l" pos="868320"/>
                    <a:tab algn="l" pos="1736640"/>
                    <a:tab algn="l" pos="2604960"/>
                    <a:tab algn="l" pos="3473280"/>
                    <a:tab algn="l" pos="4341960"/>
                    <a:tab algn="l" pos="5210280"/>
                    <a:tab algn="l" pos="6078600"/>
                    <a:tab algn="l" pos="6946920"/>
                    <a:tab algn="l" pos="7815240"/>
                    <a:tab algn="l" pos="8683560"/>
                    <a:tab algn="l" pos="9551880"/>
                    <a:tab algn="l" pos="104202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UniversS 47 CondensedLight"/>
                  </a:rPr>
                  <a:t>Gatew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3463560" y="4149360"/>
              <a:ext cx="984240" cy="888480"/>
              <a:chOff x="3463560" y="4149360"/>
              <a:chExt cx="984240" cy="888480"/>
            </a:xfrm>
          </p:grpSpPr>
          <p:sp>
            <p:nvSpPr>
              <p:cNvPr id="150" name=""/>
              <p:cNvSpPr/>
              <p:nvPr/>
            </p:nvSpPr>
            <p:spPr>
              <a:xfrm>
                <a:off x="3463560" y="4800960"/>
                <a:ext cx="491760" cy="236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378000"/>
                    <a:tab algn="l" pos="663480"/>
                    <a:tab algn="l" pos="868320"/>
                    <a:tab algn="l" pos="1736640"/>
                    <a:tab algn="l" pos="2604960"/>
                    <a:tab algn="l" pos="3473280"/>
                    <a:tab algn="l" pos="4341960"/>
                    <a:tab algn="l" pos="5210280"/>
                    <a:tab algn="l" pos="6078600"/>
                    <a:tab algn="l" pos="6946920"/>
                    <a:tab algn="l" pos="7815240"/>
                    <a:tab algn="l" pos="8683560"/>
                    <a:tab algn="l" pos="9551880"/>
                    <a:tab algn="l" pos="104202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UniversS 47 CondensedLight"/>
                  </a:rPr>
                  <a:t>SC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955320" y="4800960"/>
                <a:ext cx="492120" cy="236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378000"/>
                    <a:tab algn="l" pos="663480"/>
                    <a:tab algn="l" pos="868320"/>
                    <a:tab algn="l" pos="1736640"/>
                    <a:tab algn="l" pos="2604960"/>
                    <a:tab algn="l" pos="3473280"/>
                    <a:tab algn="l" pos="4341960"/>
                    <a:tab algn="l" pos="5210280"/>
                    <a:tab algn="l" pos="6078600"/>
                    <a:tab algn="l" pos="6946920"/>
                    <a:tab algn="l" pos="7815240"/>
                    <a:tab algn="l" pos="8683560"/>
                    <a:tab algn="l" pos="9551880"/>
                    <a:tab algn="l" pos="104202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UniversS 47 CondensedLight"/>
                  </a:rPr>
                  <a:t>RT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463560" y="4149360"/>
                <a:ext cx="984240" cy="65160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378000"/>
                    <a:tab algn="l" pos="663480"/>
                    <a:tab algn="l" pos="868320"/>
                    <a:tab algn="l" pos="1736640"/>
                    <a:tab algn="l" pos="2604960"/>
                    <a:tab algn="l" pos="3473280"/>
                    <a:tab algn="l" pos="4341960"/>
                    <a:tab algn="l" pos="5210280"/>
                    <a:tab algn="l" pos="6078600"/>
                    <a:tab algn="l" pos="6946920"/>
                    <a:tab algn="l" pos="7815240"/>
                    <a:tab algn="l" pos="8683560"/>
                    <a:tab algn="l" pos="9551880"/>
                    <a:tab algn="l" pos="104202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UniversS 47 CondensedLight"/>
                  </a:rPr>
                  <a:t>Med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397"/>
                  </a:lnSpc>
                  <a:tabLst>
                    <a:tab algn="l" pos="0"/>
                    <a:tab algn="l" pos="378000"/>
                    <a:tab algn="l" pos="663480"/>
                    <a:tab algn="l" pos="868320"/>
                    <a:tab algn="l" pos="1736640"/>
                    <a:tab algn="l" pos="2604960"/>
                    <a:tab algn="l" pos="3473280"/>
                    <a:tab algn="l" pos="4341960"/>
                    <a:tab algn="l" pos="5210280"/>
                    <a:tab algn="l" pos="6078600"/>
                    <a:tab algn="l" pos="6946920"/>
                    <a:tab algn="l" pos="7815240"/>
                    <a:tab algn="l" pos="8683560"/>
                    <a:tab algn="l" pos="9551880"/>
                    <a:tab algn="l" pos="104202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UniversS 47 CondensedLight"/>
                  </a:rPr>
                  <a:t>Gatew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4518360" y="4149360"/>
              <a:ext cx="984240" cy="888480"/>
              <a:chOff x="4518360" y="4149360"/>
              <a:chExt cx="984240" cy="888480"/>
            </a:xfrm>
          </p:grpSpPr>
          <p:sp>
            <p:nvSpPr>
              <p:cNvPr id="154" name=""/>
              <p:cNvSpPr/>
              <p:nvPr/>
            </p:nvSpPr>
            <p:spPr>
              <a:xfrm>
                <a:off x="4518360" y="4800960"/>
                <a:ext cx="491760" cy="236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378000"/>
                    <a:tab algn="l" pos="663480"/>
                    <a:tab algn="l" pos="868320"/>
                    <a:tab algn="l" pos="1736640"/>
                    <a:tab algn="l" pos="2604960"/>
                    <a:tab algn="l" pos="3473280"/>
                    <a:tab algn="l" pos="4341960"/>
                    <a:tab algn="l" pos="5210280"/>
                    <a:tab algn="l" pos="6078600"/>
                    <a:tab algn="l" pos="6946920"/>
                    <a:tab algn="l" pos="7815240"/>
                    <a:tab algn="l" pos="8683560"/>
                    <a:tab algn="l" pos="9551880"/>
                    <a:tab algn="l" pos="104202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UniversS 47 CondensedLight"/>
                  </a:rPr>
                  <a:t>SC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010120" y="4800960"/>
                <a:ext cx="492120" cy="236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378000"/>
                    <a:tab algn="l" pos="663480"/>
                    <a:tab algn="l" pos="868320"/>
                    <a:tab algn="l" pos="1736640"/>
                    <a:tab algn="l" pos="2604960"/>
                    <a:tab algn="l" pos="3473280"/>
                    <a:tab algn="l" pos="4341960"/>
                    <a:tab algn="l" pos="5210280"/>
                    <a:tab algn="l" pos="6078600"/>
                    <a:tab algn="l" pos="6946920"/>
                    <a:tab algn="l" pos="7815240"/>
                    <a:tab algn="l" pos="8683560"/>
                    <a:tab algn="l" pos="9551880"/>
                    <a:tab algn="l" pos="104202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UniversS 47 CondensedLight"/>
                  </a:rPr>
                  <a:t>RT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18360" y="4149360"/>
                <a:ext cx="984240" cy="65160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378000"/>
                    <a:tab algn="l" pos="663480"/>
                    <a:tab algn="l" pos="868320"/>
                    <a:tab algn="l" pos="1736640"/>
                    <a:tab algn="l" pos="2604960"/>
                    <a:tab algn="l" pos="3473280"/>
                    <a:tab algn="l" pos="4341960"/>
                    <a:tab algn="l" pos="5210280"/>
                    <a:tab algn="l" pos="6078600"/>
                    <a:tab algn="l" pos="6946920"/>
                    <a:tab algn="l" pos="7815240"/>
                    <a:tab algn="l" pos="8683560"/>
                    <a:tab algn="l" pos="9551880"/>
                    <a:tab algn="l" pos="104202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UniversS 47 CondensedLight"/>
                  </a:rPr>
                  <a:t>Med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397"/>
                  </a:lnSpc>
                  <a:tabLst>
                    <a:tab algn="l" pos="0"/>
                    <a:tab algn="l" pos="378000"/>
                    <a:tab algn="l" pos="663480"/>
                    <a:tab algn="l" pos="868320"/>
                    <a:tab algn="l" pos="1736640"/>
                    <a:tab algn="l" pos="2604960"/>
                    <a:tab algn="l" pos="3473280"/>
                    <a:tab algn="l" pos="4341960"/>
                    <a:tab algn="l" pos="5210280"/>
                    <a:tab algn="l" pos="6078600"/>
                    <a:tab algn="l" pos="6946920"/>
                    <a:tab algn="l" pos="7815240"/>
                    <a:tab algn="l" pos="8683560"/>
                    <a:tab algn="l" pos="9551880"/>
                    <a:tab algn="l" pos="104202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UniversS 47 CondensedLight"/>
                  </a:rPr>
                  <a:t>Gatew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5573160" y="4149360"/>
              <a:ext cx="984240" cy="888480"/>
              <a:chOff x="5573160" y="4149360"/>
              <a:chExt cx="984240" cy="888480"/>
            </a:xfrm>
          </p:grpSpPr>
          <p:sp>
            <p:nvSpPr>
              <p:cNvPr id="158" name=""/>
              <p:cNvSpPr/>
              <p:nvPr/>
            </p:nvSpPr>
            <p:spPr>
              <a:xfrm>
                <a:off x="5573160" y="4800960"/>
                <a:ext cx="491760" cy="236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378000"/>
                    <a:tab algn="l" pos="663480"/>
                    <a:tab algn="l" pos="868320"/>
                    <a:tab algn="l" pos="1736640"/>
                    <a:tab algn="l" pos="2604960"/>
                    <a:tab algn="l" pos="3473280"/>
                    <a:tab algn="l" pos="4341960"/>
                    <a:tab algn="l" pos="5210280"/>
                    <a:tab algn="l" pos="6078600"/>
                    <a:tab algn="l" pos="6946920"/>
                    <a:tab algn="l" pos="7815240"/>
                    <a:tab algn="l" pos="8683560"/>
                    <a:tab algn="l" pos="9551880"/>
                    <a:tab algn="l" pos="104202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UniversS 47 CondensedLight"/>
                  </a:rPr>
                  <a:t>SC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064920" y="4800960"/>
                <a:ext cx="492120" cy="236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378000"/>
                    <a:tab algn="l" pos="663480"/>
                    <a:tab algn="l" pos="868320"/>
                    <a:tab algn="l" pos="1736640"/>
                    <a:tab algn="l" pos="2604960"/>
                    <a:tab algn="l" pos="3473280"/>
                    <a:tab algn="l" pos="4341960"/>
                    <a:tab algn="l" pos="5210280"/>
                    <a:tab algn="l" pos="6078600"/>
                    <a:tab algn="l" pos="6946920"/>
                    <a:tab algn="l" pos="7815240"/>
                    <a:tab algn="l" pos="8683560"/>
                    <a:tab algn="l" pos="9551880"/>
                    <a:tab algn="l" pos="104202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UniversS 47 CondensedLight"/>
                  </a:rPr>
                  <a:t>RT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573160" y="4149360"/>
                <a:ext cx="984240" cy="65160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378000"/>
                    <a:tab algn="l" pos="663480"/>
                    <a:tab algn="l" pos="868320"/>
                    <a:tab algn="l" pos="1736640"/>
                    <a:tab algn="l" pos="2604960"/>
                    <a:tab algn="l" pos="3473280"/>
                    <a:tab algn="l" pos="4341960"/>
                    <a:tab algn="l" pos="5210280"/>
                    <a:tab algn="l" pos="6078600"/>
                    <a:tab algn="l" pos="6946920"/>
                    <a:tab algn="l" pos="7815240"/>
                    <a:tab algn="l" pos="8683560"/>
                    <a:tab algn="l" pos="9551880"/>
                    <a:tab algn="l" pos="104202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UniversS 47 CondensedLight"/>
                  </a:rPr>
                  <a:t>Med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397"/>
                  </a:lnSpc>
                  <a:tabLst>
                    <a:tab algn="l" pos="0"/>
                    <a:tab algn="l" pos="378000"/>
                    <a:tab algn="l" pos="663480"/>
                    <a:tab algn="l" pos="868320"/>
                    <a:tab algn="l" pos="1736640"/>
                    <a:tab algn="l" pos="2604960"/>
                    <a:tab algn="l" pos="3473280"/>
                    <a:tab algn="l" pos="4341960"/>
                    <a:tab algn="l" pos="5210280"/>
                    <a:tab algn="l" pos="6078600"/>
                    <a:tab algn="l" pos="6946920"/>
                    <a:tab algn="l" pos="7815240"/>
                    <a:tab algn="l" pos="8683560"/>
                    <a:tab algn="l" pos="9551880"/>
                    <a:tab algn="l" pos="104202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UniversS 47 CondensedLight"/>
                  </a:rPr>
                  <a:t>Gatew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6628320" y="4149360"/>
              <a:ext cx="984240" cy="888480"/>
              <a:chOff x="6628320" y="4149360"/>
              <a:chExt cx="984240" cy="888480"/>
            </a:xfrm>
          </p:grpSpPr>
          <p:sp>
            <p:nvSpPr>
              <p:cNvPr id="162" name=""/>
              <p:cNvSpPr/>
              <p:nvPr/>
            </p:nvSpPr>
            <p:spPr>
              <a:xfrm>
                <a:off x="6628320" y="4800960"/>
                <a:ext cx="491760" cy="236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378000"/>
                    <a:tab algn="l" pos="663480"/>
                    <a:tab algn="l" pos="868320"/>
                    <a:tab algn="l" pos="1736640"/>
                    <a:tab algn="l" pos="2604960"/>
                    <a:tab algn="l" pos="3473280"/>
                    <a:tab algn="l" pos="4341960"/>
                    <a:tab algn="l" pos="5210280"/>
                    <a:tab algn="l" pos="6078600"/>
                    <a:tab algn="l" pos="6946920"/>
                    <a:tab algn="l" pos="7815240"/>
                    <a:tab algn="l" pos="8683560"/>
                    <a:tab algn="l" pos="9551880"/>
                    <a:tab algn="l" pos="104202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UniversS 47 CondensedLight"/>
                  </a:rPr>
                  <a:t>SC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120080" y="4800960"/>
                <a:ext cx="492120" cy="236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378000"/>
                    <a:tab algn="l" pos="663480"/>
                    <a:tab algn="l" pos="868320"/>
                    <a:tab algn="l" pos="1736640"/>
                    <a:tab algn="l" pos="2604960"/>
                    <a:tab algn="l" pos="3473280"/>
                    <a:tab algn="l" pos="4341960"/>
                    <a:tab algn="l" pos="5210280"/>
                    <a:tab algn="l" pos="6078600"/>
                    <a:tab algn="l" pos="6946920"/>
                    <a:tab algn="l" pos="7815240"/>
                    <a:tab algn="l" pos="8683560"/>
                    <a:tab algn="l" pos="9551880"/>
                    <a:tab algn="l" pos="104202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UniversS 47 CondensedLight"/>
                  </a:rPr>
                  <a:t>RT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628320" y="4149360"/>
                <a:ext cx="984240" cy="65160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378000"/>
                    <a:tab algn="l" pos="663480"/>
                    <a:tab algn="l" pos="868320"/>
                    <a:tab algn="l" pos="1736640"/>
                    <a:tab algn="l" pos="2604960"/>
                    <a:tab algn="l" pos="3473280"/>
                    <a:tab algn="l" pos="4341960"/>
                    <a:tab algn="l" pos="5210280"/>
                    <a:tab algn="l" pos="6078600"/>
                    <a:tab algn="l" pos="6946920"/>
                    <a:tab algn="l" pos="7815240"/>
                    <a:tab algn="l" pos="8683560"/>
                    <a:tab algn="l" pos="9551880"/>
                    <a:tab algn="l" pos="104202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UniversS 47 CondensedLight"/>
                  </a:rPr>
                  <a:t>Med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397"/>
                  </a:lnSpc>
                  <a:tabLst>
                    <a:tab algn="l" pos="0"/>
                    <a:tab algn="l" pos="378000"/>
                    <a:tab algn="l" pos="663480"/>
                    <a:tab algn="l" pos="868320"/>
                    <a:tab algn="l" pos="1736640"/>
                    <a:tab algn="l" pos="2604960"/>
                    <a:tab algn="l" pos="3473280"/>
                    <a:tab algn="l" pos="4341960"/>
                    <a:tab algn="l" pos="5210280"/>
                    <a:tab algn="l" pos="6078600"/>
                    <a:tab algn="l" pos="6946920"/>
                    <a:tab algn="l" pos="7815240"/>
                    <a:tab algn="l" pos="8683560"/>
                    <a:tab algn="l" pos="9551880"/>
                    <a:tab algn="l" pos="104202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UniversS 47 CondensedLight"/>
                  </a:rPr>
                  <a:t>Gatew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A513-EA54-4453-98FA-EC93FE10493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477EEA3-C312-45E0-9EB5-A670D3B29E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oday’s H.323 Network Topology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6" name="Cloud_BLK" descr=""/>
          <p:cNvPicPr/>
          <p:nvPr/>
        </p:nvPicPr>
        <p:blipFill>
          <a:blip r:embed="rId1"/>
          <a:stretch/>
        </p:blipFill>
        <p:spPr>
          <a:xfrm>
            <a:off x="2914560" y="2333520"/>
            <a:ext cx="4338720" cy="20811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98800" y="2919240"/>
            <a:ext cx="257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Provider IP Cor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man_mtbz_char" descr=""/>
          <p:cNvPicPr/>
          <p:nvPr/>
        </p:nvPicPr>
        <p:blipFill>
          <a:blip r:embed="rId2"/>
          <a:stretch/>
        </p:blipFill>
        <p:spPr>
          <a:xfrm>
            <a:off x="6791400" y="5724360"/>
            <a:ext cx="533160" cy="430200"/>
          </a:xfrm>
          <a:prstGeom prst="rect">
            <a:avLst/>
          </a:prstGeom>
          <a:ln w="0">
            <a:noFill/>
          </a:ln>
        </p:spPr>
      </p:pic>
      <p:pic>
        <p:nvPicPr>
          <p:cNvPr id="169" name="Cloud_BLK" descr=""/>
          <p:cNvPicPr/>
          <p:nvPr/>
        </p:nvPicPr>
        <p:blipFill>
          <a:blip r:embed="rId3"/>
          <a:stretch/>
        </p:blipFill>
        <p:spPr>
          <a:xfrm>
            <a:off x="6762600" y="4753080"/>
            <a:ext cx="1657440" cy="795240"/>
          </a:xfrm>
          <a:prstGeom prst="rect">
            <a:avLst/>
          </a:prstGeom>
          <a:ln w="0">
            <a:noFill/>
          </a:ln>
        </p:spPr>
      </p:pic>
      <p:pic>
        <p:nvPicPr>
          <p:cNvPr id="170" name="man_mtbz_char" descr=""/>
          <p:cNvPicPr/>
          <p:nvPr/>
        </p:nvPicPr>
        <p:blipFill>
          <a:blip r:embed="rId4"/>
          <a:stretch/>
        </p:blipFill>
        <p:spPr>
          <a:xfrm>
            <a:off x="8153280" y="5724360"/>
            <a:ext cx="533520" cy="43020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7542360" y="4457880"/>
            <a:ext cx="502560" cy="425160"/>
            <a:chOff x="7542360" y="4457880"/>
            <a:chExt cx="502560" cy="425160"/>
          </a:xfrm>
        </p:grpSpPr>
        <p:grpSp>
          <p:nvGrpSpPr>
            <p:cNvPr id="172" name=""/>
            <p:cNvGrpSpPr/>
            <p:nvPr/>
          </p:nvGrpSpPr>
          <p:grpSpPr>
            <a:xfrm>
              <a:off x="7542360" y="4457880"/>
              <a:ext cx="502560" cy="425160"/>
              <a:chOff x="7542360" y="4457880"/>
              <a:chExt cx="502560" cy="425160"/>
            </a:xfrm>
          </p:grpSpPr>
          <p:sp>
            <p:nvSpPr>
              <p:cNvPr id="173" name=""/>
              <p:cNvSpPr/>
              <p:nvPr/>
            </p:nvSpPr>
            <p:spPr>
              <a:xfrm>
                <a:off x="7542360" y="4494240"/>
                <a:ext cx="420840" cy="38880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542360" y="4494240"/>
                <a:ext cx="420840" cy="38880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542360" y="4457880"/>
                <a:ext cx="50256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542360" y="4457880"/>
                <a:ext cx="50256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961040" y="4457880"/>
                <a:ext cx="83880" cy="42264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961040" y="4457880"/>
                <a:ext cx="83880" cy="42264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7542360" y="4533840"/>
              <a:ext cx="45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7553160" y="155268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7934400" y="200988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8315280" y="155268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377480" y="1258920"/>
            <a:ext cx="152460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deo Termi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Cloud_BLK" descr=""/>
          <p:cNvPicPr/>
          <p:nvPr/>
        </p:nvPicPr>
        <p:blipFill>
          <a:blip r:embed="rId8"/>
          <a:stretch/>
        </p:blipFill>
        <p:spPr>
          <a:xfrm>
            <a:off x="7219800" y="2419200"/>
            <a:ext cx="1657440" cy="7956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371720" y="261288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33600" y="494676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618320" y="3086280"/>
            <a:ext cx="502920" cy="425160"/>
            <a:chOff x="7618320" y="3086280"/>
            <a:chExt cx="502920" cy="425160"/>
          </a:xfrm>
        </p:grpSpPr>
        <p:grpSp>
          <p:nvGrpSpPr>
            <p:cNvPr id="188" name=""/>
            <p:cNvGrpSpPr/>
            <p:nvPr/>
          </p:nvGrpSpPr>
          <p:grpSpPr>
            <a:xfrm>
              <a:off x="7618320" y="3086280"/>
              <a:ext cx="502920" cy="425160"/>
              <a:chOff x="7618320" y="3086280"/>
              <a:chExt cx="502920" cy="425160"/>
            </a:xfrm>
          </p:grpSpPr>
          <p:sp>
            <p:nvSpPr>
              <p:cNvPr id="189" name=""/>
              <p:cNvSpPr/>
              <p:nvPr/>
            </p:nvSpPr>
            <p:spPr>
              <a:xfrm>
                <a:off x="7618320" y="3122640"/>
                <a:ext cx="421200" cy="38880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618320" y="3122640"/>
                <a:ext cx="421200" cy="38880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618320" y="308628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618320" y="308628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037360" y="3086280"/>
                <a:ext cx="83880" cy="42264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037360" y="3086280"/>
                <a:ext cx="83880" cy="42264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7618320" y="316224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9"/>
          <a:stretch/>
        </p:blipFill>
        <p:spPr>
          <a:xfrm>
            <a:off x="7524720" y="576252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197" name="CommServer_Voice" descr=""/>
          <p:cNvPicPr/>
          <p:nvPr/>
        </p:nvPicPr>
        <p:blipFill>
          <a:blip r:embed="rId10"/>
          <a:stretch/>
        </p:blipFill>
        <p:spPr>
          <a:xfrm>
            <a:off x="1781280" y="5619600"/>
            <a:ext cx="533160" cy="484200"/>
          </a:xfrm>
          <a:prstGeom prst="rect">
            <a:avLst/>
          </a:prstGeom>
          <a:ln w="0">
            <a:noFill/>
          </a:ln>
        </p:spPr>
      </p:pic>
      <p:pic>
        <p:nvPicPr>
          <p:cNvPr id="198" name="CommServer_Voice" descr=""/>
          <p:cNvPicPr/>
          <p:nvPr/>
        </p:nvPicPr>
        <p:blipFill>
          <a:blip r:embed="rId11"/>
          <a:stretch/>
        </p:blipFill>
        <p:spPr>
          <a:xfrm>
            <a:off x="2476440" y="5629320"/>
            <a:ext cx="533520" cy="484200"/>
          </a:xfrm>
          <a:prstGeom prst="rect">
            <a:avLst/>
          </a:prstGeom>
          <a:ln w="0">
            <a:noFill/>
          </a:ln>
        </p:spPr>
      </p:pic>
      <p:pic>
        <p:nvPicPr>
          <p:cNvPr id="199" name="CommServer_Voice" descr=""/>
          <p:cNvPicPr/>
          <p:nvPr/>
        </p:nvPicPr>
        <p:blipFill>
          <a:blip r:embed="rId12"/>
          <a:stretch/>
        </p:blipFill>
        <p:spPr>
          <a:xfrm>
            <a:off x="3191040" y="5638680"/>
            <a:ext cx="533160" cy="484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710000" y="6135840"/>
            <a:ext cx="202896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.323 PSTN Gatew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313160" y="2238480"/>
            <a:ext cx="502920" cy="425520"/>
            <a:chOff x="4313160" y="2238480"/>
            <a:chExt cx="502920" cy="425520"/>
          </a:xfrm>
        </p:grpSpPr>
        <p:grpSp>
          <p:nvGrpSpPr>
            <p:cNvPr id="202" name=""/>
            <p:cNvGrpSpPr/>
            <p:nvPr/>
          </p:nvGrpSpPr>
          <p:grpSpPr>
            <a:xfrm>
              <a:off x="4313160" y="2238480"/>
              <a:ext cx="502920" cy="425520"/>
              <a:chOff x="4313160" y="2238480"/>
              <a:chExt cx="502920" cy="425520"/>
            </a:xfrm>
          </p:grpSpPr>
          <p:sp>
            <p:nvSpPr>
              <p:cNvPr id="203" name=""/>
              <p:cNvSpPr/>
              <p:nvPr/>
            </p:nvSpPr>
            <p:spPr>
              <a:xfrm>
                <a:off x="4313160" y="2274840"/>
                <a:ext cx="4212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13160" y="2274840"/>
                <a:ext cx="4212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13160" y="223848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313160" y="223848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732200" y="223848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32200" y="223848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4313160" y="231480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903920" y="2238480"/>
            <a:ext cx="502920" cy="425520"/>
            <a:chOff x="4903920" y="2238480"/>
            <a:chExt cx="502920" cy="425520"/>
          </a:xfrm>
        </p:grpSpPr>
        <p:grpSp>
          <p:nvGrpSpPr>
            <p:cNvPr id="211" name=""/>
            <p:cNvGrpSpPr/>
            <p:nvPr/>
          </p:nvGrpSpPr>
          <p:grpSpPr>
            <a:xfrm>
              <a:off x="4903920" y="2238480"/>
              <a:ext cx="502920" cy="425520"/>
              <a:chOff x="4903920" y="2238480"/>
              <a:chExt cx="502920" cy="425520"/>
            </a:xfrm>
          </p:grpSpPr>
          <p:sp>
            <p:nvSpPr>
              <p:cNvPr id="212" name=""/>
              <p:cNvSpPr/>
              <p:nvPr/>
            </p:nvSpPr>
            <p:spPr>
              <a:xfrm>
                <a:off x="4903920" y="2274840"/>
                <a:ext cx="4212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903920" y="2274840"/>
                <a:ext cx="4212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903920" y="223848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903920" y="223848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322960" y="223848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22960" y="223848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4903920" y="231480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504040" y="2238480"/>
            <a:ext cx="502560" cy="425520"/>
            <a:chOff x="5504040" y="2238480"/>
            <a:chExt cx="502560" cy="425520"/>
          </a:xfrm>
        </p:grpSpPr>
        <p:grpSp>
          <p:nvGrpSpPr>
            <p:cNvPr id="220" name=""/>
            <p:cNvGrpSpPr/>
            <p:nvPr/>
          </p:nvGrpSpPr>
          <p:grpSpPr>
            <a:xfrm>
              <a:off x="5504040" y="2238480"/>
              <a:ext cx="502560" cy="425520"/>
              <a:chOff x="5504040" y="2238480"/>
              <a:chExt cx="502560" cy="425520"/>
            </a:xfrm>
          </p:grpSpPr>
          <p:sp>
            <p:nvSpPr>
              <p:cNvPr id="221" name=""/>
              <p:cNvSpPr/>
              <p:nvPr/>
            </p:nvSpPr>
            <p:spPr>
              <a:xfrm>
                <a:off x="5504040" y="2274840"/>
                <a:ext cx="42084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504040" y="2274840"/>
                <a:ext cx="42084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504040" y="2238480"/>
                <a:ext cx="50256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504040" y="2238480"/>
                <a:ext cx="50256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922720" y="223848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922720" y="223848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5504040" y="2314800"/>
              <a:ext cx="45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041360" y="1906560"/>
            <a:ext cx="223020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ory” Gatekeep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Cloud_BLK" descr=""/>
          <p:cNvPicPr/>
          <p:nvPr/>
        </p:nvPicPr>
        <p:blipFill>
          <a:blip r:embed="rId13"/>
          <a:stretch/>
        </p:blipFill>
        <p:spPr>
          <a:xfrm>
            <a:off x="1876320" y="4753080"/>
            <a:ext cx="1657440" cy="795240"/>
          </a:xfrm>
          <a:prstGeom prst="rect">
            <a:avLst/>
          </a:prstGeom>
          <a:ln w="0">
            <a:noFill/>
          </a:ln>
        </p:spPr>
      </p:pic>
      <p:grpSp>
        <p:nvGrpSpPr>
          <p:cNvPr id="230" name=""/>
          <p:cNvGrpSpPr/>
          <p:nvPr/>
        </p:nvGrpSpPr>
        <p:grpSpPr>
          <a:xfrm>
            <a:off x="2684520" y="4448160"/>
            <a:ext cx="502920" cy="425520"/>
            <a:chOff x="2684520" y="4448160"/>
            <a:chExt cx="502920" cy="425520"/>
          </a:xfrm>
        </p:grpSpPr>
        <p:grpSp>
          <p:nvGrpSpPr>
            <p:cNvPr id="231" name=""/>
            <p:cNvGrpSpPr/>
            <p:nvPr/>
          </p:nvGrpSpPr>
          <p:grpSpPr>
            <a:xfrm>
              <a:off x="2684520" y="4448160"/>
              <a:ext cx="502920" cy="425520"/>
              <a:chOff x="2684520" y="4448160"/>
              <a:chExt cx="502920" cy="425520"/>
            </a:xfrm>
          </p:grpSpPr>
          <p:sp>
            <p:nvSpPr>
              <p:cNvPr id="232" name=""/>
              <p:cNvSpPr/>
              <p:nvPr/>
            </p:nvSpPr>
            <p:spPr>
              <a:xfrm>
                <a:off x="2684520" y="4484520"/>
                <a:ext cx="4212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684520" y="4484520"/>
                <a:ext cx="4212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684520" y="444816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684520" y="444816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03560" y="444816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103560" y="444816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2684520" y="452448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836800" y="4600440"/>
            <a:ext cx="502920" cy="425520"/>
            <a:chOff x="2836800" y="4600440"/>
            <a:chExt cx="502920" cy="425520"/>
          </a:xfrm>
        </p:grpSpPr>
        <p:grpSp>
          <p:nvGrpSpPr>
            <p:cNvPr id="240" name=""/>
            <p:cNvGrpSpPr/>
            <p:nvPr/>
          </p:nvGrpSpPr>
          <p:grpSpPr>
            <a:xfrm>
              <a:off x="2836800" y="4600440"/>
              <a:ext cx="502920" cy="425520"/>
              <a:chOff x="2836800" y="4600440"/>
              <a:chExt cx="502920" cy="425520"/>
            </a:xfrm>
          </p:grpSpPr>
          <p:sp>
            <p:nvSpPr>
              <p:cNvPr id="241" name=""/>
              <p:cNvSpPr/>
              <p:nvPr/>
            </p:nvSpPr>
            <p:spPr>
              <a:xfrm>
                <a:off x="2836800" y="4636800"/>
                <a:ext cx="4212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836800" y="4636800"/>
                <a:ext cx="4212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836800" y="460044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836800" y="460044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55840" y="460044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55840" y="460044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2836800" y="467676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8" name="CommServer_Voice" descr=""/>
          <p:cNvPicPr/>
          <p:nvPr/>
        </p:nvPicPr>
        <p:blipFill>
          <a:blip r:embed="rId14"/>
          <a:stretch/>
        </p:blipFill>
        <p:spPr>
          <a:xfrm>
            <a:off x="1352520" y="1362240"/>
            <a:ext cx="533520" cy="484200"/>
          </a:xfrm>
          <a:prstGeom prst="rect">
            <a:avLst/>
          </a:prstGeom>
          <a:ln w="0">
            <a:noFill/>
          </a:ln>
        </p:spPr>
      </p:pic>
      <p:pic>
        <p:nvPicPr>
          <p:cNvPr id="249" name="CommServer_Voice" descr=""/>
          <p:cNvPicPr/>
          <p:nvPr/>
        </p:nvPicPr>
        <p:blipFill>
          <a:blip r:embed="rId15"/>
          <a:stretch/>
        </p:blipFill>
        <p:spPr>
          <a:xfrm>
            <a:off x="2048040" y="1371600"/>
            <a:ext cx="533160" cy="484200"/>
          </a:xfrm>
          <a:prstGeom prst="rect">
            <a:avLst/>
          </a:prstGeom>
          <a:ln w="0">
            <a:noFill/>
          </a:ln>
        </p:spPr>
      </p:pic>
      <p:pic>
        <p:nvPicPr>
          <p:cNvPr id="250" name="CommServer_Voice" descr=""/>
          <p:cNvPicPr/>
          <p:nvPr/>
        </p:nvPicPr>
        <p:blipFill>
          <a:blip r:embed="rId16"/>
          <a:stretch/>
        </p:blipFill>
        <p:spPr>
          <a:xfrm>
            <a:off x="2762280" y="1380960"/>
            <a:ext cx="533520" cy="484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338480" y="1077840"/>
            <a:ext cx="202896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.248 PSTN Gatew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Cloud_BLK" descr=""/>
          <p:cNvPicPr/>
          <p:nvPr/>
        </p:nvPicPr>
        <p:blipFill>
          <a:blip r:embed="rId17"/>
          <a:stretch/>
        </p:blipFill>
        <p:spPr>
          <a:xfrm>
            <a:off x="1461960" y="2228760"/>
            <a:ext cx="1657440" cy="795600"/>
          </a:xfrm>
          <a:prstGeom prst="rect">
            <a:avLst/>
          </a:prstGeom>
          <a:ln w="0">
            <a:noFill/>
          </a:ln>
        </p:spPr>
      </p:pic>
      <p:grpSp>
        <p:nvGrpSpPr>
          <p:cNvPr id="253" name=""/>
          <p:cNvGrpSpPr/>
          <p:nvPr/>
        </p:nvGrpSpPr>
        <p:grpSpPr>
          <a:xfrm>
            <a:off x="1947960" y="1905120"/>
            <a:ext cx="731160" cy="425160"/>
            <a:chOff x="1947960" y="1905120"/>
            <a:chExt cx="731160" cy="425160"/>
          </a:xfrm>
        </p:grpSpPr>
        <p:grpSp>
          <p:nvGrpSpPr>
            <p:cNvPr id="254" name=""/>
            <p:cNvGrpSpPr/>
            <p:nvPr/>
          </p:nvGrpSpPr>
          <p:grpSpPr>
            <a:xfrm>
              <a:off x="1947960" y="1905120"/>
              <a:ext cx="731160" cy="425160"/>
              <a:chOff x="1947960" y="1905120"/>
              <a:chExt cx="731160" cy="425160"/>
            </a:xfrm>
          </p:grpSpPr>
          <p:sp>
            <p:nvSpPr>
              <p:cNvPr id="255" name=""/>
              <p:cNvSpPr/>
              <p:nvPr/>
            </p:nvSpPr>
            <p:spPr>
              <a:xfrm>
                <a:off x="1947960" y="1941480"/>
                <a:ext cx="612000" cy="38880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47960" y="1941480"/>
                <a:ext cx="612000" cy="38880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47960" y="1905120"/>
                <a:ext cx="73116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47960" y="1905120"/>
                <a:ext cx="73116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556720" y="1905120"/>
                <a:ext cx="122040" cy="42264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556720" y="1905120"/>
                <a:ext cx="122040" cy="42264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1947960" y="1981080"/>
              <a:ext cx="664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G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100240" y="2057400"/>
            <a:ext cx="731160" cy="425520"/>
            <a:chOff x="2100240" y="2057400"/>
            <a:chExt cx="731160" cy="425520"/>
          </a:xfrm>
        </p:grpSpPr>
        <p:grpSp>
          <p:nvGrpSpPr>
            <p:cNvPr id="263" name=""/>
            <p:cNvGrpSpPr/>
            <p:nvPr/>
          </p:nvGrpSpPr>
          <p:grpSpPr>
            <a:xfrm>
              <a:off x="2100240" y="2057400"/>
              <a:ext cx="731160" cy="425520"/>
              <a:chOff x="2100240" y="2057400"/>
              <a:chExt cx="731160" cy="425520"/>
            </a:xfrm>
          </p:grpSpPr>
          <p:sp>
            <p:nvSpPr>
              <p:cNvPr id="264" name=""/>
              <p:cNvSpPr/>
              <p:nvPr/>
            </p:nvSpPr>
            <p:spPr>
              <a:xfrm>
                <a:off x="2100240" y="2093760"/>
                <a:ext cx="6120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00240" y="2093760"/>
                <a:ext cx="6120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00240" y="2057400"/>
                <a:ext cx="73116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00240" y="2057400"/>
                <a:ext cx="73116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709000" y="2057400"/>
                <a:ext cx="12204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709000" y="2057400"/>
                <a:ext cx="12204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2100240" y="2133720"/>
              <a:ext cx="664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G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6546600" y="6173640"/>
            <a:ext cx="244368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dio and Video Termi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021040" y="2727360"/>
            <a:ext cx="502560" cy="425520"/>
            <a:chOff x="2021040" y="2727360"/>
            <a:chExt cx="502560" cy="425520"/>
          </a:xfrm>
        </p:grpSpPr>
        <p:grpSp>
          <p:nvGrpSpPr>
            <p:cNvPr id="273" name=""/>
            <p:cNvGrpSpPr/>
            <p:nvPr/>
          </p:nvGrpSpPr>
          <p:grpSpPr>
            <a:xfrm>
              <a:off x="2021040" y="2727360"/>
              <a:ext cx="502560" cy="425520"/>
              <a:chOff x="2021040" y="2727360"/>
              <a:chExt cx="502560" cy="425520"/>
            </a:xfrm>
          </p:grpSpPr>
          <p:sp>
            <p:nvSpPr>
              <p:cNvPr id="274" name=""/>
              <p:cNvSpPr/>
              <p:nvPr/>
            </p:nvSpPr>
            <p:spPr>
              <a:xfrm>
                <a:off x="2021040" y="2763720"/>
                <a:ext cx="42084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021040" y="2763720"/>
                <a:ext cx="42084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021040" y="2727360"/>
                <a:ext cx="50256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021040" y="2727360"/>
                <a:ext cx="50256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439720" y="272736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439720" y="272736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2021040" y="2803680"/>
              <a:ext cx="45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173320" y="2879640"/>
            <a:ext cx="502920" cy="425520"/>
            <a:chOff x="2173320" y="2879640"/>
            <a:chExt cx="502920" cy="425520"/>
          </a:xfrm>
        </p:grpSpPr>
        <p:grpSp>
          <p:nvGrpSpPr>
            <p:cNvPr id="282" name=""/>
            <p:cNvGrpSpPr/>
            <p:nvPr/>
          </p:nvGrpSpPr>
          <p:grpSpPr>
            <a:xfrm>
              <a:off x="2173320" y="2879640"/>
              <a:ext cx="502920" cy="425520"/>
              <a:chOff x="2173320" y="2879640"/>
              <a:chExt cx="502920" cy="425520"/>
            </a:xfrm>
          </p:grpSpPr>
          <p:sp>
            <p:nvSpPr>
              <p:cNvPr id="283" name=""/>
              <p:cNvSpPr/>
              <p:nvPr/>
            </p:nvSpPr>
            <p:spPr>
              <a:xfrm>
                <a:off x="2173320" y="2916000"/>
                <a:ext cx="4212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73320" y="2916000"/>
                <a:ext cx="4212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73320" y="287964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73320" y="287964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592360" y="287964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592360" y="287964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2173320" y="295596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7685B-701A-44B4-8A94-404F13DCF864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613E47D-7073-4F74-BFEE-A23606F524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Ongoing Work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DAP schema specificati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efinition of usage of the H.323 URL, allowing the use of DNS and ENUM with H.323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nhanced third-party call contro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Quality of Servi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calability and robustness enhancemen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hort message servi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3D20D-12D8-45A5-85EA-C9543D37B1A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82D8DD5-4F1E-48DB-AE60-ABC3902920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Voice, Video, and Data Communications from Day 1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H.323 was designed to be a “multimedia communications” protocol from the outset and not limited only to audio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As such, H.323 provides very tight integration of audio, video, and data communications functionality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DD89A-E370-483F-8602-3D082B9B818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D51E810-D9B6-4F90-A9FE-ADC7E42B69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Where We are Today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Voice, video, and data conferencing capabilit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.38 fax suppor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odem over IP suppor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supplementary services define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trong interoperability with other H.32x systems, including H.320 (ISDN) and H.323M (3GPP mobile wireless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pecification of media gateway decomposition (via H.248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upport for signaling and media securit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, terminal, and service terminal mobilit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upport for emergency services signaling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C9AD4-681F-4621-9569-1662B04A892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BC9D0AC-09A9-4885-8D65-D6D92089F3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Where We are Today (cont.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xtremely wide deploymen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Billions of minutes of traffic per month worldwide (counting public networks only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More than 90% of all voice over IP traffic today is H.323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Nearly 100% of the video over IP traffic today is H.323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DF842-40F5-464D-8A1A-4576955ACA8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B92A56D-D37C-4E47-8909-3FA4DEA8C6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Where is H.323 Used?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olesale transi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lling Car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oice Conferenc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oice VP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ified Communica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P-PBX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C-to-phon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stance Learn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"/>
          <p:cNvSpPr/>
          <p:nvPr/>
        </p:nvSpPr>
        <p:spPr>
          <a:xfrm>
            <a:off x="5264280" y="1982880"/>
            <a:ext cx="3670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ll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P-Centr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obility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ustom news / 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oice/Data/Video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roadband resid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o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8D8A-6716-4349-A070-470EB90C059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7829615-7CD0-4F64-B70F-B7C6EA4874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ndustry Suppor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Hundreds of service providers and equipment manufacturers supporting H.323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H.323 market still growing strongly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Voice over IP” has been the market driver in recent year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Video over IP” is now becoming more popular than ever, with deployments in several service provider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C839-BB7D-4D86-82DB-E4E15975D14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FCB9CDA-2640-42A1-BD4F-8E9014D89F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What is H.323?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.323* is the international standard for multimedia communications over packet-based networks, including the convergence of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voice, video, and data communicat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"/>
          <p:cNvSpPr/>
          <p:nvPr/>
        </p:nvSpPr>
        <p:spPr>
          <a:xfrm>
            <a:off x="1738440" y="510372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.323 is “ITU-T Recommendation H.323: Packet-based multimedia communications system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0770-C942-4871-98CE-40B1EB70F2F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193F072-C0EF-417F-8E94-57C0F069A6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H.323 Forum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e H.323 Forum was founded in 2002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ponsored by the International Multimedia Telecommunications Consortium (IMTC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5334120" y="4807080"/>
          <a:ext cx="3504960" cy="117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807080"/>
                    <a:ext cx="3504960" cy="11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2AE3-0E9C-4AB4-B6FD-CF074B84C9B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D922767-90C0-485B-AC71-608AAB5764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H.323 Forum Activitie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Equipment certification requirement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Live conferences (two or three per year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Video conferences (three or four per year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trategic press releas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Organized presentations at other conferenc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DE46B-D180-4A5E-8F39-EBB7AEE00FA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A7D6BF2-A4D6-40CB-87A1-C936CC4E2A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Notable H.323 Forum Event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January 2002: IMTC approves the formation of the H.323 Forum as a part of its organization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May 2002: H.323 Forum “kick-off” in Geneva and a web site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June 2002: H.323 Forum at Collaborative East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August 2002: Certification levels 1a/1b defined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September 2002: First worldwide H.323 Forum video conference was held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October 2002: H.323 Forum at VON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October 2002: ETSI and OSP users group support H.323 Forum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November 2002: H.323 Forum at Collaborative West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November 2002: First H.323 Forum industry conference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March 2003: Second  worldwide H.323 Forum video conference was held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EE5FD-7C0D-4323-8A44-71F38543F49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A900FDB-6851-4CCB-A04D-3A94242B52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Additional Informatio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4556160" y="1981080"/>
            <a:ext cx="3902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acketizer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packetizer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.323 Forum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http://www.h323forum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penH323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5"/>
              </a:rPr>
              <a:t>http://www.openh323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new_logo150" descr="new_logo150.jpg (11646 bytes)"/>
          <p:cNvPicPr/>
          <p:nvPr/>
        </p:nvPicPr>
        <p:blipFill>
          <a:blip r:embed="rId6"/>
          <a:stretch/>
        </p:blipFill>
        <p:spPr>
          <a:xfrm>
            <a:off x="2292480" y="4224240"/>
            <a:ext cx="1295280" cy="1036800"/>
          </a:xfrm>
          <a:prstGeom prst="rect">
            <a:avLst/>
          </a:prstGeom>
          <a:ln w="0">
            <a:noFill/>
          </a:ln>
        </p:spPr>
      </p:pic>
      <p:pic>
        <p:nvPicPr>
          <p:cNvPr id="314" name="h323_logo" descr=""/>
          <p:cNvPicPr/>
          <p:nvPr/>
        </p:nvPicPr>
        <p:blipFill>
          <a:blip r:embed="rId7"/>
          <a:stretch/>
        </p:blipFill>
        <p:spPr>
          <a:xfrm>
            <a:off x="2063880" y="2979720"/>
            <a:ext cx="2057400" cy="1073160"/>
          </a:xfrm>
          <a:prstGeom prst="rect">
            <a:avLst/>
          </a:prstGeom>
          <a:ln w="0">
            <a:noFill/>
          </a:ln>
        </p:spPr>
      </p:pic>
      <p:pic>
        <p:nvPicPr>
          <p:cNvPr id="315" name="packetizer" descr=""/>
          <p:cNvPicPr/>
          <p:nvPr/>
        </p:nvPicPr>
        <p:blipFill>
          <a:blip r:embed="rId8"/>
          <a:stretch/>
        </p:blipFill>
        <p:spPr>
          <a:xfrm>
            <a:off x="1301760" y="2070000"/>
            <a:ext cx="3200400" cy="75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62CA3-CECD-4BE4-B29C-EC69E0C4332F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A6570A3-B641-477A-B6EA-FB3FA5C650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Where did H.323 Come From?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Recommendation H.323 is a standard published by the International Telecommunications Union Telecommunications Sector (ITU-T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rmerly known as CCIT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fer to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rebuchet MS"/>
                <a:hlinkClick r:id="rId1"/>
              </a:rPr>
              <a:t>http://www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itu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int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rebuchet MS"/>
                <a:hlinkClick r:id="rId5"/>
              </a:rPr>
              <a:t>/ITU-T/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permanent organ of the United Nations System (refer to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rebuchet MS"/>
                <a:hlinkClick r:id="rId6"/>
              </a:rPr>
              <a:t>http://www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rebuchet MS"/>
                <a:hlinkClick r:id="rId7"/>
              </a:rPr>
              <a:t>unsystem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rebuchet MS"/>
                <a:hlinkClick r:id="rId8"/>
              </a:rPr>
              <a:t>.org/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39D75-413C-4E6F-B4D2-E909350E610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A6493B7-1737-4C30-A0A6-4A7FCA969E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A Little About the Origins…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H.323 was originally scoped to be a protocol for the Local Area Network (1996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8" name="j0189197" descr=""/>
          <p:cNvPicPr/>
          <p:nvPr/>
        </p:nvPicPr>
        <p:blipFill>
          <a:blip r:embed="rId1"/>
          <a:stretch/>
        </p:blipFill>
        <p:spPr>
          <a:xfrm>
            <a:off x="1268280" y="5334120"/>
            <a:ext cx="1474920" cy="765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344600" y="480060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j0189197" descr=""/>
          <p:cNvPicPr/>
          <p:nvPr/>
        </p:nvPicPr>
        <p:blipFill>
          <a:blip r:embed="rId2"/>
          <a:stretch/>
        </p:blipFill>
        <p:spPr>
          <a:xfrm>
            <a:off x="7288200" y="3733920"/>
            <a:ext cx="1474920" cy="76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685960" y="4800600"/>
            <a:ext cx="419040" cy="933480"/>
          </a:xfrm>
          <a:custGeom>
            <a:avLst/>
            <a:gdLst/>
            <a:ahLst/>
            <a:rect l="l" t="t" r="r" b="b"/>
            <a:pathLst>
              <a:path w="264" h="569">
                <a:moveTo>
                  <a:pt x="0" y="569"/>
                </a:moveTo>
                <a:cubicBezTo>
                  <a:pt x="16" y="567"/>
                  <a:pt x="69" y="566"/>
                  <a:pt x="93" y="553"/>
                </a:cubicBezTo>
                <a:cubicBezTo>
                  <a:pt x="109" y="544"/>
                  <a:pt x="124" y="532"/>
                  <a:pt x="140" y="522"/>
                </a:cubicBezTo>
                <a:cubicBezTo>
                  <a:pt x="148" y="517"/>
                  <a:pt x="163" y="506"/>
                  <a:pt x="163" y="506"/>
                </a:cubicBezTo>
                <a:cubicBezTo>
                  <a:pt x="193" y="421"/>
                  <a:pt x="185" y="462"/>
                  <a:pt x="171" y="320"/>
                </a:cubicBezTo>
                <a:cubicBezTo>
                  <a:pt x="167" y="283"/>
                  <a:pt x="155" y="211"/>
                  <a:pt x="155" y="211"/>
                </a:cubicBezTo>
                <a:cubicBezTo>
                  <a:pt x="162" y="123"/>
                  <a:pt x="158" y="101"/>
                  <a:pt x="225" y="55"/>
                </a:cubicBezTo>
                <a:cubicBezTo>
                  <a:pt x="236" y="23"/>
                  <a:pt x="250" y="27"/>
                  <a:pt x="264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1880" y="4083120"/>
            <a:ext cx="584280" cy="711000"/>
          </a:xfrm>
          <a:custGeom>
            <a:avLst/>
            <a:gdLst/>
            <a:ahLst/>
            <a:rect l="l" t="t" r="r" b="b"/>
            <a:pathLst>
              <a:path w="368" h="448">
                <a:moveTo>
                  <a:pt x="210" y="12"/>
                </a:moveTo>
                <a:cubicBezTo>
                  <a:pt x="257" y="0"/>
                  <a:pt x="303" y="4"/>
                  <a:pt x="350" y="20"/>
                </a:cubicBezTo>
                <a:cubicBezTo>
                  <a:pt x="353" y="28"/>
                  <a:pt x="358" y="35"/>
                  <a:pt x="358" y="43"/>
                </a:cubicBezTo>
                <a:cubicBezTo>
                  <a:pt x="358" y="85"/>
                  <a:pt x="368" y="135"/>
                  <a:pt x="342" y="168"/>
                </a:cubicBezTo>
                <a:cubicBezTo>
                  <a:pt x="287" y="240"/>
                  <a:pt x="184" y="248"/>
                  <a:pt x="101" y="269"/>
                </a:cubicBezTo>
                <a:cubicBezTo>
                  <a:pt x="60" y="297"/>
                  <a:pt x="49" y="286"/>
                  <a:pt x="31" y="339"/>
                </a:cubicBezTo>
                <a:cubicBezTo>
                  <a:pt x="28" y="355"/>
                  <a:pt x="27" y="371"/>
                  <a:pt x="23" y="386"/>
                </a:cubicBezTo>
                <a:cubicBezTo>
                  <a:pt x="18" y="410"/>
                  <a:pt x="0" y="424"/>
                  <a:pt x="0" y="4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87800" y="44956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al Area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59600" y="4819680"/>
            <a:ext cx="334800" cy="1074600"/>
          </a:xfrm>
          <a:custGeom>
            <a:avLst/>
            <a:gdLst/>
            <a:ahLst/>
            <a:rect l="l" t="t" r="r" b="b"/>
            <a:pathLst>
              <a:path w="211" h="677">
                <a:moveTo>
                  <a:pt x="171" y="677"/>
                </a:moveTo>
                <a:cubicBezTo>
                  <a:pt x="176" y="659"/>
                  <a:pt x="183" y="641"/>
                  <a:pt x="187" y="622"/>
                </a:cubicBezTo>
                <a:cubicBezTo>
                  <a:pt x="193" y="594"/>
                  <a:pt x="202" y="537"/>
                  <a:pt x="202" y="537"/>
                </a:cubicBezTo>
                <a:cubicBezTo>
                  <a:pt x="196" y="475"/>
                  <a:pt x="211" y="474"/>
                  <a:pt x="171" y="443"/>
                </a:cubicBezTo>
                <a:cubicBezTo>
                  <a:pt x="156" y="432"/>
                  <a:pt x="125" y="412"/>
                  <a:pt x="125" y="412"/>
                </a:cubicBezTo>
                <a:cubicBezTo>
                  <a:pt x="104" y="381"/>
                  <a:pt x="88" y="367"/>
                  <a:pt x="54" y="350"/>
                </a:cubicBezTo>
                <a:cubicBezTo>
                  <a:pt x="33" y="318"/>
                  <a:pt x="12" y="284"/>
                  <a:pt x="0" y="249"/>
                </a:cubicBezTo>
                <a:cubicBezTo>
                  <a:pt x="16" y="201"/>
                  <a:pt x="67" y="152"/>
                  <a:pt x="70" y="101"/>
                </a:cubicBezTo>
                <a:cubicBezTo>
                  <a:pt x="72" y="67"/>
                  <a:pt x="70" y="34"/>
                  <a:pt x="7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13080" y="3659040"/>
            <a:ext cx="1136520" cy="1135080"/>
          </a:xfrm>
          <a:custGeom>
            <a:avLst/>
            <a:gdLst/>
            <a:ahLst/>
            <a:rect l="l" t="t" r="r" b="b"/>
            <a:pathLst>
              <a:path w="716" h="715">
                <a:moveTo>
                  <a:pt x="0" y="256"/>
                </a:moveTo>
                <a:cubicBezTo>
                  <a:pt x="8" y="200"/>
                  <a:pt x="27" y="139"/>
                  <a:pt x="47" y="85"/>
                </a:cubicBezTo>
                <a:cubicBezTo>
                  <a:pt x="53" y="69"/>
                  <a:pt x="64" y="41"/>
                  <a:pt x="86" y="38"/>
                </a:cubicBezTo>
                <a:cubicBezTo>
                  <a:pt x="130" y="32"/>
                  <a:pt x="174" y="33"/>
                  <a:pt x="218" y="30"/>
                </a:cubicBezTo>
                <a:cubicBezTo>
                  <a:pt x="312" y="0"/>
                  <a:pt x="355" y="9"/>
                  <a:pt x="467" y="15"/>
                </a:cubicBezTo>
                <a:cubicBezTo>
                  <a:pt x="557" y="81"/>
                  <a:pt x="536" y="75"/>
                  <a:pt x="662" y="85"/>
                </a:cubicBezTo>
                <a:cubicBezTo>
                  <a:pt x="708" y="148"/>
                  <a:pt x="691" y="119"/>
                  <a:pt x="716" y="170"/>
                </a:cubicBezTo>
                <a:cubicBezTo>
                  <a:pt x="710" y="197"/>
                  <a:pt x="705" y="239"/>
                  <a:pt x="685" y="264"/>
                </a:cubicBezTo>
                <a:cubicBezTo>
                  <a:pt x="649" y="309"/>
                  <a:pt x="609" y="341"/>
                  <a:pt x="576" y="388"/>
                </a:cubicBezTo>
                <a:cubicBezTo>
                  <a:pt x="551" y="499"/>
                  <a:pt x="539" y="567"/>
                  <a:pt x="646" y="622"/>
                </a:cubicBezTo>
                <a:cubicBezTo>
                  <a:pt x="663" y="654"/>
                  <a:pt x="661" y="697"/>
                  <a:pt x="677" y="71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92720" y="3581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Or was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163120" descr=""/>
          <p:cNvPicPr/>
          <p:nvPr/>
        </p:nvPicPr>
        <p:blipFill>
          <a:blip r:embed="rId3"/>
          <a:stretch/>
        </p:blipFill>
        <p:spPr>
          <a:xfrm>
            <a:off x="6373800" y="5257800"/>
            <a:ext cx="1085760" cy="1074600"/>
          </a:xfrm>
          <a:prstGeom prst="rect">
            <a:avLst/>
          </a:prstGeom>
          <a:ln w="0">
            <a:noFill/>
          </a:ln>
        </p:spPr>
      </p:pic>
      <p:pic>
        <p:nvPicPr>
          <p:cNvPr id="108" name="j0163120" descr=""/>
          <p:cNvPicPr/>
          <p:nvPr/>
        </p:nvPicPr>
        <p:blipFill>
          <a:blip r:embed="rId4"/>
          <a:stretch/>
        </p:blipFill>
        <p:spPr>
          <a:xfrm>
            <a:off x="1420920" y="3505320"/>
            <a:ext cx="1085760" cy="107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09DC0-57D2-46C8-8681-F0EA61382DF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2C6045F-F299-4CB2-8018-A47F214447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Origins (cont.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e first thing people tried to do was use H.323 in wide area networks, large private VoIP networks, and over the Interne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1" name="j0234774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467080" cy="2590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2606760" y="4572000"/>
            <a:ext cx="19810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nd it worked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EFEEA-78F3-4426-BD37-7806D183755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322D065-FC0D-40A6-98F0-0E95B76432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Origins (cont.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H.323 was an early adopter of such IETF protocols as RTP, which proved its ability to carry real-time audio and video over IP networks that span the glob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ndeed, H.323 was much more than a LAN protoco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5" name="j0174012" descr=""/>
          <p:cNvPicPr/>
          <p:nvPr/>
        </p:nvPicPr>
        <p:blipFill>
          <a:blip r:embed="rId1"/>
          <a:stretch/>
        </p:blipFill>
        <p:spPr>
          <a:xfrm>
            <a:off x="6640560" y="5081760"/>
            <a:ext cx="1006560" cy="100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17ECA-C614-4699-B450-ED334692AC4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5AC0567-451E-4814-A359-21FA8EFF24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Origins (cont.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Recognizing that H.323 was much more than a LAN protocol, evolution and improvement of the H.323 protocol continued (and is continuing) within the ITU-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2CA6-F679-420F-90DD-60AC462DB2A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C1B2DBC-9196-4397-B19A-88AE3578A2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H.323 versus H.320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.320 is similar to the H.323 protocol in that it provides voice, video, and data communication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.323 differs in that it is designed for communication over a packet-switched network, such as the Internet, an enterprise LAN, or other IP-based network, whereas H.320 is designed for use over ISD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hy H.323 over H.320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SDN is inexpensive to own, but expensive to use… The availability of flat-rate pricing for IP videoconferencing, on the other hand, allows calls at bandwidths too expensive for ISDN, including some IP calls up to 2 Mbps and beyond.” 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– “Frequently Asked Questions About Voice and Video over IP Networks”, Wainhouse Research and Margalla Communications (January 2003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n IP network in the enterprise may be utilized for voice, video, and data, thus potentially lowering the overall communications (both capital expenses and operational expenses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H.323 equipment can utilize existing IP-based services, including IP-based voicemail services, LDAP directories, DNS, web-based collaborative tools, etc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9DDA-2C56-4A9D-97CB-B398E256333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3BA576A-D6AC-452B-AC2F-7495F7CBF9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Evolutionary History of H.323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.323 version 1 was first approved in 1996, with a focus on enterprise voice, video, and data collaborati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.323 version 2 was approved in 1998, with a focus on “Internet Telephony”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.323 version 3 was approved in 1999 with incremental improvement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.323 version 4 was approved in 2000 with major enhancements focused on the requirements of service provider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.323 version 5 (scheduled for approval in May 2003) focuses on maturity and stabilit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FD4D3-695C-4691-A290-3C7959E0FF3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B5EBF36-C1CE-4E0A-8106-6C81451370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1:23:27Z</dcterms:created>
  <dc:creator>TSB</dc:creator>
  <dc:description/>
  <dc:language>en-US</dc:language>
  <cp:lastModifiedBy>Paul E. Jones</cp:lastModifiedBy>
  <cp:lastPrinted>2001-03-15T13:10:50Z</cp:lastPrinted>
  <dcterms:modified xsi:type="dcterms:W3CDTF">2003-04-25T02:20:54Z</dcterms:modified>
  <cp:revision>144</cp:revision>
  <dc:subject/>
  <dc:title>afaefafe</dc:title>
</cp:coreProperties>
</file>