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45F6-18A7-40E9-942F-F68A91DC9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9BB1-7E46-41DF-AB3E-4115F74A6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095F-3D75-4DAE-B531-96B758E4E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505E-602A-433E-8A30-3D4B3A3EC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950E-AD10-4551-8A7B-30B77EE0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6C62-9D35-4B5D-A050-6F8791B3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334B-687A-49A6-9959-44AAD90C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DBD2-09CE-4BC0-9307-F2F6BA09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85BE4-0752-49C8-A253-12D582D34D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C561C-55E8-4832-829F-C0B2212694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F71C2-A107-475B-BC84-5DAB8B1EFC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DC295-EB6D-4DC2-B510-9BD32AACE1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63654-22FF-4FEA-BBDE-30B0942859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88A5F-E81B-4C83-AECE-07584FC4F8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A7C19-53DA-4A03-A3A3-75EEAF7BA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4046-9C77-44CB-82C2-86FBD65A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C7591-17AA-474E-A433-3EA0039A64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D4DF7-B12B-487E-BE61-9B3E0B670B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288D7-22C7-4C2B-BBB3-5CAD3594C5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7EB3D-26BD-46CD-93C3-7F59B153CC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2EA86-55EC-40F0-948C-D37474A6D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4A22-D5D7-4353-AF4A-91A30332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BBFD-C51A-46A1-AED4-F2C37C7F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9589-DA55-43DC-9D46-72E0B104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4B97-5806-4287-870B-A56E3A3C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893E-ABEE-4B0D-9C6D-1690905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F5F3-C621-4565-9F15-BEB676FB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CDC4-4854-48CC-8D43-27E05874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CD90-62A2-4747-B327-90E8471504FD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29A7EA79-27ED-44AA-AD3C-24204B984D5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23-25 Ma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5f1ff"/>
                </a:solidFill>
                <a:latin typeface="Trebuchet MS"/>
              </a:rPr>
              <a:t>Security needs in telemedicine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5f1ff"/>
                </a:solidFill>
                <a:latin typeface="Trebuchet MS"/>
              </a:rPr>
              <a:t>Philippe Feuerstein, MD</a:t>
            </a: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5f1ff"/>
                </a:solidFill>
                <a:latin typeface="Trebuchet MS"/>
              </a:rPr>
              <a:t>Centre Hospitalier de Mulhouse, France</a:t>
            </a: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5f1ff"/>
                </a:solidFill>
                <a:latin typeface="Trebuchet MS"/>
              </a:rPr>
              <a:t>feuersteinp@ch-mulhouse.fr</a:t>
            </a: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fidentiality  (3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r most health professionals , confidentiality is an ethical du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most countries, confidentiality is a legal obligation, but demanded level is variable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tection A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uropean Data Protection Directive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95/46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alth Insurance Portability and Accountability A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fidentiality  (4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fidentiality can be obtained by use of cryptographic servi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many countries, legal restrictions apply to cryptography materia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andardization challenge: to find a common algorithm, strong enough to be safe but law compliant in most if all cou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uthentication (1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r most documents, authenticity is bound to the presence of an authorized handwritten signat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ven photocopies are worth noth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o find an equivalent of handwritten signature for a digital document is a difficult problem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uthentication (2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s necessary to find a system, dealing with digital document, having these capabiliti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eceiver can verify that the issuer is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eally  who he claims to b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issuer cannot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ubsequently refute the docu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eceiver, or any third party, cannot have made himself the docu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 date stamp of the document creation is recor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uthentication (3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symmetric public-key infrastructure (PKI) cryptography fulfills the needs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fortunately, no PKI standard is universally recogniz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more and more countries, the validity of digital signature is legally recognized if the system used meets defined criteria (e.g.: Electronic Signatures and Records Act)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grity (1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ing transfer or storage, data should not be modified voluntarily or accidentall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dification of conventional data are generally pretty obvious: erasing words in a letter, scratch on a plain film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tuation is different with numerical dat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grity (2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2080" y="1628640"/>
            <a:ext cx="750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al kidney stone or graphical trick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32080" y="4116240"/>
            <a:ext cx="750240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12680" y="2373480"/>
            <a:ext cx="8929440" cy="3791880"/>
            <a:chOff x="112680" y="2373480"/>
            <a:chExt cx="8929440" cy="379188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12680" y="2373480"/>
              <a:ext cx="4413240" cy="37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4628880" y="2373480"/>
              <a:ext cx="4413240" cy="379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grity (3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2080" y="1628640"/>
            <a:ext cx="750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ame document with 10% random nois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32080" y="4116240"/>
            <a:ext cx="750240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08000" y="2373480"/>
            <a:ext cx="8928000" cy="3792240"/>
            <a:chOff x="108000" y="2373480"/>
            <a:chExt cx="8928000" cy="379224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108000" y="2373480"/>
              <a:ext cx="4413240" cy="37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4633920" y="2373480"/>
              <a:ext cx="4402080" cy="377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grity (4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tegrity can be compared to sending a postcard on which a plastic cover has been applied: everybody can read it, but nobody can modify it without leaving a visible ma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tegrity of both data ( misc. recording, imaging) and medical report is needed; ideally, they should be attached and inseparabl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vail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Data must be accessible and usable upon demand by an authorised user, with an acceptable waiting tim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The time used include the whole cycle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retriev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Signature, encryp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cryption, integrity che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roduc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w technologies widely improve the ability to electronically record, store, transfer and share medical dat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haring data by telemedicine is fast and cheap (at least, compared to classical methods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ore and more participants are involved  in this electronic data flow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udit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the health multi-user environment, an authorized person may also access to information in situation when he is not concern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en transmitting, it is necessary to have a proof that sending, receiving and using data effectively occurr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imed chronology has also to be know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nonym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asily sharing data via telemedicine enable large scale multicentric stud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dividual patient data are used for common benefit; privacy must be preserved and data anonymization is a basic rule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 unique identifier is necessary but no standard exists on how to anonymize dat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Verdana"/>
              </a:rPr>
              <a:t>Copyright protection</a:t>
            </a:r>
            <a:endParaRPr b="1" lang="en-US" sz="31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r educational or informational purpose, more and more data are available onlin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t is often forgotten that something  available online should not be systematically freely used by anyon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atermarking of document is a possible solution against « cyberplagiarism »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ultimate security ?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w technologies should be better than old on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term of security, we wish a  ”data auto destruction mechanism” in case of attempt of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teration (voluntary or accidental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f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closure or any improper us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clus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urity issues are numerous and of primordial importance in telemedicin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ircumventing them is one of the key point for the success of telemedicin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ost of these issues can be addressed by cryptographic services and use of PKI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ack of standardization is a major drawbac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5f1ff"/>
                </a:solidFill>
                <a:latin typeface="Trebuchet MS"/>
              </a:rPr>
              <a:t>Thank you for your attention! </a:t>
            </a:r>
            <a:br>
              <a:rPr sz="4800"/>
            </a:b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-health channel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Physician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Healthcare professiona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Pati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Government agenc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Public health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Law enforce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Insurance compan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Registry offi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ndardiz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en talking about standardization, hardware and software are taken into accou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ver underestimate the need of standardizing “manware”: if the different actors don’t have similar goals or expectations, nothing will have satisfactory results and security flaws will aris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y security needs?</a:t>
            </a:r>
            <a:r>
              <a:rPr b="1" lang="fr-FR" sz="3200" spc="-1" strike="noStrike">
                <a:solidFill>
                  <a:srgbClr val="000066"/>
                </a:solidFill>
                <a:latin typeface="Verdana"/>
              </a:rPr>
              <a:t> (1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-health must: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sure physical and logical data protectio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serve the use of data from obsolete technologies with a safe way to migrate from analog to numeric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form to legal and ethical rules: privacy, consent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y security needs?</a:t>
            </a:r>
            <a:r>
              <a:rPr b="1" lang="fr-FR" sz="3200" spc="-1" strike="noStrike">
                <a:solidFill>
                  <a:srgbClr val="000066"/>
                </a:solidFill>
                <a:latin typeface="Verdana"/>
              </a:rPr>
              <a:t> (2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-health must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 health professionals whenever a medical case turns to a legal ca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al with the presence of third party: transfer operator, storage opera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 copyrig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ardware Security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ual safety measure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rdware prote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backu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fidentiality  (1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Keeping secure and secret information concerning an individual, guaranteeing his right to privac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atient information is confidential and should not be disclosed without consent unless justified for lawful purpos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fidentiality  (2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surance companies obtaining medical information on policyholders could misuse it to deny coverage or clai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tential employers obtaining health information on current or potential employees could misuse it to fire or not employ a per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litician obtaining health information on opponents could misuse it for unfair attack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8:57:16Z</dcterms:created>
  <dc:creator>Philippe</dc:creator>
  <dc:description/>
  <dc:language>en-US</dc:language>
  <cp:lastModifiedBy>Philippe</cp:lastModifiedBy>
  <dcterms:modified xsi:type="dcterms:W3CDTF">2003-05-21T21:16:03Z</dcterms:modified>
  <cp:revision>52</cp:revision>
  <dc:subject/>
  <dc:title>Diapositive 1</dc:title>
</cp:coreProperties>
</file>