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6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1.png" ContentType="image/png"/>
  <Override PartName="/ppt/media/image14.wmf" ContentType="image/x-wmf"/>
  <Override PartName="/ppt/media/image29.png" ContentType="image/png"/>
  <Override PartName="/ppt/media/image2.wmf" ContentType="image/x-wmf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EB1-C2F4-4CA4-879F-A80AEE79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F73-5F2C-4BDA-831C-CC1FCFE1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E5D-0BB7-435D-92BA-9B9767A8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430-B225-474C-A667-3D3FA205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285B-445C-4F50-AE6E-C19FC9A3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73CB-BAD3-4D6B-85DD-66AC4C7B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8E1F-08F5-453E-B010-7A8CCE14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BC2E-AD3E-459D-9EFF-F189DF3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400F-19C1-43C9-ADD7-2199114A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E60F-BD66-4070-BCDB-897B7604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51D1-102A-4350-9901-BB0C024D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E8F-A454-4F5B-9EC1-0D27C030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7DFB-9D40-47E4-9006-8090F970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1E84-CE4F-492E-A2C3-92F5287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9FA7-891A-4107-9290-FA3EA9DA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EF9F-E3D3-436D-BF9A-AEC2D2F3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863E-E2BD-46AB-B7D1-C276AC8C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9A9-EBF6-4786-91B7-A8B84660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6A5-AB13-40DB-A578-EA3737D2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2B3-AD25-4992-A5AA-FB81E433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815-9F1D-450D-81FB-FA24D4A9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B4F-6C32-46DE-A593-3ECCB593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13C-66F7-4DE1-BB41-D4445B6F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CC1-550A-4665-A359-B27138C8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4F4F-2AFF-4CA0-8872-B6B2835A3E07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B8A1-399C-4D18-8562-BEDB17735B1F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image" Target="../media/image24.jpeg"/><Relationship Id="rId8" Type="http://schemas.openxmlformats.org/officeDocument/2006/relationships/image" Target="../media/image27.jpe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863640"/>
            <a:ext cx="82915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Towards standards for management and transmission of medical data in web technology</a:t>
            </a:r>
            <a:br>
              <a:rPr sz="4000"/>
            </a:br>
            <a:br>
              <a:rPr sz="4000"/>
            </a:br>
            <a:r>
              <a:rPr b="1" i="1" lang="en-AU" sz="4400" spc="-1" strike="noStrike">
                <a:solidFill>
                  <a:srgbClr val="003366"/>
                </a:solidFill>
                <a:latin typeface="Times New Roman"/>
              </a:rPr>
              <a:t>Francesco Sicurello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860640"/>
            <a:ext cx="82296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sident of @ITIM, Italian Association on Telemedicine and Medical Informatics;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National Research Council-Institute of Biomedical Technologies, Milan;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Health Directorate, Lombardia Region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707-E79F-4278-9142-CB2B38A573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MEDICAL RECOR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MR </a:t>
            </a: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IS THE COLLECTION OF PATIENT DATA USEFUL TO DIAGNOSIS AND CA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MR CAN B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HEALTH BOOKL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OUTPATIENT CLINIC CA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CLINICAL CHA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EEA-2E7D-4B69-9ECB-711B4D5BE3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76720" y="457200"/>
            <a:ext cx="2590560" cy="5335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Clinical recor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447920"/>
            <a:ext cx="1676160" cy="68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nagraphic cha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1371600"/>
            <a:ext cx="1676520" cy="5335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Anamnes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1143000"/>
            <a:ext cx="2133360" cy="838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Transfer an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dischar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438280"/>
            <a:ext cx="1295280" cy="5335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Dia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429000"/>
            <a:ext cx="1524240" cy="3808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4114800"/>
            <a:ext cx="1295280" cy="4572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Dia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3352680"/>
            <a:ext cx="1295280" cy="4572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Therap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4038480"/>
            <a:ext cx="1371600" cy="6098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Refer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952880"/>
            <a:ext cx="1600200" cy="4572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Familia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876920"/>
            <a:ext cx="2057400" cy="5331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Physiologic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715000"/>
            <a:ext cx="2057400" cy="3808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Remote patholog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5638680"/>
            <a:ext cx="2286000" cy="4572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Near patholog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514600"/>
            <a:ext cx="1752840" cy="5335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Objectivit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3505320"/>
            <a:ext cx="1904760" cy="6094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Particula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572000"/>
            <a:ext cx="1523880" cy="68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209680" y="990720"/>
            <a:ext cx="99072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990720"/>
            <a:ext cx="60984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30481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114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0" cy="2971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1905120"/>
            <a:ext cx="0" cy="2971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54100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4100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29718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297180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38098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24680" y="38098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0" y="990720"/>
            <a:ext cx="3276720" cy="220968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990720"/>
            <a:ext cx="3276720" cy="220968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-360" y="3048120"/>
            <a:ext cx="609480" cy="25146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562720"/>
            <a:ext cx="2590920" cy="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8120"/>
            <a:ext cx="304560" cy="259056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33360" y="1371600"/>
            <a:ext cx="1523880" cy="49528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1600200"/>
            <a:ext cx="2210040" cy="480060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6324480"/>
            <a:ext cx="548640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038480" y="2438280"/>
            <a:ext cx="2438640" cy="228600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724280"/>
            <a:ext cx="525780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2438280"/>
            <a:ext cx="1371600" cy="121932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C83-584C-410C-BECD-5208EB1595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8000" y="1143000"/>
            <a:ext cx="2305080" cy="7621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EDICAL RECOR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80880"/>
            <a:ext cx="2057400" cy="5335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ercorso del medic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1371600"/>
            <a:ext cx="12193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ercorso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l pazien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990720"/>
            <a:ext cx="1676520" cy="838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rvizio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fermier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2362320"/>
            <a:ext cx="2743200" cy="68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aboratori 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rvizi diagnostic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276720"/>
            <a:ext cx="2209680" cy="6094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armac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4191120"/>
            <a:ext cx="2743200" cy="68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rvizi Amministrativ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5105520"/>
            <a:ext cx="2743200" cy="5331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irezione Sanitar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19920"/>
            <a:ext cx="2210040" cy="5331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mbulator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6094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609480"/>
            <a:ext cx="1143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066680" y="2057040"/>
            <a:ext cx="0" cy="4267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6400800"/>
            <a:ext cx="39625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410080"/>
            <a:ext cx="3810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495680"/>
            <a:ext cx="3733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505320"/>
            <a:ext cx="3886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743200"/>
            <a:ext cx="3810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9144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657600" y="99072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571640" y="457200"/>
            <a:ext cx="1143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4572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15000" y="182844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114440" y="2133720"/>
            <a:ext cx="1523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209680"/>
            <a:ext cx="4038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2286000"/>
            <a:ext cx="0" cy="4038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848360" y="266688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695720" y="632448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352680" y="2282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228600"/>
            <a:ext cx="5257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610480" y="228600"/>
            <a:ext cx="0" cy="33526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96080" y="3581280"/>
            <a:ext cx="9144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14E-0250-4543-8F83-6E8878A606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Health/Clinical </a:t>
            </a:r>
            <a:br>
              <a:rPr sz="4400"/>
            </a:b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Information System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AD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Ward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Outpatient clini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Diagnostics/therapeutical divisions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Emergency ca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99A-0F95-46CE-BB01-9E43BC4D0B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Clinical Information System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Support patient activity of care (diagnosis/therap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Maintain hystorical databa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Are not CI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patient monitoring ssystem (not hystorical D.B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Research protocol and clinical trials (does not support care activit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717-BDCA-4ED5-AB41-CA8A974544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Information Syst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P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rocedures for management of information flow in an organized structure useful to decision and programming activiti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- Data management: collection, archiving,  exchange, processing, retrieval, communication of data.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Elements of I.S.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anagement procedures (SW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Human activit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Features of I.S.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epending  by organizatio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Open proc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hangement  sui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DCA-3240-4E9C-87D4-548893AD51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752480" y="1371600"/>
            <a:ext cx="5722920" cy="5227560"/>
            <a:chOff x="1752480" y="1371600"/>
            <a:chExt cx="5722920" cy="5227560"/>
          </a:xfrm>
        </p:grpSpPr>
        <p:sp>
          <p:nvSpPr>
            <p:cNvPr id="216" name=""/>
            <p:cNvSpPr/>
            <p:nvPr/>
          </p:nvSpPr>
          <p:spPr>
            <a:xfrm>
              <a:off x="1752480" y="1371600"/>
              <a:ext cx="5722920" cy="522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94760" y="1592640"/>
              <a:ext cx="2560320" cy="480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9760" y="1592640"/>
              <a:ext cx="2468880" cy="480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69080" y="1802160"/>
              <a:ext cx="201168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66"/>
                  </a:solidFill>
                  <a:latin typeface="Times New Roman"/>
                </a:rPr>
                <a:t>Area Clinico- Sanitari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4080" y="1802160"/>
              <a:ext cx="201168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66"/>
                  </a:solidFill>
                  <a:latin typeface="Times New Roman"/>
                </a:rPr>
                <a:t>Area Amministrativ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77640" y="2535480"/>
              <a:ext cx="192024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Anagrafica Pazient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77640" y="3164400"/>
              <a:ext cx="8971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Program- mazione operativ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49440" y="3164400"/>
              <a:ext cx="7484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Attività operativ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89680" y="2535480"/>
              <a:ext cx="17373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Fatturazione e incass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89680" y="3164400"/>
              <a:ext cx="1828800" cy="122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3366"/>
                  </a:solidFill>
                  <a:latin typeface="Times New Roman"/>
                </a:rPr>
                <a:t>Controllo direzional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Simulazion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Reporting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Budget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01360" y="2535480"/>
              <a:ext cx="914400" cy="24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Contabilità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General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ed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Analitic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27040" y="2640240"/>
              <a:ext cx="27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77640" y="4735800"/>
              <a:ext cx="37494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Prestazioni Interne e Repart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27040" y="4840920"/>
              <a:ext cx="27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49600" y="4002480"/>
              <a:ext cx="0" cy="73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17720" y="4002480"/>
              <a:ext cx="0" cy="73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23920" y="4002480"/>
              <a:ext cx="0" cy="73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01360" y="54727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Altri sottosistem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39840" y="50292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89680" y="5891760"/>
              <a:ext cx="173736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Farmaci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27040" y="6101280"/>
              <a:ext cx="27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77640" y="5523480"/>
              <a:ext cx="914400" cy="78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Sistemi di supporto Clinico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75280" y="5523480"/>
              <a:ext cx="822960" cy="78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Servizi tecnico Sanitar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49600" y="5050440"/>
              <a:ext cx="0" cy="4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17720" y="5050440"/>
              <a:ext cx="0" cy="4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23920" y="5050440"/>
              <a:ext cx="0" cy="4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33320" y="5050440"/>
              <a:ext cx="0" cy="4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24680" y="4023360"/>
              <a:ext cx="0" cy="73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75120" y="3548520"/>
              <a:ext cx="27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990720" y="9907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Scheme of HIS Information flow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3729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0"/>
            <a:ext cx="76960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Hospital Information Syste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3366"/>
                </a:solidFill>
                <a:latin typeface="Times New Roman"/>
              </a:rPr>
              <a:t>Main components: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Times New Roman"/>
              </a:rPr>
              <a:t>Administrative information sub-syste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Times New Roman"/>
              </a:rPr>
              <a:t>Health/Clinical information sub-syste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3ED-8A81-4200-A4C0-34EE48E69D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052640" y="277920"/>
          <a:ext cx="7038720" cy="58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277920"/>
                    <a:ext cx="703872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F27-0BE7-4398-8F60-7DE710FC9D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229600" cy="5670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981080" y="61722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Radiological Syste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043-46AA-4DD2-ABFC-DE5F1C6C50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EDIS-Emergency Department </a:t>
            </a:r>
            <a:br>
              <a:rPr sz="3200"/>
            </a:b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Information System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Hospital Sub-System for delivery services to respond immediatly to emergency care 24 hours/2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ervices involv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Administrat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Diagnostic depart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W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……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407-ADD1-43F6-9C2F-17DB9E666B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cc"/>
                </a:solidFill>
                <a:latin typeface="Times New Roman"/>
              </a:rPr>
              <a:t>Medicine challeng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ncrease of elderly peopl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ronical dise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ardiovascular dise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anc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Neuropatholog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nfectious disea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Genetic causes of disea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Diseases prevention (epidemiolog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Rehabili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Home care assista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Citizens/patients ask for more inform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99F-8F0C-4B13-85AF-B8AF5A6685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2666880" y="1219320"/>
          <a:ext cx="609120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219320"/>
                    <a:ext cx="609120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28600" y="1219320"/>
            <a:ext cx="289548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Information flow abou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dmission/discharg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Clinical inf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Injury surveillan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Triage dat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Patient expec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Patient aler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Waiting list overvie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Daily li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Transfer detail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179-911B-4C6A-AB5F-876B161C3C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Medical record/electronic patient re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center of health information system useful for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clinical practi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medical educ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MR/EP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Is present i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- Patient registration/booking servic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- ADT hospital system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- Clinical laboratori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- Radiological diagnostic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Outpatient clini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……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Record link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gration of medical record into 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- Data base in health care is main component of Health Information System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E41-9B6A-444D-9BF0-4D47A3622D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143000" y="380880"/>
          <a:ext cx="7027920" cy="62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702792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28600" y="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Integration of HIS -Intran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D0C-4E8F-4B87-BB18-002471C1AA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York"/>
                <a:ea typeface="Times New Roman"/>
              </a:rPr>
              <a:t>MEDICAL RECORD AND PATIENT DATA CAR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A MINIMUM BASIC DATA SET CAN BE EXTRACTED 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FROM THE MR AND STORED INTO A PDC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PDC  IS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- A PORTABLE MEDICAL RECOR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- RECORD LINKAGE AND COMMUNICATION TOO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PDC CAN BE USED AS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- DATA-LINKAGE AND STORAGE DEVIC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- ACCESS KEY TO DB OF MEDICAL INFORMATION 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SYSTEM AND HEALTH NETWORK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- INTEROPERABILITY SYSTEMS BETWEEN HEALTH 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SERVIC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C08-84DE-4C86-ADBF-0EBF539537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380880" y="306360"/>
          <a:ext cx="8229600" cy="61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6360"/>
                    <a:ext cx="82296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204-E1DD-48E9-B86A-9AAF73D076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66"/>
                </a:solidFill>
                <a:latin typeface="Times New Roman"/>
                <a:ea typeface="Arial"/>
              </a:rPr>
              <a:t>Smart Card for Alzheimer patient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981080" y="2362320"/>
            <a:ext cx="5943240" cy="3366720"/>
            <a:chOff x="1981080" y="2362320"/>
            <a:chExt cx="5943240" cy="336672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1981080" y="2362320"/>
              <a:ext cx="5943240" cy="33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2554920" y="3562920"/>
              <a:ext cx="825120" cy="52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676520"/>
            <a:ext cx="2895480" cy="3808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Bull chip da 8 K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2133720"/>
            <a:ext cx="457200" cy="838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53E-384E-4AE8-AFB8-4299377DC6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ybrid card for neurological patient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093680" y="1600200"/>
          <a:ext cx="69534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1600200"/>
                    <a:ext cx="6953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432-7EA8-4153-A0A9-10F9151967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412200" y="3261600"/>
            <a:ext cx="3092760" cy="1037520"/>
            <a:chOff x="412200" y="3261600"/>
            <a:chExt cx="3092760" cy="1037520"/>
          </a:xfrm>
        </p:grpSpPr>
        <p:sp>
          <p:nvSpPr>
            <p:cNvPr id="276" name=""/>
            <p:cNvSpPr/>
            <p:nvPr/>
          </p:nvSpPr>
          <p:spPr>
            <a:xfrm>
              <a:off x="412200" y="326160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omic Sans MS"/>
                </a:rPr>
                <a:t>Personal data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3880" y="3765600"/>
              <a:ext cx="198108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65280" y="4190760"/>
            <a:ext cx="3242520" cy="1356840"/>
            <a:chOff x="665280" y="4190760"/>
            <a:chExt cx="3242520" cy="1356840"/>
          </a:xfrm>
        </p:grpSpPr>
        <p:sp>
          <p:nvSpPr>
            <p:cNvPr id="279" name=""/>
            <p:cNvSpPr/>
            <p:nvPr/>
          </p:nvSpPr>
          <p:spPr>
            <a:xfrm>
              <a:off x="665280" y="5087880"/>
              <a:ext cx="32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Electronic signatur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644560" y="4190760"/>
              <a:ext cx="1068120" cy="75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019920" y="1219320"/>
            <a:ext cx="2819160" cy="825480"/>
          </a:xfrm>
          <a:prstGeom prst="rect">
            <a:avLst/>
          </a:prstGeom>
          <a:noFill/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Emergency health da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105520" y="1828800"/>
            <a:ext cx="838080" cy="53352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927040" y="3656520"/>
            <a:ext cx="3274560" cy="784440"/>
            <a:chOff x="5927040" y="3656520"/>
            <a:chExt cx="3274560" cy="784440"/>
          </a:xfrm>
        </p:grpSpPr>
        <p:sp>
          <p:nvSpPr>
            <p:cNvPr id="284" name=""/>
            <p:cNvSpPr/>
            <p:nvPr/>
          </p:nvSpPr>
          <p:spPr>
            <a:xfrm>
              <a:off x="5927040" y="365652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Comic Sans MS"/>
                </a:rPr>
                <a:t>Administrative health data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977080" y="4013640"/>
              <a:ext cx="1126800" cy="42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100120" y="4191120"/>
            <a:ext cx="1742760" cy="1377360"/>
            <a:chOff x="5100120" y="4191120"/>
            <a:chExt cx="1742760" cy="1377360"/>
          </a:xfrm>
        </p:grpSpPr>
        <p:sp>
          <p:nvSpPr>
            <p:cNvPr id="287" name=""/>
            <p:cNvSpPr/>
            <p:nvPr/>
          </p:nvSpPr>
          <p:spPr>
            <a:xfrm>
              <a:off x="5100120" y="5169600"/>
              <a:ext cx="174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omic Sans MS"/>
                </a:rPr>
                <a:t>Crypt ability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5763960" y="4191120"/>
              <a:ext cx="183960" cy="79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52280" y="228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REGIONAL SERVICE CAR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4495680"/>
            <a:ext cx="685800" cy="68580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895480" y="4495680"/>
            <a:ext cx="914400" cy="68580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3200400"/>
            <a:ext cx="1295280" cy="38088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3581280"/>
            <a:ext cx="1143000" cy="30492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1676520"/>
            <a:ext cx="838440" cy="68580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743200" y="2362320"/>
          <a:ext cx="335268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35268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2222280" y="1219320"/>
            <a:ext cx="2189520" cy="459720"/>
          </a:xfrm>
          <a:prstGeom prst="rect">
            <a:avLst/>
          </a:prstGeom>
          <a:noFill/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Prescrip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59436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Any other data is on the net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D1F-B302-4B8E-BEFB-09ADD65F986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765000"/>
            <a:ext cx="777240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Madison Wisconsin Smart Health Card Test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95280" y="1550880"/>
            <a:ext cx="1612800" cy="989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667640" y="1190520"/>
            <a:ext cx="1081080" cy="8319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812000" y="5367240"/>
            <a:ext cx="719280" cy="7416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924360" y="1477800"/>
            <a:ext cx="1297080" cy="1440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4653000"/>
            <a:ext cx="1297080" cy="1440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71640" y="3133800"/>
            <a:ext cx="1296720" cy="1439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80360" y="3062160"/>
            <a:ext cx="1297080" cy="1440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laptop"/>
          <p:cNvSpPr/>
          <p:nvPr/>
        </p:nvSpPr>
        <p:spPr>
          <a:xfrm>
            <a:off x="1763640" y="2125800"/>
            <a:ext cx="936720" cy="504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35280" y="15508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Times New Roman"/>
              </a:rPr>
              <a:t>Emergency ro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133800"/>
            <a:ext cx="3960720" cy="1441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140360" y="1550880"/>
            <a:ext cx="761760" cy="468360"/>
            <a:chOff x="4140360" y="1550880"/>
            <a:chExt cx="761760" cy="468360"/>
          </a:xfrm>
        </p:grpSpPr>
        <p:pic>
          <p:nvPicPr>
            <p:cNvPr id="311" name="" descr=""/>
            <p:cNvPicPr/>
            <p:nvPr/>
          </p:nvPicPr>
          <p:blipFill>
            <a:blip r:embed="rId4"/>
            <a:stretch/>
          </p:blipFill>
          <p:spPr>
            <a:xfrm>
              <a:off x="4140360" y="1550880"/>
              <a:ext cx="76176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5"/>
            <a:stretch/>
          </p:blipFill>
          <p:spPr>
            <a:xfrm>
              <a:off x="4213800" y="1717920"/>
              <a:ext cx="105480" cy="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"/>
          <p:cNvGrpSpPr/>
          <p:nvPr/>
        </p:nvGrpSpPr>
        <p:grpSpPr>
          <a:xfrm>
            <a:off x="4211640" y="4724280"/>
            <a:ext cx="762120" cy="468360"/>
            <a:chOff x="4211640" y="4724280"/>
            <a:chExt cx="762120" cy="468360"/>
          </a:xfrm>
        </p:grpSpPr>
        <p:pic>
          <p:nvPicPr>
            <p:cNvPr id="314" name="" descr=""/>
            <p:cNvPicPr/>
            <p:nvPr/>
          </p:nvPicPr>
          <p:blipFill>
            <a:blip r:embed="rId6"/>
            <a:stretch/>
          </p:blipFill>
          <p:spPr>
            <a:xfrm>
              <a:off x="4211640" y="4724280"/>
              <a:ext cx="7621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7"/>
            <a:stretch/>
          </p:blipFill>
          <p:spPr>
            <a:xfrm>
              <a:off x="4285080" y="4891320"/>
              <a:ext cx="105840" cy="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"/>
          <p:cNvGrpSpPr/>
          <p:nvPr/>
        </p:nvGrpSpPr>
        <p:grpSpPr>
          <a:xfrm>
            <a:off x="7667640" y="3206880"/>
            <a:ext cx="762120" cy="468360"/>
            <a:chOff x="7667640" y="3206880"/>
            <a:chExt cx="762120" cy="468360"/>
          </a:xfrm>
        </p:grpSpPr>
        <p:pic>
          <p:nvPicPr>
            <p:cNvPr id="317" name="" descr=""/>
            <p:cNvPicPr/>
            <p:nvPr/>
          </p:nvPicPr>
          <p:blipFill>
            <a:blip r:embed="rId8"/>
            <a:stretch/>
          </p:blipFill>
          <p:spPr>
            <a:xfrm>
              <a:off x="7667640" y="3206880"/>
              <a:ext cx="7621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9"/>
            <a:stretch/>
          </p:blipFill>
          <p:spPr>
            <a:xfrm>
              <a:off x="7741080" y="3373920"/>
              <a:ext cx="105840" cy="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"/>
          <p:cNvGrpSpPr/>
          <p:nvPr/>
        </p:nvGrpSpPr>
        <p:grpSpPr>
          <a:xfrm>
            <a:off x="1258920" y="3206880"/>
            <a:ext cx="762120" cy="468360"/>
            <a:chOff x="1258920" y="3206880"/>
            <a:chExt cx="762120" cy="468360"/>
          </a:xfrm>
        </p:grpSpPr>
        <p:pic>
          <p:nvPicPr>
            <p:cNvPr id="320" name="" descr=""/>
            <p:cNvPicPr/>
            <p:nvPr/>
          </p:nvPicPr>
          <p:blipFill>
            <a:blip r:embed="rId10"/>
            <a:stretch/>
          </p:blipFill>
          <p:spPr>
            <a:xfrm>
              <a:off x="1258920" y="3206880"/>
              <a:ext cx="7621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1"/>
            <a:stretch/>
          </p:blipFill>
          <p:spPr>
            <a:xfrm>
              <a:off x="1332360" y="3373920"/>
              <a:ext cx="105840" cy="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1042920" y="3854520"/>
            <a:ext cx="12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Personal data insurance data clinic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24360" y="2198520"/>
            <a:ext cx="12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Personal data insurance data clinic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80360" y="3782880"/>
            <a:ext cx="12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Personal data insurance data clinic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24360" y="5583240"/>
            <a:ext cx="12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Personal data insurance data clinic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2"/>
          <a:stretch/>
        </p:blipFill>
        <p:spPr>
          <a:xfrm>
            <a:off x="6300720" y="3422520"/>
            <a:ext cx="579600" cy="1016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3"/>
          <a:stretch/>
        </p:blipFill>
        <p:spPr>
          <a:xfrm>
            <a:off x="900000" y="4862520"/>
            <a:ext cx="1398600" cy="14778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4"/>
          <a:stretch/>
        </p:blipFill>
        <p:spPr>
          <a:xfrm>
            <a:off x="6732720" y="4791240"/>
            <a:ext cx="1090440" cy="1584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971640" y="6230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0" y="63752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Physici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5"/>
          <a:stretch/>
        </p:blipFill>
        <p:spPr>
          <a:xfrm>
            <a:off x="6588000" y="1190520"/>
            <a:ext cx="1308240" cy="14716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093080" y="2486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Pharmac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16360" y="3133800"/>
            <a:ext cx="33843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Smart health card central system   </a:t>
            </a: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card issuance                                  communication management              security management                          electronic billing                                 medical research track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34" name=""/>
          <p:cNvCxnSpPr/>
          <p:nvPr/>
        </p:nvCxnSpPr>
        <p:spPr>
          <a:xfrm>
            <a:off x="2340000" y="6014880"/>
            <a:ext cx="1440360" cy="145440"/>
          </a:xfrm>
          <a:prstGeom prst="curvedConnector5">
            <a:avLst>
              <a:gd name="adj1" fmla="val 49950"/>
              <a:gd name="adj2" fmla="val 49875"/>
              <a:gd name="adj3" fmla="val 4995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endCxn id="328" idx="1"/>
          </p:cNvCxnSpPr>
          <p:nvPr/>
        </p:nvCxnSpPr>
        <p:spPr>
          <a:xfrm flipV="1">
            <a:off x="5436720" y="5582880"/>
            <a:ext cx="1296360" cy="505440"/>
          </a:xfrm>
          <a:prstGeom prst="curvedConnector5">
            <a:avLst>
              <a:gd name="adj1" fmla="val 50000"/>
              <a:gd name="adj2" fmla="val 49964"/>
              <a:gd name="adj3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6" name=""/>
          <p:cNvCxnSpPr/>
          <p:nvPr/>
        </p:nvCxnSpPr>
        <p:spPr>
          <a:xfrm flipH="1" flipV="1" rot="5400000">
            <a:off x="7649280" y="1791000"/>
            <a:ext cx="1369080" cy="754560"/>
          </a:xfrm>
          <a:prstGeom prst="curvedConnector5">
            <a:avLst>
              <a:gd name="adj1" fmla="val 15991"/>
              <a:gd name="adj2" fmla="val 49976"/>
              <a:gd name="adj3" fmla="val 15991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endCxn id="307" idx="8"/>
          </p:cNvCxnSpPr>
          <p:nvPr/>
        </p:nvCxnSpPr>
        <p:spPr>
          <a:xfrm flipV="1" rot="10800000">
            <a:off x="2558160" y="1766520"/>
            <a:ext cx="1293120" cy="527760"/>
          </a:xfrm>
          <a:prstGeom prst="curvedConnector5">
            <a:avLst>
              <a:gd name="adj1" fmla="val 44444"/>
              <a:gd name="adj2" fmla="val 49965"/>
              <a:gd name="adj3" fmla="val 44444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8" name=""/>
          <p:cNvCxnSpPr/>
          <p:nvPr/>
        </p:nvCxnSpPr>
        <p:spPr>
          <a:xfrm flipH="1" flipV="1" rot="10800000">
            <a:off x="899640" y="4005360"/>
            <a:ext cx="558000" cy="643320"/>
          </a:xfrm>
          <a:prstGeom prst="curvedConnector5">
            <a:avLst>
              <a:gd name="adj1" fmla="val -40994"/>
              <a:gd name="adj2" fmla="val 39249"/>
              <a:gd name="adj3" fmla="val -40994"/>
            </a:avLst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339" name=""/>
          <p:cNvCxnSpPr>
            <a:stCxn id="327" idx="3"/>
          </p:cNvCxnSpPr>
          <p:nvPr/>
        </p:nvCxnSpPr>
        <p:spPr>
          <a:xfrm flipV="1">
            <a:off x="2298600" y="4645800"/>
            <a:ext cx="689760" cy="956520"/>
          </a:xfrm>
          <a:prstGeom prst="curvedConnector2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0" name=""/>
          <p:cNvCxnSpPr/>
          <p:nvPr/>
        </p:nvCxnSpPr>
        <p:spPr>
          <a:xfrm>
            <a:off x="5867280" y="4646520"/>
            <a:ext cx="1122840" cy="504000"/>
          </a:xfrm>
          <a:prstGeom prst="curvedConnector5">
            <a:avLst>
              <a:gd name="adj1" fmla="val 49935"/>
              <a:gd name="adj2" fmla="val 49964"/>
              <a:gd name="adj3" fmla="val 49935"/>
            </a:avLst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1" name=""/>
          <p:cNvCxnSpPr>
            <a:endCxn id="331" idx="2"/>
          </p:cNvCxnSpPr>
          <p:nvPr/>
        </p:nvCxnSpPr>
        <p:spPr>
          <a:xfrm flipV="1">
            <a:off x="6227640" y="2661480"/>
            <a:ext cx="1015200" cy="400680"/>
          </a:xfrm>
          <a:prstGeom prst="curvedConnector2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2" name=""/>
          <p:cNvCxnSpPr>
            <a:stCxn id="303" idx="3"/>
          </p:cNvCxnSpPr>
          <p:nvPr/>
        </p:nvCxnSpPr>
        <p:spPr>
          <a:xfrm flipV="1">
            <a:off x="5221080" y="1622520"/>
            <a:ext cx="1510200" cy="576360"/>
          </a:xfrm>
          <a:prstGeom prst="curvedConnector5">
            <a:avLst>
              <a:gd name="adj1" fmla="val 49928"/>
              <a:gd name="adj2" fmla="val 50000"/>
              <a:gd name="adj3" fmla="val 49928"/>
            </a:avLst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343" name=""/>
          <p:cNvCxnSpPr>
            <a:stCxn id="306" idx="3"/>
          </p:cNvCxnSpPr>
          <p:nvPr/>
        </p:nvCxnSpPr>
        <p:spPr>
          <a:xfrm flipH="1">
            <a:off x="7884360" y="3782880"/>
            <a:ext cx="793080" cy="1369440"/>
          </a:xfrm>
          <a:prstGeom prst="curvedConnector5">
            <a:avLst>
              <a:gd name="adj1" fmla="val -28837"/>
              <a:gd name="adj2" fmla="val 38101"/>
              <a:gd name="adj3" fmla="val -28837"/>
            </a:avLst>
          </a:prstGeom>
          <a:ln w="9360">
            <a:solidFill>
              <a:srgbClr val="003366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28908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entury Gothic"/>
              </a:rPr>
              <a:t>Smart card and Services Networ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477-C88B-4F71-8D06-08A273DC16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lemedicin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uses telecommunications to deliver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alth care, often over great distances, with the possibility of cost savings particularly in remote and rural area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lemedicine means, literally, 'medicine at a distance'. There are several different definitions, but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definition of telemedicine adopted by an international consultation group convened by the WHO in Geneva in December 1997 say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“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lemedicine is the delivery of health-care services, where distance is a critical factor, by health-care professionals using information and communication technologies for the exchange of valid information far diagnosis, treatment and prevention of disease and injuries, and for the continuing education of health-care providers as well as research and evaluation, all in the  interests of advancing the health of individuals and their communities.”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375-AF31-4DDB-BE71-1143B7D353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28080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0000cc"/>
                </a:solidFill>
                <a:latin typeface="Times New Roman"/>
              </a:rPr>
              <a:t>Needs of health assistance and biomedical research</a:t>
            </a:r>
            <a:endParaRPr b="1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Circulation of knowledge, information and data with the aim of achieving productivity management control and of maintaining high standards of healthcare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Population ageing with leads to demand for continuous treatment and care improving quality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Globalization of health, seems as market and demands of ever more qualified health ser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EBD-1EDA-4D6F-9286-E118CA96E7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Times New Roman"/>
              </a:rPr>
              <a:t>Benefits associated with ICT and introduction of Telemedicine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Health education of people and population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Employment opportunities for technicians and paramedics at a peripheral level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Diffusion of medical knowledge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Availability of normal (or on demand) health treatments, in distant areas to prevent disease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Improvement of health indicators used by WHO and by national government structure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Telemedicine could help some countries to cut health costs. (A study carried out in the United States at the end of the last century has estimated that a figure of between 35 and 40 billion dollars could be saved by the health structures by using telecommunication and telemedicine technologies more efficiently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0E5-DA8B-4D45-BC21-51D8E2BD1B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Times New Roman"/>
              </a:rPr>
              <a:t>Telemedicine field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eleconsulting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(clinicians        clinician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elediagnosi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(clinicians         phisician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elemonitoring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(clinical centers        patient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elesurveillance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.e. home telecare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]  (health structure        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patient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ele-emergency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first aid centers         health operators    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   ambulances           patient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03640" y="22050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59280" y="270828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40360" y="32130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414972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12000" y="46530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56000" y="508464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48360" y="508464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C30-ADE9-4A3C-9808-1FDF13664C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Telemedicine and emergenc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Data transmission from ambulances to ED: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atient vital signs/ECG (portable monitor cum defibbrillator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Blood press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Heart rate and pulse oximet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Other information communicated by paramedics in ambulances (collected in notebook), ex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- respiratory rate, objective evidence, patient mental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tate (Glasgow Coma Scal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(SW system can compute trauma scor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- transmission of data, before leaving site, to receiving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hospital ED ad initial pre-arrival informa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D staff can prepare therapeutical procedures, useful drugs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160-E285-499A-90E5-4E03821317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Teleradiolog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A teleradiological platform for Teconsulting/Telediagnosis can be composed by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personal computer of  recent generation;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connection in geographic net between the headmasters, realized through the introduction of suitable net apparatuses;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software for elaboration and acquisition of the images with registration functionality according to the DICOM3 standard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monitor for the reporting with 2 Mpixel resolu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7A8-D63D-4617-85A1-13DD931A0F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042920" y="476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LECARDI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9640" y="1773360"/>
            <a:ext cx="489744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 TeleCardiological system is set of 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peripheral equipment of survey of the data and clinical paramet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telecommunication net that allows the connection of the equipm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perating platform of receipt, treatment and reports of the 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perating protoco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580000" y="2060640"/>
          <a:ext cx="32860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060640"/>
                    <a:ext cx="32860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725-195E-4A22-9D6B-05D71299C8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2627280" y="1916280"/>
          <a:ext cx="4121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4121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468360" y="582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Times New Roman"/>
              </a:rPr>
              <a:t>Telecardiological syste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E20-B3FD-433E-92A8-7B576A0DA6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Telepatholog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elepathology is a practical activity of the pathology to distance, able to have the images of the slides seen on a screen instead than through the microscop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he transmitted images can be used for primary diagnoses, second opinion, check of quality control, ability tests and widening at distanc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CB2-122B-4423-9E1C-11BB5A0EEE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Telepatholog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00720" y="2133720"/>
          <a:ext cx="410364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41036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68360" y="1773360"/>
            <a:ext cx="403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SzPct val="60000"/>
              <a:buFont typeface="Times New Roman"/>
              <a:buChar char="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elepathology platform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is constituted by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microscope,telecamera,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PC, communication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etwork, architectur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client/server, relationa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DBMS, SW Firewall,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SW of compression of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he images (i.e. Jpeg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8AA-17A5-449A-AAFA-8DACA61E80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910640" cy="32608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826920" y="692280"/>
            <a:ext cx="62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elemedicine Project   ITALY (Palermo) -EGYPT (Cairo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A2E-D00E-407E-BE7E-D9C1C1A0B9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ternet in Medicin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Diffusion of Internet services in healthcare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Building of web sites and portals in medical fields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o share and to access to clinical information (protocols of care, guidelines, etc.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eleconsulting and telediagnosis in peripherical health structures and also at home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Costs reducin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FB9-67E7-400C-9B14-EDDC30EED9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Focu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edical re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lectronic patient re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atient data ca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……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Record link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gration of health data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pidemiolog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valuation of care and structures qua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linical resear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Telemedicine (teleconsulting/telediagnosi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Teleassistance/telemonito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rnet in health c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edical ww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58D-0458-43CD-85A8-B0C2E1500F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cc"/>
                </a:solidFill>
                <a:uFillTx/>
                <a:latin typeface="Times New Roman"/>
              </a:rPr>
              <a:t>Example: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br>
              <a:rPr sz="3200"/>
            </a:b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Milan Network for Neuro   </a:t>
            </a:r>
            <a:br>
              <a:rPr sz="3200"/>
            </a:b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Radiological Teleconsulting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362400" y="3111480"/>
          <a:ext cx="161280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2400" y="3111480"/>
                    <a:ext cx="16128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181480" y="2743200"/>
          <a:ext cx="53352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743200"/>
                    <a:ext cx="5335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3048120" y="2590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Service Provid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2971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PP Serv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2209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 serv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838080" y="3124080"/>
          <a:ext cx="125748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124080"/>
                    <a:ext cx="1257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1295280" y="5410080"/>
          <a:ext cx="12574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5410080"/>
                    <a:ext cx="1257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3809880" y="5410080"/>
          <a:ext cx="125748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5410080"/>
                    <a:ext cx="1257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6858000" y="2971800"/>
          <a:ext cx="1257480" cy="4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2971800"/>
                    <a:ext cx="1257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6781680" y="5334120"/>
          <a:ext cx="1257480" cy="4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1680" y="5334120"/>
                    <a:ext cx="1257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838080" y="3581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NN Bes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ancer Institu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5791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xxx Hospit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35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Niguarda Hospit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7712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cco Hospit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3276720"/>
            <a:ext cx="144756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484360" y="3860640"/>
            <a:ext cx="1371600" cy="1371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860640"/>
            <a:ext cx="0" cy="129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715000" y="3200400"/>
            <a:ext cx="121932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59280" y="3860640"/>
            <a:ext cx="1905120" cy="1143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05720" y="45720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SDN 128Kbp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4648320"/>
            <a:ext cx="1066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SDN 128Kbp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86C-D91B-469B-B034-EB8645BB69E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WEB TECHNOLOGY: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ORTAL  IN MEDICIN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Web Portal to access clinical database and for teleconsulting/telediagnosi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Creation of Medical Network, in order to improve healthcare information dissemination, to facilitate the access to clinical data base and therapeutical diagnostic protocols and to permit teleconsultation and telediagnosis; it is based on a multifuctional platform integrated with clinical and diagnostic services, located in large hospitals and Medical Research Institut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105-5582-444F-9D72-8F86239EDB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he </a:t>
            </a: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MED PORTAL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project can provide integration among services aready available to the local communities or extended to a wider geographical are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t can favorite the access to clinical information and processing in the health services for clinical activity to users (doctors, radiologists, etc.) and the clinical activity of teleconsulting and telediagnosi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t can also offer the opportunity to integrate and co-ordinate methods of care and diagnostic/therapeutical protocol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2nd opin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8EF-E601-495A-8D62-DC68221D3A9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MED PORTAL:</a:t>
            </a:r>
            <a:r>
              <a:rPr b="0" lang="it-IT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Based on a </a:t>
            </a: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multifuctional platform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integrated with clinical and diagnostic services, located in large hospitals and Medical Research Institu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A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med to integrate several hospitals database developed by RDBMS, using XML as a glue language to improve users accessibility and information distribution in a standard WEB envirom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tandards: HL7, DICOM, CORBAMED,…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GR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958-4C4D-4202-84DA-BD6E07DA6B1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cluster002" descr=""/>
          <p:cNvPicPr/>
          <p:nvPr/>
        </p:nvPicPr>
        <p:blipFill>
          <a:blip r:embed="rId1"/>
          <a:stretch/>
        </p:blipFill>
        <p:spPr>
          <a:xfrm>
            <a:off x="1609560" y="4572000"/>
            <a:ext cx="2160720" cy="15145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828880" y="4546440"/>
            <a:ext cx="514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INTR@MED</a:t>
            </a:r>
            <a:r>
              <a:rPr b="1" lang="en-US" sz="800" spc="-1" strike="noStrike" baseline="30000">
                <a:solidFill>
                  <a:srgbClr val="003366"/>
                </a:solidFill>
                <a:latin typeface="Tahoma"/>
                <a:ea typeface="Times New Roman"/>
              </a:rPr>
              <a:t>2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DB 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1200" y="3679920"/>
            <a:ext cx="1000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HOSPITAL DB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320920" y="3009960"/>
          <a:ext cx="797040" cy="50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20920" y="3009960"/>
                    <a:ext cx="797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6" name="cluster002" descr=""/>
          <p:cNvPicPr/>
          <p:nvPr/>
        </p:nvPicPr>
        <p:blipFill>
          <a:blip r:embed="rId4"/>
          <a:stretch/>
        </p:blipFill>
        <p:spPr>
          <a:xfrm>
            <a:off x="190440" y="3876840"/>
            <a:ext cx="1717560" cy="12031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66760" y="2936880"/>
            <a:ext cx="4390920" cy="36100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7840" y="2867040"/>
            <a:ext cx="895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HOSPITAL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WEB SERVER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95640" y="3087720"/>
            <a:ext cx="33336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FIREWALL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5781600" y="442800"/>
          <a:ext cx="41436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1600" y="442800"/>
                    <a:ext cx="4143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6400800" y="506520"/>
            <a:ext cx="1047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  <a:ea typeface="Times New Roman"/>
              </a:rPr>
              <a:t>INTR@MED</a:t>
            </a:r>
            <a:r>
              <a:rPr b="1" lang="en-US" sz="1000" spc="-1" strike="noStrike" baseline="30000">
                <a:solidFill>
                  <a:srgbClr val="003366"/>
                </a:solidFill>
                <a:latin typeface="Tahoma"/>
                <a:ea typeface="Times New Roman"/>
              </a:rPr>
              <a:t>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  <a:ea typeface="Times New Roman"/>
              </a:rPr>
              <a:t>PORTAL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1914480" y="582480"/>
            <a:ext cx="3610080" cy="430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84440" y="3887640"/>
            <a:ext cx="743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LA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5" name="cluster002" descr=""/>
          <p:cNvPicPr/>
          <p:nvPr/>
        </p:nvPicPr>
        <p:blipFill>
          <a:blip r:embed="rId7"/>
          <a:stretch/>
        </p:blipFill>
        <p:spPr>
          <a:xfrm>
            <a:off x="0" y="3141720"/>
            <a:ext cx="826920" cy="5792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 rot="20765400">
            <a:off x="3971520" y="1317600"/>
            <a:ext cx="6094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VP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 rot="5711400">
            <a:off x="7152480" y="1726920"/>
            <a:ext cx="6094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VP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28" name="cluster004" descr=""/>
          <p:cNvPicPr/>
          <p:nvPr/>
        </p:nvPicPr>
        <p:blipFill>
          <a:blip r:embed="rId8"/>
          <a:stretch/>
        </p:blipFill>
        <p:spPr>
          <a:xfrm>
            <a:off x="5364000" y="2852640"/>
            <a:ext cx="3708720" cy="2795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 flipH="1" flipV="1">
            <a:off x="6300720" y="691920"/>
            <a:ext cx="2038320" cy="3819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 rot="1462200">
            <a:off x="5762160" y="5823000"/>
            <a:ext cx="6098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VP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2637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60680" y="4554360"/>
            <a:ext cx="2114280" cy="187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86400" y="353880"/>
            <a:ext cx="857160" cy="82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28880" y="4546440"/>
            <a:ext cx="514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bd5df"/>
                </a:solidFill>
                <a:latin typeface="Tahoma"/>
                <a:ea typeface="Times New Roman"/>
              </a:rPr>
              <a:t>INTR@MED</a:t>
            </a:r>
            <a:r>
              <a:rPr b="1" lang="en-US" sz="800" spc="-1" strike="noStrike" baseline="30000">
                <a:solidFill>
                  <a:srgbClr val="cbd5df"/>
                </a:solidFill>
                <a:latin typeface="Tahoma"/>
                <a:ea typeface="Times New Roman"/>
              </a:rPr>
              <a:t>2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bd5df"/>
                </a:solidFill>
                <a:latin typeface="Tahoma"/>
                <a:ea typeface="Times New Roman"/>
              </a:rPr>
              <a:t>DB</a:t>
            </a: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700360" y="5589720"/>
            <a:ext cx="5040360" cy="814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0920" y="2781360"/>
            <a:ext cx="5219640" cy="3600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64000" y="2708280"/>
            <a:ext cx="3711600" cy="3060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5364000" y="1341360"/>
          <a:ext cx="1140120" cy="121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1341360"/>
                    <a:ext cx="114012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5981760" y="1201680"/>
            <a:ext cx="0" cy="924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14B-789F-4115-88F9-77EB74B3EC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Times New Roman"/>
              </a:rPr>
              <a:t>From INTERNET to GRID technology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As the net evolues, all machines and people  will become nodes on one network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Rapid improvements in communications technologies are leading many to consider more decentralized approaches to the problem of computing pow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n the world there are about 500 million of P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nternet computing and GRID technologies promise to change the way we tackle complex problem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hey will enable large scale aggregation and sharing of computational data and other resources across institutional boundar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CF5-1CF3-496A-9E80-9DE5380C41E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LIFE in the GRID 2000-2010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GRID technology opens perspective of large computational power and easy accessibility to heterogeneous data service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GRID was coined in 1995 to denote a proposed distributed computing infrastructure for advanced science and engineering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Health GRID would provide framework for  sharing, computing and storaging resources, promoting standards and fostering synergy between Bio-Informatics and Medical Informatic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ntegrating genetic data into medical recor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Researching individualized health ca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202-6F1E-4B0E-A328-283265B8B0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GRID: Networking and intelligent process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Computational and data GRID are new frontier in development of a world wide distributed computing model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GRID uses all computing and archieves resources spread out in its test bed and  makes them available in a secure way to whoever is authorized to utilize them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Virtual Organization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in the world need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roperabi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ortabi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ode sha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tandard protoco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35D-BE0A-4AA5-B9E9-763C4AD945E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GRID Project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DATAGRI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CROSSGRI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EUROGRI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BIOGRI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MAMMOGRI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GEM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GRID and medical simulation serv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istributed medical support system for drug therapy of HIV infec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iseases prevention, GRID for public health promo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-Heart GR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GRID concept and technology are i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he R&amp;D projects of E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A33-F7B2-49B4-BC0B-32DC4D9C067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57200" y="277920"/>
            <a:ext cx="82296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GRID in BIO-MEDICIN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1280" y="1198440"/>
            <a:ext cx="77724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IOGR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AMMOGR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UMORI RAR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ARDIOLOGIA (E-HEART GRI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IMULATIN WITH BIOMEDICAL IMAGES GEM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EUROSCI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PIDEMIOLOG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ULTIDISCIPLINA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EEDS OF COLLABORATION BETWEEN OPERATO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TERNET SERVICES (E-MAIL, SITI WEB, ECC.) PERMIT TO COOPERA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NECTION BETWEEN COMPUTERS, DATA AND  RESOURC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B63-26CD-402B-8E42-283F0CF63A7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66"/>
                </a:solidFill>
                <a:latin typeface="Times New Roman"/>
              </a:rPr>
              <a:t>Medical record</a:t>
            </a:r>
            <a:r>
              <a:rPr b="1" lang="it-IT" sz="4000" spc="-1" strike="noStrike">
                <a:solidFill>
                  <a:srgbClr val="003366"/>
                </a:solidFill>
                <a:latin typeface="Times New Roman"/>
              </a:rPr>
              <a:t> (BLOIS 1984)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et of patient information useful to diagnosis and care at different level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outpatient clini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hospit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emergenc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GP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……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Clinical databa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et of medical records of different patients, useful for clinical research and epidemiological stud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6F8-65C9-4AAC-905B-EEACFB9E47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50920" y="2421000"/>
            <a:ext cx="864216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Standards used for data/images management are different and include: 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EDIFACT 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DICOM   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X-12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HL7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Times New Roman"/>
              </a:rPr>
              <a:t>Standardization in medical informatic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B10-8388-4877-9401-6CD92887C8A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84360" y="4046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Times New Roman"/>
              </a:rPr>
              <a:t>MEDICAL RECORD Standardiz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4000" y="1557360"/>
            <a:ext cx="8820000" cy="44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Phases of medical record standardization process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ure analysis of medical records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andom retrieval and review of records of cases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mparison of the results among the different records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cording of data from new cases using a common record forma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266-036C-42F2-A9F5-243473CFA03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45240" y="342720"/>
            <a:ext cx="8452800" cy="6000480"/>
            <a:chOff x="345240" y="342720"/>
            <a:chExt cx="8452800" cy="6000480"/>
          </a:xfrm>
        </p:grpSpPr>
        <p:sp>
          <p:nvSpPr>
            <p:cNvPr id="454" name=""/>
            <p:cNvSpPr/>
            <p:nvPr/>
          </p:nvSpPr>
          <p:spPr>
            <a:xfrm>
              <a:off x="518040" y="514080"/>
              <a:ext cx="22424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Record Format</a:t>
              </a:r>
              <a:r>
                <a:rPr b="0" lang="it-IT" sz="18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Analysi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04640" y="342720"/>
              <a:ext cx="24156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66"/>
                  </a:solidFill>
                  <a:latin typeface="Arial Narrow"/>
                </a:rPr>
                <a:t>Locating of main modules (personal data, follow up, laboratori, etc.)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60480" y="514080"/>
              <a:ext cx="344160" cy="171360"/>
            </a:xfrm>
            <a:prstGeom prst="rightArrow">
              <a:avLst>
                <a:gd name="adj1" fmla="val 50000"/>
                <a:gd name="adj2" fmla="val 502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0600" y="514080"/>
              <a:ext cx="345240" cy="171360"/>
            </a:xfrm>
            <a:prstGeom prst="leftArrow">
              <a:avLst>
                <a:gd name="adj1" fmla="val 50000"/>
                <a:gd name="adj2" fmla="val 5036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5840" y="342720"/>
              <a:ext cx="22428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66"/>
                  </a:solidFill>
                  <a:latin typeface="Times New Roman"/>
                </a:rPr>
                <a:t>Variables Classificatio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59" name=""/>
            <p:cNvCxnSpPr/>
            <p:nvPr/>
          </p:nvCxnSpPr>
          <p:spPr>
            <a:xfrm rot="5400000">
              <a:off x="2244600" y="853920"/>
              <a:ext cx="1028880" cy="1034640"/>
            </a:xfrm>
            <a:prstGeom prst="bentConnector3">
              <a:avLst>
                <a:gd name="adj1" fmla="val 5278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0" name=""/>
            <p:cNvSpPr/>
            <p:nvPr/>
          </p:nvSpPr>
          <p:spPr>
            <a:xfrm>
              <a:off x="345240" y="1886040"/>
              <a:ext cx="258696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Times New Roman"/>
                </a:rPr>
                <a:t>Selection of a retrospective sample of record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32200" y="2057400"/>
              <a:ext cx="518040" cy="171000"/>
            </a:xfrm>
            <a:prstGeom prst="rightArrow">
              <a:avLst>
                <a:gd name="adj1" fmla="val 50000"/>
                <a:gd name="adj2" fmla="val 757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50240" y="1886040"/>
              <a:ext cx="20700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Arial Narrow"/>
                </a:rPr>
                <a:t>Chiose of common parameters in the different centre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20600" y="2057400"/>
              <a:ext cx="518040" cy="171000"/>
            </a:xfrm>
            <a:prstGeom prst="leftArrow">
              <a:avLst>
                <a:gd name="adj1" fmla="val 50000"/>
                <a:gd name="adj2" fmla="val 757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38640" y="1886040"/>
              <a:ext cx="241524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Times New Roman"/>
                </a:rPr>
                <a:t>Descriptive analysis of variable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65" name=""/>
            <p:cNvCxnSpPr/>
            <p:nvPr/>
          </p:nvCxnSpPr>
          <p:spPr>
            <a:xfrm rot="5400000">
              <a:off x="2932920" y="2398680"/>
              <a:ext cx="686160" cy="689040"/>
            </a:xfrm>
            <a:prstGeom prst="bentConnector3">
              <a:avLst>
                <a:gd name="adj1" fmla="val 499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"/>
            <p:cNvSpPr/>
            <p:nvPr/>
          </p:nvSpPr>
          <p:spPr>
            <a:xfrm>
              <a:off x="1724400" y="3085920"/>
              <a:ext cx="241524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Times New Roman"/>
                </a:rPr>
                <a:t>Comparison and interpretation of result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40000" y="3257280"/>
              <a:ext cx="518040" cy="171360"/>
            </a:xfrm>
            <a:prstGeom prst="rightArrow">
              <a:avLst>
                <a:gd name="adj1" fmla="val 50000"/>
                <a:gd name="adj2" fmla="val 755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58040" y="3085920"/>
              <a:ext cx="24156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Estimate of parameters and prediction  of illness evolutio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/>
            <p:nvPr/>
          </p:nvCxnSpPr>
          <p:spPr>
            <a:xfrm flipH="1">
              <a:off x="2760120" y="3600360"/>
              <a:ext cx="2414880" cy="514440"/>
            </a:xfrm>
            <a:prstGeom prst="bentConnector3">
              <a:avLst>
                <a:gd name="adj1" fmla="val -122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0" name=""/>
            <p:cNvSpPr/>
            <p:nvPr/>
          </p:nvSpPr>
          <p:spPr>
            <a:xfrm>
              <a:off x="2760480" y="411480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07440" y="4457880"/>
              <a:ext cx="241560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Arial Narrow"/>
                </a:rPr>
                <a:t>Definition of common set  of parameters to fin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23040" y="4629240"/>
              <a:ext cx="516600" cy="171000"/>
            </a:xfrm>
            <a:prstGeom prst="rightArrow">
              <a:avLst>
                <a:gd name="adj1" fmla="val 50000"/>
                <a:gd name="adj2" fmla="val 755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0000" y="4457880"/>
              <a:ext cx="207144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66"/>
                  </a:solidFill>
                  <a:latin typeface="Arial Narrow"/>
                </a:rPr>
                <a:t>Data gathering of new cas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28040" y="4457880"/>
              <a:ext cx="207000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Arial Narrow"/>
                </a:rPr>
                <a:t>Data analysis and results interpretatio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11440" y="4629240"/>
              <a:ext cx="516600" cy="171000"/>
            </a:xfrm>
            <a:prstGeom prst="leftArrow">
              <a:avLst>
                <a:gd name="adj1" fmla="val 50000"/>
                <a:gd name="adj2" fmla="val 755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76" name=""/>
            <p:cNvCxnSpPr/>
            <p:nvPr/>
          </p:nvCxnSpPr>
          <p:spPr>
            <a:xfrm rot="5400000">
              <a:off x="3193200" y="4193280"/>
              <a:ext cx="514440" cy="2071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7" name=""/>
            <p:cNvSpPr/>
            <p:nvPr/>
          </p:nvSpPr>
          <p:spPr>
            <a:xfrm>
              <a:off x="2415240" y="5486040"/>
              <a:ext cx="108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34640" y="5829120"/>
              <a:ext cx="22428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Arial Narrow"/>
                </a:rPr>
                <a:t>Comparison of present results with the precedine on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95840" y="5829120"/>
              <a:ext cx="24156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Arial Narrow"/>
                </a:rPr>
                <a:t>Evaluation of answer, mistakes, missing cases,…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77440" y="6000480"/>
              <a:ext cx="518040" cy="171360"/>
            </a:xfrm>
            <a:prstGeom prst="rightArrow">
              <a:avLst>
                <a:gd name="adj1" fmla="val 50000"/>
                <a:gd name="adj2" fmla="val 755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11440" y="6000480"/>
              <a:ext cx="689400" cy="171360"/>
            </a:xfrm>
            <a:prstGeom prst="leftArrow">
              <a:avLst>
                <a:gd name="adj1" fmla="val 50000"/>
                <a:gd name="adj2" fmla="val 1005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00840" y="5829120"/>
              <a:ext cx="18972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Arial Narrow"/>
                </a:rPr>
                <a:t>New definition and standardization of recor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252-7E8D-4403-B325-8AC22480B9B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539640" y="1916280"/>
            <a:ext cx="82090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"/>
              </a:rPr>
              <a:t>Medical Record in XM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From EDI messages to Internet Technology, using a “structured clinical message”  in XML langua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1D2-CA57-4449-BCB0-7BCF404DF51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50920" y="1628640"/>
            <a:ext cx="8540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eta-language: universal language developed by the World Wide Web Consortium (W3C) in 1998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ermits to Internet applications to “understand each other” and to control the communication between these one and the traditiona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xtensibi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Another important aspect: it is possible to re-use  the typologies of XML documents, simply extending them with new tag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549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XML : eXtensible Markup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EC0-708D-457E-BB34-EF5F826F8D5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540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Use of XML  in MMR (Multimedia Medical Record) realiz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5640" y="9079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eXtensible Markup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3357720"/>
            <a:ext cx="7777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tructure of Database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DTD (Document Type Definition) realiz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Multimedia data (images, viedeo) are considered in .jpeg and  .mpeg forma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68C-B7E8-45B1-8819-18A209669AD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DTD (Document Type Definition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5640" y="9079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eXtensible Markup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16360" y="2349360"/>
            <a:ext cx="3384720" cy="33793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?xml version="1.0" encoding="UTF-8"?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MD.table (MDATA)+ &gt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MDATA (CodMD, PesoPaz, AltezzaPaz, Voltaggio, RitmoAtr, FrqVentr, PrSist, Prdiast, PrGiug, Tracciato, Eco, RxTorace, CodPaz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CodMD  (#PCDATA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ATTLIST CodM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Type CDATA  "number"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Size CDATA  "4"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PesoPaz  (#PCDATA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ATTLIST PesoPaz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Type CDATA  "number"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Size CDATA  "2"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……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......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…………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8360" y="2349360"/>
            <a:ext cx="3457440" cy="33793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?xml version="1.0" encoding="UTF-8"?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Esami.table (Esami)+ &gt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Esami  (CodESAM, Emoglobina, Ematocrito, Globuli_bianchi, Piastrine, TLinfociti, Urea, Creatinina, Livello_CSA, CodPaz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CodESAM  (#PCDATA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ATTLIST CodESA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Type CDATA  "number"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Size CDATA  "4"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Emoglobina  (#PCDATA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ATTLIST Emoglobin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Type CDATA  "number"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Size CDATA  "2"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…………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…………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2D6-ABD7-4135-948F-E4658D83903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77360" y="1773360"/>
            <a:ext cx="58294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XML docu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55640" y="9079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eXtensible Markup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2708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687240" y="2732040"/>
          <a:ext cx="367668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2732040"/>
                    <a:ext cx="367668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4716360" y="2781360"/>
          <a:ext cx="3857760" cy="30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781360"/>
                    <a:ext cx="385776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085-1CEE-427F-A97E-FE2944A94BD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71640" y="62064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762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ULTIMEDIA MEDICAL RECOR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844640"/>
            <a:ext cx="820908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366"/>
                </a:solidFill>
                <a:latin typeface="Arial"/>
              </a:rPr>
              <a:t>The Electronic Medical Record (EMR) must be complete as possible, containing also biomedical signals and images, video, etc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366"/>
                </a:solidFill>
                <a:latin typeface="Arial"/>
              </a:rPr>
              <a:t>This constitutes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366"/>
                </a:solidFill>
                <a:latin typeface="Arial"/>
              </a:rPr>
              <a:t>the Multimedia Medical Record (MMR)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E5D-C6BF-4380-9CC4-748DF00845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42920" y="4762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ULTIMEDIA MEDICAL RECOR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341360"/>
            <a:ext cx="820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MMR contains 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nagraphycal and administrative 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clinical 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anamnestic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lab tes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diagnostic referrals ( ECG, EEG, X-Ray, TC, MRI, ECO, …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4560" y="4508640"/>
            <a:ext cx="8569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MMR improve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nformation availability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 fast data access and analys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 better control of patients workflo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A971-FE1E-421A-AFB0-F59F2E657E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00244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COMPUTERISATION OF MR  I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A VERY IMPORTANT TECHNOLOGY FOR HEALTH  C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OFFER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BETTER AND FASTER MANAGEMENT OF PATIENT 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 DATA FOR CLINICAL RESEARCH AND EPIDEMIOLOGICAL STUDIES.</a:t>
            </a:r>
            <a:r>
              <a:rPr b="0" lang="en-US" sz="4000" spc="-1" strike="noStrike">
                <a:solidFill>
                  <a:srgbClr val="003366"/>
                </a:solidFill>
                <a:latin typeface="New York"/>
                <a:ea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0A9-D51A-4739-B2B7-48FAB9687E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64360" cy="613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547-54F4-4034-BB9D-B7ECC74FB4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08:55:29Z</dcterms:created>
  <dc:creator>Magretti</dc:creator>
  <dc:description/>
  <dc:language>en-US</dc:language>
  <cp:lastModifiedBy>Magretti</cp:lastModifiedBy>
  <dcterms:modified xsi:type="dcterms:W3CDTF">2003-05-20T14:18:08Z</dcterms:modified>
  <cp:revision>150</cp:revision>
  <dc:subject/>
  <dc:title>Information in Health Activities</dc:title>
</cp:coreProperties>
</file>