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7792-44A6-4614-BEF5-0A4E8E42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14F8-E858-4E01-A8B5-4DC2A102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859E-1CC3-4D77-AD1B-1DCFDE11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C1B8-7805-43BA-BA35-F435B9AB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EF772-97CE-44D7-AC84-B187D9331F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D04E6-A5D1-4863-B30B-957CEE4C94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D756A-DB00-4436-A62A-B7A8DD7CFB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AF1CB-CC1E-4A6D-9272-3F03AC80F6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59E91-2EB8-48B5-8ADC-773E0D97CA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8CAE6-BD00-452C-9FBF-7A2286181F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A5BEC-6967-437A-BE27-5747BFDB28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9AB0-18A1-471C-BF72-12764609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02F26-5B66-47CD-BE7A-23101E97D1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9E681-42A4-4E90-8D64-9411711A67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96869-3C3C-4C09-9134-422849EAEB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D6E1C-6874-4196-B6B0-BF1ED0C0C6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40153-B671-4A87-8464-36E6BA1C10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DE3C-C62E-4B36-87B8-7F722432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04B4-4E9D-4F28-B7C5-072231A5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E361-8E0F-4717-8AE7-9E53FA7C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8B7D-D083-4D77-947F-390983FE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6A8C-C3FD-4A6D-82D5-AF7B8E08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53A6-C6A4-42FC-BB8F-2433E683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BCD8-4C15-4C16-85A6-ADDC1F63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4ED4-9254-4319-96B4-08EF4F8786A8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1222200" cy="6882840"/>
            <a:chOff x="0" y="0"/>
            <a:chExt cx="1222200" cy="6882840"/>
          </a:xfrm>
        </p:grpSpPr>
        <p:sp>
          <p:nvSpPr>
            <p:cNvPr id="4" name=""/>
            <p:cNvSpPr/>
            <p:nvPr/>
          </p:nvSpPr>
          <p:spPr>
            <a:xfrm>
              <a:off x="0" y="1257480"/>
              <a:ext cx="122220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itulogo-en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2220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Trebuchet MS"/>
              </a:rPr>
              <a:t>23-25 Ma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829880" y="6565680"/>
            <a:ext cx="6705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Workshop on Standardization in E-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itulogo-en" descr=""/>
          <p:cNvPicPr/>
          <p:nvPr/>
        </p:nvPicPr>
        <p:blipFill>
          <a:blip r:embed="rId3"/>
          <a:srcRect l="12710" t="0" r="17799" b="0"/>
          <a:stretch/>
        </p:blipFill>
        <p:spPr>
          <a:xfrm>
            <a:off x="0" y="0"/>
            <a:ext cx="1219320" cy="1293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-141120" y="1074600"/>
            <a:ext cx="15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U-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683E2EEC-E1BA-4231-A0DB-A431BBDAA42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8760" y="624852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Workshop on Standardization in E-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Geneva, 23-25 Ma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958680"/>
            <a:ext cx="8413560" cy="32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Medical records and medical data:</a:t>
            </a:r>
            <a:br>
              <a:rPr sz="5400"/>
            </a:b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models of electronic data interchange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00280" y="4818240"/>
            <a:ext cx="76960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Melvin Reynolds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nior Partner, AMS Consulting, UK</a:t>
            </a:r>
            <a:endParaRPr b="0" lang="en-US" sz="24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eputy Chair ISO/TC215/WG2, Vice Chair IEEE1073, Convenor CEN/TC251/WG4 </a:t>
            </a:r>
            <a:endParaRPr b="0" lang="en-US" sz="24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pecialist service record: therapy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3160" y="2235240"/>
            <a:ext cx="748188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reported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1139760" indent="-569880">
              <a:spcBef>
                <a:spcPts val="85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ostly text with, very rarely, a small amount of supporting information demonstrating a particularly difficult period or incidenrt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A233-DF1B-4D28-BDBD-5648BB45B0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10BDE02-D78B-4A47-8581-CADAE5A1E5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pecialist service record: monitoring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3160" y="2235240"/>
            <a:ext cx="748188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the data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1139760" indent="-569880">
              <a:spcBef>
                <a:spcPts val="85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Images, Biochemistry, Microbiology, Vital signs and waveforms (e.g. ECG), EEG, etc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7E5E-69A9-4BC1-B2E6-34C5D8DE758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49FCD7D-2FF7-49BB-9FAE-44C2997B8D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pecialist service record: monitoring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3160" y="2247480"/>
            <a:ext cx="74818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reported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1139760" indent="-569880">
              <a:spcBef>
                <a:spcPts val="85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Almost nothing unless there’s a significant event, when a some of supporting information such as a sample of ECG, or an image may accompany the main text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3A93-4330-42B0-BBFF-723A1B44D16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D04C63F-C756-46BF-BE79-E711F18B7C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Health care record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3160" y="2220840"/>
            <a:ext cx="748188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recorded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1139760" indent="-569880">
              <a:spcBef>
                <a:spcPts val="85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ostly text and numeric values with, extremely rarely, a small piece of supporting information such as a sample of ECG, or an image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F747-F6CF-4829-8432-956902E19A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B72BD83-15C1-4389-B641-F7D652BCF5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Patient’s healthspace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3160" y="2220840"/>
            <a:ext cx="748188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communicated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1139760" indent="-569880">
              <a:spcBef>
                <a:spcPts val="85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ostly simple text and numeric values with, extremely rarely, a small piece of supporting information such as a sample of ECG, or an image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904B-4722-45E1-997B-B3CFA19F3AC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8A4CB1F-2ADC-4AAD-8988-C86A6885F6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tatistical repository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3160" y="2220840"/>
            <a:ext cx="748188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deposited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1139760" indent="-569880">
              <a:spcBef>
                <a:spcPts val="85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ostly anonymised coded text and numeric values with, for highly specialist registries, a small piece of supporting information such as a sample of ECG, or an image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568E-3EB6-43CF-A9BA-D419260807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BF04489-B94A-4C18-BF4D-F32D3C6EDB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Healthcare work stage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42920" y="1371240"/>
            <a:ext cx="6972120" cy="50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aling with information in healthcare is a multi-stage proces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33520" y="3247920"/>
          <a:ext cx="771048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3247920"/>
                    <a:ext cx="771048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1083-3E60-4B71-9492-CE16CF2980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557A236-ED8C-4111-8C4F-4624D79DD2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433520" y="1486080"/>
          <a:ext cx="7710480" cy="15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486080"/>
                    <a:ext cx="771048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Methods of information exchange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30480" y="2224080"/>
            <a:ext cx="38700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altime video, imaging or wavefor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ore and forward video, imaging or wavefor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mple numeric values in near realti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ore and forward of simple numeric valu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81680" y="2197080"/>
            <a:ext cx="41623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ransient messages to populate forms or databas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ragments of clinical record to populate databas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lidated clinical ‘documents’ for reten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l above with, or w/o, complex data payload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9BA0-41F0-4913-98A8-113F7CB0B7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974A249-00A6-4F76-87A2-0DCA2D8F3D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Multimedia reporting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42920" y="1631880"/>
            <a:ext cx="69721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or multimedia healthcare service procedure reports, four different levels of control over rendering of the non-textual content have been identified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EAD9-3FF4-4FA2-9019-59A4A259710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6AC4FCB-C932-480B-843E-3F98514B4F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Multimedia reporting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42920" y="1631880"/>
            <a:ext cx="69721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o possibility of adjustment of render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1012680" indent="-53316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aterial can be presented only as specified by the creator.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sing an x-ray as an example, this is analogous to supplying a hard-copy print or film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0EEF-DDAF-4905-BBCC-2B77775B6C6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C78DBBB-C631-42E3-B1CE-F746FDC50D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Overview</a:t>
            </a: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42920" y="1631880"/>
            <a:ext cx="69721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1920" indent="-33192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finitions and observ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1920" indent="-33192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health information spa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1920" indent="-33192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tages of health information manageme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1920" indent="-33192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thods of information exchang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1920" indent="-33192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ultimedia report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1920" indent="-33192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cenarios &amp; use cas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1920" indent="-33192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89B3-EABE-4F76-A637-87607093A7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94C2FD9-A0EC-44F4-8325-3A71F7967D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Multimedia reporting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42920" y="1631880"/>
            <a:ext cx="69721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ntrol of basic aspects of render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1012680" indent="-5331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Basic object manipulation is possible, such as zoom and pan into image or curve, adjustment of video frame rate, cine loop cycle rate.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owever, this only permits viewing of a product, the characteristics of which have already been determined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C401-8BB5-4F03-AFFF-E323DAFA85A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823D611-BA0E-4BFD-8A54-10A0E4B0EB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Multimedia reporting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42920" y="1631880"/>
            <a:ext cx="69721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ultimedia with possibility of interactive adjustment of render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996480" indent="-4258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 addition to the ability to manipulate the object, the specialist user has control over conversion of the object data into a presented graphical representation. In the case of medical images this rendering is often described as "windowing"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709C-71F5-44F2-9D2E-AFD4500A6C9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EDD12CE-C638-47A1-916A-BE290921EE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Multimedia reporting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42920" y="1631880"/>
            <a:ext cx="69721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ssibility to select other images and amend tex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1006560" indent="-430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t can be necessary to produce, by collation, a new layout of material, including procedure products, not selected by the previous operator .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s capability might become important when a subsequent review of the results is needed, perhaps years later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B14C-D943-4EBD-99C3-EA057BF3258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6BE943A-1886-4CED-A8DC-E784B7A82B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Annotation of Multimedia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43280" y="1631880"/>
            <a:ext cx="72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ynchronized Multimedia Integration Language (SMIL) is written as an XML application and is a current W3C recommendation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986400" indent="-42156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MIL supports the synchronized presentation of a set of images, sound and text objects within defined areas of a window of specified size.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5061-4AF4-4ED9-B22A-E6EE7E43871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E5CF8C7-19C9-48CC-9663-BA96085F3B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Links to other source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43280" y="1631880"/>
            <a:ext cx="72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text healthcare service procedure report may be in the form of simple text or may contain hyperlinks to image data files and associated text annotation and/or graphics annotation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986400" indent="-4215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.g. as regions of interest, that are superimposed upon the digital rendered procedure product by the end user system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E75C-DAFD-45BF-B356-D2B35DEF90F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DF03A5B-7820-4B56-9110-8A5AE059D4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cenarios and use case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43280" y="1631880"/>
            <a:ext cx="72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e scenarios worth considering when defining a healthcare procedure report specification shoul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rebuchet MS"/>
              </a:rPr>
              <a:t>include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the following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F0CD-8579-4761-B461-7EC377B0735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253E16A-C9AA-4218-93F3-070D6C0D5F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cenarios and use case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42920" y="1631880"/>
            <a:ext cx="70261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06560" indent="-430200">
              <a:spcBef>
                <a:spcPts val="825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viewing of a healthcare procedure report and one or more procedure products by activation of hyperlinks;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lvl="1" marL="1006560" indent="-430200">
              <a:spcBef>
                <a:spcPts val="825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viewing of a healthcare procedure report and a set of procedure products and annotation by activation of hyperlinks;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72B6-818E-45B5-BDFB-7D8E2121D55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04D5CAD-DE62-402D-99F4-A343E37266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cenarios and use case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3280" y="1631880"/>
            <a:ext cx="69976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06560" indent="-430200">
              <a:spcBef>
                <a:spcPts val="825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addition of annotation to a single procedure product; 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lvl="1" marL="1006560" indent="-430200">
              <a:spcBef>
                <a:spcPts val="825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addition of annotation to a set of single procedure products laid out according to an existing layout specification;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1CBC-2B35-4B21-A3B6-882E226E02B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815D916-1CD9-43CC-85E5-9AE5540CD0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cenarios and use case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3280" y="1631880"/>
            <a:ext cx="6983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06560" indent="-430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reation of a procedure report that references selected previously received procedure product data files and associated annotation;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1006560" indent="-430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reation of a procedure report that references selected previously received procedure product data files with associated annotation together with a layout specification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E7F8-EAD7-4C84-A473-0504C804239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F101843-F188-4CBF-92AA-850A3579AC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8252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cenarios and use case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43280" y="1631880"/>
            <a:ext cx="72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s list is not intended to be exhaustive; indeed it is likely that further scenarios might emerge during consideration of a particular reporting relationship.  Identified scenarios should be used to create more formal use cases, from which to derive use profiles and specification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F9CF-3111-4E90-A139-D86348218BF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449612A-ADF3-4BB0-B1C9-FCE3870457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28320" y="456840"/>
            <a:ext cx="791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Definitions and observation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42920" y="1860120"/>
            <a:ext cx="69721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Health  =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althca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acilitated b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lectronic mea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5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o what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5960" indent="-3459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bHealth  =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althca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acilitated b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built facilities!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1587-65B5-4C37-A924-91ECD46F485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B827989-1F81-413D-A1E1-33FC8B7E3C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54080" y="282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tarting point for discussion?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57320" y="1762200"/>
            <a:ext cx="69976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cquiring and viewing multimedia is not today’s biggest problem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461880" indent="-461880">
              <a:lnSpc>
                <a:spcPct val="90000"/>
              </a:lnSpc>
              <a:spcBef>
                <a:spcPts val="9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Integrating the results of that interaction, together with relevant multimdedia data, into the patient record is the real problem.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4738-564F-4BA0-A46D-786432150EE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45F88A5-D3C8-471F-8473-966AA99154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Conclusion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42920" y="1404720"/>
            <a:ext cx="6970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Medical records and medical data: models of electronic data interchange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Text, and rarely with supplementary complex inform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80640" indent="-5281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As messages or document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80640" indent="-5281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Need to understand how to do information management and technology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8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Arial"/>
              </a:rPr>
              <a:t>what, why and how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8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  <a:ea typeface="Arial"/>
              </a:rPr>
              <a:t>by whom, and whe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3440" y="5149800"/>
            <a:ext cx="664056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what, why and how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by whom, and whe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1BAA-ACE9-4F6E-A155-996A5582FCB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4410137-DC53-4656-9216-3977C9DFBE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958680"/>
            <a:ext cx="8413560" cy="32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End</a:t>
            </a:r>
            <a:br>
              <a:rPr sz="5400"/>
            </a:br>
            <a:br>
              <a:rPr sz="2400"/>
            </a:br>
            <a:r>
              <a:rPr b="1" lang="en-US" sz="2400" spc="-1" strike="noStrike">
                <a:solidFill>
                  <a:srgbClr val="c5f1ff"/>
                </a:solidFill>
                <a:latin typeface="Trebuchet MS"/>
              </a:rPr>
              <a:t>Medical records and medical data:</a:t>
            </a:r>
            <a:br>
              <a:rPr sz="2400"/>
            </a:br>
            <a:r>
              <a:rPr b="1" lang="en-US" sz="2400" spc="-1" strike="noStrike">
                <a:solidFill>
                  <a:srgbClr val="c5f1ff"/>
                </a:solidFill>
                <a:latin typeface="Trebuchet MS"/>
              </a:rPr>
              <a:t>models of electronic data interchange </a:t>
            </a:r>
            <a:br>
              <a:rPr sz="2400"/>
            </a:br>
            <a:br>
              <a:rPr sz="2400"/>
            </a:b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Thank you.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00280" y="4570560"/>
            <a:ext cx="76960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Melvin Reynolds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elvinR@AMS-Consulting.co.u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MS Consulting, HR9 5PQ, UK</a:t>
            </a:r>
            <a:br>
              <a:rPr sz="2400"/>
            </a:br>
            <a:endParaRPr b="0" lang="en-US" sz="24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456840"/>
            <a:ext cx="791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Definitions and observation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3160" y="1912680"/>
            <a:ext cx="748188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ICT = Information and Communications Technolog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o that gives us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455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alth informatic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455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455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(Health information) communications technolog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CCBE-583C-4D21-BD57-D0871C4F57B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08B9EC4-BEB1-4CB0-8051-6AD4066539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8320" y="456840"/>
            <a:ext cx="791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Definitions and observations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99760" y="1913040"/>
            <a:ext cx="764388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ICT = </a:t>
            </a:r>
            <a:br>
              <a:rPr sz="3600"/>
            </a:b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Information Management &amp; Technology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"/>
          <p:cNvSpPr/>
          <p:nvPr/>
        </p:nvSpPr>
        <p:spPr>
          <a:xfrm>
            <a:off x="2379600" y="31989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44880" y="31780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04280" y="3141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36960" y="4848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00120" y="4105440"/>
            <a:ext cx="76438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?          Why?            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00120" y="5826240"/>
            <a:ext cx="76438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en, by wh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ACE0-D239-4D36-83F7-87FB9E5A8F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6FBA4E2-A033-486D-9394-4A659E97FA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Health information space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A44C-A4DF-4368-B4CA-1740D787BBA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B3196AA-CCB2-4B0B-B8DB-B31EED5863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pecialist service record: diagnostic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3160" y="2220840"/>
            <a:ext cx="748188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the data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1139760" indent="-569880">
              <a:spcBef>
                <a:spcPts val="85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Text, Images, Vital signs and waveforms (e.g.ECG), EEG, Biochemistry, Microbiology, etc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7407-10DF-4803-9776-E702944EB27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E1B4B85-59FE-4050-8850-4E81CBEF7A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pecialist service record: diagnostic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3160" y="2220840"/>
            <a:ext cx="748188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reported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1139760" indent="-569880">
              <a:spcBef>
                <a:spcPts val="850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ostly text and numeric values with, rarely, a small piece of supporting information such as a sample of ECG, or an image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F7D1-1E0D-433B-A1EF-75BCB7ADC91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5ED68AD-A277-4056-844F-60879F2C8F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054160" y="1231920"/>
          <a:ext cx="6027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231920"/>
                    <a:ext cx="6027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92120" y="4568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Verdana"/>
              </a:rPr>
              <a:t>Specialist service record: therapy</a:t>
            </a:r>
            <a:endParaRPr b="1" lang="en-US" sz="3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3160" y="2222280"/>
            <a:ext cx="748188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9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hat’s the data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2" marL="148284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ext, Images, Biochemistry, Microbiology, Vital signs and waveforms (e.g. ECG), EEG, etc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F31E-8281-428D-86F5-D895901EC95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9E4FA22-ABD0-49E0-8457-A4910DB7EB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M Reynolds</dc:creator>
  <dc:description/>
  <dc:language>en-US</dc:language>
  <cp:lastModifiedBy>Melvin Reynolds</cp:lastModifiedBy>
  <cp:lastPrinted>2001-03-15T13:10:50Z</cp:lastPrinted>
  <dcterms:modified xsi:type="dcterms:W3CDTF">2003-05-23T23:30:52Z</dcterms:modified>
  <cp:revision>132</cp:revision>
  <dc:subject>Session 4: Medical Record</dc:subject>
  <dc:title>Models of interchange</dc:title>
</cp:coreProperties>
</file>