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28.bin" ContentType="application/vnd.openxmlformats-officedocument.oleObject"/>
  <Override PartName="/ppt/embeddings/oleObject27.bin" ContentType="application/vnd.openxmlformats-officedocument.oleObject"/>
  <Override PartName="/ppt/embeddings/oleObject14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3C534-AD8B-4E30-AD5C-9A63ABB9F6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3350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0FF26-DC2F-462F-A3CD-9BDBC65A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57D94-7896-4FD5-8464-D40006CF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3350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33350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33350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B5CA7-E081-40A4-892D-44811DA99D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3DD7C-F43A-4595-9171-FEE97E0B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FD565-84EE-43AB-BC28-CFC51F00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441E2-561C-498D-80EE-B2B2FBB5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94625-E71F-49CA-8B8F-3C72CFA2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101DD-311A-4A97-955A-72FA5986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E264-E563-42CB-9189-733845A1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33350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91C49-5ED2-406B-B57B-40BA409D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3350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806D2-6C78-4208-8A3D-A56FBE55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85800" y="60958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1676520" y="5715000"/>
            <a:ext cx="5105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tandardization in E-health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609480" y="380880"/>
            <a:ext cx="7925040" cy="50292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90512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shop on Standardization in E-health, Geneva, 23-25 May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3808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A7FA-7BD2-4553-B831-89078CCF634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69339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2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3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4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5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6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7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8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image" Target="../media/image1.png"/><Relationship Id="rId5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ession 3: Panel and Audience Discussion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onclusions &amp; Recommendation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Chair: Melvin Reynold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Senior Partner – AMS Consulting, UK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Vice-chair ISO TC215 WG2 and IEEE1073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Convenor CEN TC251 WG4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66F92-3A43-4CB4-81C7-6BCC3CE2AB8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37FD6-EEBE-43E0-AC40-BCF011A3D0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71600" y="19051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Identify standards &amp; technologies supporting e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30481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Coordinate standardizatio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365760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Identify opportunities for joint eHealth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24382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Identify gaps in the available 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4267080"/>
            <a:ext cx="7162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Provide support (</a:t>
            </a:r>
            <a:r>
              <a:rPr b="0" i="1" lang="en-GB" sz="2400" spc="-1" strike="noStrike">
                <a:solidFill>
                  <a:srgbClr val="990033"/>
                </a:solidFill>
                <a:latin typeface="Times New Roman"/>
              </a:rPr>
              <a:t>guidelines</a:t>
            </a: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) for those seeking to use eHealth technology to address real-world ne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380880"/>
            <a:ext cx="7925040" cy="50292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76520" y="5715000"/>
            <a:ext cx="5105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tandardization in E-health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763560" cy="838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647712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5408-2446-483B-B8A6-AF086380F17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Key objectives of eHealth Work Shop: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Times New Roman"/>
              </a:rPr>
              <a:t>Use Case Centric Activitie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FCF97-EC94-4283-B5CC-E4ADE4B57BE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A7BA7-8188-4B93-990E-66BA66BBE3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105520" y="3200400"/>
          <a:ext cx="270648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200400"/>
                    <a:ext cx="27064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800600" y="533520"/>
          <a:ext cx="2971800" cy="27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533520"/>
                    <a:ext cx="297180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295280" y="533520"/>
          <a:ext cx="2775240" cy="297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533520"/>
                    <a:ext cx="2775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295280" y="3352680"/>
          <a:ext cx="2971800" cy="277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3352680"/>
                    <a:ext cx="297180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981080" y="1600200"/>
          <a:ext cx="843120" cy="114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1600200"/>
                    <a:ext cx="843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886200" y="1676520"/>
          <a:ext cx="762120" cy="30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1676520"/>
                    <a:ext cx="7621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638680" y="1295280"/>
          <a:ext cx="612720" cy="762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1295280"/>
                    <a:ext cx="6127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6781680" y="1981080"/>
          <a:ext cx="838440" cy="78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81680" y="1981080"/>
                    <a:ext cx="83844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553080" y="1219320"/>
          <a:ext cx="762120" cy="588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53080" y="1219320"/>
                    <a:ext cx="7621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324480" y="2514600"/>
          <a:ext cx="339840" cy="870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24480" y="2514600"/>
                    <a:ext cx="33984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477120" y="4491000"/>
          <a:ext cx="1295280" cy="193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77120" y="4491000"/>
                    <a:ext cx="129528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6477120" y="4648320"/>
          <a:ext cx="1218960" cy="203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77120" y="4648320"/>
                    <a:ext cx="121896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477120" y="4800600"/>
          <a:ext cx="685800" cy="1936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477120" y="4800600"/>
                    <a:ext cx="68580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477120" y="4952880"/>
          <a:ext cx="457200" cy="179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477120" y="4952880"/>
                    <a:ext cx="457200" cy="1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6477120" y="5105520"/>
          <a:ext cx="838080" cy="190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477120" y="5105520"/>
                    <a:ext cx="83808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477120" y="5257800"/>
          <a:ext cx="1295280" cy="1936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77120" y="5257800"/>
                    <a:ext cx="129528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419720" y="4724280"/>
          <a:ext cx="869760" cy="339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419720" y="4724280"/>
                    <a:ext cx="8697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362320" y="4572000"/>
          <a:ext cx="1523880" cy="2239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362320" y="4572000"/>
                    <a:ext cx="152388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362320" y="4724280"/>
          <a:ext cx="990360" cy="2224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362320" y="4724280"/>
                    <a:ext cx="990360" cy="2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362320" y="5181480"/>
          <a:ext cx="685800" cy="236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362320" y="5181480"/>
                    <a:ext cx="6858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362320" y="4876920"/>
          <a:ext cx="1066680" cy="2268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362320" y="4876920"/>
                    <a:ext cx="1066680" cy="22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362320" y="5334120"/>
          <a:ext cx="609480" cy="2174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362320" y="5334120"/>
                    <a:ext cx="60948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362320" y="5029200"/>
          <a:ext cx="1295280" cy="22716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2362320" y="5029200"/>
                    <a:ext cx="129528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362320" y="3048120"/>
          <a:ext cx="339480" cy="86976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362320" y="3048120"/>
                    <a:ext cx="33948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362320" y="5638680"/>
          <a:ext cx="533160" cy="2174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2362320" y="5638680"/>
                    <a:ext cx="53316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362320" y="5486400"/>
          <a:ext cx="761760" cy="22392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2362320" y="5486400"/>
                    <a:ext cx="7617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362320" y="5791320"/>
          <a:ext cx="380880" cy="21096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2362320" y="5791320"/>
                    <a:ext cx="380880" cy="2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477120" y="5410080"/>
          <a:ext cx="380880" cy="21132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6477120" y="5410080"/>
                    <a:ext cx="380880" cy="2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609480" y="228600"/>
            <a:ext cx="7925040" cy="6095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7"/>
          <a:stretch/>
        </p:blipFill>
        <p:spPr>
          <a:xfrm>
            <a:off x="1371600" y="6400800"/>
            <a:ext cx="316080" cy="34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798C-C27D-4D68-8C2A-4EB53B48887D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6EB51-D710-4D78-A954-6C6EACA278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71600" y="160020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Activities focused on addressing real-world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28954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Profile specifications direct standardization and pilot project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7339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Coordination between groups is based on use case requirements and  progressing 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2057400"/>
            <a:ext cx="71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Use case analysis &amp; requirements specification identify ICT usage &amp; “gap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457200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Coordination activities result in tangible benefits to all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380880"/>
            <a:ext cx="7925040" cy="50292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676520" y="5715000"/>
            <a:ext cx="5105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tandardization in E-health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810560" y="5562720"/>
            <a:ext cx="763560" cy="8380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Benefits from Use Case Centric Activities: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Times New Roman"/>
              </a:rPr>
              <a:t>Use Case Centric Activitie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0360-CA6B-491F-BF88-A5E65067A0D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631E4-F6E5-4E03-B7BE-A6DD5A42C1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Overview of issues in the session: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conomic and social issue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e economic motivators for deployment of telemedicine remain unclear if the health element is taken alone. 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em more positive if the economic impact on social care is included.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ocial engineering effects are reasonably easily demonstrated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DA7F4-42B9-40FA-8DC3-1A46C397CF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C9DD8-C321-4303-B52C-10CE1568A8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Overview of issues in the session: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nteroperability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It is possible, according to Indian experience, to ‘impose’ the use of standards to achieve interoperability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However, the majority of telemedicine products are closed and proprietary so interoperability between complementary aspects of telemedicine products and the health record is not possible. 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is lack of interoperability prevents telemedicine being usefully deployed in mainstream healthcare, and limits it to pilot work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799B0-49E8-4A79-B31C-3568813E327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63388-B523-4E02-A5F2-87246CA3A1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Overview of issues in the session: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haring of informatio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The lack of wide dissemination of the positive (and negative) outcomes of telemedicine projects hinders learning from the experience of others. 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It would be valuable if projects ensure that their results are made available to ISO TC215 and ITU-D, ITU-T secretariats for dissemination amongst their interested experts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Telemedicine information and educational resources need to be available at low cost (free?) for the developing countries which have severe financial constraints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C2CD1-5C7A-43DE-ABF7-7CAFE04CF41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5C421-1B1A-4E41-8616-8FC38B4DBE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Overview of issues in the session: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understanding the use case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Independent of the technologies, there has to be a clear understanding of the individual scenarios that are to be supported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From an informal, but complete, exploration of the use scenario a formal model of the use case can be derived.   From the use case the appropriate information and  technical components can be identified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When sufficient use cases exist they should be compared and common features generalised to form the basis of appropriate standards  and operational profiles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CF7CE-9634-4DE8-9510-2272843CC8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CAD7A-0B7A-4C28-8E83-688E14694D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commendation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Understand, and be explicit about economic and social issu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Interoperability is essential for ‘real-world’ operational systems integrated into healthcare process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haring of information about work is essential to prevent reinvention of wheels and reduction of cost of deploymen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Understanding the use cases is essential to successful implementaion, and the basis for meaningful co-operation in developing standards to achieve interoperability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F00D8-B49F-410F-98B5-D9BA9D9AEE0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B85DA-BD3E-4C3B-A73F-27458CBC74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Follow-up action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Disseminate information on economic and social issu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romote the need for interoperability as the motor for real deployment of health record and telemedicine solution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hare information about work to prevent reinvention of wheels and reduction of cost of deploymen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Develop the use cases as the basis for meaningful co-operation in development of standards to achieve interoperability.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4B946-8B37-4A32-90D7-D3455DDB004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778F0-4A90-404A-94DD-E80F16FEE4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onclusio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hairman’s suggestions:</a:t>
            </a:r>
            <a:br>
              <a:rPr sz="2400"/>
            </a:b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Establish a Liaison from ITU to ISO TC215 to enable sharing of appropriate document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ISO TC 215 and ITU to provide ITU-hosted website simply as a referencing and search engine to other telemedicine websites worldwide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ISO TC 215 and ITU to jointly develop, by mutual participation of self-nominated experts, use cases as the basis for identifying and, where appropriate, developing appropriate standard profiles to enable interoperability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37645-B9E3-4495-AF04-DA960D4703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FE26B-EBC8-4BC9-AD1A-EE521FB5BF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380880"/>
            <a:ext cx="7925040" cy="50292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76520" y="5715000"/>
            <a:ext cx="5105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tandardization in E-health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647712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06FA-2978-4EBF-B797-902792B3200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SO TC215</a:t>
            </a:r>
            <a:br>
              <a:rPr sz="28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onclusions &amp; Recommendation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Use Case Centric Activiti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67F04-1D95-47ED-B1ED-9264F027812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7073C-675A-4FE9-A44D-E92A2488F6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7:05:20Z</dcterms:created>
  <dc:creator>M Reynolds</dc:creator>
  <dc:description/>
  <dc:language>en-US</dc:language>
  <cp:lastModifiedBy>TSB-Simao</cp:lastModifiedBy>
  <dcterms:modified xsi:type="dcterms:W3CDTF">2003-05-26T19:11:02Z</dcterms:modified>
  <cp:revision>53</cp:revision>
  <dc:subject>Session3- summary</dc:subject>
  <dc:title>Summary</dc:title>
</cp:coreProperties>
</file>