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7147-F49A-47CB-94DC-34F7DBB6E9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AB38-E9F0-40C9-B257-71A4E13E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9236-92AE-4A88-A9DC-C93DCCCA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547D1-4C58-4C0D-B608-823B44EA0C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FC96-27D1-4C62-9577-1F1FB982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CD6C-0D8F-4EB4-8C94-4DC7D751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126E-71AA-40AC-9D30-7243A3F4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07DD-5F89-4967-B27A-8879D107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B4C0A-C4F2-45A6-84C9-19F81F2B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59BB-7ADB-48A4-95C5-8A73589D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88DB-3033-4B00-9C57-0FAEB763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93FE-0F00-4BDA-A756-DD9A3A70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andardization in E-health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09480" y="380880"/>
            <a:ext cx="7925040" cy="5029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512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on Standardization in E-health, Geneva, 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3808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94DE-4E14-43EA-9BB3-9805414F831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9339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ession 2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(Case Studies)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onclusions &amp; Recommendations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Ronald Welz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Director WDS Technologies SA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9B32-C4FA-47D2-83D1-CEEEF798128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B794D-40A7-46B8-B022-BCD838BD1A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Follow-up ac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Diffusion of synthesized and compact information on ITU web-sites with links to standards, projects &amp; compan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Publication of guidelines for e-Health implementer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Creation of a “Telemedicine Reference Model” ?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Creation of an expert committee to synthesized e-Health standard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Organisation of conferences in developing country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Linkage of national pilot projects to test interoperability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C484-4DA4-4EC7-A7EF-6948B43862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BB19A-66D1-4FCE-AB9D-F5CA1CBB96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E-Health is slowly but surely happening. Be patient, telemedicine will not happen before IT is integrated sufficiently within hospitals (happening now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ime runs for consolidation and information rather then for new standard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pecial attention for developing countries is needed so that there is not only a digital divide between North and South but within these area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5FE14-E368-4433-93D9-E419D0B74E2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1D83B-1803-4FF1-9ACD-8765D9E347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esentations in Ses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Overview of ITU-D case studies; P. Kantchev; BDT, ITU, Switzerland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Keneya blown : the telemedicine pilot project in Mali; O. Ly, Geneva University Hospital, Switzerland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Force Feedback Ultrasound Service; P. Thorel, France Telecom, R&amp;D Telemedicine Services, France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Argonaute 3D Virtual Medical Team; P. Thorel, France Telecom, R&amp;D Telemedicine Services, France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East Bhutan Tele-ECG Project; Subekti, Tokai University, Japan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6D816-8533-434B-B66B-74751A6454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F2EDB-07AD-45EA-B3C3-3EEC8AAE99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1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verview of ITU-D case studie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Evolving technologies enhance E-Health services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Developing countries can benefit by using simple low-cost systems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Success of implementation based on close and strong cooperation between medical and telecommunication sector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Large scale projects and E-Health networks deployment depend on transparency, interoperability and world-wide standardization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Ministries of public health and health insurers will become strongest E-Health proponents when the E-Health will make cheaper and widen the horizon of health services to citizens and customers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E-Health interoperability standards are needed now!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D497-D4C6-47B7-AB97-176338BEBB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ED423-CE00-4C94-BF0F-F983238001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2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Telemedicine pilot project in Mali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0033"/>
                </a:solidFill>
                <a:latin typeface="Times New Roman"/>
              </a:rPr>
              <a:t>Differents activities - be a provider, trainer, web hosting service, ...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Do not reinvent the wheel - use as background the work done by other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Do not work alone - Necessary to cooperate in the national, regional and international scal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Choose of adaptable technology - use of  free software and if available open source softwar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D8BB-1658-4DC9-B321-99C9C7A52D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C64E0-637A-48A8-963F-BC502FAE1F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3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fr-CH" sz="2800" spc="-1" strike="noStrike">
                <a:solidFill>
                  <a:srgbClr val="a50021"/>
                </a:solidFill>
                <a:latin typeface="Times New Roman"/>
              </a:rPr>
              <a:t>Force Feedback Ultrasound Service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1288-D511-4B86-A007-528999F5402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A072A-31FC-40CF-8AA8-75C86070A0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4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fr-CH" sz="2800" spc="-1" strike="noStrike">
                <a:solidFill>
                  <a:srgbClr val="a50021"/>
                </a:solidFill>
                <a:latin typeface="Times New Roman"/>
              </a:rPr>
              <a:t>Argonaute 3D Virtual Medical Team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78B3-BFCD-4505-AF46-81F88EDD36D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BB823-CC0F-4F74-B9B9-1805FBF53D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5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fr-CH" sz="2800" spc="-1" strike="noStrike">
                <a:solidFill>
                  <a:srgbClr val="a50021"/>
                </a:solidFill>
                <a:latin typeface="Times New Roman"/>
              </a:rPr>
              <a:t>East Bhutan Tele-ECG Project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Telemedicine in Bhutan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MS PGothic"/>
              </a:rPr>
              <a:t>very useful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MS PGothic"/>
              </a:rPr>
              <a:t>step-by-step approach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MS PGothic"/>
              </a:rPr>
              <a:t>sustainability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Evaluation from our current project will become feedback to gain better result for the future project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overnment of Bhutan and Health Professionals have high enthusiasms and welcome to this project which shows high potential sustainable of this project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F3AE-C1B3-4BAB-9D1C-444E3F07BE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F64A3-DD1A-4FD3-BFCB-F3BC93B531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verview of issues in the ses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dards are there but no one does cover the global complexity of e-Health application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Understandability/Complexity of some standards is low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Missing bandwidth slow implementation, particularly in developing countr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Large scale/Multi-vendor experiences is missing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Missing Interoperability scenarios make large-scale (=nation-wide) projects difficul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dard for ECG encoding missing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Mobile telemedicine technology will probably have some impac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3C68-01F0-4739-B00D-46494E9A89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78AF6-74C5-403C-A62C-C661840DBE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commenda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384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There is no need for a new big healthcare standard should be started; rather « Meta » standards (like IHE or HL7-RIM) are now important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Coordination between ITU/ISO/CEN/DICOM/HL7 to be promoted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Follow-up studies should give better feedback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Large scale projects should be promoted to test multi-vendor compatibility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Usage of XML should be promoted within the standard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Open Source/Royalties free standards are to be promoted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Special needs must be considered (for example: Standard for ECG encoding required)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CCC8-E817-43D0-A3AA-A83D47E012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DB6F1-9579-4803-8F3C-94D74E582A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7:05:20Z</dcterms:created>
  <dc:creator>TSB</dc:creator>
  <dc:description/>
  <dc:language>en-US</dc:language>
  <cp:lastModifiedBy>TSB-Simao</cp:lastModifiedBy>
  <dcterms:modified xsi:type="dcterms:W3CDTF">2003-05-26T19:02:56Z</dcterms:modified>
  <cp:revision>70</cp:revision>
  <dc:subject/>
  <dc:title>PowerPoint Presentation</dc:title>
</cp:coreProperties>
</file>