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279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69960" y="5867280"/>
            <a:ext cx="8244000" cy="934560"/>
            <a:chOff x="669960" y="5867280"/>
            <a:chExt cx="8244000" cy="934560"/>
          </a:xfrm>
        </p:grpSpPr>
        <p:sp>
          <p:nvSpPr>
            <p:cNvPr id="3" name=""/>
            <p:cNvSpPr/>
            <p:nvPr/>
          </p:nvSpPr>
          <p:spPr>
            <a:xfrm>
              <a:off x="7545240" y="6343560"/>
              <a:ext cx="136872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669960" y="5867280"/>
              <a:ext cx="93024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668600" y="5982840"/>
              <a:ext cx="5302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279f"/>
                  </a:solidFill>
                  <a:latin typeface="Arial"/>
                </a:rPr>
                <a:t>RIGSHOSPITALET – Copenhagen University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entre of Diagnostic Investig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279f"/>
                  </a:solidFill>
                  <a:latin typeface="Arial"/>
                </a:rPr>
                <a:t>Clinical Engineering Depart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76320" y="1619280"/>
            <a:ext cx="8991360" cy="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igshospitalet             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penhagen University Hospita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4" name="rh" descr="Rigshospitalet"/>
          <p:cNvPicPr/>
          <p:nvPr/>
        </p:nvPicPr>
        <p:blipFill>
          <a:blip r:embed="rId1"/>
          <a:stretch/>
        </p:blipFill>
        <p:spPr>
          <a:xfrm>
            <a:off x="1752480" y="2286000"/>
            <a:ext cx="5668920" cy="34401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738440" y="1709640"/>
            <a:ext cx="9144000" cy="360"/>
            <a:chOff x="1738440" y="1709640"/>
            <a:chExt cx="9144000" cy="360"/>
          </a:xfrm>
        </p:grpSpPr>
        <p:sp>
          <p:nvSpPr>
            <p:cNvPr id="46" name=""/>
            <p:cNvSpPr/>
            <p:nvPr/>
          </p:nvSpPr>
          <p:spPr>
            <a:xfrm>
              <a:off x="1738440" y="170964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38440" y="170964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Cardi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bulanc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2 lead ECG Consul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ctors Ambulance in Copenha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lck on Amager, Copenha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fc0128"/>
                </a:solidFill>
                <a:latin typeface="Arial"/>
              </a:rPr>
              <a:t>E-health Ambulances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7" name="laegeamb2_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1676520" cy="936360"/>
          </a:xfrm>
          <a:prstGeom prst="rect">
            <a:avLst/>
          </a:prstGeom>
          <a:ln w="0">
            <a:noFill/>
          </a:ln>
        </p:spPr>
      </p:pic>
      <p:pic>
        <p:nvPicPr>
          <p:cNvPr id="78" name="LP12BEAU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1447920" cy="113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419720" y="1905120"/>
          <a:ext cx="1514520" cy="13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905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495680" y="4267080"/>
          <a:ext cx="151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4267080"/>
                    <a:ext cx="151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086600" y="3048120"/>
          <a:ext cx="1600200" cy="119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3048120"/>
                    <a:ext cx="1600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V="1">
            <a:off x="6095880" y="3733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25146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040" y="31240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2320" y="54864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uma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8600" y="44956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nt 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520" y="49528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tors Ambu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62320" y="2438280"/>
            <a:ext cx="1981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65760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9760" y="42670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Path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lete pathology service to Faeroe Isla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mote controlled microsco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Gynaec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ute service to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eenland 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ederiksberg Hos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Techn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deo-conference ISDNX3 284 Kb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PN Internet ISND 64 Kb and ADSL 2 Mb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PN Streamed Video (ne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VPN Internet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4040" y="3027240"/>
            <a:ext cx="8622000" cy="803160"/>
            <a:chOff x="284040" y="3027240"/>
            <a:chExt cx="8622000" cy="803160"/>
          </a:xfrm>
        </p:grpSpPr>
        <p:sp>
          <p:nvSpPr>
            <p:cNvPr id="102" name=""/>
            <p:cNvSpPr/>
            <p:nvPr/>
          </p:nvSpPr>
          <p:spPr>
            <a:xfrm>
              <a:off x="284040" y="3027240"/>
              <a:ext cx="2738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22560" y="3027240"/>
              <a:ext cx="142740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49960" y="3027240"/>
              <a:ext cx="15271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77080" y="3027240"/>
              <a:ext cx="14270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04120" y="3027240"/>
              <a:ext cx="15019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073160" y="3027240"/>
            <a:ext cx="27385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3200400"/>
          <a:ext cx="8426520" cy="45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0400"/>
                    <a:ext cx="84265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Videokonference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8960" y="2766960"/>
            <a:ext cx="1649520" cy="1936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20880" y="3065400"/>
            <a:ext cx="1820880" cy="1057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28/384 kbit/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65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3733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 X ISD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73760" y="2717640"/>
            <a:ext cx="1649160" cy="193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3581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76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Visio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733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 X ISD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02280" y="2438280"/>
            <a:ext cx="1784520" cy="332280"/>
          </a:xfrm>
          <a:prstGeom prst="rect">
            <a:avLst/>
          </a:prstGeom>
          <a:solidFill>
            <a:srgbClr val="00ae00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hocardio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971800"/>
            <a:ext cx="1784520" cy="332280"/>
          </a:xfrm>
          <a:prstGeom prst="rect">
            <a:avLst/>
          </a:prstGeom>
          <a:solidFill>
            <a:srgbClr val="00ae00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505320"/>
            <a:ext cx="1784520" cy="332280"/>
          </a:xfrm>
          <a:prstGeom prst="rect">
            <a:avLst/>
          </a:prstGeom>
          <a:solidFill>
            <a:srgbClr val="00ae00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4038480"/>
            <a:ext cx="2070000" cy="332280"/>
          </a:xfrm>
          <a:prstGeom prst="rect">
            <a:avLst/>
          </a:prstGeom>
          <a:solidFill>
            <a:srgbClr val="00ae00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934320" y="4648320"/>
          <a:ext cx="560160" cy="50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648320"/>
                    <a:ext cx="560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934320" y="52578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cument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477120" y="259056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77120" y="3124080"/>
            <a:ext cx="3045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3657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191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4876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Visio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Stream video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34" name="2" descr=""/>
          <p:cNvPicPr/>
          <p:nvPr/>
        </p:nvPicPr>
        <p:blipFill>
          <a:blip r:embed="rId1"/>
          <a:srcRect l="0" t="11673" r="50377" b="36341"/>
          <a:stretch/>
        </p:blipFill>
        <p:spPr>
          <a:xfrm>
            <a:off x="1752480" y="1828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ortant to choose standard equ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ortant to re-engineer your proced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uidelines for implementation, technique and work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ntroduction to</a:t>
            </a:r>
            <a:br>
              <a:rPr sz="3600"/>
            </a:br>
            <a:r>
              <a:rPr b="1" lang="en-GB" sz="3600" spc="-1" strike="noStrike">
                <a:solidFill>
                  <a:srgbClr val="0e52fc"/>
                </a:solidFill>
                <a:latin typeface="Arial"/>
              </a:rPr>
              <a:t>Rigshospital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d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e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,289 (full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,6 bill DK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nical specialiti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services: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rdi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th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ynaec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Radi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ute services to Greenl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eroe Isla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st Zeeland Coun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ederiksberg Coun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rnholm Coun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Radiology - map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5" name="dkmini" descr="Danmark"/>
          <p:cNvPicPr/>
          <p:nvPr/>
        </p:nvPicPr>
        <p:blipFill>
          <a:blip r:embed="rId1"/>
          <a:stretch/>
        </p:blipFill>
        <p:spPr>
          <a:xfrm>
            <a:off x="2209680" y="1663560"/>
            <a:ext cx="5123160" cy="422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4267080"/>
            <a:ext cx="1523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486400" y="41907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800240" y="4267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61760" y="2209320"/>
            <a:ext cx="464796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04560" y="2209320"/>
            <a:ext cx="510516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Cardi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cho cardiograph constellations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rnholm Coun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dense University Hos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Cardiology - map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64" name="dkmini" descr="Danmark"/>
          <p:cNvPicPr/>
          <p:nvPr/>
        </p:nvPicPr>
        <p:blipFill>
          <a:blip r:embed="rId1"/>
          <a:stretch/>
        </p:blipFill>
        <p:spPr>
          <a:xfrm>
            <a:off x="2209680" y="1663560"/>
            <a:ext cx="5123160" cy="4226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304560" y="1904760"/>
            <a:ext cx="518148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267080"/>
            <a:ext cx="1523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14800" y="426708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Cardiolog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giographies constellations to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spebjerg Hos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skilde Hos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E-health Cardiology - map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1" name="dkmini" descr="Danmark"/>
          <p:cNvPicPr/>
          <p:nvPr/>
        </p:nvPicPr>
        <p:blipFill>
          <a:blip r:embed="rId1"/>
          <a:stretch/>
        </p:blipFill>
        <p:spPr>
          <a:xfrm>
            <a:off x="2209680" y="1663560"/>
            <a:ext cx="5123160" cy="4226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5410080" y="419076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8112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7T13:52:30Z</dcterms:created>
  <dc:creator>Rigshospitalet</dc:creator>
  <dc:description/>
  <dc:language>en-US</dc:language>
  <cp:lastModifiedBy>RH</cp:lastModifiedBy>
  <cp:lastPrinted>1998-01-09T08:36:36Z</cp:lastPrinted>
  <dcterms:modified xsi:type="dcterms:W3CDTF">2003-05-21T13:28:31Z</dcterms:modified>
  <cp:revision>43</cp:revision>
  <dc:subject/>
  <dc:title>Copenhagen Hospital Corporation</dc:title>
</cp:coreProperties>
</file>