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70866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76160" y="3383640"/>
            <a:ext cx="70866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45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07480" y="2133360"/>
            <a:ext cx="345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76160" y="3383640"/>
            <a:ext cx="345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07480" y="3383640"/>
            <a:ext cx="345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228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72320" y="2133360"/>
            <a:ext cx="228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68480" y="2133360"/>
            <a:ext cx="228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76160" y="3383640"/>
            <a:ext cx="228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72320" y="3383640"/>
            <a:ext cx="228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68480" y="3383640"/>
            <a:ext cx="228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676160" y="2133360"/>
            <a:ext cx="7086600" cy="239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7086600" cy="2393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458160" cy="2393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07480" y="2133360"/>
            <a:ext cx="3458160" cy="2393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676160" y="914040"/>
            <a:ext cx="70866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45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07480" y="2133360"/>
            <a:ext cx="3458160" cy="2393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76160" y="3383640"/>
            <a:ext cx="345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76160" y="2133360"/>
            <a:ext cx="7086600" cy="239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458160" cy="2393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07480" y="2133360"/>
            <a:ext cx="345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07480" y="3383640"/>
            <a:ext cx="345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45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07480" y="2133360"/>
            <a:ext cx="345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76160" y="3383640"/>
            <a:ext cx="70866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70866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676160" y="3383640"/>
            <a:ext cx="70866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45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07480" y="2133360"/>
            <a:ext cx="345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676160" y="3383640"/>
            <a:ext cx="345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07480" y="3383640"/>
            <a:ext cx="345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228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072320" y="2133360"/>
            <a:ext cx="228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68480" y="2133360"/>
            <a:ext cx="228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676160" y="3383640"/>
            <a:ext cx="228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072320" y="3383640"/>
            <a:ext cx="228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68480" y="3383640"/>
            <a:ext cx="228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7086600" cy="2393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458160" cy="2393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7480" y="2133360"/>
            <a:ext cx="3458160" cy="2393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914040"/>
            <a:ext cx="7086600" cy="23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45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7480" y="2133360"/>
            <a:ext cx="3458160" cy="2393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76160" y="3383640"/>
            <a:ext cx="345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458160" cy="2393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07480" y="2133360"/>
            <a:ext cx="345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07480" y="3383640"/>
            <a:ext cx="345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45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7480" y="2133360"/>
            <a:ext cx="345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3383640"/>
            <a:ext cx="70866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33440" y="533520"/>
            <a:ext cx="781056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33520"/>
            <a:ext cx="1333440" cy="6324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333440" cy="5335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333440" y="0"/>
            <a:ext cx="7810560" cy="5335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708660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147160" y="196920"/>
            <a:ext cx="6159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80BD-C801-4583-A7BA-96C51E5705E3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2016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676160" y="2133360"/>
            <a:ext cx="7086600" cy="2393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 fontScale="99000"/>
          </a:bodyPr>
          <a:p>
            <a:pPr marL="282960" indent="-282960">
              <a:lnSpc>
                <a:spcPct val="110000"/>
              </a:lnSpc>
              <a:buClr>
                <a:srgbClr val="000000"/>
              </a:buClr>
              <a:buFont typeface="ExtraS 1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2960">
              <a:lnSpc>
                <a:spcPct val="110000"/>
              </a:lnSpc>
              <a:buClr>
                <a:srgbClr val="000000"/>
              </a:buClr>
              <a:buFont typeface="ExtraS 1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64040" indent="-226080">
              <a:lnSpc>
                <a:spcPct val="110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79120" indent="-226080">
              <a:lnSpc>
                <a:spcPct val="110000"/>
              </a:lnSpc>
              <a:buClr>
                <a:srgbClr val="002b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93840" indent="-226080">
              <a:lnSpc>
                <a:spcPct val="110000"/>
              </a:lnSpc>
              <a:buClr>
                <a:srgbClr val="002b5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93840" indent="-22608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93840" indent="-22608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6172200"/>
            <a:ext cx="11430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ieme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medical sol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that hel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109440" y="5638680"/>
            <a:ext cx="1121400" cy="545400"/>
            <a:chOff x="109440" y="5638680"/>
            <a:chExt cx="1121400" cy="545400"/>
          </a:xfrm>
        </p:grpSpPr>
        <p:pic>
          <p:nvPicPr>
            <p:cNvPr id="10" name="Quality-Logo-rgb-256" descr=""/>
            <p:cNvPicPr/>
            <p:nvPr/>
          </p:nvPicPr>
          <p:blipFill>
            <a:blip r:embed="rId2"/>
            <a:stretch/>
          </p:blipFill>
          <p:spPr>
            <a:xfrm>
              <a:off x="109440" y="5638680"/>
              <a:ext cx="500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18840" y="5985000"/>
              <a:ext cx="6120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5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600" spc="-1" strike="noStrike">
                  <a:solidFill>
                    <a:srgbClr val="002b5d"/>
                  </a:solidFill>
                  <a:latin typeface="Arial"/>
                </a:rPr>
                <a:t>Competence</a:t>
              </a:r>
              <a:br>
                <a:rPr sz="600"/>
              </a:br>
              <a:r>
                <a:rPr b="1" lang="de-DE" sz="600" spc="-1" strike="noStrike">
                  <a:solidFill>
                    <a:srgbClr val="002b5d"/>
                  </a:solidFill>
                  <a:latin typeface="Arial"/>
                </a:rPr>
                <a:t>        in Qualit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33440" y="533520"/>
            <a:ext cx="781056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33520"/>
            <a:ext cx="1333440" cy="6324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333440" cy="5335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3440" y="0"/>
            <a:ext cx="7810560" cy="5335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3440" y="533520"/>
            <a:ext cx="781056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1981080"/>
            <a:ext cx="57909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b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01600"/>
            <a:ext cx="1143000" cy="179280"/>
          </a:xfrm>
          <a:custGeom>
            <a:avLst/>
            <a:gdLst/>
            <a:ahLst/>
            <a:rect l="l" t="t" r="r" b="b"/>
            <a:pathLst>
              <a:path w="3392" h="536">
                <a:moveTo>
                  <a:pt x="366" y="19"/>
                </a:moveTo>
                <a:lnTo>
                  <a:pt x="366" y="119"/>
                </a:lnTo>
                <a:lnTo>
                  <a:pt x="347" y="112"/>
                </a:lnTo>
                <a:lnTo>
                  <a:pt x="328" y="106"/>
                </a:lnTo>
                <a:lnTo>
                  <a:pt x="310" y="101"/>
                </a:lnTo>
                <a:lnTo>
                  <a:pt x="292" y="97"/>
                </a:lnTo>
                <a:lnTo>
                  <a:pt x="275" y="94"/>
                </a:lnTo>
                <a:lnTo>
                  <a:pt x="258" y="92"/>
                </a:lnTo>
                <a:lnTo>
                  <a:pt x="242" y="90"/>
                </a:lnTo>
                <a:lnTo>
                  <a:pt x="226" y="90"/>
                </a:lnTo>
                <a:lnTo>
                  <a:pt x="217" y="90"/>
                </a:lnTo>
                <a:lnTo>
                  <a:pt x="209" y="91"/>
                </a:lnTo>
                <a:lnTo>
                  <a:pt x="201" y="92"/>
                </a:lnTo>
                <a:lnTo>
                  <a:pt x="193" y="93"/>
                </a:lnTo>
                <a:lnTo>
                  <a:pt x="186" y="95"/>
                </a:lnTo>
                <a:lnTo>
                  <a:pt x="180" y="97"/>
                </a:lnTo>
                <a:lnTo>
                  <a:pt x="174" y="100"/>
                </a:lnTo>
                <a:lnTo>
                  <a:pt x="168" y="103"/>
                </a:lnTo>
                <a:lnTo>
                  <a:pt x="163" y="106"/>
                </a:lnTo>
                <a:lnTo>
                  <a:pt x="158" y="110"/>
                </a:lnTo>
                <a:lnTo>
                  <a:pt x="155" y="113"/>
                </a:lnTo>
                <a:lnTo>
                  <a:pt x="153" y="115"/>
                </a:lnTo>
                <a:lnTo>
                  <a:pt x="152" y="117"/>
                </a:lnTo>
                <a:lnTo>
                  <a:pt x="149" y="121"/>
                </a:lnTo>
                <a:lnTo>
                  <a:pt x="148" y="126"/>
                </a:lnTo>
                <a:lnTo>
                  <a:pt x="147" y="130"/>
                </a:lnTo>
                <a:lnTo>
                  <a:pt x="146" y="135"/>
                </a:lnTo>
                <a:lnTo>
                  <a:pt x="147" y="141"/>
                </a:lnTo>
                <a:lnTo>
                  <a:pt x="149" y="147"/>
                </a:lnTo>
                <a:lnTo>
                  <a:pt x="151" y="150"/>
                </a:lnTo>
                <a:lnTo>
                  <a:pt x="153" y="153"/>
                </a:lnTo>
                <a:lnTo>
                  <a:pt x="156" y="155"/>
                </a:lnTo>
                <a:lnTo>
                  <a:pt x="157" y="157"/>
                </a:lnTo>
                <a:lnTo>
                  <a:pt x="159" y="158"/>
                </a:lnTo>
                <a:lnTo>
                  <a:pt x="166" y="164"/>
                </a:lnTo>
                <a:lnTo>
                  <a:pt x="174" y="169"/>
                </a:lnTo>
                <a:lnTo>
                  <a:pt x="184" y="174"/>
                </a:lnTo>
                <a:lnTo>
                  <a:pt x="196" y="179"/>
                </a:lnTo>
                <a:lnTo>
                  <a:pt x="291" y="225"/>
                </a:lnTo>
                <a:lnTo>
                  <a:pt x="305" y="232"/>
                </a:lnTo>
                <a:lnTo>
                  <a:pt x="318" y="239"/>
                </a:lnTo>
                <a:lnTo>
                  <a:pt x="330" y="247"/>
                </a:lnTo>
                <a:lnTo>
                  <a:pt x="342" y="255"/>
                </a:lnTo>
                <a:lnTo>
                  <a:pt x="352" y="263"/>
                </a:lnTo>
                <a:lnTo>
                  <a:pt x="361" y="272"/>
                </a:lnTo>
                <a:lnTo>
                  <a:pt x="370" y="281"/>
                </a:lnTo>
                <a:lnTo>
                  <a:pt x="378" y="290"/>
                </a:lnTo>
                <a:lnTo>
                  <a:pt x="381" y="294"/>
                </a:lnTo>
                <a:lnTo>
                  <a:pt x="384" y="299"/>
                </a:lnTo>
                <a:lnTo>
                  <a:pt x="390" y="308"/>
                </a:lnTo>
                <a:lnTo>
                  <a:pt x="395" y="318"/>
                </a:lnTo>
                <a:lnTo>
                  <a:pt x="399" y="328"/>
                </a:lnTo>
                <a:lnTo>
                  <a:pt x="402" y="338"/>
                </a:lnTo>
                <a:lnTo>
                  <a:pt x="405" y="349"/>
                </a:lnTo>
                <a:lnTo>
                  <a:pt x="406" y="360"/>
                </a:lnTo>
                <a:lnTo>
                  <a:pt x="407" y="371"/>
                </a:lnTo>
                <a:lnTo>
                  <a:pt x="406" y="381"/>
                </a:lnTo>
                <a:lnTo>
                  <a:pt x="406" y="390"/>
                </a:lnTo>
                <a:lnTo>
                  <a:pt x="404" y="398"/>
                </a:lnTo>
                <a:lnTo>
                  <a:pt x="403" y="407"/>
                </a:lnTo>
                <a:lnTo>
                  <a:pt x="401" y="415"/>
                </a:lnTo>
                <a:lnTo>
                  <a:pt x="398" y="423"/>
                </a:lnTo>
                <a:lnTo>
                  <a:pt x="395" y="431"/>
                </a:lnTo>
                <a:lnTo>
                  <a:pt x="391" y="439"/>
                </a:lnTo>
                <a:lnTo>
                  <a:pt x="387" y="446"/>
                </a:lnTo>
                <a:lnTo>
                  <a:pt x="383" y="453"/>
                </a:lnTo>
                <a:lnTo>
                  <a:pt x="378" y="460"/>
                </a:lnTo>
                <a:lnTo>
                  <a:pt x="372" y="467"/>
                </a:lnTo>
                <a:lnTo>
                  <a:pt x="366" y="474"/>
                </a:lnTo>
                <a:lnTo>
                  <a:pt x="360" y="480"/>
                </a:lnTo>
                <a:lnTo>
                  <a:pt x="353" y="486"/>
                </a:lnTo>
                <a:lnTo>
                  <a:pt x="345" y="491"/>
                </a:lnTo>
                <a:lnTo>
                  <a:pt x="337" y="497"/>
                </a:lnTo>
                <a:lnTo>
                  <a:pt x="329" y="502"/>
                </a:lnTo>
                <a:lnTo>
                  <a:pt x="321" y="507"/>
                </a:lnTo>
                <a:lnTo>
                  <a:pt x="312" y="511"/>
                </a:lnTo>
                <a:lnTo>
                  <a:pt x="294" y="519"/>
                </a:lnTo>
                <a:lnTo>
                  <a:pt x="284" y="522"/>
                </a:lnTo>
                <a:lnTo>
                  <a:pt x="274" y="525"/>
                </a:lnTo>
                <a:lnTo>
                  <a:pt x="253" y="530"/>
                </a:lnTo>
                <a:lnTo>
                  <a:pt x="242" y="532"/>
                </a:lnTo>
                <a:lnTo>
                  <a:pt x="230" y="533"/>
                </a:lnTo>
                <a:lnTo>
                  <a:pt x="219" y="535"/>
                </a:lnTo>
                <a:lnTo>
                  <a:pt x="207" y="535"/>
                </a:lnTo>
                <a:lnTo>
                  <a:pt x="194" y="536"/>
                </a:lnTo>
                <a:lnTo>
                  <a:pt x="182" y="536"/>
                </a:lnTo>
                <a:lnTo>
                  <a:pt x="159" y="536"/>
                </a:lnTo>
                <a:lnTo>
                  <a:pt x="137" y="535"/>
                </a:lnTo>
                <a:lnTo>
                  <a:pt x="116" y="534"/>
                </a:lnTo>
                <a:lnTo>
                  <a:pt x="97" y="532"/>
                </a:lnTo>
                <a:lnTo>
                  <a:pt x="77" y="529"/>
                </a:lnTo>
                <a:lnTo>
                  <a:pt x="56" y="526"/>
                </a:lnTo>
                <a:lnTo>
                  <a:pt x="34" y="522"/>
                </a:lnTo>
                <a:lnTo>
                  <a:pt x="11" y="516"/>
                </a:lnTo>
                <a:lnTo>
                  <a:pt x="11" y="411"/>
                </a:lnTo>
                <a:lnTo>
                  <a:pt x="33" y="418"/>
                </a:lnTo>
                <a:lnTo>
                  <a:pt x="54" y="424"/>
                </a:lnTo>
                <a:lnTo>
                  <a:pt x="75" y="429"/>
                </a:lnTo>
                <a:lnTo>
                  <a:pt x="95" y="433"/>
                </a:lnTo>
                <a:lnTo>
                  <a:pt x="115" y="437"/>
                </a:lnTo>
                <a:lnTo>
                  <a:pt x="134" y="439"/>
                </a:lnTo>
                <a:lnTo>
                  <a:pt x="153" y="440"/>
                </a:lnTo>
                <a:lnTo>
                  <a:pt x="171" y="441"/>
                </a:lnTo>
                <a:lnTo>
                  <a:pt x="181" y="441"/>
                </a:lnTo>
                <a:lnTo>
                  <a:pt x="191" y="440"/>
                </a:lnTo>
                <a:lnTo>
                  <a:pt x="200" y="439"/>
                </a:lnTo>
                <a:lnTo>
                  <a:pt x="209" y="438"/>
                </a:lnTo>
                <a:lnTo>
                  <a:pt x="216" y="436"/>
                </a:lnTo>
                <a:lnTo>
                  <a:pt x="223" y="434"/>
                </a:lnTo>
                <a:lnTo>
                  <a:pt x="230" y="431"/>
                </a:lnTo>
                <a:lnTo>
                  <a:pt x="233" y="430"/>
                </a:lnTo>
                <a:lnTo>
                  <a:pt x="235" y="428"/>
                </a:lnTo>
                <a:lnTo>
                  <a:pt x="240" y="425"/>
                </a:lnTo>
                <a:lnTo>
                  <a:pt x="245" y="421"/>
                </a:lnTo>
                <a:lnTo>
                  <a:pt x="249" y="417"/>
                </a:lnTo>
                <a:lnTo>
                  <a:pt x="252" y="413"/>
                </a:lnTo>
                <a:lnTo>
                  <a:pt x="254" y="408"/>
                </a:lnTo>
                <a:lnTo>
                  <a:pt x="256" y="403"/>
                </a:lnTo>
                <a:lnTo>
                  <a:pt x="257" y="397"/>
                </a:lnTo>
                <a:lnTo>
                  <a:pt x="257" y="391"/>
                </a:lnTo>
                <a:lnTo>
                  <a:pt x="256" y="385"/>
                </a:lnTo>
                <a:lnTo>
                  <a:pt x="256" y="382"/>
                </a:lnTo>
                <a:lnTo>
                  <a:pt x="255" y="379"/>
                </a:lnTo>
                <a:lnTo>
                  <a:pt x="252" y="374"/>
                </a:lnTo>
                <a:lnTo>
                  <a:pt x="248" y="369"/>
                </a:lnTo>
                <a:lnTo>
                  <a:pt x="243" y="364"/>
                </a:lnTo>
                <a:lnTo>
                  <a:pt x="237" y="359"/>
                </a:lnTo>
                <a:lnTo>
                  <a:pt x="234" y="357"/>
                </a:lnTo>
                <a:lnTo>
                  <a:pt x="230" y="355"/>
                </a:lnTo>
                <a:lnTo>
                  <a:pt x="222" y="351"/>
                </a:lnTo>
                <a:lnTo>
                  <a:pt x="116" y="306"/>
                </a:lnTo>
                <a:lnTo>
                  <a:pt x="101" y="300"/>
                </a:lnTo>
                <a:lnTo>
                  <a:pt x="88" y="293"/>
                </a:lnTo>
                <a:lnTo>
                  <a:pt x="82" y="289"/>
                </a:lnTo>
                <a:lnTo>
                  <a:pt x="76" y="285"/>
                </a:lnTo>
                <a:lnTo>
                  <a:pt x="64" y="278"/>
                </a:lnTo>
                <a:lnTo>
                  <a:pt x="54" y="269"/>
                </a:lnTo>
                <a:lnTo>
                  <a:pt x="44" y="260"/>
                </a:lnTo>
                <a:lnTo>
                  <a:pt x="36" y="251"/>
                </a:lnTo>
                <a:lnTo>
                  <a:pt x="32" y="246"/>
                </a:lnTo>
                <a:lnTo>
                  <a:pt x="28" y="242"/>
                </a:lnTo>
                <a:lnTo>
                  <a:pt x="22" y="232"/>
                </a:lnTo>
                <a:lnTo>
                  <a:pt x="16" y="222"/>
                </a:lnTo>
                <a:lnTo>
                  <a:pt x="13" y="217"/>
                </a:lnTo>
                <a:lnTo>
                  <a:pt x="11" y="212"/>
                </a:lnTo>
                <a:lnTo>
                  <a:pt x="7" y="201"/>
                </a:lnTo>
                <a:lnTo>
                  <a:pt x="4" y="190"/>
                </a:lnTo>
                <a:lnTo>
                  <a:pt x="2" y="179"/>
                </a:lnTo>
                <a:lnTo>
                  <a:pt x="1" y="167"/>
                </a:lnTo>
                <a:lnTo>
                  <a:pt x="0" y="155"/>
                </a:lnTo>
                <a:lnTo>
                  <a:pt x="0" y="146"/>
                </a:lnTo>
                <a:lnTo>
                  <a:pt x="1" y="138"/>
                </a:lnTo>
                <a:lnTo>
                  <a:pt x="2" y="130"/>
                </a:lnTo>
                <a:lnTo>
                  <a:pt x="4" y="122"/>
                </a:lnTo>
                <a:lnTo>
                  <a:pt x="6" y="114"/>
                </a:lnTo>
                <a:lnTo>
                  <a:pt x="8" y="106"/>
                </a:lnTo>
                <a:lnTo>
                  <a:pt x="11" y="99"/>
                </a:lnTo>
                <a:lnTo>
                  <a:pt x="15" y="92"/>
                </a:lnTo>
                <a:lnTo>
                  <a:pt x="19" y="85"/>
                </a:lnTo>
                <a:lnTo>
                  <a:pt x="23" y="78"/>
                </a:lnTo>
                <a:lnTo>
                  <a:pt x="28" y="72"/>
                </a:lnTo>
                <a:lnTo>
                  <a:pt x="33" y="66"/>
                </a:lnTo>
                <a:lnTo>
                  <a:pt x="39" y="60"/>
                </a:lnTo>
                <a:lnTo>
                  <a:pt x="45" y="54"/>
                </a:lnTo>
                <a:lnTo>
                  <a:pt x="59" y="43"/>
                </a:lnTo>
                <a:lnTo>
                  <a:pt x="74" y="33"/>
                </a:lnTo>
                <a:lnTo>
                  <a:pt x="82" y="28"/>
                </a:lnTo>
                <a:lnTo>
                  <a:pt x="91" y="24"/>
                </a:lnTo>
                <a:lnTo>
                  <a:pt x="100" y="20"/>
                </a:lnTo>
                <a:lnTo>
                  <a:pt x="109" y="17"/>
                </a:lnTo>
                <a:lnTo>
                  <a:pt x="118" y="14"/>
                </a:lnTo>
                <a:lnTo>
                  <a:pt x="128" y="11"/>
                </a:lnTo>
                <a:lnTo>
                  <a:pt x="148" y="6"/>
                </a:lnTo>
                <a:lnTo>
                  <a:pt x="158" y="4"/>
                </a:lnTo>
                <a:lnTo>
                  <a:pt x="169" y="3"/>
                </a:lnTo>
                <a:lnTo>
                  <a:pt x="180" y="2"/>
                </a:lnTo>
                <a:lnTo>
                  <a:pt x="192" y="1"/>
                </a:lnTo>
                <a:lnTo>
                  <a:pt x="216" y="0"/>
                </a:lnTo>
                <a:lnTo>
                  <a:pt x="232" y="1"/>
                </a:lnTo>
                <a:lnTo>
                  <a:pt x="250" y="2"/>
                </a:lnTo>
                <a:lnTo>
                  <a:pt x="268" y="3"/>
                </a:lnTo>
                <a:lnTo>
                  <a:pt x="288" y="6"/>
                </a:lnTo>
                <a:lnTo>
                  <a:pt x="308" y="8"/>
                </a:lnTo>
                <a:lnTo>
                  <a:pt x="328" y="12"/>
                </a:lnTo>
                <a:lnTo>
                  <a:pt x="347" y="15"/>
                </a:lnTo>
                <a:lnTo>
                  <a:pt x="366" y="19"/>
                </a:lnTo>
                <a:close/>
                <a:moveTo>
                  <a:pt x="631" y="10"/>
                </a:moveTo>
                <a:lnTo>
                  <a:pt x="631" y="527"/>
                </a:lnTo>
                <a:lnTo>
                  <a:pt x="476" y="527"/>
                </a:lnTo>
                <a:lnTo>
                  <a:pt x="476" y="10"/>
                </a:lnTo>
                <a:lnTo>
                  <a:pt x="631" y="10"/>
                </a:lnTo>
                <a:close/>
                <a:moveTo>
                  <a:pt x="1133" y="10"/>
                </a:moveTo>
                <a:lnTo>
                  <a:pt x="1133" y="105"/>
                </a:lnTo>
                <a:lnTo>
                  <a:pt x="902" y="105"/>
                </a:lnTo>
                <a:lnTo>
                  <a:pt x="902" y="219"/>
                </a:lnTo>
                <a:lnTo>
                  <a:pt x="1102" y="219"/>
                </a:lnTo>
                <a:lnTo>
                  <a:pt x="1102" y="306"/>
                </a:lnTo>
                <a:lnTo>
                  <a:pt x="902" y="306"/>
                </a:lnTo>
                <a:lnTo>
                  <a:pt x="902" y="427"/>
                </a:lnTo>
                <a:lnTo>
                  <a:pt x="1138" y="427"/>
                </a:lnTo>
                <a:lnTo>
                  <a:pt x="1138" y="527"/>
                </a:lnTo>
                <a:lnTo>
                  <a:pt x="752" y="527"/>
                </a:lnTo>
                <a:lnTo>
                  <a:pt x="752" y="10"/>
                </a:lnTo>
                <a:lnTo>
                  <a:pt x="1133" y="10"/>
                </a:lnTo>
                <a:close/>
                <a:moveTo>
                  <a:pt x="1859" y="10"/>
                </a:moveTo>
                <a:lnTo>
                  <a:pt x="1859" y="527"/>
                </a:lnTo>
                <a:lnTo>
                  <a:pt x="1714" y="527"/>
                </a:lnTo>
                <a:lnTo>
                  <a:pt x="1714" y="185"/>
                </a:lnTo>
                <a:lnTo>
                  <a:pt x="1563" y="531"/>
                </a:lnTo>
                <a:lnTo>
                  <a:pt x="1474" y="531"/>
                </a:lnTo>
                <a:lnTo>
                  <a:pt x="1329" y="185"/>
                </a:lnTo>
                <a:lnTo>
                  <a:pt x="1329" y="527"/>
                </a:lnTo>
                <a:lnTo>
                  <a:pt x="1224" y="527"/>
                </a:lnTo>
                <a:lnTo>
                  <a:pt x="1224" y="10"/>
                </a:lnTo>
                <a:lnTo>
                  <a:pt x="1413" y="10"/>
                </a:lnTo>
                <a:lnTo>
                  <a:pt x="1543" y="326"/>
                </a:lnTo>
                <a:lnTo>
                  <a:pt x="1678" y="10"/>
                </a:lnTo>
                <a:lnTo>
                  <a:pt x="1859" y="10"/>
                </a:lnTo>
                <a:close/>
                <a:moveTo>
                  <a:pt x="2359" y="10"/>
                </a:moveTo>
                <a:lnTo>
                  <a:pt x="2359" y="105"/>
                </a:lnTo>
                <a:lnTo>
                  <a:pt x="2130" y="105"/>
                </a:lnTo>
                <a:lnTo>
                  <a:pt x="2130" y="219"/>
                </a:lnTo>
                <a:lnTo>
                  <a:pt x="2330" y="219"/>
                </a:lnTo>
                <a:lnTo>
                  <a:pt x="2330" y="306"/>
                </a:lnTo>
                <a:lnTo>
                  <a:pt x="2130" y="306"/>
                </a:lnTo>
                <a:lnTo>
                  <a:pt x="2130" y="427"/>
                </a:lnTo>
                <a:lnTo>
                  <a:pt x="2364" y="427"/>
                </a:lnTo>
                <a:lnTo>
                  <a:pt x="2364" y="527"/>
                </a:lnTo>
                <a:lnTo>
                  <a:pt x="1979" y="527"/>
                </a:lnTo>
                <a:lnTo>
                  <a:pt x="1979" y="10"/>
                </a:lnTo>
                <a:lnTo>
                  <a:pt x="2359" y="10"/>
                </a:lnTo>
                <a:close/>
                <a:moveTo>
                  <a:pt x="2906" y="10"/>
                </a:moveTo>
                <a:lnTo>
                  <a:pt x="2906" y="527"/>
                </a:lnTo>
                <a:lnTo>
                  <a:pt x="2741" y="527"/>
                </a:lnTo>
                <a:lnTo>
                  <a:pt x="2556" y="195"/>
                </a:lnTo>
                <a:lnTo>
                  <a:pt x="2556" y="527"/>
                </a:lnTo>
                <a:lnTo>
                  <a:pt x="2450" y="527"/>
                </a:lnTo>
                <a:lnTo>
                  <a:pt x="2450" y="10"/>
                </a:lnTo>
                <a:lnTo>
                  <a:pt x="2621" y="10"/>
                </a:lnTo>
                <a:lnTo>
                  <a:pt x="2801" y="336"/>
                </a:lnTo>
                <a:lnTo>
                  <a:pt x="2801" y="10"/>
                </a:lnTo>
                <a:lnTo>
                  <a:pt x="2906" y="10"/>
                </a:lnTo>
                <a:close/>
                <a:moveTo>
                  <a:pt x="3352" y="19"/>
                </a:moveTo>
                <a:lnTo>
                  <a:pt x="3352" y="119"/>
                </a:lnTo>
                <a:lnTo>
                  <a:pt x="3333" y="112"/>
                </a:lnTo>
                <a:lnTo>
                  <a:pt x="3314" y="106"/>
                </a:lnTo>
                <a:lnTo>
                  <a:pt x="3295" y="101"/>
                </a:lnTo>
                <a:lnTo>
                  <a:pt x="3278" y="97"/>
                </a:lnTo>
                <a:lnTo>
                  <a:pt x="3260" y="94"/>
                </a:lnTo>
                <a:lnTo>
                  <a:pt x="3244" y="92"/>
                </a:lnTo>
                <a:lnTo>
                  <a:pt x="3228" y="90"/>
                </a:lnTo>
                <a:lnTo>
                  <a:pt x="3212" y="90"/>
                </a:lnTo>
                <a:lnTo>
                  <a:pt x="3203" y="90"/>
                </a:lnTo>
                <a:lnTo>
                  <a:pt x="3194" y="91"/>
                </a:lnTo>
                <a:lnTo>
                  <a:pt x="3186" y="92"/>
                </a:lnTo>
                <a:lnTo>
                  <a:pt x="3178" y="93"/>
                </a:lnTo>
                <a:lnTo>
                  <a:pt x="3171" y="95"/>
                </a:lnTo>
                <a:lnTo>
                  <a:pt x="3164" y="97"/>
                </a:lnTo>
                <a:lnTo>
                  <a:pt x="3158" y="99"/>
                </a:lnTo>
                <a:lnTo>
                  <a:pt x="3155" y="101"/>
                </a:lnTo>
                <a:lnTo>
                  <a:pt x="3152" y="102"/>
                </a:lnTo>
                <a:lnTo>
                  <a:pt x="3147" y="105"/>
                </a:lnTo>
                <a:lnTo>
                  <a:pt x="3143" y="109"/>
                </a:lnTo>
                <a:lnTo>
                  <a:pt x="3139" y="113"/>
                </a:lnTo>
                <a:lnTo>
                  <a:pt x="3138" y="115"/>
                </a:lnTo>
                <a:lnTo>
                  <a:pt x="3136" y="117"/>
                </a:lnTo>
                <a:lnTo>
                  <a:pt x="3134" y="121"/>
                </a:lnTo>
                <a:lnTo>
                  <a:pt x="3132" y="125"/>
                </a:lnTo>
                <a:lnTo>
                  <a:pt x="3131" y="130"/>
                </a:lnTo>
                <a:lnTo>
                  <a:pt x="3131" y="135"/>
                </a:lnTo>
                <a:lnTo>
                  <a:pt x="3131" y="139"/>
                </a:lnTo>
                <a:lnTo>
                  <a:pt x="3131" y="142"/>
                </a:lnTo>
                <a:lnTo>
                  <a:pt x="3132" y="146"/>
                </a:lnTo>
                <a:lnTo>
                  <a:pt x="3133" y="149"/>
                </a:lnTo>
                <a:lnTo>
                  <a:pt x="3135" y="152"/>
                </a:lnTo>
                <a:lnTo>
                  <a:pt x="3136" y="155"/>
                </a:lnTo>
                <a:lnTo>
                  <a:pt x="3138" y="158"/>
                </a:lnTo>
                <a:lnTo>
                  <a:pt x="3141" y="160"/>
                </a:lnTo>
                <a:lnTo>
                  <a:pt x="3147" y="164"/>
                </a:lnTo>
                <a:lnTo>
                  <a:pt x="3156" y="169"/>
                </a:lnTo>
                <a:lnTo>
                  <a:pt x="3167" y="174"/>
                </a:lnTo>
                <a:lnTo>
                  <a:pt x="3181" y="179"/>
                </a:lnTo>
                <a:lnTo>
                  <a:pt x="3277" y="225"/>
                </a:lnTo>
                <a:lnTo>
                  <a:pt x="3291" y="232"/>
                </a:lnTo>
                <a:lnTo>
                  <a:pt x="3304" y="239"/>
                </a:lnTo>
                <a:lnTo>
                  <a:pt x="3317" y="247"/>
                </a:lnTo>
                <a:lnTo>
                  <a:pt x="3328" y="254"/>
                </a:lnTo>
                <a:lnTo>
                  <a:pt x="3333" y="258"/>
                </a:lnTo>
                <a:lnTo>
                  <a:pt x="3338" y="262"/>
                </a:lnTo>
                <a:lnTo>
                  <a:pt x="3348" y="272"/>
                </a:lnTo>
                <a:lnTo>
                  <a:pt x="3356" y="280"/>
                </a:lnTo>
                <a:lnTo>
                  <a:pt x="3360" y="284"/>
                </a:lnTo>
                <a:lnTo>
                  <a:pt x="3364" y="289"/>
                </a:lnTo>
                <a:lnTo>
                  <a:pt x="3371" y="298"/>
                </a:lnTo>
                <a:lnTo>
                  <a:pt x="3376" y="307"/>
                </a:lnTo>
                <a:lnTo>
                  <a:pt x="3381" y="318"/>
                </a:lnTo>
                <a:lnTo>
                  <a:pt x="3385" y="328"/>
                </a:lnTo>
                <a:lnTo>
                  <a:pt x="3387" y="334"/>
                </a:lnTo>
                <a:lnTo>
                  <a:pt x="3388" y="339"/>
                </a:lnTo>
                <a:lnTo>
                  <a:pt x="3389" y="345"/>
                </a:lnTo>
                <a:lnTo>
                  <a:pt x="3390" y="351"/>
                </a:lnTo>
                <a:lnTo>
                  <a:pt x="3392" y="363"/>
                </a:lnTo>
                <a:lnTo>
                  <a:pt x="3392" y="376"/>
                </a:lnTo>
                <a:lnTo>
                  <a:pt x="3392" y="385"/>
                </a:lnTo>
                <a:lnTo>
                  <a:pt x="3391" y="393"/>
                </a:lnTo>
                <a:lnTo>
                  <a:pt x="3388" y="410"/>
                </a:lnTo>
                <a:lnTo>
                  <a:pt x="3386" y="418"/>
                </a:lnTo>
                <a:lnTo>
                  <a:pt x="3383" y="425"/>
                </a:lnTo>
                <a:lnTo>
                  <a:pt x="3380" y="433"/>
                </a:lnTo>
                <a:lnTo>
                  <a:pt x="3378" y="436"/>
                </a:lnTo>
                <a:lnTo>
                  <a:pt x="3377" y="440"/>
                </a:lnTo>
                <a:lnTo>
                  <a:pt x="3372" y="447"/>
                </a:lnTo>
                <a:lnTo>
                  <a:pt x="3368" y="454"/>
                </a:lnTo>
                <a:lnTo>
                  <a:pt x="3363" y="461"/>
                </a:lnTo>
                <a:lnTo>
                  <a:pt x="3357" y="467"/>
                </a:lnTo>
                <a:lnTo>
                  <a:pt x="3351" y="474"/>
                </a:lnTo>
                <a:lnTo>
                  <a:pt x="3344" y="480"/>
                </a:lnTo>
                <a:lnTo>
                  <a:pt x="3337" y="486"/>
                </a:lnTo>
                <a:lnTo>
                  <a:pt x="3330" y="491"/>
                </a:lnTo>
                <a:lnTo>
                  <a:pt x="3322" y="497"/>
                </a:lnTo>
                <a:lnTo>
                  <a:pt x="3314" y="502"/>
                </a:lnTo>
                <a:lnTo>
                  <a:pt x="3305" y="507"/>
                </a:lnTo>
                <a:lnTo>
                  <a:pt x="3296" y="511"/>
                </a:lnTo>
                <a:lnTo>
                  <a:pt x="3277" y="519"/>
                </a:lnTo>
                <a:lnTo>
                  <a:pt x="3268" y="522"/>
                </a:lnTo>
                <a:lnTo>
                  <a:pt x="3258" y="525"/>
                </a:lnTo>
                <a:lnTo>
                  <a:pt x="3237" y="530"/>
                </a:lnTo>
                <a:lnTo>
                  <a:pt x="3226" y="532"/>
                </a:lnTo>
                <a:lnTo>
                  <a:pt x="3214" y="533"/>
                </a:lnTo>
                <a:lnTo>
                  <a:pt x="3203" y="535"/>
                </a:lnTo>
                <a:lnTo>
                  <a:pt x="3191" y="535"/>
                </a:lnTo>
                <a:lnTo>
                  <a:pt x="3179" y="536"/>
                </a:lnTo>
                <a:lnTo>
                  <a:pt x="3166" y="536"/>
                </a:lnTo>
                <a:lnTo>
                  <a:pt x="3144" y="536"/>
                </a:lnTo>
                <a:lnTo>
                  <a:pt x="3122" y="535"/>
                </a:lnTo>
                <a:lnTo>
                  <a:pt x="3102" y="534"/>
                </a:lnTo>
                <a:lnTo>
                  <a:pt x="3082" y="532"/>
                </a:lnTo>
                <a:lnTo>
                  <a:pt x="3063" y="529"/>
                </a:lnTo>
                <a:lnTo>
                  <a:pt x="3042" y="526"/>
                </a:lnTo>
                <a:lnTo>
                  <a:pt x="3020" y="522"/>
                </a:lnTo>
                <a:lnTo>
                  <a:pt x="2996" y="516"/>
                </a:lnTo>
                <a:lnTo>
                  <a:pt x="2996" y="411"/>
                </a:lnTo>
                <a:lnTo>
                  <a:pt x="3018" y="418"/>
                </a:lnTo>
                <a:lnTo>
                  <a:pt x="3040" y="424"/>
                </a:lnTo>
                <a:lnTo>
                  <a:pt x="3060" y="429"/>
                </a:lnTo>
                <a:lnTo>
                  <a:pt x="3081" y="433"/>
                </a:lnTo>
                <a:lnTo>
                  <a:pt x="3100" y="437"/>
                </a:lnTo>
                <a:lnTo>
                  <a:pt x="3120" y="439"/>
                </a:lnTo>
                <a:lnTo>
                  <a:pt x="3138" y="440"/>
                </a:lnTo>
                <a:lnTo>
                  <a:pt x="3157" y="441"/>
                </a:lnTo>
                <a:lnTo>
                  <a:pt x="3166" y="441"/>
                </a:lnTo>
                <a:lnTo>
                  <a:pt x="3176" y="440"/>
                </a:lnTo>
                <a:lnTo>
                  <a:pt x="3184" y="439"/>
                </a:lnTo>
                <a:lnTo>
                  <a:pt x="3192" y="438"/>
                </a:lnTo>
                <a:lnTo>
                  <a:pt x="3200" y="436"/>
                </a:lnTo>
                <a:lnTo>
                  <a:pt x="3207" y="434"/>
                </a:lnTo>
                <a:lnTo>
                  <a:pt x="3213" y="431"/>
                </a:lnTo>
                <a:lnTo>
                  <a:pt x="3216" y="430"/>
                </a:lnTo>
                <a:lnTo>
                  <a:pt x="3219" y="428"/>
                </a:lnTo>
                <a:lnTo>
                  <a:pt x="3224" y="425"/>
                </a:lnTo>
                <a:lnTo>
                  <a:pt x="3227" y="423"/>
                </a:lnTo>
                <a:lnTo>
                  <a:pt x="3229" y="422"/>
                </a:lnTo>
                <a:lnTo>
                  <a:pt x="3233" y="418"/>
                </a:lnTo>
                <a:lnTo>
                  <a:pt x="3236" y="414"/>
                </a:lnTo>
                <a:lnTo>
                  <a:pt x="3238" y="410"/>
                </a:lnTo>
                <a:lnTo>
                  <a:pt x="3240" y="405"/>
                </a:lnTo>
                <a:lnTo>
                  <a:pt x="3241" y="401"/>
                </a:lnTo>
                <a:lnTo>
                  <a:pt x="3241" y="396"/>
                </a:lnTo>
                <a:lnTo>
                  <a:pt x="3241" y="389"/>
                </a:lnTo>
                <a:lnTo>
                  <a:pt x="3240" y="385"/>
                </a:lnTo>
                <a:lnTo>
                  <a:pt x="3239" y="382"/>
                </a:lnTo>
                <a:lnTo>
                  <a:pt x="3236" y="376"/>
                </a:lnTo>
                <a:lnTo>
                  <a:pt x="3233" y="370"/>
                </a:lnTo>
                <a:lnTo>
                  <a:pt x="3228" y="365"/>
                </a:lnTo>
                <a:lnTo>
                  <a:pt x="3222" y="360"/>
                </a:lnTo>
                <a:lnTo>
                  <a:pt x="3214" y="355"/>
                </a:lnTo>
                <a:lnTo>
                  <a:pt x="3206" y="351"/>
                </a:lnTo>
                <a:lnTo>
                  <a:pt x="3101" y="306"/>
                </a:lnTo>
                <a:lnTo>
                  <a:pt x="3086" y="300"/>
                </a:lnTo>
                <a:lnTo>
                  <a:pt x="3073" y="292"/>
                </a:lnTo>
                <a:lnTo>
                  <a:pt x="3060" y="285"/>
                </a:lnTo>
                <a:lnTo>
                  <a:pt x="3049" y="277"/>
                </a:lnTo>
                <a:lnTo>
                  <a:pt x="3038" y="270"/>
                </a:lnTo>
                <a:lnTo>
                  <a:pt x="3033" y="265"/>
                </a:lnTo>
                <a:lnTo>
                  <a:pt x="3029" y="260"/>
                </a:lnTo>
                <a:lnTo>
                  <a:pt x="3021" y="252"/>
                </a:lnTo>
                <a:lnTo>
                  <a:pt x="3014" y="244"/>
                </a:lnTo>
                <a:lnTo>
                  <a:pt x="3007" y="235"/>
                </a:lnTo>
                <a:lnTo>
                  <a:pt x="3002" y="225"/>
                </a:lnTo>
                <a:lnTo>
                  <a:pt x="3000" y="220"/>
                </a:lnTo>
                <a:lnTo>
                  <a:pt x="2997" y="215"/>
                </a:lnTo>
                <a:lnTo>
                  <a:pt x="2994" y="204"/>
                </a:lnTo>
                <a:lnTo>
                  <a:pt x="2991" y="193"/>
                </a:lnTo>
                <a:lnTo>
                  <a:pt x="2989" y="181"/>
                </a:lnTo>
                <a:lnTo>
                  <a:pt x="2987" y="168"/>
                </a:lnTo>
                <a:lnTo>
                  <a:pt x="2987" y="155"/>
                </a:lnTo>
                <a:lnTo>
                  <a:pt x="2987" y="146"/>
                </a:lnTo>
                <a:lnTo>
                  <a:pt x="2988" y="137"/>
                </a:lnTo>
                <a:lnTo>
                  <a:pt x="2989" y="129"/>
                </a:lnTo>
                <a:lnTo>
                  <a:pt x="2991" y="121"/>
                </a:lnTo>
                <a:lnTo>
                  <a:pt x="2993" y="113"/>
                </a:lnTo>
                <a:lnTo>
                  <a:pt x="2995" y="106"/>
                </a:lnTo>
                <a:lnTo>
                  <a:pt x="2998" y="98"/>
                </a:lnTo>
                <a:lnTo>
                  <a:pt x="3002" y="91"/>
                </a:lnTo>
                <a:lnTo>
                  <a:pt x="3005" y="84"/>
                </a:lnTo>
                <a:lnTo>
                  <a:pt x="3010" y="78"/>
                </a:lnTo>
                <a:lnTo>
                  <a:pt x="3015" y="71"/>
                </a:lnTo>
                <a:lnTo>
                  <a:pt x="3020" y="65"/>
                </a:lnTo>
                <a:lnTo>
                  <a:pt x="3025" y="59"/>
                </a:lnTo>
                <a:lnTo>
                  <a:pt x="3032" y="53"/>
                </a:lnTo>
                <a:lnTo>
                  <a:pt x="3038" y="48"/>
                </a:lnTo>
                <a:lnTo>
                  <a:pt x="3045" y="42"/>
                </a:lnTo>
                <a:lnTo>
                  <a:pt x="3053" y="37"/>
                </a:lnTo>
                <a:lnTo>
                  <a:pt x="3060" y="32"/>
                </a:lnTo>
                <a:lnTo>
                  <a:pt x="3069" y="28"/>
                </a:lnTo>
                <a:lnTo>
                  <a:pt x="3077" y="24"/>
                </a:lnTo>
                <a:lnTo>
                  <a:pt x="3095" y="17"/>
                </a:lnTo>
                <a:lnTo>
                  <a:pt x="3104" y="14"/>
                </a:lnTo>
                <a:lnTo>
                  <a:pt x="3113" y="11"/>
                </a:lnTo>
                <a:lnTo>
                  <a:pt x="3123" y="8"/>
                </a:lnTo>
                <a:lnTo>
                  <a:pt x="3134" y="6"/>
                </a:lnTo>
                <a:lnTo>
                  <a:pt x="3144" y="4"/>
                </a:lnTo>
                <a:lnTo>
                  <a:pt x="3155" y="3"/>
                </a:lnTo>
                <a:lnTo>
                  <a:pt x="3178" y="1"/>
                </a:lnTo>
                <a:lnTo>
                  <a:pt x="3201" y="0"/>
                </a:lnTo>
                <a:lnTo>
                  <a:pt x="3217" y="1"/>
                </a:lnTo>
                <a:lnTo>
                  <a:pt x="3233" y="2"/>
                </a:lnTo>
                <a:lnTo>
                  <a:pt x="3251" y="3"/>
                </a:lnTo>
                <a:lnTo>
                  <a:pt x="3269" y="6"/>
                </a:lnTo>
                <a:lnTo>
                  <a:pt x="3308" y="12"/>
                </a:lnTo>
                <a:lnTo>
                  <a:pt x="335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6172200"/>
            <a:ext cx="11430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ieme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medical sol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that hel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9440" y="5638680"/>
            <a:ext cx="1121400" cy="545400"/>
            <a:chOff x="109440" y="5638680"/>
            <a:chExt cx="1121400" cy="545400"/>
          </a:xfrm>
        </p:grpSpPr>
        <p:pic>
          <p:nvPicPr>
            <p:cNvPr id="57" name="Quality-Logo-rgb-256" descr=""/>
            <p:cNvPicPr/>
            <p:nvPr/>
          </p:nvPicPr>
          <p:blipFill>
            <a:blip r:embed="rId2"/>
            <a:stretch/>
          </p:blipFill>
          <p:spPr>
            <a:xfrm>
              <a:off x="109440" y="5638680"/>
              <a:ext cx="500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18840" y="5985000"/>
              <a:ext cx="6120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5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600" spc="-1" strike="noStrike">
                  <a:solidFill>
                    <a:srgbClr val="002b5d"/>
                  </a:solidFill>
                  <a:latin typeface="Arial"/>
                </a:rPr>
                <a:t>Competence</a:t>
              </a:r>
              <a:br>
                <a:rPr sz="600"/>
              </a:br>
              <a:r>
                <a:rPr b="1" lang="de-DE" sz="600" spc="-1" strike="noStrike">
                  <a:solidFill>
                    <a:srgbClr val="002b5d"/>
                  </a:solidFill>
                  <a:latin typeface="Arial"/>
                </a:rPr>
                <a:t>        in Qualit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1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3508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371600" indent="19692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1828800" indent="15876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1828800" indent="1587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1828800" indent="1587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1476000"/>
            <a:ext cx="67816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b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-Standardisation in Healthcare -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tion of internationa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76520" y="3733920"/>
            <a:ext cx="579096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U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va, May 23-25th, 20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. Horst Sieb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ad Group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emens Medical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914400" y="1676520"/>
          <a:ext cx="7634160" cy="259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763416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1095840" y="4286160"/>
            <a:ext cx="6744600" cy="2302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9080" rIns="109080" tIns="53640" bIns="53640" anchor="ctr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HE Goes Beyo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HE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Multi-Ven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Workflow-Dr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sed on established medical IT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60948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HE = A Standards Harmoniza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-938520" y="3426840"/>
            <a:ext cx="330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mains connect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" y="11430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ultidimensional Expansion of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16680" y="5105520"/>
            <a:ext cx="2533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</a:rPr>
              <a:t>3</a:t>
            </a:r>
            <a:r>
              <a:rPr b="0" lang="en-US" sz="1800" spc="-1" strike="noStrike" u="sng" baseline="30000">
                <a:solidFill>
                  <a:srgbClr val="0066ff"/>
                </a:solidFill>
                <a:uFillTx/>
                <a:latin typeface="Times New Roman"/>
              </a:rPr>
              <a:t>rd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</a:rPr>
              <a:t> Dimen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Increasing the Number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Vertically Integ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Depar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336680" y="1633680"/>
            <a:ext cx="7149960" cy="2293920"/>
            <a:chOff x="1336680" y="1633680"/>
            <a:chExt cx="7149960" cy="2293920"/>
          </a:xfrm>
        </p:grpSpPr>
        <p:sp>
          <p:nvSpPr>
            <p:cNvPr id="293" name=""/>
            <p:cNvSpPr/>
            <p:nvPr/>
          </p:nvSpPr>
          <p:spPr>
            <a:xfrm>
              <a:off x="1336680" y="3117960"/>
              <a:ext cx="7149960" cy="38088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336680" y="1633680"/>
              <a:ext cx="7149960" cy="2293920"/>
              <a:chOff x="1336680" y="1633680"/>
              <a:chExt cx="7149960" cy="2293920"/>
            </a:xfrm>
          </p:grpSpPr>
          <p:sp>
            <p:nvSpPr>
              <p:cNvPr id="295" name=""/>
              <p:cNvSpPr/>
              <p:nvPr/>
            </p:nvSpPr>
            <p:spPr>
              <a:xfrm>
                <a:off x="1336680" y="3562200"/>
                <a:ext cx="7149960" cy="365400"/>
              </a:xfrm>
              <a:prstGeom prst="rect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1336680" y="2610000"/>
                <a:ext cx="7149960" cy="458280"/>
                <a:chOff x="1336680" y="2610000"/>
                <a:chExt cx="7149960" cy="4582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1336680" y="2631960"/>
                  <a:ext cx="7149960" cy="420840"/>
                </a:xfrm>
                <a:prstGeom prst="rect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230000" y="2610000"/>
                  <a:ext cx="29480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Times New Roman"/>
                    </a:rPr>
                    <a:t>Master Patient Inde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4228920" y="3071880"/>
                <a:ext cx="3236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Clinical Patient Recor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1336680" y="2119320"/>
                <a:ext cx="7149960" cy="458280"/>
                <a:chOff x="1336680" y="2119320"/>
                <a:chExt cx="7149960" cy="458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1336680" y="2141640"/>
                  <a:ext cx="7149960" cy="420480"/>
                </a:xfrm>
                <a:prstGeom prst="rect">
                  <a:avLst/>
                </a:prstGeom>
                <a:solidFill>
                  <a:srgbClr val="99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223160" y="2119320"/>
                  <a:ext cx="24649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Times New Roman"/>
                    </a:rPr>
                    <a:t>Ordering Proces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1336680" y="1633680"/>
                <a:ext cx="7149960" cy="458280"/>
                <a:chOff x="1336680" y="1633680"/>
                <a:chExt cx="7149960" cy="458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336680" y="1655640"/>
                  <a:ext cx="7149960" cy="420840"/>
                </a:xfrm>
                <a:prstGeom prst="rect">
                  <a:avLst/>
                </a:prstGeom>
                <a:solidFill>
                  <a:srgbClr val="99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223160" y="1633680"/>
                  <a:ext cx="280476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Times New Roman"/>
                    </a:rPr>
                    <a:t>Patient Registra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6" name=""/>
          <p:cNvGrpSpPr/>
          <p:nvPr/>
        </p:nvGrpSpPr>
        <p:grpSpPr>
          <a:xfrm>
            <a:off x="1413000" y="1612800"/>
            <a:ext cx="726840" cy="4940280"/>
            <a:chOff x="1413000" y="1612800"/>
            <a:chExt cx="726840" cy="4940280"/>
          </a:xfrm>
        </p:grpSpPr>
        <p:sp>
          <p:nvSpPr>
            <p:cNvPr id="307" name=""/>
            <p:cNvSpPr/>
            <p:nvPr/>
          </p:nvSpPr>
          <p:spPr>
            <a:xfrm>
              <a:off x="1413000" y="1612800"/>
              <a:ext cx="726840" cy="4940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rot="16200000">
              <a:off x="625320" y="4446720"/>
              <a:ext cx="2111760" cy="459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R a d i o l o g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11240" y="2071440"/>
              <a:ext cx="0" cy="3948120"/>
            </a:xfrm>
            <a:prstGeom prst="line">
              <a:avLst/>
            </a:prstGeom>
            <a:ln w="47520">
              <a:solidFill>
                <a:srgbClr val="ffff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216160" y="1600200"/>
            <a:ext cx="727200" cy="4940280"/>
            <a:chOff x="2216160" y="1600200"/>
            <a:chExt cx="727200" cy="4940280"/>
          </a:xfrm>
        </p:grpSpPr>
        <p:sp>
          <p:nvSpPr>
            <p:cNvPr id="311" name=""/>
            <p:cNvSpPr/>
            <p:nvPr/>
          </p:nvSpPr>
          <p:spPr>
            <a:xfrm>
              <a:off x="2216160" y="1600200"/>
              <a:ext cx="727200" cy="4940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rot="16200000">
              <a:off x="1324080" y="4398120"/>
              <a:ext cx="2323440" cy="459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C a r d i o l o g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14760" y="2057400"/>
              <a:ext cx="0" cy="3948120"/>
            </a:xfrm>
            <a:prstGeom prst="line">
              <a:avLst/>
            </a:prstGeom>
            <a:ln w="47520">
              <a:solidFill>
                <a:srgbClr val="ffff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013200" y="1600200"/>
            <a:ext cx="726840" cy="4940280"/>
            <a:chOff x="3013200" y="1600200"/>
            <a:chExt cx="726840" cy="4940280"/>
          </a:xfrm>
        </p:grpSpPr>
        <p:sp>
          <p:nvSpPr>
            <p:cNvPr id="315" name=""/>
            <p:cNvSpPr/>
            <p:nvPr/>
          </p:nvSpPr>
          <p:spPr>
            <a:xfrm>
              <a:off x="3013200" y="1600200"/>
              <a:ext cx="726840" cy="4940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rot="16200000">
              <a:off x="2437560" y="4471560"/>
              <a:ext cx="1688040" cy="459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Laborat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11440" y="2057400"/>
              <a:ext cx="0" cy="3948120"/>
            </a:xfrm>
            <a:prstGeom prst="line">
              <a:avLst/>
            </a:prstGeom>
            <a:ln w="47520">
              <a:solidFill>
                <a:srgbClr val="ffff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822840" y="1600200"/>
            <a:ext cx="726840" cy="4940280"/>
            <a:chOff x="3822840" y="1600200"/>
            <a:chExt cx="726840" cy="4940280"/>
          </a:xfrm>
        </p:grpSpPr>
        <p:sp>
          <p:nvSpPr>
            <p:cNvPr id="319" name=""/>
            <p:cNvSpPr/>
            <p:nvPr/>
          </p:nvSpPr>
          <p:spPr>
            <a:xfrm>
              <a:off x="3822840" y="1600200"/>
              <a:ext cx="726840" cy="4940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21080" y="2057400"/>
              <a:ext cx="0" cy="3948120"/>
            </a:xfrm>
            <a:prstGeom prst="line">
              <a:avLst/>
            </a:prstGeom>
            <a:ln w="47520">
              <a:solidFill>
                <a:srgbClr val="ffff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rot="16200000">
              <a:off x="3065040" y="3959640"/>
              <a:ext cx="2052360" cy="459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P h a r m a c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648320" y="1600200"/>
            <a:ext cx="726840" cy="4940280"/>
            <a:chOff x="4648320" y="1600200"/>
            <a:chExt cx="726840" cy="4940280"/>
          </a:xfrm>
        </p:grpSpPr>
        <p:sp>
          <p:nvSpPr>
            <p:cNvPr id="323" name=""/>
            <p:cNvSpPr/>
            <p:nvPr/>
          </p:nvSpPr>
          <p:spPr>
            <a:xfrm>
              <a:off x="4648320" y="1600200"/>
              <a:ext cx="726840" cy="49402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46560" y="2057400"/>
              <a:ext cx="0" cy="3948120"/>
            </a:xfrm>
            <a:prstGeom prst="line">
              <a:avLst/>
            </a:prstGeom>
            <a:ln w="47520">
              <a:solidFill>
                <a:srgbClr val="ffff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rot="16200000">
              <a:off x="3957480" y="3955320"/>
              <a:ext cx="1918080" cy="4597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O t h e r s 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371600" y="533520"/>
            <a:ext cx="734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HE Vision for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-1340280" y="316908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</a:rPr>
              <a:t>1</a:t>
            </a:r>
            <a:r>
              <a:rPr b="0" lang="en-US" sz="1800" spc="-1" strike="noStrike" u="sng" baseline="30000">
                <a:solidFill>
                  <a:srgbClr val="0066ff"/>
                </a:solidFill>
                <a:uFillTx/>
                <a:latin typeface="Times New Roman"/>
              </a:rPr>
              <a:t>st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</a:rPr>
              <a:t>  Dimension: 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Workflow inside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95680" y="403848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</a:rPr>
              <a:t>2</a:t>
            </a:r>
            <a:r>
              <a:rPr b="0" lang="en-US" sz="1800" spc="-1" strike="noStrike" u="sng" baseline="30000">
                <a:solidFill>
                  <a:srgbClr val="0066ff"/>
                </a:solidFill>
                <a:uFillTx/>
                <a:latin typeface="Times New Roman"/>
              </a:rPr>
              <a:t>nd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</a:rPr>
              <a:t> Dimension: 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common consist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-938520" y="3426840"/>
            <a:ext cx="330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mains connect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986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IC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nectivity Industry Consortium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Laborator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47920" y="2362320"/>
            <a:ext cx="708660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EDICA, 21.11.200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e CIC has achieved its goal to develop a standard fo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oint-of-care connectivity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based on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xisting IEEE and HL7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and on specifications developed by the CIC. The NCCLS has approved the standard earlier this year and it is co-published by HL7 and IEEE as POCT1-A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ternational approval through ISO, CEN is initiated.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29200"/>
            <a:ext cx="74674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CCLS (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tional Committee for Clinical Laboratory Standard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 ANSI accred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sts ISO TC 212 „Clinical Laboratory Testing and In Vitro Diagnostic Test System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0 standards are recognized by F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-938520" y="3426840"/>
            <a:ext cx="330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mains connect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71600" y="1600200"/>
            <a:ext cx="777240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 bunch of NCPDP standards was proposed for adoption by I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CPDP Standard Claims Billing Tape Format (V2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CPDP Billing Unit Standard (V1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CPDP Standard Diskette Billing Format (V2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CPDP Telecommunication Standard Format (V3.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CPDP On-Line Real-Time Drug Utilization Review (ORDU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mber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scrip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scriber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armacy 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CPDP Manufacturer Rebate Standard/X12 Implementation Guide (V1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CPDP Magnetic Stripe Standard Format (V2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CPDP Batch Transaction Standard (V1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CPDP Compound Transaction Implementation Guide (V1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CPDP Professional Pharmacy Service Implementation Manual (PPS) (V3.2-4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CPDP Prior Authorization Standard (V1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CPDP Prescriber/Pharmacist Interface Script (V1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52960" y="685800"/>
            <a:ext cx="65919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CPDP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Council for Prescription Drug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-1751040" y="2620440"/>
            <a:ext cx="47847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tional standards will be transform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into 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276720" y="5791320"/>
            <a:ext cx="1033200" cy="803160"/>
            <a:chOff x="3276720" y="5791320"/>
            <a:chExt cx="1033200" cy="803160"/>
          </a:xfrm>
        </p:grpSpPr>
        <p:pic>
          <p:nvPicPr>
            <p:cNvPr id="338" name="mblogo" descr=""/>
            <p:cNvPicPr/>
            <p:nvPr/>
          </p:nvPicPr>
          <p:blipFill>
            <a:blip r:embed="rId1"/>
            <a:stretch/>
          </p:blipFill>
          <p:spPr>
            <a:xfrm>
              <a:off x="3429720" y="5791320"/>
              <a:ext cx="757440" cy="70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3276720" y="6135480"/>
              <a:ext cx="10332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1600200" y="1447920"/>
            <a:ext cx="6324480" cy="35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114120" bIns="3816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HE started in US, but spreads geograph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onsored by ECR, COCIR,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SFR, GMSIH, AFN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utschl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DRG, VDK, DKG, DFG, ZV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p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JI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827000" y="762120"/>
            <a:ext cx="3393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HE: a glob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12440" y="6019920"/>
            <a:ext cx="6966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IHE ist der Elchtest     für die Integration“ (Prof. Klose, Mar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-1751040" y="2620440"/>
            <a:ext cx="47847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tional standards will be transform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into 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371600" y="1219320"/>
            <a:ext cx="754380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11412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iat at NEMA, U.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DICOM Committee the following biomedical societies are me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SNA, ACR, ACC (Cardiology), Am. Dental Assoc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m. Academy of Ophthalmology; National Cancer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nadi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nstitute of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urope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ociety of Cardi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utsc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Radiologische Gesell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ciet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rancai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 Radi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ciet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alian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 Radiologia Med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ap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ore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PACS Standards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omedical Society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aiw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ce 2001 Joel Chabriais is medical Co-Chair of WG 10 “Strateg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ce 5. 12. 2002 Dr. Peter Mildenberger is biomedical Co-Chair of the DICOM Committ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26280" y="762120"/>
            <a:ext cx="3818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COM: a global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-1751040" y="2620440"/>
            <a:ext cx="47847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tional standards will be transform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into 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609480"/>
            <a:ext cx="7086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34040" y="1177920"/>
            <a:ext cx="583632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Arial"/>
              </a:rPr>
              <a:t>CEN TC251 started early in the 1990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. Kle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G1: Information models (F. Freri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G2: Terminology and Knowledge Bases (G. Holmbe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G3: Security, safety and quality (G. Trouess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G4: Technology for Interoperability (M. Reynol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95280" y="3048120"/>
            <a:ext cx="701064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..it is important that while focussing on the European needs of health actors and suppliers of systems, we shoul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mote international solu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rough IS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whenever feasi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71600" y="5105520"/>
            <a:ext cx="74376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Comic Sans MS"/>
              </a:rPr>
              <a:t>But only 1 prENV did it to an accredited EN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N EN 1828:2001 Categorial Structure for classifications and coding systems of surgical procedures; 14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4038480"/>
            <a:ext cx="76201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grees to collaborate with HL7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.. to obtain unification of their set of standards for healthcare communication and to make the results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lobally available to IS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6200000">
            <a:off x="-1751040" y="2620440"/>
            <a:ext cx="47847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tional standards will be transform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into 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477800" y="1066680"/>
            <a:ext cx="76662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rminology and Architec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.a. CEN ENV 13606 : Electronic health record commun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23880" y="609480"/>
            <a:ext cx="7086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E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2362320"/>
            <a:ext cx="777240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 Security and Privac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re requirements than implementable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operabilit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 CEN ENV 12922: 1997 Medical Image Management – Part 1: Storage Commitment Service Class;     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bsolete by DI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CEN ENV 13939:2001 Medical Data Interchange: HIS/RIS-PACS and HIS/RIS-Modality Interface; 51 pages; by WG IV, and NAMed G2;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nex C (p 13-51) is normative and consists of DICOM suppl 10 ”Basic Worklist Manag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What is the added value for indus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-1751040" y="2620440"/>
            <a:ext cx="47847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tional standards will be transform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into 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25400" y="1752480"/>
            <a:ext cx="70156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Was occasionally implemented, but interoperability did not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447920" y="1143000"/>
            <a:ext cx="70866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114120" bIns="3816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retariat now finally hosted by HIM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G1: Health records and modelling 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G2: Messaging and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G3: Health concept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G4: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G5: Health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e of the five ISO/TC 215 working groups have convenors working also in CEN/TC 25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7.8.199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O/TC 215 called out for existing standards to look for 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candidates for adop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About 50 were proposed, e.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the CEN ENV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TM PS 100 to 109; and ASTM 1762, ASTM 19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L7 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EEE 1073 for I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CPDP xx for 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25560" y="762120"/>
            <a:ext cx="4617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 TC 215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lth Infor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-1751040" y="2620440"/>
            <a:ext cx="47847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tional standards will be transform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into 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15000" y="6507000"/>
            <a:ext cx="5246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MSS= Healthcare Information &amp; Management Systems Soci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 TC 215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Scope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1066680"/>
            <a:ext cx="708660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rminology; for use by SDOs or committees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7113 DIS Exchange of information between healthcare information systems – Development of messages; 76 pages;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finition of Actor, RIM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HMD, CM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7115 CD Vocabulary for terminological systems; 13 pages;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al entity dictionar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nd referenc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7117 TS:2002 - Controlled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ealth terminolog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; Structure and high-level 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21667 TS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ealth indicato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conceptual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/IEC 19501 Information Technology – Unified Modeling Languag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UM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71600" y="3657600"/>
            <a:ext cx="7772400" cy="27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operability 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8812 prEN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inical analyse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nterfaces to laboratory information systems - Use profiles together with C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/IEC 7826-2:1994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ormation technology – General structure for the interchange of code values; Part 2: Registration of coding sche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ISO/IEC 10746-2:1994 ITU-T Recommendations X.902, Information technology – Open Distributed Processing – Reference Model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 nnnnn TS Draft (25.4.2002)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operability of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lelearnin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ISO/IEC nnnnn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R: (Draft 25.4.2002) </a:t>
            </a:r>
            <a:r>
              <a:rPr b="1" sz="1400" spc="-1" strike="noStrike">
                <a:solidFill>
                  <a:srgbClr val="0000ff"/>
                </a:solidFill>
                <a:latin typeface="Arial"/>
              </a:rPr>
              <a:t>– Interoperability of telehealth systems and networks; 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Part 1: Introduction and definitions (19 pages); Part 2: Real-time systems  (50 p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1073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C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Medical Device Communication; 230 pages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-1751040" y="2620440"/>
            <a:ext cx="47847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tional standards will be transform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into 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tus of IT Standardisation in Healthc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8001000" cy="5242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 fontScale="99000"/>
          </a:bodyPr>
          <a:p>
            <a:pPr marL="282960" indent="-28296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-standardisation began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olated island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nd has achieved different maturity 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nearer to hardware, the more 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volution from connectivity to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bottom-up)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flow, information exchange, data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mains just begin to grow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gh-level standards for EHR have not yet made their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tional and regional standards will not survive, and migrate into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onsolidation among SDOs need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althcare IT- standardisation is not yet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what are the success factor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122040" y="3826800"/>
            <a:ext cx="1364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stu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447920" y="609480"/>
            <a:ext cx="70866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 TC 215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Scope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71600" y="1523880"/>
            <a:ext cx="77724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Security and Privacy 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7498:1989  Information processing systems – Open systems Interconnection – Basic Reference Model; Part 2: Security Architecture;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finition of term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like audit trail, confidentiality, consent, credentials,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7090 TS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gital signatu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requirements ; based on the underlying X.509(2000) standard which is implemented in the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8307 TR:2000 Key Characteristics for Interoperability and Compatibility in Messaging and Communication Standards;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79 pages; 6.11.2000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21089 TR (Draft 20.3.2002) Trusted end-to-end information flows; 50 pages;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finitions and term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-page 20) include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ISO 21549 CEN CD ”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Patient healthcard data</a:t>
            </a: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” ; Part7: Electronic prescripti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22857 CD (20.6.2002) ”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uidelin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on data protection to facilitate trans-border flows of personal health information” ;66 pag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/IEC 15408:1999 Information technology - Security Techniques –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for IT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/IEC 15408-1: Introduction and General Model (62 p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/IEC 15408-2: Security functional requirements (354 p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/IEC 15408-3: Security Assurance requirements (222 p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/IEC 17799:2000 Information Security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-1751040" y="2620440"/>
            <a:ext cx="47847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tional standards will be transform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into 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600200" y="1371600"/>
            <a:ext cx="708660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11412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O Cooperations with I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oint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O Cooperations with C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5 of 40 work items are based on CEN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O Cooperations with IE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rges IEEE1073 and CEN V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O Cooperations with HL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rted for V2.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O Cooperations with 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ategy of DICOM: not too early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cause DICOM works f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y references to ISO standards within DICOM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rt with specific topic “Web-access to DICOM persistent object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oint meetin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ince Jan 2001 of TC 215 WG2 wi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COM WG10,20, HL7, ASTM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HE “IT Infrastructure Comm” for security 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97680" y="762120"/>
            <a:ext cx="3868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 TC 21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-1751040" y="2620440"/>
            <a:ext cx="47847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tional standards will be transform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into 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1662120" y="2220840"/>
            <a:ext cx="1440" cy="287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62120" y="5094360"/>
            <a:ext cx="4987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35160" y="4998960"/>
            <a:ext cx="22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87960" y="5224320"/>
            <a:ext cx="4932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558600" y="5224320"/>
            <a:ext cx="4932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44560" y="5224320"/>
            <a:ext cx="4932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32040" y="4441680"/>
            <a:ext cx="677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693960" y="3135240"/>
            <a:ext cx="61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41840" y="3787920"/>
            <a:ext cx="1170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45200" y="2743200"/>
            <a:ext cx="307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tal (CEN, Europe),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53560" y="4441680"/>
            <a:ext cx="213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EEE 1073 (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77760" y="3395520"/>
            <a:ext cx="177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O 110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ternat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847880" y="4441680"/>
            <a:ext cx="1784160" cy="1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09920" y="3135240"/>
            <a:ext cx="1231920" cy="652680"/>
          </a:xfrm>
          <a:custGeom>
            <a:avLst/>
            <a:gdLst/>
            <a:ahLst/>
            <a:rect l="l" t="t" r="r" b="b"/>
            <a:pathLst>
              <a:path w="1584" h="480">
                <a:moveTo>
                  <a:pt x="0" y="0"/>
                </a:moveTo>
                <a:cubicBezTo>
                  <a:pt x="132" y="104"/>
                  <a:pt x="264" y="208"/>
                  <a:pt x="528" y="288"/>
                </a:cubicBezTo>
                <a:cubicBezTo>
                  <a:pt x="792" y="368"/>
                  <a:pt x="1188" y="424"/>
                  <a:pt x="1584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309920" y="3787920"/>
            <a:ext cx="1231920" cy="653760"/>
          </a:xfrm>
          <a:custGeom>
            <a:avLst/>
            <a:gdLst/>
            <a:ahLst/>
            <a:rect l="l" t="t" r="r" b="b"/>
            <a:pathLst>
              <a:path w="1488" h="480">
                <a:moveTo>
                  <a:pt x="0" y="480"/>
                </a:moveTo>
                <a:cubicBezTo>
                  <a:pt x="164" y="352"/>
                  <a:pt x="328" y="224"/>
                  <a:pt x="576" y="144"/>
                </a:cubicBezTo>
                <a:cubicBezTo>
                  <a:pt x="824" y="64"/>
                  <a:pt x="1336" y="24"/>
                  <a:pt x="14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58880" y="5224320"/>
            <a:ext cx="4932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13720" y="979560"/>
            <a:ext cx="48625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CEN, IEEE, ISO: Converg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02120" y="4506840"/>
            <a:ext cx="1440" cy="195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62800" y="4702320"/>
            <a:ext cx="1343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995: ANSI Stand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6200000">
            <a:off x="-1751040" y="2620440"/>
            <a:ext cx="47847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tional standards will be transform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into 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371600" y="2438280"/>
            <a:ext cx="716292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000"/>
                </a:solidFill>
                <a:latin typeface="Arial"/>
              </a:rPr>
              <a:t>Sector G mirrors exactly the structure of ISO / TC 215 by its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 1 "Modellierung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 2 "Kommunikatio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 3 "Terminologi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 4 "Sicherheit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 5 "Kart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unded in Feb/March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73040" y="838080"/>
            <a:ext cx="56595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N NAMe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chbereich G "Medizinische Informatik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6200000">
            <a:off x="-1751040" y="2620440"/>
            <a:ext cx="47847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tional standards will be transform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into 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447920" y="1828800"/>
            <a:ext cx="7696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bjectives *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 To develop the guiding principles to be used by standards development organizations relating to healthcare informatics standards to support the development of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ommon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reference information model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healthcare information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ommon referenc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el for healthcare informatio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ommon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thod for implement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healthcare information exchang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ommon trust framework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privacy and security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or healthcare information and record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ommon approach for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 coordination and conflict resolution between SDO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78680" y="685800"/>
            <a:ext cx="52038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SI-HI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erican National Standards Institut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Healthcare Informatics Standards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6200000">
            <a:off x="-1751040" y="2620440"/>
            <a:ext cx="47847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tional standards will be transform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into 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2040" y="6095880"/>
            <a:ext cx="7002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* However, their results are less impressive than their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371600" y="2209680"/>
            <a:ext cx="7238880" cy="33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TM Committee E31 develops standards related 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rchitecture, content, storage, security, confidentiality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unctionality, and communication of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d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ithin healthcar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 healthcare decision mak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luding patient-specific information and knowle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ndard also address policies for integrity and confidentiality and computer procedures that support the uses of data and healthcare decision ma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TM was host of ISO / TC 215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54840" y="644400"/>
            <a:ext cx="600372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TM E 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s Committee on Health Infor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49000" y="1752480"/>
            <a:ext cx="2241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ope, Mi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-1751040" y="2620440"/>
            <a:ext cx="47847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tional standards will be transform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into 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371600" y="1981080"/>
            <a:ext cx="7620120" cy="36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TM PS 100-97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thentication of Healthcare Information Using Digital 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TM PS 101-97 Security Framework for Healthcare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TM PS 102-97 Internet and Intranet Healthcare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TM PS 103-97 User Authentication and Author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TM PS 107-97  Informatio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 Privileg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o Health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TM PS 108-97 Individual Rights Regarding Health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TM PS 109-97 Training of Persons Who Have Access to Health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TM E 1762-95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lectronic Authentica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f Health Care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TM E 1869-97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fidentiality, Privacy, Access, and Data Security Principles for Health Information Including Computer-Based Patient Rec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TM 1902-97 Standard Guide for Management of Confidentiality and Security of Dictation, Transcription and Transcribed Health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359360" y="1446120"/>
            <a:ext cx="7403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A bunch of ASTM standards was proposed for adoption by IS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372320" y="685800"/>
            <a:ext cx="600372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TM E 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s Committee on Health Infor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-1751040" y="2620440"/>
            <a:ext cx="47847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tional standards will be transform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into internationa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43400" y="5907240"/>
            <a:ext cx="4386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Comic Sans MS"/>
              </a:rPr>
              <a:t>... but implementations have been ra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523880" y="587520"/>
            <a:ext cx="40212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ata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still work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23880" y="1600200"/>
            <a:ext cx="7010640" cy="51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C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diology-centered, but proven in practical daily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L7 V3.0 RI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 the whole hospital enterprise, and multiple site setting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t yet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HR Good Electronic Health Recor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ists of Object Model u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Form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n Source; implemented in Australia;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contacts to CEN TC 25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TDesign Data model from Germany, proprieta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haps the most advanced one?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800 Classes and 1300 Attributes.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6200000">
            <a:off x="-1534680" y="2755440"/>
            <a:ext cx="44942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althcare IT standard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 not yet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371600" y="609480"/>
            <a:ext cx="77724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ccess factors for Healthcare IT-Standard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-1398600" y="3220560"/>
            <a:ext cx="3911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hat are the success factors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1219320"/>
            <a:ext cx="7543800" cy="52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operative work of the major Stakehold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requirements, real life use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stry (technology, product quality, product mainten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cademics (concepts, knowledge manag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gislative (legal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e.g. 1 User-Co-Chair , 1 Vendor-Co-Cha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learly define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o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 of SDO; written down in strategy pap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tween SDOs of diverse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G-structure („national mirror bodies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pro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new version each 12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nsity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f work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DICOM WG6: 6 Sessions p.a. à 1 week, + Tec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676520" y="3505320"/>
            <a:ext cx="67816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 avo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uble work, waste of expert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lation of bodi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tional pre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urning of tax money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00014042" descr=""/>
          <p:cNvPicPr/>
          <p:nvPr/>
        </p:nvPicPr>
        <p:blipFill>
          <a:blip r:embed="rId1"/>
          <a:stretch/>
        </p:blipFill>
        <p:spPr>
          <a:xfrm>
            <a:off x="3276720" y="1420920"/>
            <a:ext cx="2743200" cy="18381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371600" y="609480"/>
            <a:ext cx="77724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ccess factors for Healthcare IT-Standard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-1398600" y="3220560"/>
            <a:ext cx="3911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hat are the success factors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532440"/>
            <a:ext cx="7391520" cy="8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b">
            <a:noAutofit/>
          </a:bodyPr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ndardisation-Islands: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spital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23520" y="1371240"/>
            <a:ext cx="762012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Autofit/>
          </a:bodyPr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di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OM; Secretariat NEMA; international con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rmac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CPDP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 Council for Prescription Drug Program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;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a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CT 1-A (IEEE, HL7, NCCLS); US</a:t>
            </a:r>
            <a:br>
              <a:rPr sz="20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tional Committee for Clinical Laboratory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lus many national standards (LOINC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nsive Care Un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10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nist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L7; X.12; US, with international add-ons by affili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-212040" y="3433320"/>
            <a:ext cx="1998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olated is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Slog_k1" descr=""/>
          <p:cNvPicPr/>
          <p:nvPr/>
        </p:nvPicPr>
        <p:blipFill>
          <a:blip r:embed="rId1"/>
          <a:stretch/>
        </p:blipFill>
        <p:spPr>
          <a:xfrm>
            <a:off x="1676520" y="2519280"/>
            <a:ext cx="70866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447920" y="533520"/>
            <a:ext cx="7696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between Manager and Agents: 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721480" y="1974960"/>
            <a:ext cx="2818800" cy="304200"/>
            <a:chOff x="5721480" y="1974960"/>
            <a:chExt cx="2818800" cy="304200"/>
          </a:xfrm>
        </p:grpSpPr>
        <p:sp>
          <p:nvSpPr>
            <p:cNvPr id="421" name=""/>
            <p:cNvSpPr/>
            <p:nvPr/>
          </p:nvSpPr>
          <p:spPr>
            <a:xfrm>
              <a:off x="5721480" y="2014200"/>
              <a:ext cx="2790360" cy="264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08600" y="2033280"/>
              <a:ext cx="257904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97440" y="1974960"/>
              <a:ext cx="2742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0000"/>
                  </a:solidFill>
                  <a:latin typeface="Arial"/>
                </a:rPr>
                <a:t>Agent Application 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562720" y="2305080"/>
            <a:ext cx="3079080" cy="4251240"/>
            <a:chOff x="5562720" y="2305080"/>
            <a:chExt cx="3079080" cy="4251240"/>
          </a:xfrm>
        </p:grpSpPr>
        <p:sp>
          <p:nvSpPr>
            <p:cNvPr id="425" name=""/>
            <p:cNvSpPr/>
            <p:nvPr/>
          </p:nvSpPr>
          <p:spPr>
            <a:xfrm>
              <a:off x="5562720" y="6284880"/>
              <a:ext cx="317520" cy="2160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41080" y="6284880"/>
              <a:ext cx="2700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nsport and Lower Layers (IrD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62720" y="5751720"/>
              <a:ext cx="317520" cy="2221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39640" y="5675400"/>
              <a:ext cx="189900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V 13735 (Intermed):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pplication Profi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88560" y="2409840"/>
              <a:ext cx="304560" cy="1393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30840" y="3956040"/>
              <a:ext cx="2789280" cy="22860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30840" y="4248360"/>
              <a:ext cx="2789280" cy="22356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30840" y="4635720"/>
              <a:ext cx="2789280" cy="387360"/>
            </a:xfrm>
            <a:prstGeom prst="rect">
              <a:avLst/>
            </a:prstGeom>
            <a:solidFill>
              <a:srgbClr val="d9d9d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204400" y="2619360"/>
              <a:ext cx="2160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0000"/>
                  </a:solidFill>
                  <a:latin typeface="Arial"/>
                </a:rPr>
                <a:t>AC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42160" y="3925800"/>
              <a:ext cx="2157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0000"/>
                  </a:solidFill>
                  <a:latin typeface="Arial"/>
                </a:rPr>
                <a:t>Presentation Lay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57920" y="4230720"/>
              <a:ext cx="2408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0000"/>
                  </a:solidFill>
                  <a:latin typeface="Arial"/>
                </a:rPr>
                <a:t>Session Lay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57920" y="4702320"/>
              <a:ext cx="2408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0000"/>
                  </a:solidFill>
                  <a:latin typeface="Arial"/>
                </a:rPr>
                <a:t>Transport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018560" y="4471920"/>
              <a:ext cx="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7016400" y="4184280"/>
              <a:ext cx="180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016760" y="38034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312400" y="380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12400" y="230508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1371600" y="2279520"/>
            <a:ext cx="6635880" cy="3773160"/>
            <a:chOff x="1371600" y="2279520"/>
            <a:chExt cx="6635880" cy="3773160"/>
          </a:xfrm>
        </p:grpSpPr>
        <p:sp>
          <p:nvSpPr>
            <p:cNvPr id="443" name=""/>
            <p:cNvSpPr/>
            <p:nvPr/>
          </p:nvSpPr>
          <p:spPr>
            <a:xfrm>
              <a:off x="1371600" y="5675040"/>
              <a:ext cx="317520" cy="2160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52840" y="5598720"/>
              <a:ext cx="24382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dical Device Information Base (Vital): Objektba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5967360" y="2279520"/>
              <a:ext cx="2040120" cy="1143000"/>
              <a:chOff x="5967360" y="2279520"/>
              <a:chExt cx="2040120" cy="1143000"/>
            </a:xfrm>
          </p:grpSpPr>
          <p:sp>
            <p:nvSpPr>
              <p:cNvPr id="446" name=""/>
              <p:cNvSpPr/>
              <p:nvPr/>
            </p:nvSpPr>
            <p:spPr>
              <a:xfrm>
                <a:off x="5967360" y="2282400"/>
                <a:ext cx="74484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10000"/>
                    </a:solidFill>
                    <a:latin typeface="Arial"/>
                  </a:rPr>
                  <a:t>MDIB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7" name=""/>
              <p:cNvGrpSpPr/>
              <p:nvPr/>
            </p:nvGrpSpPr>
            <p:grpSpPr>
              <a:xfrm>
                <a:off x="6064200" y="2279520"/>
                <a:ext cx="1943280" cy="1143000"/>
                <a:chOff x="6064200" y="2279520"/>
                <a:chExt cx="1943280" cy="114300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6064200" y="2404800"/>
                  <a:ext cx="1943280" cy="1017720"/>
                </a:xfrm>
                <a:prstGeom prst="ellipse">
                  <a:avLst/>
                </a:prstGeom>
                <a:solidFill>
                  <a:srgbClr val="ffff99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016760" y="2279520"/>
                  <a:ext cx="0" cy="12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756480" y="2462040"/>
                  <a:ext cx="314280" cy="11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711120" y="2425320"/>
                  <a:ext cx="40860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10000"/>
                      </a:solidFill>
                      <a:latin typeface="Arial"/>
                    </a:rPr>
                    <a:t>MD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964560" y="2650680"/>
                  <a:ext cx="315720" cy="113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912720" y="2615760"/>
                  <a:ext cx="40860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10000"/>
                      </a:solidFill>
                      <a:latin typeface="Arial"/>
                    </a:rPr>
                    <a:t>VM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562800" y="2858760"/>
                  <a:ext cx="360360" cy="108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486120" y="2815920"/>
                  <a:ext cx="55944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10000"/>
                      </a:solidFill>
                      <a:latin typeface="Arial"/>
                    </a:rPr>
                    <a:t>Channe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459480" y="3074760"/>
                  <a:ext cx="187560" cy="109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386400" y="3039840"/>
                  <a:ext cx="32760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10000"/>
                      </a:solidFill>
                      <a:latin typeface="Arial"/>
                    </a:rPr>
                    <a:t>N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740640" y="3074760"/>
                  <a:ext cx="189000" cy="216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657480" y="3039840"/>
                  <a:ext cx="35064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10000"/>
                      </a:solidFill>
                      <a:latin typeface="Arial"/>
                    </a:rPr>
                    <a:t>RT-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669000" y="3134880"/>
                  <a:ext cx="31860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10000"/>
                      </a:solidFill>
                      <a:latin typeface="Arial"/>
                    </a:rPr>
                    <a:t>S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010640" y="3074760"/>
                  <a:ext cx="190440" cy="109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940800" y="3030120"/>
                  <a:ext cx="30636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10000"/>
                      </a:solidFill>
                      <a:latin typeface="Arial"/>
                    </a:rPr>
                    <a:t>A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345440" y="2862000"/>
                  <a:ext cx="360360" cy="112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270200" y="2827080"/>
                  <a:ext cx="55944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10000"/>
                      </a:solidFill>
                      <a:latin typeface="Arial"/>
                    </a:rPr>
                    <a:t>Channe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353360" y="3068280"/>
                  <a:ext cx="187560" cy="112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281720" y="3025440"/>
                  <a:ext cx="32760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10000"/>
                      </a:solidFill>
                      <a:latin typeface="Arial"/>
                    </a:rPr>
                    <a:t>N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667640" y="3065040"/>
                  <a:ext cx="190440" cy="113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599600" y="3025440"/>
                  <a:ext cx="30636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10000"/>
                      </a:solidFill>
                      <a:latin typeface="Arial"/>
                    </a:rPr>
                    <a:t>A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905880" y="2592000"/>
                  <a:ext cx="201600" cy="42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>
                  <a:off x="6716520" y="2782440"/>
                  <a:ext cx="40644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131240" y="2787480"/>
                  <a:ext cx="39852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6545520" y="2987280"/>
                  <a:ext cx="19368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731280" y="2993760"/>
                  <a:ext cx="95040" cy="6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731280" y="2987280"/>
                  <a:ext cx="36180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7431120" y="2993760"/>
                  <a:ext cx="9864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526520" y="2997000"/>
                  <a:ext cx="233280" cy="5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369120" y="2658960"/>
                  <a:ext cx="316080" cy="109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386760" y="2625480"/>
                  <a:ext cx="179280" cy="21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6505200" y="2595240"/>
                  <a:ext cx="412920" cy="5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0" name=""/>
          <p:cNvSpPr/>
          <p:nvPr/>
        </p:nvSpPr>
        <p:spPr>
          <a:xfrm flipH="1">
            <a:off x="708120" y="232236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20720" y="384660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20720" y="415116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20720" y="44560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963720" y="27795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28440" y="3846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928440" y="41511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93360" y="4608360"/>
            <a:ext cx="58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-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106720" y="6058080"/>
            <a:ext cx="1807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711040" y="163656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tientenmonitor (Ser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04560" y="1600200"/>
            <a:ext cx="103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SI/I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chich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371600" y="2289240"/>
            <a:ext cx="6705720" cy="4570560"/>
            <a:chOff x="1371600" y="2289240"/>
            <a:chExt cx="6705720" cy="4570560"/>
          </a:xfrm>
        </p:grpSpPr>
        <p:sp>
          <p:nvSpPr>
            <p:cNvPr id="492" name=""/>
            <p:cNvSpPr/>
            <p:nvPr/>
          </p:nvSpPr>
          <p:spPr>
            <a:xfrm>
              <a:off x="7016760" y="3422880"/>
              <a:ext cx="18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6026400" y="3490560"/>
              <a:ext cx="1981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1371600" y="2289240"/>
              <a:ext cx="6705720" cy="4570560"/>
              <a:chOff x="1371600" y="2289240"/>
              <a:chExt cx="6705720" cy="4570560"/>
            </a:xfrm>
          </p:grpSpPr>
          <p:sp>
            <p:nvSpPr>
              <p:cNvPr id="495" name=""/>
              <p:cNvSpPr/>
              <p:nvPr/>
            </p:nvSpPr>
            <p:spPr>
              <a:xfrm>
                <a:off x="8007480" y="3508200"/>
                <a:ext cx="14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715000" y="3779640"/>
                <a:ext cx="2286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873760" y="2289240"/>
                <a:ext cx="18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1371600" y="2517840"/>
                <a:ext cx="6705720" cy="4341960"/>
                <a:chOff x="1371600" y="2517840"/>
                <a:chExt cx="6705720" cy="43419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371600" y="6294240"/>
                  <a:ext cx="317520" cy="216000"/>
                </a:xfrm>
                <a:prstGeom prst="rect">
                  <a:avLst/>
                </a:prstGeom>
                <a:solidFill>
                  <a:srgbClr val="51d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721480" y="3508200"/>
                  <a:ext cx="2286000" cy="304920"/>
                </a:xfrm>
                <a:prstGeom prst="rect">
                  <a:avLst/>
                </a:pr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721480" y="2523960"/>
                  <a:ext cx="304920" cy="1044720"/>
                </a:xfrm>
                <a:prstGeom prst="rect">
                  <a:avLst/>
                </a:prstGeom>
                <a:solidFill>
                  <a:srgbClr val="00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773680" y="3489120"/>
                  <a:ext cx="2303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CMDISE (IEEE 1073.2.0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026400" y="2517840"/>
                  <a:ext cx="0" cy="9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5721480" y="2517840"/>
                  <a:ext cx="0" cy="129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21480" y="2517840"/>
                  <a:ext cx="30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752840" y="6218280"/>
                  <a:ext cx="289548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mmon Medical Device Information Service Element: Verwaltet die Objekt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7" name=""/>
          <p:cNvGrpSpPr/>
          <p:nvPr/>
        </p:nvGrpSpPr>
        <p:grpSpPr>
          <a:xfrm>
            <a:off x="1675800" y="1636560"/>
            <a:ext cx="5862960" cy="3888360"/>
            <a:chOff x="1675800" y="1636560"/>
            <a:chExt cx="5862960" cy="3888360"/>
          </a:xfrm>
        </p:grpSpPr>
        <p:grpSp>
          <p:nvGrpSpPr>
            <p:cNvPr id="508" name=""/>
            <p:cNvGrpSpPr/>
            <p:nvPr/>
          </p:nvGrpSpPr>
          <p:grpSpPr>
            <a:xfrm>
              <a:off x="1675800" y="1636560"/>
              <a:ext cx="5862960" cy="3888360"/>
              <a:chOff x="1675800" y="1636560"/>
              <a:chExt cx="5862960" cy="3888360"/>
            </a:xfrm>
          </p:grpSpPr>
          <p:sp>
            <p:nvSpPr>
              <p:cNvPr id="509" name=""/>
              <p:cNvSpPr/>
              <p:nvPr/>
            </p:nvSpPr>
            <p:spPr>
              <a:xfrm>
                <a:off x="2102040" y="2404800"/>
                <a:ext cx="1942920" cy="1017720"/>
              </a:xfrm>
              <a:prstGeom prst="ellipse">
                <a:avLst/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758960" y="3498480"/>
                <a:ext cx="2286000" cy="30492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758960" y="2014200"/>
                <a:ext cx="2791080" cy="265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525400" y="2367000"/>
                <a:ext cx="1921320" cy="92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64" y="16673"/>
                    </a:moveTo>
                    <a:arcTo wR="10800" hR="10800" stAng="1976422" swAng="857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64" y="16673"/>
                    </a:moveTo>
                    <a:arcTo wR="10800" hR="10800" stAng="1976422" swAng="85774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414880" y="2248200"/>
                <a:ext cx="1926720" cy="93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534" y="6122"/>
                    </a:moveTo>
                    <a:arcTo wR="10800" hR="10800" stAng="-1540150" swAng="801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534" y="6122"/>
                    </a:moveTo>
                    <a:arcTo wR="10800" hR="10800" stAng="-1540150" swAng="8019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226040" y="2409480"/>
                <a:ext cx="304920" cy="13939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768680" y="3955680"/>
                <a:ext cx="2789280" cy="22860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768680" y="4248000"/>
                <a:ext cx="2789280" cy="22356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768680" y="4635360"/>
                <a:ext cx="2789280" cy="387360"/>
              </a:xfrm>
              <a:prstGeom prst="rect">
                <a:avLst/>
              </a:prstGeom>
              <a:solidFill>
                <a:srgbClr val="d9d9d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846440" y="2033280"/>
                <a:ext cx="25797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835280" y="1974600"/>
                <a:ext cx="27432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Manager Application Proc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241880" y="2619000"/>
                <a:ext cx="216000" cy="81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10000"/>
                    </a:solidFill>
                    <a:latin typeface="Arial"/>
                  </a:rPr>
                  <a:t>AC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979640" y="3925440"/>
                <a:ext cx="21574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Presentation Lay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895760" y="4230360"/>
                <a:ext cx="2408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Session Lay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895760" y="4701960"/>
                <a:ext cx="2408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nsport Syste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3056040" y="4471560"/>
                <a:ext cx="1440" cy="16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>
                <a:off x="3054600" y="4183920"/>
                <a:ext cx="144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 flipV="1">
                <a:off x="3054600" y="3803040"/>
                <a:ext cx="14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349880" y="3803400"/>
                <a:ext cx="144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054600" y="3422520"/>
                <a:ext cx="14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044960" y="3498480"/>
                <a:ext cx="180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758960" y="2514240"/>
                <a:ext cx="304920" cy="104472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4349880" y="2304720"/>
                <a:ext cx="144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005200" y="2282400"/>
                <a:ext cx="744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10000"/>
                    </a:solidFill>
                    <a:latin typeface="Arial"/>
                  </a:rPr>
                  <a:t>MDIB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054600" y="2279520"/>
                <a:ext cx="1440" cy="12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758960" y="3803400"/>
                <a:ext cx="2286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2063880" y="2508120"/>
                <a:ext cx="1440" cy="9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2063880" y="3498120"/>
                <a:ext cx="1981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1758960" y="2508120"/>
                <a:ext cx="1800" cy="129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758960" y="2508120"/>
                <a:ext cx="304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811520" y="3479400"/>
                <a:ext cx="230328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CMDISE (IEEE 1073.2.0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911600" y="2279520"/>
                <a:ext cx="14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675800" y="1636560"/>
                <a:ext cx="109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PC (Clien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958120" y="5217840"/>
                <a:ext cx="458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Physikalische Verbindung, z.B. IrDA - Cable Connecte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3048120" y="5046480"/>
              <a:ext cx="3962520" cy="228600"/>
              <a:chOff x="3048120" y="5046480"/>
              <a:chExt cx="3962520" cy="22860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3048120" y="5046480"/>
                <a:ext cx="1828440" cy="152280"/>
                <a:chOff x="3048120" y="5046480"/>
                <a:chExt cx="1828440" cy="15228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3048120" y="5046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048120" y="5198760"/>
                  <a:ext cx="1828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5029560" y="5046480"/>
                <a:ext cx="1981080" cy="152280"/>
                <a:chOff x="5029560" y="5046480"/>
                <a:chExt cx="1981080" cy="15228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7010640" y="5046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5029560" y="5198760"/>
                  <a:ext cx="198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0" name=""/>
              <p:cNvSpPr/>
              <p:nvPr/>
            </p:nvSpPr>
            <p:spPr>
              <a:xfrm>
                <a:off x="4876920" y="51606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5400000">
                <a:off x="4914360" y="5122440"/>
                <a:ext cx="152640" cy="1522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696080" cy="516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-Functionalities of departments overl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5410080"/>
            <a:ext cx="198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G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2438280"/>
            <a:ext cx="3809880" cy="403884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90960" y="2617920"/>
            <a:ext cx="3255840" cy="3859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1295280"/>
            <a:ext cx="3603600" cy="387504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1523880"/>
            <a:ext cx="4114800" cy="36464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5410080"/>
            <a:ext cx="198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esth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1447920"/>
            <a:ext cx="184140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nsive Care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Informatio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3429000"/>
            <a:ext cx="1841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dside device inter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1295280"/>
            <a:ext cx="19814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apy plannin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3429000"/>
            <a:ext cx="17002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Managem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ry Da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Managem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0400" y="5715000"/>
            <a:ext cx="14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 R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82680" y="58500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d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362320"/>
            <a:ext cx="5257800" cy="2819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2895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35812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acqui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2895480"/>
            <a:ext cx="1557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dulin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cument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rsin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ri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lin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ge acce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-212040" y="3433320"/>
            <a:ext cx="1998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olated is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499320"/>
            <a:ext cx="63244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COM: evolutio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it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ing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unciation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c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1600200"/>
            <a:ext cx="7437240" cy="42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982: founded by ACR and hosted by N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985: Standard V 1.0 : file formats onl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0000"/>
                </a:solidFill>
                <a:latin typeface="Arial"/>
              </a:rPr>
              <a:t>1988: Standard V 2.0 : 50 pin Point-to-Point connector; not impl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0000"/>
                </a:solidFill>
                <a:latin typeface="Arial"/>
              </a:rPr>
              <a:t>1988: SPI (Standard Product Interconnect) from Si, Ph; not accep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8000"/>
                </a:solidFill>
                <a:latin typeface="Arial"/>
              </a:rPr>
              <a:t>1992: DICOM 3.0: networking, object oriented, accepted and supported by whole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1: about 2000 pages; growing exponenti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 formats; image objects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rkflow messages: worklist, performed procedure step </a:t>
            </a:r>
            <a:r>
              <a:rPr b="1" lang="de-DE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curity: de-identification of patient data, digital signatures </a:t>
            </a:r>
            <a:r>
              <a:rPr b="1" lang="de-DE" sz="2800" spc="-1" strike="noStrike">
                <a:solidFill>
                  <a:srgbClr val="33cc33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uctured Reporting: evidence reports with measurements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ded diagnosis of the radiologis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9933"/>
                </a:solidFill>
                <a:latin typeface="Arial"/>
              </a:rPr>
              <a:t>(</a:t>
            </a:r>
            <a:r>
              <a:rPr b="1" lang="de-DE" sz="2800" spc="-1" strike="noStrike">
                <a:solidFill>
                  <a:srgbClr val="ff9933"/>
                </a:solidFill>
                <a:latin typeface="Wingdings"/>
                <a:ea typeface="Wingdings"/>
              </a:rPr>
              <a:t></a:t>
            </a:r>
            <a:r>
              <a:rPr b="1" lang="de-DE" sz="1800" spc="-1" strike="noStrike">
                <a:solidFill>
                  <a:srgbClr val="ff99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1539360" y="3052080"/>
            <a:ext cx="4501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om connectivity to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33720" y="608400"/>
            <a:ext cx="4114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L7: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1295280"/>
            <a:ext cx="7437600" cy="52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st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essages in ASCII-format, with redund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ion 2.5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ern XML-message format as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ion 3.0 +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DA (Clinical Document Architecture) since 1996, now ballo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vel 1 much more primitive than DICOM Structured Repo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stly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yntax for header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n documents (patient, provider, encounter, time stamp, signature)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ut not a structure of medical content in data item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e für SCIPHOX (D) (hospitals with physici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lementations also in UK, GR, SF, 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 3.0 RIM (Reference Information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istent message generation mode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r healthc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t yet complete, may need until end 2003 for positive bal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-1539360" y="3052080"/>
            <a:ext cx="4501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om connectivity to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685800"/>
            <a:ext cx="64771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COM WG 20 / HL7 Image Integration S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-938520" y="3426840"/>
            <a:ext cx="330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mains connect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1905120"/>
            <a:ext cx="746748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Workinggroup of DICOM and HL7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ign the standard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clinical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in CDA when progressing towards Level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COM SR (Structured Reporting) provides already the semantics to describ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dical / clinical relationship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etween data which shall also be the content of CDA Level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: CDA Level 3 will map to DICOM 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the Internet for DICOM Persistent Objects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clude DICOM MIME Type in HL7 V3.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0000" y="6324480"/>
            <a:ext cx="3061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DA= Clinical Document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2743200"/>
            <a:ext cx="739152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nical Workflow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ExtraS 1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ity &amp; Integrity of Patie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ExtraS 1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 Communication among diverse Healthcare Information Systems from different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ExtraS 1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Repeating Tasks (like typing patient 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ExtraS 1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Data Redund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ExtraS 1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Rigid &amp; Costly Proprietary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ExtraS 1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ExtraS 1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existing standard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ver poss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saving the invested development of the compani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ExtraS 1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mproving quality of 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685800"/>
            <a:ext cx="6629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 of the IHE Initiative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egra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lthc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erprise (typ. hospi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50800" y="1828800"/>
            <a:ext cx="72093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un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SN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Radiological Society of North Amer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M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Healthcare Information &amp; Management Systems Socie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938520" y="3426840"/>
            <a:ext cx="330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mains connect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52480" y="576000"/>
            <a:ext cx="63248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HE Roles and 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068480" y="1101600"/>
            <a:ext cx="8075520" cy="5559840"/>
            <a:chOff x="1068480" y="1101600"/>
            <a:chExt cx="8075520" cy="5559840"/>
          </a:xfrm>
        </p:grpSpPr>
        <p:grpSp>
          <p:nvGrpSpPr>
            <p:cNvPr id="138" name=""/>
            <p:cNvGrpSpPr/>
            <p:nvPr/>
          </p:nvGrpSpPr>
          <p:grpSpPr>
            <a:xfrm>
              <a:off x="1068480" y="1101600"/>
              <a:ext cx="8075520" cy="5559840"/>
              <a:chOff x="1068480" y="1101600"/>
              <a:chExt cx="8075520" cy="5559840"/>
            </a:xfrm>
          </p:grpSpPr>
          <p:sp>
            <p:nvSpPr>
              <p:cNvPr id="139" name=""/>
              <p:cNvSpPr/>
              <p:nvPr/>
            </p:nvSpPr>
            <p:spPr>
              <a:xfrm>
                <a:off x="1068480" y="1254240"/>
                <a:ext cx="8075520" cy="540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1220760" y="1101600"/>
                <a:ext cx="7772400" cy="5458680"/>
                <a:chOff x="1220760" y="1101600"/>
                <a:chExt cx="7772400" cy="5458680"/>
              </a:xfrm>
            </p:grpSpPr>
            <p:grpSp>
              <p:nvGrpSpPr>
                <p:cNvPr id="141" name=""/>
                <p:cNvGrpSpPr/>
                <p:nvPr/>
              </p:nvGrpSpPr>
              <p:grpSpPr>
                <a:xfrm>
                  <a:off x="2287440" y="2473560"/>
                  <a:ext cx="1295640" cy="609480"/>
                  <a:chOff x="2287440" y="2473560"/>
                  <a:chExt cx="1295640" cy="60948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2287440" y="2473560"/>
                    <a:ext cx="1295640" cy="6094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2287440" y="2656080"/>
                    <a:ext cx="12956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Order Place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3430440" y="5445360"/>
                  <a:ext cx="1295640" cy="900000"/>
                  <a:chOff x="3430440" y="5445360"/>
                  <a:chExt cx="1295640" cy="90000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3430440" y="5445360"/>
                    <a:ext cx="1295640" cy="7617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3430440" y="5521320"/>
                    <a:ext cx="129564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erforme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rocedure Ste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Manage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3887640" y="1330560"/>
                  <a:ext cx="1676520" cy="641520"/>
                  <a:chOff x="3887640" y="1330560"/>
                  <a:chExt cx="1676520" cy="6415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3887640" y="1330560"/>
                    <a:ext cx="1676520" cy="6094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3963960" y="1330560"/>
                    <a:ext cx="152388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D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atient Registratio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5487840" y="4226040"/>
                  <a:ext cx="2286000" cy="914400"/>
                  <a:chOff x="5487840" y="4226040"/>
                  <a:chExt cx="2286000" cy="914400"/>
                </a:xfrm>
              </p:grpSpPr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6478560" y="4226040"/>
                    <a:ext cx="1295280" cy="609480"/>
                    <a:chOff x="6478560" y="4226040"/>
                    <a:chExt cx="1295280" cy="60948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6478560" y="4226040"/>
                      <a:ext cx="1295280" cy="60948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2844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478560" y="4408560"/>
                      <a:ext cx="129528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e Arch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" name=""/>
                  <p:cNvGrpSpPr/>
                  <p:nvPr/>
                </p:nvGrpSpPr>
                <p:grpSpPr>
                  <a:xfrm>
                    <a:off x="5487840" y="4530960"/>
                    <a:ext cx="1295640" cy="609480"/>
                    <a:chOff x="5487840" y="4530960"/>
                    <a:chExt cx="1295640" cy="609480"/>
                  </a:xfrm>
                </p:grpSpPr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5487840" y="4530960"/>
                      <a:ext cx="1295640" cy="60948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2844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5487840" y="4713480"/>
                      <a:ext cx="12956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e Mana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6478560" y="2702160"/>
                  <a:ext cx="1295280" cy="609480"/>
                  <a:chOff x="6478560" y="2702160"/>
                  <a:chExt cx="1295280" cy="60948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6478560" y="2702160"/>
                    <a:ext cx="1295280" cy="609480"/>
                  </a:xfrm>
                  <a:prstGeom prst="ellipse">
                    <a:avLst/>
                  </a:prstGeom>
                  <a:solidFill>
                    <a:srgbClr val="ff9999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6478560" y="2884680"/>
                    <a:ext cx="1295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mage Displa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7697880" y="2168640"/>
                  <a:ext cx="1295280" cy="609480"/>
                  <a:chOff x="7697880" y="2168640"/>
                  <a:chExt cx="1295280" cy="60948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7697880" y="2168640"/>
                    <a:ext cx="1295280" cy="609480"/>
                  </a:xfrm>
                  <a:prstGeom prst="ellipse">
                    <a:avLst/>
                  </a:prstGeom>
                  <a:solidFill>
                    <a:srgbClr val="ff9999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7697880" y="2351160"/>
                    <a:ext cx="1295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Image Creato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6478560" y="5673960"/>
                  <a:ext cx="1295280" cy="609480"/>
                  <a:chOff x="6478560" y="5673960"/>
                  <a:chExt cx="1295280" cy="60948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6478560" y="5673960"/>
                    <a:ext cx="1295280" cy="6094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6478560" y="5749920"/>
                    <a:ext cx="129528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cquisitio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Modalit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1220760" y="3692520"/>
                  <a:ext cx="2666880" cy="990720"/>
                  <a:chOff x="1220760" y="3692520"/>
                  <a:chExt cx="2666880" cy="990720"/>
                </a:xfrm>
              </p:grpSpPr>
              <p:grpSp>
                <p:nvGrpSpPr>
                  <p:cNvPr id="167" name=""/>
                  <p:cNvGrpSpPr/>
                  <p:nvPr/>
                </p:nvGrpSpPr>
                <p:grpSpPr>
                  <a:xfrm>
                    <a:off x="2516040" y="3692520"/>
                    <a:ext cx="1371600" cy="717840"/>
                    <a:chOff x="2516040" y="3692520"/>
                    <a:chExt cx="1371600" cy="717840"/>
                  </a:xfrm>
                </p:grpSpPr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2516040" y="3692520"/>
                      <a:ext cx="1371600" cy="68580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2844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516040" y="3768840"/>
                      <a:ext cx="1371600" cy="641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Datab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1220760" y="3997440"/>
                    <a:ext cx="1523880" cy="685800"/>
                    <a:chOff x="1220760" y="3997440"/>
                    <a:chExt cx="1523880" cy="68580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1220760" y="3997440"/>
                      <a:ext cx="1523880" cy="68580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2844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1220760" y="3997440"/>
                      <a:ext cx="1523880" cy="641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Schedu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r Filler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3049560" y="1940040"/>
                  <a:ext cx="1676520" cy="2056680"/>
                  <a:chOff x="3049560" y="1940040"/>
                  <a:chExt cx="1676520" cy="205668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4726080" y="1940040"/>
                    <a:ext cx="0" cy="12952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V="1">
                    <a:off x="3049560" y="2472480"/>
                    <a:ext cx="1676160" cy="1523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1601640" y="1635120"/>
                  <a:ext cx="4571280" cy="2428920"/>
                  <a:chOff x="1601640" y="1635120"/>
                  <a:chExt cx="4571280" cy="242892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1601640" y="2778120"/>
                    <a:ext cx="0" cy="128592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>
                    <a:off x="1601640" y="1635120"/>
                    <a:ext cx="4571280" cy="2285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9" name=""/>
                <p:cNvSpPr/>
                <p:nvPr/>
              </p:nvSpPr>
              <p:spPr>
                <a:xfrm flipV="1">
                  <a:off x="3628800" y="4374720"/>
                  <a:ext cx="2546280" cy="1529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308" y="104"/>
                      </a:moveTo>
                      <a:arcTo wR="10800" hR="10800" stAng="-5876582" swAng="58765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308" y="104"/>
                      </a:moveTo>
                      <a:arcTo wR="10800" hR="10800" stAng="-5876582" swAng="5876582"/>
                    </a:path>
                  </a:pathLst>
                </a:custGeom>
                <a:noFill/>
                <a:ln w="2844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1601640" y="2930040"/>
                  <a:ext cx="5028840" cy="3403440"/>
                  <a:chOff x="1601640" y="2930040"/>
                  <a:chExt cx="5028840" cy="3403440"/>
                </a:xfrm>
              </p:grpSpPr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1601640" y="2930040"/>
                    <a:ext cx="5028840" cy="3353400"/>
                    <a:chOff x="1601640" y="2930040"/>
                    <a:chExt cx="5028840" cy="3353400"/>
                  </a:xfrm>
                </p:grpSpPr>
                <p:sp>
                  <p:nvSpPr>
                    <p:cNvPr id="182" name=""/>
                    <p:cNvSpPr/>
                    <p:nvPr/>
                  </p:nvSpPr>
                  <p:spPr>
                    <a:xfrm flipH="1" flipV="1">
                      <a:off x="1601280" y="2929680"/>
                      <a:ext cx="3955680" cy="335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454" y="6"/>
                          </a:moveTo>
                          <a:arcTo wR="10800" hR="10800" stAng="-5510264" swAng="54849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454" y="6"/>
                          </a:moveTo>
                          <a:arcTo wR="10800" hR="10800" stAng="-5510264" swAng="5484969"/>
                        </a:path>
                      </a:pathLst>
                    </a:custGeom>
                    <a:noFill/>
                    <a:ln w="2844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3583080" y="6283440"/>
                      <a:ext cx="2666880" cy="0"/>
                    </a:xfrm>
                    <a:prstGeom prst="line">
                      <a:avLst/>
                    </a:prstGeom>
                    <a:ln w="2844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 flipV="1">
                      <a:off x="5869440" y="5978160"/>
                      <a:ext cx="761040" cy="30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008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5" name=""/>
                  <p:cNvSpPr/>
                  <p:nvPr/>
                </p:nvSpPr>
                <p:spPr>
                  <a:xfrm>
                    <a:off x="2211480" y="6102360"/>
                    <a:ext cx="1143000" cy="23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Modality Worklis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2211480" y="1635120"/>
                  <a:ext cx="2665800" cy="1676520"/>
                  <a:chOff x="2211480" y="1635120"/>
                  <a:chExt cx="2665800" cy="16765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>
                    <a:off x="2897280" y="1635120"/>
                    <a:ext cx="1980000" cy="1676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28440">
                    <a:solidFill>
                      <a:srgbClr val="008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211480" y="1787760"/>
                    <a:ext cx="12189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atient Registrati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2440440" y="1101600"/>
                  <a:ext cx="2590200" cy="1675800"/>
                  <a:chOff x="2440440" y="1101600"/>
                  <a:chExt cx="2590200" cy="167580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V="1">
                    <a:off x="2440440" y="1100880"/>
                    <a:ext cx="2285280" cy="1675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4040280" y="2320920"/>
                    <a:ext cx="990360" cy="23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atient Updat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1828800" y="2778120"/>
                  <a:ext cx="762480" cy="1218960"/>
                  <a:chOff x="1828800" y="2778120"/>
                  <a:chExt cx="762480" cy="121896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1982880" y="2778120"/>
                    <a:ext cx="608400" cy="1218960"/>
                    <a:chOff x="1982880" y="2778120"/>
                    <a:chExt cx="608400" cy="12189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 flipV="1">
                      <a:off x="1982880" y="3049200"/>
                      <a:ext cx="0" cy="947880"/>
                    </a:xfrm>
                    <a:prstGeom prst="line">
                      <a:avLst/>
                    </a:prstGeom>
                    <a:ln w="28440">
                      <a:solidFill>
                        <a:srgbClr val="008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flipH="1">
                      <a:off x="1982880" y="2778120"/>
                      <a:ext cx="608400" cy="54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008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6" name=""/>
                  <p:cNvSpPr/>
                  <p:nvPr/>
                </p:nvSpPr>
                <p:spPr>
                  <a:xfrm rot="16200000">
                    <a:off x="1563120" y="3270240"/>
                    <a:ext cx="762120" cy="23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New Order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907280" y="3006720"/>
                  <a:ext cx="1294560" cy="990000"/>
                  <a:chOff x="1907280" y="3006720"/>
                  <a:chExt cx="1294560" cy="990000"/>
                </a:xfrm>
              </p:grpSpPr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1907280" y="3006720"/>
                    <a:ext cx="608760" cy="990000"/>
                    <a:chOff x="1907280" y="3006720"/>
                    <a:chExt cx="608760" cy="99000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flipV="1">
                      <a:off x="1907280" y="3469680"/>
                      <a:ext cx="608400" cy="52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008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flipV="1">
                      <a:off x="2516040" y="3006720"/>
                      <a:ext cx="0" cy="727200"/>
                    </a:xfrm>
                    <a:prstGeom prst="line">
                      <a:avLst/>
                    </a:prstGeom>
                    <a:ln w="28440">
                      <a:solidFill>
                        <a:srgbClr val="008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1" name=""/>
                  <p:cNvSpPr/>
                  <p:nvPr/>
                </p:nvSpPr>
                <p:spPr>
                  <a:xfrm>
                    <a:off x="2287440" y="3311640"/>
                    <a:ext cx="914400" cy="23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Order Cance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2668680" y="4454640"/>
                  <a:ext cx="2895480" cy="533520"/>
                  <a:chOff x="2668680" y="4454640"/>
                  <a:chExt cx="2895480" cy="5335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2668680" y="4454640"/>
                    <a:ext cx="2895480" cy="53352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615000">
                    <a:off x="3279960" y="4606560"/>
                    <a:ext cx="1371600" cy="23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rocedure Schedule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2287440" y="4683240"/>
                  <a:ext cx="3581280" cy="882000"/>
                  <a:chOff x="2287440" y="4683240"/>
                  <a:chExt cx="3581280" cy="882000"/>
                </a:xfrm>
              </p:grpSpPr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2287440" y="4683240"/>
                    <a:ext cx="3581280" cy="609480"/>
                    <a:chOff x="2287440" y="4683240"/>
                    <a:chExt cx="3581280" cy="609480"/>
                  </a:xfrm>
                </p:grpSpPr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2287440" y="4683240"/>
                      <a:ext cx="3200400" cy="60948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 flipV="1">
                      <a:off x="5106960" y="4987440"/>
                      <a:ext cx="761760" cy="30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9" name=""/>
                  <p:cNvSpPr/>
                  <p:nvPr/>
                </p:nvSpPr>
                <p:spPr>
                  <a:xfrm rot="615000">
                    <a:off x="3876840" y="5063040"/>
                    <a:ext cx="15382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Images Availability Query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3887640" y="3986280"/>
                  <a:ext cx="2210040" cy="544680"/>
                  <a:chOff x="3887640" y="3986280"/>
                  <a:chExt cx="2210040" cy="54468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3887640" y="4073760"/>
                    <a:ext cx="2210040" cy="4572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615000">
                    <a:off x="4346640" y="4073400"/>
                    <a:ext cx="1000080" cy="23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atient Updat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3659040" y="4277160"/>
                  <a:ext cx="1905120" cy="568440"/>
                  <a:chOff x="3659040" y="4277160"/>
                  <a:chExt cx="1905120" cy="5684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9040" y="4302360"/>
                    <a:ext cx="1905120" cy="380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615000">
                    <a:off x="4029480" y="4376880"/>
                    <a:ext cx="11574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rocedure Updat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012440" y="4759560"/>
                  <a:ext cx="761400" cy="913680"/>
                  <a:chOff x="7012440" y="4759560"/>
                  <a:chExt cx="761400" cy="913680"/>
                </a:xfrm>
              </p:grpSpPr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7012440" y="4759560"/>
                    <a:ext cx="456840" cy="913680"/>
                    <a:chOff x="7012440" y="4759560"/>
                    <a:chExt cx="456840" cy="913680"/>
                  </a:xfrm>
                </p:grpSpPr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7469280" y="4759560"/>
                      <a:ext cx="0" cy="685800"/>
                    </a:xfrm>
                    <a:prstGeom prst="line">
                      <a:avLst/>
                    </a:prstGeom>
                    <a:ln w="28440">
                      <a:solidFill>
                        <a:srgbClr val="008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flipV="1">
                      <a:off x="7012440" y="5216040"/>
                      <a:ext cx="456480" cy="45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0" name=""/>
                  <p:cNvSpPr/>
                  <p:nvPr/>
                </p:nvSpPr>
                <p:spPr>
                  <a:xfrm>
                    <a:off x="7088040" y="5064120"/>
                    <a:ext cx="6858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Image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tore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7392960" y="4606920"/>
                  <a:ext cx="1066680" cy="1370520"/>
                  <a:chOff x="7392960" y="4606920"/>
                  <a:chExt cx="1066680" cy="1370520"/>
                </a:xfrm>
              </p:grpSpPr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7392960" y="4606920"/>
                    <a:ext cx="765000" cy="1370520"/>
                    <a:chOff x="7392960" y="4606920"/>
                    <a:chExt cx="765000" cy="13705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8155080" y="4967640"/>
                      <a:ext cx="2880" cy="64980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V="1">
                      <a:off x="7392960" y="5256000"/>
                      <a:ext cx="761760" cy="72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7392960" y="4606920"/>
                      <a:ext cx="761760" cy="72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prstDash val="sysDot"/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6" name=""/>
                  <p:cNvSpPr/>
                  <p:nvPr/>
                </p:nvSpPr>
                <p:spPr>
                  <a:xfrm>
                    <a:off x="7850160" y="4988160"/>
                    <a:ext cx="609480" cy="64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resent.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tat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tore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6478560" y="5064120"/>
                  <a:ext cx="836640" cy="609120"/>
                  <a:chOff x="6478560" y="5064120"/>
                  <a:chExt cx="836640" cy="609120"/>
                </a:xfrm>
              </p:grpSpPr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6554880" y="5064120"/>
                    <a:ext cx="760320" cy="609120"/>
                    <a:chOff x="6554880" y="5064120"/>
                    <a:chExt cx="760320" cy="6091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6554880" y="5064120"/>
                      <a:ext cx="0" cy="381240"/>
                    </a:xfrm>
                    <a:prstGeom prst="line">
                      <a:avLst/>
                    </a:prstGeom>
                    <a:ln w="28440">
                      <a:solidFill>
                        <a:srgbClr val="008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flipV="1">
                      <a:off x="6554880" y="5216040"/>
                      <a:ext cx="760320" cy="45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1" name=""/>
                  <p:cNvSpPr/>
                  <p:nvPr/>
                </p:nvSpPr>
                <p:spPr>
                  <a:xfrm>
                    <a:off x="6478560" y="5280120"/>
                    <a:ext cx="6858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torag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ommi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6249960" y="3235320"/>
                  <a:ext cx="837360" cy="990000"/>
                  <a:chOff x="6249960" y="3235320"/>
                  <a:chExt cx="837360" cy="990000"/>
                </a:xfrm>
              </p:grpSpPr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6783480" y="3235320"/>
                    <a:ext cx="303840" cy="990000"/>
                    <a:chOff x="6783480" y="3235320"/>
                    <a:chExt cx="303840" cy="9900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6783480" y="3235320"/>
                      <a:ext cx="0" cy="7621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flipH="1" flipV="1">
                      <a:off x="6783480" y="3768120"/>
                      <a:ext cx="303840" cy="45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6" name=""/>
                  <p:cNvSpPr/>
                  <p:nvPr/>
                </p:nvSpPr>
                <p:spPr>
                  <a:xfrm>
                    <a:off x="6249960" y="3540240"/>
                    <a:ext cx="6858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Q /R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Image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7088040" y="3235320"/>
                  <a:ext cx="914400" cy="990000"/>
                  <a:chOff x="7088040" y="3235320"/>
                  <a:chExt cx="914400" cy="990000"/>
                </a:xfrm>
              </p:grpSpPr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7088760" y="3235320"/>
                    <a:ext cx="304200" cy="990000"/>
                    <a:chOff x="7088760" y="3235320"/>
                    <a:chExt cx="304200" cy="99000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7392960" y="3235320"/>
                      <a:ext cx="0" cy="7621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prstDash val="sysDot"/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 flipV="1">
                      <a:off x="7088760" y="3768120"/>
                      <a:ext cx="303840" cy="45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1" name=""/>
                  <p:cNvSpPr/>
                  <p:nvPr/>
                </p:nvSpPr>
                <p:spPr>
                  <a:xfrm>
                    <a:off x="7088040" y="3543480"/>
                    <a:ext cx="914400" cy="50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Q /R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resentati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ate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5716440" y="2473560"/>
                  <a:ext cx="1981080" cy="2057400"/>
                  <a:chOff x="5716440" y="2473560"/>
                  <a:chExt cx="1981080" cy="2057400"/>
                </a:xfrm>
              </p:grpSpPr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6097680" y="2473560"/>
                    <a:ext cx="1599840" cy="2057400"/>
                    <a:chOff x="6097680" y="2473560"/>
                    <a:chExt cx="1599840" cy="205740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6097680" y="3311640"/>
                      <a:ext cx="1440" cy="12193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>
                      <a:off x="6897240" y="2473560"/>
                      <a:ext cx="800280" cy="144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flipH="1">
                      <a:off x="6097680" y="2473560"/>
                      <a:ext cx="1599120" cy="167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7" name=""/>
                  <p:cNvSpPr/>
                  <p:nvPr/>
                </p:nvSpPr>
                <p:spPr>
                  <a:xfrm>
                    <a:off x="5716440" y="2917800"/>
                    <a:ext cx="6858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torag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ommi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7088040" y="2778120"/>
                  <a:ext cx="1447920" cy="1596960"/>
                  <a:chOff x="7088040" y="2778120"/>
                  <a:chExt cx="1447920" cy="1596960"/>
                </a:xfrm>
              </p:grpSpPr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7088040" y="2778120"/>
                    <a:ext cx="1067040" cy="1596960"/>
                    <a:chOff x="7088040" y="2778120"/>
                    <a:chExt cx="1067040" cy="159696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8155080" y="2778120"/>
                      <a:ext cx="0" cy="12193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 flipV="1">
                      <a:off x="7088040" y="3615480"/>
                      <a:ext cx="1066680" cy="75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1372" y="15"/>
                          </a:moveTo>
                          <a:arcTo wR="10800" hR="10800" stAng="-5217704" swAng="521770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1372" y="15"/>
                          </a:moveTo>
                          <a:arcTo wR="10800" hR="10800" stAng="-5217704" swAng="5217704"/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2" name=""/>
                  <p:cNvSpPr/>
                  <p:nvPr/>
                </p:nvSpPr>
                <p:spPr>
                  <a:xfrm>
                    <a:off x="7850160" y="2930760"/>
                    <a:ext cx="6858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Image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tore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6783840" y="2778120"/>
                  <a:ext cx="2133000" cy="1675800"/>
                  <a:chOff x="6783840" y="2778120"/>
                  <a:chExt cx="2133000" cy="1675800"/>
                </a:xfrm>
              </p:grpSpPr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6783840" y="2778120"/>
                    <a:ext cx="1828440" cy="1675800"/>
                    <a:chOff x="6783840" y="2778120"/>
                    <a:chExt cx="1828440" cy="16758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8612280" y="2778120"/>
                      <a:ext cx="0" cy="99072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V="1">
                      <a:off x="6783840" y="3082320"/>
                      <a:ext cx="1828080" cy="137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799" y="0"/>
                          </a:moveTo>
                          <a:arcTo wR="10800" hR="10800" stAng="-5400178" swAng="540017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799" y="0"/>
                          </a:moveTo>
                          <a:arcTo wR="10800" hR="10800" stAng="-5400178" swAng="5400178"/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7" name=""/>
                  <p:cNvSpPr/>
                  <p:nvPr/>
                </p:nvSpPr>
                <p:spPr>
                  <a:xfrm>
                    <a:off x="8307360" y="3463920"/>
                    <a:ext cx="609480" cy="642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resent.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tat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tore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 flipV="1">
                  <a:off x="3437280" y="4451040"/>
                  <a:ext cx="2813760" cy="1529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308" y="104"/>
                      </a:moveTo>
                      <a:arcTo wR="10800" hR="10800" stAng="-5876582" swAng="58765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308" y="104"/>
                      </a:moveTo>
                      <a:arcTo wR="10800" hR="10800" stAng="-5876582" swAng="5876582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4726080" y="5597640"/>
                  <a:ext cx="1828800" cy="505440"/>
                  <a:chOff x="4726080" y="5597640"/>
                  <a:chExt cx="1828800" cy="50544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>
                    <a:off x="4726080" y="5902560"/>
                    <a:ext cx="1828800" cy="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106960" y="5597640"/>
                    <a:ext cx="838080" cy="50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P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In-Progres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/ Complete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4573440" y="2702160"/>
                  <a:ext cx="4419720" cy="3858120"/>
                  <a:chOff x="4573440" y="2702160"/>
                  <a:chExt cx="4419720" cy="3858120"/>
                </a:xfrm>
              </p:grpSpPr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4573440" y="2702160"/>
                    <a:ext cx="4419720" cy="3733560"/>
                    <a:chOff x="4573440" y="2702160"/>
                    <a:chExt cx="4419720" cy="373356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993160" y="2930760"/>
                      <a:ext cx="0" cy="312408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536320" y="2702160"/>
                      <a:ext cx="456480" cy="45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5030640" y="6435720"/>
                      <a:ext cx="350532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 flipH="1" flipV="1">
                      <a:off x="4573440" y="5673240"/>
                      <a:ext cx="913680" cy="76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V="1">
                      <a:off x="8079120" y="5673240"/>
                      <a:ext cx="913680" cy="76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9" name=""/>
                  <p:cNvSpPr/>
                  <p:nvPr/>
                </p:nvSpPr>
                <p:spPr>
                  <a:xfrm>
                    <a:off x="8078760" y="6054840"/>
                    <a:ext cx="838080" cy="50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P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In-Progres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/ Complete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 flipH="1" flipV="1">
                  <a:off x="1905840" y="3537720"/>
                  <a:ext cx="3809880" cy="244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477" y="131"/>
                      </a:moveTo>
                      <a:arcTo wR="10800" hR="10800" stAng="-4864124" swAng="508304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477" y="131"/>
                      </a:moveTo>
                      <a:arcTo wR="10800" hR="10800" stAng="-4864124" swAng="5083043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1982520" y="3461760"/>
                  <a:ext cx="3504600" cy="2441880"/>
                  <a:chOff x="1982520" y="3461760"/>
                  <a:chExt cx="3504600" cy="244188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1982160" y="3461400"/>
                    <a:ext cx="3504600" cy="2441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477" y="131"/>
                        </a:moveTo>
                        <a:arcTo wR="10800" hR="10800" stAng="-4864124" swAng="48641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477" y="131"/>
                        </a:moveTo>
                        <a:arcTo wR="10800" hR="10800" stAng="-4864124" swAng="4864124"/>
                      </a:path>
                    </a:pathLst>
                  </a:custGeom>
                  <a:noFill/>
                  <a:ln w="28440">
                    <a:solidFill>
                      <a:srgbClr val="008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516040" y="5372280"/>
                    <a:ext cx="838440" cy="50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PP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In-Progres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/ Complete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74" name=""/>
            <p:cNvSpPr/>
            <p:nvPr/>
          </p:nvSpPr>
          <p:spPr>
            <a:xfrm>
              <a:off x="6941520" y="1406520"/>
              <a:ext cx="2172600" cy="55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380880"/>
                  <a:tab algn="l" pos="66672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</a:rPr>
                <a:t>–––––</a:t>
              </a:r>
              <a:r>
                <a:rPr b="1" lang="en-US" sz="1000" spc="-1" strike="noStrike">
                  <a:solidFill>
                    <a:srgbClr val="008000"/>
                  </a:solidFill>
                  <a:latin typeface="Arial"/>
                </a:rPr>
                <a:t>	</a:t>
              </a:r>
              <a:r>
                <a:rPr b="1" lang="en-US" sz="1000" spc="-1" strike="noStrike">
                  <a:solidFill>
                    <a:srgbClr val="008000"/>
                  </a:solidFill>
                  <a:latin typeface="Arial"/>
                </a:rPr>
                <a:t>Year</a:t>
              </a:r>
              <a:r>
                <a:rPr b="1" lang="en-US" sz="1000" spc="-1" strike="noStrike">
                  <a:solidFill>
                    <a:srgbClr val="008000"/>
                  </a:solidFill>
                  <a:latin typeface="Arial"/>
                </a:rPr>
                <a:t>	</a:t>
              </a:r>
              <a:r>
                <a:rPr b="1" lang="en-US" sz="1000" spc="-1" strike="noStrike">
                  <a:solidFill>
                    <a:srgbClr val="008000"/>
                  </a:solidFill>
                  <a:latin typeface="Arial"/>
                </a:rPr>
                <a:t>1</a:t>
              </a:r>
              <a:r>
                <a:rPr b="1" lang="en-US" sz="1000" spc="-1" strike="noStrike">
                  <a:solidFill>
                    <a:srgbClr val="008000"/>
                  </a:solidFill>
                  <a:latin typeface="Arial"/>
                </a:rPr>
                <a:t>	</a:t>
              </a:r>
              <a:r>
                <a:rPr b="1" lang="en-US" sz="1000" spc="-1" strike="noStrike">
                  <a:solidFill>
                    <a:srgbClr val="008000"/>
                  </a:solidFill>
                  <a:latin typeface="Arial"/>
                </a:rPr>
                <a:t>Scop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80880"/>
                  <a:tab algn="l" pos="66672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–––––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Year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Scope Addi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80880"/>
                  <a:tab algn="l" pos="666720"/>
                  <a:tab algn="l" pos="762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•</a:t>
              </a:r>
              <a:r>
                <a:rPr b="0" lang="en-US" sz="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•</a:t>
              </a:r>
              <a:r>
                <a:rPr b="0" lang="en-US" sz="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•</a:t>
              </a:r>
              <a:r>
                <a:rPr b="0" lang="en-US" sz="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•</a:t>
              </a:r>
              <a:r>
                <a:rPr b="0" lang="en-US" sz="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•</a:t>
              </a:r>
              <a:r>
                <a:rPr b="0" lang="en-US" sz="3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•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Year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Optional Transac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528920" y="1527120"/>
            <a:ext cx="4111560" cy="1950840"/>
            <a:chOff x="1528920" y="1527120"/>
            <a:chExt cx="4111560" cy="1950840"/>
          </a:xfrm>
        </p:grpSpPr>
        <p:sp>
          <p:nvSpPr>
            <p:cNvPr id="276" name=""/>
            <p:cNvSpPr/>
            <p:nvPr/>
          </p:nvSpPr>
          <p:spPr>
            <a:xfrm>
              <a:off x="1528920" y="1527120"/>
              <a:ext cx="4111560" cy="19508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54280" y="2164320"/>
              <a:ext cx="1823760" cy="58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cc99"/>
                  </a:solidFill>
                  <a:latin typeface="Arial"/>
                </a:rPr>
                <a:t>HI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166760" y="3870360"/>
            <a:ext cx="4111560" cy="2685960"/>
            <a:chOff x="1166760" y="3870360"/>
            <a:chExt cx="4111560" cy="2685960"/>
          </a:xfrm>
        </p:grpSpPr>
        <p:sp>
          <p:nvSpPr>
            <p:cNvPr id="279" name=""/>
            <p:cNvSpPr/>
            <p:nvPr/>
          </p:nvSpPr>
          <p:spPr>
            <a:xfrm>
              <a:off x="1166760" y="3870360"/>
              <a:ext cx="4111560" cy="268596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78080" y="4902840"/>
              <a:ext cx="1824120" cy="58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66"/>
                  </a:solidFill>
                  <a:latin typeface="Arial"/>
                </a:rPr>
                <a:t>RI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411880" y="2289240"/>
            <a:ext cx="3657600" cy="4419360"/>
            <a:chOff x="5411880" y="2289240"/>
            <a:chExt cx="3657600" cy="4419360"/>
          </a:xfrm>
        </p:grpSpPr>
        <p:sp>
          <p:nvSpPr>
            <p:cNvPr id="282" name=""/>
            <p:cNvSpPr/>
            <p:nvPr/>
          </p:nvSpPr>
          <p:spPr>
            <a:xfrm>
              <a:off x="5411880" y="2289240"/>
              <a:ext cx="3657600" cy="4419360"/>
            </a:xfrm>
            <a:custGeom>
              <a:avLst/>
              <a:gdLst/>
              <a:ahLst/>
              <a:rect l="l" t="t" r="r" b="b"/>
              <a:pathLst>
                <a:path w="2304" h="2784">
                  <a:moveTo>
                    <a:pt x="2304" y="2784"/>
                  </a:moveTo>
                  <a:lnTo>
                    <a:pt x="2304" y="0"/>
                  </a:lnTo>
                  <a:lnTo>
                    <a:pt x="336" y="0"/>
                  </a:lnTo>
                  <a:lnTo>
                    <a:pt x="336" y="1248"/>
                  </a:lnTo>
                  <a:lnTo>
                    <a:pt x="0" y="1248"/>
                  </a:lnTo>
                  <a:lnTo>
                    <a:pt x="0" y="2784"/>
                  </a:lnTo>
                  <a:lnTo>
                    <a:pt x="2304" y="2784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9960" y="4018680"/>
              <a:ext cx="2590920" cy="129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</a:rPr>
                <a:t>IMAG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75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</a:rPr>
                <a:t>PA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75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</a:rPr>
                <a:t>Workst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751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</a:rPr>
                <a:t>Moda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 rot="16200000">
            <a:off x="-938520" y="3426840"/>
            <a:ext cx="330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mains connect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3:44:08Z</dcterms:created>
  <dc:creator>jens scharnagl</dc:creator>
  <dc:description/>
  <dc:language>en-US</dc:language>
  <cp:lastModifiedBy>UGALE, Arvin Carlos D.</cp:lastModifiedBy>
  <cp:lastPrinted>2001-05-04T10:58:28Z</cp:lastPrinted>
  <dcterms:modified xsi:type="dcterms:W3CDTF">2003-05-22T12:31:49Z</dcterms:modified>
  <cp:revision>348</cp:revision>
  <dc:subject/>
  <dc:title>start slide:  headline arial bold 38 pt, 0 pt leading</dc:title>
</cp:coreProperties>
</file>