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2400" y="1359000"/>
            <a:ext cx="8234280" cy="225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400" y="3824280"/>
            <a:ext cx="8234280" cy="225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82400" y="1359000"/>
            <a:ext cx="4018320" cy="225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1960" y="1359000"/>
            <a:ext cx="4018320" cy="225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400" y="3824280"/>
            <a:ext cx="4018320" cy="225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1960" y="3824280"/>
            <a:ext cx="4018320" cy="225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82400" y="1359000"/>
            <a:ext cx="2651040" cy="225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6280" y="1359000"/>
            <a:ext cx="2651040" cy="225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0520" y="1359000"/>
            <a:ext cx="2651040" cy="225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00" y="3824280"/>
            <a:ext cx="2651040" cy="225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6280" y="3824280"/>
            <a:ext cx="2651040" cy="225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0520" y="3824280"/>
            <a:ext cx="2651040" cy="225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82400" y="1359000"/>
            <a:ext cx="823428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82400" y="1359000"/>
            <a:ext cx="8234280" cy="4719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2400" y="1359000"/>
            <a:ext cx="4018320" cy="4719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1960" y="1359000"/>
            <a:ext cx="4018320" cy="4719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68200"/>
            <a:ext cx="822960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2400" y="1359000"/>
            <a:ext cx="4018320" cy="225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1960" y="1359000"/>
            <a:ext cx="4018320" cy="4719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2400" y="3824280"/>
            <a:ext cx="4018320" cy="225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82400" y="1359000"/>
            <a:ext cx="823428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2400" y="1359000"/>
            <a:ext cx="4018320" cy="4719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1960" y="1359000"/>
            <a:ext cx="4018320" cy="225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1960" y="3824280"/>
            <a:ext cx="4018320" cy="225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82400" y="1359000"/>
            <a:ext cx="4018320" cy="225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1960" y="1359000"/>
            <a:ext cx="4018320" cy="225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2400" y="3824280"/>
            <a:ext cx="8234280" cy="225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2400" y="1359000"/>
            <a:ext cx="8234280" cy="225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00" y="3824280"/>
            <a:ext cx="8234280" cy="225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82400" y="1359000"/>
            <a:ext cx="4018320" cy="225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1960" y="1359000"/>
            <a:ext cx="4018320" cy="225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2400" y="3824280"/>
            <a:ext cx="4018320" cy="225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1960" y="3824280"/>
            <a:ext cx="4018320" cy="225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82400" y="1359000"/>
            <a:ext cx="2651040" cy="225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6280" y="1359000"/>
            <a:ext cx="2651040" cy="225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50520" y="1359000"/>
            <a:ext cx="2651040" cy="225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2400" y="3824280"/>
            <a:ext cx="2651040" cy="225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6280" y="3824280"/>
            <a:ext cx="2651040" cy="225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50520" y="3824280"/>
            <a:ext cx="2651040" cy="225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2400" y="1359000"/>
            <a:ext cx="8234280" cy="4719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82400" y="1359000"/>
            <a:ext cx="4018320" cy="4719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1960" y="1359000"/>
            <a:ext cx="4018320" cy="4719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68200"/>
            <a:ext cx="822960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2400" y="1359000"/>
            <a:ext cx="4018320" cy="225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1960" y="1359000"/>
            <a:ext cx="4018320" cy="4719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2400" y="3824280"/>
            <a:ext cx="4018320" cy="225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2400" y="1359000"/>
            <a:ext cx="4018320" cy="4719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1960" y="1359000"/>
            <a:ext cx="4018320" cy="225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1960" y="3824280"/>
            <a:ext cx="4018320" cy="225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2400" y="1359000"/>
            <a:ext cx="4018320" cy="225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1960" y="1359000"/>
            <a:ext cx="4018320" cy="225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2400" y="3824280"/>
            <a:ext cx="8234280" cy="225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2400" y="1359000"/>
            <a:ext cx="8234280" cy="4719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tabLst>
                <a:tab algn="l" pos="0"/>
                <a:tab algn="l" pos="8537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571680" indent="-45720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0"/>
                <a:tab algn="l" pos="8537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028880" indent="-34308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0"/>
                <a:tab algn="l" pos="8537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486080" indent="-34308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0"/>
                <a:tab algn="l" pos="8537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1943280" indent="-34308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0"/>
                <a:tab algn="l" pos="8537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1943280" indent="-34308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0"/>
                <a:tab algn="l" pos="8537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1943280" indent="-34308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0"/>
                <a:tab algn="l" pos="8537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69800" y="1192320"/>
            <a:ext cx="8229600" cy="0"/>
          </a:xfrm>
          <a:prstGeom prst="line">
            <a:avLst/>
          </a:prstGeom>
          <a:ln w="414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60960" y="131760"/>
            <a:ext cx="284796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205680" y="157320"/>
            <a:ext cx="27810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73920" y="169920"/>
            <a:ext cx="28080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17508"/>
          <a:stretch/>
        </p:blipFill>
        <p:spPr>
          <a:xfrm>
            <a:off x="34920" y="6021360"/>
            <a:ext cx="21607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98400" y="298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9800" y="1192320"/>
            <a:ext cx="822960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60960" y="131760"/>
            <a:ext cx="284796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05680" y="157320"/>
            <a:ext cx="27810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73920" y="169920"/>
            <a:ext cx="28080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Blue&amp;Orange_Logo" descr=""/>
          <p:cNvPicPr/>
          <p:nvPr/>
        </p:nvPicPr>
        <p:blipFill>
          <a:blip r:embed="rId2"/>
          <a:stretch/>
        </p:blipFill>
        <p:spPr>
          <a:xfrm>
            <a:off x="338040" y="6068880"/>
            <a:ext cx="2210040" cy="789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tabLst>
                <a:tab algn="l" pos="0"/>
                <a:tab algn="l" pos="8537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114480"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537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685800" algn="ctr">
              <a:lnSpc>
                <a:spcPct val="90000"/>
              </a:lnSpc>
              <a:spcBef>
                <a:spcPts val="825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0"/>
                <a:tab algn="l" pos="8537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lvl="3" marL="1143000" algn="ctr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0"/>
                <a:tab algn="l" pos="8537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4" marL="1600200" algn="ctr">
              <a:lnSpc>
                <a:spcPct val="9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0"/>
                <a:tab algn="l" pos="8537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5" marL="160020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6" marL="160020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98400" y="298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3400" spc="-1" strike="noStrike">
                <a:solidFill>
                  <a:srgbClr val="333399"/>
                </a:solidFill>
                <a:latin typeface="Arial"/>
              </a:rPr>
              <a:t>Challenges of E-Government at the Local Level </a:t>
            </a:r>
            <a:br>
              <a:rPr sz="3400"/>
            </a:br>
            <a:r>
              <a:rPr b="1" lang="en-IE" sz="3400" spc="-1" strike="noStrike">
                <a:solidFill>
                  <a:srgbClr val="333399"/>
                </a:solidFill>
                <a:latin typeface="Arial"/>
              </a:rPr>
              <a:t>Some </a:t>
            </a:r>
            <a:r>
              <a:rPr b="1" lang="en-GB" sz="3400" spc="-1" strike="noStrike">
                <a:solidFill>
                  <a:srgbClr val="333399"/>
                </a:solidFill>
                <a:latin typeface="Arial"/>
              </a:rPr>
              <a:t>Experience from Ireland </a:t>
            </a:r>
            <a:br>
              <a:rPr sz="3400"/>
            </a:b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842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Charles Stanley-Smith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CTO Piercom Ltd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Member Irish Information Society Commission – Advisory Body to the Irish Prime Minist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106760" y="6316560"/>
            <a:ext cx="17589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charles@piercom.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IE" sz="3400" spc="-1" strike="noStrike">
                <a:solidFill>
                  <a:srgbClr val="333399"/>
                </a:solidFill>
                <a:latin typeface="Arial"/>
              </a:rPr>
              <a:t>Life Event Service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82400" y="1359000"/>
            <a:ext cx="8234280" cy="4719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Design Forms and Business Process Management to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571680" indent="-45720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400" spc="-1" strike="noStrike">
                <a:solidFill>
                  <a:srgbClr val="3333cc"/>
                </a:solidFill>
                <a:latin typeface="Arial"/>
              </a:rPr>
              <a:t>Elicit information required from Citiz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71680" indent="-45720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400" spc="-1" strike="noStrike">
                <a:solidFill>
                  <a:srgbClr val="3333cc"/>
                </a:solidFill>
                <a:latin typeface="Arial"/>
              </a:rPr>
              <a:t>Provide Service as BPM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71680" indent="-45720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400" spc="-1" strike="noStrike">
                <a:solidFill>
                  <a:srgbClr val="3333cc"/>
                </a:solidFill>
                <a:latin typeface="Arial"/>
              </a:rPr>
              <a:t>Interact with Government Departments – ideally directly to/from Department Systems through Messages/Web servic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Design Service Descriptions – What the Service provides rather than How it is provide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Design Feedback mechanisms to show Citizens that their involvement is importan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IE" sz="3400" spc="-1" strike="noStrike">
                <a:solidFill>
                  <a:srgbClr val="333399"/>
                </a:solidFill>
                <a:latin typeface="Arial"/>
              </a:rPr>
              <a:t>Citizen’s Requirements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82400" y="1359000"/>
            <a:ext cx="8234280" cy="4719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I want to Tax my Ca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028880" indent="-34308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000" spc="-1" strike="noStrike">
                <a:solidFill>
                  <a:srgbClr val="3333cc"/>
                </a:solidFill>
                <a:latin typeface="Arial"/>
              </a:rPr>
              <a:t>I don’t know (or care) who provides this servic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028880" indent="-34308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000" spc="-1" strike="noStrike">
                <a:solidFill>
                  <a:srgbClr val="3333cc"/>
                </a:solidFill>
                <a:latin typeface="Arial"/>
              </a:rPr>
              <a:t>I probably prefer to think that this was a local servic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028880" indent="-34308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000" spc="-1" strike="noStrike">
                <a:solidFill>
                  <a:srgbClr val="3333cc"/>
                </a:solidFill>
                <a:latin typeface="Arial"/>
              </a:rPr>
              <a:t>I know that cost of taxing a car is the same in every county as are the benefits – (I can legally have my car on the road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571680" indent="-45720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000" spc="-1" strike="noStrike">
                <a:solidFill>
                  <a:srgbClr val="3333cc"/>
                </a:solidFill>
                <a:latin typeface="Arial"/>
              </a:rPr>
              <a:t>Same form rebranded for each provider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I want to apply for Housing Benefi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028880" indent="-34308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000" spc="-1" strike="noStrike">
                <a:solidFill>
                  <a:srgbClr val="3333cc"/>
                </a:solidFill>
                <a:latin typeface="Arial"/>
              </a:rPr>
              <a:t>I expect this to be a locally provided servic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028880" indent="-34308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000" spc="-1" strike="noStrike">
                <a:solidFill>
                  <a:srgbClr val="3333cc"/>
                </a:solidFill>
                <a:latin typeface="Arial"/>
              </a:rPr>
              <a:t>I expect the same basic service as elsewhere in the country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028880" indent="-34308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000" spc="-1" strike="noStrike">
                <a:solidFill>
                  <a:srgbClr val="3333cc"/>
                </a:solidFill>
                <a:latin typeface="Arial"/>
              </a:rPr>
              <a:t>I expect extras because of the special circumstances of where I liv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571680" indent="-45720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000" spc="-1" strike="noStrike">
                <a:solidFill>
                  <a:srgbClr val="3333cc"/>
                </a:solidFill>
                <a:latin typeface="Arial"/>
              </a:rPr>
              <a:t>Extra specific questions to standard form for each provider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98400" y="298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3400" spc="-1" strike="noStrike">
                <a:solidFill>
                  <a:srgbClr val="333399"/>
                </a:solidFill>
                <a:latin typeface="Arial"/>
              </a:rPr>
              <a:t>Branding &amp; Involvement of </a:t>
            </a:r>
            <a:r>
              <a:rPr b="1" lang="en-IE" sz="3400" spc="-1" strike="noStrike">
                <a:solidFill>
                  <a:srgbClr val="333399"/>
                </a:solidFill>
                <a:latin typeface="Arial"/>
              </a:rPr>
              <a:t>Providers</a:t>
            </a:r>
            <a:r>
              <a:rPr b="1" lang="en-GB" sz="3400" spc="-1" strike="noStrike">
                <a:solidFill>
                  <a:srgbClr val="333399"/>
                </a:solidFill>
                <a:latin typeface="Arial"/>
              </a:rPr>
              <a:t> of </a:t>
            </a:r>
            <a:r>
              <a:rPr b="1" lang="en-IE" sz="3400" spc="-1" strike="noStrike">
                <a:solidFill>
                  <a:srgbClr val="333399"/>
                </a:solidFill>
                <a:latin typeface="Arial"/>
              </a:rPr>
              <a:t>Service</a:t>
            </a:r>
            <a:r>
              <a:rPr b="1" lang="en-GB" sz="3400" spc="-1" strike="noStrike">
                <a:solidFill>
                  <a:srgbClr val="333399"/>
                </a:solidFill>
                <a:latin typeface="Arial"/>
              </a:rPr>
              <a:t> and Citizens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84200" y="45594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3400" spc="-1" strike="noStrike">
                <a:solidFill>
                  <a:srgbClr val="333399"/>
                </a:solidFill>
                <a:latin typeface="Arial"/>
              </a:rPr>
              <a:t>Branding</a:t>
            </a:r>
            <a:r>
              <a:rPr b="1" lang="en-IE" sz="3400" spc="-1" strike="noStrike">
                <a:solidFill>
                  <a:srgbClr val="333399"/>
                </a:solidFill>
                <a:latin typeface="Arial"/>
              </a:rPr>
              <a:t> at a ‘County’ level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2400" y="1359000"/>
            <a:ext cx="8234280" cy="4719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Citizens prefer to think that the Service is provided locally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More ‘buy-in’ from Service Providers when they have ‘local’ ownership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Most Services are still Loca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Most Services have a Geo-Spatial Elemen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571680" indent="-4572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400" spc="-1" strike="noStrike">
                <a:solidFill>
                  <a:srgbClr val="3333cc"/>
                </a:solidFill>
                <a:latin typeface="Arial"/>
              </a:rPr>
              <a:t>Planning Permissions – where you can Build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71680" indent="-4572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400" spc="-1" strike="noStrike">
                <a:solidFill>
                  <a:srgbClr val="3333cc"/>
                </a:solidFill>
                <a:latin typeface="Arial"/>
              </a:rPr>
              <a:t>Social Housing etc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57320" y="1414440"/>
            <a:ext cx="1008000" cy="1511280"/>
          </a:xfrm>
          <a:prstGeom prst="rect">
            <a:avLst/>
          </a:prstGeom>
          <a:solidFill>
            <a:srgbClr val="f8a6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lann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Gal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73320" y="1630440"/>
            <a:ext cx="1008000" cy="1511280"/>
          </a:xfrm>
          <a:prstGeom prst="rect">
            <a:avLst/>
          </a:prstGeom>
          <a:solidFill>
            <a:srgbClr val="a7b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lann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orms</a:t>
            </a:r>
            <a:br>
              <a:rPr sz="1800"/>
            </a:b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ffa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88960" y="1846440"/>
            <a:ext cx="1008000" cy="15112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lann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04960" y="2062080"/>
            <a:ext cx="1008000" cy="151128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lann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li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20960" y="2278080"/>
            <a:ext cx="1008000" cy="1511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lann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Me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36600" y="2494080"/>
            <a:ext cx="1008360" cy="1511280"/>
          </a:xfrm>
          <a:prstGeom prst="rect">
            <a:avLst/>
          </a:prstGeom>
          <a:solidFill>
            <a:srgbClr val="adf1c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lann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May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52600" y="2709720"/>
            <a:ext cx="1008000" cy="1511280"/>
          </a:xfrm>
          <a:prstGeom prst="rect">
            <a:avLst/>
          </a:prstGeom>
          <a:solidFill>
            <a:srgbClr val="f3c1a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lann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ubl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20960" y="1414440"/>
            <a:ext cx="1008360" cy="1511280"/>
          </a:xfrm>
          <a:prstGeom prst="rect">
            <a:avLst/>
          </a:prstGeom>
          <a:solidFill>
            <a:srgbClr val="a7b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Hous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ffa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1630440"/>
            <a:ext cx="1008000" cy="15112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Hous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52960" y="1846440"/>
            <a:ext cx="1008000" cy="151128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Hous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li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68960" y="2062080"/>
            <a:ext cx="1008000" cy="1511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Hous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Me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84600" y="2278080"/>
            <a:ext cx="1008000" cy="1511280"/>
          </a:xfrm>
          <a:prstGeom prst="rect">
            <a:avLst/>
          </a:prstGeom>
          <a:solidFill>
            <a:srgbClr val="adf1c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Hous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May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2494080"/>
            <a:ext cx="1008000" cy="1511280"/>
          </a:xfrm>
          <a:prstGeom prst="rect">
            <a:avLst/>
          </a:prstGeom>
          <a:solidFill>
            <a:srgbClr val="f3c1a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Hous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ubl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6400" y="1487520"/>
            <a:ext cx="1008000" cy="1511280"/>
          </a:xfrm>
          <a:prstGeom prst="rect">
            <a:avLst/>
          </a:prstGeom>
          <a:solidFill>
            <a:srgbClr val="a7b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oa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ffa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02400" y="1703520"/>
            <a:ext cx="1008000" cy="15112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oa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18400" y="1919160"/>
            <a:ext cx="1008000" cy="151128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oa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34040" y="2135160"/>
            <a:ext cx="1008360" cy="1511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oa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Me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50040" y="2351160"/>
            <a:ext cx="1008000" cy="1511280"/>
          </a:xfrm>
          <a:prstGeom prst="rect">
            <a:avLst/>
          </a:prstGeom>
          <a:solidFill>
            <a:srgbClr val="adf1c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oa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May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6040" y="2567160"/>
            <a:ext cx="1008000" cy="1511280"/>
          </a:xfrm>
          <a:prstGeom prst="rect">
            <a:avLst/>
          </a:prstGeom>
          <a:solidFill>
            <a:srgbClr val="f3c1a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oa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ubl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IE" sz="3400" spc="-1" strike="noStrike">
                <a:solidFill>
                  <a:srgbClr val="333399"/>
                </a:solidFill>
                <a:latin typeface="Arial"/>
              </a:rPr>
              <a:t>Problem – Paper Forms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4800600"/>
            <a:ext cx="699768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Lots of 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Different Organisations with Similar Requirements but ‘Local’ Imper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IE" sz="3400" spc="-1" strike="noStrike">
                <a:solidFill>
                  <a:srgbClr val="333399"/>
                </a:solidFill>
                <a:latin typeface="Arial"/>
              </a:rPr>
              <a:t>Forms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82400" y="1359000"/>
            <a:ext cx="8234280" cy="4719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Used to initiate Service Reques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Used to gather Informa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Used for Payment purpos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IE" sz="3400" spc="-1" strike="noStrike">
                <a:solidFill>
                  <a:srgbClr val="333399"/>
                </a:solidFill>
                <a:latin typeface="Arial"/>
              </a:rPr>
              <a:t>Common Features of Forms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82400" y="1359000"/>
            <a:ext cx="8234280" cy="4719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Forms have question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Questions (should be) logically arranged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Some questions are dependant on other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Some questions should be standard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571680" indent="-457200">
              <a:lnSpc>
                <a:spcPct val="8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1800" spc="-1" strike="noStrike">
                <a:solidFill>
                  <a:srgbClr val="3333cc"/>
                </a:solidFill>
                <a:latin typeface="Arial"/>
              </a:rPr>
              <a:t>DOB – Date of Birth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571680" indent="-457200">
              <a:lnSpc>
                <a:spcPct val="8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1800" spc="-1" strike="noStrike">
                <a:solidFill>
                  <a:srgbClr val="3333cc"/>
                </a:solidFill>
                <a:latin typeface="Arial"/>
              </a:rPr>
              <a:t>Mother’s Maiden Name – Mother’s Birth Surnam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Some are Boolean - Yes/No – Radio Button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Some are Enumerated/Drop Dow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Some are Tabl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Some are Mandatory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Require different types of valida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Create Forms Dynamically from information &amp; questions in Databas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IE" sz="3400" spc="-1" strike="noStrike">
                <a:solidFill>
                  <a:srgbClr val="333399"/>
                </a:solidFill>
                <a:latin typeface="Arial"/>
              </a:rPr>
              <a:t>eGovernment Requirements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82400" y="1359000"/>
            <a:ext cx="8234280" cy="4719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Transactional Form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571680" indent="-45720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400" spc="-1" strike="noStrike">
                <a:solidFill>
                  <a:srgbClr val="3333cc"/>
                </a:solidFill>
                <a:latin typeface="Arial"/>
              </a:rPr>
              <a:t>Information capable of being directly delivered to existing backend system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71680" indent="-45720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400" spc="-1" strike="noStrike">
                <a:solidFill>
                  <a:srgbClr val="3333cc"/>
                </a:solidFill>
                <a:latin typeface="Arial"/>
              </a:rPr>
              <a:t>Where there is no automated back-end systems – then information in electronic fil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Thereafter – Interactive Forms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571680" indent="-45720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400" spc="-1" strike="noStrike">
                <a:solidFill>
                  <a:srgbClr val="3333cc"/>
                </a:solidFill>
                <a:latin typeface="Arial"/>
              </a:rPr>
              <a:t>Allow a conversation of Form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71680" indent="-45720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400" spc="-1" strike="noStrike">
                <a:solidFill>
                  <a:srgbClr val="3333cc"/>
                </a:solidFill>
                <a:latin typeface="Arial"/>
              </a:rPr>
              <a:t>WebServic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71680" indent="-45720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400" spc="-1" strike="noStrike">
                <a:solidFill>
                  <a:srgbClr val="3333cc"/>
                </a:solidFill>
                <a:latin typeface="Arial"/>
              </a:rPr>
              <a:t>Submit Form – XML to service provider - XML back to prepopulate another form. Submit this form etc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71680" indent="-45720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400" spc="-1" strike="noStrike">
                <a:solidFill>
                  <a:srgbClr val="3333cc"/>
                </a:solidFill>
                <a:latin typeface="Arial"/>
              </a:rPr>
              <a:t>Business Process Management at Back-end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8537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3400" spc="-1" strike="noStrike">
                <a:solidFill>
                  <a:srgbClr val="333399"/>
                </a:solidFill>
                <a:latin typeface="Arial"/>
              </a:rPr>
              <a:t>reachservices.ie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2400" y="1359000"/>
            <a:ext cx="8234280" cy="4719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1000"/>
          </a:bodyPr>
          <a:p>
            <a:pPr indent="0">
              <a:lnSpc>
                <a:spcPct val="8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8537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Based on Personal Public Service No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Online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Registration</a:t>
            </a: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 Proces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8537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uthentication</a:t>
            </a: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 – Same Level as for Internet Banking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8537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Online Forms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520200" indent="-415800">
              <a:lnSpc>
                <a:spcPct val="8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18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re-</a:t>
            </a:r>
            <a:r>
              <a:rPr b="0" lang="en-IE" sz="18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opulation</a:t>
            </a:r>
            <a:r>
              <a:rPr b="0" lang="en-IE" sz="1800" spc="-1" strike="noStrike">
                <a:solidFill>
                  <a:srgbClr val="3333cc"/>
                </a:solidFill>
                <a:latin typeface="Arial"/>
              </a:rPr>
              <a:t> with PPSN and 5 key fields 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936000" indent="-312120">
              <a:lnSpc>
                <a:spcPct val="8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1800" spc="-1" strike="noStrike">
                <a:solidFill>
                  <a:srgbClr val="3333cc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936000" indent="-312120">
              <a:lnSpc>
                <a:spcPct val="8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1800" spc="-1" strike="noStrike">
                <a:solidFill>
                  <a:srgbClr val="3333cc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936000" indent="-312120">
              <a:lnSpc>
                <a:spcPct val="8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1800" spc="-1" strike="noStrike">
                <a:solidFill>
                  <a:srgbClr val="3333cc"/>
                </a:solidFill>
                <a:latin typeface="Arial"/>
              </a:rPr>
              <a:t>Date of Birth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936000" indent="-312120">
              <a:lnSpc>
                <a:spcPct val="8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1800" spc="-1" strike="noStrike">
                <a:solidFill>
                  <a:srgbClr val="3333cc"/>
                </a:solidFill>
                <a:latin typeface="Arial"/>
              </a:rPr>
              <a:t>Marital Statu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936000" indent="-312120">
              <a:lnSpc>
                <a:spcPct val="8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1800" spc="-1" strike="noStrike">
                <a:solidFill>
                  <a:srgbClr val="3333cc"/>
                </a:solidFill>
                <a:latin typeface="Arial"/>
              </a:rPr>
              <a:t>Mother’s Birth Surnam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520200" indent="-415800">
              <a:lnSpc>
                <a:spcPct val="8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1800" spc="-1" strike="noStrike">
                <a:solidFill>
                  <a:srgbClr val="3333cc"/>
                </a:solidFill>
                <a:latin typeface="Arial"/>
              </a:rPr>
              <a:t>Pre-Population of answers from other sources 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8537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Online e-payments for servic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2 way l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inks to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520200" indent="-415800">
              <a:lnSpc>
                <a:spcPct val="8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OASIS</a:t>
            </a:r>
            <a:r>
              <a:rPr b="0" lang="en-IE" sz="1800" spc="-1" strike="noStrike">
                <a:solidFill>
                  <a:srgbClr val="3333cc"/>
                </a:solidFill>
                <a:latin typeface="Arial"/>
              </a:rPr>
              <a:t> - Government Site – Citizen Life Event Information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520200" indent="-415800">
              <a:lnSpc>
                <a:spcPct val="8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BASIS</a:t>
            </a:r>
            <a:r>
              <a:rPr b="0" lang="en-IE" sz="1800" spc="-1" strike="noStrike">
                <a:solidFill>
                  <a:srgbClr val="3333cc"/>
                </a:solidFill>
                <a:latin typeface="Arial"/>
              </a:rPr>
              <a:t> – Government Site – Business Life Event Information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8537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IE" sz="3400" spc="-1" strike="noStrike">
                <a:solidFill>
                  <a:srgbClr val="333399"/>
                </a:solidFill>
                <a:latin typeface="Arial"/>
              </a:rPr>
              <a:t>Key Features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82400" y="1359000"/>
            <a:ext cx="8234280" cy="4719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Access to information on services/form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Customer Registra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Partial Completion of Forms – pre-population of data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Submission of forms to agencies by authenticated customer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Transactional/Conversational Forms – Process Workflow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View all forms sent/part complete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8400" y="298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3400" spc="-1" strike="noStrike">
                <a:solidFill>
                  <a:srgbClr val="333399"/>
                </a:solidFill>
                <a:latin typeface="Arial"/>
              </a:rPr>
              <a:t>Change Management towards a Citizen Centric View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84200" y="45594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IE" sz="3400" spc="-1" strike="noStrike">
                <a:solidFill>
                  <a:srgbClr val="333399"/>
                </a:solidFill>
                <a:latin typeface="Arial"/>
              </a:rPr>
              <a:t>What does it offer the Citizen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2400" y="1359000"/>
            <a:ext cx="8234280" cy="4719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onduct their business electronically 24/7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On-line and Off line Optio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Access Control System / Registra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My Forms / My Profile Servic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Help System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Frequently Asked Questio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Form Validation and Logic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IE" sz="3400" spc="-1" strike="noStrike">
                <a:solidFill>
                  <a:srgbClr val="333399"/>
                </a:solidFill>
                <a:latin typeface="Arial"/>
              </a:rPr>
              <a:t>Results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82400" y="1359000"/>
            <a:ext cx="8234280" cy="4719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Less forms – less problems with maintenace or externally driven chang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Common description of services &amp; forms – Citizens have the same interaction with different Providers of the same Servic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Providers can move to transactional at different tim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Use of XML for interchange and XML transformations allow Answers to be integrated into many different systems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IE" sz="3400" spc="-1" strike="noStrike">
                <a:solidFill>
                  <a:srgbClr val="333399"/>
                </a:solidFill>
                <a:latin typeface="Arial"/>
              </a:rPr>
              <a:t>Registration/Authentication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82400" y="1359000"/>
            <a:ext cx="8234280" cy="4719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Need Simple Registration proces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Majority of interactions with Government require no more security than On-line Bank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Logon/Password/PIN gives Service Providers same level of guarantee that user is who they say they are – Suitable for most Servic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Some Services – Passport Application or Legal Application may require Digital Signatures – though acquiring &amp; using Digital Certificates still too complicated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Some require no authentication – only capability to pay – If someone wants to pay my parking fines – that’s OK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IE" sz="3400" spc="-1" strike="noStrike">
                <a:solidFill>
                  <a:srgbClr val="333399"/>
                </a:solidFill>
                <a:latin typeface="Arial"/>
              </a:rPr>
              <a:t>On-Line Payment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82400" y="1359000"/>
            <a:ext cx="8234280" cy="4719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Credit Card Gateways &amp; Electronic Funds Payment Gateway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Provider has a Merchant I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Form has associated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571680" indent="-4572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400" spc="-1" strike="noStrike">
                <a:solidFill>
                  <a:srgbClr val="3333cc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71680" indent="-4572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400" spc="-1" strike="noStrike">
                <a:solidFill>
                  <a:srgbClr val="3333cc"/>
                </a:solidFill>
                <a:latin typeface="Arial"/>
              </a:rPr>
              <a:t>Merchant ID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71680" indent="-4572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400" spc="-1" strike="noStrike">
                <a:solidFill>
                  <a:srgbClr val="3333cc"/>
                </a:solidFill>
                <a:latin typeface="Arial"/>
              </a:rPr>
              <a:t>Credit Card or EFT handled by Gatewa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IE" sz="3400" spc="-1" strike="noStrike">
                <a:solidFill>
                  <a:srgbClr val="333399"/>
                </a:solidFill>
                <a:latin typeface="Arial"/>
              </a:rPr>
              <a:t>Future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2400" y="1359000"/>
            <a:ext cx="8234280" cy="4719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Current Tenders under evaluation for next stage to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571680" indent="-4572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400" spc="-1" strike="noStrike">
                <a:solidFill>
                  <a:srgbClr val="3333cc"/>
                </a:solidFill>
                <a:latin typeface="Arial"/>
              </a:rPr>
              <a:t>Offer Higher Levels of Authentication where required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71680" indent="-4572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400" spc="-1" strike="noStrike">
                <a:solidFill>
                  <a:srgbClr val="3333cc"/>
                </a:solidFill>
                <a:latin typeface="Arial"/>
              </a:rPr>
              <a:t>Offer ‘Personal Data Vault’ under control of Citizen of Common &amp; Useful Inform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028880" indent="-343080">
              <a:lnSpc>
                <a:spcPct val="90000"/>
              </a:lnSpc>
              <a:spcBef>
                <a:spcPts val="825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200" spc="-1" strike="noStrike">
                <a:solidFill>
                  <a:srgbClr val="3333cc"/>
                </a:solidFill>
                <a:latin typeface="Arial"/>
              </a:rPr>
              <a:t>Passport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lvl="2" marL="1028880" indent="-343080">
              <a:lnSpc>
                <a:spcPct val="90000"/>
              </a:lnSpc>
              <a:spcBef>
                <a:spcPts val="825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200" spc="-1" strike="noStrike">
                <a:solidFill>
                  <a:srgbClr val="3333cc"/>
                </a:solidFill>
                <a:latin typeface="Arial"/>
              </a:rPr>
              <a:t>Birth Certificate etc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lvl="1" marL="571680" indent="-4572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400" spc="-1" strike="noStrike">
                <a:solidFill>
                  <a:srgbClr val="3333cc"/>
                </a:solidFill>
                <a:latin typeface="Arial"/>
              </a:rPr>
              <a:t>Government Initiated Services – Passport Reminders etc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71680" indent="-4572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400" spc="-1" strike="noStrike">
                <a:solidFill>
                  <a:srgbClr val="3333cc"/>
                </a:solidFill>
                <a:latin typeface="Arial"/>
              </a:rPr>
              <a:t>Secure mail – SMS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982800"/>
            <a:ext cx="8318520" cy="52210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3400" spc="-1" strike="noStrike">
                <a:solidFill>
                  <a:srgbClr val="333399"/>
                </a:solidFill>
                <a:latin typeface="Arial"/>
              </a:rPr>
              <a:t>Piercom’s eGovernment Customer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476360" y="3860640"/>
            <a:ext cx="2808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716280" y="2025720"/>
            <a:ext cx="18716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89240" y="1066680"/>
            <a:ext cx="1663920" cy="16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98400" y="298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3400" spc="-1" strike="noStrike">
                <a:solidFill>
                  <a:srgbClr val="333399"/>
                </a:solidFill>
                <a:latin typeface="Arial"/>
              </a:rPr>
              <a:t>Learning by doing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84200" y="45594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IE" sz="3400" spc="-1" strike="noStrike">
                <a:solidFill>
                  <a:srgbClr val="333399"/>
                </a:solidFill>
                <a:latin typeface="Arial"/>
              </a:rPr>
              <a:t>Success Metrics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82400" y="1359000"/>
            <a:ext cx="8234280" cy="4719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The only real Success Metric is the ‘Take-up’ by Citizen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Suggest an iterative cycle with both sides – Citizens and Providers – ‘Learning by doing’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3400" spc="-1" strike="noStrike">
                <a:solidFill>
                  <a:srgbClr val="333399"/>
                </a:solidFill>
                <a:latin typeface="Arial"/>
              </a:rPr>
              <a:t>Citizen Centric 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82400" y="1359000"/>
            <a:ext cx="8234280" cy="4719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Government exists for the benefit of the Citize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Citizens are now demanding that Government recognises this relationship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Requires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571680" indent="-4572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400" spc="-1" strike="noStrike">
                <a:solidFill>
                  <a:srgbClr val="3333cc"/>
                </a:solidFill>
                <a:latin typeface="Arial"/>
              </a:rPr>
              <a:t>More efficient &amp; effective Governmen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71680" indent="-4572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400" spc="-1" strike="noStrike">
                <a:solidFill>
                  <a:srgbClr val="3333cc"/>
                </a:solidFill>
                <a:latin typeface="Arial"/>
              </a:rPr>
              <a:t>Better ‘Customer Service’  - The Citizen as a ‘Customer’ rather than a ‘Victim’.  (The Citizen feels that only time they interact with Government is to pay taxes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3400" spc="-1" strike="noStrike">
                <a:solidFill>
                  <a:srgbClr val="333399"/>
                </a:solidFill>
                <a:latin typeface="Arial"/>
              </a:rPr>
              <a:t>Change Management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2400" y="1359000"/>
            <a:ext cx="8234280" cy="4719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9000"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Providing a ‘Citizen Centric’ Government requires changes in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565920" indent="-45252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000" spc="-1" strike="noStrike">
                <a:solidFill>
                  <a:srgbClr val="3333cc"/>
                </a:solidFill>
                <a:latin typeface="Arial"/>
              </a:rPr>
              <a:t>Organisation of Government (Departments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565920" indent="-45252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000" spc="-1" strike="noStrike">
                <a:solidFill>
                  <a:srgbClr val="3333cc"/>
                </a:solidFill>
                <a:latin typeface="Arial"/>
              </a:rPr>
              <a:t>Methodologies within Department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565920" indent="-45252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000" spc="-1" strike="noStrike">
                <a:solidFill>
                  <a:srgbClr val="3333cc"/>
                </a:solidFill>
                <a:latin typeface="Arial"/>
              </a:rPr>
              <a:t>Cross Department Interactions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In Ireland, Change Management for the Citizen Centric Approach was introduced in 1994 – this did not mention the Interne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The Government must build relationships with Citizens – every aspect, form or interaction must have this in mind.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Identifying the ‘Citizen’ and what is needed to support the ‘Citizen’ will become a critical area of transformation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3400" spc="-1" strike="noStrike">
                <a:solidFill>
                  <a:srgbClr val="333399"/>
                </a:solidFill>
                <a:latin typeface="Arial"/>
              </a:rPr>
              <a:t>Internet one of many </a:t>
            </a:r>
            <a:r>
              <a:rPr b="1" lang="en-IE" sz="3400" spc="-1" strike="noStrike">
                <a:solidFill>
                  <a:srgbClr val="333399"/>
                </a:solidFill>
                <a:latin typeface="Arial"/>
              </a:rPr>
              <a:t>Channels</a:t>
            </a:r>
            <a:r>
              <a:rPr b="1" lang="en-GB" sz="3400" spc="-1" strike="noStrike">
                <a:solidFill>
                  <a:srgbClr val="333399"/>
                </a:solidFill>
                <a:latin typeface="Arial"/>
              </a:rPr>
              <a:t> to the Citizen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82400" y="1359000"/>
            <a:ext cx="8234280" cy="4719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eGovernment is the use of modern Information &amp; Communications Technologies (ICT’s) to deliver services to the Citizen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Channels can be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571680" indent="-457200">
              <a:lnSpc>
                <a:spcPct val="8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1800" spc="-1" strike="noStrike">
                <a:solidFill>
                  <a:srgbClr val="3333cc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571680" indent="-457200">
              <a:lnSpc>
                <a:spcPct val="8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1800" spc="-1" strike="noStrike">
                <a:solidFill>
                  <a:srgbClr val="3333cc"/>
                </a:solidFill>
                <a:latin typeface="Arial"/>
              </a:rPr>
              <a:t>Mobile Internet/Phon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571680" indent="-457200">
              <a:lnSpc>
                <a:spcPct val="8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1800" spc="-1" strike="noStrike">
                <a:solidFill>
                  <a:srgbClr val="3333cc"/>
                </a:solidFill>
                <a:latin typeface="Arial"/>
              </a:rPr>
              <a:t>Citizen Care Centre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028880" indent="-343080">
              <a:lnSpc>
                <a:spcPct val="8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1800" spc="-1" strike="noStrike">
                <a:solidFill>
                  <a:srgbClr val="3333cc"/>
                </a:solidFill>
                <a:latin typeface="Arial"/>
              </a:rPr>
              <a:t>Call Centre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028880" indent="-343080">
              <a:lnSpc>
                <a:spcPct val="8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1800" spc="-1" strike="noStrike">
                <a:solidFill>
                  <a:srgbClr val="3333cc"/>
                </a:solidFill>
                <a:latin typeface="Arial"/>
              </a:rPr>
              <a:t>Public Librarie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028880" indent="-343080">
              <a:lnSpc>
                <a:spcPct val="8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1800" spc="-1" strike="noStrike">
                <a:solidFill>
                  <a:srgbClr val="3333cc"/>
                </a:solidFill>
                <a:latin typeface="Arial"/>
              </a:rPr>
              <a:t>eGovernment Kiosk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It is the Citizen Centric approach that is important - these Channels are not a requirement but make implementation considerably easier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Paradoxicly the eGovernment brings the opportunity to become more Socially Inclusive – balance of access to ICT &amp; training vs Care Centers that can provide a One Stop</a:t>
            </a: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Shop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IE" sz="3400" spc="-1" strike="noStrike">
                <a:solidFill>
                  <a:srgbClr val="333399"/>
                </a:solidFill>
                <a:latin typeface="Arial"/>
              </a:rPr>
              <a:t>Identifying the Citizen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82400" y="1359000"/>
            <a:ext cx="8234280" cy="4719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Curre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571680" indent="-457200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000" spc="-1" strike="noStrike">
                <a:solidFill>
                  <a:srgbClr val="3333cc"/>
                </a:solidFill>
                <a:latin typeface="Arial"/>
              </a:rPr>
              <a:t>Passport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571680" indent="-457200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000" spc="-1" strike="noStrike">
                <a:solidFill>
                  <a:srgbClr val="3333cc"/>
                </a:solidFill>
                <a:latin typeface="Arial"/>
              </a:rPr>
              <a:t>Driving Licenc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571680" indent="-457200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000" spc="-1" strike="noStrike">
                <a:solidFill>
                  <a:srgbClr val="3333cc"/>
                </a:solidFill>
                <a:latin typeface="Arial"/>
              </a:rPr>
              <a:t>Handwritten Signatur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Authentication so that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571680" indent="-457200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000" spc="-1" strike="noStrike">
                <a:solidFill>
                  <a:srgbClr val="3333cc"/>
                </a:solidFill>
                <a:latin typeface="Arial"/>
              </a:rPr>
              <a:t>Citizen’s key details need only be supplied to Government onc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571680" indent="-457200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000" spc="-1" strike="noStrike">
                <a:solidFill>
                  <a:srgbClr val="3333cc"/>
                </a:solidFill>
                <a:latin typeface="Arial"/>
              </a:rPr>
              <a:t>Many/Most Interactions with Government do not require absolute identificat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571680" indent="-457200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000" spc="-1" strike="noStrike">
                <a:solidFill>
                  <a:srgbClr val="3333cc"/>
                </a:solidFill>
                <a:latin typeface="Arial"/>
              </a:rPr>
              <a:t>Digital Signatur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571680" indent="-457200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000" spc="-1" strike="noStrike">
                <a:solidFill>
                  <a:srgbClr val="3333cc"/>
                </a:solidFill>
                <a:latin typeface="Arial"/>
              </a:rPr>
              <a:t>Details of Identity to be safeguarded by Data Protection Principles – so that Citizen has trust that their privacy is protected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Ireland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571680" indent="-457200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000" spc="-1" strike="noStrike">
                <a:solidFill>
                  <a:srgbClr val="3333cc"/>
                </a:solidFill>
                <a:latin typeface="Arial"/>
              </a:rPr>
              <a:t>PPSN – unique identifier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8400" y="298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3400" spc="-1" strike="noStrike">
                <a:solidFill>
                  <a:srgbClr val="333399"/>
                </a:solidFill>
                <a:latin typeface="Arial"/>
              </a:rPr>
              <a:t>Who delivers the </a:t>
            </a:r>
            <a:r>
              <a:rPr b="1" lang="en-IE" sz="3400" spc="-1" strike="noStrike">
                <a:solidFill>
                  <a:srgbClr val="333399"/>
                </a:solidFill>
                <a:latin typeface="Arial"/>
              </a:rPr>
              <a:t>Service</a:t>
            </a:r>
            <a:r>
              <a:rPr b="1" lang="en-GB" sz="34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en-IE" sz="3400" spc="-1" strike="noStrike">
                <a:solidFill>
                  <a:srgbClr val="333399"/>
                </a:solidFill>
                <a:latin typeface="Arial"/>
              </a:rPr>
              <a:t>Should</a:t>
            </a:r>
            <a:r>
              <a:rPr b="1" lang="en-GB" sz="3400" spc="-1" strike="noStrike">
                <a:solidFill>
                  <a:srgbClr val="333399"/>
                </a:solidFill>
                <a:latin typeface="Arial"/>
              </a:rPr>
              <a:t> the Citizen know or care?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84200" y="45594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IE" sz="3400" spc="-1" strike="noStrike">
                <a:solidFill>
                  <a:srgbClr val="333399"/>
                </a:solidFill>
                <a:latin typeface="Arial"/>
              </a:rPr>
              <a:t>Service for the Citizen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2400" y="1359000"/>
            <a:ext cx="8234280" cy="4719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The Citizen should not need to know – the Service should be packaged to hide the Government Interactions required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Integrate Services around Life Even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571680" indent="-4572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400" spc="-1" strike="noStrike">
                <a:solidFill>
                  <a:srgbClr val="3333cc"/>
                </a:solidFill>
                <a:latin typeface="Arial"/>
              </a:rPr>
              <a:t>Getting Married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71680" indent="-4572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400" spc="-1" strike="noStrike">
                <a:solidFill>
                  <a:srgbClr val="3333cc"/>
                </a:solidFill>
                <a:latin typeface="Arial"/>
              </a:rPr>
              <a:t>Buying a Hous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Information in Ireland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571680" indent="-4572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400" spc="-1" strike="noStrike">
                <a:solidFill>
                  <a:srgbClr val="3333cc"/>
                </a:solidFill>
                <a:latin typeface="Arial"/>
              </a:rPr>
              <a:t>OASIS – Citizen Life Event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71680" indent="-4572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400" spc="-1" strike="noStrike">
                <a:solidFill>
                  <a:srgbClr val="3333cc"/>
                </a:solidFill>
                <a:latin typeface="Arial"/>
              </a:rPr>
              <a:t>BASIS – Business Life Event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IE" sz="3400" spc="-1" strike="noStrike">
                <a:solidFill>
                  <a:srgbClr val="333399"/>
                </a:solidFill>
                <a:latin typeface="Arial"/>
              </a:rPr>
              <a:t>Life Event Service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82400" y="1359000"/>
            <a:ext cx="8234280" cy="4719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8537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Design a ‘Life Event Service’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571680" indent="-4572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400" spc="-1" strike="noStrike">
                <a:solidFill>
                  <a:srgbClr val="3333cc"/>
                </a:solidFill>
                <a:latin typeface="Arial"/>
              </a:rPr>
              <a:t>What information is actually required from Citizen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71680" indent="-4572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400" spc="-1" strike="noStrike">
                <a:solidFill>
                  <a:srgbClr val="3333cc"/>
                </a:solidFill>
                <a:latin typeface="Arial"/>
              </a:rPr>
              <a:t>What information is required from Different Government Department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71680" indent="-4572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400" spc="-1" strike="noStrike">
                <a:solidFill>
                  <a:srgbClr val="3333cc"/>
                </a:solidFill>
                <a:latin typeface="Arial"/>
              </a:rPr>
              <a:t>What information is required by Different Government Department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71680" indent="-4572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400" spc="-1" strike="noStrike">
                <a:solidFill>
                  <a:srgbClr val="3333cc"/>
                </a:solidFill>
                <a:latin typeface="Arial"/>
              </a:rPr>
              <a:t>Is any Inter-Government Information Required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71680" indent="-4572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400" spc="-1" strike="noStrike">
                <a:solidFill>
                  <a:srgbClr val="3333cc"/>
                </a:solidFill>
                <a:latin typeface="Arial"/>
              </a:rPr>
              <a:t>Taxonomies – XML Schema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71680" indent="-4572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400" spc="-1" strike="noStrike">
                <a:solidFill>
                  <a:srgbClr val="3333cc"/>
                </a:solidFill>
                <a:latin typeface="Arial"/>
              </a:rPr>
              <a:t>Is it a single or multi-step transac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71680" indent="-4572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8537400"/>
              </a:tabLst>
            </a:pPr>
            <a:r>
              <a:rPr b="0" lang="en-IE" sz="2400" spc="-1" strike="noStrike">
                <a:solidFill>
                  <a:srgbClr val="3333cc"/>
                </a:solidFill>
                <a:latin typeface="Arial"/>
              </a:rPr>
              <a:t>Department Structures &amp; Ownership of Departmental Information remai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4T15:37:56Z</dcterms:created>
  <dc:creator>Charles Stanley-Smith</dc:creator>
  <dc:description/>
  <dc:language>en-US</dc:language>
  <cp:lastModifiedBy>Charles Stanley-Smith</cp:lastModifiedBy>
  <cp:lastPrinted>2000-01-12T20:38:11Z</cp:lastPrinted>
  <dcterms:modified xsi:type="dcterms:W3CDTF">2003-06-05T09:07:49Z</dcterms:modified>
  <cp:revision>324</cp:revision>
  <dc:subject/>
  <dc:title>CSS</dc:title>
</cp:coreProperties>
</file>