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3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1CE-465A-440F-9198-B07751CB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48006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85840" y="5546880"/>
            <a:ext cx="48006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DE0-0AD7-4F29-BEF0-4EDEE815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85840" y="554688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45720" y="554688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E81-581C-4011-AB98-D363B1B8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09080" y="502920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31960" y="502920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85840" y="554688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509080" y="554688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31960" y="554688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75F-2E31-444D-9E25-B91296B2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50292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85840" y="2971440"/>
            <a:ext cx="48006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85840" y="554688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85840" y="50292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674-5773-48CE-BF35-391EDC3F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45720" y="554688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85840" y="5546880"/>
            <a:ext cx="48006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48006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85840" y="5546880"/>
            <a:ext cx="48006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85840" y="554688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345720" y="554688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09080" y="502920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131960" y="502920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85840" y="554688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509080" y="554688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131960" y="5546880"/>
            <a:ext cx="15454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46B-F1F1-472F-AD62-AC9CF861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93E-912F-43B0-A704-97240EA1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3CB-48B6-4B33-9E48-5C23FA0E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85840" y="2971440"/>
            <a:ext cx="4800600" cy="70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F35-B9DB-4468-89AF-B7AC2152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85840" y="554688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7CA-CFDB-4D71-BAC3-C41F280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45720" y="554688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FBB-790B-4015-B3CC-421C2A8E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584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5720" y="5029200"/>
            <a:ext cx="2342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85840" y="5546880"/>
            <a:ext cx="48006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3BD-C429-4FEB-BD0E-1E2A651D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9280" y="5321160"/>
            <a:ext cx="1235160" cy="127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7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45F-B7DE-4826-937D-8D0179453F1A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9600" y="333360"/>
            <a:ext cx="1525680" cy="227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70040" y="406440"/>
            <a:ext cx="8373960" cy="647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85840" y="29714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640044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4680" y="14112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etaNormal-Roman"/>
              </a:rPr>
              <a:t>www.e-envoy.gov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e-Government </a:t>
            </a:r>
            <a:br>
              <a:rPr sz="3500"/>
            </a:b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hallenges and</a:t>
            </a:r>
            <a:br>
              <a:rPr sz="3500"/>
            </a:b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perspectives -</a:t>
            </a:r>
            <a:br>
              <a:rPr sz="3500"/>
            </a:b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the UK experience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Bor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ant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 of the e-Envoy -  Cabine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TU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5 Jun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40800" y="-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2286000"/>
            <a:ext cx="7162560" cy="1447560"/>
            <a:chOff x="1981080" y="2286000"/>
            <a:chExt cx="7162560" cy="1447560"/>
          </a:xfrm>
        </p:grpSpPr>
        <p:sp>
          <p:nvSpPr>
            <p:cNvPr id="88" name=""/>
            <p:cNvSpPr/>
            <p:nvPr/>
          </p:nvSpPr>
          <p:spPr>
            <a:xfrm>
              <a:off x="1981080" y="2286000"/>
              <a:ext cx="7162560" cy="14475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221200" y="2412000"/>
              <a:ext cx="6724080" cy="1245600"/>
              <a:chOff x="2221200" y="2412000"/>
              <a:chExt cx="6724080" cy="1245600"/>
            </a:xfrm>
          </p:grpSpPr>
          <p:pic>
            <p:nvPicPr>
              <p:cNvPr id="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21200" y="2412000"/>
                <a:ext cx="1257120" cy="124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94960" y="2412000"/>
                <a:ext cx="1256760" cy="124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961520" y="2412000"/>
                <a:ext cx="1256760" cy="124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27360" y="2412000"/>
                <a:ext cx="1257120" cy="124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688520" y="2412000"/>
                <a:ext cx="1256760" cy="124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Today’s Agenda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6000" y="206028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-government vision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-service delivery plans and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se o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762120" y="5791320"/>
            <a:ext cx="5638320" cy="317520"/>
            <a:chOff x="762120" y="5791320"/>
            <a:chExt cx="5638320" cy="317520"/>
          </a:xfrm>
        </p:grpSpPr>
        <p:sp>
          <p:nvSpPr>
            <p:cNvPr id="145" name=""/>
            <p:cNvSpPr/>
            <p:nvPr/>
          </p:nvSpPr>
          <p:spPr>
            <a:xfrm>
              <a:off x="762120" y="5791320"/>
              <a:ext cx="1468800" cy="317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Local Author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57920" y="5887440"/>
              <a:ext cx="434160" cy="124560"/>
            </a:xfrm>
            <a:prstGeom prst="leftRightArrow">
              <a:avLst>
                <a:gd name="adj1" fmla="val 50000"/>
                <a:gd name="adj2" fmla="val 69388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1240" y="5791320"/>
              <a:ext cx="1720080" cy="317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Departmental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68320" y="5887440"/>
              <a:ext cx="434160" cy="124560"/>
            </a:xfrm>
            <a:prstGeom prst="leftRightArrow">
              <a:avLst>
                <a:gd name="adj1" fmla="val 50000"/>
                <a:gd name="adj2" fmla="val 69388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3800" y="5791320"/>
              <a:ext cx="1466640" cy="317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Other Public sector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990720" y="3352680"/>
            <a:ext cx="5584680" cy="2530800"/>
            <a:chOff x="990720" y="3352680"/>
            <a:chExt cx="5584680" cy="2530800"/>
          </a:xfrm>
        </p:grpSpPr>
        <p:sp>
          <p:nvSpPr>
            <p:cNvPr id="151" name=""/>
            <p:cNvSpPr/>
            <p:nvPr/>
          </p:nvSpPr>
          <p:spPr>
            <a:xfrm flipH="1" rot="19032000">
              <a:off x="4209840" y="3902040"/>
              <a:ext cx="285480" cy="2173320"/>
            </a:xfrm>
            <a:prstGeom prst="downArrow">
              <a:avLst>
                <a:gd name="adj1" fmla="val 29657"/>
                <a:gd name="adj2" fmla="val 166602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">
              <a:off x="3627000" y="4204800"/>
              <a:ext cx="285840" cy="1600200"/>
            </a:xfrm>
            <a:prstGeom prst="downArrow">
              <a:avLst>
                <a:gd name="adj1" fmla="val 42130"/>
                <a:gd name="adj2" fmla="val 115956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568000">
              <a:off x="3173040" y="3851280"/>
              <a:ext cx="285840" cy="2173320"/>
            </a:xfrm>
            <a:prstGeom prst="downArrow">
              <a:avLst>
                <a:gd name="adj1" fmla="val 29657"/>
                <a:gd name="adj2" fmla="val 166392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11720" y="3352680"/>
              <a:ext cx="1363680" cy="160992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1609920"/>
                <a:gd name="textAreaBottom" fmla="*/ 1610280 h 160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68" y="3220"/>
                  </a:moveTo>
                  <a:arcTo wR="-7822" hR="-7822" stAng="-6257951" swAng="-8526396"/>
                  <a:lnTo>
                    <a:pt x="15123" y="903"/>
                  </a:lnTo>
                  <a:arcTo wR="10800" hR="10800" stAng="-3984347" swAng="8526396"/>
                  <a:lnTo>
                    <a:pt x="14134" y="23882"/>
                  </a:lnTo>
                  <a:lnTo>
                    <a:pt x="9040" y="20857"/>
                  </a:lnTo>
                  <a:lnTo>
                    <a:pt x="12065" y="1576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990720" y="3352680"/>
              <a:ext cx="1363680" cy="1609920"/>
            </a:xfrm>
            <a:custGeom>
              <a:avLst/>
              <a:gdLst>
                <a:gd name="textAreaLeft" fmla="*/ 360 w 1363680"/>
                <a:gd name="textAreaRight" fmla="*/ 1364400 w 1363680"/>
                <a:gd name="textAreaTop" fmla="*/ 0 h 1609920"/>
                <a:gd name="textAreaBottom" fmla="*/ 1610280 h 160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68" y="3220"/>
                  </a:moveTo>
                  <a:arcTo wR="-7822" hR="-7822" stAng="-6257951" swAng="-8526396"/>
                  <a:lnTo>
                    <a:pt x="15123" y="903"/>
                  </a:lnTo>
                  <a:arcTo wR="10800" hR="10800" stAng="-3984347" swAng="8526396"/>
                  <a:lnTo>
                    <a:pt x="14134" y="23882"/>
                  </a:lnTo>
                  <a:lnTo>
                    <a:pt x="9040" y="20857"/>
                  </a:lnTo>
                  <a:lnTo>
                    <a:pt x="12065" y="1576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478200" y="20563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358056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6720" y="106596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itizen &amp; 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78400" y="5029200"/>
            <a:ext cx="286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Government Systems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4572000"/>
            <a:ext cx="2210040" cy="333360"/>
          </a:xfrm>
          <a:prstGeom prst="roundRect">
            <a:avLst>
              <a:gd name="adj" fmla="val 358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3962520"/>
            <a:ext cx="3759120" cy="639720"/>
          </a:xfrm>
          <a:prstGeom prst="roundRect">
            <a:avLst>
              <a:gd name="adj" fmla="val 358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vernment 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">
            <a:off x="3352680" y="2590920"/>
            <a:ext cx="533520" cy="382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819520"/>
            <a:ext cx="1065240" cy="714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Sector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048120"/>
            <a:ext cx="2252520" cy="715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Government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www.ukonline.gov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819520"/>
            <a:ext cx="1065240" cy="715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Authority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">
            <a:off x="3306600" y="1982880"/>
            <a:ext cx="473400" cy="249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5280" y="1905120"/>
            <a:ext cx="4840200" cy="809640"/>
            <a:chOff x="1295280" y="1905120"/>
            <a:chExt cx="4840200" cy="809640"/>
          </a:xfrm>
        </p:grpSpPr>
        <p:sp>
          <p:nvSpPr>
            <p:cNvPr id="168" name=""/>
            <p:cNvSpPr/>
            <p:nvPr/>
          </p:nvSpPr>
          <p:spPr>
            <a:xfrm>
              <a:off x="1295280" y="1905120"/>
              <a:ext cx="4647960" cy="698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1518840" y="1941480"/>
              <a:ext cx="387360" cy="5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758680" y="1987560"/>
              <a:ext cx="178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Multiple Access Chann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2144520" y="1916280"/>
              <a:ext cx="426960" cy="517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72" name=""/>
            <p:cNvGraphicFramePr/>
            <p:nvPr/>
          </p:nvGraphicFramePr>
          <p:xfrm>
            <a:off x="5448240" y="1960560"/>
            <a:ext cx="291960" cy="44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48240" y="1960560"/>
                      <a:ext cx="2919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4595400" y="1955880"/>
              <a:ext cx="725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427040" y="2214720"/>
              <a:ext cx="539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e913"/>
                  </a:solidFill>
                  <a:latin typeface="Arial"/>
                </a:rPr>
                <a:t>D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6080" y="2214720"/>
              <a:ext cx="10922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e913"/>
                  </a:solidFill>
                  <a:latin typeface="Arial"/>
                </a:rPr>
                <a:t>Mob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09920" y="2214720"/>
              <a:ext cx="10922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e913"/>
                  </a:solidFill>
                  <a:latin typeface="Arial"/>
                </a:rPr>
                <a:t>Call Cent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3240" y="2214720"/>
              <a:ext cx="10922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e913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5400">
            <a:off x="3276720" y="1523880"/>
            <a:ext cx="473040" cy="24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19320" y="838080"/>
            <a:ext cx="4647960" cy="619200"/>
            <a:chOff x="1219320" y="838080"/>
            <a:chExt cx="4647960" cy="619200"/>
          </a:xfrm>
        </p:grpSpPr>
        <p:sp>
          <p:nvSpPr>
            <p:cNvPr id="181" name=""/>
            <p:cNvSpPr/>
            <p:nvPr/>
          </p:nvSpPr>
          <p:spPr>
            <a:xfrm>
              <a:off x="1219320" y="838080"/>
              <a:ext cx="4647960" cy="619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9120" y="101412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Us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6"/>
            <a:stretch/>
          </p:blipFill>
          <p:spPr>
            <a:xfrm>
              <a:off x="1430280" y="904680"/>
              <a:ext cx="5954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7"/>
            <a:stretch/>
          </p:blipFill>
          <p:spPr>
            <a:xfrm>
              <a:off x="4289400" y="904680"/>
              <a:ext cx="5954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8"/>
            <a:stretch/>
          </p:blipFill>
          <p:spPr>
            <a:xfrm>
              <a:off x="5138640" y="904680"/>
              <a:ext cx="5954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9"/>
            <a:stretch/>
          </p:blipFill>
          <p:spPr>
            <a:xfrm>
              <a:off x="2279520" y="904680"/>
              <a:ext cx="594000" cy="4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 rot="16207200">
            <a:off x="-2595600" y="2588760"/>
            <a:ext cx="57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-Government Standards (e-G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e-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Government Service Delivery Infrastruct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Channels  - Vision</a:t>
            </a: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ervasive access (from home, work or on the move) holds the key to successful e-government and the knowledg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Published the Channels Framework Sep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826400" y="3809880"/>
            <a:ext cx="1317600" cy="2133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1828800" cy="110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804000" y="2637000"/>
            <a:ext cx="1627200" cy="1523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257800" y="4876920"/>
            <a:ext cx="198108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4140360" y="3068640"/>
          <a:ext cx="24526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3068640"/>
                    <a:ext cx="24526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04920" y="2590920"/>
            <a:ext cx="3352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K Online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Providing access f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6,100 UK online centres now open –higher than our tar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ll 4,300 public libraries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Digital TV</a:t>
            </a: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98% of UK households posses at least one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y January 2003, 40% had a Digital T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TV has higher penetration amongst lower the lowest income groups than home PCs (Mor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TV potentially provides a means for government to deliver services to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overnment is working closely with industry to develop DTV as viable service delivery access cha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TV Policy Framework to be launched Summ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Mobiles are also an important channel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47280" y="191592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5% of population have a mobi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MS has transformed the mobile from a pure voice device to a voice and data (simple)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ery high SMS 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PRS services offering higher bandwidth have been available since May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G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ukonline.gov portal - Life Events</a:t>
            </a:r>
            <a:br>
              <a:rPr sz="3500"/>
            </a:b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joined-up government</a:t>
            </a: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3476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aving a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o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aling with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ving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arning to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ath &amp; Berea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1773360"/>
            <a:ext cx="410364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oking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a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nsions &amp; Ret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Your choices at 1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oking after some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rting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rting up i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The Government Gateway</a:t>
            </a: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Government Gateway plays a major role in ensuring successful delivery of the UK’s e-government initiatives. It acts as an intelligent hub, provi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ion and authoris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sign-on and single cred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mon transaction and routing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egration 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yment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ighly secure environment resilient ‘always on’ service and the capacity to handle high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time, it is anticipated that the Gateway will handle a substantial part of the estimated 5-6 billion of annual government related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Gateway - Next steps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e are investig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ays of notifying citizens of important central and local government information via e-mail and 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ays of notifying citizens of regulatory actions they need to take, eg renew passport, car licence, via 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ext messaging as a method of authentication and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ow to improve the way documents and information are submitted to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DotP – products for e-government service delivery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eE is building a central common infrastructure designed to host multiple government websites. This is known as DotP - Delivering on the Promise. It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rove the experience for government organisations by offering full content management and other web-relate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rove the customer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duce the cost of entry by providing best of breed technologies at the lowest possibl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duce the cost of ongoing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rease the speed of service to market by cutting the time associated with procurement and developmen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Today’s Agenda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76000" y="206028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-government vision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-service delivery plans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se of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Today’s Agenda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206028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-government vision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-service delivery plans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 o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-Government Interoperability Framework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-GIF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08f00"/>
                </a:solidFill>
                <a:latin typeface="Arial"/>
              </a:rPr>
              <a:t>Joined-up Government needs Joined-up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-GIF sets out the government’s policy and standards for interoperability across the public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cuses on 4 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terconnectivit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Data integra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cces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tent manage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-GIF – Headline Deci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8640" y="1484280"/>
            <a:ext cx="832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opts Internet and World Wide Web Standards for all public sect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opts XML as the key standard for data 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kes the Browser the key interface for access and manipulation of al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sign Metadata to governm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opts open, international standards that are well supported by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et based Implementation Strategy through UK GovTalk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-GIF is mandated for all UK Public Sect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2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Adopting XML Schemas for e-Service delivery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6920" y="19162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ree alterna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 international Schemas, eg ebXML/UBL, XBRL, where appropri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ose adopted are listed in e-GIF Pa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rite own Schemas for specific government services, eg tax return filing, passpor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ose we’ve written are available on Gov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rite own Schemas to support our e-Government Metadata Standard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ose we’ve written are available on Gov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-GIF Compliance (1)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liance with the e-GIF is mandatory for the exchange of information between Government systems and the interactions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 Government and citiz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 Government and businesses (world w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 Government sectors and other UK Government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 Government and foreign governments (UK/EC, UK/US etc)</a:t>
            </a:r>
            <a:r>
              <a:rPr b="0" lang="en-US" sz="2400" spc="-1" strike="noStrike">
                <a:solidFill>
                  <a:srgbClr val="ffe91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-GIF Compliance (2)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47280" y="14126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i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a Brow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XML for data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nternet &amp; WWW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etadata for conten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ltimat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66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Can any component or product used within an interface be replaced by another of a similar specification and the functionality of the system still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UK GovTalk Provides</a:t>
            </a: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7280" y="14126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teroperability and Metadata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XML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Government Data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Government Categor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-Service Developmen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hange Contro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Discussion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FC and RFP on a glob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ther ICT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ww.govtalk.gov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802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e-GIF – the International Dimension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European e-G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ject unde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eE representing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eE working with major standards bodies, eg BSI, OASIS, W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hair OASIS e-Government Techn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hair OASIS Election &amp; Voter Services Techn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emantic Web project with W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Today’s Agenda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6000" y="206028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-government vision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-service delivery plans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se o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Internet revolution – is it all disinformation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.com bubble burst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day, there are over 600 million online in the world. The figure rising by 140,000 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Digital technology – in particular the internet – is changing our lives. It is changing the way we interact with friends and family, with government and with complete strang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e-Government Vision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 are in the middle of an Information revolution which is changing the way we work and live …. And we need to change the way we think about deliv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UK to be at the forefront of the new global knowledge economy – this is vital for our future prosp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 must ensure that everyone in our society benefits from the new technology and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31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K’s e-government strategy is about harnessing the information revolution to improve the lives of our citizens and the performance of UK’s econom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ivering e-government,  building the knowledge economy and delivering pervasive access is going to require pervasive technologies – that’s the Internet and XM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delivery requires the involvement of, acceptance by and partnership with the public and privat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9520" y="1981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7760" y="38098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.borras@e-envoy.gsi.gov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govtalk.gov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0" y="-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e-Government Strategy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  <a:ea typeface="Arial"/>
              </a:rPr>
              <a:t>All Government services to be offered online by 2005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wit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key services achieving high levels of use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-Government strategy is to provide th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policies, legislation and programmes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 make the above a reality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553080" y="2286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2104920" cy="305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95680" y="541008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ery government department as an e-business’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- Government Leadership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3284640"/>
            <a:ext cx="3657600" cy="3284640"/>
            <a:chOff x="3059280" y="3284640"/>
            <a:chExt cx="3657600" cy="32846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7898" t="4670" r="7862" b="30573"/>
            <a:stretch/>
          </p:blipFill>
          <p:spPr>
            <a:xfrm>
              <a:off x="3905280" y="3284640"/>
              <a:ext cx="1592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059280" y="5418000"/>
              <a:ext cx="3657600" cy="11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Times New Roman"/>
                </a:rPr>
                <a:t>e-Envoy Andrew Pi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6600cc"/>
                  </a:solidFill>
                  <a:latin typeface="Times New Roman"/>
                </a:rPr>
                <a:t>Supported by the e-Champions Network across 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920" y="1600200"/>
            <a:ext cx="3123720" cy="3140640"/>
            <a:chOff x="304920" y="1600200"/>
            <a:chExt cx="3123720" cy="31406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25120" y="1600200"/>
              <a:ext cx="1769760" cy="19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04920" y="3724920"/>
              <a:ext cx="3123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Minister in Cabine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tricia Hewi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352680" y="762120"/>
            <a:ext cx="2895480" cy="2364480"/>
            <a:chOff x="3352680" y="762120"/>
            <a:chExt cx="2895480" cy="236448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rcRect l="16003" t="0" r="12019" b="8706"/>
            <a:stretch/>
          </p:blipFill>
          <p:spPr>
            <a:xfrm>
              <a:off x="3835440" y="762120"/>
              <a:ext cx="1901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352680" y="26668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ime Min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400800" y="1447920"/>
            <a:ext cx="2742840" cy="3809520"/>
            <a:chOff x="6400800" y="1447920"/>
            <a:chExt cx="2742840" cy="3809520"/>
          </a:xfrm>
        </p:grpSpPr>
        <p:sp>
          <p:nvSpPr>
            <p:cNvPr id="115" name=""/>
            <p:cNvSpPr/>
            <p:nvPr/>
          </p:nvSpPr>
          <p:spPr>
            <a:xfrm>
              <a:off x="6400800" y="4066200"/>
              <a:ext cx="274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Government Minister      Douglas Alexa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6857640" y="1447920"/>
              <a:ext cx="1925640" cy="216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e-Government services - Examples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3504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Bus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Transport &amp; Travel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05520" y="1295280"/>
            <a:ext cx="3504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YE 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d of year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rporation tax 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AT 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any regist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iling company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etirement Pens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Benefi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Tax credi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Personal Tax 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"/>
              </a:rPr>
              <a:t>Tax disc renew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"/>
              </a:rPr>
              <a:t>Vehicle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"/>
              </a:rPr>
              <a:t>Driv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"/>
              </a:rPr>
              <a:t>Transport 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"/>
              </a:rPr>
              <a:t>Passpor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"/>
              </a:rPr>
              <a:t>Parking f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e-Government services - Examples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14264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Land and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5520" y="914040"/>
            <a:ext cx="3504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</a:rPr>
              <a:t>Student loa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</a:rPr>
              <a:t>School ap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</a:rPr>
              <a:t>Teacher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ff99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</a:rPr>
              <a:t>University ap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0066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ff"/>
                </a:solidFill>
                <a:latin typeface="Arial"/>
              </a:rPr>
              <a:t>E prescrip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0066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ff"/>
                </a:solidFill>
                <a:latin typeface="Arial"/>
              </a:rPr>
              <a:t>Registration of birth and de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0066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ff"/>
                </a:solidFill>
                <a:latin typeface="Arial"/>
              </a:rPr>
              <a:t>Booking appoint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00cc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cc99"/>
                </a:solidFill>
                <a:latin typeface="Arial"/>
              </a:rPr>
              <a:t>Services to victims and witne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00cc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cc99"/>
                </a:solidFill>
                <a:latin typeface="Arial"/>
              </a:rPr>
              <a:t>Civil clai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cc33"/>
                </a:solidFill>
                <a:latin typeface="Arial"/>
              </a:rPr>
              <a:t>Planning ap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33cc33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cc33"/>
                </a:solidFill>
                <a:latin typeface="Arial"/>
              </a:rPr>
              <a:t>Convey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CAP pay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Tracking living sto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ff66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ff"/>
                </a:solidFill>
                <a:latin typeface="Arial"/>
              </a:rPr>
              <a:t>Vot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374"/>
              </a:spcBef>
              <a:buClr>
                <a:srgbClr val="ff66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ff"/>
                </a:solidFill>
                <a:latin typeface="Arial"/>
              </a:rPr>
              <a:t>Consult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But there are issues</a:t>
            </a: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K consumers most concerned about online privacy (PWC survey of 12 countries -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K consumers trust government less than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e need a secure and trusted e-environment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knowledge economy to g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 delivering around 20% of governme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e ne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tect ou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now who we’re dealing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how people it’s sa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1295280"/>
            <a:ext cx="0" cy="3962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47560" y="5257800"/>
            <a:ext cx="6172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1523880"/>
            <a:ext cx="0" cy="3733920"/>
          </a:xfrm>
          <a:prstGeom prst="line">
            <a:avLst/>
          </a:prstGeom>
          <a:ln w="381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523880"/>
            <a:ext cx="0" cy="3733920"/>
          </a:xfrm>
          <a:prstGeom prst="line">
            <a:avLst/>
          </a:prstGeom>
          <a:ln w="381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1523880"/>
            <a:ext cx="0" cy="3733920"/>
          </a:xfrm>
          <a:prstGeom prst="line">
            <a:avLst/>
          </a:prstGeom>
          <a:ln w="3816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1280" y="5257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81760" y="5257800"/>
            <a:ext cx="111492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2578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83040" y="5257800"/>
            <a:ext cx="123228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The long road to transformation – reality check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from .gov  to .com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057400"/>
            <a:ext cx="6083280" cy="2476440"/>
          </a:xfrm>
          <a:custGeom>
            <a:avLst/>
            <a:gdLst/>
            <a:ahLst/>
            <a:rect l="l" t="t" r="r" b="b"/>
            <a:pathLst>
              <a:path w="3832" h="1560">
                <a:moveTo>
                  <a:pt x="0" y="1560"/>
                </a:moveTo>
                <a:cubicBezTo>
                  <a:pt x="288" y="1544"/>
                  <a:pt x="576" y="1528"/>
                  <a:pt x="720" y="1464"/>
                </a:cubicBezTo>
                <a:cubicBezTo>
                  <a:pt x="864" y="1400"/>
                  <a:pt x="688" y="1264"/>
                  <a:pt x="864" y="1176"/>
                </a:cubicBezTo>
                <a:cubicBezTo>
                  <a:pt x="1040" y="1088"/>
                  <a:pt x="1600" y="1024"/>
                  <a:pt x="1776" y="936"/>
                </a:cubicBezTo>
                <a:cubicBezTo>
                  <a:pt x="1952" y="848"/>
                  <a:pt x="1744" y="728"/>
                  <a:pt x="1920" y="648"/>
                </a:cubicBezTo>
                <a:cubicBezTo>
                  <a:pt x="2096" y="568"/>
                  <a:pt x="2664" y="536"/>
                  <a:pt x="2832" y="456"/>
                </a:cubicBezTo>
                <a:cubicBezTo>
                  <a:pt x="3000" y="376"/>
                  <a:pt x="2784" y="240"/>
                  <a:pt x="2928" y="168"/>
                </a:cubicBezTo>
                <a:cubicBezTo>
                  <a:pt x="3072" y="96"/>
                  <a:pt x="3560" y="48"/>
                  <a:pt x="3696" y="24"/>
                </a:cubicBezTo>
                <a:cubicBezTo>
                  <a:pt x="3832" y="0"/>
                  <a:pt x="3736" y="24"/>
                  <a:pt x="3744" y="24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573360"/>
            <a:ext cx="304560" cy="304920"/>
          </a:xfrm>
          <a:prstGeom prst="ellipse">
            <a:avLst/>
          </a:prstGeom>
          <a:solidFill>
            <a:srgbClr val="cc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32846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1523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1905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666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c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2438280"/>
            <a:ext cx="23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government for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6:09:35Z</dcterms:created>
  <dc:creator>Emilie Normann</dc:creator>
  <dc:description/>
  <dc:language>en-US</dc:language>
  <cp:lastModifiedBy>Office of the e-Envoy User</cp:lastModifiedBy>
  <cp:lastPrinted>2002-10-07T12:38:50Z</cp:lastPrinted>
  <dcterms:modified xsi:type="dcterms:W3CDTF">2003-06-01T10:19:02Z</dcterms:modified>
  <cp:revision>108</cp:revision>
  <dc:subject/>
  <dc:title>E-Government in the service of the 21st century citizen</dc:title>
</cp:coreProperties>
</file>