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393B-3F48-4BBB-869D-4471C31D3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03092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ECFE-0334-4E1E-92EA-A22883B4D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AE87-5549-47AC-A459-3CEF16390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15235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15235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0309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0309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0309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8360-1E47-4F7F-B795-885EDA4D6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492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DDAE-F73E-4B53-8E05-F3166A554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84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4920" y="403092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4920" y="403092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84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71440" y="15235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7960" y="15235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4920" y="40309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71440" y="40309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7960" y="403092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0F08-F580-4D23-9B28-ABA8FF3B2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D736-68BD-43C6-BD9F-F7E405FFD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F93F-F8DE-4841-B429-F74D725A2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3FFE-ADA6-4DEC-8579-5D822C3C6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257A-67F4-4019-8EE1-79CBC8237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0309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7304-49F7-40E6-B91B-F8AAE5BC7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152352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03092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5F0A-6397-45AA-ADF5-99A603BA8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0" y="609480"/>
            <a:ext cx="4572000" cy="624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09480"/>
            <a:ext cx="2819520" cy="6248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tulogo-en" descr=""/>
          <p:cNvPicPr/>
          <p:nvPr/>
        </p:nvPicPr>
        <p:blipFill>
          <a:blip r:embed="rId2"/>
          <a:stretch/>
        </p:blipFill>
        <p:spPr>
          <a:xfrm>
            <a:off x="-1440" y="-1440"/>
            <a:ext cx="1753920" cy="127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270080"/>
            <a:ext cx="1749600" cy="5625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1828440" y="655272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998-2003 ITU Telecommunication Development Bureau (BDT) – E-Strategy Unit..     Page -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57AD088-666D-4A0E-BEFB-5CE35DDC3F8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52480" y="0"/>
            <a:ext cx="7391520" cy="876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5248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12949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8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E-Strategy%20-%20Distorted" descr=""/>
          <p:cNvPicPr/>
          <p:nvPr/>
        </p:nvPicPr>
        <p:blipFill>
          <a:blip r:embed="rId3"/>
          <a:stretch/>
        </p:blipFill>
        <p:spPr>
          <a:xfrm>
            <a:off x="0" y="1143000"/>
            <a:ext cx="175248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4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47800" y="-936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ternational Telecommunication Union (I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u.int/ITU-D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9140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uilding Confidence in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E-government Services</a:t>
            </a:r>
            <a:br>
              <a:rPr sz="3600"/>
            </a:br>
            <a:br>
              <a:rPr sz="44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U-T Workshop on Challenges, Perspectives and Standardization Issues in E-governmen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va, 5-6 June 200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4952520"/>
            <a:ext cx="7391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exander NTOK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ief, E-Strategy Un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TU Telecommunication Development Bureau (BD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ITUlogo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160020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26C5-6579-47A1-B94B-728B4CBD427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igital Signatures are central to the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59480" y="3067200"/>
            <a:ext cx="1023840" cy="566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3500000"/>
          </a:gradFill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833560"/>
            <a:ext cx="1090440" cy="1006560"/>
          </a:xfrm>
          <a:custGeom>
            <a:avLst/>
            <a:gdLst/>
            <a:ahLst/>
            <a:rect l="l" t="t" r="r" b="b"/>
            <a:pathLst>
              <a:path w="687" h="634">
                <a:moveTo>
                  <a:pt x="435" y="149"/>
                </a:moveTo>
                <a:lnTo>
                  <a:pt x="0" y="149"/>
                </a:lnTo>
                <a:lnTo>
                  <a:pt x="0" y="484"/>
                </a:lnTo>
                <a:lnTo>
                  <a:pt x="448" y="484"/>
                </a:lnTo>
                <a:lnTo>
                  <a:pt x="448" y="633"/>
                </a:lnTo>
                <a:lnTo>
                  <a:pt x="686" y="323"/>
                </a:lnTo>
                <a:lnTo>
                  <a:pt x="435" y="0"/>
                </a:lnTo>
                <a:lnTo>
                  <a:pt x="435" y="14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lin ang="10800000"/>
          </a:gradFill>
          <a:ln cap="rnd" w="507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726000" y="2771640"/>
          <a:ext cx="47124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6000" y="2771640"/>
                    <a:ext cx="471240" cy="101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84760" y="318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221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gner’s </a:t>
            </a: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Private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31280" y="2525760"/>
            <a:ext cx="1274760" cy="455400"/>
          </a:xfrm>
          <a:custGeom>
            <a:avLst/>
            <a:gdLst/>
            <a:ahLst/>
            <a:rect l="l" t="t" r="r" b="b"/>
            <a:pathLst>
              <a:path w="803" h="287">
                <a:moveTo>
                  <a:pt x="0" y="286"/>
                </a:moveTo>
                <a:lnTo>
                  <a:pt x="295" y="87"/>
                </a:lnTo>
                <a:lnTo>
                  <a:pt x="516" y="268"/>
                </a:lnTo>
                <a:lnTo>
                  <a:pt x="802" y="0"/>
                </a:lnTo>
              </a:path>
            </a:pathLst>
          </a:custGeom>
          <a:noFill/>
          <a:ln cap="rnd" w="76320">
            <a:solidFill>
              <a:srgbClr val="00ccff"/>
            </a:solidFill>
            <a:round/>
            <a:tailEnd len="lg" type="stealth" w="med"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43560" y="3816360"/>
            <a:ext cx="1689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7960" y="3613320"/>
            <a:ext cx="1689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4200" y="3092400"/>
            <a:ext cx="78912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886200"/>
            <a:ext cx="171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62040" y="3679920"/>
            <a:ext cx="104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30200" y="2963880"/>
          <a:ext cx="1054080" cy="79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0200" y="2963880"/>
                    <a:ext cx="10540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88080" y="2022480"/>
          <a:ext cx="846360" cy="114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88080" y="2022480"/>
                    <a:ext cx="846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624720" y="3230640"/>
            <a:ext cx="1023840" cy="566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3500000"/>
          </a:gradFill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7880" y="2838600"/>
            <a:ext cx="824040" cy="825480"/>
          </a:xfrm>
          <a:custGeom>
            <a:avLst/>
            <a:gdLst/>
            <a:ahLst/>
            <a:rect l="l" t="t" r="r" b="b"/>
            <a:pathLst>
              <a:path w="519" h="520">
                <a:moveTo>
                  <a:pt x="81" y="318"/>
                </a:moveTo>
                <a:lnTo>
                  <a:pt x="85" y="324"/>
                </a:lnTo>
                <a:lnTo>
                  <a:pt x="91" y="330"/>
                </a:lnTo>
                <a:lnTo>
                  <a:pt x="97" y="336"/>
                </a:lnTo>
                <a:lnTo>
                  <a:pt x="102" y="341"/>
                </a:lnTo>
                <a:lnTo>
                  <a:pt x="108" y="346"/>
                </a:lnTo>
                <a:lnTo>
                  <a:pt x="114" y="351"/>
                </a:lnTo>
                <a:lnTo>
                  <a:pt x="119" y="356"/>
                </a:lnTo>
                <a:lnTo>
                  <a:pt x="124" y="360"/>
                </a:lnTo>
                <a:lnTo>
                  <a:pt x="131" y="365"/>
                </a:lnTo>
                <a:lnTo>
                  <a:pt x="139" y="371"/>
                </a:lnTo>
                <a:lnTo>
                  <a:pt x="146" y="375"/>
                </a:lnTo>
                <a:lnTo>
                  <a:pt x="153" y="380"/>
                </a:lnTo>
                <a:lnTo>
                  <a:pt x="161" y="385"/>
                </a:lnTo>
                <a:lnTo>
                  <a:pt x="169" y="390"/>
                </a:lnTo>
                <a:lnTo>
                  <a:pt x="176" y="394"/>
                </a:lnTo>
                <a:lnTo>
                  <a:pt x="184" y="397"/>
                </a:lnTo>
                <a:lnTo>
                  <a:pt x="190" y="401"/>
                </a:lnTo>
                <a:lnTo>
                  <a:pt x="198" y="404"/>
                </a:lnTo>
                <a:lnTo>
                  <a:pt x="205" y="408"/>
                </a:lnTo>
                <a:lnTo>
                  <a:pt x="213" y="412"/>
                </a:lnTo>
                <a:lnTo>
                  <a:pt x="222" y="415"/>
                </a:lnTo>
                <a:lnTo>
                  <a:pt x="230" y="418"/>
                </a:lnTo>
                <a:lnTo>
                  <a:pt x="238" y="420"/>
                </a:lnTo>
                <a:lnTo>
                  <a:pt x="250" y="425"/>
                </a:lnTo>
                <a:lnTo>
                  <a:pt x="262" y="429"/>
                </a:lnTo>
                <a:lnTo>
                  <a:pt x="276" y="432"/>
                </a:lnTo>
                <a:lnTo>
                  <a:pt x="291" y="435"/>
                </a:lnTo>
                <a:lnTo>
                  <a:pt x="301" y="436"/>
                </a:lnTo>
                <a:lnTo>
                  <a:pt x="313" y="438"/>
                </a:lnTo>
                <a:lnTo>
                  <a:pt x="326" y="440"/>
                </a:lnTo>
                <a:lnTo>
                  <a:pt x="338" y="442"/>
                </a:lnTo>
                <a:lnTo>
                  <a:pt x="351" y="442"/>
                </a:lnTo>
                <a:lnTo>
                  <a:pt x="366" y="443"/>
                </a:lnTo>
                <a:lnTo>
                  <a:pt x="366" y="519"/>
                </a:lnTo>
                <a:lnTo>
                  <a:pt x="518" y="367"/>
                </a:lnTo>
                <a:lnTo>
                  <a:pt x="367" y="206"/>
                </a:lnTo>
                <a:lnTo>
                  <a:pt x="367" y="286"/>
                </a:lnTo>
                <a:lnTo>
                  <a:pt x="356" y="285"/>
                </a:lnTo>
                <a:lnTo>
                  <a:pt x="345" y="283"/>
                </a:lnTo>
                <a:lnTo>
                  <a:pt x="335" y="282"/>
                </a:lnTo>
                <a:lnTo>
                  <a:pt x="324" y="280"/>
                </a:lnTo>
                <a:lnTo>
                  <a:pt x="317" y="278"/>
                </a:lnTo>
                <a:lnTo>
                  <a:pt x="307" y="276"/>
                </a:lnTo>
                <a:lnTo>
                  <a:pt x="300" y="273"/>
                </a:lnTo>
                <a:lnTo>
                  <a:pt x="291" y="270"/>
                </a:lnTo>
                <a:lnTo>
                  <a:pt x="281" y="265"/>
                </a:lnTo>
                <a:lnTo>
                  <a:pt x="272" y="261"/>
                </a:lnTo>
                <a:lnTo>
                  <a:pt x="266" y="258"/>
                </a:lnTo>
                <a:lnTo>
                  <a:pt x="256" y="253"/>
                </a:lnTo>
                <a:lnTo>
                  <a:pt x="249" y="248"/>
                </a:lnTo>
                <a:lnTo>
                  <a:pt x="243" y="243"/>
                </a:lnTo>
                <a:lnTo>
                  <a:pt x="237" y="238"/>
                </a:lnTo>
                <a:lnTo>
                  <a:pt x="229" y="231"/>
                </a:lnTo>
                <a:lnTo>
                  <a:pt x="221" y="223"/>
                </a:lnTo>
                <a:lnTo>
                  <a:pt x="215" y="215"/>
                </a:lnTo>
                <a:lnTo>
                  <a:pt x="206" y="202"/>
                </a:lnTo>
                <a:lnTo>
                  <a:pt x="195" y="186"/>
                </a:lnTo>
                <a:lnTo>
                  <a:pt x="188" y="172"/>
                </a:lnTo>
                <a:lnTo>
                  <a:pt x="184" y="159"/>
                </a:lnTo>
                <a:lnTo>
                  <a:pt x="180" y="143"/>
                </a:lnTo>
                <a:lnTo>
                  <a:pt x="177" y="128"/>
                </a:lnTo>
                <a:lnTo>
                  <a:pt x="177" y="113"/>
                </a:lnTo>
                <a:lnTo>
                  <a:pt x="177" y="98"/>
                </a:lnTo>
                <a:lnTo>
                  <a:pt x="181" y="82"/>
                </a:lnTo>
                <a:lnTo>
                  <a:pt x="20" y="0"/>
                </a:lnTo>
                <a:lnTo>
                  <a:pt x="17" y="8"/>
                </a:lnTo>
                <a:lnTo>
                  <a:pt x="14" y="19"/>
                </a:lnTo>
                <a:lnTo>
                  <a:pt x="11" y="28"/>
                </a:lnTo>
                <a:lnTo>
                  <a:pt x="9" y="38"/>
                </a:lnTo>
                <a:lnTo>
                  <a:pt x="6" y="47"/>
                </a:lnTo>
                <a:lnTo>
                  <a:pt x="4" y="58"/>
                </a:lnTo>
                <a:lnTo>
                  <a:pt x="2" y="67"/>
                </a:lnTo>
                <a:lnTo>
                  <a:pt x="2" y="77"/>
                </a:lnTo>
                <a:lnTo>
                  <a:pt x="1" y="87"/>
                </a:lnTo>
                <a:lnTo>
                  <a:pt x="0" y="97"/>
                </a:lnTo>
                <a:lnTo>
                  <a:pt x="0" y="107"/>
                </a:lnTo>
                <a:lnTo>
                  <a:pt x="0" y="116"/>
                </a:lnTo>
                <a:lnTo>
                  <a:pt x="0" y="126"/>
                </a:lnTo>
                <a:lnTo>
                  <a:pt x="0" y="134"/>
                </a:lnTo>
                <a:lnTo>
                  <a:pt x="2" y="145"/>
                </a:lnTo>
                <a:lnTo>
                  <a:pt x="3" y="156"/>
                </a:lnTo>
                <a:lnTo>
                  <a:pt x="5" y="167"/>
                </a:lnTo>
                <a:lnTo>
                  <a:pt x="6" y="176"/>
                </a:lnTo>
                <a:lnTo>
                  <a:pt x="8" y="185"/>
                </a:lnTo>
                <a:lnTo>
                  <a:pt x="11" y="194"/>
                </a:lnTo>
                <a:lnTo>
                  <a:pt x="13" y="203"/>
                </a:lnTo>
                <a:lnTo>
                  <a:pt x="16" y="212"/>
                </a:lnTo>
                <a:lnTo>
                  <a:pt x="20" y="222"/>
                </a:lnTo>
                <a:lnTo>
                  <a:pt x="24" y="232"/>
                </a:lnTo>
                <a:lnTo>
                  <a:pt x="29" y="242"/>
                </a:lnTo>
                <a:lnTo>
                  <a:pt x="34" y="252"/>
                </a:lnTo>
                <a:lnTo>
                  <a:pt x="38" y="260"/>
                </a:lnTo>
                <a:lnTo>
                  <a:pt x="44" y="270"/>
                </a:lnTo>
                <a:lnTo>
                  <a:pt x="50" y="280"/>
                </a:lnTo>
                <a:lnTo>
                  <a:pt x="56" y="287"/>
                </a:lnTo>
                <a:lnTo>
                  <a:pt x="61" y="295"/>
                </a:lnTo>
                <a:lnTo>
                  <a:pt x="68" y="304"/>
                </a:lnTo>
                <a:lnTo>
                  <a:pt x="75" y="312"/>
                </a:lnTo>
                <a:lnTo>
                  <a:pt x="81" y="31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22520" y="381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78000" y="1859040"/>
          <a:ext cx="846000" cy="114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" y="1859040"/>
                    <a:ext cx="84600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830920" y="1952640"/>
          <a:ext cx="465120" cy="218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30920" y="1952640"/>
                    <a:ext cx="4651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984400" y="2104920"/>
            <a:ext cx="2141640" cy="1106640"/>
            <a:chOff x="2984400" y="2104920"/>
            <a:chExt cx="2141640" cy="1106640"/>
          </a:xfrm>
        </p:grpSpPr>
        <p:sp>
          <p:nvSpPr>
            <p:cNvPr id="138" name=""/>
            <p:cNvSpPr/>
            <p:nvPr/>
          </p:nvSpPr>
          <p:spPr>
            <a:xfrm>
              <a:off x="2984400" y="2361960"/>
              <a:ext cx="1571760" cy="58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0800000"/>
            </a:gradFill>
            <a:ln w="507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70280" y="2104920"/>
              <a:ext cx="1355760" cy="1106640"/>
            </a:xfrm>
            <a:custGeom>
              <a:avLst/>
              <a:gdLst/>
              <a:ahLst/>
              <a:rect l="l" t="t" r="r" b="b"/>
              <a:pathLst>
                <a:path w="854" h="697">
                  <a:moveTo>
                    <a:pt x="541" y="164"/>
                  </a:moveTo>
                  <a:lnTo>
                    <a:pt x="0" y="164"/>
                  </a:lnTo>
                  <a:lnTo>
                    <a:pt x="0" y="532"/>
                  </a:lnTo>
                  <a:lnTo>
                    <a:pt x="557" y="532"/>
                  </a:lnTo>
                  <a:lnTo>
                    <a:pt x="557" y="696"/>
                  </a:lnTo>
                  <a:lnTo>
                    <a:pt x="853" y="355"/>
                  </a:lnTo>
                  <a:lnTo>
                    <a:pt x="541" y="0"/>
                  </a:lnTo>
                  <a:lnTo>
                    <a:pt x="541" y="16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0800000"/>
            </a:gradFill>
            <a:ln cap="rnd" w="507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ifying the Digital Signature for Authentication and Data Integr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27280" y="4375080"/>
            <a:ext cx="1023840" cy="566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3500000"/>
          </a:gradFill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3320" y="3529080"/>
            <a:ext cx="1574640" cy="455400"/>
          </a:xfrm>
          <a:custGeom>
            <a:avLst/>
            <a:gdLst/>
            <a:ahLst/>
            <a:rect l="l" t="t" r="r" b="b"/>
            <a:pathLst>
              <a:path w="992" h="287">
                <a:moveTo>
                  <a:pt x="0" y="286"/>
                </a:moveTo>
                <a:lnTo>
                  <a:pt x="364" y="87"/>
                </a:lnTo>
                <a:lnTo>
                  <a:pt x="638" y="268"/>
                </a:lnTo>
                <a:lnTo>
                  <a:pt x="991" y="0"/>
                </a:lnTo>
              </a:path>
            </a:pathLst>
          </a:custGeom>
          <a:noFill/>
          <a:ln cap="rnd" w="76320">
            <a:solidFill>
              <a:srgbClr val="00ccff"/>
            </a:solidFill>
            <a:round/>
            <a:tailEnd len="lg" type="stealth" w="med"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48320" y="2406600"/>
            <a:ext cx="7891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022560"/>
            <a:ext cx="179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ash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32480" y="1927080"/>
            <a:ext cx="102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Di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9720" y="2251080"/>
          <a:ext cx="106668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9720" y="2251080"/>
                    <a:ext cx="10666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808280" y="2143080"/>
          <a:ext cx="85860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8280" y="2143080"/>
                    <a:ext cx="8586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548320" y="4464000"/>
            <a:ext cx="78912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3984480"/>
            <a:ext cx="106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Di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535800" y="2925720"/>
            <a:ext cx="1308600" cy="1311480"/>
            <a:chOff x="6535800" y="2925720"/>
            <a:chExt cx="1308600" cy="1311480"/>
          </a:xfrm>
        </p:grpSpPr>
        <p:sp>
          <p:nvSpPr>
            <p:cNvPr id="153" name=""/>
            <p:cNvSpPr/>
            <p:nvPr/>
          </p:nvSpPr>
          <p:spPr>
            <a:xfrm>
              <a:off x="6535800" y="3352680"/>
              <a:ext cx="53316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35800" y="3657600"/>
              <a:ext cx="53316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19080" y="2925720"/>
              <a:ext cx="625320" cy="13114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00"/>
                  </a:solidFill>
                  <a:latin typeface="Arial Black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546960" y="2846520"/>
            <a:ext cx="1554120" cy="1546200"/>
            <a:chOff x="6546960" y="2846520"/>
            <a:chExt cx="1554120" cy="1546200"/>
          </a:xfrm>
        </p:grpSpPr>
        <p:grpSp>
          <p:nvGrpSpPr>
            <p:cNvPr id="157" name=""/>
            <p:cNvGrpSpPr/>
            <p:nvPr/>
          </p:nvGrpSpPr>
          <p:grpSpPr>
            <a:xfrm>
              <a:off x="6578640" y="2868840"/>
              <a:ext cx="1520640" cy="1521000"/>
              <a:chOff x="6578640" y="2868840"/>
              <a:chExt cx="1520640" cy="15210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578640" y="2868840"/>
                <a:ext cx="1520640" cy="1521000"/>
                <a:chOff x="6578640" y="2868840"/>
                <a:chExt cx="1520640" cy="1521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578640" y="2868840"/>
                  <a:ext cx="1292040" cy="882720"/>
                </a:xfrm>
                <a:custGeom>
                  <a:avLst/>
                  <a:gdLst/>
                  <a:ahLst/>
                  <a:rect l="l" t="t" r="r" b="b"/>
                  <a:pathLst>
                    <a:path w="814" h="556">
                      <a:moveTo>
                        <a:pt x="17" y="555"/>
                      </a:moveTo>
                      <a:lnTo>
                        <a:pt x="5" y="490"/>
                      </a:lnTo>
                      <a:lnTo>
                        <a:pt x="0" y="426"/>
                      </a:lnTo>
                      <a:lnTo>
                        <a:pt x="3" y="383"/>
                      </a:lnTo>
                      <a:lnTo>
                        <a:pt x="10" y="343"/>
                      </a:lnTo>
                      <a:lnTo>
                        <a:pt x="22" y="299"/>
                      </a:lnTo>
                      <a:lnTo>
                        <a:pt x="42" y="255"/>
                      </a:lnTo>
                      <a:lnTo>
                        <a:pt x="66" y="209"/>
                      </a:lnTo>
                      <a:lnTo>
                        <a:pt x="90" y="173"/>
                      </a:lnTo>
                      <a:lnTo>
                        <a:pt x="119" y="136"/>
                      </a:lnTo>
                      <a:lnTo>
                        <a:pt x="153" y="104"/>
                      </a:lnTo>
                      <a:lnTo>
                        <a:pt x="188" y="78"/>
                      </a:lnTo>
                      <a:lnTo>
                        <a:pt x="224" y="56"/>
                      </a:lnTo>
                      <a:lnTo>
                        <a:pt x="269" y="36"/>
                      </a:lnTo>
                      <a:lnTo>
                        <a:pt x="320" y="19"/>
                      </a:lnTo>
                      <a:lnTo>
                        <a:pt x="363" y="7"/>
                      </a:lnTo>
                      <a:lnTo>
                        <a:pt x="417" y="0"/>
                      </a:lnTo>
                      <a:lnTo>
                        <a:pt x="485" y="0"/>
                      </a:lnTo>
                      <a:lnTo>
                        <a:pt x="536" y="10"/>
                      </a:lnTo>
                      <a:lnTo>
                        <a:pt x="597" y="24"/>
                      </a:lnTo>
                      <a:lnTo>
                        <a:pt x="657" y="51"/>
                      </a:lnTo>
                      <a:lnTo>
                        <a:pt x="711" y="83"/>
                      </a:lnTo>
                      <a:lnTo>
                        <a:pt x="747" y="114"/>
                      </a:lnTo>
                      <a:lnTo>
                        <a:pt x="784" y="151"/>
                      </a:lnTo>
                      <a:lnTo>
                        <a:pt x="813" y="187"/>
                      </a:lnTo>
                      <a:lnTo>
                        <a:pt x="735" y="129"/>
                      </a:lnTo>
                      <a:lnTo>
                        <a:pt x="694" y="104"/>
                      </a:lnTo>
                      <a:lnTo>
                        <a:pt x="650" y="87"/>
                      </a:lnTo>
                      <a:lnTo>
                        <a:pt x="594" y="70"/>
                      </a:lnTo>
                      <a:lnTo>
                        <a:pt x="541" y="63"/>
                      </a:lnTo>
                      <a:lnTo>
                        <a:pt x="482" y="61"/>
                      </a:lnTo>
                      <a:lnTo>
                        <a:pt x="439" y="63"/>
                      </a:lnTo>
                      <a:lnTo>
                        <a:pt x="393" y="70"/>
                      </a:lnTo>
                      <a:lnTo>
                        <a:pt x="346" y="83"/>
                      </a:lnTo>
                      <a:lnTo>
                        <a:pt x="303" y="97"/>
                      </a:lnTo>
                      <a:lnTo>
                        <a:pt x="254" y="121"/>
                      </a:lnTo>
                      <a:lnTo>
                        <a:pt x="217" y="143"/>
                      </a:lnTo>
                      <a:lnTo>
                        <a:pt x="185" y="170"/>
                      </a:lnTo>
                      <a:lnTo>
                        <a:pt x="149" y="199"/>
                      </a:lnTo>
                      <a:lnTo>
                        <a:pt x="119" y="231"/>
                      </a:lnTo>
                      <a:lnTo>
                        <a:pt x="90" y="275"/>
                      </a:lnTo>
                      <a:lnTo>
                        <a:pt x="64" y="321"/>
                      </a:lnTo>
                      <a:lnTo>
                        <a:pt x="47" y="365"/>
                      </a:lnTo>
                      <a:lnTo>
                        <a:pt x="32" y="417"/>
                      </a:lnTo>
                      <a:lnTo>
                        <a:pt x="22" y="480"/>
                      </a:lnTo>
                      <a:lnTo>
                        <a:pt x="17" y="55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75480" y="3305520"/>
                  <a:ext cx="1423800" cy="1084320"/>
                </a:xfrm>
                <a:custGeom>
                  <a:avLst/>
                  <a:gdLst/>
                  <a:ahLst/>
                  <a:rect l="l" t="t" r="r" b="b"/>
                  <a:pathLst>
                    <a:path w="897" h="683">
                      <a:moveTo>
                        <a:pt x="0" y="414"/>
                      </a:moveTo>
                      <a:lnTo>
                        <a:pt x="51" y="473"/>
                      </a:lnTo>
                      <a:lnTo>
                        <a:pt x="107" y="524"/>
                      </a:lnTo>
                      <a:lnTo>
                        <a:pt x="158" y="553"/>
                      </a:lnTo>
                      <a:lnTo>
                        <a:pt x="232" y="585"/>
                      </a:lnTo>
                      <a:lnTo>
                        <a:pt x="290" y="602"/>
                      </a:lnTo>
                      <a:lnTo>
                        <a:pt x="344" y="609"/>
                      </a:lnTo>
                      <a:lnTo>
                        <a:pt x="407" y="609"/>
                      </a:lnTo>
                      <a:lnTo>
                        <a:pt x="453" y="604"/>
                      </a:lnTo>
                      <a:lnTo>
                        <a:pt x="509" y="594"/>
                      </a:lnTo>
                      <a:lnTo>
                        <a:pt x="565" y="577"/>
                      </a:lnTo>
                      <a:lnTo>
                        <a:pt x="611" y="553"/>
                      </a:lnTo>
                      <a:lnTo>
                        <a:pt x="655" y="526"/>
                      </a:lnTo>
                      <a:lnTo>
                        <a:pt x="694" y="499"/>
                      </a:lnTo>
                      <a:lnTo>
                        <a:pt x="733" y="460"/>
                      </a:lnTo>
                      <a:lnTo>
                        <a:pt x="772" y="417"/>
                      </a:lnTo>
                      <a:lnTo>
                        <a:pt x="801" y="375"/>
                      </a:lnTo>
                      <a:lnTo>
                        <a:pt x="819" y="334"/>
                      </a:lnTo>
                      <a:lnTo>
                        <a:pt x="840" y="268"/>
                      </a:lnTo>
                      <a:lnTo>
                        <a:pt x="855" y="200"/>
                      </a:lnTo>
                      <a:lnTo>
                        <a:pt x="857" y="139"/>
                      </a:lnTo>
                      <a:lnTo>
                        <a:pt x="848" y="73"/>
                      </a:lnTo>
                      <a:lnTo>
                        <a:pt x="826" y="0"/>
                      </a:lnTo>
                      <a:lnTo>
                        <a:pt x="848" y="39"/>
                      </a:lnTo>
                      <a:lnTo>
                        <a:pt x="872" y="95"/>
                      </a:lnTo>
                      <a:lnTo>
                        <a:pt x="884" y="147"/>
                      </a:lnTo>
                      <a:lnTo>
                        <a:pt x="896" y="195"/>
                      </a:lnTo>
                      <a:lnTo>
                        <a:pt x="894" y="237"/>
                      </a:lnTo>
                      <a:lnTo>
                        <a:pt x="891" y="293"/>
                      </a:lnTo>
                      <a:lnTo>
                        <a:pt x="862" y="400"/>
                      </a:lnTo>
                      <a:lnTo>
                        <a:pt x="833" y="458"/>
                      </a:lnTo>
                      <a:lnTo>
                        <a:pt x="797" y="509"/>
                      </a:lnTo>
                      <a:lnTo>
                        <a:pt x="757" y="553"/>
                      </a:lnTo>
                      <a:lnTo>
                        <a:pt x="718" y="585"/>
                      </a:lnTo>
                      <a:lnTo>
                        <a:pt x="665" y="621"/>
                      </a:lnTo>
                      <a:lnTo>
                        <a:pt x="611" y="645"/>
                      </a:lnTo>
                      <a:lnTo>
                        <a:pt x="560" y="662"/>
                      </a:lnTo>
                      <a:lnTo>
                        <a:pt x="494" y="679"/>
                      </a:lnTo>
                      <a:lnTo>
                        <a:pt x="446" y="682"/>
                      </a:lnTo>
                      <a:lnTo>
                        <a:pt x="392" y="682"/>
                      </a:lnTo>
                      <a:lnTo>
                        <a:pt x="339" y="672"/>
                      </a:lnTo>
                      <a:lnTo>
                        <a:pt x="280" y="660"/>
                      </a:lnTo>
                      <a:lnTo>
                        <a:pt x="242" y="645"/>
                      </a:lnTo>
                      <a:lnTo>
                        <a:pt x="190" y="619"/>
                      </a:lnTo>
                      <a:lnTo>
                        <a:pt x="146" y="594"/>
                      </a:lnTo>
                      <a:lnTo>
                        <a:pt x="105" y="560"/>
                      </a:lnTo>
                      <a:lnTo>
                        <a:pt x="61" y="514"/>
                      </a:lnTo>
                      <a:lnTo>
                        <a:pt x="20" y="456"/>
                      </a:lnTo>
                      <a:lnTo>
                        <a:pt x="0" y="41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588000" y="2889360"/>
                <a:ext cx="1509840" cy="1435320"/>
                <a:chOff x="6588000" y="2889360"/>
                <a:chExt cx="1509840" cy="14353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672240" y="3964320"/>
                  <a:ext cx="371520" cy="360360"/>
                </a:xfrm>
                <a:custGeom>
                  <a:avLst/>
                  <a:gdLst/>
                  <a:ahLst/>
                  <a:rect l="l" t="t" r="r" b="b"/>
                  <a:pathLst>
                    <a:path w="234" h="227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8" y="80"/>
                      </a:lnTo>
                      <a:lnTo>
                        <a:pt x="73" y="112"/>
                      </a:lnTo>
                      <a:lnTo>
                        <a:pt x="112" y="150"/>
                      </a:lnTo>
                      <a:lnTo>
                        <a:pt x="141" y="174"/>
                      </a:lnTo>
                      <a:lnTo>
                        <a:pt x="179" y="198"/>
                      </a:lnTo>
                      <a:lnTo>
                        <a:pt x="233" y="226"/>
                      </a:lnTo>
                      <a:lnTo>
                        <a:pt x="172" y="143"/>
                      </a:lnTo>
                      <a:lnTo>
                        <a:pt x="138" y="123"/>
                      </a:lnTo>
                      <a:lnTo>
                        <a:pt x="114" y="106"/>
                      </a:lnTo>
                      <a:lnTo>
                        <a:pt x="78" y="82"/>
                      </a:lnTo>
                      <a:lnTo>
                        <a:pt x="51" y="56"/>
                      </a:lnTo>
                      <a:lnTo>
                        <a:pt x="29" y="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962840" y="3297600"/>
                  <a:ext cx="135000" cy="704880"/>
                </a:xfrm>
                <a:custGeom>
                  <a:avLst/>
                  <a:gdLst/>
                  <a:ahLst/>
                  <a:rect l="l" t="t" r="r" b="b"/>
                  <a:pathLst>
                    <a:path w="85" h="444">
                      <a:moveTo>
                        <a:pt x="16" y="0"/>
                      </a:moveTo>
                      <a:lnTo>
                        <a:pt x="32" y="30"/>
                      </a:lnTo>
                      <a:lnTo>
                        <a:pt x="42" y="56"/>
                      </a:lnTo>
                      <a:lnTo>
                        <a:pt x="54" y="83"/>
                      </a:lnTo>
                      <a:lnTo>
                        <a:pt x="62" y="109"/>
                      </a:lnTo>
                      <a:lnTo>
                        <a:pt x="68" y="133"/>
                      </a:lnTo>
                      <a:lnTo>
                        <a:pt x="80" y="176"/>
                      </a:lnTo>
                      <a:lnTo>
                        <a:pt x="84" y="218"/>
                      </a:lnTo>
                      <a:lnTo>
                        <a:pt x="81" y="283"/>
                      </a:lnTo>
                      <a:lnTo>
                        <a:pt x="76" y="327"/>
                      </a:lnTo>
                      <a:lnTo>
                        <a:pt x="67" y="362"/>
                      </a:lnTo>
                      <a:lnTo>
                        <a:pt x="53" y="400"/>
                      </a:lnTo>
                      <a:lnTo>
                        <a:pt x="34" y="443"/>
                      </a:lnTo>
                      <a:lnTo>
                        <a:pt x="0" y="359"/>
                      </a:lnTo>
                      <a:lnTo>
                        <a:pt x="16" y="323"/>
                      </a:lnTo>
                      <a:lnTo>
                        <a:pt x="23" y="303"/>
                      </a:lnTo>
                      <a:lnTo>
                        <a:pt x="32" y="278"/>
                      </a:lnTo>
                      <a:lnTo>
                        <a:pt x="37" y="252"/>
                      </a:lnTo>
                      <a:lnTo>
                        <a:pt x="42" y="212"/>
                      </a:lnTo>
                      <a:lnTo>
                        <a:pt x="45" y="179"/>
                      </a:lnTo>
                      <a:lnTo>
                        <a:pt x="45" y="130"/>
                      </a:lnTo>
                      <a:lnTo>
                        <a:pt x="37" y="85"/>
                      </a:lnTo>
                      <a:lnTo>
                        <a:pt x="29" y="49"/>
                      </a:lnTo>
                      <a:lnTo>
                        <a:pt x="25" y="29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270920" y="2889360"/>
                  <a:ext cx="527040" cy="214560"/>
                </a:xfrm>
                <a:custGeom>
                  <a:avLst/>
                  <a:gdLst/>
                  <a:ahLst/>
                  <a:rect l="l" t="t" r="r" b="b"/>
                  <a:pathLst>
                    <a:path w="332" h="135">
                      <a:moveTo>
                        <a:pt x="0" y="0"/>
                      </a:moveTo>
                      <a:lnTo>
                        <a:pt x="25" y="48"/>
                      </a:lnTo>
                      <a:lnTo>
                        <a:pt x="64" y="46"/>
                      </a:lnTo>
                      <a:lnTo>
                        <a:pt x="100" y="48"/>
                      </a:lnTo>
                      <a:lnTo>
                        <a:pt x="133" y="53"/>
                      </a:lnTo>
                      <a:lnTo>
                        <a:pt x="164" y="59"/>
                      </a:lnTo>
                      <a:lnTo>
                        <a:pt x="195" y="67"/>
                      </a:lnTo>
                      <a:lnTo>
                        <a:pt x="216" y="74"/>
                      </a:lnTo>
                      <a:lnTo>
                        <a:pt x="243" y="85"/>
                      </a:lnTo>
                      <a:lnTo>
                        <a:pt x="275" y="100"/>
                      </a:lnTo>
                      <a:lnTo>
                        <a:pt x="331" y="134"/>
                      </a:lnTo>
                      <a:lnTo>
                        <a:pt x="298" y="100"/>
                      </a:lnTo>
                      <a:lnTo>
                        <a:pt x="276" y="83"/>
                      </a:lnTo>
                      <a:lnTo>
                        <a:pt x="246" y="63"/>
                      </a:lnTo>
                      <a:lnTo>
                        <a:pt x="227" y="52"/>
                      </a:lnTo>
                      <a:lnTo>
                        <a:pt x="186" y="32"/>
                      </a:lnTo>
                      <a:lnTo>
                        <a:pt x="159" y="23"/>
                      </a:lnTo>
                      <a:lnTo>
                        <a:pt x="137" y="15"/>
                      </a:lnTo>
                      <a:lnTo>
                        <a:pt x="117" y="10"/>
                      </a:lnTo>
                      <a:lnTo>
                        <a:pt x="85" y="5"/>
                      </a:lnTo>
                      <a:lnTo>
                        <a:pt x="52" y="1"/>
                      </a:lnTo>
                      <a:lnTo>
                        <a:pt x="1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588000" y="3187800"/>
                  <a:ext cx="168480" cy="500040"/>
                </a:xfrm>
                <a:custGeom>
                  <a:avLst/>
                  <a:gdLst/>
                  <a:ahLst/>
                  <a:rect l="l" t="t" r="r" b="b"/>
                  <a:pathLst>
                    <a:path w="106" h="315">
                      <a:moveTo>
                        <a:pt x="0" y="241"/>
                      </a:moveTo>
                      <a:lnTo>
                        <a:pt x="2" y="217"/>
                      </a:lnTo>
                      <a:lnTo>
                        <a:pt x="4" y="190"/>
                      </a:lnTo>
                      <a:lnTo>
                        <a:pt x="11" y="147"/>
                      </a:lnTo>
                      <a:lnTo>
                        <a:pt x="19" y="113"/>
                      </a:lnTo>
                      <a:lnTo>
                        <a:pt x="31" y="82"/>
                      </a:lnTo>
                      <a:lnTo>
                        <a:pt x="45" y="50"/>
                      </a:lnTo>
                      <a:lnTo>
                        <a:pt x="58" y="26"/>
                      </a:lnTo>
                      <a:lnTo>
                        <a:pt x="75" y="0"/>
                      </a:lnTo>
                      <a:lnTo>
                        <a:pt x="105" y="41"/>
                      </a:lnTo>
                      <a:lnTo>
                        <a:pt x="88" y="65"/>
                      </a:lnTo>
                      <a:lnTo>
                        <a:pt x="75" y="87"/>
                      </a:lnTo>
                      <a:lnTo>
                        <a:pt x="64" y="107"/>
                      </a:lnTo>
                      <a:lnTo>
                        <a:pt x="49" y="135"/>
                      </a:lnTo>
                      <a:lnTo>
                        <a:pt x="39" y="161"/>
                      </a:lnTo>
                      <a:lnTo>
                        <a:pt x="33" y="185"/>
                      </a:lnTo>
                      <a:lnTo>
                        <a:pt x="26" y="209"/>
                      </a:lnTo>
                      <a:lnTo>
                        <a:pt x="21" y="236"/>
                      </a:lnTo>
                      <a:lnTo>
                        <a:pt x="17" y="268"/>
                      </a:lnTo>
                      <a:lnTo>
                        <a:pt x="14" y="301"/>
                      </a:lnTo>
                      <a:lnTo>
                        <a:pt x="8" y="314"/>
                      </a:lnTo>
                      <a:lnTo>
                        <a:pt x="0" y="24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6608880" y="2962440"/>
              <a:ext cx="1492200" cy="1430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546960" y="2846520"/>
              <a:ext cx="1492200" cy="1430280"/>
              <a:chOff x="6546960" y="2846520"/>
              <a:chExt cx="1492200" cy="1430280"/>
            </a:xfrm>
          </p:grpSpPr>
          <p:sp>
            <p:nvSpPr>
              <p:cNvPr id="168" name=""/>
              <p:cNvSpPr/>
              <p:nvPr/>
            </p:nvSpPr>
            <p:spPr>
              <a:xfrm>
                <a:off x="6567480" y="2868840"/>
                <a:ext cx="1449360" cy="1389240"/>
              </a:xfrm>
              <a:prstGeom prst="ellipse">
                <a:avLst/>
              </a:prstGeom>
              <a:noFill/>
              <a:ln w="5076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46960" y="2846520"/>
                <a:ext cx="1492200" cy="143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93040" y="2891160"/>
                <a:ext cx="1400040" cy="1342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7612200" y="4186080"/>
            <a:ext cx="763560" cy="1193760"/>
            <a:chOff x="7612200" y="4186080"/>
            <a:chExt cx="763560" cy="1193760"/>
          </a:xfrm>
        </p:grpSpPr>
        <p:sp>
          <p:nvSpPr>
            <p:cNvPr id="172" name=""/>
            <p:cNvSpPr/>
            <p:nvPr/>
          </p:nvSpPr>
          <p:spPr>
            <a:xfrm>
              <a:off x="7621560" y="4252680"/>
              <a:ext cx="727200" cy="1041480"/>
            </a:xfrm>
            <a:custGeom>
              <a:avLst/>
              <a:gdLst/>
              <a:ahLst/>
              <a:rect l="l" t="t" r="r" b="b"/>
              <a:pathLst>
                <a:path w="458" h="656">
                  <a:moveTo>
                    <a:pt x="0" y="48"/>
                  </a:moveTo>
                  <a:lnTo>
                    <a:pt x="324" y="655"/>
                  </a:lnTo>
                  <a:lnTo>
                    <a:pt x="457" y="588"/>
                  </a:lnTo>
                  <a:lnTo>
                    <a:pt x="131" y="0"/>
                  </a:lnTo>
                  <a:lnTo>
                    <a:pt x="0" y="48"/>
                  </a:lnTo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13640" y="4186080"/>
              <a:ext cx="233640" cy="22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4" y="13863"/>
                  </a:moveTo>
                  <a:arcTo wR="10800" hR="10800" stAng="9811387" swAng="10725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444" y="13863"/>
                  </a:moveTo>
                  <a:arcTo wR="10800" hR="10800" stAng="9811387" swAng="10725288"/>
                </a:path>
              </a:pathLst>
            </a:custGeom>
            <a:solidFill>
              <a:srgbClr val="5f3f1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1560" y="42066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" y="11985"/>
                  </a:moveTo>
                  <a:arcTo wR="10800" hR="10800" stAng="10422191" swAng="10018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65" y="11985"/>
                  </a:moveTo>
                  <a:arcTo wR="10800" hR="10800" stAng="10422191" swAng="10018853"/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15080" y="4206600"/>
              <a:ext cx="138240" cy="268560"/>
            </a:xfrm>
            <a:custGeom>
              <a:avLst/>
              <a:gdLst/>
              <a:ahLst/>
              <a:rect l="l" t="t" r="r" b="b"/>
              <a:pathLst>
                <a:path w="87" h="169">
                  <a:moveTo>
                    <a:pt x="2" y="78"/>
                  </a:moveTo>
                  <a:lnTo>
                    <a:pt x="0" y="67"/>
                  </a:lnTo>
                  <a:lnTo>
                    <a:pt x="0" y="56"/>
                  </a:lnTo>
                  <a:lnTo>
                    <a:pt x="1" y="47"/>
                  </a:lnTo>
                  <a:lnTo>
                    <a:pt x="4" y="34"/>
                  </a:lnTo>
                  <a:lnTo>
                    <a:pt x="9" y="24"/>
                  </a:lnTo>
                  <a:lnTo>
                    <a:pt x="17" y="14"/>
                  </a:lnTo>
                  <a:lnTo>
                    <a:pt x="25" y="6"/>
                  </a:lnTo>
                  <a:lnTo>
                    <a:pt x="33" y="0"/>
                  </a:lnTo>
                  <a:lnTo>
                    <a:pt x="86" y="91"/>
                  </a:lnTo>
                  <a:lnTo>
                    <a:pt x="77" y="97"/>
                  </a:lnTo>
                  <a:lnTo>
                    <a:pt x="70" y="103"/>
                  </a:lnTo>
                  <a:lnTo>
                    <a:pt x="64" y="110"/>
                  </a:lnTo>
                  <a:lnTo>
                    <a:pt x="59" y="118"/>
                  </a:lnTo>
                  <a:lnTo>
                    <a:pt x="53" y="133"/>
                  </a:lnTo>
                  <a:lnTo>
                    <a:pt x="50" y="152"/>
                  </a:lnTo>
                  <a:lnTo>
                    <a:pt x="50" y="168"/>
                  </a:lnTo>
                  <a:lnTo>
                    <a:pt x="2" y="78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12200" y="4187160"/>
              <a:ext cx="23436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3" y="13578"/>
                  </a:moveTo>
                  <a:arcTo wR="10800" hR="10800" stAng="9905654" swAng="5076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63" y="13578"/>
                  </a:moveTo>
                  <a:arcTo wR="10800" hR="10800" stAng="9905654" swAng="50761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91400" y="4332240"/>
              <a:ext cx="235440" cy="22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" y="13541"/>
                  </a:moveTo>
                  <a:arcTo wR="10800" hR="10800" stAng="9917737" swAng="10619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" y="13541"/>
                  </a:moveTo>
                  <a:arcTo wR="10800" hR="10800" stAng="9917737" swAng="10619810"/>
                </a:path>
              </a:pathLst>
            </a:custGeom>
            <a:solidFill>
              <a:srgbClr val="7f3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702560" y="4352760"/>
              <a:ext cx="245160" cy="246960"/>
              <a:chOff x="7702560" y="4352760"/>
              <a:chExt cx="245160" cy="2469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702560" y="4352760"/>
                <a:ext cx="233640" cy="222120"/>
                <a:chOff x="7702560" y="4352760"/>
                <a:chExt cx="233640" cy="222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704000" y="4357440"/>
                  <a:ext cx="225360" cy="20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5"/>
                      </a:moveTo>
                      <a:arcTo wR="10800" hR="10800" stAng="10076786" swAng="106888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5"/>
                      </a:moveTo>
                      <a:arcTo wR="10800" hR="10800" stAng="10076786" swAng="10688888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705800" y="4358160"/>
                  <a:ext cx="225000" cy="20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5"/>
                      </a:moveTo>
                      <a:arcTo wR="10800" hR="10800" stAng="10076786" swAng="44217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5"/>
                      </a:moveTo>
                      <a:arcTo wR="10800" hR="10800" stAng="10076786" swAng="4421744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702560" y="4352760"/>
                  <a:ext cx="23364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79" y="13238"/>
                      </a:moveTo>
                      <a:arcTo wR="10800" hR="10800" stAng="10017277" swAng="106825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79" y="13238"/>
                      </a:moveTo>
                      <a:arcTo wR="10800" hR="10800" stAng="10017277" swAng="106825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7713720" y="4378320"/>
                <a:ext cx="234000" cy="22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90" y="13287"/>
                    </a:moveTo>
                    <a:arcTo wR="10800" hR="10800" stAng="10001281" swAng="10644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90" y="13287"/>
                    </a:moveTo>
                    <a:arcTo wR="10800" hR="10800" stAng="10001281" swAng="10644480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24880" y="4397400"/>
              <a:ext cx="244800" cy="244800"/>
              <a:chOff x="7724880" y="4397400"/>
              <a:chExt cx="244800" cy="2448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724880" y="4397400"/>
                <a:ext cx="233640" cy="218880"/>
                <a:chOff x="7724880" y="4397400"/>
                <a:chExt cx="233640" cy="2188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26320" y="4402080"/>
                  <a:ext cx="225000" cy="20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6" y="12901"/>
                      </a:moveTo>
                      <a:arcTo wR="10800" hR="10800" stAng="10127086" swAng="10638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6" y="12901"/>
                      </a:moveTo>
                      <a:arcTo wR="10800" hR="10800" stAng="10127086" swAng="10638588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728120" y="4403520"/>
                  <a:ext cx="225000" cy="21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6" y="12901"/>
                      </a:moveTo>
                      <a:arcTo wR="10800" hR="10800" stAng="10127086" swAng="43294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6" y="12901"/>
                      </a:moveTo>
                      <a:arcTo wR="10800" hR="10800" stAng="10127086" swAng="4329463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724880" y="4397400"/>
                  <a:ext cx="233640" cy="218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0" y="13108"/>
                      </a:moveTo>
                      <a:arcTo wR="10800" hR="10800" stAng="10059543" swAng="10634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0" y="13108"/>
                      </a:moveTo>
                      <a:arcTo wR="10800" hR="10800" stAng="10059543" swAng="1063408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7736040" y="4419360"/>
                <a:ext cx="23364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" y="13238"/>
                    </a:moveTo>
                    <a:arcTo wR="10800" hR="10800" stAng="10017277" swAng="106825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" y="13238"/>
                    </a:moveTo>
                    <a:arcTo wR="10800" hR="10800" stAng="10017277" swAng="10682534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751880" y="4443120"/>
              <a:ext cx="225000" cy="212040"/>
              <a:chOff x="7751880" y="4443120"/>
              <a:chExt cx="225000" cy="212040"/>
            </a:xfrm>
          </p:grpSpPr>
          <p:sp>
            <p:nvSpPr>
              <p:cNvPr id="191" name=""/>
              <p:cNvSpPr/>
              <p:nvPr/>
            </p:nvSpPr>
            <p:spPr>
              <a:xfrm>
                <a:off x="7751880" y="4443120"/>
                <a:ext cx="224640" cy="20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" y="12744"/>
                    </a:moveTo>
                    <a:arcTo wR="10800" hR="10800" stAng="10177680" swAng="106382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" y="12744"/>
                    </a:moveTo>
                    <a:arcTo wR="10800" hR="10800" stAng="10177680" swAng="10638294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51880" y="4444560"/>
                <a:ext cx="225000" cy="21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" y="12744"/>
                    </a:moveTo>
                    <a:arcTo wR="10800" hR="10800" stAng="10177680" swAng="42788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" y="12744"/>
                    </a:moveTo>
                    <a:arcTo wR="10800" hR="10800" stAng="10177680" swAng="4278869"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746840" y="4438440"/>
              <a:ext cx="246600" cy="244080"/>
              <a:chOff x="7746840" y="4438440"/>
              <a:chExt cx="246600" cy="244080"/>
            </a:xfrm>
          </p:grpSpPr>
          <p:sp>
            <p:nvSpPr>
              <p:cNvPr id="194" name=""/>
              <p:cNvSpPr/>
              <p:nvPr/>
            </p:nvSpPr>
            <p:spPr>
              <a:xfrm>
                <a:off x="7746840" y="4438440"/>
                <a:ext cx="2368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" y="12947"/>
                    </a:moveTo>
                    <a:arcTo wR="10800" hR="10800" stAng="10112154" swAng="106356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" y="12947"/>
                    </a:moveTo>
                    <a:arcTo wR="10800" hR="10800" stAng="10112154" swAng="1063565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59800" y="4460760"/>
                <a:ext cx="233640" cy="22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" y="12946"/>
                    </a:moveTo>
                    <a:arcTo wR="10800" hR="10800" stAng="10112353" swAng="105874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" y="12946"/>
                    </a:moveTo>
                    <a:arcTo wR="10800" hR="10800" stAng="10112353" swAng="10587458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621560" y="4255920"/>
              <a:ext cx="727200" cy="1044720"/>
              <a:chOff x="7621560" y="4255920"/>
              <a:chExt cx="727200" cy="1044720"/>
            </a:xfrm>
          </p:grpSpPr>
          <p:sp>
            <p:nvSpPr>
              <p:cNvPr id="197" name=""/>
              <p:cNvSpPr/>
              <p:nvPr/>
            </p:nvSpPr>
            <p:spPr>
              <a:xfrm>
                <a:off x="7832880" y="4255920"/>
                <a:ext cx="515880" cy="9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21560" y="4330440"/>
                <a:ext cx="517680" cy="9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770960" y="4479840"/>
              <a:ext cx="236880" cy="233280"/>
              <a:chOff x="7770960" y="4479840"/>
              <a:chExt cx="236880" cy="233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7773840" y="4486320"/>
                <a:ext cx="225720" cy="212400"/>
                <a:chOff x="7773840" y="4486320"/>
                <a:chExt cx="225720" cy="2124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73840" y="4486320"/>
                  <a:ext cx="22500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9" y="12587"/>
                      </a:moveTo>
                      <a:arcTo wR="10800" hR="10800" stAng="10228549" swAng="105874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9" y="12587"/>
                      </a:moveTo>
                      <a:arcTo wR="10800" hR="10800" stAng="10228549" swAng="1058742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773840" y="4486320"/>
                  <a:ext cx="225720" cy="21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9" y="12587"/>
                      </a:moveTo>
                      <a:arcTo wR="10800" hR="10800" stAng="10228549" swAng="42699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9" y="12587"/>
                      </a:moveTo>
                      <a:arcTo wR="10800" hR="10800" stAng="10228549" swAng="4269982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7770960" y="4479840"/>
                <a:ext cx="2340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9" y="12812"/>
                    </a:moveTo>
                    <a:arcTo wR="10800" hR="10800" stAng="10155807" swAng="106454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9" y="12812"/>
                    </a:moveTo>
                    <a:arcTo wR="10800" hR="10800" stAng="10155807" swAng="1064547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85000" y="4503600"/>
                <a:ext cx="222840" cy="20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6" y="13225"/>
                    </a:moveTo>
                    <a:arcTo wR="10800" hR="10800" stAng="10021308" swAng="106248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6" y="13225"/>
                    </a:moveTo>
                    <a:arcTo wR="10800" hR="10800" stAng="10021308" swAng="10624822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778880" y="4508280"/>
              <a:ext cx="449280" cy="770040"/>
            </a:xfrm>
            <a:custGeom>
              <a:avLst/>
              <a:gdLst/>
              <a:ahLst/>
              <a:rect l="l" t="t" r="r" b="b"/>
              <a:pathLst>
                <a:path w="283" h="485">
                  <a:moveTo>
                    <a:pt x="36" y="0"/>
                  </a:moveTo>
                  <a:lnTo>
                    <a:pt x="25" y="7"/>
                  </a:lnTo>
                  <a:lnTo>
                    <a:pt x="17" y="13"/>
                  </a:lnTo>
                  <a:lnTo>
                    <a:pt x="10" y="21"/>
                  </a:lnTo>
                  <a:lnTo>
                    <a:pt x="7" y="29"/>
                  </a:lnTo>
                  <a:lnTo>
                    <a:pt x="4" y="38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219" y="484"/>
                  </a:lnTo>
                  <a:lnTo>
                    <a:pt x="282" y="441"/>
                  </a:lnTo>
                  <a:lnTo>
                    <a:pt x="36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32760" y="5146560"/>
              <a:ext cx="243000" cy="233280"/>
            </a:xfrm>
            <a:prstGeom prst="ellipse">
              <a:avLst/>
            </a:prstGeom>
            <a:solidFill>
              <a:srgbClr val="7f5f3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924520" y="303696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79720" y="4130640"/>
            <a:ext cx="2141640" cy="1106280"/>
            <a:chOff x="2979720" y="4130640"/>
            <a:chExt cx="2141640" cy="1106280"/>
          </a:xfrm>
        </p:grpSpPr>
        <p:sp>
          <p:nvSpPr>
            <p:cNvPr id="209" name=""/>
            <p:cNvSpPr/>
            <p:nvPr/>
          </p:nvSpPr>
          <p:spPr>
            <a:xfrm>
              <a:off x="2979720" y="4387680"/>
              <a:ext cx="1571760" cy="58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0800000"/>
            </a:gradFill>
            <a:ln w="507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65600" y="4130640"/>
              <a:ext cx="1355760" cy="1106280"/>
            </a:xfrm>
            <a:custGeom>
              <a:avLst/>
              <a:gdLst/>
              <a:ahLst/>
              <a:rect l="l" t="t" r="r" b="b"/>
              <a:pathLst>
                <a:path w="854" h="697">
                  <a:moveTo>
                    <a:pt x="541" y="164"/>
                  </a:moveTo>
                  <a:lnTo>
                    <a:pt x="0" y="164"/>
                  </a:lnTo>
                  <a:lnTo>
                    <a:pt x="0" y="532"/>
                  </a:lnTo>
                  <a:lnTo>
                    <a:pt x="557" y="532"/>
                  </a:lnTo>
                  <a:lnTo>
                    <a:pt x="557" y="696"/>
                  </a:lnTo>
                  <a:lnTo>
                    <a:pt x="853" y="355"/>
                  </a:lnTo>
                  <a:lnTo>
                    <a:pt x="541" y="0"/>
                  </a:lnTo>
                  <a:lnTo>
                    <a:pt x="541" y="16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0800000"/>
            </a:gradFill>
            <a:ln cap="rnd" w="507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386160" y="3844800"/>
            <a:ext cx="633240" cy="1179360"/>
            <a:chOff x="3386160" y="3844800"/>
            <a:chExt cx="633240" cy="1179360"/>
          </a:xfrm>
        </p:grpSpPr>
        <p:graphicFrame>
          <p:nvGraphicFramePr>
            <p:cNvPr id="212" name=""/>
            <p:cNvGraphicFramePr/>
            <p:nvPr/>
          </p:nvGraphicFramePr>
          <p:xfrm>
            <a:off x="3433680" y="3905280"/>
            <a:ext cx="585720" cy="1118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33680" y="3905280"/>
                      <a:ext cx="58572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3386160" y="3844800"/>
            <a:ext cx="585720" cy="111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6160" y="3844800"/>
                      <a:ext cx="585720" cy="11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"/>
          <p:cNvSpPr/>
          <p:nvPr/>
        </p:nvSpPr>
        <p:spPr>
          <a:xfrm>
            <a:off x="3230640" y="4975200"/>
            <a:ext cx="116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ign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Public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7720" y="6019920"/>
            <a:ext cx="83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Integrity: One bit change in the content changes the di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39152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hat Solutions do Digital Signatures provide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179000"/>
            <a:ext cx="7159680" cy="51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Guarantee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Integrity of document</a:t>
            </a:r>
            <a:br>
              <a:rPr sz="34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bit change in document changes the dig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Authentication of sender</a:t>
            </a:r>
            <a:br>
              <a:rPr sz="34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gner’s public key decrypts digest sent and decrypted digest matches computed dig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Non-repudiation</a:t>
            </a:r>
            <a:br>
              <a:rPr sz="34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signer’s private key can encrypt digest that is decrypted by his/her public key and matches the computed digest.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Non-repudiation prevents reneging on an agreement by denying a transaction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CF73-D286-40CA-A988-9C383249F478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w do different Technologies Address the main Security Challenges for E-government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Security%20Technologies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6858000" cy="56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2735-4FC8-4F7A-B52A-55EBC0622B1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3915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ow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m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or Secu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Trus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Security%20Growth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719136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4509-E509-4779-BD46-AEE6A9867E0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flected in growth projections for PK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KI%20Growth%20by%20Region%20copy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6476760" cy="56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3AFF-96ED-4302-BC0E-25D533D157D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ut Why PKI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t’s Not about Waging a Technology W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 Issue is about Providing Solu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KI%20components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6019560" cy="433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A9E5-48B1-40C9-ADBF-04F9B122239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KI Addresses Many Security and Trust Issues  for Building Confidence in E-governmen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520" y="990720"/>
            <a:ext cx="7162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ccessed only by those autho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formation added, changed, or taken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ong Authent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are who they pretend to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-repu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or cannot deny ori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rastructure of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ng the checking of id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chanism to prevent Re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combined with Time St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07D2-7A24-43E6-99EB-D0F6EB0DA7E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t To Assist DCs we must Learn from the Experiences of Industrialized Countri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81080" y="18284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What are the issues facing industrialized countries with PKIs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Can developing countries avoid these pitfalls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5DC9-37DD-4C31-B3F3-BB55A855CEE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me PKI Challenges faced by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dustrialized Countries?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echnology-Level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nteroperability Between Different PKI Vend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fferent Approaches to Address CA-CA Interoperability Challen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tor-Specific Strategies for Identity Certificates Leading to Non-interoperability of Digital Signatures Across PKI Domains (e.g., for Health, Finance and Busines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ognition of Certificates across Geographical Boundaries.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National Identities or National Passport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5831-AE4D-498D-AA14-035F160CC3E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28440" y="19051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But Why?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2057400"/>
            <a:ext cx="7391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66"/>
                </a:solidFill>
                <a:latin typeface="Times New Roman"/>
              </a:rPr>
              <a:t>A Holistic Approach to Building Confidence is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i="1" lang="en-US" sz="4900" spc="-1" strike="noStrike" u="sng">
                <a:solidFill>
                  <a:srgbClr val="000066"/>
                </a:solidFill>
                <a:uFillTx/>
                <a:latin typeface="Times New Roman"/>
              </a:rPr>
              <a:t>Key</a:t>
            </a:r>
            <a:r>
              <a:rPr b="1" i="1" lang="en-US" sz="4900" spc="-1" strike="noStrike">
                <a:solidFill>
                  <a:srgbClr val="000066"/>
                </a:solidFill>
                <a:latin typeface="Times New Roman"/>
              </a:rPr>
              <a:t> Driver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66"/>
                </a:solidFill>
                <a:latin typeface="Times New Roman"/>
              </a:rPr>
              <a:t>for E-government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89AC-96CB-409C-85CE-04E5095805EC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me Possible Approaches to Build Confidence in e-government for Developing Countrie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2880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neric Identity Certificat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ublic Key Infrastructure (PKI) for Generic Identity Certificates (digital ID card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rehensive Certificate Policies for CA-CA Interoperabi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ttribute or Privilege Certific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tablishment of Privilege Management Infrastructures (PMI) for Sector Specific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tablishment of Frame work for Relationship between AA and C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echnology Level Interoper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-CA and CA-RA 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ED97-C5CD-4AC8-96BC-51A7D7052E4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ild Trust Where is Exists!</a:t>
            </a:r>
            <a:br>
              <a:rPr sz="2800"/>
            </a:b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neric Identity Framework for All Secto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E-Security%20-%20Role-based%20model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548640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309F-1C68-4CF0-B0BD-E69DCCE8670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t DCs still face many challenges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…Just to list a few of them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w Level of Awareness on Security/Trust Technologies and their role as a key driver for e-govern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uman and Financial Resources to Establish PK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ropriate Business Models for Sustainability and Investments in PK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ndards and/or Profiles to ensure for Multi-Vendor Interoperabi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olicy-Level Interoperability for PKI Domains and Jurisdi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aling with Liabilities, Risks, Insurance, Legal and Policy Framework for PKI Servi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1A60-19E1-4FAF-963D-A0F47BA8446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w is ITU-D Assisting DCs in e-government?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TU-D Istanbul Action Plan (IsA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9056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ic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stance in Addressing National/Regional e-applications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056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jec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jects on E-government Infrastructure and Applications/Servi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056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in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ilding Human Capacity and Awareness on e-Security and E-govern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056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viron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stance in Legal Issues for E-Applications and Conducive Environ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056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uidelin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U-D Study Group Questions to Provide guidelines on E-Applications (including e-government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40D3-D781-4417-A436-0BA0599462E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clusion – Is there Any Hope for e-government services in Developing Countrie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elecommunications and ICTs can enhance government services by creating efficiencies and reaching the population in remote are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-government can stimulate the development of ICTs and telecommunication infrastructure in DC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t for this to happen, decision-makers and users must have confidence in the use of this new channel for the delivery of government servi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DE3E-332A-4F53-A250-7A6F29CBE95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33360" y="18288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0000"/>
                </a:solidFill>
                <a:latin typeface="Times New Roman"/>
              </a:rPr>
              <a:t>Thank You 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0000"/>
                </a:solidFill>
                <a:latin typeface="Times New Roman"/>
              </a:rPr>
              <a:t>for Your Attention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or further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b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itu.int/ITU-D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/e-strate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mail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strategy@itu.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C9B2-C75C-4DD9-B665-7F7574B8B8AE}" type="slidenum">
              <a:t>25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066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…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e challenges for DCs are not just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imited to technology and ac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2437920"/>
            <a:ext cx="7391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4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Security</a:t>
            </a:r>
            <a:r>
              <a:rPr b="0" i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lays a central role in building user confidence for e-government servi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69E7-CDBA-4F85-B7DC-84B50387ED63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ecurity concerns for e-applications are quite high in the priorities of Developing Count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81080" y="1447920"/>
          <a:ext cx="7162920" cy="40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47920"/>
                    <a:ext cx="716292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133720" y="5715000"/>
            <a:ext cx="67816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ITU-D Survey (March 2003) on Challenge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-Transactions. WTDC02 IsAP Programme3 -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C11F-0D87-4063-8A3D-49D465FC58B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TUlogo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90720" y="160020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371600"/>
            <a:ext cx="7315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An entity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, can be said to trust another entity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 makes the assumption that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 will behave exactly as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 exp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Its about having confidence in government services provided via Telecommunications/IC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495288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at is TRUST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4750-C04D-4366-81EB-16387BA556E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489040"/>
            <a:ext cx="914400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57400" y="1143000"/>
          <a:ext cx="7086600" cy="4721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143000"/>
                    <a:ext cx="708660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752480" y="58672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…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but in e-government, it is import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Know if you are dealing with a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Knowing who you are dealing with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mains a major concer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1DE0-1E45-4D30-B567-1D8E17A7562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re some of the security concern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066320"/>
            <a:ext cx="7391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ty Interceptio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The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bservation of identities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municating parties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for mis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 Interceptio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The observation of user data during a communication by an unauthorized us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nipulation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he interception and modification of information in a private communi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querad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retending to be another user to access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formation or to acquire additional privile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la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recording and subsequent replay of a communication at some later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udiatio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denial by a user of having participated in part or all of a communi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nial of Servic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prevention or interruption of a communication or the delay of time-critical operation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ffic Analysi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authorized analysis and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bservation of information (e.g. frequency, sequence, type, amount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7804-2C4D-4A16-BFCF-94E5BFAB44A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Map some of the Security/Trust Issues to Possible Solutions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ty Intercep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fidentiality (Strong Encryptio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 Intercep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Confidentiality (Strong Encryption)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nipulation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Data Integrity (Digital Signatur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quera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uthentication (Digital Certifica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la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gital Signatures + with Time Stamp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udi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gital Signatures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nial of Servi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uthentication and Access Contr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ffic Analy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ong Encryption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0C79-B2EB-425A-8B06-884EFB83A85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clear that identity verification/management plays a crucial role in addressing many of these problems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X.509%20format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6013440" cy="55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2DC0-F7CA-40C9-B1AC-E17B0E31D19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8:02:55Z</dcterms:created>
  <dc:creator>Alexander NTOKO</dc:creator>
  <dc:description/>
  <dc:language>en-US</dc:language>
  <cp:lastModifiedBy>ntoko</cp:lastModifiedBy>
  <cp:lastPrinted>2000-10-20T14:38:58Z</cp:lastPrinted>
  <dcterms:modified xsi:type="dcterms:W3CDTF">2003-05-28T12:31:34Z</dcterms:modified>
  <cp:revision>213</cp:revision>
  <dc:subject/>
  <dc:title>Securing Electronic Transactions</dc:title>
</cp:coreProperties>
</file>