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97E-9064-4206-B0D3-E0299EE2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7562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02C-3C44-4BB1-AB32-FE43382E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8800" y="37562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B57A-A04B-48F1-BDF0-3F9D6381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4520" y="14479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9920" y="14479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7562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4520" y="37562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9920" y="37562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0724-A6ED-48CA-939D-117CBDE5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8638-55F6-4BF6-B350-0A04C4A4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2A1E-333A-48D4-AF81-FD6A2A71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4458-B308-4094-8949-DAFB672C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706D-60DD-4288-A734-712B7E5D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7C83-1AFF-4AA4-BF23-8E88ABB7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AC76-8290-4A7E-AAD0-7DB01A6B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3240-9D63-4CDB-9B4B-21BC1788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A806-964F-4B21-A0E3-C0E1DE61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708800" y="37562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FD69-18D3-42EA-B082-22A769D4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F089-3494-444D-A801-CBED02CB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09120" y="37562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60C4-B646-4E5F-A750-684F6F15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708800" y="37562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260C-1BF1-4DCE-93BD-39388A0F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4520" y="14479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19920" y="14479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09120" y="37562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4520" y="37562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19920" y="37562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4470-712A-43C5-918D-F11DECCB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56ED-6EBC-4522-A419-4168E1C8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EB5D-834E-4D76-AFC6-E0510A7A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165-B483-4A72-937E-AAC32400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873-1E73-47B9-A976-ABF24F0A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58D1-B9E8-426A-BE11-91D3A91E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8800" y="37562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F50-D8BD-4E13-A0CB-962AFB07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5826-0011-48F8-A1E8-7E08B8AF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066320" y="62485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ITU-T Study Group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66320" y="6324120"/>
            <a:ext cx="1676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324120"/>
            <a:ext cx="1600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95FB-E1C9-4E67-9F91-16C1CE7075A2}" type="slidenum">
              <a:rPr b="0" lang="en-GB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TU_Logo" descr=""/>
          <p:cNvPicPr/>
          <p:nvPr/>
        </p:nvPicPr>
        <p:blipFill>
          <a:blip r:embed="rId2"/>
          <a:stretch/>
        </p:blipFill>
        <p:spPr>
          <a:xfrm>
            <a:off x="304920" y="6100920"/>
            <a:ext cx="620640" cy="68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45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0686-FBE1-4CAD-BD21-1032C5FB25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ITU_Logo" descr=""/>
          <p:cNvPicPr/>
          <p:nvPr/>
        </p:nvPicPr>
        <p:blipFill>
          <a:blip r:embed="rId2"/>
          <a:stretch/>
        </p:blipFill>
        <p:spPr>
          <a:xfrm>
            <a:off x="4114800" y="533520"/>
            <a:ext cx="12492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  <a:p>
            <a:pPr lvl="1" marL="443160" indent="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2" marL="886680" algn="ctr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3" marL="1330200" algn="ctr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4" marL="1773720" algn="ctr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5" marL="17737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6" marL="17737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cc"/>
                </a:solidFill>
                <a:latin typeface="Times New Roman"/>
              </a:rPr>
              <a:t>Requirements on ITU-T Languages</a:t>
            </a:r>
            <a:endParaRPr b="0" lang="en-US" sz="3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828800" y="39625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Amardeo Sarma</a:t>
            </a:r>
            <a:br>
              <a:rPr sz="2800"/>
            </a:b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Co-Chairman, ITU-T Study Group 17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4400" spc="-1" strike="noStrike">
                <a:solidFill>
                  <a:srgbClr val="0000cc"/>
                </a:solidFill>
                <a:latin typeface="Times New Roman"/>
              </a:rPr>
              <a:t>Input for Language developmen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Simplify ASN.1, SDL, MSC and TTCN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Regain intuitive (graphical) use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Abstract (more convenient) view for standards developers w.r.t. ASN.1, SDL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Combine ASN.1, SDL, MSC and TTCN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No more independent development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Same applies to eODL, URN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Provide professional support and more (free) tool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4400" spc="-1" strike="noStrike">
                <a:solidFill>
                  <a:srgbClr val="0000cc"/>
                </a:solidFill>
                <a:latin typeface="Times New Roman"/>
              </a:rPr>
              <a:t>Strategic argument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660066"/>
                </a:solidFill>
                <a:latin typeface="Times New Roman"/>
              </a:rPr>
              <a:t>Use the crisis to push ASN.1, SDL, MSC and TTC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660066"/>
                </a:solidFill>
                <a:latin typeface="Times New Roman"/>
              </a:rPr>
              <a:t>Use the increased requirements on security (and dependability)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660066"/>
                </a:solidFill>
                <a:latin typeface="Times New Roman"/>
              </a:rPr>
              <a:t>Keep IPR even when people leav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660066"/>
                </a:solidFill>
                <a:latin typeface="Times New Roman"/>
              </a:rPr>
              <a:t>Do protocol modelling examples (ITU-T and IETF)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07:23:15Z</dcterms:created>
  <dc:creator>Roberto Wilson Meirelles de Castro</dc:creator>
  <dc:description/>
  <dc:language>en-US</dc:language>
  <cp:lastModifiedBy>Ansatt i</cp:lastModifiedBy>
  <dcterms:modified xsi:type="dcterms:W3CDTF">2002-11-26T12:39:26Z</dcterms:modified>
  <cp:revision>304</cp:revision>
  <dc:subject/>
  <dc:title>PowerPoint Presentation</dc:title>
</cp:coreProperties>
</file>