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02880" y="4722480"/>
            <a:ext cx="4962600" cy="4476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877680" y="863640"/>
            <a:ext cx="5013000" cy="347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17560" y="836640"/>
            <a:ext cx="5137200" cy="3556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166760" y="4441680"/>
            <a:ext cx="4448160" cy="1789920"/>
          </a:xfrm>
          <a:prstGeom prst="rect">
            <a:avLst/>
          </a:prstGeom>
          <a:noFill/>
          <a:ln w="0">
            <a:noFill/>
          </a:ln>
        </p:spPr>
        <p:txBody>
          <a:bodyPr lIns="65520" rIns="65520" tIns="26280" bIns="26280" anchor="t">
            <a:noAutofit/>
          </a:bodyPr>
          <a:p>
            <a:pPr marL="20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logu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rst let us look at the aspects which must be covered in order to obtain reuse of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use is more than just u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int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gn for reuse has to do with the anticipation of future us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gn with reuse has to do with adaptation to existing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ification is the art of database management and of librarian skil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ganization is rewarding, motivating, putting people together, recognition. In many cases organizations oppose reus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90640" y="873000"/>
            <a:ext cx="4989600" cy="3454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63720" y="4573080"/>
            <a:ext cx="4992480" cy="41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note the three areas of concern: domain, family, instance. There are good reasons for th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helps to understand the problem and to communicate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any wants to produce many system instances as cost-effectively as possible, this is done in the instanc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amily area we develop  the design and prepare for instantiation. We also maintain and evolve here. This is the core product base - the capital of a company. (some companies do not have a clear picture of this capital, only a series of system instan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note the langu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languages are like notes. Knowing notes does not make you a good composer. Knowing the languages does not make you a good design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parts of the family, and in particular the division into application framework and architecture. Like separating the melody from the arrangement and the orchestra  in music: they give you a separation between the essential and the accident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: Application = melody; Framework = arrangement; Architecture = orches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7631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2764080"/>
            <a:ext cx="87631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276408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99760" y="276408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8213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2280" y="1142640"/>
            <a:ext cx="28213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35080" y="1142640"/>
            <a:ext cx="28213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2764080"/>
            <a:ext cx="28213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2280" y="2764080"/>
            <a:ext cx="28213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35080" y="2764080"/>
            <a:ext cx="28213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763120" cy="31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763120" cy="3103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276080" cy="3103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276080" cy="3103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8763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276080" cy="3103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276408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276080" cy="3103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99760" y="276408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2764080"/>
            <a:ext cx="87631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8763120" cy="310356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601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942840" indent="-269640">
              <a:spcBef>
                <a:spcPts val="601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3" marL="1322280" indent="-271440">
              <a:spcBef>
                <a:spcPts val="601"/>
              </a:spcBef>
              <a:buClr>
                <a:srgbClr val="00279f"/>
              </a:buClr>
              <a:buFont typeface="Arial"/>
              <a:buChar char="–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4" marL="1700280" indent="-2700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5" marL="170028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6" marL="170028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55000" y="6689880"/>
            <a:ext cx="1469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440" rIns="14544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fld id="{E4C22585-B1D2-4D2C-B2DF-20BD5B25177B}" type="slidenum">
              <a:rPr b="1" lang="nb-NO" sz="6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r>
              <a:rPr b="1" lang="nb-NO" sz="600" spc="-1" strike="noStrike">
                <a:solidFill>
                  <a:srgbClr val="003399"/>
                </a:solidFill>
                <a:latin typeface="Arial"/>
              </a:rPr>
              <a:t> - </a:t>
            </a:r>
            <a:fld id="{7B90A994-797E-479A-8981-593B0182FDAA}" type="datetime">
              <a:rPr b="1" lang="nb-NO" sz="600" spc="-1" strike="noStrike">
                <a:solidFill>
                  <a:srgbClr val="003399"/>
                </a:solidFill>
                <a:latin typeface="Arial"/>
              </a:rPr>
              <a:t>29.07.26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1039680" y="6461280"/>
            <a:ext cx="8337600" cy="1440"/>
          </a:xfrm>
          <a:prstGeom prst="line">
            <a:avLst/>
          </a:prstGeom>
          <a:ln w="22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38240" y="6515280"/>
            <a:ext cx="8339040" cy="0"/>
          </a:xfrm>
          <a:prstGeom prst="line">
            <a:avLst/>
          </a:prstGeom>
          <a:ln w="442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NTEF" descr=""/>
          <p:cNvPicPr/>
          <p:nvPr/>
        </p:nvPicPr>
        <p:blipFill>
          <a:blip r:embed="rId2"/>
          <a:stretch/>
        </p:blipFill>
        <p:spPr>
          <a:xfrm>
            <a:off x="522360" y="6129360"/>
            <a:ext cx="1266840" cy="439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514600" y="6278400"/>
            <a:ext cx="48006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200" spc="-1" strike="noStrike">
                <a:solidFill>
                  <a:srgbClr val="00279f"/>
                </a:solidFill>
                <a:latin typeface="Arial"/>
              </a:rPr>
              <a:t>ITU-T SG 17 Workshop “Use of Description Techniques”</a:t>
            </a:r>
            <a:r>
              <a:rPr b="1" lang="nb-NO" sz="1200" spc="-1" strike="noStrike">
                <a:solidFill>
                  <a:srgbClr val="00279f"/>
                </a:solidFill>
                <a:latin typeface="Arial"/>
              </a:rPr>
              <a:t>, Geneva 23rd November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xperiences in teaching, learning and introductory use of description technique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33992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ichard Sander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TNU Dept of Telematics and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INTEF Telecom and Informatics, Norway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763120" cy="331668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escription languages taught by Rolv Bræk at university level since the 1980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y own lecturing at university level the last 3 year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Holding courses for academics and industry for many year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xperience in using the languages since 1985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Use of languages in development methodologies 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(TIMe - The Integrated Method: www.sintef.no/time)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earning objective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763120" cy="258516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eeing the power of abstraction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Understanding concepts: state machines, parallelism, synchronisation and asynchronous message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Learning the art of system design of real-time system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Knowing how to analyse design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anaging to turn designs into working system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echniques taught and used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763120" cy="247716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stem modelling with emphasis on logical behaviour 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Languages for system modelling: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UML, MSC, SDL, ASN.1, TTCN, Process Algebra 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ethods for system modelling 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ethodology for systems engineering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TIMe, Verification and validation 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48000" y="890640"/>
            <a:ext cx="954000" cy="691920"/>
          </a:xfrm>
          <a:prstGeom prst="rect">
            <a:avLst/>
          </a:prstGeom>
          <a:solidFill>
            <a:srgbClr val="c1ce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78000" y="4894200"/>
            <a:ext cx="627120" cy="358920"/>
          </a:xfrm>
          <a:custGeom>
            <a:avLst/>
            <a:gdLst/>
            <a:ahLst/>
            <a:rect l="l" t="t" r="r" b="b"/>
            <a:pathLst>
              <a:path w="259" h="217">
                <a:moveTo>
                  <a:pt x="97" y="43"/>
                </a:moveTo>
                <a:lnTo>
                  <a:pt x="32" y="54"/>
                </a:lnTo>
                <a:lnTo>
                  <a:pt x="21" y="65"/>
                </a:lnTo>
                <a:lnTo>
                  <a:pt x="32" y="87"/>
                </a:lnTo>
                <a:lnTo>
                  <a:pt x="43" y="108"/>
                </a:lnTo>
                <a:lnTo>
                  <a:pt x="11" y="108"/>
                </a:lnTo>
                <a:lnTo>
                  <a:pt x="0" y="151"/>
                </a:lnTo>
                <a:lnTo>
                  <a:pt x="21" y="183"/>
                </a:lnTo>
                <a:lnTo>
                  <a:pt x="64" y="173"/>
                </a:lnTo>
                <a:lnTo>
                  <a:pt x="75" y="173"/>
                </a:lnTo>
                <a:lnTo>
                  <a:pt x="75" y="183"/>
                </a:lnTo>
                <a:lnTo>
                  <a:pt x="86" y="205"/>
                </a:lnTo>
                <a:lnTo>
                  <a:pt x="118" y="216"/>
                </a:lnTo>
                <a:lnTo>
                  <a:pt x="183" y="205"/>
                </a:lnTo>
                <a:lnTo>
                  <a:pt x="172" y="173"/>
                </a:lnTo>
                <a:lnTo>
                  <a:pt x="183" y="162"/>
                </a:lnTo>
                <a:lnTo>
                  <a:pt x="237" y="162"/>
                </a:lnTo>
                <a:lnTo>
                  <a:pt x="247" y="140"/>
                </a:lnTo>
                <a:lnTo>
                  <a:pt x="237" y="130"/>
                </a:lnTo>
                <a:lnTo>
                  <a:pt x="215" y="119"/>
                </a:lnTo>
                <a:lnTo>
                  <a:pt x="226" y="108"/>
                </a:lnTo>
                <a:lnTo>
                  <a:pt x="258" y="87"/>
                </a:lnTo>
                <a:lnTo>
                  <a:pt x="247" y="54"/>
                </a:lnTo>
                <a:lnTo>
                  <a:pt x="194" y="54"/>
                </a:lnTo>
                <a:lnTo>
                  <a:pt x="183" y="54"/>
                </a:lnTo>
                <a:lnTo>
                  <a:pt x="194" y="22"/>
                </a:lnTo>
                <a:lnTo>
                  <a:pt x="129" y="0"/>
                </a:lnTo>
                <a:lnTo>
                  <a:pt x="97" y="11"/>
                </a:lnTo>
                <a:lnTo>
                  <a:pt x="86" y="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10160" y="4952880"/>
            <a:ext cx="1170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44640" y="4665600"/>
            <a:ext cx="1722240" cy="1384200"/>
          </a:xfrm>
          <a:custGeom>
            <a:avLst/>
            <a:gdLst/>
            <a:ahLst/>
            <a:rect l="l" t="t" r="r" b="b"/>
            <a:pathLst>
              <a:path w="1067" h="840">
                <a:moveTo>
                  <a:pt x="119" y="129"/>
                </a:moveTo>
                <a:lnTo>
                  <a:pt x="151" y="75"/>
                </a:lnTo>
                <a:lnTo>
                  <a:pt x="216" y="43"/>
                </a:lnTo>
                <a:lnTo>
                  <a:pt x="366" y="10"/>
                </a:lnTo>
                <a:lnTo>
                  <a:pt x="700" y="0"/>
                </a:lnTo>
                <a:lnTo>
                  <a:pt x="786" y="10"/>
                </a:lnTo>
                <a:lnTo>
                  <a:pt x="829" y="43"/>
                </a:lnTo>
                <a:lnTo>
                  <a:pt x="862" y="86"/>
                </a:lnTo>
                <a:lnTo>
                  <a:pt x="905" y="118"/>
                </a:lnTo>
                <a:lnTo>
                  <a:pt x="1012" y="161"/>
                </a:lnTo>
                <a:lnTo>
                  <a:pt x="1055" y="236"/>
                </a:lnTo>
                <a:lnTo>
                  <a:pt x="1066" y="301"/>
                </a:lnTo>
                <a:lnTo>
                  <a:pt x="1034" y="365"/>
                </a:lnTo>
                <a:lnTo>
                  <a:pt x="969" y="505"/>
                </a:lnTo>
                <a:lnTo>
                  <a:pt x="937" y="570"/>
                </a:lnTo>
                <a:lnTo>
                  <a:pt x="894" y="624"/>
                </a:lnTo>
                <a:lnTo>
                  <a:pt x="851" y="678"/>
                </a:lnTo>
                <a:lnTo>
                  <a:pt x="851" y="753"/>
                </a:lnTo>
                <a:lnTo>
                  <a:pt x="829" y="807"/>
                </a:lnTo>
                <a:lnTo>
                  <a:pt x="743" y="839"/>
                </a:lnTo>
                <a:lnTo>
                  <a:pt x="603" y="828"/>
                </a:lnTo>
                <a:lnTo>
                  <a:pt x="485" y="796"/>
                </a:lnTo>
                <a:lnTo>
                  <a:pt x="270" y="742"/>
                </a:lnTo>
                <a:lnTo>
                  <a:pt x="76" y="688"/>
                </a:lnTo>
                <a:lnTo>
                  <a:pt x="11" y="635"/>
                </a:lnTo>
                <a:lnTo>
                  <a:pt x="0" y="570"/>
                </a:lnTo>
                <a:lnTo>
                  <a:pt x="108" y="344"/>
                </a:lnTo>
                <a:lnTo>
                  <a:pt x="140" y="226"/>
                </a:lnTo>
                <a:lnTo>
                  <a:pt x="119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6000" y="4705200"/>
            <a:ext cx="12193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676520"/>
            <a:ext cx="8064360" cy="2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24400" y="1216080"/>
            <a:ext cx="97992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24400" y="1720800"/>
            <a:ext cx="9342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69920" y="4878360"/>
            <a:ext cx="696960" cy="374760"/>
          </a:xfrm>
          <a:custGeom>
            <a:avLst/>
            <a:gdLst/>
            <a:ahLst/>
            <a:rect l="l" t="t" r="r" b="b"/>
            <a:pathLst>
              <a:path w="270" h="227">
                <a:moveTo>
                  <a:pt x="97" y="53"/>
                </a:moveTo>
                <a:lnTo>
                  <a:pt x="33" y="53"/>
                </a:lnTo>
                <a:lnTo>
                  <a:pt x="22" y="75"/>
                </a:lnTo>
                <a:lnTo>
                  <a:pt x="33" y="97"/>
                </a:lnTo>
                <a:lnTo>
                  <a:pt x="43" y="107"/>
                </a:lnTo>
                <a:lnTo>
                  <a:pt x="11" y="118"/>
                </a:lnTo>
                <a:lnTo>
                  <a:pt x="0" y="150"/>
                </a:lnTo>
                <a:lnTo>
                  <a:pt x="33" y="183"/>
                </a:lnTo>
                <a:lnTo>
                  <a:pt x="65" y="172"/>
                </a:lnTo>
                <a:lnTo>
                  <a:pt x="76" y="172"/>
                </a:lnTo>
                <a:lnTo>
                  <a:pt x="76" y="193"/>
                </a:lnTo>
                <a:lnTo>
                  <a:pt x="86" y="215"/>
                </a:lnTo>
                <a:lnTo>
                  <a:pt x="119" y="226"/>
                </a:lnTo>
                <a:lnTo>
                  <a:pt x="183" y="204"/>
                </a:lnTo>
                <a:lnTo>
                  <a:pt x="173" y="172"/>
                </a:lnTo>
                <a:lnTo>
                  <a:pt x="183" y="172"/>
                </a:lnTo>
                <a:lnTo>
                  <a:pt x="237" y="161"/>
                </a:lnTo>
                <a:lnTo>
                  <a:pt x="248" y="150"/>
                </a:lnTo>
                <a:lnTo>
                  <a:pt x="237" y="140"/>
                </a:lnTo>
                <a:lnTo>
                  <a:pt x="216" y="118"/>
                </a:lnTo>
                <a:lnTo>
                  <a:pt x="226" y="107"/>
                </a:lnTo>
                <a:lnTo>
                  <a:pt x="269" y="97"/>
                </a:lnTo>
                <a:lnTo>
                  <a:pt x="248" y="64"/>
                </a:lnTo>
                <a:lnTo>
                  <a:pt x="194" y="64"/>
                </a:lnTo>
                <a:lnTo>
                  <a:pt x="183" y="53"/>
                </a:lnTo>
                <a:lnTo>
                  <a:pt x="194" y="32"/>
                </a:lnTo>
                <a:lnTo>
                  <a:pt x="129" y="0"/>
                </a:lnTo>
                <a:lnTo>
                  <a:pt x="97" y="10"/>
                </a:lnTo>
                <a:lnTo>
                  <a:pt x="86" y="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49960" y="4933800"/>
            <a:ext cx="1170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35120" y="5181480"/>
            <a:ext cx="666720" cy="424080"/>
          </a:xfrm>
          <a:custGeom>
            <a:avLst/>
            <a:gdLst/>
            <a:ahLst/>
            <a:rect l="l" t="t" r="r" b="b"/>
            <a:pathLst>
              <a:path w="260" h="216">
                <a:moveTo>
                  <a:pt x="86" y="43"/>
                </a:moveTo>
                <a:lnTo>
                  <a:pt x="33" y="54"/>
                </a:lnTo>
                <a:lnTo>
                  <a:pt x="22" y="65"/>
                </a:lnTo>
                <a:lnTo>
                  <a:pt x="33" y="86"/>
                </a:lnTo>
                <a:lnTo>
                  <a:pt x="43" y="108"/>
                </a:lnTo>
                <a:lnTo>
                  <a:pt x="0" y="108"/>
                </a:lnTo>
                <a:lnTo>
                  <a:pt x="0" y="151"/>
                </a:lnTo>
                <a:lnTo>
                  <a:pt x="22" y="183"/>
                </a:lnTo>
                <a:lnTo>
                  <a:pt x="54" y="172"/>
                </a:lnTo>
                <a:lnTo>
                  <a:pt x="76" y="172"/>
                </a:lnTo>
                <a:lnTo>
                  <a:pt x="76" y="183"/>
                </a:lnTo>
                <a:lnTo>
                  <a:pt x="86" y="205"/>
                </a:lnTo>
                <a:lnTo>
                  <a:pt x="108" y="215"/>
                </a:lnTo>
                <a:lnTo>
                  <a:pt x="172" y="205"/>
                </a:lnTo>
                <a:lnTo>
                  <a:pt x="162" y="172"/>
                </a:lnTo>
                <a:lnTo>
                  <a:pt x="183" y="162"/>
                </a:lnTo>
                <a:lnTo>
                  <a:pt x="237" y="162"/>
                </a:lnTo>
                <a:lnTo>
                  <a:pt x="248" y="140"/>
                </a:lnTo>
                <a:lnTo>
                  <a:pt x="237" y="129"/>
                </a:lnTo>
                <a:lnTo>
                  <a:pt x="216" y="119"/>
                </a:lnTo>
                <a:lnTo>
                  <a:pt x="226" y="108"/>
                </a:lnTo>
                <a:lnTo>
                  <a:pt x="259" y="86"/>
                </a:lnTo>
                <a:lnTo>
                  <a:pt x="237" y="54"/>
                </a:lnTo>
                <a:lnTo>
                  <a:pt x="194" y="54"/>
                </a:lnTo>
                <a:lnTo>
                  <a:pt x="183" y="54"/>
                </a:lnTo>
                <a:lnTo>
                  <a:pt x="183" y="22"/>
                </a:lnTo>
                <a:lnTo>
                  <a:pt x="119" y="0"/>
                </a:lnTo>
                <a:lnTo>
                  <a:pt x="97" y="11"/>
                </a:lnTo>
                <a:lnTo>
                  <a:pt x="86" y="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88160" y="5272200"/>
            <a:ext cx="1170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5720" y="1235160"/>
            <a:ext cx="662040" cy="3433680"/>
          </a:xfrm>
          <a:custGeom>
            <a:avLst/>
            <a:gdLst/>
            <a:ahLst/>
            <a:rect l="l" t="t" r="r" b="b"/>
            <a:pathLst>
              <a:path w="337" h="1969">
                <a:moveTo>
                  <a:pt x="0" y="1968"/>
                </a:moveTo>
                <a:lnTo>
                  <a:pt x="17" y="1294"/>
                </a:lnTo>
                <a:lnTo>
                  <a:pt x="50" y="713"/>
                </a:lnTo>
                <a:lnTo>
                  <a:pt x="152" y="264"/>
                </a:lnTo>
                <a:lnTo>
                  <a:pt x="236" y="106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5760" y="1879560"/>
            <a:ext cx="2187360" cy="307800"/>
          </a:xfrm>
          <a:prstGeom prst="rect">
            <a:avLst/>
          </a:prstGeom>
          <a:solidFill>
            <a:srgbClr val="aec6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,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746240" y="5170320"/>
            <a:ext cx="3254760" cy="1052640"/>
            <a:chOff x="4746240" y="5170320"/>
            <a:chExt cx="3254760" cy="1052640"/>
          </a:xfrm>
        </p:grpSpPr>
        <p:sp>
          <p:nvSpPr>
            <p:cNvPr id="69" name=""/>
            <p:cNvSpPr/>
            <p:nvPr/>
          </p:nvSpPr>
          <p:spPr>
            <a:xfrm>
              <a:off x="6696000" y="5545080"/>
              <a:ext cx="962280" cy="5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00680" y="5548320"/>
              <a:ext cx="1300320" cy="493560"/>
            </a:xfrm>
            <a:prstGeom prst="rect">
              <a:avLst/>
            </a:prstGeom>
            <a:solidFill>
              <a:srgbClr val="c1ce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15200" y="5349960"/>
              <a:ext cx="87480" cy="17928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21" y="0"/>
                  </a:moveTo>
                  <a:lnTo>
                    <a:pt x="54" y="0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48680" y="5170320"/>
              <a:ext cx="1440" cy="181080"/>
            </a:xfrm>
            <a:custGeom>
              <a:avLst/>
              <a:gdLst/>
              <a:ahLst/>
              <a:rect l="l" t="t" r="r" b="b"/>
              <a:pathLst>
                <a:path w="1" h="110">
                  <a:moveTo>
                    <a:pt x="0" y="0"/>
                  </a:moveTo>
                  <a:lnTo>
                    <a:pt x="0" y="10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46240" y="5915160"/>
              <a:ext cx="2272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tisfied  n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113440" y="5802480"/>
              <a:ext cx="1465200" cy="0"/>
            </a:xfrm>
            <a:prstGeom prst="line">
              <a:avLst/>
            </a:prstGeom>
            <a:ln w="50760">
              <a:solidFill>
                <a:srgbClr val="00ae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030200" y="2320920"/>
            <a:ext cx="2491920" cy="1332000"/>
            <a:chOff x="4030200" y="2320920"/>
            <a:chExt cx="2491920" cy="1332000"/>
          </a:xfrm>
        </p:grpSpPr>
        <p:sp>
          <p:nvSpPr>
            <p:cNvPr id="76" name=""/>
            <p:cNvSpPr/>
            <p:nvPr/>
          </p:nvSpPr>
          <p:spPr>
            <a:xfrm>
              <a:off x="4280040" y="2571840"/>
              <a:ext cx="1879560" cy="1081080"/>
            </a:xfrm>
            <a:prstGeom prst="rect">
              <a:avLst/>
            </a:prstGeom>
            <a:solidFill>
              <a:srgbClr val="c1c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30200" y="2641680"/>
              <a:ext cx="249192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lication desi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work desi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rchitecture desi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80040" y="2954160"/>
              <a:ext cx="18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80040" y="3270240"/>
              <a:ext cx="18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26040" y="2320920"/>
              <a:ext cx="217440" cy="233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775480" y="3657600"/>
            <a:ext cx="1577880" cy="731880"/>
            <a:chOff x="5775480" y="3657600"/>
            <a:chExt cx="1577880" cy="731880"/>
          </a:xfrm>
        </p:grpSpPr>
        <p:sp>
          <p:nvSpPr>
            <p:cNvPr id="82" name=""/>
            <p:cNvSpPr/>
            <p:nvPr/>
          </p:nvSpPr>
          <p:spPr>
            <a:xfrm>
              <a:off x="5791320" y="3914640"/>
              <a:ext cx="1523880" cy="474840"/>
            </a:xfrm>
            <a:prstGeom prst="rect">
              <a:avLst/>
            </a:prstGeom>
            <a:solidFill>
              <a:srgbClr val="c1c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75480" y="3962520"/>
              <a:ext cx="1577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657600"/>
              <a:ext cx="22212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927000" y="4373640"/>
            <a:ext cx="8100000" cy="1874880"/>
            <a:chOff x="927000" y="4373640"/>
            <a:chExt cx="8100000" cy="1874880"/>
          </a:xfrm>
        </p:grpSpPr>
        <p:sp>
          <p:nvSpPr>
            <p:cNvPr id="86" name=""/>
            <p:cNvSpPr/>
            <p:nvPr/>
          </p:nvSpPr>
          <p:spPr>
            <a:xfrm>
              <a:off x="6951600" y="4373640"/>
              <a:ext cx="304920" cy="29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8600" y="4678200"/>
              <a:ext cx="1292400" cy="503280"/>
            </a:xfrm>
            <a:prstGeom prst="rect">
              <a:avLst/>
            </a:prstGeom>
            <a:solidFill>
              <a:srgbClr val="c1c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5720" y="4635360"/>
              <a:ext cx="1290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11240" y="4898880"/>
              <a:ext cx="191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27000" y="4559400"/>
              <a:ext cx="806472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24040" y="4643280"/>
              <a:ext cx="100296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194360" y="4687920"/>
              <a:ext cx="1170720" cy="569880"/>
              <a:chOff x="4194360" y="4687920"/>
              <a:chExt cx="1170720" cy="569880"/>
            </a:xfrm>
          </p:grpSpPr>
          <p:sp>
            <p:nvSpPr>
              <p:cNvPr id="93" name=""/>
              <p:cNvSpPr/>
              <p:nvPr/>
            </p:nvSpPr>
            <p:spPr>
              <a:xfrm>
                <a:off x="4419720" y="4687920"/>
                <a:ext cx="699840" cy="569880"/>
              </a:xfrm>
              <a:custGeom>
                <a:avLst/>
                <a:gdLst/>
                <a:ahLst/>
                <a:rect l="l" t="t" r="r" b="b"/>
                <a:pathLst>
                  <a:path w="410" h="346">
                    <a:moveTo>
                      <a:pt x="140" y="76"/>
                    </a:moveTo>
                    <a:lnTo>
                      <a:pt x="97" y="65"/>
                    </a:lnTo>
                    <a:lnTo>
                      <a:pt x="54" y="86"/>
                    </a:lnTo>
                    <a:lnTo>
                      <a:pt x="32" y="108"/>
                    </a:lnTo>
                    <a:lnTo>
                      <a:pt x="54" y="140"/>
                    </a:lnTo>
                    <a:lnTo>
                      <a:pt x="86" y="162"/>
                    </a:lnTo>
                    <a:lnTo>
                      <a:pt x="75" y="162"/>
                    </a:lnTo>
                    <a:lnTo>
                      <a:pt x="11" y="172"/>
                    </a:lnTo>
                    <a:lnTo>
                      <a:pt x="0" y="226"/>
                    </a:lnTo>
                    <a:lnTo>
                      <a:pt x="43" y="280"/>
                    </a:lnTo>
                    <a:lnTo>
                      <a:pt x="97" y="269"/>
                    </a:lnTo>
                    <a:lnTo>
                      <a:pt x="118" y="269"/>
                    </a:lnTo>
                    <a:lnTo>
                      <a:pt x="118" y="291"/>
                    </a:lnTo>
                    <a:lnTo>
                      <a:pt x="140" y="323"/>
                    </a:lnTo>
                    <a:lnTo>
                      <a:pt x="183" y="345"/>
                    </a:lnTo>
                    <a:lnTo>
                      <a:pt x="237" y="334"/>
                    </a:lnTo>
                    <a:lnTo>
                      <a:pt x="280" y="312"/>
                    </a:lnTo>
                    <a:lnTo>
                      <a:pt x="258" y="269"/>
                    </a:lnTo>
                    <a:lnTo>
                      <a:pt x="258" y="248"/>
                    </a:lnTo>
                    <a:lnTo>
                      <a:pt x="291" y="258"/>
                    </a:lnTo>
                    <a:lnTo>
                      <a:pt x="366" y="248"/>
                    </a:lnTo>
                    <a:lnTo>
                      <a:pt x="377" y="226"/>
                    </a:lnTo>
                    <a:lnTo>
                      <a:pt x="366" y="205"/>
                    </a:lnTo>
                    <a:lnTo>
                      <a:pt x="334" y="183"/>
                    </a:lnTo>
                    <a:lnTo>
                      <a:pt x="355" y="172"/>
                    </a:lnTo>
                    <a:lnTo>
                      <a:pt x="409" y="140"/>
                    </a:lnTo>
                    <a:lnTo>
                      <a:pt x="398" y="108"/>
                    </a:lnTo>
                    <a:lnTo>
                      <a:pt x="377" y="86"/>
                    </a:lnTo>
                    <a:lnTo>
                      <a:pt x="301" y="86"/>
                    </a:lnTo>
                    <a:lnTo>
                      <a:pt x="280" y="97"/>
                    </a:lnTo>
                    <a:lnTo>
                      <a:pt x="280" y="86"/>
                    </a:lnTo>
                    <a:lnTo>
                      <a:pt x="291" y="43"/>
                    </a:lnTo>
                    <a:lnTo>
                      <a:pt x="248" y="11"/>
                    </a:lnTo>
                    <a:lnTo>
                      <a:pt x="194" y="0"/>
                    </a:lnTo>
                    <a:lnTo>
                      <a:pt x="151" y="11"/>
                    </a:lnTo>
                    <a:lnTo>
                      <a:pt x="129" y="5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194360" y="4835520"/>
                <a:ext cx="1170720" cy="25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eed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5181480" y="4840200"/>
              <a:ext cx="1501920" cy="189000"/>
            </a:xfrm>
            <a:custGeom>
              <a:avLst/>
              <a:gdLst/>
              <a:ahLst/>
              <a:rect l="l" t="t" r="r" b="b"/>
              <a:pathLst>
                <a:path w="673" h="145">
                  <a:moveTo>
                    <a:pt x="0" y="144"/>
                  </a:moveTo>
                  <a:lnTo>
                    <a:pt x="58" y="96"/>
                  </a:lnTo>
                  <a:lnTo>
                    <a:pt x="190" y="48"/>
                  </a:lnTo>
                  <a:lnTo>
                    <a:pt x="409" y="14"/>
                  </a:lnTo>
                  <a:lnTo>
                    <a:pt x="672" y="0"/>
                  </a:lnTo>
                </a:path>
              </a:pathLst>
            </a:custGeom>
            <a:noFill/>
            <a:ln cap="rnd" w="1260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90000" y="4572000"/>
              <a:ext cx="21200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ance n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4343400" y="5257800"/>
              <a:ext cx="803160" cy="9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2292480" y="5270400"/>
            <a:ext cx="129960" cy="307800"/>
            <a:chOff x="2292480" y="5270400"/>
            <a:chExt cx="129960" cy="307800"/>
          </a:xfrm>
        </p:grpSpPr>
        <p:sp>
          <p:nvSpPr>
            <p:cNvPr id="99" name=""/>
            <p:cNvSpPr/>
            <p:nvPr/>
          </p:nvSpPr>
          <p:spPr>
            <a:xfrm>
              <a:off x="2319480" y="5270400"/>
              <a:ext cx="75960" cy="75960"/>
            </a:xfrm>
            <a:prstGeom prst="ellipse">
              <a:avLst/>
            </a:prstGeom>
            <a:solidFill>
              <a:srgbClr val="aec6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57280" y="53514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292480" y="5394240"/>
              <a:ext cx="12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293920" y="5493960"/>
              <a:ext cx="127080" cy="84240"/>
              <a:chOff x="2293920" y="5493960"/>
              <a:chExt cx="127080" cy="84240"/>
            </a:xfrm>
          </p:grpSpPr>
          <p:sp>
            <p:nvSpPr>
              <p:cNvPr id="103" name=""/>
              <p:cNvSpPr/>
              <p:nvPr/>
            </p:nvSpPr>
            <p:spPr>
              <a:xfrm flipH="1">
                <a:off x="2293920" y="5495760"/>
                <a:ext cx="619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flipV="1">
                <a:off x="2359080" y="5493960"/>
                <a:ext cx="619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1752480" y="5635800"/>
            <a:ext cx="129960" cy="307800"/>
            <a:chOff x="1752480" y="5635800"/>
            <a:chExt cx="129960" cy="307800"/>
          </a:xfrm>
        </p:grpSpPr>
        <p:sp>
          <p:nvSpPr>
            <p:cNvPr id="106" name=""/>
            <p:cNvSpPr/>
            <p:nvPr/>
          </p:nvSpPr>
          <p:spPr>
            <a:xfrm>
              <a:off x="1779480" y="5635800"/>
              <a:ext cx="75960" cy="75960"/>
            </a:xfrm>
            <a:prstGeom prst="ellipse">
              <a:avLst/>
            </a:prstGeom>
            <a:solidFill>
              <a:srgbClr val="aec6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17280" y="57168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752480" y="5759640"/>
              <a:ext cx="12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753920" y="5859360"/>
              <a:ext cx="127080" cy="84240"/>
              <a:chOff x="1753920" y="5859360"/>
              <a:chExt cx="127080" cy="84240"/>
            </a:xfrm>
          </p:grpSpPr>
          <p:sp>
            <p:nvSpPr>
              <p:cNvPr id="110" name=""/>
              <p:cNvSpPr/>
              <p:nvPr/>
            </p:nvSpPr>
            <p:spPr>
              <a:xfrm flipH="1">
                <a:off x="1753920" y="5861160"/>
                <a:ext cx="619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1819080" y="5859360"/>
                <a:ext cx="619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1295280" y="5254560"/>
            <a:ext cx="129960" cy="307800"/>
            <a:chOff x="1295280" y="5254560"/>
            <a:chExt cx="129960" cy="307800"/>
          </a:xfrm>
        </p:grpSpPr>
        <p:sp>
          <p:nvSpPr>
            <p:cNvPr id="113" name=""/>
            <p:cNvSpPr/>
            <p:nvPr/>
          </p:nvSpPr>
          <p:spPr>
            <a:xfrm>
              <a:off x="1322280" y="5254560"/>
              <a:ext cx="75960" cy="75960"/>
            </a:xfrm>
            <a:prstGeom prst="ellipse">
              <a:avLst/>
            </a:prstGeom>
            <a:solidFill>
              <a:srgbClr val="aec6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60080" y="533556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295280" y="5378400"/>
              <a:ext cx="12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296720" y="5478120"/>
              <a:ext cx="127080" cy="84240"/>
              <a:chOff x="1296720" y="5478120"/>
              <a:chExt cx="127080" cy="84240"/>
            </a:xfrm>
          </p:grpSpPr>
          <p:sp>
            <p:nvSpPr>
              <p:cNvPr id="117" name=""/>
              <p:cNvSpPr/>
              <p:nvPr/>
            </p:nvSpPr>
            <p:spPr>
              <a:xfrm flipH="1">
                <a:off x="1296720" y="5479920"/>
                <a:ext cx="619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flipV="1">
                <a:off x="1361880" y="5478120"/>
                <a:ext cx="619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3625560" y="954000"/>
            <a:ext cx="5506920" cy="3265200"/>
            <a:chOff x="3625560" y="954000"/>
            <a:chExt cx="5506920" cy="3265200"/>
          </a:xfrm>
        </p:grpSpPr>
        <p:sp>
          <p:nvSpPr>
            <p:cNvPr id="120" name=""/>
            <p:cNvSpPr/>
            <p:nvPr/>
          </p:nvSpPr>
          <p:spPr>
            <a:xfrm>
              <a:off x="5079600" y="1920960"/>
              <a:ext cx="1127880" cy="2804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4120" y="3938760"/>
              <a:ext cx="1818360" cy="2804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++, Java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25560" y="954000"/>
              <a:ext cx="3467520" cy="2804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fied Modeling Language (UM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59640" y="2652840"/>
              <a:ext cx="579240" cy="2804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IMe at a glanc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897200" y="1576440"/>
            <a:ext cx="3317040" cy="3097080"/>
            <a:chOff x="1897200" y="1576440"/>
            <a:chExt cx="3317040" cy="3097080"/>
          </a:xfrm>
        </p:grpSpPr>
        <p:sp>
          <p:nvSpPr>
            <p:cNvPr id="126" name=""/>
            <p:cNvSpPr/>
            <p:nvPr/>
          </p:nvSpPr>
          <p:spPr>
            <a:xfrm>
              <a:off x="3422520" y="1828800"/>
              <a:ext cx="1606680" cy="474840"/>
            </a:xfrm>
            <a:prstGeom prst="rect">
              <a:avLst/>
            </a:prstGeom>
            <a:solidFill>
              <a:srgbClr val="c1c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07320" y="1909800"/>
              <a:ext cx="1906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1080" y="2062080"/>
              <a:ext cx="1436760" cy="2611440"/>
            </a:xfrm>
            <a:custGeom>
              <a:avLst/>
              <a:gdLst/>
              <a:ahLst/>
              <a:rect l="l" t="t" r="r" b="b"/>
              <a:pathLst>
                <a:path w="769" h="1633">
                  <a:moveTo>
                    <a:pt x="0" y="1632"/>
                  </a:moveTo>
                  <a:lnTo>
                    <a:pt x="11" y="1321"/>
                  </a:lnTo>
                  <a:lnTo>
                    <a:pt x="62" y="1037"/>
                  </a:lnTo>
                  <a:lnTo>
                    <a:pt x="124" y="751"/>
                  </a:lnTo>
                  <a:lnTo>
                    <a:pt x="218" y="520"/>
                  </a:lnTo>
                  <a:lnTo>
                    <a:pt x="332" y="311"/>
                  </a:lnTo>
                  <a:lnTo>
                    <a:pt x="456" y="156"/>
                  </a:lnTo>
                  <a:lnTo>
                    <a:pt x="602" y="53"/>
                  </a:lnTo>
                  <a:lnTo>
                    <a:pt x="768" y="0"/>
                  </a:lnTo>
                </a:path>
              </a:pathLst>
            </a:custGeom>
            <a:noFill/>
            <a:ln cap="rnd" w="1260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25680" y="1576440"/>
              <a:ext cx="187560" cy="239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97200" y="2354400"/>
              <a:ext cx="2039400" cy="307800"/>
            </a:xfrm>
            <a:prstGeom prst="rect">
              <a:avLst/>
            </a:prstGeom>
            <a:solidFill>
              <a:srgbClr val="aec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duct n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parts of the language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763120" cy="398772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0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University courses: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UML: Focus on object modelling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MSC: Interaction model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SDL: Basic SDL, “OO-SDL”, a selected coverage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ASN.1: A brief intro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Process Algebra: Introduction (more at Ph.D. level)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TTCN: Testing principles and language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0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Industry courses: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UML, MSC and SDL - a selected coverage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Use of tool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763120" cy="390852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0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University courses: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tudents perform compulsory assignments in group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elelogic TAU for UML, SDL and MSC work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Design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Simulation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Simple validation (MSC against SDL)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Implementation platform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JavaFrame from Ericsson Norway: a thread-safe Java environment for FSMs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o tools for TTCN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xperience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763120" cy="476100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The languages and tools help to reach the learning goal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900" spc="-1" strike="noStrike">
                <a:solidFill>
                  <a:srgbClr val="00279f"/>
                </a:solidFill>
                <a:latin typeface="Arial"/>
              </a:rPr>
              <a:t>Students understand parallelism!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900" spc="-1" strike="noStrike">
                <a:solidFill>
                  <a:srgbClr val="00279f"/>
                </a:solidFill>
                <a:latin typeface="Arial"/>
              </a:rPr>
              <a:t>The languages are good for modelling and analysis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900" spc="-1" strike="noStrike">
                <a:solidFill>
                  <a:srgbClr val="00279f"/>
                </a:solidFill>
                <a:latin typeface="Arial"/>
              </a:rPr>
              <a:t>An understandable transition to implementation is possible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The different languages “sort of” fit together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Good tool support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Limited availability of adequate teaching material (books)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900" spc="-1" strike="noStrike">
                <a:solidFill>
                  <a:srgbClr val="00279f"/>
                </a:solidFill>
                <a:latin typeface="Arial"/>
              </a:rPr>
              <a:t>Courses use a selection from books and articles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Complex and large languages (esp. UML and SDL)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Evolving language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900" spc="-1" strike="noStrike">
                <a:solidFill>
                  <a:srgbClr val="00279f"/>
                </a:solidFill>
                <a:latin typeface="Arial"/>
              </a:rPr>
              <a:t>Tools linger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900" spc="-1" strike="noStrike">
                <a:solidFill>
                  <a:srgbClr val="00279f"/>
                </a:solidFill>
                <a:latin typeface="Arial"/>
              </a:rPr>
              <a:t>Work needed to keep material up-to-date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 Futur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763120" cy="159372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he selection of languages and tools is evaluated yearly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ransition away from SDL/MSC to UML?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Not presently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If UML 2.0 is “good enough” (= expression, tools, books): probably!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10:58:21Z</dcterms:created>
  <dc:creator>Richard Sanders</dc:creator>
  <dc:description>Version sendt to Arve Meisingset 21st nov 2002</dc:description>
  <dc:language>en-US</dc:language>
  <cp:lastModifiedBy>Ansatt i</cp:lastModifiedBy>
  <cp:lastPrinted>2001-05-14T14:30:12Z</cp:lastPrinted>
  <dcterms:modified xsi:type="dcterms:W3CDTF">2002-11-20T18:35:02Z</dcterms:modified>
  <cp:revision>17</cp:revision>
  <dc:subject>Presentation at ITU-T workshop "Use of Desciption Techniques!</dc:subject>
  <dc:title>Experiences in teaching, learning and introductory use of description techniques</dc:title>
</cp:coreProperties>
</file>