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629880"/>
            <a:ext cx="81154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60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4680" y="1599840"/>
            <a:ext cx="3960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629880"/>
            <a:ext cx="3960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4680" y="3629880"/>
            <a:ext cx="3960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2612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240" y="1599840"/>
            <a:ext cx="2612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54160" y="1599840"/>
            <a:ext cx="2612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629880"/>
            <a:ext cx="2612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240" y="3629880"/>
            <a:ext cx="2612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54160" y="3629880"/>
            <a:ext cx="26128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60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4680" y="1599840"/>
            <a:ext cx="3960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52520" y="380520"/>
            <a:ext cx="8096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60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4680" y="1599840"/>
            <a:ext cx="3960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629880"/>
            <a:ext cx="3960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60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4680" y="1599840"/>
            <a:ext cx="3960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4680" y="3629880"/>
            <a:ext cx="3960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60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4680" y="1599840"/>
            <a:ext cx="3960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629880"/>
            <a:ext cx="81154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240" y="6629400"/>
            <a:ext cx="1491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opyright 1990-200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SOLINET Gmb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5638680"/>
            <a:ext cx="685800" cy="2286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7544160" y="-1296000"/>
            <a:ext cx="228600" cy="3430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est_letterheadsize" descr=""/>
          <p:cNvPicPr/>
          <p:nvPr/>
        </p:nvPicPr>
        <p:blipFill>
          <a:blip r:embed="rId2"/>
          <a:stretch/>
        </p:blipFill>
        <p:spPr>
          <a:xfrm>
            <a:off x="7848720" y="6068880"/>
            <a:ext cx="1523880" cy="331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114800" y="6553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accato222 BT"/>
                <a:ea typeface="Times New Roman"/>
              </a:rPr>
              <a:t>www.SOLINET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uzzle_tilt" descr=""/>
          <p:cNvPicPr/>
          <p:nvPr/>
        </p:nvPicPr>
        <p:blipFill>
          <a:blip r:embed="rId3"/>
          <a:stretch/>
        </p:blipFill>
        <p:spPr>
          <a:xfrm>
            <a:off x="196920" y="5908680"/>
            <a:ext cx="541440" cy="58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dl-forum.org/" TargetMode="External"/><Relationship Id="rId2" Type="http://schemas.openxmlformats.org/officeDocument/2006/relationships/hyperlink" Target="http://www.sdl-forum.org/" TargetMode="External"/><Relationship Id="rId3" Type="http://schemas.openxmlformats.org/officeDocument/2006/relationships/hyperlink" Target="http://www.sdl-forum.org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124080" y="1828800"/>
            <a:ext cx="6400800" cy="3952440"/>
            <a:chOff x="3124080" y="1828800"/>
            <a:chExt cx="6400800" cy="3952440"/>
          </a:xfrm>
        </p:grpSpPr>
        <p:pic>
          <p:nvPicPr>
            <p:cNvPr id="45" name="puzzle_tilt" descr=""/>
            <p:cNvPicPr/>
            <p:nvPr/>
          </p:nvPicPr>
          <p:blipFill>
            <a:blip r:embed="rId1"/>
            <a:stretch/>
          </p:blipFill>
          <p:spPr>
            <a:xfrm>
              <a:off x="6298920" y="2282400"/>
              <a:ext cx="3225960" cy="34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uzzle_tilt" descr=""/>
            <p:cNvPicPr/>
            <p:nvPr/>
          </p:nvPicPr>
          <p:blipFill>
            <a:blip r:embed="rId2"/>
            <a:stretch/>
          </p:blipFill>
          <p:spPr>
            <a:xfrm>
              <a:off x="4357800" y="1958400"/>
              <a:ext cx="2329560" cy="25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uzzle_tilt" descr=""/>
            <p:cNvPicPr/>
            <p:nvPr/>
          </p:nvPicPr>
          <p:blipFill>
            <a:blip r:embed="rId3"/>
            <a:stretch/>
          </p:blipFill>
          <p:spPr>
            <a:xfrm>
              <a:off x="3124080" y="1828800"/>
              <a:ext cx="1373760" cy="14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DL &amp; Requirements of Signalling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William H. Ske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LINET, Stuttg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nformation Reu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onent libraries (stacks, ty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faces (Signals, Parame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eambles, postambles,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set of intende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set of intende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ethodology Overl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mplement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DL (&amp; MS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alid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TCN (&amp; MS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DL, TTCN, MSC Over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formation reuse is not im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at convers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 facto isolation of work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ypical TTCN Function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s per SDL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st Su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ructure &amp; Tes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cted values for received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d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ss, Fail, Incon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ypical MSC Function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s per SDL (sub-set)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gnal transmissio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ong potential for automated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ink actual and intende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ossible Evol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rkets are driving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rvival of most efficient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fficient technology needs effici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fficient tools need efficient 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vergence of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lementation, validation &amp;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SC &amp; TTCN overlap strongly with S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L may be a wrapper for S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DL ‘03 Con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uttgart, 1st-4th July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k to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lecoms &amp; Automotiv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DL Design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mplest, validat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ffic Light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</a:t>
            </a: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SDL-FORUM.</a:t>
            </a: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gnall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ssible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DL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rigins as a graphical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pping from presentation to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hanced to ‚compete‘ with C++ &amp; 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rket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olog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DL Strong Poi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aphical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uitive, easy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stem Organisation &amp; Executio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 of States &amp;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SM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mplifies validation &amp;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DL Weak Poi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plexity affects tools &amp;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ols ar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sers need skill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DL, TTCN &amp; MSC evolved separ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alidation &amp; Maintenance out of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, C++, C#, Java have evolve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mercial tools are more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ignalling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ased on FS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ependent specialist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gh 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ns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de-range of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municating embedd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latively long life-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ypical SDL Function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archical Instantiation &amp;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ic, not 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tes, Signals, Timers,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ypes (Bit Oriented &amp; ASN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coding, decoding &amp; forma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lement, Validate,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ecify, Design, Code, Exe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ecify, Design, Code, Exe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gnose, Analyse, Implement, Val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52520" y="380520"/>
            <a:ext cx="809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nformation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115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nde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cte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tual behaviour under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tual behaviour in liv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3:17:34Z</dcterms:created>
  <dc:creator>Network Administrator</dc:creator>
  <dc:description/>
  <dc:language>en-US</dc:language>
  <cp:lastModifiedBy>Ansatt i</cp:lastModifiedBy>
  <dcterms:modified xsi:type="dcterms:W3CDTF">2002-11-21T07:29:31Z</dcterms:modified>
  <cp:revision>7</cp:revision>
  <dc:subject/>
  <dc:title>SDL &amp; Requirements of Signalling Systems</dc:title>
</cp:coreProperties>
</file>