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452-65F4-4BE7-A415-0DFE3A93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E92-7919-4D9D-AE9F-3215C9CF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788-E55A-41F2-BFF6-92300F09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0253-3489-479D-A7B9-A6CA456D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590F-86F5-4208-9226-9BED98AC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33A7-76D3-438B-8EFE-20A957F2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4816-203C-4015-999E-FF89C4BF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AC8C-97A1-4CB9-BAE2-FB84F063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D42F-8DD0-419B-A32F-3D4C7B3D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A350-4228-4E48-9989-8B6AA996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553F-2936-4E9F-B527-A40AEBA5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98F-716B-4F15-90F4-7EEF8D72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83EB-FA37-4E2A-A1C3-3CA9E734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3438-14C1-4DF3-B924-78F1E0F9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624B-2939-4658-A4CD-3C5F164E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5793-5EAB-448F-AD5E-6E3B2D73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33E5-40C7-46B6-8851-82735F5E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17D2-EC77-40C3-9820-7DC45EA2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3CB-53D6-42D5-B6CA-308B1EDF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791B-8AA2-41D4-814E-49369395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BC4-0412-4F96-B5DC-4E158B3B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FC0-06F9-4C20-B8C4-F3DCFF99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C84-5D21-447D-A7B9-D6FE37AB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A0A-7212-42D5-949E-BA0F72A1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066320" y="62485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ITU-T Study Group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66320" y="6324120"/>
            <a:ext cx="1676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324120"/>
            <a:ext cx="1600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3A9A-7FC0-4D2F-8E0D-4CCCEE302D67}" type="slidenum">
              <a:rPr b="0" lang="en-GB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TU_Logo" descr=""/>
          <p:cNvPicPr/>
          <p:nvPr/>
        </p:nvPicPr>
        <p:blipFill>
          <a:blip r:embed="rId2"/>
          <a:stretch/>
        </p:blipFill>
        <p:spPr>
          <a:xfrm>
            <a:off x="304920" y="6100920"/>
            <a:ext cx="620640" cy="68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9AF5-6A41-4C86-961E-2C0807EB34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ITU_Logo" descr=""/>
          <p:cNvPicPr/>
          <p:nvPr/>
        </p:nvPicPr>
        <p:blipFill>
          <a:blip r:embed="rId2"/>
          <a:stretch/>
        </p:blipFill>
        <p:spPr>
          <a:xfrm>
            <a:off x="4114800" y="533520"/>
            <a:ext cx="12492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  <a:p>
            <a:pPr lvl="1" marL="443160" indent="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2" marL="886680" algn="ctr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3" marL="1330200" algn="ctr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4" marL="1773720" algn="ctr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5" marL="17737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6" marL="17737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cc"/>
                </a:solidFill>
                <a:latin typeface="Times New Roman"/>
              </a:rPr>
              <a:t>ITU-T Languages @ SDOs</a:t>
            </a:r>
            <a:endParaRPr b="0" lang="en-US" sz="3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828800" y="39625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Amardeo Sarma</a:t>
            </a:r>
            <a:br>
              <a:rPr sz="2800"/>
            </a:b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Co-Chairman, ITU-T Study Group 17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Times New Roman"/>
              </a:rPr>
              <a:t>What about UML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UML is generic, SDL/MSC/TTCN are specific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SDL and MSC experts key for UML 2.0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Tools for </a:t>
            </a:r>
            <a:r>
              <a:rPr b="1" lang="en-GB" sz="2800" spc="-1" strike="noStrike">
                <a:solidFill>
                  <a:srgbClr val="660066"/>
                </a:solidFill>
                <a:latin typeface="Times New Roman"/>
              </a:rPr>
              <a:t>joint</a:t>
            </a: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 support available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UML without SDL is like a car without an engine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Co-operation with OMG in progres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If you really want UML, you can use it without losing the benefits of SDL/MSC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Times New Roman"/>
              </a:rPr>
              <a:t>What about XML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ASN.1 + XCN (XML Control Notation)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as powerful and expressive as</a:t>
            </a:r>
            <a:r>
              <a:rPr b="0" lang="de-DE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XSD (XML Schema Definition)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less verbose and much more readable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ASN.1 is a mature schema notation for XML. No schema mapping is needed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SN.1/XER</a:t>
            </a:r>
            <a:r>
              <a:rPr b="0" lang="de-DE" sz="2800" spc="-1" strike="noStrike">
                <a:solidFill>
                  <a:srgbClr val="660066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 efficient binary encodings with XML (+ XSL)</a:t>
            </a:r>
            <a:r>
              <a:rPr b="0" lang="de-DE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display (or transfer if needed)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CXER èASN.1/XER</a:t>
            </a:r>
            <a:r>
              <a:rPr b="0" lang="de-DE" sz="2800" spc="-1" strike="noStrike">
                <a:solidFill>
                  <a:srgbClr val="660066"/>
                </a:solidFill>
                <a:latin typeface="Times New Roman"/>
              </a:rPr>
              <a:t> as </a:t>
            </a: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a canonical variant of XER for secured transactions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XER tools </a:t>
            </a:r>
            <a:r>
              <a:rPr b="0" lang="de-DE" sz="2800" spc="-1" strike="noStrike">
                <a:solidFill>
                  <a:srgbClr val="660066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http://asn1.elibel.tm.fr/links/#xml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81080" y="2666880"/>
            <a:ext cx="6858000" cy="1524240"/>
          </a:xfrm>
          <a:prstGeom prst="foldedCorner">
            <a:avLst>
              <a:gd name="adj" fmla="val 12500"/>
            </a:avLst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SN.1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, MSC, SDL and TTCN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upport secure, hi-quality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533520"/>
            <a:ext cx="4876560" cy="1600200"/>
          </a:xfrm>
          <a:prstGeom prst="foldedCorner">
            <a:avLst>
              <a:gd name="adj" fmla="val 125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UML and XML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re easy and pop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4648320"/>
            <a:ext cx="7010640" cy="1371600"/>
          </a:xfrm>
          <a:prstGeom prst="bevel">
            <a:avLst>
              <a:gd name="adj" fmla="val 9722"/>
            </a:avLst>
          </a:prstGeom>
          <a:solidFill>
            <a:srgbClr val="0081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You use the best of two wor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Times New Roman"/>
              </a:rPr>
              <a:t>What ITU-Languages do for you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Provide a method supported by tool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Free ASN.1 tool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Free Telelogic reader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Allow checking correctness on the fly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Is the behaviour is what you really intended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Improves the quality of the standard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Interoperability is greatly improved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Once used properly, helps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save</a:t>
            </a: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 time!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Times New Roman"/>
              </a:rPr>
              <a:t>Obstacles to Language Us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Benefit unclear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Check track record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Formality reduces freedom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Freedom only reduced for issues needed for interoperation, use correct dose of formality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Quick and dirty is better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Are you going to spend more time later fixing holes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Times New Roman"/>
              </a:rPr>
              <a:t>Obstacles to Language Us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imes New Roman"/>
              </a:rPr>
              <a:t>No expertise in group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imes New Roman"/>
              </a:rPr>
              <a:t>Specialists should concentrate on their domain – get support for languag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imes New Roman"/>
              </a:rPr>
              <a:t>Missing suppor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60066"/>
                </a:solidFill>
                <a:latin typeface="Times New Roman"/>
              </a:rPr>
              <a:t>ITU </a:t>
            </a:r>
            <a:r>
              <a:rPr b="0" lang="en-GB" sz="3200" spc="-1" strike="noStrike">
                <a:solidFill>
                  <a:srgbClr val="660066"/>
                </a:solidFill>
                <a:latin typeface="Times New Roman"/>
              </a:rPr>
              <a:t>TSB should provide this!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imes New Roman"/>
              </a:rPr>
              <a:t>Or ask SG17 – we could e.g. provide tutorials in SDL, ASN.1 etc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imes New Roman"/>
              </a:rPr>
              <a:t>In general: Expertise is availabl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Times New Roman"/>
              </a:rPr>
              <a:t>Examples of successful us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60066"/>
                </a:solidFill>
                <a:latin typeface="Times New Roman"/>
              </a:rPr>
              <a:t>ASN.1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imes New Roman"/>
              </a:rPr>
              <a:t>Intelligent network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imes New Roman"/>
              </a:rPr>
              <a:t>G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imes New Roman"/>
              </a:rPr>
              <a:t>UMTS (3G cellphones)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imes New Roman"/>
              </a:rPr>
              <a:t>Voice over IP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60066"/>
                </a:solidFill>
                <a:latin typeface="Times New Roman"/>
              </a:rPr>
              <a:t>SD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imes New Roman"/>
              </a:rPr>
              <a:t>IN CS-2 / CS-3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imes New Roman"/>
              </a:rPr>
              <a:t>OSPF</a:t>
            </a:r>
            <a:r>
              <a:rPr b="0" lang="de-DE" sz="3200" spc="-1" strike="noStrike">
                <a:solidFill>
                  <a:srgbClr val="660066"/>
                </a:solidFill>
                <a:latin typeface="Times New Roman"/>
              </a:rPr>
              <a:t> (IETF)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Times New Roman"/>
              </a:rPr>
              <a:t>Remaining problem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imes New Roman"/>
              </a:rPr>
              <a:t>Viewing different levels of abstra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imes New Roman"/>
              </a:rPr>
              <a:t>Simplify techniques – lost intuitivenes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imes New Roman"/>
              </a:rPr>
              <a:t>Bridge the gap to users without specialist knowledge of formal techniqu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imes New Roman"/>
              </a:rPr>
              <a:t>Enable bottom-up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Times New Roman"/>
              </a:rPr>
              <a:t>Tool usage at ITU-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SDT is currently the standard tool at ITU and ETSI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Recommendation authors send SDT files, which are checked by TSB staff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Formal descriptions are considered non-cop</a:t>
            </a:r>
            <a:r>
              <a:rPr b="0" lang="de-DE" sz="28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righted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Common Interchange Format CIF is very important (e.g. for those using Cinderella)!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Availability of cheap or free lightweight tool for standards greatly helps promote SDL/MSC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The ITU-T CD-ROM, also available for you all, has been a step in this direction!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Times New Roman"/>
              </a:rPr>
              <a:t>Professional support is needed!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To further improve standards quality, SG17 reinforced the recommendation that TSB provide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expertise on a regular basis in the ITU-T languages and methodologies concerning the use of the language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tools, supporting and facilitating the use of ITU-T language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We really need permanently available experts at ITU-T: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ETSI success story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Demand must come from user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Times New Roman"/>
              </a:rPr>
              <a:t>Goal of standardisation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Create a common understanding for and define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Infrastructure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Product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Service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Protocol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Enable Communication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Enable interoperability and compatibility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Ease the life of providers and user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cc"/>
                </a:solidFill>
                <a:latin typeface="Times New Roman"/>
              </a:rPr>
              <a:t>Summary of possible action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Understand level of quality and need for formalised technique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Make tool support available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Make professional support available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Tools need improvement to cater for users developing standard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Enable constant feedback from users in standards as from industry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Use the crisis – Start a case study with Q16/11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36576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ITU-T SG17:</a:t>
            </a:r>
            <a:br>
              <a:rPr sz="2400"/>
            </a:br>
            <a:r>
              <a:rPr b="0" lang="en-GB" sz="2400" spc="-1" strike="noStrike">
                <a:solidFill>
                  <a:srgbClr val="0000cc"/>
                </a:solidFill>
                <a:latin typeface="Times New Roman"/>
              </a:rPr>
              <a:t>http://www.itu.int/ITU-T/studygroups/com17/index.html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cc"/>
                </a:solidFill>
                <a:latin typeface="Times New Roman"/>
              </a:rPr>
              <a:t>ASN.1 Consortium: http://www.asn1.org</a:t>
            </a:r>
            <a:br>
              <a:rPr sz="2400"/>
            </a:br>
            <a:r>
              <a:rPr b="0" lang="en-GB" sz="2400" spc="-1" strike="noStrike">
                <a:solidFill>
                  <a:srgbClr val="0000cc"/>
                </a:solidFill>
                <a:latin typeface="Times New Roman"/>
              </a:rPr>
              <a:t>SDL Forum Society: http//www.sdl-forum.org</a:t>
            </a:r>
            <a:br>
              <a:rPr sz="2400"/>
            </a:br>
            <a:r>
              <a:rPr b="0" lang="en-GB" sz="2400" spc="-1" strike="noStrike">
                <a:solidFill>
                  <a:srgbClr val="0000cc"/>
                </a:solidFill>
                <a:latin typeface="Times New Roman"/>
              </a:rPr>
              <a:t>Indian SDL and TTCN Forum: http://www.sdl-ttcnforum.org/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2133720"/>
            <a:ext cx="5715000" cy="1066680"/>
          </a:xfrm>
          <a:prstGeom prst="foldedCorner">
            <a:avLst>
              <a:gd name="adj" fmla="val 12500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lenty of information on the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cc"/>
                </a:solidFill>
                <a:latin typeface="Times New Roman"/>
              </a:rPr>
              <a:t>Special </a:t>
            </a:r>
            <a:r>
              <a:rPr b="0" lang="en-GB" sz="4400" spc="-1" strike="noStrike">
                <a:solidFill>
                  <a:srgbClr val="0000cc"/>
                </a:solidFill>
                <a:latin typeface="Times New Roman"/>
              </a:rPr>
              <a:t>Core Competencies at ITU-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Carrier class standards and specification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Experts and drivers in Telecommunication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Strong organisational and logistic support by the TSB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Fast standards track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make even better standards faster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4724280"/>
            <a:ext cx="5715000" cy="1067040"/>
          </a:xfrm>
          <a:prstGeom prst="foldedCorner">
            <a:avLst>
              <a:gd name="adj" fmla="val 12500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Quality of standards play a key r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Times New Roman"/>
              </a:rPr>
              <a:t>Writing standard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imes New Roman"/>
              </a:rPr>
              <a:t>Natural languag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imes New Roman"/>
              </a:rPr>
              <a:t>Tabl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imes New Roman"/>
              </a:rPr>
              <a:t>Diagrams, e.g. sequence diagram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imes New Roman"/>
              </a:rPr>
              <a:t>State diagram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imes New Roman"/>
              </a:rPr>
              <a:t>.....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4724280"/>
            <a:ext cx="5715000" cy="1067040"/>
          </a:xfrm>
          <a:prstGeom prst="foldedCorner">
            <a:avLst>
              <a:gd name="adj" fmla="val 12500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ually info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l – meaning uncl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Times New Roman"/>
              </a:rPr>
              <a:t>Improve standards clarity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Natural languages and informal aids not enough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Use formalised technique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Meaning (semantics) of used notation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Allow automatic checking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Machine-readable specifications – automatic implementation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Since the 70s, ITU-T (then CCITT) has developed FDTs – formal description technique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Today: ITU-T Language Family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Times New Roman"/>
              </a:rPr>
              <a:t>What makes the family different?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Real-time, distributed communicating system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Formal, allowing verification and validation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Supports transparency and security requirement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Many languages with a graphical syntax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Commercial tool support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Tool availability required for approval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Tools vendors directly involved in work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Catering for users both in Industry and in Standards bodies (SDOs), e.g. ITU-T SG 11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Times New Roman"/>
              </a:rPr>
              <a:t>The ITU-T language family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SDL – Specification and Description Language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MSC – Message Sequence Chart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eODL – extended Object Definition Language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ASN.1 – Abstract Syntax Notation One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TTCN – Tree and Tabular Combined Notation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CHILL – CCITT HIgh-Level Language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URN – User Requirements Notation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Incorporating Time and Performance into the language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Times New Roman"/>
              </a:rPr>
              <a:t>Language Usag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Initially, languages were mainly aimed at standards and Recommendation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For the core languages, industrial use has today far outgrown use in standards!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There is considerable potential left for SDOs to: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Improve quality of standard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Reduce time for standards development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66"/>
                </a:solidFill>
                <a:latin typeface="Times New Roman"/>
              </a:rPr>
              <a:t>But: Use requires some investment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Times New Roman"/>
              </a:rPr>
              <a:t>Our Strategy at ITU-T SG 17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133720"/>
            <a:ext cx="7925040" cy="2819160"/>
          </a:xfrm>
          <a:prstGeom prst="hexagon">
            <a:avLst>
              <a:gd name="adj" fmla="val 27057"/>
              <a:gd name="vf" fmla="val 115470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ep the edg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concentrating on th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fferentiating factors and focusing on our str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07:23:15Z</dcterms:created>
  <dc:creator>Roberto Wilson Meirelles de Castro</dc:creator>
  <dc:description/>
  <dc:language>en-US</dc:language>
  <cp:lastModifiedBy>Ansatt i</cp:lastModifiedBy>
  <dcterms:modified xsi:type="dcterms:W3CDTF">2002-11-26T12:37:23Z</dcterms:modified>
  <cp:revision>288</cp:revision>
  <dc:subject/>
  <dc:title>PowerPoint Presentation</dc:title>
</cp:coreProperties>
</file>