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e1f7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4FDD-E3D1-4DE4-A4B4-52BEE75E80CC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2FF8-FEEF-44E2-A93C-E6AF801E5011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3520" y="4376520"/>
            <a:ext cx="5079960" cy="40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328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4760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328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4760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328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47600" y="36572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328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547600" y="401544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9280" y="40154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99280" y="365724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01544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4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5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6" marL="1457280" indent="-304920">
              <a:spcBef>
                <a:spcPts val="60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1f7c"/>
                </a:solidFill>
                <a:latin typeface="Arial"/>
              </a:rPr>
              <a:t>16 Nov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40044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0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C10E-0DFD-442B-9682-02E698A098D3}" type="slidenum">
              <a:rPr b="0" lang="nn-NO" sz="1000" spc="-1" strike="noStrike">
                <a:solidFill>
                  <a:srgbClr val="0e1f7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e1f7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21896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e1f7c"/>
                </a:solidFill>
                <a:latin typeface="Arial"/>
              </a:rPr>
              <a:t>16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2819160" y="44197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n-NO" sz="1200" spc="-1" strike="noStrike">
                <a:solidFill>
                  <a:srgbClr val="0e1f7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200" spc="-1" strike="noStrike">
                <a:solidFill>
                  <a:srgbClr val="0e1f7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28908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581040" algn="ctr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3" marL="865080" algn="ctr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4" marL="1152360" algn="ctr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5" marL="1152360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6" marL="1152360"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1f7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800" spc="-1" strike="noStrike">
                <a:solidFill>
                  <a:srgbClr val="0e1f7c"/>
                </a:solidFill>
                <a:latin typeface="Arial"/>
              </a:rPr>
              <a:t>Use and needs of description techniques in Study Group 4</a:t>
            </a:r>
            <a:br>
              <a:rPr sz="3800"/>
            </a:br>
            <a:endParaRPr b="0" lang="en-US" sz="3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Knut Johannessen 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Rapporteur Q.12/4, Telenor, Norway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72526-3367-44E7-ADB1-0353B7F82D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urrent approach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26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219320"/>
          <a:ext cx="8686800" cy="50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19320"/>
                    <a:ext cx="868680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481920" y="581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3640" y="4038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B363C-6824-4DD9-9EAB-2F82275DDD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urrent practic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89480" y="1225440"/>
            <a:ext cx="3052440" cy="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84440" y="1219320"/>
            <a:ext cx="3057480" cy="988920"/>
          </a:xfrm>
          <a:custGeom>
            <a:avLst/>
            <a:gdLst/>
            <a:ahLst/>
            <a:rect l="l" t="t" r="r" b="b"/>
            <a:pathLst>
              <a:path w="1926" h="623">
                <a:moveTo>
                  <a:pt x="3" y="0"/>
                </a:moveTo>
                <a:lnTo>
                  <a:pt x="0" y="0"/>
                </a:lnTo>
                <a:lnTo>
                  <a:pt x="0" y="623"/>
                </a:lnTo>
                <a:lnTo>
                  <a:pt x="1926" y="623"/>
                </a:lnTo>
                <a:lnTo>
                  <a:pt x="1926" y="0"/>
                </a:lnTo>
                <a:lnTo>
                  <a:pt x="1922" y="0"/>
                </a:lnTo>
                <a:lnTo>
                  <a:pt x="3" y="0"/>
                </a:lnTo>
                <a:lnTo>
                  <a:pt x="3" y="8"/>
                </a:lnTo>
                <a:lnTo>
                  <a:pt x="1922" y="8"/>
                </a:lnTo>
                <a:lnTo>
                  <a:pt x="1919" y="4"/>
                </a:lnTo>
                <a:lnTo>
                  <a:pt x="1919" y="619"/>
                </a:lnTo>
                <a:lnTo>
                  <a:pt x="1922" y="615"/>
                </a:lnTo>
                <a:lnTo>
                  <a:pt x="3" y="615"/>
                </a:lnTo>
                <a:lnTo>
                  <a:pt x="7" y="619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69920" y="4822920"/>
            <a:ext cx="146700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3800" y="4816440"/>
            <a:ext cx="1473120" cy="1233360"/>
          </a:xfrm>
          <a:custGeom>
            <a:avLst/>
            <a:gdLst/>
            <a:ahLst/>
            <a:rect l="l" t="t" r="r" b="b"/>
            <a:pathLst>
              <a:path w="928" h="777">
                <a:moveTo>
                  <a:pt x="4" y="0"/>
                </a:moveTo>
                <a:lnTo>
                  <a:pt x="0" y="0"/>
                </a:lnTo>
                <a:lnTo>
                  <a:pt x="0" y="777"/>
                </a:lnTo>
                <a:lnTo>
                  <a:pt x="928" y="777"/>
                </a:lnTo>
                <a:lnTo>
                  <a:pt x="928" y="0"/>
                </a:lnTo>
                <a:lnTo>
                  <a:pt x="924" y="0"/>
                </a:lnTo>
                <a:lnTo>
                  <a:pt x="4" y="0"/>
                </a:lnTo>
                <a:lnTo>
                  <a:pt x="4" y="8"/>
                </a:lnTo>
                <a:lnTo>
                  <a:pt x="924" y="8"/>
                </a:lnTo>
                <a:lnTo>
                  <a:pt x="920" y="4"/>
                </a:lnTo>
                <a:lnTo>
                  <a:pt x="920" y="773"/>
                </a:lnTo>
                <a:lnTo>
                  <a:pt x="924" y="769"/>
                </a:lnTo>
                <a:lnTo>
                  <a:pt x="4" y="769"/>
                </a:lnTo>
                <a:lnTo>
                  <a:pt x="7" y="773"/>
                </a:lnTo>
                <a:lnTo>
                  <a:pt x="7" y="4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2920" y="4822920"/>
            <a:ext cx="146700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4816440"/>
            <a:ext cx="1473120" cy="1233360"/>
          </a:xfrm>
          <a:custGeom>
            <a:avLst/>
            <a:gdLst/>
            <a:ahLst/>
            <a:rect l="l" t="t" r="r" b="b"/>
            <a:pathLst>
              <a:path w="928" h="777">
                <a:moveTo>
                  <a:pt x="4" y="0"/>
                </a:moveTo>
                <a:lnTo>
                  <a:pt x="0" y="0"/>
                </a:lnTo>
                <a:lnTo>
                  <a:pt x="0" y="777"/>
                </a:lnTo>
                <a:lnTo>
                  <a:pt x="928" y="777"/>
                </a:lnTo>
                <a:lnTo>
                  <a:pt x="928" y="0"/>
                </a:lnTo>
                <a:lnTo>
                  <a:pt x="924" y="0"/>
                </a:lnTo>
                <a:lnTo>
                  <a:pt x="4" y="0"/>
                </a:lnTo>
                <a:lnTo>
                  <a:pt x="4" y="8"/>
                </a:lnTo>
                <a:lnTo>
                  <a:pt x="924" y="8"/>
                </a:lnTo>
                <a:lnTo>
                  <a:pt x="920" y="4"/>
                </a:lnTo>
                <a:lnTo>
                  <a:pt x="920" y="773"/>
                </a:lnTo>
                <a:lnTo>
                  <a:pt x="924" y="769"/>
                </a:lnTo>
                <a:lnTo>
                  <a:pt x="4" y="769"/>
                </a:lnTo>
                <a:lnTo>
                  <a:pt x="8" y="773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8600" y="4822920"/>
            <a:ext cx="147348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3920" y="4816440"/>
            <a:ext cx="1478160" cy="1233360"/>
          </a:xfrm>
          <a:custGeom>
            <a:avLst/>
            <a:gdLst/>
            <a:ahLst/>
            <a:rect l="l" t="t" r="r" b="b"/>
            <a:pathLst>
              <a:path w="931" h="777">
                <a:moveTo>
                  <a:pt x="3" y="0"/>
                </a:moveTo>
                <a:lnTo>
                  <a:pt x="0" y="0"/>
                </a:lnTo>
                <a:lnTo>
                  <a:pt x="0" y="777"/>
                </a:lnTo>
                <a:lnTo>
                  <a:pt x="931" y="777"/>
                </a:lnTo>
                <a:lnTo>
                  <a:pt x="931" y="0"/>
                </a:lnTo>
                <a:lnTo>
                  <a:pt x="927" y="0"/>
                </a:lnTo>
                <a:lnTo>
                  <a:pt x="3" y="0"/>
                </a:lnTo>
                <a:lnTo>
                  <a:pt x="3" y="8"/>
                </a:lnTo>
                <a:lnTo>
                  <a:pt x="927" y="8"/>
                </a:lnTo>
                <a:lnTo>
                  <a:pt x="924" y="4"/>
                </a:lnTo>
                <a:lnTo>
                  <a:pt x="924" y="773"/>
                </a:lnTo>
                <a:lnTo>
                  <a:pt x="927" y="769"/>
                </a:lnTo>
                <a:lnTo>
                  <a:pt x="3" y="769"/>
                </a:lnTo>
                <a:lnTo>
                  <a:pt x="7" y="773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06680" y="5442120"/>
            <a:ext cx="863640" cy="12600"/>
          </a:xfrm>
          <a:custGeom>
            <a:avLst/>
            <a:gdLst/>
            <a:ahLst/>
            <a:rect l="l" t="t" r="r" b="b"/>
            <a:pathLst>
              <a:path w="544" h="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544" y="8"/>
                </a:lnTo>
                <a:lnTo>
                  <a:pt x="544" y="0"/>
                </a:lnTo>
                <a:lnTo>
                  <a:pt x="541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57640" y="539424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0"/>
                </a:moveTo>
                <a:lnTo>
                  <a:pt x="68" y="34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51160" y="5388120"/>
            <a:ext cx="119160" cy="125280"/>
          </a:xfrm>
          <a:custGeom>
            <a:avLst/>
            <a:gdLst/>
            <a:ahLst/>
            <a:rect l="l" t="t" r="r" b="b"/>
            <a:pathLst>
              <a:path w="75" h="79">
                <a:moveTo>
                  <a:pt x="8" y="4"/>
                </a:moveTo>
                <a:lnTo>
                  <a:pt x="4" y="8"/>
                </a:lnTo>
                <a:lnTo>
                  <a:pt x="72" y="42"/>
                </a:lnTo>
                <a:lnTo>
                  <a:pt x="72" y="34"/>
                </a:lnTo>
                <a:lnTo>
                  <a:pt x="4" y="72"/>
                </a:lnTo>
                <a:lnTo>
                  <a:pt x="8" y="75"/>
                </a:lnTo>
                <a:lnTo>
                  <a:pt x="8" y="4"/>
                </a:lnTo>
                <a:lnTo>
                  <a:pt x="0" y="4"/>
                </a:lnTo>
                <a:lnTo>
                  <a:pt x="0" y="75"/>
                </a:lnTo>
                <a:lnTo>
                  <a:pt x="0" y="79"/>
                </a:lnTo>
                <a:lnTo>
                  <a:pt x="4" y="79"/>
                </a:lnTo>
                <a:lnTo>
                  <a:pt x="72" y="42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2" y="3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96920" y="1569960"/>
            <a:ext cx="254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6680" y="233352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Paradigm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360" y="2589120"/>
            <a:ext cx="112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5840" y="512604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Paradigm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9720" y="538164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9360" y="498960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CMIP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6312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832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6520" y="498960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CORBA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260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780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4989600"/>
            <a:ext cx="13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Other Paradigm-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92800" y="5227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9240" y="547200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7480" y="54864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47760" y="2209680"/>
            <a:ext cx="190476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2209680"/>
            <a:ext cx="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209680"/>
            <a:ext cx="2133360" cy="259092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7680" y="33526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X.78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50640" y="33526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2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5240" y="3352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30 tML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e1f7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31920" y="1523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M.3020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59B4-DFE7-41A3-B429-EBB771882A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M.3020 – TMN UTRAD methodology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Unified TMN Requirements, Analysis and Desig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Guidelines for the Definition of Management Interface (GDMI)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Business level requiremen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Actor rol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elecommunications resourc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High-level use cas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Specification level requirements – refinement of high-level use cas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Actor rol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elecommunications resourc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TMN management function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lnSpc>
                <a:spcPct val="90000"/>
              </a:lnSpc>
              <a:spcBef>
                <a:spcPts val="400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e1f7c"/>
                </a:solidFill>
                <a:latin typeface="Arial"/>
              </a:rPr>
              <a:t>Use cases</a:t>
            </a:r>
            <a:endParaRPr b="0" lang="en-US" sz="16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Analysis - </a:t>
            </a: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Implementation independent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e1f7c"/>
                </a:solidFill>
                <a:latin typeface="Arial"/>
              </a:rPr>
              <a:t>GDMO/ASN.1, IDL, …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A6FD4-4580-49CC-9895-45931A2192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Selected elements of UTRAD analysis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Functional decomposition, information flows, class diagrams (including relationships between classes), sequence diagrams and state charts/tabl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class diagrams may be augmented with details of attributes and allowed operation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extual description is required to augment the figures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Detailed descriptions of the Management Functions and interactions between the functions shall be provided.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information flow associated with each function should generally be captured using simple tables defining the flow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analysis may include state models as a result of information flow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The scenarios describing the information flow amongst the entities may be described using the sequence diagra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"/>
                <a:ea typeface="Times New Roman"/>
              </a:rPr>
              <a:t>Pre- and post-conditions may be used to describe the information flows in the interaction diagrams.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DB808-A6E6-4ACC-83FC-43FF560E78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UTRAD use of UML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880" y="990720"/>
            <a:ext cx="8153280" cy="5410080"/>
            <a:chOff x="380880" y="990720"/>
            <a:chExt cx="8153280" cy="5410080"/>
          </a:xfrm>
        </p:grpSpPr>
        <p:grpSp>
          <p:nvGrpSpPr>
            <p:cNvPr id="245" name=""/>
            <p:cNvGrpSpPr/>
            <p:nvPr/>
          </p:nvGrpSpPr>
          <p:grpSpPr>
            <a:xfrm>
              <a:off x="387000" y="993960"/>
              <a:ext cx="8140320" cy="5402880"/>
              <a:chOff x="387000" y="993960"/>
              <a:chExt cx="8140320" cy="54028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87000" y="993960"/>
                <a:ext cx="2208960" cy="586440"/>
                <a:chOff x="387000" y="993960"/>
                <a:chExt cx="2208960" cy="5864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77360" y="99396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MN concep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7000" y="99396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6320" y="993960"/>
                <a:ext cx="1474560" cy="586440"/>
                <a:chOff x="2596320" y="993960"/>
                <a:chExt cx="1474560" cy="586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686320" y="99396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ML notation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6320" y="99396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071600" y="993960"/>
                <a:ext cx="4455720" cy="586440"/>
                <a:chOff x="4071600" y="993960"/>
                <a:chExt cx="4455720" cy="586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161960" y="99396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Commen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71600" y="99396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1580400"/>
                <a:ext cx="2208960" cy="461880"/>
                <a:chOff x="387000" y="1580400"/>
                <a:chExt cx="2208960" cy="461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360" y="1580400"/>
                  <a:ext cx="202788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1580400"/>
                  <a:ext cx="220896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596320" y="1580400"/>
                <a:ext cx="1474560" cy="461880"/>
                <a:chOff x="2596320" y="1580400"/>
                <a:chExt cx="1474560" cy="461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686320" y="1580400"/>
                  <a:ext cx="129456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cto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596320" y="1580400"/>
                  <a:ext cx="147456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071600" y="1580400"/>
                <a:ext cx="4455720" cy="461880"/>
                <a:chOff x="4071600" y="1580400"/>
                <a:chExt cx="4455720" cy="461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161960" y="1580400"/>
                  <a:ext cx="427464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user is modelled as an actor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71600" y="1580400"/>
                  <a:ext cx="445572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87000" y="2042640"/>
                <a:ext cx="2208960" cy="586440"/>
                <a:chOff x="387000" y="2042640"/>
                <a:chExt cx="2208960" cy="5864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77360" y="204264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rol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7000" y="204264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596320" y="2042640"/>
                <a:ext cx="1474560" cy="586440"/>
                <a:chOff x="2596320" y="2042640"/>
                <a:chExt cx="1474560" cy="5864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686320" y="204264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ctor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596320" y="204264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071600" y="2042640"/>
                <a:ext cx="4455720" cy="586440"/>
                <a:chOff x="4071600" y="2042640"/>
                <a:chExt cx="4455720" cy="58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161960" y="204264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n actor plays a role. It is normally advisable to only model a single role for each actor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1600" y="204264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87000" y="2629080"/>
                <a:ext cx="2208960" cy="586440"/>
                <a:chOff x="387000" y="2629080"/>
                <a:chExt cx="2208960" cy="58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7360" y="262908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function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7000" y="262908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596320" y="2629080"/>
                <a:ext cx="1474560" cy="586440"/>
                <a:chOff x="2596320" y="2629080"/>
                <a:chExt cx="1474560" cy="58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86320" y="262908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96320" y="262908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71600" y="2629080"/>
                <a:ext cx="4455720" cy="586440"/>
                <a:chOff x="4071600" y="2629080"/>
                <a:chExt cx="4455720" cy="58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61960" y="262908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function is modelled by one or more use cases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71600" y="262908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87000" y="3215520"/>
                <a:ext cx="2208960" cy="710640"/>
                <a:chOff x="387000" y="3215520"/>
                <a:chExt cx="2208960" cy="710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77360" y="3215520"/>
                  <a:ext cx="202788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function set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7000" y="3215520"/>
                  <a:ext cx="22089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596320" y="3215520"/>
                <a:ext cx="1474560" cy="710640"/>
                <a:chOff x="2596320" y="3215520"/>
                <a:chExt cx="1474560" cy="710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86320" y="3215520"/>
                  <a:ext cx="129456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96320" y="3215520"/>
                  <a:ext cx="14745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071600" y="3215520"/>
                <a:ext cx="4455720" cy="710640"/>
                <a:chOff x="4071600" y="3215520"/>
                <a:chExt cx="4455720" cy="710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161960" y="3215520"/>
                  <a:ext cx="427464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function set is a composite use case with each management function (potentially) modelled as a separate use case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071600" y="3215520"/>
                  <a:ext cx="445572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87000" y="3926520"/>
                <a:ext cx="2208960" cy="586440"/>
                <a:chOff x="387000" y="3926520"/>
                <a:chExt cx="2208960" cy="586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77360" y="392652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servic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7000" y="392652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596320" y="3926520"/>
                <a:ext cx="1474560" cy="586440"/>
                <a:chOff x="2596320" y="3926520"/>
                <a:chExt cx="1474560" cy="5864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686320" y="392652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use cas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96320" y="392652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071600" y="3926520"/>
                <a:ext cx="4455720" cy="586440"/>
                <a:chOff x="4071600" y="3926520"/>
                <a:chExt cx="4455720" cy="586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161960" y="392652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A management service is modelled as a high-level use case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071600" y="392652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87000" y="4512960"/>
                <a:ext cx="2208960" cy="586440"/>
                <a:chOff x="387000" y="4512960"/>
                <a:chExt cx="2208960" cy="5864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77360" y="451296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scenario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7000" y="451296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596320" y="4512960"/>
                <a:ext cx="1474560" cy="586440"/>
                <a:chOff x="2596320" y="4512960"/>
                <a:chExt cx="1474560" cy="5864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86320" y="451296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sequence diagram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96320" y="451296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71600" y="4512960"/>
                <a:ext cx="4455720" cy="586440"/>
                <a:chOff x="4071600" y="4512960"/>
                <a:chExt cx="4455720" cy="5864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161960" y="451296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Sequence diagrams are preferred over collaboration diagrams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071600" y="451296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87000" y="5099760"/>
                <a:ext cx="2208960" cy="710640"/>
                <a:chOff x="387000" y="5099760"/>
                <a:chExt cx="2208960" cy="7106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77360" y="5099760"/>
                  <a:ext cx="202788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elecommunication resource type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87000" y="5099760"/>
                  <a:ext cx="22089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596320" y="5099760"/>
                <a:ext cx="1474560" cy="710640"/>
                <a:chOff x="2596320" y="5099760"/>
                <a:chExt cx="1474560" cy="7106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686320" y="5099760"/>
                  <a:ext cx="129456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Class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596320" y="5099760"/>
                  <a:ext cx="147456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071600" y="5099760"/>
                <a:ext cx="4455720" cy="710640"/>
                <a:chOff x="4071600" y="5099760"/>
                <a:chExt cx="4455720" cy="7106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161960" y="5099760"/>
                  <a:ext cx="4274640" cy="71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The class diagrams depict the property details of the telecommunications resource type, at the level of detail appropriate to the phase of the methodology.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071600" y="5099760"/>
                  <a:ext cx="445572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87000" y="5810400"/>
                <a:ext cx="2208960" cy="586440"/>
                <a:chOff x="387000" y="5810400"/>
                <a:chExt cx="2208960" cy="586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77360" y="5810400"/>
                  <a:ext cx="20278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goals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87000" y="5810400"/>
                  <a:ext cx="22089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596320" y="5810400"/>
                <a:ext cx="1474560" cy="586440"/>
                <a:chOff x="2596320" y="5810400"/>
                <a:chExt cx="1474560" cy="5864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686320" y="5810400"/>
                  <a:ext cx="129456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–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596320" y="5810400"/>
                  <a:ext cx="147456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071600" y="5810400"/>
                <a:ext cx="4455720" cy="586440"/>
                <a:chOff x="4071600" y="5810400"/>
                <a:chExt cx="4455720" cy="586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61960" y="5810400"/>
                  <a:ext cx="42746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500" spc="-1" strike="noStrike">
                      <a:solidFill>
                        <a:srgbClr val="0e1f7c"/>
                      </a:solidFill>
                      <a:latin typeface="Times New Roman"/>
                      <a:ea typeface="Times New Roman"/>
                    </a:rPr>
                    <a:t>Management goals are captured as textual descriptions as there is no applicable UML notation. </a:t>
                  </a: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1080"/>
                      <a:tab algn="l" pos="539640"/>
                      <a:tab algn="l" pos="900000"/>
                      <a:tab algn="l" pos="1260360"/>
                      <a:tab algn="l" pos="1620720"/>
                      <a:tab algn="l" pos="1981080"/>
                      <a:tab algn="l" pos="23400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071600" y="5810400"/>
                  <a:ext cx="445572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e1f7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380880" y="990720"/>
              <a:ext cx="8153280" cy="5410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E1D36-9348-4112-8695-1E58B69636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Methodology evolution and refinement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219320"/>
            <a:ext cx="3068640" cy="988920"/>
          </a:xfrm>
          <a:custGeom>
            <a:avLst/>
            <a:gdLst/>
            <a:ahLst/>
            <a:rect l="l" t="t" r="r" b="b"/>
            <a:pathLst>
              <a:path w="1926" h="623">
                <a:moveTo>
                  <a:pt x="3" y="0"/>
                </a:moveTo>
                <a:lnTo>
                  <a:pt x="0" y="0"/>
                </a:lnTo>
                <a:lnTo>
                  <a:pt x="0" y="623"/>
                </a:lnTo>
                <a:lnTo>
                  <a:pt x="1926" y="623"/>
                </a:lnTo>
                <a:lnTo>
                  <a:pt x="1926" y="0"/>
                </a:lnTo>
                <a:lnTo>
                  <a:pt x="1922" y="0"/>
                </a:lnTo>
                <a:lnTo>
                  <a:pt x="3" y="0"/>
                </a:lnTo>
                <a:lnTo>
                  <a:pt x="3" y="8"/>
                </a:lnTo>
                <a:lnTo>
                  <a:pt x="1922" y="8"/>
                </a:lnTo>
                <a:lnTo>
                  <a:pt x="1919" y="4"/>
                </a:lnTo>
                <a:lnTo>
                  <a:pt x="1919" y="619"/>
                </a:lnTo>
                <a:lnTo>
                  <a:pt x="1922" y="615"/>
                </a:lnTo>
                <a:lnTo>
                  <a:pt x="3" y="615"/>
                </a:lnTo>
                <a:lnTo>
                  <a:pt x="7" y="619"/>
                </a:lnTo>
                <a:lnTo>
                  <a:pt x="7" y="4"/>
                </a:lnTo>
                <a:lnTo>
                  <a:pt x="3" y="8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8600" y="4822920"/>
            <a:ext cx="1473480" cy="12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06680" y="5442120"/>
            <a:ext cx="863640" cy="12600"/>
          </a:xfrm>
          <a:custGeom>
            <a:avLst/>
            <a:gdLst/>
            <a:ahLst/>
            <a:rect l="l" t="t" r="r" b="b"/>
            <a:pathLst>
              <a:path w="544" h="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544" y="8"/>
                </a:lnTo>
                <a:lnTo>
                  <a:pt x="544" y="0"/>
                </a:lnTo>
                <a:lnTo>
                  <a:pt x="541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57640" y="539424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0"/>
                </a:moveTo>
                <a:lnTo>
                  <a:pt x="68" y="34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51160" y="5388120"/>
            <a:ext cx="119160" cy="125280"/>
          </a:xfrm>
          <a:custGeom>
            <a:avLst/>
            <a:gdLst/>
            <a:ahLst/>
            <a:rect l="l" t="t" r="r" b="b"/>
            <a:pathLst>
              <a:path w="75" h="79">
                <a:moveTo>
                  <a:pt x="8" y="4"/>
                </a:moveTo>
                <a:lnTo>
                  <a:pt x="4" y="8"/>
                </a:lnTo>
                <a:lnTo>
                  <a:pt x="72" y="42"/>
                </a:lnTo>
                <a:lnTo>
                  <a:pt x="72" y="34"/>
                </a:lnTo>
                <a:lnTo>
                  <a:pt x="4" y="72"/>
                </a:lnTo>
                <a:lnTo>
                  <a:pt x="8" y="75"/>
                </a:lnTo>
                <a:lnTo>
                  <a:pt x="8" y="4"/>
                </a:lnTo>
                <a:lnTo>
                  <a:pt x="0" y="4"/>
                </a:lnTo>
                <a:lnTo>
                  <a:pt x="0" y="75"/>
                </a:lnTo>
                <a:lnTo>
                  <a:pt x="0" y="79"/>
                </a:lnTo>
                <a:lnTo>
                  <a:pt x="4" y="79"/>
                </a:lnTo>
                <a:lnTo>
                  <a:pt x="72" y="42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2" y="3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6920" y="1569960"/>
            <a:ext cx="254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19640" y="3249720"/>
            <a:ext cx="33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digm Independent 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05160" y="498960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IP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6312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2832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16280" y="498960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-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2600" y="524520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47800" y="550224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30920" y="4989600"/>
            <a:ext cx="13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Paradigm-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92800" y="5227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79240" y="547200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2209680"/>
            <a:ext cx="0" cy="83844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91520" y="3733920"/>
            <a:ext cx="0" cy="1066680"/>
          </a:xfrm>
          <a:prstGeom prst="line">
            <a:avLst/>
          </a:prstGeom>
          <a:ln w="9360">
            <a:solidFill>
              <a:srgbClr val="0e1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4800600"/>
            <a:ext cx="144792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4800600"/>
            <a:ext cx="144792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9400" y="4800600"/>
            <a:ext cx="1600200" cy="12193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4200" y="1295280"/>
            <a:ext cx="14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Process,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ation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ceability,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3048120"/>
            <a:ext cx="5638680" cy="68580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2286000"/>
            <a:ext cx="13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Framework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Guidelines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ation,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3733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(level of mechanization?)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6840" y="38862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200400" y="3733920"/>
            <a:ext cx="0" cy="1371600"/>
          </a:xfrm>
          <a:prstGeom prst="line">
            <a:avLst/>
          </a:prstGeom>
          <a:ln w="57240">
            <a:solidFill>
              <a:srgbClr val="4085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280" y="39625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Reuse?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(how)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6019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Rich set of information models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CC54F-5086-45F9-8FE8-D63784955B5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Cooperation between SG4 and SG17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Requirements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Possible use of URN by SG4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Application of URN to M.3208.1 would be a good test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 algn="just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M.3208.1 describes requirements for management of leased lines across an X-interface (between different TMN domains such as between different telecom operators). 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Protocol netural specific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How to best apply UM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Specification transformatio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Language support of mapping between the protocol/paradigm neutral and specific level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Other area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 algn="just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1f7c"/>
                </a:solidFill>
                <a:latin typeface="Arial Unicode MS"/>
                <a:ea typeface="Arial Unicode MS"/>
              </a:rPr>
              <a:t>What other languages developed by SG17 would add value to the TMN methodology?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235B-CE70-4324-A928-769482117D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Outlin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SG4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sponsibility and organization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minder of TMN architecture and management paradig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view of historic practic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Specification of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TM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Exchange of designator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Current practic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Need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Evolving technology support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Common specifications  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Revised methodology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5903D-CB26-470A-8352-D137D354B0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83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ITU-T SG 4 Organization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5168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1/4 - Designations, performance, and test equip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2/4: Designations for interconnections among network operator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3/4: Transport network and service operations procedures for performance and fault manage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4/4: Test and measurement techniques and instrumentation for use on telecommunication systems and their constituent par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5/4: Jitter and wander test and measurement techniques and instrumentation for use on telecommunication systems and their constituent part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2/4: Common telecommunication management capabiliti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7/4: TMN principles and architectur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8/4: Requirements for the TMN user interface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9/4: Requirements for the TMN X interfac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0/4: Framework for unified management of integrated circuit-switched and packet-based networks (with an initial emphasis on IP-based networks)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1" marL="622800" indent="-368640">
              <a:lnSpc>
                <a:spcPct val="90000"/>
              </a:lnSpc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1/4: Principles of the customer network management and network-network management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4BEB8-E178-438D-85BF-36946F4DA35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086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ITU-T SG 4 Organization (cont’d)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33148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3/4: Telecommunication management information modelling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2/4: Methodology and generic information models for TMN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3/4: Generic network level management of transmission system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4/4: Management models for ANT and ATM network elements, including the support of access signalling and IP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6/4: TMN management support for IMT-2000 and IN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Working Party 4/4: Telecommunication management infrastructure capabiliti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7/4: Open distributed management infrastructure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8/4: Protocols to support operations, adminstration, and maintenance at the F, Q, and X interfa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637200" indent="-376920">
              <a:lnSpc>
                <a:spcPct val="90000"/>
              </a:lnSpc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  <a:ea typeface="ＭＳ Ｐゴシック"/>
              </a:rPr>
              <a:t>Q 19/4: Information models for management applications related to switching and generic support servic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C896-18D2-41D6-9FBE-2B1A436EDE1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Relationship to Telecommunications Networks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8520" y="1200240"/>
            <a:ext cx="8556840" cy="5048280"/>
            <a:chOff x="128520" y="1200240"/>
            <a:chExt cx="8556840" cy="5048280"/>
          </a:xfrm>
        </p:grpSpPr>
        <p:sp>
          <p:nvSpPr>
            <p:cNvPr id="97" name=""/>
            <p:cNvSpPr/>
            <p:nvPr/>
          </p:nvSpPr>
          <p:spPr>
            <a:xfrm>
              <a:off x="565200" y="4489560"/>
              <a:ext cx="7988400" cy="119520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3520" y="1974960"/>
              <a:ext cx="113004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1840" y="2089080"/>
              <a:ext cx="1038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raffic Mgt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2600" y="1974960"/>
              <a:ext cx="113040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11080" y="2089080"/>
              <a:ext cx="11790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Surveillance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17880" y="1974960"/>
              <a:ext cx="1130400" cy="596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2680" y="2089080"/>
              <a:ext cx="1206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Provisioning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51200" y="3041640"/>
              <a:ext cx="3340080" cy="977760"/>
            </a:xfrm>
            <a:prstGeom prst="ellipse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7640" y="3384720"/>
              <a:ext cx="2759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Data Communications Network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1240" y="2592360"/>
              <a:ext cx="0" cy="43020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436720" y="2592360"/>
              <a:ext cx="303480" cy="5065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0" y="2592360"/>
              <a:ext cx="430200" cy="5065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21240" y="4040280"/>
              <a:ext cx="0" cy="7347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379320" y="4040280"/>
              <a:ext cx="608040" cy="7347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160360" y="3963960"/>
              <a:ext cx="1369800" cy="811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73720" y="3963960"/>
              <a:ext cx="430200" cy="811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54600" y="3887640"/>
              <a:ext cx="1192320" cy="88740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1608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00400" y="1601280"/>
              <a:ext cx="0" cy="3668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3540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57880" y="1601280"/>
              <a:ext cx="0" cy="3668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0680" y="127620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753160" y="1601280"/>
              <a:ext cx="0" cy="34164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72440" y="2521080"/>
              <a:ext cx="414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211800" y="2668320"/>
              <a:ext cx="1090800" cy="747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93680" y="1666800"/>
              <a:ext cx="622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e1f7c"/>
                  </a:solidFill>
                  <a:latin typeface="Arial"/>
                </a:rPr>
                <a:t>TMN</a:t>
              </a:r>
              <a:endParaRPr b="0" lang="en-US" sz="18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1680" y="2457360"/>
              <a:ext cx="444240" cy="38124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18080" y="12128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35400" y="12128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3480" y="1200240"/>
              <a:ext cx="444600" cy="38088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5200" y="5369040"/>
              <a:ext cx="2651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elecommunications Network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848720" y="5181480"/>
              <a:ext cx="53316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04120" y="4876920"/>
              <a:ext cx="671400" cy="2775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231560" y="4952880"/>
              <a:ext cx="569880" cy="3286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2720" y="4114800"/>
              <a:ext cx="14047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38080" y="5143680"/>
              <a:ext cx="4827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163200" y="1585800"/>
              <a:ext cx="122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Work Station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7000" y="266688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5440" y="4800600"/>
              <a:ext cx="5638680" cy="533520"/>
            </a:xfrm>
            <a:prstGeom prst="rect">
              <a:avLst/>
            </a:prstGeom>
            <a:noFill/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5240" y="4800600"/>
              <a:ext cx="432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Access, switching, routing, transport, and server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network elements and network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9320" y="2655720"/>
              <a:ext cx="1691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peration System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8800" y="1484280"/>
              <a:ext cx="6667560" cy="3414600"/>
            </a:xfrm>
            <a:prstGeom prst="rect">
              <a:avLst/>
            </a:prstGeom>
            <a:noFill/>
            <a:ln cap="rnd" w="9360">
              <a:solidFill>
                <a:srgbClr val="99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74360" y="3505320"/>
              <a:ext cx="2057400" cy="0"/>
            </a:xfrm>
            <a:prstGeom prst="line">
              <a:avLst/>
            </a:prstGeom>
            <a:ln w="93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20" y="322596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e1f7c"/>
                  </a:solidFill>
                  <a:latin typeface="Arial"/>
                </a:rPr>
                <a:t>TMN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4880" y="320040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8583"/>
                  </a:solidFill>
                  <a:latin typeface="Arial"/>
                </a:rPr>
                <a:t>TMN Interfaces</a:t>
              </a:r>
              <a:endParaRPr b="0" lang="en-US" sz="1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8120" y="5880240"/>
              <a:ext cx="8427240" cy="368280"/>
            </a:xfrm>
            <a:prstGeom prst="rect">
              <a:avLst/>
            </a:prstGeom>
            <a:noFill/>
            <a:ln w="93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1f7c"/>
                  </a:solidFill>
                  <a:latin typeface="Arial"/>
                </a:rPr>
                <a:t>The focus of TMN standards is on the communication of management information</a:t>
              </a:r>
              <a:endParaRPr b="0" lang="en-US" sz="18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53AE-F5CE-4B26-8449-0D67ADF137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92468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TMN Functional Architecture (M.3010)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61760" y="1447920"/>
            <a:ext cx="7899480" cy="4742640"/>
            <a:chOff x="761760" y="1447920"/>
            <a:chExt cx="7899480" cy="4742640"/>
          </a:xfrm>
        </p:grpSpPr>
        <p:sp>
          <p:nvSpPr>
            <p:cNvPr id="145" name=""/>
            <p:cNvSpPr/>
            <p:nvPr/>
          </p:nvSpPr>
          <p:spPr>
            <a:xfrm>
              <a:off x="1506600" y="3506760"/>
              <a:ext cx="6059520" cy="79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6600" y="4618080"/>
              <a:ext cx="6076800" cy="77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19200" y="5556240"/>
              <a:ext cx="6086520" cy="630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5440" y="2446200"/>
              <a:ext cx="6076800" cy="858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38400" y="261792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8400" y="471960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l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27600" y="364644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8840" y="5614920"/>
              <a:ext cx="1631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lement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06600" y="1447920"/>
              <a:ext cx="6048360" cy="814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38400" y="1589040"/>
              <a:ext cx="196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Business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 marL="276120" indent="-276120">
                <a:lnSpc>
                  <a:spcPct val="100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6120" y="4462560"/>
              <a:ext cx="7845120" cy="0"/>
            </a:xfrm>
            <a:prstGeom prst="line">
              <a:avLst/>
            </a:prstGeom>
            <a:ln w="5076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7640" y="1459080"/>
              <a:ext cx="4491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nterprise view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Goal setting, finance, budget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Product &amp; human resource plann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48040" y="2475000"/>
              <a:ext cx="4492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Contacts with customers &amp; svc provider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Service orders, complaints, &amp; billing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Quality of service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6880" y="3649680"/>
              <a:ext cx="4719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 support of all services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End-to-end network view of all NEs &amp; links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8320" y="4726080"/>
              <a:ext cx="45403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View of NE subset, individually or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collectively as a subnetwork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5880" y="5721480"/>
              <a:ext cx="333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0e1f7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Network resource functionality 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878400" y="1617840"/>
              <a:ext cx="597600" cy="433080"/>
              <a:chOff x="878400" y="1617840"/>
              <a:chExt cx="597600" cy="433080"/>
            </a:xfrm>
          </p:grpSpPr>
          <p:sp>
            <p:nvSpPr>
              <p:cNvPr id="162" name=""/>
              <p:cNvSpPr/>
              <p:nvPr/>
            </p:nvSpPr>
            <p:spPr>
              <a:xfrm>
                <a:off x="884880" y="1617840"/>
                <a:ext cx="563760" cy="43308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8400" y="168048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54280" y="2643120"/>
              <a:ext cx="597600" cy="433440"/>
              <a:chOff x="854280" y="2643120"/>
              <a:chExt cx="597600" cy="43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860760" y="2643120"/>
                <a:ext cx="56556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4280" y="27043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43480" y="3624120"/>
              <a:ext cx="597600" cy="433440"/>
              <a:chOff x="843480" y="3624120"/>
              <a:chExt cx="597600" cy="433440"/>
            </a:xfrm>
          </p:grpSpPr>
          <p:sp>
            <p:nvSpPr>
              <p:cNvPr id="168" name=""/>
              <p:cNvSpPr/>
              <p:nvPr/>
            </p:nvSpPr>
            <p:spPr>
              <a:xfrm>
                <a:off x="849960" y="3624120"/>
                <a:ext cx="56520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3480" y="36853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4280" y="4776840"/>
              <a:ext cx="597600" cy="431640"/>
              <a:chOff x="854280" y="4776840"/>
              <a:chExt cx="59760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860760" y="4776840"/>
                <a:ext cx="565560" cy="4316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4280" y="4839120"/>
                <a:ext cx="597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OS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64720" y="5722920"/>
              <a:ext cx="586800" cy="433440"/>
              <a:chOff x="864720" y="5722920"/>
              <a:chExt cx="586800" cy="433440"/>
            </a:xfrm>
          </p:grpSpPr>
          <p:sp>
            <p:nvSpPr>
              <p:cNvPr id="174" name=""/>
              <p:cNvSpPr/>
              <p:nvPr/>
            </p:nvSpPr>
            <p:spPr>
              <a:xfrm>
                <a:off x="871920" y="5722920"/>
                <a:ext cx="565200" cy="433440"/>
              </a:xfrm>
              <a:prstGeom prst="ellipse">
                <a:avLst/>
              </a:prstGeom>
              <a:noFill/>
              <a:ln w="12600">
                <a:solidFill>
                  <a:srgbClr val="0e1f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4720" y="5785560"/>
                <a:ext cx="5868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e1f7c"/>
                    </a:solidFill>
                    <a:latin typeface="Arial"/>
                  </a:rPr>
                  <a:t>NEF</a:t>
                </a:r>
                <a:endParaRPr b="0" lang="en-US" sz="1600" spc="-1" strike="noStrike">
                  <a:solidFill>
                    <a:srgbClr val="0e1f7c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55600" y="2068560"/>
              <a:ext cx="0" cy="558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1840" y="3095640"/>
              <a:ext cx="0" cy="52236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1840" y="4076640"/>
              <a:ext cx="0" cy="69372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20680" y="5227560"/>
              <a:ext cx="0" cy="478080"/>
            </a:xfrm>
            <a:prstGeom prst="line">
              <a:avLst/>
            </a:prstGeom>
            <a:ln w="12600">
              <a:solidFill>
                <a:srgbClr val="0e1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0480" y="216864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26720" y="325296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15560" y="432432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5560" y="5327640"/>
              <a:ext cx="253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e1f7c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1760" y="3286080"/>
              <a:ext cx="294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 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5880" y="2190600"/>
              <a:ext cx="294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 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880" y="4232160"/>
              <a:ext cx="259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680" y="5349960"/>
              <a:ext cx="259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e1f7c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e1f7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73733-85D2-4903-9560-6B4CFC53CD59}" type="datetime3">
              <a:rPr lang="en-US"/>
              <a:t>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1f7c"/>
                </a:solidFill>
                <a:latin typeface="Arial"/>
              </a:rPr>
              <a:t>Review of historic practice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f7c"/>
                </a:solidFill>
                <a:latin typeface="Arial"/>
              </a:rPr>
              <a:t>TMN based on OSI management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Guidelines for definition of Management information (GDMO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Managed objec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Package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Behaviour – specified using natural language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ttributes and operations on attributes (GET, SET, …)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Notification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3" marL="1208160" indent="-343080">
              <a:spcBef>
                <a:spcPts val="451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Name bindings and allowed operations on subordinate objects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1f7c"/>
                </a:solidFill>
                <a:latin typeface="Arial"/>
              </a:rPr>
              <a:t>ASN.1 for definition of syntax of management information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7640" y="5638680"/>
            <a:ext cx="7805160" cy="64260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Large number of specification based on GDMO/ASN.1 developed by ITU-T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1f7c"/>
                </a:solidFill>
                <a:latin typeface="Arial"/>
              </a:rPr>
              <a:t>and other standards organizations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EA9CA-19F7-4AD8-AD40-458766CFC5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Implicit capabilities – offered by CMIP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295280"/>
          <a:ext cx="4767120" cy="487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95280"/>
                    <a:ext cx="47671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334120" y="1828800"/>
            <a:ext cx="3429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Base object” identify the entry point in the management information tree structure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Scope” identify the affected sub-tree from ”base”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Filter” identify criteria for object instance selection within ”scope”. 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50f61"/>
                </a:solidFill>
                <a:latin typeface="Arial"/>
              </a:rPr>
              <a:t>Attribute list” identifies in the case of a  GET operation which attributes to be returned</a:t>
            </a:r>
            <a:endParaRPr b="0" lang="en-US" sz="18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60F9D-F03C-4A00-9490-9EF1D8E512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400" spc="-1" strike="noStrike">
                <a:solidFill>
                  <a:srgbClr val="0e1f7c"/>
                </a:solidFill>
                <a:latin typeface="Arial"/>
              </a:rPr>
              <a:t>Highlights of TMN evolution</a:t>
            </a:r>
            <a:endParaRPr b="0" lang="en-US" sz="34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e1f7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e1f7c"/>
                </a:solidFill>
                <a:latin typeface="Arial"/>
              </a:rPr>
              <a:t>Management technology evolution</a:t>
            </a:r>
            <a:endParaRPr b="0" lang="en-US" sz="24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High cost of OSI management (or perceived high cost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User acceptance of SNMP for element management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CORBA as an attractive management technology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XML for inter-operator communication (X interface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XML now also an interesting technology for inter-operator communication (Q interface)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Java/J2EE/EJB possibly replacing CORBA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  <a:p>
            <a:pPr lvl="2" marL="961920" indent="-380880">
              <a:spcBef>
                <a:spcPts val="499"/>
              </a:spcBef>
              <a:buClr>
                <a:srgbClr val="0e1f7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e1f7c"/>
                </a:solidFill>
                <a:latin typeface="Arial"/>
              </a:rPr>
              <a:t>At least J2EE/EJB as an implementation platform</a:t>
            </a:r>
            <a:endParaRPr b="0" lang="en-US" sz="2000" spc="-1" strike="noStrike">
              <a:solidFill>
                <a:srgbClr val="0e1f7c"/>
              </a:solidFill>
              <a:latin typeface="Arial"/>
            </a:endParaRPr>
          </a:p>
          <a:p>
            <a:pPr lvl="1" marL="708120" indent="-419040">
              <a:spcBef>
                <a:spcPts val="550"/>
              </a:spcBef>
              <a:buClr>
                <a:srgbClr val="0e1f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e1f7c"/>
                </a:solidFill>
                <a:latin typeface="Arial"/>
              </a:rPr>
              <a:t>Also J2EE challenged by other technologies  </a:t>
            </a:r>
            <a:endParaRPr b="0" lang="en-US" sz="2200" spc="-1" strike="noStrike">
              <a:solidFill>
                <a:srgbClr val="0e1f7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410080"/>
            <a:ext cx="8534520" cy="1008720"/>
          </a:xfrm>
          <a:prstGeom prst="rect">
            <a:avLst/>
          </a:prstGeom>
          <a:noFill/>
          <a:ln w="9360">
            <a:solidFill>
              <a:srgbClr val="0e1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f7c"/>
                </a:solidFill>
                <a:latin typeface="Arial"/>
              </a:rPr>
              <a:t>Management information is a long lived, strategic asset.  Need specifications that can be mapped to new management paradigms/technologies</a:t>
            </a:r>
            <a:endParaRPr b="0" lang="en-US" sz="2000" spc="-1" strike="noStrike">
              <a:solidFill>
                <a:srgbClr val="0e1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7DFA2-B00C-47DA-B86D-FF4F68FE33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6:25:07Z</dcterms:created>
  <dc:creator>ttkhja</dc:creator>
  <dc:description/>
  <dc:language>en-US</dc:language>
  <cp:lastModifiedBy>Ansatt i</cp:lastModifiedBy>
  <cp:lastPrinted>2002-02-21T07:48:42Z</cp:lastPrinted>
  <dcterms:modified xsi:type="dcterms:W3CDTF">2002-11-19T09:45:06Z</dcterms:modified>
  <cp:revision>175</cp:revision>
  <dc:subject/>
  <dc:title>PowerPoint-presentasjon</dc:title>
</cp:coreProperties>
</file>