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e1f7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E98A-441C-44D1-8571-5D3E75112E02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C360-28CB-4560-B68E-C1972F496692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93520" y="4376520"/>
            <a:ext cx="5079960" cy="40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0154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0154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99280" y="40154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3280" y="36572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47600" y="36572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0154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3280" y="40154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47600" y="40154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3657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64008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40154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3657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9280" y="40154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40154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40154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40154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9280" y="40154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3280" y="36572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547600" y="36572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40154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83280" y="40154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547600" y="40154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64008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0154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99280" y="40154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0154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e1f7c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60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>
              <a:spcBef>
                <a:spcPts val="60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spcBef>
                <a:spcPts val="60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4" marL="1457280" indent="-304920">
              <a:spcBef>
                <a:spcPts val="60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5" marL="1457280" indent="-304920">
              <a:spcBef>
                <a:spcPts val="60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6" marL="1457280" indent="-304920">
              <a:spcBef>
                <a:spcPts val="60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e1f7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e1f7c"/>
                </a:solidFill>
                <a:latin typeface="Arial"/>
              </a:rPr>
              <a:t>16 Nov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400440"/>
            <a:ext cx="1524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000" spc="-1" strike="noStrike">
                <a:solidFill>
                  <a:srgbClr val="0e1f7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6F58-3EB6-4C1A-85FF-5132064FD76F}" type="slidenum">
              <a:rPr b="0" lang="nn-NO" sz="1000" spc="-1" strike="noStrike">
                <a:solidFill>
                  <a:srgbClr val="0e1f7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e1f7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121896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e1f7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e1f7c"/>
                </a:solidFill>
                <a:latin typeface="Arial"/>
              </a:rPr>
              <a:t>16 November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2819160" y="44197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n-NO" sz="1200" spc="-1" strike="noStrike">
                <a:solidFill>
                  <a:srgbClr val="0e1f7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200" spc="-1" strike="noStrike">
                <a:solidFill>
                  <a:srgbClr val="0e1f7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1" marL="28908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e1f7c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  <a:p>
            <a:pPr lvl="2" marL="581040" algn="ctr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3" marL="865080" algn="ctr"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4" marL="1152360" algn="ctr"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1f7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5" marL="1152360"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1f7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6" marL="1152360"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1f7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781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800" spc="-1" strike="noStrike">
                <a:solidFill>
                  <a:srgbClr val="0e1f7c"/>
                </a:solidFill>
                <a:latin typeface="Arial"/>
              </a:rPr>
              <a:t>Use and needs of description techniques in Study Group 4</a:t>
            </a:r>
            <a:br>
              <a:rPr sz="3800"/>
            </a:b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e1f7c"/>
                </a:solidFill>
                <a:latin typeface="Arial"/>
              </a:rPr>
              <a:t>Knut Johannessen 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e1f7c"/>
                </a:solidFill>
                <a:latin typeface="Arial"/>
              </a:rPr>
              <a:t>Rapporteur Q.12/4, Telenor, Norway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FE4B4E-6C73-4DE2-B763-B7BE64FBED8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Current approach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5260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28600" y="1219320"/>
          <a:ext cx="8686800" cy="50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219320"/>
                    <a:ext cx="8686800" cy="50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3481920" y="58165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X.780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3640" y="40384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X.780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3AE6C-2E23-4112-89D2-926FB66C4A0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Current practice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89480" y="1225440"/>
            <a:ext cx="3052440" cy="9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84440" y="1219320"/>
            <a:ext cx="3057480" cy="988920"/>
          </a:xfrm>
          <a:custGeom>
            <a:avLst/>
            <a:gdLst/>
            <a:ahLst/>
            <a:rect l="l" t="t" r="r" b="b"/>
            <a:pathLst>
              <a:path w="1926" h="623">
                <a:moveTo>
                  <a:pt x="3" y="0"/>
                </a:moveTo>
                <a:lnTo>
                  <a:pt x="0" y="0"/>
                </a:lnTo>
                <a:lnTo>
                  <a:pt x="0" y="623"/>
                </a:lnTo>
                <a:lnTo>
                  <a:pt x="1926" y="623"/>
                </a:lnTo>
                <a:lnTo>
                  <a:pt x="1926" y="0"/>
                </a:lnTo>
                <a:lnTo>
                  <a:pt x="1922" y="0"/>
                </a:lnTo>
                <a:lnTo>
                  <a:pt x="3" y="0"/>
                </a:lnTo>
                <a:lnTo>
                  <a:pt x="3" y="8"/>
                </a:lnTo>
                <a:lnTo>
                  <a:pt x="1922" y="8"/>
                </a:lnTo>
                <a:lnTo>
                  <a:pt x="1919" y="4"/>
                </a:lnTo>
                <a:lnTo>
                  <a:pt x="1919" y="619"/>
                </a:lnTo>
                <a:lnTo>
                  <a:pt x="1922" y="615"/>
                </a:lnTo>
                <a:lnTo>
                  <a:pt x="3" y="615"/>
                </a:lnTo>
                <a:lnTo>
                  <a:pt x="7" y="619"/>
                </a:lnTo>
                <a:lnTo>
                  <a:pt x="7" y="4"/>
                </a:lnTo>
                <a:lnTo>
                  <a:pt x="3" y="8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69920" y="4822920"/>
            <a:ext cx="1467000" cy="12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63800" y="4816440"/>
            <a:ext cx="1473120" cy="1233360"/>
          </a:xfrm>
          <a:custGeom>
            <a:avLst/>
            <a:gdLst/>
            <a:ahLst/>
            <a:rect l="l" t="t" r="r" b="b"/>
            <a:pathLst>
              <a:path w="928" h="777">
                <a:moveTo>
                  <a:pt x="4" y="0"/>
                </a:moveTo>
                <a:lnTo>
                  <a:pt x="0" y="0"/>
                </a:lnTo>
                <a:lnTo>
                  <a:pt x="0" y="777"/>
                </a:lnTo>
                <a:lnTo>
                  <a:pt x="928" y="777"/>
                </a:lnTo>
                <a:lnTo>
                  <a:pt x="928" y="0"/>
                </a:lnTo>
                <a:lnTo>
                  <a:pt x="924" y="0"/>
                </a:lnTo>
                <a:lnTo>
                  <a:pt x="4" y="0"/>
                </a:lnTo>
                <a:lnTo>
                  <a:pt x="4" y="8"/>
                </a:lnTo>
                <a:lnTo>
                  <a:pt x="924" y="8"/>
                </a:lnTo>
                <a:lnTo>
                  <a:pt x="920" y="4"/>
                </a:lnTo>
                <a:lnTo>
                  <a:pt x="920" y="773"/>
                </a:lnTo>
                <a:lnTo>
                  <a:pt x="924" y="769"/>
                </a:lnTo>
                <a:lnTo>
                  <a:pt x="4" y="769"/>
                </a:lnTo>
                <a:lnTo>
                  <a:pt x="7" y="773"/>
                </a:lnTo>
                <a:lnTo>
                  <a:pt x="7" y="4"/>
                </a:lnTo>
                <a:lnTo>
                  <a:pt x="4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82920" y="4822920"/>
            <a:ext cx="1467000" cy="12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76800" y="4816440"/>
            <a:ext cx="1473120" cy="1233360"/>
          </a:xfrm>
          <a:custGeom>
            <a:avLst/>
            <a:gdLst/>
            <a:ahLst/>
            <a:rect l="l" t="t" r="r" b="b"/>
            <a:pathLst>
              <a:path w="928" h="777">
                <a:moveTo>
                  <a:pt x="4" y="0"/>
                </a:moveTo>
                <a:lnTo>
                  <a:pt x="0" y="0"/>
                </a:lnTo>
                <a:lnTo>
                  <a:pt x="0" y="777"/>
                </a:lnTo>
                <a:lnTo>
                  <a:pt x="928" y="777"/>
                </a:lnTo>
                <a:lnTo>
                  <a:pt x="928" y="0"/>
                </a:lnTo>
                <a:lnTo>
                  <a:pt x="924" y="0"/>
                </a:lnTo>
                <a:lnTo>
                  <a:pt x="4" y="0"/>
                </a:lnTo>
                <a:lnTo>
                  <a:pt x="4" y="8"/>
                </a:lnTo>
                <a:lnTo>
                  <a:pt x="924" y="8"/>
                </a:lnTo>
                <a:lnTo>
                  <a:pt x="920" y="4"/>
                </a:lnTo>
                <a:lnTo>
                  <a:pt x="920" y="773"/>
                </a:lnTo>
                <a:lnTo>
                  <a:pt x="924" y="769"/>
                </a:lnTo>
                <a:lnTo>
                  <a:pt x="4" y="769"/>
                </a:lnTo>
                <a:lnTo>
                  <a:pt x="8" y="773"/>
                </a:lnTo>
                <a:lnTo>
                  <a:pt x="8" y="4"/>
                </a:lnTo>
                <a:lnTo>
                  <a:pt x="4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8600" y="4822920"/>
            <a:ext cx="1473480" cy="12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3920" y="4816440"/>
            <a:ext cx="1478160" cy="1233360"/>
          </a:xfrm>
          <a:custGeom>
            <a:avLst/>
            <a:gdLst/>
            <a:ahLst/>
            <a:rect l="l" t="t" r="r" b="b"/>
            <a:pathLst>
              <a:path w="931" h="777">
                <a:moveTo>
                  <a:pt x="3" y="0"/>
                </a:moveTo>
                <a:lnTo>
                  <a:pt x="0" y="0"/>
                </a:lnTo>
                <a:lnTo>
                  <a:pt x="0" y="777"/>
                </a:lnTo>
                <a:lnTo>
                  <a:pt x="931" y="777"/>
                </a:lnTo>
                <a:lnTo>
                  <a:pt x="931" y="0"/>
                </a:lnTo>
                <a:lnTo>
                  <a:pt x="927" y="0"/>
                </a:lnTo>
                <a:lnTo>
                  <a:pt x="3" y="0"/>
                </a:lnTo>
                <a:lnTo>
                  <a:pt x="3" y="8"/>
                </a:lnTo>
                <a:lnTo>
                  <a:pt x="927" y="8"/>
                </a:lnTo>
                <a:lnTo>
                  <a:pt x="924" y="4"/>
                </a:lnTo>
                <a:lnTo>
                  <a:pt x="924" y="773"/>
                </a:lnTo>
                <a:lnTo>
                  <a:pt x="927" y="769"/>
                </a:lnTo>
                <a:lnTo>
                  <a:pt x="3" y="769"/>
                </a:lnTo>
                <a:lnTo>
                  <a:pt x="7" y="773"/>
                </a:lnTo>
                <a:lnTo>
                  <a:pt x="7" y="4"/>
                </a:lnTo>
                <a:lnTo>
                  <a:pt x="3" y="8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06680" y="5442120"/>
            <a:ext cx="863640" cy="12600"/>
          </a:xfrm>
          <a:custGeom>
            <a:avLst/>
            <a:gdLst/>
            <a:ahLst/>
            <a:rect l="l" t="t" r="r" b="b"/>
            <a:pathLst>
              <a:path w="544" h="8">
                <a:moveTo>
                  <a:pt x="4" y="0"/>
                </a:moveTo>
                <a:lnTo>
                  <a:pt x="0" y="0"/>
                </a:lnTo>
                <a:lnTo>
                  <a:pt x="0" y="8"/>
                </a:lnTo>
                <a:lnTo>
                  <a:pt x="544" y="8"/>
                </a:lnTo>
                <a:lnTo>
                  <a:pt x="544" y="0"/>
                </a:lnTo>
                <a:lnTo>
                  <a:pt x="541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57640" y="539424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0" y="0"/>
                </a:moveTo>
                <a:lnTo>
                  <a:pt x="68" y="34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51160" y="5388120"/>
            <a:ext cx="119160" cy="125280"/>
          </a:xfrm>
          <a:custGeom>
            <a:avLst/>
            <a:gdLst/>
            <a:ahLst/>
            <a:rect l="l" t="t" r="r" b="b"/>
            <a:pathLst>
              <a:path w="75" h="79">
                <a:moveTo>
                  <a:pt x="8" y="4"/>
                </a:moveTo>
                <a:lnTo>
                  <a:pt x="4" y="8"/>
                </a:lnTo>
                <a:lnTo>
                  <a:pt x="72" y="42"/>
                </a:lnTo>
                <a:lnTo>
                  <a:pt x="72" y="34"/>
                </a:lnTo>
                <a:lnTo>
                  <a:pt x="4" y="72"/>
                </a:lnTo>
                <a:lnTo>
                  <a:pt x="8" y="75"/>
                </a:lnTo>
                <a:lnTo>
                  <a:pt x="8" y="4"/>
                </a:lnTo>
                <a:lnTo>
                  <a:pt x="0" y="4"/>
                </a:lnTo>
                <a:lnTo>
                  <a:pt x="0" y="75"/>
                </a:lnTo>
                <a:lnTo>
                  <a:pt x="0" y="79"/>
                </a:lnTo>
                <a:lnTo>
                  <a:pt x="4" y="79"/>
                </a:lnTo>
                <a:lnTo>
                  <a:pt x="72" y="42"/>
                </a:lnTo>
                <a:lnTo>
                  <a:pt x="75" y="42"/>
                </a:lnTo>
                <a:lnTo>
                  <a:pt x="75" y="38"/>
                </a:lnTo>
                <a:lnTo>
                  <a:pt x="75" y="34"/>
                </a:lnTo>
                <a:lnTo>
                  <a:pt x="72" y="34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8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96920" y="1569960"/>
            <a:ext cx="254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6680" y="233352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Paradigm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0360" y="2589120"/>
            <a:ext cx="112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5840" y="512604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Paradigm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9720" y="5381640"/>
            <a:ext cx="71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9360" y="4989600"/>
            <a:ext cx="63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CMIP-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63120" y="524520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28320" y="5502240"/>
            <a:ext cx="121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6520" y="498960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CORBA-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82600" y="524520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47800" y="5502240"/>
            <a:ext cx="121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0920" y="4989600"/>
            <a:ext cx="1357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Other Paradigm-</a:t>
            </a:r>
            <a:endParaRPr b="0" lang="en-US" sz="16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92800" y="522756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6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9240" y="547200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6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7480" y="54864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X.780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047760" y="2209680"/>
            <a:ext cx="1904760" cy="2590920"/>
          </a:xfrm>
          <a:prstGeom prst="line">
            <a:avLst/>
          </a:prstGeom>
          <a:ln w="9360">
            <a:solidFill>
              <a:srgbClr val="0e1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2209680"/>
            <a:ext cx="0" cy="2590920"/>
          </a:xfrm>
          <a:prstGeom prst="line">
            <a:avLst/>
          </a:prstGeom>
          <a:ln w="9360">
            <a:solidFill>
              <a:srgbClr val="0e1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2209680"/>
            <a:ext cx="2133360" cy="2590920"/>
          </a:xfrm>
          <a:prstGeom prst="line">
            <a:avLst/>
          </a:prstGeom>
          <a:ln w="9360">
            <a:solidFill>
              <a:srgbClr val="0e1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7680" y="33526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X.780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50640" y="33526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M.3020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5240" y="3352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M.3030 tML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4191120"/>
            <a:ext cx="8229600" cy="0"/>
          </a:xfrm>
          <a:prstGeom prst="line">
            <a:avLst/>
          </a:prstGeom>
          <a:ln w="9360">
            <a:solidFill>
              <a:srgbClr val="0e1f7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31920" y="15238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M.3020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AB023-EFD0-4950-8FE2-E31ADBF4B45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M.3020 – TMN UTRAD methodology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e1f7c"/>
                </a:solidFill>
                <a:latin typeface="Arial"/>
              </a:rPr>
              <a:t>Unified TMN Requirements, Analysis and Design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Guidelines for the Definition of Management Interface (GDMI)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e1f7c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Business level requirement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lnSpc>
                <a:spcPct val="90000"/>
              </a:lnSpc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e1f7c"/>
                </a:solidFill>
                <a:latin typeface="Arial"/>
              </a:rPr>
              <a:t>Actor roles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lnSpc>
                <a:spcPct val="90000"/>
              </a:lnSpc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e1f7c"/>
                </a:solidFill>
                <a:latin typeface="Arial"/>
              </a:rPr>
              <a:t>Telecommunications resources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lnSpc>
                <a:spcPct val="90000"/>
              </a:lnSpc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e1f7c"/>
                </a:solidFill>
                <a:latin typeface="Arial"/>
              </a:rPr>
              <a:t>High-level use cases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Specification level requirements – refinement of high-level use case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lnSpc>
                <a:spcPct val="90000"/>
              </a:lnSpc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e1f7c"/>
                </a:solidFill>
                <a:latin typeface="Arial"/>
              </a:rPr>
              <a:t>Actor roles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lnSpc>
                <a:spcPct val="90000"/>
              </a:lnSpc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e1f7c"/>
                </a:solidFill>
                <a:latin typeface="Arial"/>
              </a:rPr>
              <a:t>Telecommunications resources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lnSpc>
                <a:spcPct val="90000"/>
              </a:lnSpc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e1f7c"/>
                </a:solidFill>
                <a:latin typeface="Arial"/>
              </a:rPr>
              <a:t>TMN management functions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lnSpc>
                <a:spcPct val="90000"/>
              </a:lnSpc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e1f7c"/>
                </a:solidFill>
                <a:latin typeface="Arial"/>
              </a:rPr>
              <a:t>Use cases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e1f7c"/>
                </a:solidFill>
                <a:latin typeface="Arial"/>
              </a:rPr>
              <a:t>Analysis - </a:t>
            </a: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Implementation independent specification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e1f7c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GDMO/ASN.1, IDL, …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F2A66-D40A-43A7-BC5A-837889F9D35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Selected elements of UTRAD analysis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Functional decomposition, information flows, class diagrams (including relationships between classes), sequence diagrams and state charts/table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The class diagrams may be augmented with details of attributes and allowed operation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Textual description is required to augment the figures. 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Detailed descriptions of the Management Functions and interactions between the functions shall be provided.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The information flow associated with each function should generally be captured using simple tables defining the flow. 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The analysis may include state models as a result of information flow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The scenarios describing the information flow amongst the entities may be described using the sequence diagram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Pre- and post-conditions may be used to describe the information flows in the interaction diagrams. 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181B8-9F04-45F7-92AF-FEA08E67775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UTRAD use of UML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0880" y="990720"/>
            <a:ext cx="8153280" cy="5410080"/>
            <a:chOff x="380880" y="990720"/>
            <a:chExt cx="8153280" cy="5410080"/>
          </a:xfrm>
        </p:grpSpPr>
        <p:grpSp>
          <p:nvGrpSpPr>
            <p:cNvPr id="245" name=""/>
            <p:cNvGrpSpPr/>
            <p:nvPr/>
          </p:nvGrpSpPr>
          <p:grpSpPr>
            <a:xfrm>
              <a:off x="387000" y="993960"/>
              <a:ext cx="8140320" cy="5402880"/>
              <a:chOff x="387000" y="993960"/>
              <a:chExt cx="8140320" cy="540288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387000" y="993960"/>
                <a:ext cx="2208960" cy="586440"/>
                <a:chOff x="387000" y="993960"/>
                <a:chExt cx="2208960" cy="5864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77360" y="993960"/>
                  <a:ext cx="202788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TMN concept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87000" y="993960"/>
                  <a:ext cx="22089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596320" y="993960"/>
                <a:ext cx="1474560" cy="586440"/>
                <a:chOff x="2596320" y="993960"/>
                <a:chExt cx="1474560" cy="5864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686320" y="993960"/>
                  <a:ext cx="129456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UML notation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596320" y="993960"/>
                  <a:ext cx="14745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071600" y="993960"/>
                <a:ext cx="4455720" cy="586440"/>
                <a:chOff x="4071600" y="993960"/>
                <a:chExt cx="4455720" cy="5864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161960" y="993960"/>
                  <a:ext cx="427464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Comment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071600" y="993960"/>
                  <a:ext cx="445572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87000" y="1580400"/>
                <a:ext cx="2208960" cy="461880"/>
                <a:chOff x="387000" y="1580400"/>
                <a:chExt cx="2208960" cy="4618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77360" y="1580400"/>
                  <a:ext cx="2027880" cy="46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user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87000" y="1580400"/>
                  <a:ext cx="2208960" cy="46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596320" y="1580400"/>
                <a:ext cx="1474560" cy="461880"/>
                <a:chOff x="2596320" y="1580400"/>
                <a:chExt cx="1474560" cy="4618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686320" y="1580400"/>
                  <a:ext cx="1294560" cy="46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Actor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596320" y="1580400"/>
                  <a:ext cx="1474560" cy="46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071600" y="1580400"/>
                <a:ext cx="4455720" cy="461880"/>
                <a:chOff x="4071600" y="1580400"/>
                <a:chExt cx="4455720" cy="4618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161960" y="1580400"/>
                  <a:ext cx="4274640" cy="46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A user is modelled as an actor. 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071600" y="1580400"/>
                  <a:ext cx="4455720" cy="46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387000" y="2042640"/>
                <a:ext cx="2208960" cy="586440"/>
                <a:chOff x="387000" y="2042640"/>
                <a:chExt cx="2208960" cy="5864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77360" y="2042640"/>
                  <a:ext cx="202788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management role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87000" y="2042640"/>
                  <a:ext cx="22089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596320" y="2042640"/>
                <a:ext cx="1474560" cy="586440"/>
                <a:chOff x="2596320" y="2042640"/>
                <a:chExt cx="1474560" cy="5864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686320" y="2042640"/>
                  <a:ext cx="129456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Actor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596320" y="2042640"/>
                  <a:ext cx="14745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071600" y="2042640"/>
                <a:ext cx="4455720" cy="586440"/>
                <a:chOff x="4071600" y="2042640"/>
                <a:chExt cx="4455720" cy="5864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161960" y="2042640"/>
                  <a:ext cx="427464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An actor plays a role. It is normally advisable to only model a single role for each actor.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071600" y="2042640"/>
                  <a:ext cx="445572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387000" y="2629080"/>
                <a:ext cx="2208960" cy="586440"/>
                <a:chOff x="387000" y="2629080"/>
                <a:chExt cx="2208960" cy="5864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77360" y="2629080"/>
                  <a:ext cx="202788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management function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7000" y="2629080"/>
                  <a:ext cx="22089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596320" y="2629080"/>
                <a:ext cx="1474560" cy="586440"/>
                <a:chOff x="2596320" y="2629080"/>
                <a:chExt cx="1474560" cy="5864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686320" y="2629080"/>
                  <a:ext cx="129456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use case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596320" y="2629080"/>
                  <a:ext cx="14745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071600" y="2629080"/>
                <a:ext cx="4455720" cy="586440"/>
                <a:chOff x="4071600" y="2629080"/>
                <a:chExt cx="4455720" cy="5864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161960" y="2629080"/>
                  <a:ext cx="427464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A management function is modelled by one or more use cases. 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071600" y="2629080"/>
                  <a:ext cx="445572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87000" y="3215520"/>
                <a:ext cx="2208960" cy="710640"/>
                <a:chOff x="387000" y="3215520"/>
                <a:chExt cx="2208960" cy="710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477360" y="3215520"/>
                  <a:ext cx="2027880" cy="71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management function set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87000" y="3215520"/>
                  <a:ext cx="220896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596320" y="3215520"/>
                <a:ext cx="1474560" cy="710640"/>
                <a:chOff x="2596320" y="3215520"/>
                <a:chExt cx="1474560" cy="710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686320" y="3215520"/>
                  <a:ext cx="1294560" cy="71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use case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596320" y="3215520"/>
                  <a:ext cx="147456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071600" y="3215520"/>
                <a:ext cx="4455720" cy="710640"/>
                <a:chOff x="4071600" y="3215520"/>
                <a:chExt cx="4455720" cy="7106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161960" y="3215520"/>
                  <a:ext cx="4274640" cy="71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A management function set is a composite use case with each management function (potentially) modelled as a separate use case. 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071600" y="3215520"/>
                  <a:ext cx="445572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87000" y="3926520"/>
                <a:ext cx="2208960" cy="586440"/>
                <a:chOff x="387000" y="3926520"/>
                <a:chExt cx="2208960" cy="5864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77360" y="3926520"/>
                  <a:ext cx="202788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management service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87000" y="3926520"/>
                  <a:ext cx="22089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596320" y="3926520"/>
                <a:ext cx="1474560" cy="586440"/>
                <a:chOff x="2596320" y="3926520"/>
                <a:chExt cx="1474560" cy="58644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686320" y="3926520"/>
                  <a:ext cx="129456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use case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596320" y="3926520"/>
                  <a:ext cx="14745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071600" y="3926520"/>
                <a:ext cx="4455720" cy="586440"/>
                <a:chOff x="4071600" y="3926520"/>
                <a:chExt cx="4455720" cy="5864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161960" y="3926520"/>
                  <a:ext cx="427464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A management service is modelled as a high-level use case.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071600" y="3926520"/>
                  <a:ext cx="445572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87000" y="4512960"/>
                <a:ext cx="2208960" cy="586440"/>
                <a:chOff x="387000" y="4512960"/>
                <a:chExt cx="2208960" cy="5864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477360" y="4512960"/>
                  <a:ext cx="202788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management scenario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87000" y="4512960"/>
                  <a:ext cx="22089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596320" y="4512960"/>
                <a:ext cx="1474560" cy="586440"/>
                <a:chOff x="2596320" y="4512960"/>
                <a:chExt cx="1474560" cy="5864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686320" y="4512960"/>
                  <a:ext cx="129456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sequence diagram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596320" y="4512960"/>
                  <a:ext cx="14745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071600" y="4512960"/>
                <a:ext cx="4455720" cy="586440"/>
                <a:chOff x="4071600" y="4512960"/>
                <a:chExt cx="4455720" cy="5864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161960" y="4512960"/>
                  <a:ext cx="427464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Sequence diagrams are preferred over collaboration diagrams.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071600" y="4512960"/>
                  <a:ext cx="445572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87000" y="5099760"/>
                <a:ext cx="2208960" cy="710640"/>
                <a:chOff x="387000" y="5099760"/>
                <a:chExt cx="2208960" cy="7106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77360" y="5099760"/>
                  <a:ext cx="2027880" cy="71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telecommunication resource type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87000" y="5099760"/>
                  <a:ext cx="220896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596320" y="5099760"/>
                <a:ext cx="1474560" cy="710640"/>
                <a:chOff x="2596320" y="5099760"/>
                <a:chExt cx="1474560" cy="7106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686320" y="5099760"/>
                  <a:ext cx="1294560" cy="71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Class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596320" y="5099760"/>
                  <a:ext cx="147456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071600" y="5099760"/>
                <a:ext cx="4455720" cy="710640"/>
                <a:chOff x="4071600" y="5099760"/>
                <a:chExt cx="4455720" cy="7106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161960" y="5099760"/>
                  <a:ext cx="4274640" cy="71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The class diagrams depict the property details of the telecommunications resource type, at the level of detail appropriate to the phase of the methodology.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071600" y="5099760"/>
                  <a:ext cx="445572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87000" y="5810400"/>
                <a:ext cx="2208960" cy="586440"/>
                <a:chOff x="387000" y="5810400"/>
                <a:chExt cx="2208960" cy="5864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77360" y="5810400"/>
                  <a:ext cx="202788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management goals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87000" y="5810400"/>
                  <a:ext cx="22089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596320" y="5810400"/>
                <a:ext cx="1474560" cy="586440"/>
                <a:chOff x="2596320" y="5810400"/>
                <a:chExt cx="1474560" cy="58644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686320" y="5810400"/>
                  <a:ext cx="129456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–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596320" y="5810400"/>
                  <a:ext cx="14745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071600" y="5810400"/>
                <a:ext cx="4455720" cy="586440"/>
                <a:chOff x="4071600" y="5810400"/>
                <a:chExt cx="4455720" cy="5864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61960" y="5810400"/>
                  <a:ext cx="427464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Management goals are captured as textual descriptions as there is no applicable UML notation. 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071600" y="5810400"/>
                  <a:ext cx="445572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7" name=""/>
            <p:cNvSpPr/>
            <p:nvPr/>
          </p:nvSpPr>
          <p:spPr>
            <a:xfrm>
              <a:off x="380880" y="990720"/>
              <a:ext cx="8153280" cy="5410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C407D-0469-4F0C-8199-B1DD00E14CE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e1f7c"/>
                </a:solidFill>
                <a:latin typeface="Arial"/>
              </a:rPr>
              <a:t>Methodology evolution and refinement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1219320"/>
            <a:ext cx="3068640" cy="988920"/>
          </a:xfrm>
          <a:custGeom>
            <a:avLst/>
            <a:gdLst/>
            <a:ahLst/>
            <a:rect l="l" t="t" r="r" b="b"/>
            <a:pathLst>
              <a:path w="1926" h="623">
                <a:moveTo>
                  <a:pt x="3" y="0"/>
                </a:moveTo>
                <a:lnTo>
                  <a:pt x="0" y="0"/>
                </a:lnTo>
                <a:lnTo>
                  <a:pt x="0" y="623"/>
                </a:lnTo>
                <a:lnTo>
                  <a:pt x="1926" y="623"/>
                </a:lnTo>
                <a:lnTo>
                  <a:pt x="1926" y="0"/>
                </a:lnTo>
                <a:lnTo>
                  <a:pt x="1922" y="0"/>
                </a:lnTo>
                <a:lnTo>
                  <a:pt x="3" y="0"/>
                </a:lnTo>
                <a:lnTo>
                  <a:pt x="3" y="8"/>
                </a:lnTo>
                <a:lnTo>
                  <a:pt x="1922" y="8"/>
                </a:lnTo>
                <a:lnTo>
                  <a:pt x="1919" y="4"/>
                </a:lnTo>
                <a:lnTo>
                  <a:pt x="1919" y="619"/>
                </a:lnTo>
                <a:lnTo>
                  <a:pt x="1922" y="615"/>
                </a:lnTo>
                <a:lnTo>
                  <a:pt x="3" y="615"/>
                </a:lnTo>
                <a:lnTo>
                  <a:pt x="7" y="619"/>
                </a:lnTo>
                <a:lnTo>
                  <a:pt x="7" y="4"/>
                </a:lnTo>
                <a:lnTo>
                  <a:pt x="3" y="8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08600" y="4822920"/>
            <a:ext cx="1473480" cy="12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06680" y="5442120"/>
            <a:ext cx="863640" cy="12600"/>
          </a:xfrm>
          <a:custGeom>
            <a:avLst/>
            <a:gdLst/>
            <a:ahLst/>
            <a:rect l="l" t="t" r="r" b="b"/>
            <a:pathLst>
              <a:path w="544" h="8">
                <a:moveTo>
                  <a:pt x="4" y="0"/>
                </a:moveTo>
                <a:lnTo>
                  <a:pt x="0" y="0"/>
                </a:lnTo>
                <a:lnTo>
                  <a:pt x="0" y="8"/>
                </a:lnTo>
                <a:lnTo>
                  <a:pt x="544" y="8"/>
                </a:lnTo>
                <a:lnTo>
                  <a:pt x="544" y="0"/>
                </a:lnTo>
                <a:lnTo>
                  <a:pt x="541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57640" y="539424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0" y="0"/>
                </a:moveTo>
                <a:lnTo>
                  <a:pt x="68" y="34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51160" y="5388120"/>
            <a:ext cx="119160" cy="125280"/>
          </a:xfrm>
          <a:custGeom>
            <a:avLst/>
            <a:gdLst/>
            <a:ahLst/>
            <a:rect l="l" t="t" r="r" b="b"/>
            <a:pathLst>
              <a:path w="75" h="79">
                <a:moveTo>
                  <a:pt x="8" y="4"/>
                </a:moveTo>
                <a:lnTo>
                  <a:pt x="4" y="8"/>
                </a:lnTo>
                <a:lnTo>
                  <a:pt x="72" y="42"/>
                </a:lnTo>
                <a:lnTo>
                  <a:pt x="72" y="34"/>
                </a:lnTo>
                <a:lnTo>
                  <a:pt x="4" y="72"/>
                </a:lnTo>
                <a:lnTo>
                  <a:pt x="8" y="75"/>
                </a:lnTo>
                <a:lnTo>
                  <a:pt x="8" y="4"/>
                </a:lnTo>
                <a:lnTo>
                  <a:pt x="0" y="4"/>
                </a:lnTo>
                <a:lnTo>
                  <a:pt x="0" y="75"/>
                </a:lnTo>
                <a:lnTo>
                  <a:pt x="0" y="79"/>
                </a:lnTo>
                <a:lnTo>
                  <a:pt x="4" y="79"/>
                </a:lnTo>
                <a:lnTo>
                  <a:pt x="72" y="42"/>
                </a:lnTo>
                <a:lnTo>
                  <a:pt x="75" y="42"/>
                </a:lnTo>
                <a:lnTo>
                  <a:pt x="75" y="38"/>
                </a:lnTo>
                <a:lnTo>
                  <a:pt x="75" y="34"/>
                </a:lnTo>
                <a:lnTo>
                  <a:pt x="72" y="34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8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96920" y="1569960"/>
            <a:ext cx="254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19640" y="3249720"/>
            <a:ext cx="333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digm Independent Specific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05160" y="4989600"/>
            <a:ext cx="63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IP-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63120" y="524520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28320" y="5502240"/>
            <a:ext cx="121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16280" y="498960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-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82600" y="524520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47800" y="5502240"/>
            <a:ext cx="121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30920" y="4989600"/>
            <a:ext cx="1357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Paradigm-</a:t>
            </a:r>
            <a:endParaRPr b="0" lang="en-US" sz="16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92800" y="522756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6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79240" y="547200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6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2209680"/>
            <a:ext cx="0" cy="838440"/>
          </a:xfrm>
          <a:prstGeom prst="line">
            <a:avLst/>
          </a:prstGeom>
          <a:ln w="9360">
            <a:solidFill>
              <a:srgbClr val="0e1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3733920"/>
            <a:ext cx="0" cy="1066680"/>
          </a:xfrm>
          <a:prstGeom prst="line">
            <a:avLst/>
          </a:prstGeom>
          <a:ln w="9360">
            <a:solidFill>
              <a:srgbClr val="0e1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52880" y="3733920"/>
            <a:ext cx="0" cy="1066680"/>
          </a:xfrm>
          <a:prstGeom prst="line">
            <a:avLst/>
          </a:prstGeom>
          <a:ln w="9360">
            <a:solidFill>
              <a:srgbClr val="0e1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91520" y="3733920"/>
            <a:ext cx="0" cy="1066680"/>
          </a:xfrm>
          <a:prstGeom prst="line">
            <a:avLst/>
          </a:prstGeom>
          <a:ln w="9360">
            <a:solidFill>
              <a:srgbClr val="0e1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4800600"/>
            <a:ext cx="1447920" cy="1219320"/>
          </a:xfrm>
          <a:prstGeom prst="rect">
            <a:avLst/>
          </a:prstGeom>
          <a:noFill/>
          <a:ln w="9360">
            <a:solidFill>
              <a:srgbClr val="0e1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67080" y="4800600"/>
            <a:ext cx="1447920" cy="1219320"/>
          </a:xfrm>
          <a:prstGeom prst="rect">
            <a:avLst/>
          </a:prstGeom>
          <a:noFill/>
          <a:ln w="9360">
            <a:solidFill>
              <a:srgbClr val="0e1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29400" y="4800600"/>
            <a:ext cx="1600200" cy="1219320"/>
          </a:xfrm>
          <a:prstGeom prst="rect">
            <a:avLst/>
          </a:prstGeom>
          <a:noFill/>
          <a:ln w="9360">
            <a:solidFill>
              <a:srgbClr val="0e1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4200" y="1295280"/>
            <a:ext cx="147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Process, 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Notation,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Traceability, 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33720" y="3048120"/>
            <a:ext cx="5638680" cy="685800"/>
          </a:xfrm>
          <a:prstGeom prst="rect">
            <a:avLst/>
          </a:prstGeom>
          <a:noFill/>
          <a:ln w="9360">
            <a:solidFill>
              <a:srgbClr val="0e1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14400" y="2286000"/>
            <a:ext cx="13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Framework,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Guidelines,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Notation,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37339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(level of mechanization?)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36840" y="38862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200400" y="3733920"/>
            <a:ext cx="0" cy="1371600"/>
          </a:xfrm>
          <a:prstGeom prst="line">
            <a:avLst/>
          </a:prstGeom>
          <a:ln w="57240">
            <a:solidFill>
              <a:srgbClr val="40858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3280" y="396252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Reuse?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(how)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6520" y="6019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Rich set of information models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1A589-4674-4AA8-A656-38BD1A6CFD5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Cooperation between SG4 and SG17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e1f7c"/>
                </a:solidFill>
                <a:latin typeface="Arial"/>
              </a:rPr>
              <a:t>Requirements specification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e1f7c"/>
                </a:solidFill>
                <a:latin typeface="Arial"/>
              </a:rPr>
              <a:t>Possible use of URN by SG4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 Unicode MS"/>
                <a:ea typeface="Arial Unicode MS"/>
              </a:rPr>
              <a:t>Application of URN to M.3208.1 would be a good test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 algn="just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1f7c"/>
                </a:solidFill>
                <a:latin typeface="Arial Unicode MS"/>
                <a:ea typeface="Arial Unicode MS"/>
              </a:rPr>
              <a:t>M.3208.1 describes requirements for management of leased lines across an X-interface (between different TMN domains such as between different telecom operators). 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 Unicode MS"/>
                <a:ea typeface="Arial Unicode MS"/>
              </a:rPr>
              <a:t>Protocol netural specification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 Unicode MS"/>
                <a:ea typeface="Arial Unicode MS"/>
              </a:rPr>
              <a:t>How to best apply UML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 Unicode MS"/>
                <a:ea typeface="Arial Unicode MS"/>
              </a:rPr>
              <a:t>Specification transformation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 Unicode MS"/>
                <a:ea typeface="Arial Unicode MS"/>
              </a:rPr>
              <a:t>Language support of mapping between the protocol/paradigm neutral and specific level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 Unicode MS"/>
                <a:ea typeface="Arial Unicode MS"/>
              </a:rPr>
              <a:t>Other area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 Unicode MS"/>
                <a:ea typeface="Arial Unicode MS"/>
              </a:rPr>
              <a:t>What other languages developed by SG17 would add value to the TMN methodology? 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ACE13-80ED-4848-A360-FFF466A7BEF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Outline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SG4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Responsibility and organization 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Reminder of TMN architecture and management paradigm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Review of historic practice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Specification of interface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TMN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Exchange of designator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Current practice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Need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Evolving technology support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Common specifications  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Revised methodology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121F6-FD07-4B7A-8FC1-F097189032E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83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ITU-T SG 4 Organization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5168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Working Party 1/4 - Designations, performance, and test equipment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2/4: Designations for interconnections among network operator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3/4: Transport network and service operations procedures for performance and fault management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4/4: Test and measurement techniques and instrumentation for use on telecommunication systems and their constituent part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5/4: Jitter and wander test and measurement techniques and instrumentation for use on telecommunication systems and their constituent part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Working Party 2/4: Common telecommunication management capabilitie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7/4: TMN principles and architecture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8/4: Requirements for the TMN user interface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9/4: Requirements for the TMN X interface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0/4: Framework for unified management of integrated circuit-switched and packet-based networks (with an initial emphasis on IP-based networks)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1/4: Principles of the customer network management and network-network management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F96A3-4605-44F1-A106-1A614429E2F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086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ITU-T SG 4 Organization (cont’d)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331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-41148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Working Party 3/4: Telecommunication management information modelling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637200" indent="-37692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2/4: Methodology and generic information models for TMN interface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637200" indent="-37692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3/4: Generic network level management of transmission system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637200" indent="-37692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4/4: Management models for ANT and ATM network elements, including the support of access signalling and IP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637200" indent="-37692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6/4: TMN management support for IMT-2000 and IN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11480" indent="-41148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Working Party 4/4: Telecommunication management infrastructure capabilitie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637200" indent="-37692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7/4: Open distributed management infrastructure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637200" indent="-37692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8/4: Protocols to support operations, adminstration, and maintenance at the F, Q, and X interface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637200" indent="-37692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9/4: Information models for management applications related to switching and generic support service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318F4-211F-4ABD-81A1-3D8E5642D86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e1f7c"/>
                </a:solidFill>
                <a:latin typeface="Arial"/>
              </a:rPr>
              <a:t>Relationship to Telecommunications Networks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8520" y="1200240"/>
            <a:ext cx="8556840" cy="5048280"/>
            <a:chOff x="128520" y="1200240"/>
            <a:chExt cx="8556840" cy="5048280"/>
          </a:xfrm>
        </p:grpSpPr>
        <p:sp>
          <p:nvSpPr>
            <p:cNvPr id="97" name=""/>
            <p:cNvSpPr/>
            <p:nvPr/>
          </p:nvSpPr>
          <p:spPr>
            <a:xfrm>
              <a:off x="565200" y="4489560"/>
              <a:ext cx="7988400" cy="119520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13520" y="1974960"/>
              <a:ext cx="1130040" cy="59688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71840" y="2089080"/>
              <a:ext cx="10389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Traffic Mgt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22600" y="1974960"/>
              <a:ext cx="1130400" cy="59688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11080" y="2089080"/>
              <a:ext cx="11790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Surveillance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17880" y="1974960"/>
              <a:ext cx="1130400" cy="59688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2680" y="2089080"/>
              <a:ext cx="1206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Provisioning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51200" y="3041640"/>
              <a:ext cx="3340080" cy="977760"/>
            </a:xfrm>
            <a:prstGeom prst="ellipse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67640" y="3384720"/>
              <a:ext cx="2759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Data Communications Network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21240" y="2592360"/>
              <a:ext cx="0" cy="43020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436720" y="2592360"/>
              <a:ext cx="303480" cy="50652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000" y="2592360"/>
              <a:ext cx="430200" cy="50652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21240" y="4040280"/>
              <a:ext cx="0" cy="73476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379320" y="4040280"/>
              <a:ext cx="608040" cy="73476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160360" y="3963960"/>
              <a:ext cx="1369800" cy="81108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73720" y="3963960"/>
              <a:ext cx="430200" cy="81108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54600" y="3887640"/>
              <a:ext cx="1192320" cy="88740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16080" y="1276200"/>
              <a:ext cx="414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W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200400" y="1601280"/>
              <a:ext cx="0" cy="36684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35400" y="1276200"/>
              <a:ext cx="414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W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457880" y="1601280"/>
              <a:ext cx="0" cy="36684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30680" y="1276200"/>
              <a:ext cx="414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W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753160" y="1601280"/>
              <a:ext cx="0" cy="34164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72440" y="2521080"/>
              <a:ext cx="414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W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211800" y="2668320"/>
              <a:ext cx="1090800" cy="74772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93680" y="1666800"/>
              <a:ext cx="6228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e1f7c"/>
                  </a:solidFill>
                  <a:latin typeface="Arial"/>
                </a:rPr>
                <a:t>TMN</a:t>
              </a:r>
              <a:endParaRPr b="0" lang="en-US" sz="18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21680" y="2457360"/>
              <a:ext cx="444240" cy="38124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18080" y="1212840"/>
              <a:ext cx="444600" cy="38088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35400" y="1212840"/>
              <a:ext cx="444600" cy="38088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03480" y="1200240"/>
              <a:ext cx="444600" cy="38088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75200" y="5369040"/>
              <a:ext cx="2651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Telecommunications Network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7848720" y="5181480"/>
              <a:ext cx="533160" cy="4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404120" y="4876920"/>
              <a:ext cx="671400" cy="27756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231560" y="4952880"/>
              <a:ext cx="569880" cy="32868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42720" y="4114800"/>
              <a:ext cx="140472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8583"/>
                  </a:solidFill>
                  <a:latin typeface="Arial"/>
                </a:rPr>
                <a:t>TMN Interface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838080" y="5143680"/>
              <a:ext cx="4827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163200" y="1585800"/>
              <a:ext cx="122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Work Station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97000" y="2666880"/>
              <a:ext cx="145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8583"/>
                  </a:solidFill>
                  <a:latin typeface="Arial"/>
                </a:rPr>
                <a:t>TMN Interface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5440" y="4800600"/>
              <a:ext cx="5638680" cy="53352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05240" y="4800600"/>
              <a:ext cx="432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Access, switching, routing, transport, and server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network elements and network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29320" y="2655720"/>
              <a:ext cx="16912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Operation System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8800" y="1484280"/>
              <a:ext cx="6667560" cy="3414600"/>
            </a:xfrm>
            <a:prstGeom prst="rect">
              <a:avLst/>
            </a:prstGeom>
            <a:noFill/>
            <a:ln cap="rnd" w="9360">
              <a:solidFill>
                <a:srgbClr val="99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74360" y="3505320"/>
              <a:ext cx="2057400" cy="0"/>
            </a:xfrm>
            <a:prstGeom prst="line">
              <a:avLst/>
            </a:prstGeom>
            <a:ln w="936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8520" y="322596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TMN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64880" y="3200400"/>
              <a:ext cx="145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8583"/>
                  </a:solidFill>
                  <a:latin typeface="Arial"/>
                </a:rPr>
                <a:t>TMN Interface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8120" y="5880240"/>
              <a:ext cx="8427240" cy="368280"/>
            </a:xfrm>
            <a:prstGeom prst="rect">
              <a:avLst/>
            </a:prstGeom>
            <a:noFill/>
            <a:ln w="936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e1f7c"/>
                  </a:solidFill>
                  <a:latin typeface="Arial"/>
                </a:rPr>
                <a:t>The focus of TMN standards is on the communication of management information</a:t>
              </a:r>
              <a:endParaRPr b="0" lang="en-US" sz="18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FE27B-3BB7-4DE3-BF4C-DFC8237C73E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92468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e1f7c"/>
                </a:solidFill>
                <a:latin typeface="Arial"/>
              </a:rPr>
              <a:t>TMN Functional Architecture (M.3010)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61760" y="1447920"/>
            <a:ext cx="7899480" cy="4742640"/>
            <a:chOff x="761760" y="1447920"/>
            <a:chExt cx="7899480" cy="4742640"/>
          </a:xfrm>
        </p:grpSpPr>
        <p:sp>
          <p:nvSpPr>
            <p:cNvPr id="145" name=""/>
            <p:cNvSpPr/>
            <p:nvPr/>
          </p:nvSpPr>
          <p:spPr>
            <a:xfrm>
              <a:off x="1506600" y="3506760"/>
              <a:ext cx="6059520" cy="79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06600" y="4618080"/>
              <a:ext cx="6076800" cy="772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19200" y="5556240"/>
              <a:ext cx="6086520" cy="630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95440" y="2446200"/>
              <a:ext cx="6076800" cy="858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38400" y="2617920"/>
              <a:ext cx="1968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Service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38400" y="4719600"/>
              <a:ext cx="1968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Element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27600" y="3646440"/>
              <a:ext cx="1968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48840" y="5614920"/>
              <a:ext cx="1631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Elements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06600" y="1447920"/>
              <a:ext cx="6048360" cy="814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38400" y="1589040"/>
              <a:ext cx="1968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Business 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6120" y="4462560"/>
              <a:ext cx="7845120" cy="0"/>
            </a:xfrm>
            <a:prstGeom prst="line">
              <a:avLst/>
            </a:prstGeom>
            <a:ln w="5076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87640" y="1459080"/>
              <a:ext cx="44910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Enterprise view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Goal setting, finance, budgeting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Product &amp; human resource planning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48040" y="2475000"/>
              <a:ext cx="4492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Contacts with customers &amp; svc providers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Service orders, complaints, &amp; billing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Quality of service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36880" y="3649680"/>
              <a:ext cx="47196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Network support of all services 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End-to-end network view of all NEs &amp; links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38320" y="4726080"/>
              <a:ext cx="454032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View of NE subset, individually or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collectively as a subnetwork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35880" y="5721480"/>
              <a:ext cx="3335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Network resource functionality 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878400" y="1617840"/>
              <a:ext cx="597600" cy="433080"/>
              <a:chOff x="878400" y="1617840"/>
              <a:chExt cx="597600" cy="433080"/>
            </a:xfrm>
          </p:grpSpPr>
          <p:sp>
            <p:nvSpPr>
              <p:cNvPr id="162" name=""/>
              <p:cNvSpPr/>
              <p:nvPr/>
            </p:nvSpPr>
            <p:spPr>
              <a:xfrm>
                <a:off x="884880" y="1617840"/>
                <a:ext cx="563760" cy="433080"/>
              </a:xfrm>
              <a:prstGeom prst="ellipse">
                <a:avLst/>
              </a:prstGeom>
              <a:noFill/>
              <a:ln w="12600">
                <a:solidFill>
                  <a:srgbClr val="0e1f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8400" y="1680480"/>
                <a:ext cx="5976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e1f7c"/>
                    </a:solidFill>
                    <a:latin typeface="Arial"/>
                  </a:rPr>
                  <a:t>OSF</a:t>
                </a:r>
                <a:endParaRPr b="0" lang="en-US" sz="16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854280" y="2643120"/>
              <a:ext cx="597600" cy="433440"/>
              <a:chOff x="854280" y="2643120"/>
              <a:chExt cx="597600" cy="433440"/>
            </a:xfrm>
          </p:grpSpPr>
          <p:sp>
            <p:nvSpPr>
              <p:cNvPr id="165" name=""/>
              <p:cNvSpPr/>
              <p:nvPr/>
            </p:nvSpPr>
            <p:spPr>
              <a:xfrm>
                <a:off x="860760" y="2643120"/>
                <a:ext cx="565560" cy="433440"/>
              </a:xfrm>
              <a:prstGeom prst="ellipse">
                <a:avLst/>
              </a:prstGeom>
              <a:noFill/>
              <a:ln w="12600">
                <a:solidFill>
                  <a:srgbClr val="0e1f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54280" y="2704320"/>
                <a:ext cx="5976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e1f7c"/>
                    </a:solidFill>
                    <a:latin typeface="Arial"/>
                  </a:rPr>
                  <a:t>OSF</a:t>
                </a:r>
                <a:endParaRPr b="0" lang="en-US" sz="16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843480" y="3624120"/>
              <a:ext cx="597600" cy="433440"/>
              <a:chOff x="843480" y="3624120"/>
              <a:chExt cx="597600" cy="433440"/>
            </a:xfrm>
          </p:grpSpPr>
          <p:sp>
            <p:nvSpPr>
              <p:cNvPr id="168" name=""/>
              <p:cNvSpPr/>
              <p:nvPr/>
            </p:nvSpPr>
            <p:spPr>
              <a:xfrm>
                <a:off x="849960" y="3624120"/>
                <a:ext cx="565200" cy="433440"/>
              </a:xfrm>
              <a:prstGeom prst="ellipse">
                <a:avLst/>
              </a:prstGeom>
              <a:noFill/>
              <a:ln w="12600">
                <a:solidFill>
                  <a:srgbClr val="0e1f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43480" y="3685320"/>
                <a:ext cx="5976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e1f7c"/>
                    </a:solidFill>
                    <a:latin typeface="Arial"/>
                  </a:rPr>
                  <a:t>OSF</a:t>
                </a:r>
                <a:endParaRPr b="0" lang="en-US" sz="16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54280" y="4776840"/>
              <a:ext cx="597600" cy="431640"/>
              <a:chOff x="854280" y="4776840"/>
              <a:chExt cx="597600" cy="431640"/>
            </a:xfrm>
          </p:grpSpPr>
          <p:sp>
            <p:nvSpPr>
              <p:cNvPr id="171" name=""/>
              <p:cNvSpPr/>
              <p:nvPr/>
            </p:nvSpPr>
            <p:spPr>
              <a:xfrm>
                <a:off x="860760" y="4776840"/>
                <a:ext cx="565560" cy="431640"/>
              </a:xfrm>
              <a:prstGeom prst="ellipse">
                <a:avLst/>
              </a:prstGeom>
              <a:noFill/>
              <a:ln w="12600">
                <a:solidFill>
                  <a:srgbClr val="0e1f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54280" y="4839120"/>
                <a:ext cx="5976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e1f7c"/>
                    </a:solidFill>
                    <a:latin typeface="Arial"/>
                  </a:rPr>
                  <a:t>OSF</a:t>
                </a:r>
                <a:endParaRPr b="0" lang="en-US" sz="16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864720" y="5722920"/>
              <a:ext cx="586800" cy="433440"/>
              <a:chOff x="864720" y="5722920"/>
              <a:chExt cx="586800" cy="433440"/>
            </a:xfrm>
          </p:grpSpPr>
          <p:sp>
            <p:nvSpPr>
              <p:cNvPr id="174" name=""/>
              <p:cNvSpPr/>
              <p:nvPr/>
            </p:nvSpPr>
            <p:spPr>
              <a:xfrm>
                <a:off x="871920" y="5722920"/>
                <a:ext cx="565200" cy="433440"/>
              </a:xfrm>
              <a:prstGeom prst="ellipse">
                <a:avLst/>
              </a:prstGeom>
              <a:noFill/>
              <a:ln w="12600">
                <a:solidFill>
                  <a:srgbClr val="0e1f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64720" y="5785560"/>
                <a:ext cx="5868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e1f7c"/>
                    </a:solidFill>
                    <a:latin typeface="Arial"/>
                  </a:rPr>
                  <a:t>NEF</a:t>
                </a:r>
                <a:endParaRPr b="0" lang="en-US" sz="16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155600" y="2068560"/>
              <a:ext cx="0" cy="55872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31840" y="3095640"/>
              <a:ext cx="0" cy="52236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1840" y="4076640"/>
              <a:ext cx="0" cy="69372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20680" y="5227560"/>
              <a:ext cx="0" cy="47808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50480" y="2168640"/>
              <a:ext cx="253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26720" y="3252960"/>
              <a:ext cx="253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15560" y="4324320"/>
              <a:ext cx="253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5560" y="5327640"/>
              <a:ext cx="253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1760" y="3286080"/>
              <a:ext cx="29412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e1f7c"/>
                  </a:solidFill>
                  <a:latin typeface="Arial"/>
                </a:rPr>
                <a:t>q </a:t>
              </a:r>
              <a:endParaRPr b="0" lang="en-US" sz="10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5880" y="2190600"/>
              <a:ext cx="29412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e1f7c"/>
                  </a:solidFill>
                  <a:latin typeface="Arial"/>
                </a:rPr>
                <a:t>q </a:t>
              </a:r>
              <a:endParaRPr b="0" lang="en-US" sz="10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5880" y="4232160"/>
              <a:ext cx="2592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e1f7c"/>
                  </a:solidFill>
                  <a:latin typeface="Arial"/>
                </a:rPr>
                <a:t>q</a:t>
              </a:r>
              <a:endParaRPr b="0" lang="en-US" sz="10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6680" y="5349960"/>
              <a:ext cx="2592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e1f7c"/>
                  </a:solidFill>
                  <a:latin typeface="Arial"/>
                </a:rPr>
                <a:t>q</a:t>
              </a:r>
              <a:endParaRPr b="0" lang="en-US" sz="10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17F6E-9279-4972-848A-9A4F92BB7F48}" type="datetime3">
              <a:rPr lang="en-US"/>
              <a:t>July 30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e1f7c"/>
                </a:solidFill>
                <a:latin typeface="Arial"/>
              </a:rPr>
              <a:t>Review of historic practice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TMN based on OSI management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e1f7c"/>
                </a:solidFill>
                <a:latin typeface="Arial"/>
              </a:rPr>
              <a:t>Guidelines for definition of Management information (GDMO)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Managed object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Package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Behaviour – specified using natural language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Attributes and operations on attributes (GET, SET, …)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Notification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Name bindings and allowed operations on subordinate object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e1f7c"/>
                </a:solidFill>
                <a:latin typeface="Arial"/>
              </a:rPr>
              <a:t>ASN.1 for definition of syntax of management information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7640" y="5638680"/>
            <a:ext cx="7805160" cy="642600"/>
          </a:xfrm>
          <a:prstGeom prst="rect">
            <a:avLst/>
          </a:prstGeom>
          <a:noFill/>
          <a:ln w="9360">
            <a:solidFill>
              <a:srgbClr val="0e1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Large number of specification based on GDMO/ASN.1 developed by ITU-T 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and other standards organizations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2C1A5-B106-4A80-8F09-48A837C84E0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Implicit capabilities – offered by CMIP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1295280"/>
          <a:ext cx="4767120" cy="4876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95280"/>
                    <a:ext cx="47671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5334120" y="1828800"/>
            <a:ext cx="34290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f61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50f61"/>
                </a:solidFill>
                <a:latin typeface="Arial"/>
              </a:rPr>
              <a:t>Base object” identify the entry point in the management information tree structure 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f61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50f61"/>
                </a:solidFill>
                <a:latin typeface="Arial"/>
              </a:rPr>
              <a:t>Scope” identify the affected sub-tree from ”base”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f61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50f61"/>
                </a:solidFill>
                <a:latin typeface="Arial"/>
              </a:rPr>
              <a:t>Filter” identify criteria for object instance selection within ”scope”. 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f61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50f61"/>
                </a:solidFill>
                <a:latin typeface="Arial"/>
              </a:rPr>
              <a:t>Attribute list” identifies in the case of a  GET operation which attributes to be returned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A5631-AF80-4746-A10A-3E545742BDB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Highlights of TMN evolution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e1f7c"/>
                </a:solidFill>
                <a:latin typeface="Arial"/>
              </a:rPr>
              <a:t>Management technology evolution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e1f7c"/>
                </a:solidFill>
                <a:latin typeface="Arial"/>
              </a:rPr>
              <a:t>High cost of OSI management (or perceived high cost)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e1f7c"/>
                </a:solidFill>
                <a:latin typeface="Arial"/>
              </a:rPr>
              <a:t>User acceptance of SNMP for element management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e1f7c"/>
                </a:solidFill>
                <a:latin typeface="Arial"/>
              </a:rPr>
              <a:t>CORBA as an attractive management technology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e1f7c"/>
                </a:solidFill>
                <a:latin typeface="Arial"/>
              </a:rPr>
              <a:t>XML for inter-operator communication (X interface)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e1f7c"/>
                </a:solidFill>
                <a:latin typeface="Arial"/>
              </a:rPr>
              <a:t>XML now also an interesting technology for inter-operator communication (Q interface)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e1f7c"/>
                </a:solidFill>
                <a:latin typeface="Arial"/>
              </a:rPr>
              <a:t>Java/J2EE/EJB possibly replacing CORBA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e1f7c"/>
                </a:solidFill>
                <a:latin typeface="Arial"/>
              </a:rPr>
              <a:t>At least J2EE/EJB as an implementation platform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e1f7c"/>
                </a:solidFill>
                <a:latin typeface="Arial"/>
              </a:rPr>
              <a:t>Also J2EE challenged by other technologies  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5410080"/>
            <a:ext cx="8534520" cy="1008720"/>
          </a:xfrm>
          <a:prstGeom prst="rect">
            <a:avLst/>
          </a:prstGeom>
          <a:noFill/>
          <a:ln w="9360">
            <a:solidFill>
              <a:srgbClr val="0e1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Management information is a long lived, strategic asset.  Need specifications that can be mapped to new management paradigms/technologies</a:t>
            </a:r>
            <a:endParaRPr b="0" lang="en-US" sz="20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9142A-1804-4C0B-8F64-88B6448F617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6T16:25:07Z</dcterms:created>
  <dc:creator>ttkhja</dc:creator>
  <dc:description/>
  <dc:language>en-US</dc:language>
  <cp:lastModifiedBy>Ansatt i</cp:lastModifiedBy>
  <cp:lastPrinted>2002-02-21T07:48:42Z</cp:lastPrinted>
  <dcterms:modified xsi:type="dcterms:W3CDTF">2002-11-19T09:45:06Z</dcterms:modified>
  <cp:revision>175</cp:revision>
  <dc:subject/>
  <dc:title>PowerPoint-presentasjon</dc:title>
</cp:coreProperties>
</file>