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D46529-CDB4-4285-AA33-CCF7173445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380520"/>
            <a:ext cx="7696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43000" y="1676160"/>
            <a:ext cx="769608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43000" y="3985920"/>
            <a:ext cx="769608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F2EA34-A779-4752-B36B-6AAC5C4015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380520"/>
            <a:ext cx="7696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1676160"/>
            <a:ext cx="37555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86800" y="1676160"/>
            <a:ext cx="37555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3985920"/>
            <a:ext cx="37555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86800" y="3985920"/>
            <a:ext cx="37555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DE57DA-E3D3-4F9F-A846-2E3963D52B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380520"/>
            <a:ext cx="7696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43000" y="1676160"/>
            <a:ext cx="247788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45080" y="1676160"/>
            <a:ext cx="247788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7160" y="1676160"/>
            <a:ext cx="247788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43000" y="3985920"/>
            <a:ext cx="247788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45080" y="3985920"/>
            <a:ext cx="247788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7160" y="3985920"/>
            <a:ext cx="247788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6A75B8-4EA5-4D6A-98E0-E14AA5DA44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380520"/>
            <a:ext cx="7696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143000" y="1676160"/>
            <a:ext cx="769608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5f1ff"/>
              </a:solidFill>
              <a:latin typeface="Arial Unicode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380520"/>
            <a:ext cx="7696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43000" y="1676160"/>
            <a:ext cx="769608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380520"/>
            <a:ext cx="7696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143000" y="1676160"/>
            <a:ext cx="375552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086800" y="1676160"/>
            <a:ext cx="375552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43000" y="380520"/>
            <a:ext cx="7696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1143000" y="380520"/>
            <a:ext cx="769608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5f1ff"/>
              </a:solidFill>
              <a:latin typeface="Arial Unicode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380520"/>
            <a:ext cx="7696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43000" y="1676160"/>
            <a:ext cx="37555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086800" y="1676160"/>
            <a:ext cx="375552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1143000" y="3985920"/>
            <a:ext cx="37555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3000" y="380520"/>
            <a:ext cx="7696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43000" y="1676160"/>
            <a:ext cx="769608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5f1ff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F9E44B-73D4-4C54-B26C-A04E794CC0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3000" y="380520"/>
            <a:ext cx="7696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43000" y="1676160"/>
            <a:ext cx="375552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86800" y="1676160"/>
            <a:ext cx="37555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086800" y="3985920"/>
            <a:ext cx="37555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380520"/>
            <a:ext cx="7696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3000" y="1676160"/>
            <a:ext cx="37555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86800" y="1676160"/>
            <a:ext cx="37555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43000" y="3985920"/>
            <a:ext cx="769608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3000" y="380520"/>
            <a:ext cx="7696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3000" y="1676160"/>
            <a:ext cx="769608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1143000" y="3985920"/>
            <a:ext cx="769608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43000" y="380520"/>
            <a:ext cx="7696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1676160"/>
            <a:ext cx="37555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86800" y="1676160"/>
            <a:ext cx="37555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143000" y="3985920"/>
            <a:ext cx="37555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5086800" y="3985920"/>
            <a:ext cx="37555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3000" y="380520"/>
            <a:ext cx="7696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43000" y="1676160"/>
            <a:ext cx="247788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745080" y="1676160"/>
            <a:ext cx="247788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347160" y="1676160"/>
            <a:ext cx="247788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1143000" y="3985920"/>
            <a:ext cx="247788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745080" y="3985920"/>
            <a:ext cx="247788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347160" y="3985920"/>
            <a:ext cx="247788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3000" y="380520"/>
            <a:ext cx="7696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3000" y="1676160"/>
            <a:ext cx="769608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950489-0740-4EFC-8137-C4DFA6388E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380520"/>
            <a:ext cx="7696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43000" y="1676160"/>
            <a:ext cx="375552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86800" y="1676160"/>
            <a:ext cx="375552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0937B8-F373-49DF-9D8C-F97478450C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3000" y="380520"/>
            <a:ext cx="7696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8FCECB-48FC-4F2D-A1C9-9E3F97AB29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143000" y="380520"/>
            <a:ext cx="769608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5f1ff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89F5AA-3FDD-42EB-B3DA-0FB9230B1C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3000" y="380520"/>
            <a:ext cx="7696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1676160"/>
            <a:ext cx="37555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86800" y="1676160"/>
            <a:ext cx="375552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43000" y="3985920"/>
            <a:ext cx="37555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9F971-5EB2-4939-96C9-44CB20C020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3000" y="380520"/>
            <a:ext cx="7696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43000" y="1676160"/>
            <a:ext cx="375552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86800" y="1676160"/>
            <a:ext cx="37555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86800" y="3985920"/>
            <a:ext cx="37555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C29F79-6320-4EAA-A5C4-277FFFC376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43000" y="380520"/>
            <a:ext cx="7696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43000" y="1676160"/>
            <a:ext cx="37555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86800" y="1676160"/>
            <a:ext cx="37555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43000" y="3985920"/>
            <a:ext cx="769608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81C279-D95F-4E43-AEAC-E6E4FA35A8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380520"/>
            <a:ext cx="7696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43000" y="1676160"/>
            <a:ext cx="769608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0000"/>
              </a:buClr>
              <a:buSzPct val="90000"/>
              <a:buFont typeface="Arial Unicode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Unicode MS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751"/>
              </a:spcBef>
              <a:buClr>
                <a:srgbClr val="ff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Unicode MS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43000" indent="-228600">
              <a:spcBef>
                <a:spcPts val="751"/>
              </a:spcBef>
              <a:buClr>
                <a:srgbClr val="ff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Unicode MS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 Unicode MS"/>
            </a:endParaRPr>
          </a:p>
          <a:p>
            <a:pPr lvl="3" marL="1600200" indent="-228600">
              <a:spcBef>
                <a:spcPts val="751"/>
              </a:spcBef>
              <a:buClr>
                <a:srgbClr val="ff0000"/>
              </a:buClr>
              <a:buSzPct val="75000"/>
              <a:buFont typeface="Arial Unicode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Unicode MS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 Unicode MS"/>
            </a:endParaRPr>
          </a:p>
          <a:p>
            <a:pPr lvl="4" marL="2057400" indent="-228600">
              <a:spcBef>
                <a:spcPts val="751"/>
              </a:spcBef>
              <a:buClr>
                <a:srgbClr val="ff0000"/>
              </a:buClr>
              <a:buSzPct val="75000"/>
              <a:buFont typeface="Arial Unicode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Unicode MS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 Unicode MS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SzPct val="75000"/>
              <a:buFont typeface="Arial Unicode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Unicode MS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 Unicode MS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SzPct val="75000"/>
              <a:buFont typeface="Arial Unicode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Unicode MS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23888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67787-47F3-43E3-BA2B-794054055086}" type="slidenum">
              <a:rPr b="0" lang="en-US" sz="10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90720" cy="685800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itulogo-en" descr=""/>
          <p:cNvPicPr/>
          <p:nvPr/>
        </p:nvPicPr>
        <p:blipFill>
          <a:blip r:embed="rId2"/>
          <a:stretch/>
        </p:blipFill>
        <p:spPr>
          <a:xfrm>
            <a:off x="0" y="0"/>
            <a:ext cx="990720" cy="6858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19320" y="5943600"/>
            <a:ext cx="670536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5943600"/>
            <a:ext cx="99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5f1ff"/>
                </a:solidFill>
                <a:latin typeface="Trebuchet MS"/>
              </a:rPr>
              <a:t>ITU-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5f1ff"/>
                </a:solidFill>
                <a:latin typeface="Trebuchet MS"/>
              </a:rPr>
              <a:t>SG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3049200" y="6477120"/>
            <a:ext cx="3958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Verdana"/>
              </a:rPr>
              <a:t>ITU-T SG 17 Seminar on “The Use of Description Techniques”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3000" y="380520"/>
            <a:ext cx="76960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66"/>
                </a:solidFill>
                <a:latin typeface="Times New Roman"/>
              </a:rPr>
              <a:t>ITU-T Study Group 16</a:t>
            </a: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GB" sz="3600" spc="-1" strike="noStrike">
                <a:solidFill>
                  <a:srgbClr val="000066"/>
                </a:solidFill>
                <a:latin typeface="Times New Roman"/>
              </a:rPr>
              <a:t>and the need for formal description techniques</a:t>
            </a:r>
            <a:endParaRPr b="1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43000" y="2590560"/>
            <a:ext cx="7696080" cy="35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 Unicode MS"/>
              </a:rPr>
              <a:t>Sim</a:t>
            </a:r>
            <a:r>
              <a:rPr b="1" lang="pt-BR" sz="2600" spc="-1" strike="noStrike">
                <a:solidFill>
                  <a:srgbClr val="000000"/>
                </a:solidFill>
                <a:latin typeface="Arial Unicode MS"/>
              </a:rPr>
              <a:t>ã</a:t>
            </a:r>
            <a:r>
              <a:rPr b="1" lang="en-GB" sz="2600" spc="-1" strike="noStrike">
                <a:solidFill>
                  <a:srgbClr val="000000"/>
                </a:solidFill>
                <a:latin typeface="Arial Unicode MS"/>
              </a:rPr>
              <a:t>o Ferraz de Campos Neto</a:t>
            </a: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 Unicode MS"/>
              </a:rPr>
              <a:t>Counsellor – ITU-T Study Group 16</a:t>
            </a: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 Unicode MS"/>
              </a:rPr>
              <a:t>Multimedia Services, Systems and Terminals</a:t>
            </a: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43000" y="380520"/>
            <a:ext cx="7696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Multimedia terminal and systems</a:t>
            </a: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320" y="1447920"/>
            <a:ext cx="7696440" cy="49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H.310 - Broadband audiovisual communication systems and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terminal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290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H.320 - Narrow-band visual telephone systems and terminal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equipment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290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H.323 - Packet-based multimedia communications system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290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H.324 - Terminal for low bit-rate multimedia communication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290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.246 - Interworking between H-Series terminals &amp; PSTN / ISDN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290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.248.x - Media Gateway Protocol sub-serie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290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.245 - Control Protocol for multimedia communication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290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.225.0 - Call signalling &amp; media packetization for packetized MM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290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.341 - Multimedia management information base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290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43000" y="380520"/>
            <a:ext cx="7696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Media coding – Video &amp; Image</a:t>
            </a: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320" y="1447920"/>
            <a:ext cx="7696440" cy="49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Unicode MS"/>
              </a:rPr>
              <a:t>H.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261</a:t>
            </a:r>
            <a:r>
              <a:rPr b="0" lang="en-GB" sz="2400" spc="-1" strike="noStrike">
                <a:solidFill>
                  <a:srgbClr val="000000"/>
                </a:solidFill>
                <a:latin typeface="Arial Unicode MS"/>
              </a:rPr>
              <a:t> - Video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coding</a:t>
            </a:r>
            <a:r>
              <a:rPr b="0" lang="en-GB" sz="2400" spc="-1" strike="noStrike">
                <a:solidFill>
                  <a:srgbClr val="000000"/>
                </a:solidFill>
                <a:latin typeface="Arial Unicode MS"/>
              </a:rPr>
              <a:t> at p x 64 kbit/s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H.262 - MPEG2/Video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Unicode MS"/>
              </a:rPr>
              <a:t>H.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263</a:t>
            </a:r>
            <a:r>
              <a:rPr b="0" lang="en-GB" sz="2400" spc="-1" strike="noStrike">
                <a:solidFill>
                  <a:srgbClr val="000000"/>
                </a:solidFill>
                <a:latin typeface="Arial Unicode MS"/>
              </a:rPr>
              <a:t> - Video coding for low bit rate communication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Unicode MS"/>
              </a:rPr>
              <a:t>H.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264</a:t>
            </a:r>
            <a:r>
              <a:rPr b="0" lang="en-GB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- Advanced Video Coding </a:t>
            </a:r>
            <a:r>
              <a:rPr b="1" lang="en-US" sz="2400" spc="-1" strike="noStrike" baseline="30000">
                <a:solidFill>
                  <a:srgbClr val="ff0000"/>
                </a:solidFill>
                <a:latin typeface="Comic Sans MS"/>
              </a:rPr>
              <a:t>Almost finished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T.81</a:t>
            </a:r>
            <a:r>
              <a:rPr b="0" lang="en-GB" sz="2400" spc="-1" strike="noStrike">
                <a:solidFill>
                  <a:srgbClr val="000000"/>
                </a:solidFill>
                <a:latin typeface="Arial Unicode MS"/>
              </a:rPr>
              <a:t> -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T.82 - JBIG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T.800, T.801,T.803,T.804 - JPEG-2000 </a:t>
            </a:r>
            <a:r>
              <a:rPr b="1" lang="en-US" sz="2400" spc="-1" strike="noStrike" baseline="30000">
                <a:solidFill>
                  <a:srgbClr val="ff0000"/>
                </a:solidFill>
                <a:latin typeface="Comic Sans MS"/>
              </a:rPr>
              <a:t>New!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43000" y="380520"/>
            <a:ext cx="7696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Media coding – Audio</a:t>
            </a: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320" y="1447920"/>
            <a:ext cx="7696440" cy="49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5" name=""/>
          <p:cNvSpPr/>
          <p:nvPr/>
        </p:nvSpPr>
        <p:spPr>
          <a:xfrm>
            <a:off x="1181160" y="1066680"/>
            <a:ext cx="7696080" cy="525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Unicode MS"/>
              </a:rPr>
              <a:t>G.726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- </a:t>
            </a:r>
            <a:r>
              <a:rPr b="0" lang="en-GB" sz="2400" spc="-1" strike="noStrike">
                <a:solidFill>
                  <a:srgbClr val="000000"/>
                </a:solidFill>
                <a:latin typeface="Arial Unicode MS"/>
              </a:rPr>
              <a:t>ADPCM coding (32; 40, 24 &amp; 16 kbit/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Unicode MS"/>
              </a:rPr>
              <a:t>G.727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- </a:t>
            </a:r>
            <a:r>
              <a:rPr b="0" lang="en-GB" sz="2400" spc="-1" strike="noStrike">
                <a:solidFill>
                  <a:srgbClr val="000000"/>
                </a:solidFill>
                <a:latin typeface="Arial Unicode MS"/>
              </a:rPr>
              <a:t>Embedded ADPCM coding (40-16 kbit/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Unicode MS"/>
              </a:rPr>
              <a:t>G.728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- </a:t>
            </a:r>
            <a:r>
              <a:rPr b="0" lang="en-GB" sz="2400" spc="-1" strike="noStrike">
                <a:solidFill>
                  <a:srgbClr val="000000"/>
                </a:solidFill>
                <a:latin typeface="Arial Unicode MS"/>
              </a:rPr>
              <a:t>LD-CELP coding (16; 40, 11.8 &amp;9.6 kbit/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Unicode MS"/>
              </a:rPr>
              <a:t>G.723.1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 - </a:t>
            </a:r>
            <a:r>
              <a:rPr b="0" lang="en-GB" sz="2400" spc="-1" strike="noStrike">
                <a:solidFill>
                  <a:srgbClr val="000000"/>
                </a:solidFill>
                <a:latin typeface="Arial Unicode MS"/>
              </a:rPr>
              <a:t>Dual-rate coding (5.3 &amp; 6.3 kbit/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Unicode MS"/>
              </a:rPr>
              <a:t>G.729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- </a:t>
            </a:r>
            <a:r>
              <a:rPr b="0" lang="en-GB" sz="2400" spc="-1" strike="noStrike">
                <a:solidFill>
                  <a:srgbClr val="000000"/>
                </a:solidFill>
                <a:latin typeface="Arial Unicode MS"/>
              </a:rPr>
              <a:t>CS-ACELP coding (8; 12.8 &amp; 6.4 kbit/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Unicode MS"/>
              </a:rPr>
              <a:t>G.722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– Wideband</a:t>
            </a:r>
            <a:r>
              <a:rPr b="0" lang="en-GB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speech coding</a:t>
            </a:r>
            <a:r>
              <a:rPr b="0" lang="en-GB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at</a:t>
            </a:r>
            <a:r>
              <a:rPr b="0" lang="en-GB" sz="2400" spc="-1" strike="noStrike">
                <a:solidFill>
                  <a:srgbClr val="000000"/>
                </a:solidFill>
                <a:latin typeface="Arial Unicode MS"/>
              </a:rPr>
              <a:t> 64,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 Unicode MS"/>
              </a:rPr>
              <a:t>56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 Unicode MS"/>
              </a:rPr>
              <a:t>&amp;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 Unicode MS"/>
              </a:rPr>
              <a:t>48 kbit/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Unicode MS"/>
              </a:rPr>
              <a:t>G.722.1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– Hands-free WB speech at </a:t>
            </a:r>
            <a:r>
              <a:rPr b="0" lang="en-GB" sz="2400" spc="-1" strike="noStrike">
                <a:solidFill>
                  <a:srgbClr val="000000"/>
                </a:solidFill>
                <a:latin typeface="Arial Unicode MS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 Unicode MS"/>
              </a:rPr>
              <a:t>&amp;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 Unicode MS"/>
              </a:rPr>
              <a:t>24 kbit/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Unicode MS"/>
              </a:rPr>
              <a:t>G.722.2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- WB</a:t>
            </a:r>
            <a:r>
              <a:rPr b="0" lang="en-GB" sz="2400" spc="-1" strike="noStrike">
                <a:solidFill>
                  <a:srgbClr val="000000"/>
                </a:solidFill>
                <a:latin typeface="Arial Unicode MS"/>
              </a:rPr>
              <a:t> speech at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~</a:t>
            </a:r>
            <a:r>
              <a:rPr b="0" lang="en-GB" sz="2400" spc="-1" strike="noStrike">
                <a:solidFill>
                  <a:srgbClr val="000000"/>
                </a:solidFill>
                <a:latin typeface="Arial Unicode MS"/>
              </a:rPr>
              <a:t>16 kbit/s (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16; </a:t>
            </a:r>
            <a:r>
              <a:rPr b="0" lang="en-GB" sz="2400" spc="-1" strike="noStrike">
                <a:solidFill>
                  <a:srgbClr val="000000"/>
                </a:solidFill>
                <a:latin typeface="Arial Unicode MS"/>
              </a:rPr>
              <a:t>5.5-24 kbit/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81160" y="2590920"/>
            <a:ext cx="769608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 Unicode MS"/>
              </a:rPr>
              <a:t>Description Methods in </a:t>
            </a:r>
            <a:br>
              <a:rPr sz="3600"/>
            </a:br>
            <a:r>
              <a:rPr b="1" lang="en-US" sz="3600" spc="-1" strike="noStrike">
                <a:solidFill>
                  <a:srgbClr val="000066"/>
                </a:solidFill>
                <a:latin typeface="Arial Unicode MS"/>
              </a:rPr>
              <a:t>SG 16 </a:t>
            </a:r>
            <a:br>
              <a:rPr sz="3600"/>
            </a:br>
            <a:r>
              <a:rPr b="1" lang="en-US" sz="3600" spc="-1" strike="noStrike">
                <a:solidFill>
                  <a:srgbClr val="000066"/>
                </a:solidFill>
                <a:latin typeface="Arial Unicode MS"/>
              </a:rPr>
              <a:t>Recommendations</a:t>
            </a:r>
            <a:endParaRPr b="1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380520"/>
            <a:ext cx="7696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Description Techniques in SG 16 Recs</a:t>
            </a: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1160" y="1217160"/>
            <a:ext cx="769608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49"/>
              </a:spcBef>
              <a:buClr>
                <a:srgbClr val="ff0000"/>
              </a:buClr>
              <a:buSzPct val="90000"/>
              <a:buFont typeface="Arial Unicode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Unicode MS"/>
              </a:rPr>
              <a:t>Formal description techniques (FDT)</a:t>
            </a: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ASN.1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ABNF (RFC 2234)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SDL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39480" indent="-339480">
              <a:spcBef>
                <a:spcPts val="649"/>
              </a:spcBef>
              <a:buClr>
                <a:srgbClr val="ff0000"/>
              </a:buClr>
              <a:buSzPct val="90000"/>
              <a:buFont typeface="Arial Unicode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Unicode MS"/>
              </a:rPr>
              <a:t>Other description methods</a:t>
            </a: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Pseudo-code (non compilable, C- or Fortran-like)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ANSI C code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Ladder and state diagrams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Call flow diagrams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380520"/>
            <a:ext cx="7696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FDT in SG 16: ASN.1</a:t>
            </a: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43000" y="1676160"/>
            <a:ext cx="769608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0000"/>
              </a:buClr>
              <a:buSzPct val="90000"/>
              <a:buFont typeface="Arial Unicode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Unicode MS"/>
              </a:rPr>
              <a:t>Examples:</a:t>
            </a:r>
            <a:endParaRPr b="0" lang="en-US" sz="30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H.323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H.245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H.248.x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751"/>
              </a:spcBef>
              <a:buClr>
                <a:srgbClr val="ff0000"/>
              </a:buClr>
              <a:buSzPct val="90000"/>
              <a:buFont typeface="Arial Unicode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 Unicode MS"/>
              </a:rPr>
              <a:t>Recent coordination effort with SG 17’s ASN.1 Project</a:t>
            </a:r>
            <a:endParaRPr b="0" lang="en-US" sz="3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43000" y="380520"/>
            <a:ext cx="7696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FDT in SG 16: ABNF</a:t>
            </a: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43000" y="1676160"/>
            <a:ext cx="769608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0000"/>
              </a:buClr>
              <a:buSzPct val="90000"/>
              <a:buFont typeface="Arial Unicode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Unicode MS"/>
              </a:rPr>
              <a:t>Used for Text encoding in the H.248 Media Gateway Control Protocol sub-series </a:t>
            </a:r>
            <a:endParaRPr b="0" lang="en-US" sz="3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751"/>
              </a:spcBef>
              <a:buClr>
                <a:srgbClr val="ff0000"/>
              </a:buClr>
              <a:buSzPct val="90000"/>
              <a:buFont typeface="Arial Unicode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Unicode MS"/>
              </a:rPr>
              <a:t>Examples:</a:t>
            </a:r>
            <a:endParaRPr b="0" lang="en-US" sz="30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H.248.1 Annex B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…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???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380520"/>
            <a:ext cx="7696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FDT in SG 16: SDL</a:t>
            </a: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43000" y="1676160"/>
            <a:ext cx="769608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0000"/>
              </a:buClr>
              <a:buSzPct val="90000"/>
              <a:buFont typeface="Arial Unicode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Unicode MS"/>
              </a:rPr>
              <a:t>Examples:</a:t>
            </a:r>
            <a:endParaRPr b="0" lang="en-US" sz="30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H.245 (Annex C)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43000" y="380520"/>
            <a:ext cx="7696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Other methods in SG 16: Pseudo-code</a:t>
            </a: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43000" y="1676160"/>
            <a:ext cx="769608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0000"/>
              </a:buClr>
              <a:buSzPct val="90000"/>
              <a:buFont typeface="Arial Unicode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Unicode MS"/>
              </a:rPr>
              <a:t>Non-compilable, non-verifiable</a:t>
            </a:r>
            <a:endParaRPr b="0" lang="en-US" sz="3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751"/>
              </a:spcBef>
              <a:buClr>
                <a:srgbClr val="ff0000"/>
              </a:buClr>
              <a:buSzPct val="90000"/>
              <a:buFont typeface="Arial Unicode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Unicode MS"/>
              </a:rPr>
              <a:t>Sequencing / ordering of operations in plain language</a:t>
            </a:r>
            <a:endParaRPr b="0" lang="en-US" sz="3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751"/>
              </a:spcBef>
              <a:buClr>
                <a:srgbClr val="ff0000"/>
              </a:buClr>
              <a:buSzPct val="90000"/>
              <a:buFont typeface="Arial Unicode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Unicode MS"/>
              </a:rPr>
              <a:t>C-style:</a:t>
            </a:r>
            <a:endParaRPr b="0" lang="en-US" sz="30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G.726, G.727, G.722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751"/>
              </a:spcBef>
              <a:buClr>
                <a:srgbClr val="ff0000"/>
              </a:buClr>
              <a:buSzPct val="90000"/>
              <a:buFont typeface="Arial Unicode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Unicode MS"/>
              </a:rPr>
              <a:t>Fortran-style</a:t>
            </a:r>
            <a:endParaRPr b="0" lang="en-US" sz="30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G.728 &amp; Annexes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380520"/>
            <a:ext cx="7696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Other methods in SG 16: ANSI-C code</a:t>
            </a: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7696080" cy="48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0000"/>
              </a:buClr>
              <a:buSzPct val="90000"/>
              <a:buFont typeface="Arial Unicode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Unicode MS"/>
              </a:rPr>
              <a:t>Compilable code</a:t>
            </a:r>
            <a:endParaRPr b="0" lang="en-US" sz="3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751"/>
              </a:spcBef>
              <a:buClr>
                <a:srgbClr val="ff0000"/>
              </a:buClr>
              <a:buSzPct val="90000"/>
              <a:buFont typeface="Arial Unicode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Unicode MS"/>
              </a:rPr>
              <a:t>Dual use: </a:t>
            </a:r>
            <a:endParaRPr b="0" lang="en-US" sz="30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implementation description 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implementation compliance verification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751"/>
              </a:spcBef>
              <a:buClr>
                <a:srgbClr val="ff0000"/>
              </a:buClr>
              <a:buSzPct val="90000"/>
              <a:buFont typeface="Arial Unicode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Unicode MS"/>
              </a:rPr>
              <a:t>Examples:</a:t>
            </a:r>
            <a:endParaRPr b="0" lang="en-US" sz="30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Telephony speech: G.723.1, G.729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Wideband speech: G.722.1, G.722.2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Video: H.264 </a:t>
            </a:r>
            <a:r>
              <a:rPr b="1" lang="en-US" sz="2800" spc="-1" strike="noStrike" baseline="30000">
                <a:solidFill>
                  <a:srgbClr val="ff0000"/>
                </a:solidFill>
                <a:latin typeface="Comic Sans MS"/>
              </a:rPr>
              <a:t>SOON-TO-BE!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Still image: T.800 (T.804) </a:t>
            </a:r>
            <a:r>
              <a:rPr b="1" lang="en-US" sz="2800" spc="-1" strike="noStrike" baseline="30000">
                <a:solidFill>
                  <a:srgbClr val="ff0000"/>
                </a:solidFill>
                <a:latin typeface="Comic Sans MS"/>
              </a:rPr>
              <a:t>NEW!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43000" y="380520"/>
            <a:ext cx="7696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Contents</a:t>
            </a: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143000" y="1676160"/>
            <a:ext cx="769608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0000"/>
              </a:buClr>
              <a:buSzPct val="90000"/>
              <a:buFont typeface="Arial Unicode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Unicode MS"/>
              </a:rPr>
              <a:t>About SG 16</a:t>
            </a:r>
            <a:endParaRPr b="0" lang="en-US" sz="3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751"/>
              </a:spcBef>
              <a:buClr>
                <a:srgbClr val="ff0000"/>
              </a:buClr>
              <a:buSzPct val="90000"/>
              <a:buFont typeface="Arial Unicode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Unicode MS"/>
              </a:rPr>
              <a:t>Highlight of SG 16 Recommendations</a:t>
            </a:r>
            <a:endParaRPr b="0" lang="en-US" sz="3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751"/>
              </a:spcBef>
              <a:buClr>
                <a:srgbClr val="ff0000"/>
              </a:buClr>
              <a:buSzPct val="90000"/>
              <a:buFont typeface="Arial Unicode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Unicode MS"/>
              </a:rPr>
              <a:t>Description methods in SG 16 Recs</a:t>
            </a:r>
            <a:endParaRPr b="0" lang="en-US" sz="3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751"/>
              </a:spcBef>
              <a:buClr>
                <a:srgbClr val="ff0000"/>
              </a:buClr>
              <a:buSzPct val="90000"/>
              <a:buFont typeface="Arial Unicode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Unicode MS"/>
              </a:rPr>
              <a:t>Future perspectives</a:t>
            </a:r>
            <a:endParaRPr b="0" lang="en-US" sz="3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751"/>
              </a:spcBef>
              <a:buClr>
                <a:srgbClr val="ff0000"/>
              </a:buClr>
              <a:buSzPct val="90000"/>
              <a:buFont typeface="Arial Unicode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Unicode MS"/>
              </a:rPr>
              <a:t>Conclusion</a:t>
            </a:r>
            <a:endParaRPr b="0" lang="en-US" sz="3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8483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Other methods in SG 16: </a:t>
            </a:r>
            <a:br>
              <a:rPr sz="3200"/>
            </a:b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Ladder &amp; State Diagrams</a:t>
            </a:r>
            <a:br>
              <a:rPr sz="3200"/>
            </a:b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Call-flow diagrams</a:t>
            </a: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90720" y="2436840"/>
            <a:ext cx="7696080" cy="32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0000"/>
              </a:buClr>
              <a:buSzPct val="90000"/>
              <a:buFont typeface="Arial Unicode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Unicode MS"/>
              </a:rPr>
              <a:t>Examples:</a:t>
            </a:r>
            <a:endParaRPr b="0" lang="en-US" sz="30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Ladder/State in V, T, and some H-series Recs.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Call flow used in the H.323-related Recs.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81160" y="3048120"/>
            <a:ext cx="7696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 Unicode MS"/>
              </a:rPr>
              <a:t>Examples</a:t>
            </a:r>
            <a:endParaRPr b="1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3000" y="380520"/>
            <a:ext cx="7696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Example of ASN.1 in H.248.1 V2 (2002-03)</a:t>
            </a: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1160" y="57146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 Unicode MS"/>
              </a:rPr>
              <a:t>Initial statements in Annex A</a:t>
            </a:r>
            <a:endParaRPr b="0" lang="en-US" sz="3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34" name=""/>
          <p:cNvSpPr/>
          <p:nvPr/>
        </p:nvSpPr>
        <p:spPr>
          <a:xfrm>
            <a:off x="2335320" y="2595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295280" y="1066680"/>
            <a:ext cx="7467840" cy="444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EDIA-GATEWAY-CONTROL {itu-t(0) recommendation(0) h(8) h248(248) modules(0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edia-gateway-control(0) version2(2)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EFINITIONS AUTOMATIC TAGS ::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BEGIN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egacoMessage ::= SEQU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uthHeader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uthenticationHeader OPTIONAL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ess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uthenticationHeader ::= SEQU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ecParmIndex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ecurityParmIndex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eqNum        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equenceNum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       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uth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tc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3000" y="380520"/>
            <a:ext cx="7696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Example of ABNF in H.248.1 V2 (2002-03)</a:t>
            </a: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335320" y="2595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295280" y="1371600"/>
            <a:ext cx="7467840" cy="37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egacoMessage        = LWSP [authenticationHeader SEP ] messag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uthenticationHeader = AuthToken EQUAL SecurityParmIndex COL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        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quenceNum COLON AuthDat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curityParmIndex    = "0x" 8(HEXDIG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quenceNum          = "0x" 8(HEXDIG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uthData             = "0x" 24*64(HEXDIG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essage            = MegacopToken SLASH Version SEP mId SEP messageBod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; The version of the protocol defined here is equal to 2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essageBody          = ( errorDescriptor / transactionList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tc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181160" y="5715000"/>
            <a:ext cx="7696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 Unicode MS"/>
              </a:rPr>
              <a:t>Initial statements in Annex B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43000" y="380520"/>
            <a:ext cx="7696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Example of SDL in H.245</a:t>
            </a: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5181120"/>
            <a:ext cx="7696080" cy="91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 Unicode MS"/>
              </a:rPr>
              <a:t>Figure C.5/H.245 - State transition diagram for sequence of primitives at CESE outgoing</a:t>
            </a: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42" name=""/>
          <p:cNvSpPr/>
          <p:nvPr/>
        </p:nvSpPr>
        <p:spPr>
          <a:xfrm>
            <a:off x="2335320" y="2595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1395360" y="1600200"/>
          <a:ext cx="7265880" cy="270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5360" y="1600200"/>
                    <a:ext cx="7265880" cy="27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43000" y="380520"/>
            <a:ext cx="7696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Example of Pseudo-code in G.726 (C-like)</a:t>
            </a: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43000" y="5181120"/>
            <a:ext cx="7696080" cy="91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 Unicode MS"/>
              </a:rPr>
              <a:t>Block SUBTB used in the G.726 encoder and decoder</a:t>
            </a:r>
            <a:endParaRPr b="0" lang="en-US" sz="3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47" name=""/>
          <p:cNvSpPr/>
          <p:nvPr/>
        </p:nvSpPr>
        <p:spPr>
          <a:xfrm>
            <a:off x="2335320" y="2595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19320" y="1828800"/>
            <a:ext cx="7467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04720"/>
                <a:tab algn="l" pos="755640"/>
                <a:tab algn="l" pos="1008000"/>
                <a:tab algn="l" pos="1260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UB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04720"/>
                <a:tab algn="l" pos="755640"/>
                <a:tab algn="l" pos="1008000"/>
                <a:tab algn="l" pos="1260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s: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L (DLX in decoder), Y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utput: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LN (DLNX in decoder)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: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cale logarithmic version of differenc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ignal by subtracting scale facto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04720"/>
                <a:tab algn="l" pos="755640"/>
                <a:tab algn="l" pos="1008000"/>
                <a:tab algn="l" pos="1260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04720"/>
                <a:tab algn="l" pos="755640"/>
                <a:tab algn="l" pos="1008000"/>
                <a:tab algn="l" pos="1260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LN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= (</a:t>
            </a:r>
            <a:r>
              <a:rPr b="0" i="1" lang="en-GB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L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+ 4096 - (</a:t>
            </a:r>
            <a:r>
              <a:rPr b="0" i="1" lang="en-GB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Y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&gt;&gt; 2)) &amp; 40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04720"/>
                <a:tab algn="l" pos="755640"/>
                <a:tab algn="l" pos="1008000"/>
                <a:tab algn="l" pos="1260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43000" y="380520"/>
            <a:ext cx="7696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Example of Pseudo-code in G.728 (Fortran-like)</a:t>
            </a: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335320" y="2595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590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219320" y="1523880"/>
            <a:ext cx="761976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04720"/>
                <a:tab algn="l" pos="755640"/>
                <a:tab algn="l" pos="858960"/>
                <a:tab algn="l" pos="1260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EIGHTING  FILTER  COEFFICIENT  CALCULATOR  (block 38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04720"/>
                <a:tab algn="l" pos="755640"/>
                <a:tab algn="l" pos="858960"/>
                <a:tab algn="l" pos="1260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04720"/>
                <a:tab algn="l" pos="755640"/>
                <a:tab algn="l" pos="858960"/>
                <a:tab algn="l" pos="1260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: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WZTM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04720"/>
                <a:tab algn="l" pos="755640"/>
                <a:tab algn="l" pos="858960"/>
                <a:tab algn="l" pos="1260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utputs: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WZ, AW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04720"/>
                <a:tab algn="l" pos="755640"/>
                <a:tab algn="l" pos="858960"/>
                <a:tab algn="l" pos="1260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: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culate the perceptual weighting filter coefficients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rom the linear predictor coefficients for input speech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04720"/>
                <a:tab algn="l" pos="755640"/>
                <a:tab algn="l" pos="858960"/>
                <a:tab algn="l" pos="1260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04720"/>
                <a:tab algn="l" pos="755640"/>
                <a:tab algn="l" pos="858960"/>
                <a:tab algn="l" pos="1260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is block is executed once every adaptation cycle. It is done at ICOUNT = 3 after the processing of block 37 has finish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04720"/>
                <a:tab algn="l" pos="755640"/>
                <a:tab algn="l" pos="858960"/>
                <a:tab algn="l" pos="1260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04720"/>
                <a:tab algn="l" pos="755640"/>
                <a:tab algn="l" pos="858960"/>
                <a:tab algn="l" pos="1260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or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 = 2,3,..,LPCW + 1, do the next lin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|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04720"/>
                <a:tab algn="l" pos="755640"/>
                <a:tab algn="l" pos="858960"/>
                <a:tab algn="l" pos="1260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WP(I) = WPCFV(I) * AWZTMP(I)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|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nominator coeffici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04720"/>
                <a:tab algn="l" pos="755640"/>
                <a:tab algn="l" pos="858960"/>
                <a:tab algn="l" pos="1260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04720"/>
                <a:tab algn="l" pos="755640"/>
                <a:tab algn="l" pos="858960"/>
                <a:tab algn="l" pos="1260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or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 = 2,3,..,LPCW + 1, do the next lin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|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04720"/>
                <a:tab algn="l" pos="755640"/>
                <a:tab algn="l" pos="858960"/>
                <a:tab algn="l" pos="1260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WZ(I) = WZCFV(I) * AWZTMP(I)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| Numerator Coeffici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04720"/>
                <a:tab algn="l" pos="755640"/>
                <a:tab algn="l" pos="858960"/>
                <a:tab algn="l" pos="1260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04720"/>
                <a:tab algn="l" pos="755640"/>
                <a:tab algn="l" pos="858960"/>
                <a:tab algn="l" pos="1260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04720"/>
                <a:tab algn="l" pos="755640"/>
                <a:tab algn="l" pos="858960"/>
                <a:tab algn="l" pos="1260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81160" y="5562720"/>
            <a:ext cx="7696080" cy="91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 Unicode MS"/>
              </a:rPr>
              <a:t>Weighting filter used in the G.728 encoder and decoder</a:t>
            </a:r>
            <a:endParaRPr b="0" lang="en-US" sz="3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43000" y="380520"/>
            <a:ext cx="7696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Example of C-code in G.729</a:t>
            </a: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335320" y="2595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523880" y="914400"/>
            <a:ext cx="7315200" cy="441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/* Decode the positions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i      = index &amp; (Word16)7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pos[0] = add(i, shl(i, 2));           /* pos0 =i*5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index  = shr(index, 3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i      = index &amp; (Word16)7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i      = add(i, shl(i, 2));           /* pos1 =i*5+1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pos[1] = add(i, 1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index  = shr(index, 3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i      = index &amp; (Word16)7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i      = add(i, shl(i, 2));           /* pos2 =i*5+1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pos[2] = add(i, 2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1160" y="5790960"/>
            <a:ext cx="7696080" cy="6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 Unicode MS"/>
              </a:rPr>
              <a:t>Excerpt of function </a:t>
            </a:r>
            <a:r>
              <a:rPr b="0" i="1" lang="en-GB" sz="3000" spc="-1" strike="noStrike">
                <a:solidFill>
                  <a:srgbClr val="000000"/>
                </a:solidFill>
                <a:latin typeface="Arial Unicode MS"/>
              </a:rPr>
              <a:t>Decod_ACELP</a:t>
            </a:r>
            <a:r>
              <a:rPr b="0" i="1" lang="en-US" sz="3000" spc="-1" strike="noStrike">
                <a:solidFill>
                  <a:srgbClr val="000000"/>
                </a:solidFill>
                <a:latin typeface="Arial Unicode MS"/>
              </a:rPr>
              <a:t>() </a:t>
            </a:r>
            <a:endParaRPr b="0" lang="en-US" sz="3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43000" y="380520"/>
            <a:ext cx="7696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Conclusion</a:t>
            </a: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76960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90000"/>
              <a:buFont typeface="Arial Unicode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Extensive use of description techniques in SG 16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90000"/>
              <a:buFont typeface="Arial Unicode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Most frequent: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Unicode MS"/>
              </a:rPr>
              <a:t>System recommendations: ASN.1</a:t>
            </a: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Unicode MS"/>
              </a:rPr>
              <a:t>Coding: ANSI-C code</a:t>
            </a: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Unicode MS"/>
              </a:rPr>
              <a:t>Ladder, state &amp; call-flow diagrams</a:t>
            </a: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90000"/>
              <a:buFont typeface="Arial Unicode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ABNF also used in H.248 (</a:t>
            </a:r>
            <a:r>
              <a:rPr b="0" i="1" lang="en-US" sz="2800" spc="-1" strike="noStrike">
                <a:solidFill>
                  <a:srgbClr val="000000"/>
                </a:solidFill>
                <a:latin typeface="Arial Unicode MS"/>
              </a:rPr>
              <a:t>IETF parallel text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90000"/>
              <a:buFont typeface="Arial Unicode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Future: continued use of ASN.1 and ANSI-C code in the specific areas indicated above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81160" y="837720"/>
            <a:ext cx="7696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Thank you for your attention!</a:t>
            </a:r>
            <a:endParaRPr b="1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81160" y="2742840"/>
            <a:ext cx="76960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 Unicode MS"/>
              </a:rPr>
              <a:t>For further contact, please feel free to contact:</a:t>
            </a: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Unicode MS"/>
              </a:rPr>
              <a:t>Simão Ferraz de Campos Neto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 Unicode MS"/>
              </a:rPr>
              <a:t>Counsellor, ITU-T Study Group 16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simao.campos@itu.int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 Unicode MS"/>
              </a:rPr>
              <a:t>Tel: +41-22-730-6805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 Unicode MS"/>
              </a:rPr>
              <a:t>Fax: +41-22-730-4345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Unicode MS"/>
              </a:rPr>
              <a:t>http://www.itu.int/ITU-T/studygroups/com16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81160" y="3048120"/>
            <a:ext cx="7696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 Unicode MS"/>
              </a:rPr>
              <a:t>About SG 16</a:t>
            </a:r>
            <a:endParaRPr b="1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81160" y="152280"/>
            <a:ext cx="76960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Acronyms</a:t>
            </a: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1160" y="761760"/>
            <a:ext cx="769608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ABNF -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Augmented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Backus-Naur Form [for syntax specifications]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ADPCM - Adaptive Differential PCM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FDT - Formal Description Technique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ISDN - Integrated Services for Digital Network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ITU - International Telecommunication Union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ITU-T - Telecommunication Standardization Sector of ITU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JBIG – Joint Bi-level Image Experts Group 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JPEG - Joint Picture Experts Group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LD-CELP – Low-delay Code-Excited Linear Prediction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MM - Multimedia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PCM - Pulse Code Modulation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PSTN - Public Switched Telecommunication System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WB - Wideband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3000" y="380520"/>
            <a:ext cx="7696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ITU-T Study Group 16</a:t>
            </a: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19320" y="1447560"/>
            <a:ext cx="7169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Unicode MS"/>
              </a:rPr>
              <a:t>Responsible for studies relating to:</a:t>
            </a:r>
            <a:endParaRPr b="0" lang="en-US" sz="3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SzPct val="90000"/>
              <a:buFont typeface="Arial Unicode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Unicode MS"/>
              </a:rPr>
              <a:t>multimedia service definition and multimedia systems, including the associated terminals, modems, protocols and signal processing. </a:t>
            </a:r>
            <a:endParaRPr b="0" lang="en-US" sz="3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Unicode MS"/>
              </a:rPr>
              <a:t>Lead Study Group on </a:t>
            </a:r>
            <a:endParaRPr b="0" lang="en-US" sz="3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SzPct val="90000"/>
              <a:buFont typeface="Arial Unicode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Unicode MS"/>
              </a:rPr>
              <a:t>Multimedia Services, Systems and Terminals</a:t>
            </a:r>
            <a:endParaRPr b="0" lang="en-US" sz="3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SzPct val="90000"/>
              <a:buFont typeface="Arial Unicode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Unicode MS"/>
              </a:rPr>
              <a:t>e-business and e-commerce </a:t>
            </a:r>
            <a:endParaRPr b="0" lang="en-US" sz="3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7" name=""/>
          <p:cNvSpPr/>
          <p:nvPr/>
        </p:nvSpPr>
        <p:spPr>
          <a:xfrm>
            <a:off x="3050640" y="838080"/>
            <a:ext cx="39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www.itu.int/ITU-T/studygroups/com16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43000" y="380520"/>
            <a:ext cx="7696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Times New Roman"/>
              </a:rPr>
              <a:t>ITU-T Study Group 16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 Structure</a:t>
            </a: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09840" y="1676520"/>
            <a:ext cx="3624480" cy="116676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Unicode MS"/>
              </a:rPr>
              <a:t>Study Group 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Multimedia Services Systems &amp; Termina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 Unicode MS"/>
              </a:rPr>
              <a:t>Pierre-Andr</a:t>
            </a:r>
            <a:r>
              <a:rPr b="0" i="1" lang="en-US" sz="1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é</a:t>
            </a:r>
            <a:r>
              <a:rPr b="0" i="1" lang="en-US" sz="1400" spc="-1" strike="noStrike">
                <a:solidFill>
                  <a:srgbClr val="000000"/>
                </a:solidFill>
                <a:latin typeface="Arial Unicode MS"/>
              </a:rPr>
              <a:t> Prob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43000" y="3622680"/>
            <a:ext cx="1719360" cy="17114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Unicode MS"/>
              </a:rPr>
              <a:t>Working Party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Modems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Facsimile Termina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 Unicode MS"/>
              </a:rPr>
              <a:t>Mitsuji Matsumo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160800" y="3622680"/>
            <a:ext cx="1719000" cy="17114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 Unicode MS"/>
              </a:rPr>
              <a:t>Working Party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 Unicode MS"/>
              </a:rPr>
              <a:t>Multimedi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 Unicode MS"/>
              </a:rPr>
              <a:t>Platforms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 Unicode MS"/>
              </a:rPr>
              <a:t>Interwork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 Unicode MS"/>
              </a:rPr>
              <a:t>Sakae Okub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78600" y="3622680"/>
            <a:ext cx="1719000" cy="17114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 Unicode MS"/>
              </a:rPr>
              <a:t>Working Party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 Unicode MS"/>
              </a:rPr>
              <a:t>Media Co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400" spc="-1" strike="noStrike">
                <a:solidFill>
                  <a:srgbClr val="000000"/>
                </a:solidFill>
                <a:latin typeface="Arial Unicode MS"/>
              </a:rPr>
              <a:t>John Magil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196040" y="3622680"/>
            <a:ext cx="1719360" cy="17114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 Unicode MS"/>
              </a:rPr>
              <a:t>Working Party 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 Unicode MS"/>
              </a:rPr>
              <a:t>Multimedi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 Unicode MS"/>
              </a:rPr>
              <a:t>Framew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 Unicode MS"/>
              </a:rPr>
              <a:t>John Magill</a:t>
            </a:r>
            <a:r>
              <a:rPr b="0" i="1" lang="en-US" sz="1400" spc="-1" strike="noStrike">
                <a:solidFill>
                  <a:srgbClr val="000000"/>
                </a:solidFill>
                <a:latin typeface="Arial Unicode MS"/>
              </a:rPr>
              <a:t> (acting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965240" y="3154320"/>
            <a:ext cx="60534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965240" y="3154320"/>
            <a:ext cx="1800" cy="4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057560" y="3154320"/>
            <a:ext cx="1800" cy="4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075360" y="3154320"/>
            <a:ext cx="1440" cy="4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018640" y="3154320"/>
            <a:ext cx="1440" cy="4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029200" y="2843280"/>
            <a:ext cx="1440" cy="311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217520" y="1754280"/>
            <a:ext cx="1644840" cy="9464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 Unicode MS"/>
              </a:rPr>
              <a:t>ITU-TS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 Unicode MS"/>
              </a:rPr>
              <a:t>Counsell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 Unicode MS"/>
              </a:rPr>
              <a:t>Sim</a:t>
            </a:r>
            <a:r>
              <a:rPr b="0" i="1" lang="pt-BR" sz="1400" spc="-1" strike="noStrike">
                <a:solidFill>
                  <a:srgbClr val="000000"/>
                </a:solidFill>
                <a:latin typeface="Arial Unicode MS"/>
              </a:rPr>
              <a:t>ã</a:t>
            </a:r>
            <a:r>
              <a:rPr b="0" i="1" lang="en-GB" sz="1400" spc="-1" strike="noStrike">
                <a:solidFill>
                  <a:srgbClr val="000000"/>
                </a:solidFill>
                <a:latin typeface="Arial Unicode MS"/>
              </a:rPr>
              <a:t>o Ferraz 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 Unicode MS"/>
              </a:rPr>
              <a:t>Campos Ne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862360" y="2220840"/>
            <a:ext cx="4474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3000" y="380520"/>
            <a:ext cx="7696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Times New Roman"/>
              </a:rPr>
              <a:t>ITU-T Study Group 16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 WPs (1/2)</a:t>
            </a: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19320" y="838080"/>
            <a:ext cx="76960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Unicode MS"/>
              </a:rPr>
              <a:t>Working Party 1/16 - Modems and facsimile terminals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H/16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Accessibility to Multimedia Systems and Services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11/16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Voiceband Modems: Specification and Performance Evaluation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12/16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DCE-DCE protocols for the PSTN and ISDN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13/16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DTE-DCE Interfaces and Protocols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14/16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acsimile terminals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Unicode MS"/>
              </a:rPr>
              <a:t>Working Party 2/16 - Multimedia platform and interworking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D/16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Interoperability of Multimedia Systems and Services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/16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Quality of Service (QoS) and End-to-End Performance in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Multimedia Systems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/16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Security of Multimedia Systems and Services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1/16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Multimedia Systems, Terminals and Data Conferencing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2/16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Multimedia over Packet Networks using H.323 Systems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3/16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Infrastructure and Interoperability for Multimedia over Packet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Network Systems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4/16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Video and data conferencing using Internet supported services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5/16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Mobility for Multimedia Systems and Services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marL="3052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               </a:t>
            </a:r>
            <a:endParaRPr b="0" lang="en-US" sz="1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3000" y="380520"/>
            <a:ext cx="7696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Times New Roman"/>
              </a:rPr>
              <a:t>ITU-T Study Group 16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 WPs (2/2)</a:t>
            </a: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94920" y="1142640"/>
            <a:ext cx="7162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Unicode MS"/>
              </a:rPr>
              <a:t>Working Party 3/16 – Media coding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Unicode MS"/>
              </a:rPr>
              <a:t>E/16    </a:t>
            </a:r>
            <a:r>
              <a:rPr b="0" lang="en-GB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 Unicode MS"/>
              </a:rPr>
              <a:t>Media coding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Unicode MS"/>
              </a:rPr>
              <a:t>6/16    </a:t>
            </a:r>
            <a:r>
              <a:rPr b="0" lang="en-GB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 Unicode MS"/>
              </a:rPr>
              <a:t>Advanced video coding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Unicode MS"/>
              </a:rPr>
              <a:t>7/16   </a:t>
            </a:r>
            <a:r>
              <a:rPr b="0" lang="en-GB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 Unicode MS"/>
              </a:rPr>
              <a:t>Wideband coding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Unicode MS"/>
              </a:rPr>
              <a:t>8/16   </a:t>
            </a:r>
            <a:r>
              <a:rPr b="0" lang="en-GB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 Unicode MS"/>
              </a:rPr>
              <a:t>Encoding of speech signals at bit rates around 4 kbit/s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Unicode MS"/>
              </a:rPr>
              <a:t>9/16   </a:t>
            </a:r>
            <a:r>
              <a:rPr b="0" lang="en-GB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 Unicode MS"/>
              </a:rPr>
              <a:t>Variable bit rate coding of speech signals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Unicode MS"/>
              </a:rPr>
              <a:t>10/16    </a:t>
            </a:r>
            <a:r>
              <a:rPr b="0" lang="en-GB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 Unicode MS"/>
              </a:rPr>
              <a:t>Software tools for signal processing standardization </a:t>
            </a:r>
            <a:r>
              <a:rPr b="0" lang="en-GB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 Unicode MS"/>
              </a:rPr>
              <a:t>activities and maintenance of existing voice coding </a:t>
            </a:r>
            <a:r>
              <a:rPr b="0" lang="en-GB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 Unicode MS"/>
              </a:rPr>
              <a:t>standards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Unicode MS"/>
              </a:rPr>
              <a:t>15/16    </a:t>
            </a:r>
            <a:r>
              <a:rPr b="0" lang="en-GB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 Unicode MS"/>
              </a:rPr>
              <a:t>Distributed Speech Recognition (DSR) and Distributed </a:t>
            </a:r>
            <a:r>
              <a:rPr b="0" lang="en-GB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 Unicode MS"/>
              </a:rPr>
              <a:t>Speaker Verification (DSV)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marL="3394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 Unicode MS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Unicode MS"/>
              </a:rPr>
              <a:t>Working Party 4/16 – Multimedia framework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Unicode MS"/>
              </a:rPr>
              <a:t>A/16    </a:t>
            </a:r>
            <a:r>
              <a:rPr b="0" lang="en-GB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 Unicode MS"/>
              </a:rPr>
              <a:t>Mediacom-2004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Unicode MS"/>
              </a:rPr>
              <a:t>B/16    </a:t>
            </a:r>
            <a:r>
              <a:rPr b="0" lang="en-GB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 Unicode MS"/>
              </a:rPr>
              <a:t>Multimedia Architecture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Unicode MS"/>
              </a:rPr>
              <a:t>C/16   </a:t>
            </a:r>
            <a:r>
              <a:rPr b="0" lang="en-GB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 Unicode MS"/>
              </a:rPr>
              <a:t>Multimedia applications and services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I/16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 Unicode MS"/>
              </a:rPr>
              <a:t>Use of public telecommunication services for emergency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a</a:t>
            </a:r>
            <a:r>
              <a:rPr b="0" lang="en-GB" sz="1800" spc="-1" strike="noStrike">
                <a:solidFill>
                  <a:srgbClr val="000000"/>
                </a:solidFill>
                <a:latin typeface="Arial Unicode MS"/>
              </a:rPr>
              <a:t>nd disaster relief operations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81160" y="2590920"/>
            <a:ext cx="769608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 Unicode MS"/>
              </a:rPr>
              <a:t>Highlight of </a:t>
            </a:r>
            <a:br>
              <a:rPr sz="3600"/>
            </a:br>
            <a:r>
              <a:rPr b="1" lang="en-US" sz="3600" spc="-1" strike="noStrike">
                <a:solidFill>
                  <a:srgbClr val="000066"/>
                </a:solidFill>
                <a:latin typeface="Arial Unicode MS"/>
              </a:rPr>
              <a:t>Recommendations </a:t>
            </a:r>
            <a:br>
              <a:rPr sz="3600"/>
            </a:br>
            <a:r>
              <a:rPr b="1" lang="en-US" sz="3600" spc="-1" strike="noStrike">
                <a:solidFill>
                  <a:srgbClr val="000066"/>
                </a:solidFill>
                <a:latin typeface="Arial Unicode MS"/>
              </a:rPr>
              <a:t>under SG 16</a:t>
            </a:r>
            <a:endParaRPr b="1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43000" y="380520"/>
            <a:ext cx="7696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Modem &amp; Fax recommendations</a:t>
            </a: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1160" y="1294920"/>
            <a:ext cx="76960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44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V.34</a:t>
            </a:r>
            <a:r>
              <a:rPr b="0" lang="en-GB" sz="2400" spc="-1" strike="noStrike">
                <a:solidFill>
                  <a:srgbClr val="000000"/>
                </a:solidFill>
                <a:latin typeface="Arial Unicode MS"/>
              </a:rPr>
              <a:t> –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Two-wire PSTN data at up to 33.6 kbit/s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83844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V.90</a:t>
            </a:r>
            <a:r>
              <a:rPr b="0" lang="en-GB" sz="2400" spc="-1" strike="noStrike">
                <a:solidFill>
                  <a:srgbClr val="000000"/>
                </a:solidFill>
                <a:latin typeface="Arial Unicode MS"/>
              </a:rPr>
              <a:t> –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Unicode MS"/>
              </a:rPr>
              <a:t>Digital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56 kbit/s upstream / 33.6 kbit/s </a:t>
            </a:r>
            <a:r>
              <a:rPr b="0" lang="en-GB" sz="2400" spc="-1" strike="noStrike">
                <a:solidFill>
                  <a:srgbClr val="000000"/>
                </a:solidFill>
                <a:latin typeface="Arial Unicode MS"/>
              </a:rPr>
              <a:t>analogue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downstream </a:t>
            </a:r>
            <a:r>
              <a:rPr b="0" lang="en-GB" sz="2400" spc="-1" strike="noStrike">
                <a:solidFill>
                  <a:srgbClr val="000000"/>
                </a:solidFill>
                <a:latin typeface="Arial Unicode MS"/>
              </a:rPr>
              <a:t>PSTN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 Unicode MS"/>
              </a:rPr>
              <a:t>modem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83844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V.92</a:t>
            </a:r>
            <a:r>
              <a:rPr b="0" lang="en-GB" sz="2400" spc="-1" strike="noStrike">
                <a:solidFill>
                  <a:srgbClr val="000000"/>
                </a:solidFill>
                <a:latin typeface="Arial Unicode MS"/>
              </a:rPr>
              <a:t> –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Unicode MS"/>
              </a:rPr>
              <a:t>Enhancements to Recommendation V.90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83844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V.150.1 </a:t>
            </a:r>
            <a:r>
              <a:rPr b="0" lang="en-GB" sz="2400" spc="-1" strike="noStrike">
                <a:solidFill>
                  <a:srgbClr val="000000"/>
                </a:solidFill>
                <a:latin typeface="Arial Unicode MS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 Modem-over-IP </a:t>
            </a:r>
            <a:r>
              <a:rPr b="1" lang="en-US" sz="2400" spc="-1" strike="noStrike" baseline="30000">
                <a:solidFill>
                  <a:srgbClr val="ff0000"/>
                </a:solidFill>
                <a:latin typeface="Comic Sans MS"/>
              </a:rPr>
              <a:t>NEW!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83844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83844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T.30</a:t>
            </a:r>
            <a:r>
              <a:rPr b="0" lang="en-GB" sz="2400" spc="-1" strike="noStrike">
                <a:solidFill>
                  <a:srgbClr val="000000"/>
                </a:solidFill>
                <a:latin typeface="Arial Unicode MS"/>
              </a:rPr>
              <a:t> –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Unicode MS"/>
              </a:rPr>
              <a:t>Procedures for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G3 PSTN </a:t>
            </a:r>
            <a:r>
              <a:rPr b="0" lang="en-GB" sz="2400" spc="-1" strike="noStrike">
                <a:solidFill>
                  <a:srgbClr val="000000"/>
                </a:solidFill>
                <a:latin typeface="Arial Unicode MS"/>
              </a:rPr>
              <a:t>facsimile transmission 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83844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T.37</a:t>
            </a:r>
            <a:r>
              <a:rPr b="0" lang="en-GB" sz="2400" spc="-1" strike="noStrike">
                <a:solidFill>
                  <a:srgbClr val="000000"/>
                </a:solidFill>
                <a:latin typeface="Arial Unicode MS"/>
              </a:rPr>
              <a:t> –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Unicode MS"/>
              </a:rPr>
              <a:t>Facsimile via store-and-forward on the Internet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83844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T.38</a:t>
            </a:r>
            <a:r>
              <a:rPr b="0" lang="en-GB" sz="2400" spc="-1" strike="noStrike">
                <a:solidFill>
                  <a:srgbClr val="000000"/>
                </a:solidFill>
                <a:latin typeface="Arial Unicode MS"/>
              </a:rPr>
              <a:t> –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Unicode MS"/>
              </a:rPr>
              <a:t>Real-time G3 facsimile communication over IP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8T21:32:45Z</dcterms:created>
  <dc:creator>TSB/JM+SCN</dc:creator>
  <dc:description>Geneva, May 2002</dc:description>
  <dc:language>en-US</dc:language>
  <cp:lastModifiedBy>TSB-Simao</cp:lastModifiedBy>
  <dcterms:modified xsi:type="dcterms:W3CDTF">2002-11-23T09:01:03Z</dcterms:modified>
  <cp:revision>91</cp:revision>
  <dc:subject>ITU-T Study Group 16 &amp; H.323 Status</dc:subject>
  <dc:title>IMTC H.323 Forum Launch</dc:title>
</cp:coreProperties>
</file>