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A71-91E9-444F-90C8-545BEDFD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9CD-3FAB-4CEC-AEA4-A8654A66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D8B-EC1C-476F-BE57-61368641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8E4-F382-4638-AA5D-ABFFC9C9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C0D-CA8C-4FDE-A056-065D91AF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905-9D09-4D41-9C66-8C90FF3D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88D-765E-4CD8-9F7E-D49A6AFE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251-232C-4B37-866A-03D0C93C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997-03E7-4219-8478-EC82860C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534-D258-45D2-9399-B53F2F39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BB2-33AC-4ACF-8A8E-21F43440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E3E-DCFA-4F59-A869-BF75AF43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5EBF-1DF6-4C01-B96E-6FAF5F6B5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language for the support of PSTN/ISDN services within IP session control protocol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ith Mainw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pporteur Q.6/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P – ISUP interworking with G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33720"/>
            <a:ext cx="815040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p ISUP parameters to SIP headers and SDP, if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p other parameters to G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ve GTD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438280"/>
          <a:ext cx="8224560" cy="3571920"/>
        </p:xfrm>
        <a:graphic>
          <a:graphicData uri="http://schemas.openxmlformats.org/drawingml/2006/table">
            <a:tbl>
              <a:tblPr/>
              <a:tblGrid>
                <a:gridCol w="1449360"/>
                <a:gridCol w="6775200"/>
              </a:tblGrid>
              <a:tr h="50976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 Call Iden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D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wn Field Compatibility 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col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col Var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mentation Indic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F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nown Field Compatibility 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22840" y="1523880"/>
            <a:ext cx="81842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ly introduced parameters solely for the purpose of GTD &amp; with 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valent in IS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of ISUP vari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ic compatibility mechanisms used to transfer variant-specif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TD does not solve the problem of interworking between all vari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tocol Name - P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base deri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y var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 or vendor var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var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 base deriv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523880"/>
            <a:ext cx="6248160" cy="46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know - un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1113 - ANSI T1.113 (use prv= to distinguish ye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767* - ITU q7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761* - ITU q761-4 (use prv= to distinguish ye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tsv1 - ETSI ISUP V1 (ETS 300 12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tsv2 - ETSI ISUP V2 (ETS 300 35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pnss - BT Digital Private Network Signaling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sdn* - Integrated Services Digital Network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sr1 - Channel associated 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sr2 - Channel associated 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smf - Channel associated Multi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slp - Channel associated Multi loop disconnec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up** - Telephony user p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up** - National user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317 - Bellcore GR-3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394 - Bellcore GR-3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905 - Bellcore GR-9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ss2 - BT Digital Access Signaling System #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343400"/>
            <a:ext cx="0" cy="2133720"/>
          </a:xfrm>
          <a:prstGeom prst="line">
            <a:avLst/>
          </a:prstGeom>
          <a:ln w="1260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6248520"/>
            <a:ext cx="1676160" cy="0"/>
          </a:xfrm>
          <a:prstGeom prst="line">
            <a:avLst/>
          </a:prstGeom>
          <a:ln w="1260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N – other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828800"/>
            <a:ext cx="6933960" cy="41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eld-02:  c - Country 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aa - 3 char string representing the cou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, UK* for United Kingdom (use IANA country domai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[See Appendix C for listing adopted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tp://www.ics.uci.edu/pub/websoft/wwwstat/country-codes.tx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eld-03: o - operator or vendor 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aaaa - IA5 characters a-z or 0-9 indicating the operator 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, btnup for British Telecom NUP, ttc** for JT-Q761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eld-04: prv  -protocol 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aaa  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---   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000 - unknown 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xxx - IA5 characters a-z or 0-9 indicating version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, "1993" variant of JT-Q761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191120"/>
            <a:ext cx="0" cy="2133360"/>
          </a:xfrm>
          <a:prstGeom prst="line">
            <a:avLst/>
          </a:prstGeom>
          <a:ln w="1260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6095880"/>
            <a:ext cx="1676520" cy="0"/>
          </a:xfrm>
          <a:prstGeom prst="line">
            <a:avLst/>
          </a:prstGeom>
          <a:ln w="1260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362320"/>
            <a:ext cx="82249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to direct equivalent GTD parameter and field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to best fit GTD parameter and field value and encode information using a compatibility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5760" y="118728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TD – Unknown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289080" indent="-289080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essage Compa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s unknown protocol messages in raw format and indicates how the receiver should handl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arameter Com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s unknown parameters, and indicates how the receiver should handl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ield Compa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s unknown field values, and indicates how the receiver should handl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5160">
              <a:lnSpc>
                <a:spcPct val="90000"/>
              </a:lnSpc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ersonal view on formal definition techniques from a protocol standardise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have outrun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think of the users – may not be mathematicians, computing or language exp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 techniques without losing form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question in SG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tention to develop synta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her a new more flexible representation of narrowband signalling protocol information (initial contributions based on IS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existing descrip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Question 1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language based mechanism for the support of PSTN/ISDN services within IP session control protoc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proble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ory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exibl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of protocol vari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tibilit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nelling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Transparency 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5760" y="2117880"/>
            <a:ext cx="822456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descriptor cf. SDP (Session Description Protocol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ains narrowband signalling (call control) information (e.g. derived from ISU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fer protocol independent (e.g. H.323 or SI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resses some of the issues associated with “tunnelling” protocols (such as the alignment of tunnelled information with the same semantic information in the protocol containing the tunne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219320"/>
            <a:ext cx="694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5932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of narrowband signalling information in packet-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lass4_5Switch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61920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Class4_5Switch" descr=""/>
          <p:cNvPicPr/>
          <p:nvPr/>
        </p:nvPicPr>
        <p:blipFill>
          <a:blip r:embed="rId2"/>
          <a:stretch/>
        </p:blipFill>
        <p:spPr>
          <a:xfrm>
            <a:off x="7696080" y="2057400"/>
            <a:ext cx="61920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Router_Voice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762120" cy="447840"/>
          </a:xfrm>
          <a:prstGeom prst="rect">
            <a:avLst/>
          </a:prstGeom>
          <a:ln w="0">
            <a:noFill/>
          </a:ln>
        </p:spPr>
      </p:pic>
      <p:pic>
        <p:nvPicPr>
          <p:cNvPr id="56" name="GenericSoftswitch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7221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GenericSoftswitch" descr=""/>
          <p:cNvPicPr/>
          <p:nvPr/>
        </p:nvPicPr>
        <p:blipFill>
          <a:blip r:embed="rId5"/>
          <a:stretch/>
        </p:blipFill>
        <p:spPr>
          <a:xfrm>
            <a:off x="1905120" y="1828800"/>
            <a:ext cx="7221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honeIP" descr=""/>
          <p:cNvPicPr/>
          <p:nvPr/>
        </p:nvPicPr>
        <p:blipFill>
          <a:blip r:embed="rId6"/>
          <a:stretch/>
        </p:blipFill>
        <p:spPr>
          <a:xfrm>
            <a:off x="3048120" y="5486400"/>
            <a:ext cx="609480" cy="53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52280" y="25909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6400800" y="33526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1905120" y="34290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FileServerwPCRouter" descr=""/>
          <p:cNvPicPr/>
          <p:nvPr/>
        </p:nvPicPr>
        <p:blipFill>
          <a:blip r:embed="rId10"/>
          <a:stretch/>
        </p:blipFill>
        <p:spPr>
          <a:xfrm>
            <a:off x="3276720" y="4191120"/>
            <a:ext cx="630000" cy="1001520"/>
          </a:xfrm>
          <a:prstGeom prst="rect">
            <a:avLst/>
          </a:prstGeom>
          <a:ln w="0">
            <a:noFill/>
          </a:ln>
        </p:spPr>
      </p:pic>
      <p:pic>
        <p:nvPicPr>
          <p:cNvPr id="63" name="FileServerwPCRouter" descr=""/>
          <p:cNvPicPr/>
          <p:nvPr/>
        </p:nvPicPr>
        <p:blipFill>
          <a:blip r:embed="rId11"/>
          <a:stretch/>
        </p:blipFill>
        <p:spPr>
          <a:xfrm>
            <a:off x="5410080" y="4191120"/>
            <a:ext cx="630360" cy="1001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8534520" y="243828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PhoneIP" descr=""/>
          <p:cNvPicPr/>
          <p:nvPr/>
        </p:nvPicPr>
        <p:blipFill>
          <a:blip r:embed="rId13"/>
          <a:stretch/>
        </p:blipFill>
        <p:spPr>
          <a:xfrm>
            <a:off x="5257800" y="5486400"/>
            <a:ext cx="609480" cy="531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9600" y="4495680"/>
            <a:ext cx="1629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.323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440" y="4572000"/>
            <a:ext cx="1213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P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5440" y="1371600"/>
            <a:ext cx="134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1480" y="1295280"/>
            <a:ext cx="134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5440" y="1828800"/>
            <a:ext cx="36673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P (encapsulated ISUP) “SIP-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P / H.323 (encapsulated GT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29528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743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05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971800"/>
            <a:ext cx="9907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10280" y="289548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657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886200" y="38095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240" y="38095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4920" y="2362320"/>
            <a:ext cx="680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240" y="2362320"/>
            <a:ext cx="680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P-T (encapsulated ISU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TD (generic IP e.g. H.323 / SI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CC – PSTN / ISDN service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254160"/>
            <a:ext cx="80773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terworking narrowband signalling protocol to IP call control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as much information as 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nel information that cannot be ma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P-T: encapsulate full ISU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D: encapsulate information that cannot be ma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C: no need for tunnelling as full mapping of narrowband signall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D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required to send all parameters derived from source message (cf. SIP-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accessible within IP network (not unique to GTD but may simplify proced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0:34:06Z</dcterms:created>
  <dc:creator>Cisco User</dc:creator>
  <dc:description/>
  <dc:language>en-US</dc:language>
  <cp:lastModifiedBy>Cisco User</cp:lastModifiedBy>
  <dcterms:modified xsi:type="dcterms:W3CDTF">2002-11-22T15:54:56Z</dcterms:modified>
  <cp:revision>9</cp:revision>
  <dc:subject/>
  <dc:title>Syntax language for the support of PSTN/ISDN services within IP session control protoco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1520856</vt:r8>
  </property>
  <property fmtid="{D5CDD505-2E9C-101B-9397-08002B2CF9AE}" pid="3" name="_AuthorEmail">
    <vt:lpwstr>kmainwar@cisco.com</vt:lpwstr>
  </property>
  <property fmtid="{D5CDD505-2E9C-101B-9397-08002B2CF9AE}" pid="4" name="_AuthorEmailDisplayName">
    <vt:lpwstr>Keith Mainwaring (kmainwar)</vt:lpwstr>
  </property>
  <property fmtid="{D5CDD505-2E9C-101B-9397-08002B2CF9AE}" pid="5" name="_EmailSubject">
    <vt:lpwstr>Workshop </vt:lpwstr>
  </property>
</Properties>
</file>