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docx" ContentType="application/vnd.openxmlformats-officedocument.wordprocessingml.documen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325BD-924B-49EC-AA68-3BD88710A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040" y="4249440"/>
            <a:ext cx="7877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9807-5DBB-4D54-BB1D-B77A882F3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36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040" y="424944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360" y="424944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0CE7-E0A7-44DF-A486-E79643B4D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77320" y="198072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40960" y="198072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040" y="424944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77320" y="424944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40960" y="424944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6743-C1F6-41FD-8805-A1FFF3D16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67E-ABBF-4A17-A33D-C9041CA5BC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2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3604-3749-4B8A-9662-3A1AD10695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C08-72E7-4FF8-B348-EC76F7BE93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43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0360" y="1980720"/>
            <a:ext cx="3843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DF4-9EA9-4107-A706-A272E94D9C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6E11-4464-41BE-B2E3-ADF7CBE296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1066680"/>
            <a:ext cx="7877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spcBef>
                <a:spcPts val="1375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2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E55B-FBF6-4171-B49F-F494599D36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360" y="1980720"/>
            <a:ext cx="3843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24944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3D84-C14C-4B2E-974E-FEEC14DCBC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2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3D18-EBBA-482F-AA9A-6D8173013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43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36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360" y="424944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567-A0E4-41E5-969D-04D2303E86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036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249440"/>
            <a:ext cx="7877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940C-6C71-405A-A1A3-BB6D5C8661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249440"/>
            <a:ext cx="7877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1CE-7D9F-4507-9597-24515EA6FA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036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24944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0360" y="424944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45B-9BF8-4084-8704-AC140CC480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77320" y="198072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40960" y="198072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24944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77320" y="424944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40960" y="4249440"/>
            <a:ext cx="2536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EE2A-075C-4EBA-BFE1-8FBF8F599E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791A-11D6-4B74-BB5D-E956BFE26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43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0360" y="1980720"/>
            <a:ext cx="3843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2867-7718-4C50-BECB-4AF65F906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0D2B-51E7-4803-93C2-FE8C612F3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040" y="1066680"/>
            <a:ext cx="7877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spcBef>
                <a:spcPts val="1375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2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08A3-0516-4B88-A669-5304ABF55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0360" y="1980720"/>
            <a:ext cx="3843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24944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E09B-1A60-4378-BE26-D05B5199D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43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036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360" y="424944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B8E8-AF07-4D68-A1D2-012C8300E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360" y="1980720"/>
            <a:ext cx="3843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4249440"/>
            <a:ext cx="7877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3630-71C9-4319-9E28-38F9B4179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package" Target="../embeddings/oleObject1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Junge_CUT_small2" descr=""/>
          <p:cNvPicPr/>
          <p:nvPr/>
        </p:nvPicPr>
        <p:blipFill>
          <a:blip r:embed="rId2"/>
          <a:srcRect l="6644" t="0" r="6040" b="0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7621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3000" spc="-1" strike="noStrike">
                <a:solidFill>
                  <a:srgbClr val="353a90"/>
                </a:solidFill>
                <a:latin typeface="TheMixSemiLight"/>
              </a:rPr>
              <a:t>Click to edit the title text format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353a90"/>
                </a:solidFill>
                <a:latin typeface="Frutiger 45 Light"/>
              </a:rPr>
              <a:t>Click to edit the outline text format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353a90"/>
                </a:solidFill>
                <a:latin typeface="Frutiger 45 Light"/>
              </a:rPr>
              <a:t>Second Outline Level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208160" indent="-24768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353a90"/>
                </a:solidFill>
                <a:latin typeface="Frutiger 45 Light"/>
              </a:rPr>
              <a:t>Third Outline Level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lvl="3" marL="1646280" indent="-24768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353a90"/>
                </a:solidFill>
                <a:latin typeface="Frutiger 45 Light"/>
              </a:rPr>
              <a:t>Fourth Outline Level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lvl="4" marL="2084400" indent="-24768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353a90"/>
                </a:solidFill>
                <a:latin typeface="Frutiger 45 Light"/>
              </a:rPr>
              <a:t>Fifth Outline Level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lvl="5" marL="2084400" indent="-24768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353a90"/>
                </a:solidFill>
                <a:latin typeface="Frutiger 45 Light"/>
              </a:rPr>
              <a:t>Sixth Outline Level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lvl="6" marL="2084400" indent="-24768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353a90"/>
                </a:solidFill>
                <a:latin typeface="Frutiger 45 Light"/>
              </a:rPr>
              <a:t>Seventh Outline Level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" name=""/>
          <p:cNvSpPr/>
          <p:nvPr/>
        </p:nvSpPr>
        <p:spPr>
          <a:xfrm>
            <a:off x="743760" y="174600"/>
            <a:ext cx="491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353a90"/>
                </a:solidFill>
                <a:latin typeface="Frutiger 45 Light"/>
              </a:rPr>
              <a:t>“</a:t>
            </a:r>
            <a:r>
              <a:rPr b="0" lang="en-GB" sz="1400" spc="-1" strike="noStrike">
                <a:solidFill>
                  <a:srgbClr val="353a90"/>
                </a:solidFill>
                <a:latin typeface="Frutiger 45 Light"/>
              </a:rPr>
              <a:t>Use of OOM and UML to define Signalling Requirements”</a:t>
            </a:r>
            <a:endParaRPr b="0" lang="en-US" sz="1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667640" y="6477120"/>
            <a:ext cx="1123920" cy="2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GB" sz="800" spc="-1" strike="noStrike">
                <a:solidFill>
                  <a:srgbClr val="00005a"/>
                </a:solidFill>
                <a:latin typeface="Frutiger 45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B7A609E7-83D0-4F44-8F4D-B76ECCE0AA28}" type="slidenum">
              <a:rPr b="0" lang="en-GB" sz="1000" spc="-1" strike="noStrike">
                <a:solidFill>
                  <a:srgbClr val="00005a"/>
                </a:solidFill>
                <a:latin typeface="Frutiger 45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914040" y="6476760"/>
            <a:ext cx="323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GB" sz="800" spc="-1" strike="noStrike">
                <a:solidFill>
                  <a:srgbClr val="00005a"/>
                </a:solidFill>
                <a:latin typeface="Frutiger 45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800" spc="-1" strike="noStrike">
                <a:solidFill>
                  <a:srgbClr val="00005a"/>
                </a:solidFill>
                <a:latin typeface="Frutiger 45 Ligh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800" spc="-1" strike="noStrike">
                <a:solidFill>
                  <a:srgbClr val="00005a"/>
                </a:solidFill>
                <a:latin typeface="Frutiger 45 Light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fcen_rgb1_POT" descr=""/>
          <p:cNvPicPr/>
          <p:nvPr/>
        </p:nvPicPr>
        <p:blipFill>
          <a:blip r:embed="rId3"/>
          <a:stretch/>
        </p:blipFill>
        <p:spPr>
          <a:xfrm>
            <a:off x="7161120" y="230040"/>
            <a:ext cx="1982880" cy="61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" name=""/>
          <p:cNvGraphicFramePr/>
          <p:nvPr/>
        </p:nvGraphicFramePr>
        <p:xfrm>
          <a:off x="0" y="142920"/>
          <a:ext cx="693720" cy="7714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42920"/>
                    <a:ext cx="6937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Junge_hell_CUT_smaller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257480"/>
            <a:ext cx="1766880" cy="5625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3a9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3a90"/>
              </a:solidFill>
              <a:latin typeface="Times New Roman"/>
            </a:endParaRPr>
          </a:p>
        </p:txBody>
      </p:sp>
      <p:pic>
        <p:nvPicPr>
          <p:cNvPr id="48" name="itulogo-en" descr=""/>
          <p:cNvPicPr/>
          <p:nvPr/>
        </p:nvPicPr>
        <p:blipFill>
          <a:blip r:embed="rId3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2286000"/>
            <a:ext cx="68864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3400" spc="-1" strike="noStrike">
                <a:solidFill>
                  <a:srgbClr val="353a90"/>
                </a:solidFill>
                <a:latin typeface="TheMixSemiLight"/>
              </a:rPr>
              <a:t>Click to edit the title text format</a:t>
            </a:r>
            <a:endParaRPr b="1" lang="en-US" sz="34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3"/>
          </p:nvPr>
        </p:nvSpPr>
        <p:spPr>
          <a:xfrm>
            <a:off x="7667640" y="6477120"/>
            <a:ext cx="1123920" cy="2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GB" sz="800" spc="-1" strike="noStrike">
                <a:solidFill>
                  <a:srgbClr val="00005a"/>
                </a:solidFill>
                <a:latin typeface="Frutiger 45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5EE4BDCA-BB29-4697-A211-6BB8413F4F7F}" type="slidenum">
              <a:rPr b="0" lang="en-GB" sz="800" spc="-1" strike="noStrike">
                <a:solidFill>
                  <a:srgbClr val="00005a"/>
                </a:solidFill>
                <a:latin typeface="Frutiger 45 Ligh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4"/>
          </p:nvPr>
        </p:nvSpPr>
        <p:spPr>
          <a:xfrm>
            <a:off x="1980720" y="6476760"/>
            <a:ext cx="323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GB" sz="800" spc="-1" strike="noStrike">
                <a:solidFill>
                  <a:srgbClr val="353a90"/>
                </a:solidFill>
                <a:latin typeface="Frutiger 45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800" spc="-1" strike="noStrike">
                <a:solidFill>
                  <a:srgbClr val="353a90"/>
                </a:solidFill>
                <a:latin typeface="Frutiger 45 Ligh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800" spc="-1" strike="noStrike">
                <a:solidFill>
                  <a:srgbClr val="353a90"/>
                </a:solidFill>
                <a:latin typeface="Frutiger 45 Light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fcen_rgb1" descr=""/>
          <p:cNvPicPr/>
          <p:nvPr/>
        </p:nvPicPr>
        <p:blipFill>
          <a:blip r:embed="rId4"/>
          <a:stretch/>
        </p:blipFill>
        <p:spPr>
          <a:xfrm>
            <a:off x="7161120" y="230040"/>
            <a:ext cx="1982880" cy="613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200" spc="-1" strike="noStrike">
                <a:solidFill>
                  <a:srgbClr val="353a90"/>
                </a:solidFill>
                <a:latin typeface="TheMixSemiLight"/>
              </a:rPr>
              <a:t>Click to edit the outline text format</a:t>
            </a:r>
            <a:endParaRPr b="1" lang="en-US" sz="2200" spc="-1" strike="noStrike">
              <a:solidFill>
                <a:srgbClr val="353a90"/>
              </a:solidFill>
              <a:latin typeface="TheMixSemiLight"/>
            </a:endParaRPr>
          </a:p>
          <a:p>
            <a:pPr lvl="1" marL="574560" indent="0" algn="ctr">
              <a:lnSpc>
                <a:spcPct val="94000"/>
              </a:lnSpc>
              <a:spcBef>
                <a:spcPts val="75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000" spc="-1" strike="noStrike">
                <a:solidFill>
                  <a:srgbClr val="353a90"/>
                </a:solidFill>
                <a:latin typeface="Frutiger 45 Light"/>
              </a:rPr>
              <a:t>Second Outline Level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074600" algn="ctr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353a90"/>
                </a:solidFill>
                <a:latin typeface="Frutiger 45 Light"/>
              </a:rPr>
              <a:t>Third Outline Level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3" marL="1512720" algn="ctr">
              <a:lnSpc>
                <a:spcPct val="94000"/>
              </a:lnSpc>
              <a:spcBef>
                <a:spcPts val="400"/>
              </a:spcBef>
              <a:buClr>
                <a:srgbClr val="353a90"/>
              </a:buClr>
              <a:buFont typeface="Frutiger 45 Light"/>
              <a:buChar char="–"/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600" spc="-1" strike="noStrike">
                <a:solidFill>
                  <a:srgbClr val="353a90"/>
                </a:solidFill>
                <a:latin typeface="Frutiger 45 Light"/>
              </a:rPr>
              <a:t>Fourth Outline Level</a:t>
            </a:r>
            <a:endParaRPr b="0" lang="en-US" sz="1600" spc="-1" strike="noStrike">
              <a:solidFill>
                <a:srgbClr val="353a90"/>
              </a:solidFill>
              <a:latin typeface="Frutiger 45 Light"/>
            </a:endParaRPr>
          </a:p>
          <a:p>
            <a:pPr lvl="4" marL="1981080" algn="ctr">
              <a:lnSpc>
                <a:spcPct val="94000"/>
              </a:lnSpc>
              <a:spcBef>
                <a:spcPts val="400"/>
              </a:spcBef>
              <a:buClr>
                <a:srgbClr val="353a90"/>
              </a:buClr>
              <a:buFont typeface="Frutiger 45 Light"/>
              <a:buChar char="–"/>
              <a:tabLst>
                <a:tab algn="l" pos="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600" spc="-1" strike="noStrike">
                <a:solidFill>
                  <a:srgbClr val="353a90"/>
                </a:solidFill>
                <a:latin typeface="Frutiger 45 Light"/>
              </a:rPr>
              <a:t>Fifth Outline Level</a:t>
            </a:r>
            <a:endParaRPr b="0" lang="en-US" sz="1600" spc="-1" strike="noStrike">
              <a:solidFill>
                <a:srgbClr val="353a90"/>
              </a:solidFill>
              <a:latin typeface="Frutiger 45 Light"/>
            </a:endParaRPr>
          </a:p>
          <a:p>
            <a:pPr lvl="5" marL="1981080">
              <a:spcBef>
                <a:spcPts val="400"/>
              </a:spcBef>
              <a:buClr>
                <a:srgbClr val="353a90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3a90"/>
                </a:solidFill>
                <a:latin typeface="Frutiger 45 Light"/>
              </a:rPr>
              <a:t>Sixth Outline Level</a:t>
            </a:r>
            <a:endParaRPr b="0" lang="en-US" sz="1600" spc="-1" strike="noStrike">
              <a:solidFill>
                <a:srgbClr val="353a90"/>
              </a:solidFill>
              <a:latin typeface="Frutiger 45 Light"/>
            </a:endParaRPr>
          </a:p>
          <a:p>
            <a:pPr lvl="6" marL="1981080">
              <a:spcBef>
                <a:spcPts val="400"/>
              </a:spcBef>
              <a:buClr>
                <a:srgbClr val="353a90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3a90"/>
                </a:solidFill>
                <a:latin typeface="Frutiger 45 Light"/>
              </a:rPr>
              <a:t>Seventh Outline Level</a:t>
            </a:r>
            <a:endParaRPr b="0" lang="en-US" sz="1600" spc="-1" strike="noStrike">
              <a:solidFill>
                <a:srgbClr val="353a90"/>
              </a:solidFill>
              <a:latin typeface="Frutiger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dmagazine.com/articles/1999/0006/0006a/0006a.htm" TargetMode="External"/><Relationship Id="rId2" Type="http://schemas.openxmlformats.org/officeDocument/2006/relationships/hyperlink" Target="http://www.sdmagazine.com/articles/1999/0006/0006a/0006a.htm" TargetMode="External"/><Relationship Id="rId3" Type="http://schemas.openxmlformats.org/officeDocument/2006/relationships/hyperlink" Target="http://www.sdmagazine.com/articles/1999/0006/0006a/0006a.htm" TargetMode="External"/><Relationship Id="rId4" Type="http://schemas.openxmlformats.org/officeDocument/2006/relationships/hyperlink" Target="http://www.sdmagazine.com/articles/1999/0006/0006a/0006a.htm" TargetMode="External"/><Relationship Id="rId5" Type="http://schemas.openxmlformats.org/officeDocument/2006/relationships/hyperlink" Target="http://www.ambysoft.com/eCommerceArchitecture.html" TargetMode="External"/><Relationship Id="rId6" Type="http://schemas.openxmlformats.org/officeDocument/2006/relationships/hyperlink" Target="http://www.ambysoft.com/eCommerceArchitecture.html" TargetMode="External"/><Relationship Id="rId7" Type="http://schemas.openxmlformats.org/officeDocument/2006/relationships/hyperlink" Target="http://www.ambysoft.com/eCommerceArchitecture.html" TargetMode="External"/><Relationship Id="rId8" Type="http://schemas.openxmlformats.org/officeDocument/2006/relationships/hyperlink" Target="http://www.ambysoft.com/eCommerceArchitecture.html" TargetMode="External"/><Relationship Id="rId9" Type="http://schemas.openxmlformats.org/officeDocument/2006/relationships/hyperlink" Target="http://www.ambysoft.com/eCommerceArchitecture.html" TargetMode="External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omg.org/uml" TargetMode="External"/><Relationship Id="rId2" Type="http://schemas.openxmlformats.org/officeDocument/2006/relationships/hyperlink" Target="http://www.omg.org/uml" TargetMode="External"/><Relationship Id="rId3" Type="http://schemas.openxmlformats.org/officeDocument/2006/relationships/hyperlink" Target="http://www.omg.org/uml" TargetMode="External"/><Relationship Id="rId4" Type="http://schemas.openxmlformats.org/officeDocument/2006/relationships/hyperlink" Target="http://www.omg.org/uml" TargetMode="External"/><Relationship Id="rId5" Type="http://schemas.openxmlformats.org/officeDocument/2006/relationships/hyperlink" Target="http://www.rational.com/uml" TargetMode="External"/><Relationship Id="rId6" Type="http://schemas.openxmlformats.org/officeDocument/2006/relationships/hyperlink" Target="http://www.rational.com/uml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720" y="1752480"/>
            <a:ext cx="66578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The Use of</a:t>
            </a:r>
            <a:br>
              <a:rPr sz="3000"/>
            </a:b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OO-Modelling Principles (OOM) and</a:t>
            </a:r>
            <a:br>
              <a:rPr sz="3000"/>
            </a:b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UML Notation to</a:t>
            </a:r>
            <a:br>
              <a:rPr sz="3000"/>
            </a:b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Define Signalling Requirements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648320"/>
            <a:ext cx="66578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200" spc="-1" strike="noStrike">
                <a:solidFill>
                  <a:srgbClr val="353a90"/>
                </a:solidFill>
                <a:latin typeface="TheMixSemiLight"/>
              </a:rPr>
              <a:t>Raphael J. Schumacher, Rapporteur Q.8/11</a:t>
            </a:r>
            <a:br>
              <a:rPr sz="2200"/>
            </a:br>
            <a:r>
              <a:rPr b="1" lang="en-GB" sz="2200" spc="-1" strike="noStrike">
                <a:solidFill>
                  <a:srgbClr val="353a90"/>
                </a:solidFill>
                <a:latin typeface="TheMixSemiLight"/>
              </a:rPr>
              <a:t>Swisscom AG, Switzerland</a:t>
            </a:r>
            <a:endParaRPr b="1" lang="en-US" sz="22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1905120"/>
            <a:ext cx="16002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5a"/>
                </a:solidFill>
                <a:latin typeface="Times New Roman"/>
              </a:rPr>
              <a:t>ITU</a:t>
            </a:r>
            <a:br>
              <a:rPr sz="1800"/>
            </a:br>
            <a:r>
              <a:rPr b="0" lang="en-GB" sz="1800" spc="-1" strike="noStrike">
                <a:solidFill>
                  <a:srgbClr val="00005a"/>
                </a:solidFill>
                <a:latin typeface="Times New Roman"/>
              </a:rPr>
              <a:t>Workshop</a:t>
            </a:r>
            <a:endParaRPr b="0" lang="en-US" sz="1800" spc="-1" strike="noStrike">
              <a:solidFill>
                <a:srgbClr val="353a9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5a"/>
                </a:solidFill>
                <a:latin typeface="Times New Roman"/>
              </a:rPr>
              <a:t>"Use of Description Techniques"</a:t>
            </a:r>
            <a:endParaRPr b="0" lang="en-US" sz="18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46101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5a"/>
                </a:solidFill>
                <a:latin typeface="Times New Roman"/>
              </a:rPr>
              <a:t>Geneva,</a:t>
            </a:r>
            <a:br>
              <a:rPr sz="1800"/>
            </a:br>
            <a:r>
              <a:rPr b="0" lang="en-GB" sz="1800" spc="-1" strike="noStrike">
                <a:solidFill>
                  <a:srgbClr val="00005a"/>
                </a:solidFill>
                <a:latin typeface="Times New Roman"/>
              </a:rPr>
              <a:t>23. Nov. 2002</a:t>
            </a:r>
            <a:endParaRPr b="0" lang="en-US" sz="1800" spc="-1" strike="noStrike">
              <a:solidFill>
                <a:srgbClr val="353a9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Telecommunication vs. Computing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48400" indent="-24840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200" spc="-1" strike="noStrike">
                <a:solidFill>
                  <a:srgbClr val="353a90"/>
                </a:solidFill>
                <a:latin typeface="Frutiger 45 Light"/>
              </a:rPr>
              <a:t>Telecommunication &amp; computing industry is converging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08120" indent="-284760">
              <a:lnSpc>
                <a:spcPct val="94000"/>
              </a:lnSpc>
              <a:spcBef>
                <a:spcPts val="751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How will the demarcation line look like in - let’s say - 5 years?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1132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A grey area by best...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08120" indent="-284760">
              <a:lnSpc>
                <a:spcPct val="94000"/>
              </a:lnSpc>
              <a:spcBef>
                <a:spcPts val="751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Who will be faced to communication standards in future?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11320" indent="-22752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SW developers incorporating telecom modules into vertical produc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11320" indent="-22752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Integrators struggling with service convergenc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1132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 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telecommunication services won’t remain stand-alone produc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08120" indent="-284760">
              <a:lnSpc>
                <a:spcPct val="94000"/>
              </a:lnSpc>
              <a:spcBef>
                <a:spcPts val="751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As a consequence, the dominant customers of ITU standards will more and more be...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11320" indent="-22752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software engineers for whom OOM has become everyday practis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11320" indent="-22752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service providers which need to cope with the increased complexity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48400" indent="-24840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200" spc="-1" strike="noStrike">
                <a:solidFill>
                  <a:srgbClr val="353a90"/>
                </a:solidFill>
                <a:latin typeface="Frutiger 45 Light"/>
              </a:rPr>
              <a:t>Telecom services convergence, a long-term business need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1132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consolidating portfolios require clean concepts, interfaces &amp; API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99292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4BB4-1ED6-4744-ABE6-9AF769CD70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1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Introduct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Preambl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Story lin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About myself and SG11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2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Why OO-Modelling &amp; UML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OO-Analysis &amp; -Design (OOA/D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OO-Modelling (OOM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Telecom vs. Computing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2876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3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OOM for BICC Requirement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Purpose and Benefi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Existing BICC CS2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Supplementing BICC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4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Results &amp; Conclus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Reception by the meeting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Personal observation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Long-term view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962520" y="1066680"/>
            <a:ext cx="5790960" cy="4496040"/>
          </a:xfrm>
          <a:prstGeom prst="irregularSeal2">
            <a:avLst/>
          </a:prstGeom>
          <a:noFill/>
          <a:ln w="12600">
            <a:solidFill>
              <a:srgbClr val="4ba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2596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77C9-848D-4B47-A5C5-CA609DD849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OOM @ BICC: Purpose and Benefits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OOM can be used to: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define processes and information flow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identify relationships between processes and informat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increase the degree of reuse (protocol) requirements and component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2876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484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Benefits: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48400" indent="-2484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further refine the scope of BICC capabilities and their protocol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48400" indent="-2484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improve the common understanding of terminology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48400" indent="-2484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improved documentation of BICC and its evolution (CS1..CS3)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48400" indent="-2484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improve quality control and consistency check on protocol design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48400" indent="-2484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trace protocol standardisation (from req’s to test specifications)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484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2596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CF2D-DF3D-464C-A40F-5655568D0C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105520" y="6172200"/>
            <a:ext cx="342720" cy="276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r" pos="780408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Existing BICC CS2 Signalling Requirements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2596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01800" y="6172200"/>
            <a:ext cx="28159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31680" bIns="31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53a90"/>
                </a:solidFill>
                <a:latin typeface="Arial"/>
              </a:rPr>
              <a:t>Scope of Signalling Requirements</a:t>
            </a:r>
            <a:endParaRPr b="0" lang="en-US" sz="1400" spc="-1" strike="noStrike">
              <a:solidFill>
                <a:srgbClr val="353a9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62120" y="1828800"/>
            <a:ext cx="8105760" cy="4052880"/>
            <a:chOff x="762120" y="1828800"/>
            <a:chExt cx="8105760" cy="4052880"/>
          </a:xfrm>
        </p:grpSpPr>
        <p:sp>
          <p:nvSpPr>
            <p:cNvPr id="150" name=""/>
            <p:cNvSpPr/>
            <p:nvPr/>
          </p:nvSpPr>
          <p:spPr>
            <a:xfrm>
              <a:off x="1389240" y="1828800"/>
              <a:ext cx="7021440" cy="4921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04840" y="3492360"/>
              <a:ext cx="6283440" cy="1082880"/>
            </a:xfrm>
            <a:prstGeom prst="roundRect">
              <a:avLst>
                <a:gd name="adj" fmla="val 12486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59240" y="3149640"/>
              <a:ext cx="84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53a90"/>
                  </a:solidFill>
                  <a:latin typeface="Arial"/>
                </a:rPr>
                <a:t>Call Control</a:t>
              </a:r>
              <a:endParaRPr b="0" lang="en-US" sz="10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53a90"/>
                  </a:solidFill>
                  <a:latin typeface="Arial"/>
                </a:rPr>
                <a:t>Signalling</a:t>
              </a:r>
              <a:endParaRPr b="0" lang="en-US" sz="10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69280" y="3149640"/>
              <a:ext cx="101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53a90"/>
                  </a:solidFill>
                  <a:latin typeface="Arial"/>
                </a:rPr>
                <a:t>Bearer Control</a:t>
              </a:r>
              <a:endParaRPr b="0" lang="en-US" sz="10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53a90"/>
                  </a:solidFill>
                  <a:latin typeface="Arial"/>
                </a:rPr>
                <a:t>Signalling</a:t>
              </a:r>
              <a:endParaRPr b="0" lang="en-US" sz="10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523960" y="2160360"/>
              <a:ext cx="290520" cy="179388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3501720" y="2169720"/>
              <a:ext cx="12600" cy="179388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03680" y="2176560"/>
              <a:ext cx="72072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670200" y="2196720"/>
              <a:ext cx="304920" cy="179388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4543200" y="2177640"/>
              <a:ext cx="44280" cy="179388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95640" y="2176560"/>
              <a:ext cx="54612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729320" y="2187360"/>
              <a:ext cx="277560" cy="178596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5118120" y="2185560"/>
              <a:ext cx="55440" cy="178596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91040" y="2176560"/>
              <a:ext cx="13644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5318280" y="2179440"/>
              <a:ext cx="333360" cy="180180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5979960" y="2182320"/>
              <a:ext cx="12960" cy="179388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49840" y="2181240"/>
              <a:ext cx="33984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095880" y="2190240"/>
              <a:ext cx="195480" cy="178452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6797520" y="2182320"/>
              <a:ext cx="230400" cy="177660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86680" y="2181240"/>
              <a:ext cx="51876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116840" y="2155680"/>
              <a:ext cx="150840" cy="177336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7772400" y="2174400"/>
              <a:ext cx="162000" cy="23652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70920" y="2163600"/>
              <a:ext cx="498240" cy="1440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63720" y="1884240"/>
              <a:ext cx="2356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gnalling Transport Network</a:t>
              </a:r>
              <a:endParaRPr b="0" lang="en-US" sz="12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00880" y="4381560"/>
              <a:ext cx="331560" cy="446040"/>
            </a:xfrm>
            <a:custGeom>
              <a:avLst/>
              <a:gdLst>
                <a:gd name="textAreaLeft" fmla="*/ 15840 w 331560"/>
                <a:gd name="textAreaRight" fmla="*/ 315720 w 331560"/>
                <a:gd name="textAreaTop" fmla="*/ 15840 h 446040"/>
                <a:gd name="textAreaBottom" fmla="*/ 430200 h 446040"/>
              </a:gdLst>
              <a:ahLst/>
              <a:rect l="textAreaLeft" t="textAreaTop" r="textAreaRight" b="textAreaBottom"/>
              <a:pathLst>
                <a:path w="21600" h="29050">
                  <a:moveTo>
                    <a:pt x="3598" y="0"/>
                  </a:moveTo>
                  <a:arcTo wR="3598" hR="3598" stAng="16200000" swAng="-5400000"/>
                  <a:lnTo>
                    <a:pt x="0" y="25452"/>
                  </a:lnTo>
                  <a:arcTo wR="3598" hR="3598" stAng="10800000" swAng="-5400000"/>
                  <a:lnTo>
                    <a:pt x="18002" y="29050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51640" y="4425840"/>
              <a:ext cx="234720" cy="1778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BCF-J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43440" y="4653000"/>
              <a:ext cx="54000" cy="128520"/>
            </a:xfrm>
            <a:prstGeom prst="rect">
              <a:avLst/>
            </a:prstGeom>
            <a:solidFill>
              <a:srgbClr val="4ba5e3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51440" y="4653000"/>
              <a:ext cx="30240" cy="36360"/>
            </a:xfrm>
            <a:prstGeom prst="rect">
              <a:avLst/>
            </a:prstGeom>
            <a:solidFill>
              <a:srgbClr val="4ba5e3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51440" y="4746600"/>
              <a:ext cx="30240" cy="34920"/>
            </a:xfrm>
            <a:prstGeom prst="rect">
              <a:avLst/>
            </a:prstGeom>
            <a:solidFill>
              <a:srgbClr val="4ba5e3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61000" y="4653000"/>
              <a:ext cx="28440" cy="36360"/>
            </a:xfrm>
            <a:prstGeom prst="rect">
              <a:avLst/>
            </a:prstGeom>
            <a:solidFill>
              <a:srgbClr val="4ba5e3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61000" y="4746600"/>
              <a:ext cx="28440" cy="34920"/>
            </a:xfrm>
            <a:prstGeom prst="rect">
              <a:avLst/>
            </a:prstGeom>
            <a:solidFill>
              <a:srgbClr val="4ba5e3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95920" y="4670280"/>
              <a:ext cx="41400" cy="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95920" y="4764240"/>
              <a:ext cx="41400" cy="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805000" y="4670280"/>
              <a:ext cx="41400" cy="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5805000" y="4764240"/>
              <a:ext cx="41400" cy="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32040" y="4995720"/>
              <a:ext cx="424080" cy="180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49560" y="4303800"/>
              <a:ext cx="325440" cy="57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90960" y="4427640"/>
              <a:ext cx="235080" cy="1760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BCF-R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63960" y="4305240"/>
              <a:ext cx="3348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Arial"/>
                </a:rPr>
                <a:t>SWN-2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016520" y="4654440"/>
              <a:ext cx="220320" cy="128520"/>
              <a:chOff x="4016520" y="4654440"/>
              <a:chExt cx="220320" cy="128520"/>
            </a:xfrm>
          </p:grpSpPr>
          <p:sp>
            <p:nvSpPr>
              <p:cNvPr id="189" name=""/>
              <p:cNvSpPr/>
              <p:nvPr/>
            </p:nvSpPr>
            <p:spPr>
              <a:xfrm>
                <a:off x="4100400" y="4654440"/>
                <a:ext cx="52560" cy="12852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208760" y="4654440"/>
                <a:ext cx="2808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208760" y="4748760"/>
                <a:ext cx="28080" cy="338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16520" y="4654440"/>
                <a:ext cx="2808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016520" y="4748760"/>
                <a:ext cx="28080" cy="338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050720" y="467136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50720" y="476568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4158720" y="467136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4158720" y="476568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4032360" y="4797360"/>
              <a:ext cx="0" cy="2048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19560" y="4802040"/>
              <a:ext cx="0" cy="2066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673600" y="4788000"/>
              <a:ext cx="0" cy="21888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70520" y="4794120"/>
              <a:ext cx="0" cy="2048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54680" y="4997520"/>
              <a:ext cx="35712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34040" y="4308480"/>
              <a:ext cx="327240" cy="57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78680" y="4425840"/>
              <a:ext cx="237960" cy="1778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BCF-R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34040" y="4313160"/>
              <a:ext cx="3348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Arial"/>
                </a:rPr>
                <a:t>SWN-3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175440" y="4653000"/>
              <a:ext cx="221760" cy="128520"/>
              <a:chOff x="6175440" y="4653000"/>
              <a:chExt cx="221760" cy="128520"/>
            </a:xfrm>
          </p:grpSpPr>
          <p:sp>
            <p:nvSpPr>
              <p:cNvPr id="207" name=""/>
              <p:cNvSpPr/>
              <p:nvPr/>
            </p:nvSpPr>
            <p:spPr>
              <a:xfrm>
                <a:off x="6260760" y="4653000"/>
                <a:ext cx="52560" cy="12852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369120" y="4653000"/>
                <a:ext cx="28080" cy="370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69120" y="4746960"/>
                <a:ext cx="28080" cy="3420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175440" y="4653000"/>
                <a:ext cx="31320" cy="370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175440" y="4746960"/>
                <a:ext cx="31320" cy="3420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213600" y="4671360"/>
                <a:ext cx="410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213600" y="4764240"/>
                <a:ext cx="410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6320520" y="467136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6320520" y="476424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6189840" y="4791240"/>
              <a:ext cx="0" cy="21888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83160" y="4789440"/>
              <a:ext cx="0" cy="2174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70560" y="4991040"/>
              <a:ext cx="46188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96000" y="3903840"/>
              <a:ext cx="561960" cy="981000"/>
            </a:xfrm>
            <a:custGeom>
              <a:avLst/>
              <a:gdLst>
                <a:gd name="textAreaLeft" fmla="*/ 27360 w 561960"/>
                <a:gd name="textAreaRight" fmla="*/ 534600 w 561960"/>
                <a:gd name="textAreaTop" fmla="*/ 27360 h 981000"/>
                <a:gd name="textAreaBottom" fmla="*/ 953640 h 981000"/>
              </a:gdLst>
              <a:ahLst/>
              <a:rect l="textAreaLeft" t="textAreaTop" r="textAreaRight" b="textAreaBottom"/>
              <a:pathLst>
                <a:path w="21600" h="37696">
                  <a:moveTo>
                    <a:pt x="3598" y="0"/>
                  </a:moveTo>
                  <a:arcTo wR="3598" hR="3598" stAng="16200000" swAng="-5400000"/>
                  <a:lnTo>
                    <a:pt x="0" y="34098"/>
                  </a:lnTo>
                  <a:arcTo wR="3598" hR="3598" stAng="10800000" swAng="-5400000"/>
                  <a:lnTo>
                    <a:pt x="18002" y="37696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353a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24520" y="4330800"/>
              <a:ext cx="292320" cy="460440"/>
            </a:xfrm>
            <a:custGeom>
              <a:avLst/>
              <a:gdLst>
                <a:gd name="textAreaLeft" fmla="*/ 14040 w 292320"/>
                <a:gd name="textAreaRight" fmla="*/ 278280 w 292320"/>
                <a:gd name="textAreaTop" fmla="*/ 14040 h 460440"/>
                <a:gd name="textAreaBottom" fmla="*/ 446400 h 460440"/>
              </a:gdLst>
              <a:ahLst/>
              <a:rect l="textAreaLeft" t="textAreaTop" r="textAreaRight" b="textAreaBottom"/>
              <a:pathLst>
                <a:path w="21600" h="34007">
                  <a:moveTo>
                    <a:pt x="3598" y="0"/>
                  </a:moveTo>
                  <a:arcTo wR="3598" hR="3598" stAng="16200000" swAng="-5400000"/>
                  <a:lnTo>
                    <a:pt x="0" y="30409"/>
                  </a:lnTo>
                  <a:arcTo wR="3598" hR="3598" stAng="10800000" swAng="-5400000"/>
                  <a:lnTo>
                    <a:pt x="18002" y="34007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16600" y="4029120"/>
              <a:ext cx="341280" cy="19692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Times New Roman"/>
                </a:rPr>
                <a:t>CSF-N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6240" y="3900600"/>
              <a:ext cx="366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53a90"/>
                  </a:solidFill>
                  <a:latin typeface="Arial"/>
                </a:rPr>
                <a:t>ISN-B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91120" y="4230720"/>
              <a:ext cx="91800" cy="14112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83280" y="4232160"/>
              <a:ext cx="0" cy="921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6988320" y="4997520"/>
              <a:ext cx="541080" cy="14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3240" y="4378320"/>
              <a:ext cx="317520" cy="458640"/>
            </a:xfrm>
            <a:custGeom>
              <a:avLst/>
              <a:gdLst>
                <a:gd name="textAreaLeft" fmla="*/ 15480 w 317520"/>
                <a:gd name="textAreaRight" fmla="*/ 302040 w 317520"/>
                <a:gd name="textAreaTop" fmla="*/ 15480 h 458640"/>
                <a:gd name="textAreaBottom" fmla="*/ 443160 h 458640"/>
              </a:gdLst>
              <a:ahLst/>
              <a:rect l="textAreaLeft" t="textAreaTop" r="textAreaRight" b="textAreaBottom"/>
              <a:pathLst>
                <a:path w="21600" h="31189">
                  <a:moveTo>
                    <a:pt x="3598" y="0"/>
                  </a:moveTo>
                  <a:arcTo wR="3598" hR="3598" stAng="16200000" swAng="-5400000"/>
                  <a:lnTo>
                    <a:pt x="0" y="27591"/>
                  </a:lnTo>
                  <a:arcTo wR="3598" hR="3598" stAng="10800000" swAng="-5400000"/>
                  <a:lnTo>
                    <a:pt x="18002" y="31189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81680" y="4425840"/>
              <a:ext cx="235080" cy="1778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BCF-N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(z)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799320" y="4659480"/>
              <a:ext cx="223560" cy="131760"/>
              <a:chOff x="6799320" y="4659480"/>
              <a:chExt cx="223560" cy="131760"/>
            </a:xfrm>
          </p:grpSpPr>
          <p:sp>
            <p:nvSpPr>
              <p:cNvPr id="229" name=""/>
              <p:cNvSpPr/>
              <p:nvPr/>
            </p:nvSpPr>
            <p:spPr>
              <a:xfrm>
                <a:off x="6886080" y="4659480"/>
                <a:ext cx="51120" cy="13176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993360" y="4659480"/>
                <a:ext cx="2952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993360" y="4753800"/>
                <a:ext cx="29520" cy="370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799320" y="4659480"/>
                <a:ext cx="3132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799320" y="4753800"/>
                <a:ext cx="31320" cy="370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837480" y="467784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837480" y="477396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6944760" y="467784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944760" y="477396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6816600" y="4799160"/>
              <a:ext cx="0" cy="20628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07400" y="4803840"/>
              <a:ext cx="1440" cy="20628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34240" y="5043600"/>
              <a:ext cx="0" cy="4683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08440" y="5005440"/>
              <a:ext cx="633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Backbone 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Network 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Connection 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Link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05240" y="5419800"/>
              <a:ext cx="955440" cy="792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54000" y="5500800"/>
              <a:ext cx="207072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53a90"/>
                  </a:solidFill>
                  <a:latin typeface="Arial"/>
                </a:rPr>
                <a:t>Backbone Network Connections</a:t>
              </a:r>
              <a:endParaRPr b="0" lang="en-US" sz="10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74600" y="5773680"/>
              <a:ext cx="7531200" cy="792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96000" y="5662440"/>
              <a:ext cx="259164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53a90"/>
                  </a:solidFill>
                  <a:latin typeface="Arial"/>
                </a:rPr>
                <a:t>Network Bearer Connection (end to end) </a:t>
              </a:r>
              <a:endParaRPr b="0" lang="en-US" sz="10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77920" y="3906720"/>
              <a:ext cx="606600" cy="978120"/>
            </a:xfrm>
            <a:custGeom>
              <a:avLst/>
              <a:gdLst>
                <a:gd name="textAreaLeft" fmla="*/ 29520 w 606600"/>
                <a:gd name="textAreaRight" fmla="*/ 577080 w 606600"/>
                <a:gd name="textAreaTop" fmla="*/ 29520 h 978120"/>
                <a:gd name="textAreaBottom" fmla="*/ 948600 h 978120"/>
              </a:gdLst>
              <a:ahLst/>
              <a:rect l="textAreaLeft" t="textAreaTop" r="textAreaRight" b="textAreaBottom"/>
              <a:pathLst>
                <a:path w="21600" h="34821">
                  <a:moveTo>
                    <a:pt x="3598" y="0"/>
                  </a:moveTo>
                  <a:arcTo wR="3598" hR="3598" stAng="16200000" swAng="-5400000"/>
                  <a:lnTo>
                    <a:pt x="0" y="31223"/>
                  </a:lnTo>
                  <a:arcTo wR="3598" hR="3598" stAng="10800000" swAng="-5400000"/>
                  <a:lnTo>
                    <a:pt x="18002" y="34821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353a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59080" y="4332240"/>
              <a:ext cx="282600" cy="460440"/>
            </a:xfrm>
            <a:custGeom>
              <a:avLst/>
              <a:gdLst>
                <a:gd name="textAreaLeft" fmla="*/ 13680 w 282600"/>
                <a:gd name="textAreaRight" fmla="*/ 268920 w 282600"/>
                <a:gd name="textAreaTop" fmla="*/ 13680 h 460440"/>
                <a:gd name="textAreaBottom" fmla="*/ 446760 h 460440"/>
              </a:gdLst>
              <a:ahLst/>
              <a:rect l="textAreaLeft" t="textAreaTop" r="textAreaRight" b="textAreaBottom"/>
              <a:pathLst>
                <a:path w="21600" h="35176">
                  <a:moveTo>
                    <a:pt x="3598" y="0"/>
                  </a:moveTo>
                  <a:arcTo wR="3598" hR="3598" stAng="16200000" swAng="-5400000"/>
                  <a:lnTo>
                    <a:pt x="0" y="31578"/>
                  </a:lnTo>
                  <a:arcTo wR="3598" hR="3598" stAng="10800000" swAng="-5400000"/>
                  <a:lnTo>
                    <a:pt x="18002" y="35176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63680" y="4379760"/>
              <a:ext cx="319320" cy="459000"/>
            </a:xfrm>
            <a:custGeom>
              <a:avLst/>
              <a:gdLst>
                <a:gd name="textAreaLeft" fmla="*/ 15480 w 319320"/>
                <a:gd name="textAreaRight" fmla="*/ 303840 w 319320"/>
                <a:gd name="textAreaTop" fmla="*/ 15480 h 459000"/>
                <a:gd name="textAreaBottom" fmla="*/ 443520 h 459000"/>
              </a:gdLst>
              <a:ahLst/>
              <a:rect l="textAreaLeft" t="textAreaTop" r="textAreaRight" b="textAreaBottom"/>
              <a:pathLst>
                <a:path w="21600" h="31038">
                  <a:moveTo>
                    <a:pt x="3598" y="0"/>
                  </a:moveTo>
                  <a:arcTo wR="3598" hR="3598" stAng="16200000" swAng="-5400000"/>
                  <a:lnTo>
                    <a:pt x="0" y="27440"/>
                  </a:lnTo>
                  <a:arcTo wR="3598" hR="3598" stAng="10800000" swAng="-5400000"/>
                  <a:lnTo>
                    <a:pt x="18002" y="31038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31920" y="4046400"/>
              <a:ext cx="308160" cy="18756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Times New Roman"/>
                </a:rPr>
                <a:t>CSF-N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14440" y="4427640"/>
              <a:ext cx="238320" cy="1760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BCF-N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(v)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37760" y="3911760"/>
              <a:ext cx="366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53a90"/>
                  </a:solidFill>
                  <a:latin typeface="Arial"/>
                </a:rPr>
                <a:t>ISN-A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98680" y="4232160"/>
              <a:ext cx="141480" cy="9360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98680" y="4232160"/>
              <a:ext cx="93600" cy="1414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311560" y="4660920"/>
              <a:ext cx="225000" cy="131760"/>
              <a:chOff x="2311560" y="4660920"/>
              <a:chExt cx="225000" cy="131760"/>
            </a:xfrm>
          </p:grpSpPr>
          <p:sp>
            <p:nvSpPr>
              <p:cNvPr id="255" name=""/>
              <p:cNvSpPr/>
              <p:nvPr/>
            </p:nvSpPr>
            <p:spPr>
              <a:xfrm>
                <a:off x="2395440" y="4660920"/>
                <a:ext cx="52560" cy="13176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502360" y="4660920"/>
                <a:ext cx="3420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502360" y="4753800"/>
                <a:ext cx="34200" cy="3852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311560" y="4660920"/>
                <a:ext cx="2988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311560" y="4753800"/>
                <a:ext cx="29880" cy="3852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348640" y="4677840"/>
                <a:ext cx="410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348640" y="4773960"/>
                <a:ext cx="410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455560" y="4677840"/>
                <a:ext cx="410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455560" y="4773960"/>
                <a:ext cx="410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2325600" y="4797360"/>
              <a:ext cx="0" cy="22392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1114560" y="5002200"/>
              <a:ext cx="121896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19280" y="4799160"/>
              <a:ext cx="0" cy="20628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09920" y="5033880"/>
              <a:ext cx="0" cy="4683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20240" y="5172120"/>
              <a:ext cx="683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Bearer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Inter-working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Function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(BIWF)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165400" y="4514760"/>
              <a:ext cx="92160" cy="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155320" y="4514760"/>
              <a:ext cx="9720" cy="6573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00200" y="4997520"/>
              <a:ext cx="40824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19520" y="4316400"/>
              <a:ext cx="325440" cy="57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60560" y="4425840"/>
              <a:ext cx="236520" cy="1778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BCF-R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38600" y="4305240"/>
              <a:ext cx="3348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Arial"/>
                </a:rPr>
                <a:t>SWN-1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2876400" y="4665600"/>
              <a:ext cx="223560" cy="128520"/>
              <a:chOff x="2876400" y="4665600"/>
              <a:chExt cx="223560" cy="128520"/>
            </a:xfrm>
          </p:grpSpPr>
          <p:sp>
            <p:nvSpPr>
              <p:cNvPr id="276" name=""/>
              <p:cNvSpPr/>
              <p:nvPr/>
            </p:nvSpPr>
            <p:spPr>
              <a:xfrm>
                <a:off x="2960640" y="4665600"/>
                <a:ext cx="50760" cy="12852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067200" y="4665600"/>
                <a:ext cx="32760" cy="3420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067200" y="4759560"/>
                <a:ext cx="32760" cy="3420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876400" y="4665600"/>
                <a:ext cx="29880" cy="3420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76400" y="4759560"/>
                <a:ext cx="29880" cy="3420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910600" y="4682520"/>
                <a:ext cx="428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910600" y="4776840"/>
                <a:ext cx="428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3017520" y="468252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3017520" y="477684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2889360" y="4805280"/>
              <a:ext cx="0" cy="2048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89160" y="4797360"/>
              <a:ext cx="0" cy="20628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94040" y="5029200"/>
              <a:ext cx="0" cy="2332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502000" y="5171760"/>
              <a:ext cx="382320" cy="324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35400" y="3906720"/>
              <a:ext cx="487440" cy="978120"/>
            </a:xfrm>
            <a:custGeom>
              <a:avLst/>
              <a:gdLst>
                <a:gd name="textAreaLeft" fmla="*/ 23760 w 487440"/>
                <a:gd name="textAreaRight" fmla="*/ 463680 w 487440"/>
                <a:gd name="textAreaTop" fmla="*/ 23760 h 978120"/>
                <a:gd name="textAreaBottom" fmla="*/ 954360 h 978120"/>
              </a:gdLst>
              <a:ahLst/>
              <a:rect l="textAreaLeft" t="textAreaTop" r="textAreaRight" b="textAreaBottom"/>
              <a:pathLst>
                <a:path w="21600" h="43328">
                  <a:moveTo>
                    <a:pt x="3598" y="0"/>
                  </a:moveTo>
                  <a:arcTo wR="3598" hR="3598" stAng="16200000" swAng="-5400000"/>
                  <a:lnTo>
                    <a:pt x="0" y="39730"/>
                  </a:lnTo>
                  <a:arcTo wR="3598" hR="3598" stAng="10800000" swAng="-5400000"/>
                  <a:lnTo>
                    <a:pt x="18002" y="43328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353a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63920" y="4332240"/>
              <a:ext cx="291960" cy="460440"/>
            </a:xfrm>
            <a:custGeom>
              <a:avLst/>
              <a:gdLst>
                <a:gd name="textAreaLeft" fmla="*/ 14040 w 291960"/>
                <a:gd name="textAreaRight" fmla="*/ 277920 w 291960"/>
                <a:gd name="textAreaTop" fmla="*/ 14040 h 460440"/>
                <a:gd name="textAreaBottom" fmla="*/ 446400 h 460440"/>
              </a:gdLst>
              <a:ahLst/>
              <a:rect l="textAreaLeft" t="textAreaTop" r="textAreaRight" b="textAreaBottom"/>
              <a:pathLst>
                <a:path w="21600" h="34049">
                  <a:moveTo>
                    <a:pt x="3598" y="0"/>
                  </a:moveTo>
                  <a:arcTo wR="3598" hR="3598" stAng="16200000" swAng="-5400000"/>
                  <a:lnTo>
                    <a:pt x="0" y="30451"/>
                  </a:lnTo>
                  <a:arcTo wR="3598" hR="3598" stAng="10800000" swAng="-5400000"/>
                  <a:lnTo>
                    <a:pt x="18002" y="34049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92640" y="4379760"/>
              <a:ext cx="317520" cy="459000"/>
            </a:xfrm>
            <a:custGeom>
              <a:avLst/>
              <a:gdLst>
                <a:gd name="textAreaLeft" fmla="*/ 15480 w 317520"/>
                <a:gd name="textAreaRight" fmla="*/ 302040 w 317520"/>
                <a:gd name="textAreaTop" fmla="*/ 15480 h 459000"/>
                <a:gd name="textAreaBottom" fmla="*/ 443520 h 459000"/>
              </a:gdLst>
              <a:ahLst/>
              <a:rect l="textAreaLeft" t="textAreaTop" r="textAreaRight" b="textAreaBottom"/>
              <a:pathLst>
                <a:path w="21600" h="31214">
                  <a:moveTo>
                    <a:pt x="3598" y="0"/>
                  </a:moveTo>
                  <a:arcTo wR="3598" hR="3598" stAng="16200000" swAng="-5400000"/>
                  <a:lnTo>
                    <a:pt x="0" y="27616"/>
                  </a:lnTo>
                  <a:arcTo wR="3598" hR="3598" stAng="10800000" swAng="-5400000"/>
                  <a:lnTo>
                    <a:pt x="18002" y="31214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40160" y="4046400"/>
              <a:ext cx="307800" cy="18756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Times New Roman"/>
                </a:rPr>
                <a:t>CSF-T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29000" y="4427640"/>
              <a:ext cx="235080" cy="1760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BCF-T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(w)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31880" y="3902040"/>
              <a:ext cx="3834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53a90"/>
                  </a:solidFill>
                  <a:latin typeface="Arial"/>
                </a:rPr>
                <a:t>TSN-x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525840" y="4232160"/>
              <a:ext cx="93600" cy="1414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22680" y="4232160"/>
              <a:ext cx="0" cy="9360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3440160" y="4660920"/>
              <a:ext cx="223560" cy="131760"/>
              <a:chOff x="3440160" y="4660920"/>
              <a:chExt cx="223560" cy="131760"/>
            </a:xfrm>
          </p:grpSpPr>
          <p:sp>
            <p:nvSpPr>
              <p:cNvPr id="298" name=""/>
              <p:cNvSpPr/>
              <p:nvPr/>
            </p:nvSpPr>
            <p:spPr>
              <a:xfrm>
                <a:off x="3525480" y="4660920"/>
                <a:ext cx="49680" cy="13176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630960" y="4660920"/>
                <a:ext cx="3276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630960" y="4753800"/>
                <a:ext cx="32760" cy="3852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40160" y="4660920"/>
                <a:ext cx="2988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40160" y="4753800"/>
                <a:ext cx="29880" cy="3852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74360" y="4677840"/>
                <a:ext cx="4392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74360" y="4773960"/>
                <a:ext cx="4392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3581280" y="467784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3581280" y="477396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3457440" y="4802040"/>
              <a:ext cx="0" cy="2066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45000" y="4797360"/>
              <a:ext cx="0" cy="20628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62160" y="4995720"/>
              <a:ext cx="41616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657600" y="4511520"/>
              <a:ext cx="32868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122640" y="4514760"/>
              <a:ext cx="27936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48080" y="4511520"/>
              <a:ext cx="312480" cy="324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11800" y="3914640"/>
              <a:ext cx="485640" cy="978120"/>
            </a:xfrm>
            <a:custGeom>
              <a:avLst/>
              <a:gdLst>
                <a:gd name="textAreaLeft" fmla="*/ 23400 w 485640"/>
                <a:gd name="textAreaRight" fmla="*/ 462240 w 485640"/>
                <a:gd name="textAreaTop" fmla="*/ 23400 h 978120"/>
                <a:gd name="textAreaBottom" fmla="*/ 954720 h 978120"/>
              </a:gdLst>
              <a:ahLst/>
              <a:rect l="textAreaLeft" t="textAreaTop" r="textAreaRight" b="textAreaBottom"/>
              <a:pathLst>
                <a:path w="21600" h="43488">
                  <a:moveTo>
                    <a:pt x="3598" y="0"/>
                  </a:moveTo>
                  <a:arcTo wR="3598" hR="3598" stAng="16200000" swAng="-5400000"/>
                  <a:lnTo>
                    <a:pt x="0" y="39890"/>
                  </a:lnTo>
                  <a:arcTo wR="3598" hR="3598" stAng="10800000" swAng="-5400000"/>
                  <a:lnTo>
                    <a:pt x="18002" y="43488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353a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40320" y="4338720"/>
              <a:ext cx="291960" cy="458640"/>
            </a:xfrm>
            <a:custGeom>
              <a:avLst/>
              <a:gdLst>
                <a:gd name="textAreaLeft" fmla="*/ 14040 w 291960"/>
                <a:gd name="textAreaRight" fmla="*/ 277920 w 291960"/>
                <a:gd name="textAreaTop" fmla="*/ 14040 h 458640"/>
                <a:gd name="textAreaBottom" fmla="*/ 444600 h 458640"/>
              </a:gdLst>
              <a:ahLst/>
              <a:rect l="textAreaLeft" t="textAreaTop" r="textAreaRight" b="textAreaBottom"/>
              <a:pathLst>
                <a:path w="21600" h="33916">
                  <a:moveTo>
                    <a:pt x="3598" y="0"/>
                  </a:moveTo>
                  <a:arcTo wR="3598" hR="3598" stAng="16200000" swAng="-5400000"/>
                  <a:lnTo>
                    <a:pt x="0" y="30318"/>
                  </a:lnTo>
                  <a:arcTo wR="3598" hR="3598" stAng="10800000" swAng="-5400000"/>
                  <a:lnTo>
                    <a:pt x="18002" y="33916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67240" y="4387680"/>
              <a:ext cx="317520" cy="457200"/>
            </a:xfrm>
            <a:custGeom>
              <a:avLst/>
              <a:gdLst>
                <a:gd name="textAreaLeft" fmla="*/ 15480 w 317520"/>
                <a:gd name="textAreaRight" fmla="*/ 302040 w 317520"/>
                <a:gd name="textAreaTop" fmla="*/ 15480 h 457200"/>
                <a:gd name="textAreaBottom" fmla="*/ 441720 h 457200"/>
              </a:gdLst>
              <a:ahLst/>
              <a:rect l="textAreaLeft" t="textAreaTop" r="textAreaRight" b="textAreaBottom"/>
              <a:pathLst>
                <a:path w="21600" h="31091">
                  <a:moveTo>
                    <a:pt x="3598" y="0"/>
                  </a:moveTo>
                  <a:arcTo wR="3598" hR="3598" stAng="16200000" swAng="-5400000"/>
                  <a:lnTo>
                    <a:pt x="0" y="27493"/>
                  </a:lnTo>
                  <a:arcTo wR="3598" hR="3598" stAng="10800000" swAng="-5400000"/>
                  <a:lnTo>
                    <a:pt x="18002" y="31091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13320" y="4054320"/>
              <a:ext cx="309600" cy="18756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Times New Roman"/>
                </a:rPr>
                <a:t>CSF-G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13320" y="4421160"/>
              <a:ext cx="234720" cy="1778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BCF-G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(x)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03600" y="3911760"/>
              <a:ext cx="4003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53a90"/>
                  </a:solidFill>
                  <a:latin typeface="Arial"/>
                </a:rPr>
                <a:t>GSN-x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603680" y="4240080"/>
              <a:ext cx="92160" cy="1414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95840" y="4240080"/>
              <a:ext cx="0" cy="921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4513320" y="4670280"/>
              <a:ext cx="225000" cy="127080"/>
              <a:chOff x="4513320" y="4670280"/>
              <a:chExt cx="225000" cy="12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4598640" y="4670280"/>
                <a:ext cx="51480" cy="1270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07000" y="4670280"/>
                <a:ext cx="31320" cy="338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07000" y="4763160"/>
                <a:ext cx="31320" cy="338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13320" y="4670280"/>
                <a:ext cx="31320" cy="338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13320" y="4763160"/>
                <a:ext cx="31320" cy="338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551840" y="4687200"/>
                <a:ext cx="3960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51840" y="4780080"/>
                <a:ext cx="3960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4655880" y="4687200"/>
                <a:ext cx="4392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4655880" y="4780080"/>
                <a:ext cx="4392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4527720" y="4808520"/>
              <a:ext cx="0" cy="2048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22840" y="4809960"/>
              <a:ext cx="0" cy="2066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91040" y="3905280"/>
              <a:ext cx="487440" cy="979560"/>
            </a:xfrm>
            <a:custGeom>
              <a:avLst/>
              <a:gdLst>
                <a:gd name="textAreaLeft" fmla="*/ 23760 w 487440"/>
                <a:gd name="textAreaRight" fmla="*/ 463680 w 487440"/>
                <a:gd name="textAreaTop" fmla="*/ 23760 h 979560"/>
                <a:gd name="textAreaBottom" fmla="*/ 955800 h 979560"/>
              </a:gdLst>
              <a:ahLst/>
              <a:rect l="textAreaLeft" t="textAreaTop" r="textAreaRight" b="textAreaBottom"/>
              <a:pathLst>
                <a:path w="21600" h="43391">
                  <a:moveTo>
                    <a:pt x="3598" y="0"/>
                  </a:moveTo>
                  <a:arcTo wR="3598" hR="3598" stAng="16200000" swAng="-5400000"/>
                  <a:lnTo>
                    <a:pt x="0" y="39793"/>
                  </a:lnTo>
                  <a:arcTo wR="3598" hR="3598" stAng="10800000" swAng="-5400000"/>
                  <a:lnTo>
                    <a:pt x="18002" y="43391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353a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21360" y="4330800"/>
              <a:ext cx="291960" cy="460440"/>
            </a:xfrm>
            <a:custGeom>
              <a:avLst/>
              <a:gdLst>
                <a:gd name="textAreaLeft" fmla="*/ 14040 w 291960"/>
                <a:gd name="textAreaRight" fmla="*/ 277920 w 291960"/>
                <a:gd name="textAreaTop" fmla="*/ 14040 h 460440"/>
                <a:gd name="textAreaBottom" fmla="*/ 446400 h 460440"/>
              </a:gdLst>
              <a:ahLst/>
              <a:rect l="textAreaLeft" t="textAreaTop" r="textAreaRight" b="textAreaBottom"/>
              <a:pathLst>
                <a:path w="21600" h="34049">
                  <a:moveTo>
                    <a:pt x="3598" y="0"/>
                  </a:moveTo>
                  <a:arcTo wR="3598" hR="3598" stAng="16200000" swAng="-5400000"/>
                  <a:lnTo>
                    <a:pt x="0" y="30451"/>
                  </a:lnTo>
                  <a:arcTo wR="3598" hR="3598" stAng="10800000" swAng="-5400000"/>
                  <a:lnTo>
                    <a:pt x="18002" y="34049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48280" y="4378320"/>
              <a:ext cx="317520" cy="458640"/>
            </a:xfrm>
            <a:custGeom>
              <a:avLst/>
              <a:gdLst>
                <a:gd name="textAreaLeft" fmla="*/ 15480 w 317520"/>
                <a:gd name="textAreaRight" fmla="*/ 302040 w 317520"/>
                <a:gd name="textAreaTop" fmla="*/ 15480 h 458640"/>
                <a:gd name="textAreaBottom" fmla="*/ 443160 h 458640"/>
              </a:gdLst>
              <a:ahLst/>
              <a:rect l="textAreaLeft" t="textAreaTop" r="textAreaRight" b="textAreaBottom"/>
              <a:pathLst>
                <a:path w="21600" h="31189">
                  <a:moveTo>
                    <a:pt x="3598" y="0"/>
                  </a:moveTo>
                  <a:arcTo wR="3598" hR="3598" stAng="16200000" swAng="-5400000"/>
                  <a:lnTo>
                    <a:pt x="0" y="27591"/>
                  </a:lnTo>
                  <a:arcTo wR="3598" hR="3598" stAng="10800000" swAng="-5400000"/>
                  <a:lnTo>
                    <a:pt x="18002" y="31189"/>
                  </a:lnTo>
                  <a:arcTo wR="3598" hR="3598" stAng="5400000" swAng="-5400000"/>
                  <a:lnTo>
                    <a:pt x="21600" y="3598"/>
                  </a:lnTo>
                  <a:arcTo wR="3598" hR="359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95800" y="4044960"/>
              <a:ext cx="309600" cy="18720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Times New Roman"/>
                </a:rPr>
                <a:t>CSF-G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83200" y="4421160"/>
              <a:ext cx="236520" cy="1778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BCF-G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(y)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79960" y="3914640"/>
              <a:ext cx="4003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53a90"/>
                  </a:solidFill>
                  <a:latin typeface="Arial"/>
                </a:rPr>
                <a:t>GSN-y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5184720" y="4230720"/>
              <a:ext cx="92160" cy="14112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76880" y="4232160"/>
              <a:ext cx="0" cy="921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095800" y="4659480"/>
              <a:ext cx="220320" cy="131760"/>
              <a:chOff x="5095800" y="4659480"/>
              <a:chExt cx="220320" cy="131760"/>
            </a:xfrm>
          </p:grpSpPr>
          <p:sp>
            <p:nvSpPr>
              <p:cNvPr id="342" name=""/>
              <p:cNvSpPr/>
              <p:nvPr/>
            </p:nvSpPr>
            <p:spPr>
              <a:xfrm>
                <a:off x="5179680" y="4659480"/>
                <a:ext cx="52560" cy="13176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288040" y="4659480"/>
                <a:ext cx="2808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288040" y="4753800"/>
                <a:ext cx="28080" cy="370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95800" y="4659480"/>
                <a:ext cx="2988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095800" y="4753800"/>
                <a:ext cx="29880" cy="370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132880" y="4677840"/>
                <a:ext cx="410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132880" y="4773960"/>
                <a:ext cx="410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5239080" y="4677840"/>
                <a:ext cx="428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5239080" y="4773960"/>
                <a:ext cx="428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5103720" y="4808520"/>
              <a:ext cx="0" cy="2048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03880" y="4802040"/>
              <a:ext cx="0" cy="2066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32160" y="4502160"/>
              <a:ext cx="263520" cy="144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735440" y="4503600"/>
              <a:ext cx="344520" cy="180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21160" y="4500720"/>
              <a:ext cx="322560" cy="468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52680" y="4148280"/>
              <a:ext cx="98100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53000" y="4160880"/>
              <a:ext cx="75852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4819680" y="4156200"/>
              <a:ext cx="270000" cy="288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40320" y="5022720"/>
              <a:ext cx="0" cy="4683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97400" y="4998960"/>
              <a:ext cx="0" cy="47952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07120" y="5429160"/>
              <a:ext cx="151920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02280" y="5006880"/>
              <a:ext cx="35064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07000" y="5006880"/>
              <a:ext cx="41580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88040" y="5002200"/>
              <a:ext cx="40644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710240" y="5415120"/>
              <a:ext cx="412560" cy="144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459240" y="4998960"/>
              <a:ext cx="1440" cy="4888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39960" y="5423040"/>
              <a:ext cx="89064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122640" y="5454720"/>
              <a:ext cx="0" cy="1396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5002200" y="5430960"/>
              <a:ext cx="0" cy="1029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062240" y="5437080"/>
              <a:ext cx="1800" cy="8424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060960" y="5443200"/>
              <a:ext cx="0" cy="13644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03480" y="3441600"/>
              <a:ext cx="0" cy="6843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24560" y="4498920"/>
              <a:ext cx="35568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50000" y="3854520"/>
              <a:ext cx="396720" cy="3506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9080">
              <a:solidFill>
                <a:srgbClr val="353a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97520" y="3981600"/>
              <a:ext cx="311040" cy="17748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Times New Roman"/>
                </a:rPr>
                <a:t>CSF-C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71600" y="3846600"/>
              <a:ext cx="44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53a90"/>
                  </a:solidFill>
                  <a:latin typeface="Arial"/>
                </a:rPr>
                <a:t>CMN-x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4351320" y="3444480"/>
              <a:ext cx="0" cy="10270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22640" y="5595840"/>
              <a:ext cx="561960" cy="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14840" y="5583240"/>
              <a:ext cx="547920" cy="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2936880" y="5251320"/>
              <a:ext cx="55440" cy="748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2717640" y="5319720"/>
              <a:ext cx="222480" cy="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2724120" y="5213520"/>
              <a:ext cx="0" cy="1029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27360" y="4998960"/>
              <a:ext cx="0" cy="47952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11680" y="5027760"/>
              <a:ext cx="0" cy="46800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18120" y="5003640"/>
              <a:ext cx="0" cy="47952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17640" y="3510000"/>
              <a:ext cx="0" cy="116352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06600" y="3521160"/>
              <a:ext cx="0" cy="18720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22480" y="3521160"/>
              <a:ext cx="0" cy="18720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98720" y="3719520"/>
              <a:ext cx="43020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2120" y="2527200"/>
              <a:ext cx="450720" cy="10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9440" y="2962440"/>
              <a:ext cx="316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1797120" y="2173320"/>
              <a:ext cx="117360" cy="44280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36800" y="2171880"/>
              <a:ext cx="27612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87720" y="2187720"/>
              <a:ext cx="69840" cy="1763640"/>
            </a:xfrm>
            <a:prstGeom prst="line">
              <a:avLst/>
            </a:prstGeom>
            <a:ln w="12600">
              <a:solidFill>
                <a:srgbClr val="353a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69920" y="5092560"/>
              <a:ext cx="0" cy="78912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620200" y="5054760"/>
              <a:ext cx="0" cy="7887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16080" y="4203720"/>
              <a:ext cx="91764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70640" y="3432240"/>
              <a:ext cx="1800" cy="12650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112240" y="3244680"/>
              <a:ext cx="0" cy="2048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477280" y="3251160"/>
              <a:ext cx="0" cy="18720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088480" y="3427560"/>
              <a:ext cx="411120" cy="14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416800" y="2257560"/>
              <a:ext cx="451080" cy="10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493840" y="2673360"/>
              <a:ext cx="316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8205840" y="2616120"/>
              <a:ext cx="21888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28600" y="4819680"/>
              <a:ext cx="0" cy="18720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1480" y="3824280"/>
              <a:ext cx="450720" cy="108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39160" y="4260960"/>
              <a:ext cx="316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1793520" y="4682880"/>
              <a:ext cx="507960" cy="468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69920" y="2905200"/>
              <a:ext cx="0" cy="119520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1949040" y="4094280"/>
              <a:ext cx="18108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545680" y="4829040"/>
              <a:ext cx="0" cy="18756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416800" y="3835440"/>
              <a:ext cx="451080" cy="10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484480" y="4272120"/>
              <a:ext cx="316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31160" y="4678200"/>
              <a:ext cx="33804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7295760" y="2601720"/>
              <a:ext cx="436680" cy="468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96120" y="2602080"/>
              <a:ext cx="0" cy="123336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7157880" y="3835440"/>
              <a:ext cx="138240" cy="20484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213920" y="2894040"/>
              <a:ext cx="21780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91560" y="3903840"/>
              <a:ext cx="31248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7937640" y="4659480"/>
              <a:ext cx="223200" cy="131760"/>
              <a:chOff x="7937640" y="4659480"/>
              <a:chExt cx="223200" cy="131760"/>
            </a:xfrm>
          </p:grpSpPr>
          <p:sp>
            <p:nvSpPr>
              <p:cNvPr id="421" name=""/>
              <p:cNvSpPr/>
              <p:nvPr/>
            </p:nvSpPr>
            <p:spPr>
              <a:xfrm>
                <a:off x="8024400" y="4659480"/>
                <a:ext cx="51120" cy="13176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130960" y="4659480"/>
                <a:ext cx="2988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130960" y="4753800"/>
                <a:ext cx="29880" cy="370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937640" y="4659480"/>
                <a:ext cx="30960" cy="3564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937640" y="4753800"/>
                <a:ext cx="30960" cy="370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975800" y="4677840"/>
                <a:ext cx="428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975800" y="4773960"/>
                <a:ext cx="428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8082720" y="467784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8082720" y="477396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7959600" y="4809960"/>
              <a:ext cx="0" cy="2066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145360" y="4805280"/>
              <a:ext cx="0" cy="2048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131320" y="4994280"/>
              <a:ext cx="43812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83640" y="3903840"/>
              <a:ext cx="30168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Arial"/>
                </a:rPr>
                <a:t>ACN-E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12080" y="5052960"/>
              <a:ext cx="0" cy="4683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21440" y="5430960"/>
              <a:ext cx="95904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14840" y="5614920"/>
              <a:ext cx="2054520" cy="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10080" y="4108320"/>
              <a:ext cx="49536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00640" y="4108320"/>
              <a:ext cx="61596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72200" y="4235400"/>
              <a:ext cx="395280" cy="1396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864400" y="4280040"/>
              <a:ext cx="101520" cy="9504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965920" y="4237200"/>
              <a:ext cx="1009440" cy="4752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38800" y="5065560"/>
              <a:ext cx="9885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Joint Domain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Bearer Inter-working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Function (BIWF)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5770440" y="4834080"/>
              <a:ext cx="0" cy="2476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52720" y="3519360"/>
              <a:ext cx="8647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353a90"/>
                  </a:solidFill>
                  <a:latin typeface="Arial"/>
                </a:rPr>
                <a:t>Access Network</a:t>
              </a:r>
              <a:endParaRPr b="0" lang="en-US" sz="7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843680" y="3664080"/>
              <a:ext cx="0" cy="13644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51560" y="3429000"/>
              <a:ext cx="482760" cy="3240"/>
            </a:xfrm>
            <a:prstGeom prst="line">
              <a:avLst/>
            </a:prstGeom>
            <a:ln w="5724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823160" y="3315960"/>
              <a:ext cx="0" cy="136440"/>
            </a:xfrm>
            <a:prstGeom prst="line">
              <a:avLst/>
            </a:prstGeom>
            <a:ln w="5724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53440" y="4317840"/>
              <a:ext cx="326880" cy="57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97720" y="4435560"/>
              <a:ext cx="238320" cy="1778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BCF-R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53440" y="4324320"/>
              <a:ext cx="3391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Arial"/>
                </a:rPr>
                <a:t>ACN-w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7496280" y="4662360"/>
              <a:ext cx="221760" cy="128880"/>
              <a:chOff x="7496280" y="4662360"/>
              <a:chExt cx="221760" cy="128880"/>
            </a:xfrm>
          </p:grpSpPr>
          <p:sp>
            <p:nvSpPr>
              <p:cNvPr id="452" name=""/>
              <p:cNvSpPr/>
              <p:nvPr/>
            </p:nvSpPr>
            <p:spPr>
              <a:xfrm>
                <a:off x="7581600" y="4662360"/>
                <a:ext cx="52560" cy="1288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689960" y="4662360"/>
                <a:ext cx="28080" cy="370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689960" y="4756680"/>
                <a:ext cx="28080" cy="3420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496280" y="4662360"/>
                <a:ext cx="31320" cy="3708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496280" y="4756680"/>
                <a:ext cx="31320" cy="34200"/>
              </a:xfrm>
              <a:prstGeom prst="rect">
                <a:avLst/>
              </a:prstGeom>
              <a:solidFill>
                <a:srgbClr val="4ba5e3"/>
              </a:solidFill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534440" y="4680720"/>
                <a:ext cx="410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534440" y="4773960"/>
                <a:ext cx="4104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7641360" y="468072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7641360" y="4773960"/>
                <a:ext cx="42480" cy="0"/>
              </a:xfrm>
              <a:prstGeom prst="line">
                <a:avLst/>
              </a:prstGeom>
              <a:ln w="12600">
                <a:solidFill>
                  <a:srgbClr val="353a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53a9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7504200" y="4802040"/>
              <a:ext cx="0" cy="2066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704000" y="4799160"/>
              <a:ext cx="0" cy="21744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82040" y="4994280"/>
              <a:ext cx="291960" cy="0"/>
            </a:xfrm>
            <a:prstGeom prst="line">
              <a:avLst/>
            </a:prstGeom>
            <a:ln w="5076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018200" y="4519440"/>
              <a:ext cx="476280" cy="180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731000" y="4519080"/>
              <a:ext cx="192240" cy="828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84920" y="4502160"/>
              <a:ext cx="295200" cy="468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7461360" y="3838320"/>
              <a:ext cx="31680" cy="6012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960" y="3835440"/>
              <a:ext cx="657360" cy="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150400" y="3825720"/>
              <a:ext cx="45720" cy="5580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78680" y="5064120"/>
              <a:ext cx="0" cy="44136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7569360" y="5452560"/>
              <a:ext cx="0" cy="1666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33520" y="2527200"/>
              <a:ext cx="450720" cy="10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22360" y="2968560"/>
              <a:ext cx="4683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63680" y="2732040"/>
              <a:ext cx="631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etworks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74880" y="2890800"/>
              <a:ext cx="119160" cy="648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57880" y="4186080"/>
              <a:ext cx="75420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920000" y="4040280"/>
              <a:ext cx="252360" cy="18900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CSF-R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7157520" y="4075200"/>
              <a:ext cx="75420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185320" y="4108320"/>
              <a:ext cx="255240" cy="0"/>
            </a:xfrm>
            <a:prstGeom prst="line">
              <a:avLst/>
            </a:prstGeom>
            <a:ln w="12600">
              <a:solidFill>
                <a:srgbClr val="353a9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048520" y="4229280"/>
              <a:ext cx="0" cy="20448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920000" y="4425840"/>
              <a:ext cx="247680" cy="177840"/>
            </a:xfrm>
            <a:prstGeom prst="roundRect">
              <a:avLst>
                <a:gd name="adj" fmla="val 16657"/>
              </a:avLst>
            </a:prstGeom>
            <a:solidFill>
              <a:srgbClr val="ffffff"/>
            </a:solidFill>
            <a:ln w="12600">
              <a:solidFill>
                <a:srgbClr val="353a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BCF-A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53a90"/>
                  </a:solidFill>
                  <a:latin typeface="Times New Roman"/>
                </a:rPr>
                <a:t>(a)</a:t>
              </a:r>
              <a:endParaRPr b="0" lang="en-US" sz="6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89720" y="314640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53a90"/>
                  </a:solidFill>
                  <a:latin typeface="Arial"/>
                </a:rPr>
                <a:t>Access Control</a:t>
              </a:r>
              <a:endParaRPr b="0" lang="en-US" sz="10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53a90"/>
                  </a:solidFill>
                  <a:latin typeface="Arial"/>
                </a:rPr>
                <a:t>Signalling</a:t>
              </a:r>
              <a:endParaRPr b="0" lang="en-US" sz="10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748640" y="2266920"/>
              <a:ext cx="450720" cy="107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53240" y="2484360"/>
              <a:ext cx="631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etworks</a:t>
              </a:r>
              <a:endParaRPr b="0" lang="en-US" sz="8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726320" y="2708280"/>
              <a:ext cx="4683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7089480" y="3424320"/>
              <a:ext cx="547560" cy="75240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71240" y="3160800"/>
              <a:ext cx="128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53a90"/>
                  </a:solidFill>
                  <a:latin typeface="Arial"/>
                </a:rPr>
                <a:t>Call &amp; Bear Control</a:t>
              </a:r>
              <a:endParaRPr b="0" lang="en-US" sz="1000" spc="-1" strike="noStrike">
                <a:solidFill>
                  <a:srgbClr val="353a9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53a90"/>
                  </a:solidFill>
                  <a:latin typeface="Arial"/>
                </a:rPr>
                <a:t>(CBC) Signalling</a:t>
              </a:r>
              <a:endParaRPr b="0" lang="en-US" sz="10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5557680" y="3452760"/>
              <a:ext cx="0" cy="890640"/>
            </a:xfrm>
            <a:prstGeom prst="line">
              <a:avLst/>
            </a:prstGeom>
            <a:ln w="12600">
              <a:solidFill>
                <a:srgbClr val="353a9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53a9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DD9F-89AC-47CD-A69A-38994B3057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r" pos="780408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Supplementing BICC Signalling Requirements</a:t>
            </a:r>
            <a:br>
              <a:rPr sz="3000"/>
            </a:b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	</a:t>
            </a: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1/6</a:t>
            </a:r>
            <a:endParaRPr b="1" lang="en-US" sz="24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Overall Requirement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Use Cases -&gt; helps to refine scope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62596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2057400" y="1905120"/>
          <a:ext cx="66135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05120"/>
                    <a:ext cx="66135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61E8-A6D5-437A-A3D6-7901C190C1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r" pos="780408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Supplementing BICC Signalling Requirements</a:t>
            </a:r>
            <a:br>
              <a:rPr sz="3000"/>
            </a:b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	</a:t>
            </a: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2/6</a:t>
            </a:r>
            <a:endParaRPr b="1" lang="en-US" sz="24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Information Flow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Use Case -&gt; overview of scenario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62596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2362320" y="1981080"/>
          <a:ext cx="6400800" cy="38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81080"/>
                    <a:ext cx="6400800" cy="38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57D5-08AA-4036-A4DC-AACE7C65ED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r" pos="780408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Supplementing BICC Signalling Requirements</a:t>
            </a:r>
            <a:br>
              <a:rPr sz="3000"/>
            </a:b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	</a:t>
            </a: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3/6</a:t>
            </a:r>
            <a:endParaRPr b="1" lang="en-US" sz="2400" spc="-1" strike="noStrike">
              <a:solidFill>
                <a:srgbClr val="353a90"/>
              </a:solidFill>
              <a:latin typeface="TheMixSemiLight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2133720" y="2286000"/>
          <a:ext cx="6518160" cy="34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86000"/>
                    <a:ext cx="6518160" cy="34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0" y="62596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914400" y="198108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261720" indent="-26172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Information Model</a:t>
            </a: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Class diagrams -&gt; improve understanding the principle idea of BICC</a:t>
            </a: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E6948-03F9-44E7-A1C1-D7A6A35B31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r" pos="780408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Supplementing BICC Signalling Requirements</a:t>
            </a:r>
            <a:br>
              <a:rPr sz="3000"/>
            </a:b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	</a:t>
            </a: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4/6</a:t>
            </a:r>
            <a:endParaRPr b="1" lang="en-US" sz="24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62596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1981080"/>
            <a:ext cx="4114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Information Model</a:t>
            </a: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further</a:t>
            </a: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refined</a:t>
            </a: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class</a:t>
            </a: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diagrams</a:t>
            </a: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3048120" y="1308240"/>
          <a:ext cx="5715000" cy="53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308240"/>
                    <a:ext cx="571500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0A51-4CC5-4536-8DBA-64E84A72E6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r" pos="780408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Supplementing BICC Signalling Requirements</a:t>
            </a:r>
            <a:br>
              <a:rPr sz="3000"/>
            </a:b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	</a:t>
            </a: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5/6</a:t>
            </a:r>
            <a:endParaRPr b="1" lang="en-US" sz="24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62596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14400" y="198108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Zooming into individual BICC components</a:t>
            </a: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 algn="ctr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“</a:t>
            </a: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Play it again Sam!”, and:</a:t>
            </a: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  <a:p>
            <a:pPr marL="270000" indent="-270000" algn="ctr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685800" y="2532240"/>
          <a:ext cx="8229600" cy="28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32240"/>
                    <a:ext cx="8229600" cy="28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5EE43-6B76-4E25-B76C-A262F3233B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690480" y="2362320"/>
          <a:ext cx="4967280" cy="3714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2362320"/>
                    <a:ext cx="496728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r" pos="780408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Supplementing BICC Signalling Requirements</a:t>
            </a:r>
            <a:br>
              <a:rPr sz="3000"/>
            </a:b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	</a:t>
            </a:r>
            <a:r>
              <a:rPr b="1" lang="en-GB" sz="2400" spc="-1" strike="noStrike">
                <a:solidFill>
                  <a:srgbClr val="353a90"/>
                </a:solidFill>
                <a:latin typeface="TheMixSemiLight"/>
              </a:rPr>
              <a:t>5/6</a:t>
            </a:r>
            <a:endParaRPr b="1" lang="en-US" sz="24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62596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4648320" y="2286000"/>
          <a:ext cx="4430520" cy="4086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286000"/>
                    <a:ext cx="443052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12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i="1" lang="en-GB" sz="1800" spc="-1" strike="noStrike">
                <a:solidFill>
                  <a:srgbClr val="353a90"/>
                </a:solidFill>
                <a:latin typeface="Frutiger 45 Light"/>
              </a:rPr>
              <a:t>And there’d be much more to be modelled!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229F-8259-447E-85C4-75AD82F3FD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787716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A little story about a personal experience in...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70040" indent="0" algn="ctr">
              <a:lnSpc>
                <a:spcPct val="94000"/>
              </a:lnSpc>
              <a:spcBef>
                <a:spcPts val="751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0" algn="ctr">
              <a:lnSpc>
                <a:spcPct val="94000"/>
              </a:lnSpc>
              <a:spcBef>
                <a:spcPts val="751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attempting to motivate the use of</a:t>
            </a:r>
            <a:br>
              <a:rPr sz="2000"/>
            </a:b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object-oriented modelling techniques in SG11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0" algn="ctr">
              <a:lnSpc>
                <a:spcPct val="94000"/>
              </a:lnSpc>
              <a:spcBef>
                <a:spcPts val="751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...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0" algn="ctr">
              <a:lnSpc>
                <a:spcPct val="94000"/>
              </a:lnSpc>
              <a:spcBef>
                <a:spcPts val="751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advocating the advantages for the experts’ work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0" algn="ctr">
              <a:lnSpc>
                <a:spcPct val="94000"/>
              </a:lnSpc>
              <a:spcBef>
                <a:spcPts val="751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...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0" algn="ctr">
              <a:lnSpc>
                <a:spcPct val="94000"/>
              </a:lnSpc>
              <a:spcBef>
                <a:spcPts val="751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the attention achieved in the proces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0" algn="ctr">
              <a:lnSpc>
                <a:spcPct val="94000"/>
              </a:lnSpc>
              <a:spcBef>
                <a:spcPts val="751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...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0" algn="ctr">
              <a:lnSpc>
                <a:spcPct val="94000"/>
              </a:lnSpc>
              <a:spcBef>
                <a:spcPts val="751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observations and conclusion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3D6A-04A2-4D3E-B0E6-0D06EE671A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1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Introduct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Preambl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Story lin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About myself and SG11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2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Why OO-Modelling &amp; UML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OO-Analysis &amp; -Design (OOA/D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OO-Modelling (OOM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Telecom vs. Computing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2876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3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OOM for BICC Requirement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Purpose and Benefi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Existing BICC CS2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Supplementing BICC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4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Results &amp; Conclus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Reception by the meeting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Personal observation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Long-term view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4037760" y="3886200"/>
            <a:ext cx="4953240" cy="3124080"/>
          </a:xfrm>
          <a:prstGeom prst="irregularSeal2">
            <a:avLst/>
          </a:prstGeom>
          <a:noFill/>
          <a:ln w="12600">
            <a:solidFill>
              <a:srgbClr val="4ba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65404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F406-E9BD-4081-8E35-0A7E003D56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Reception by the Meeting (of WP 2/11)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38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i="1" lang="en-GB" sz="2000" spc="-1" strike="noStrike">
                <a:solidFill>
                  <a:srgbClr val="353a90"/>
                </a:solidFill>
                <a:latin typeface="Frutiger 45 Light"/>
              </a:rPr>
              <a:t>Achieved Interest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3800" indent="-2538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Remarkable interest shown by SG11 management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3800" indent="-2538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Moderate interest seen from participants progressing work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3800" indent="-2538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Gap between S.P. and Supplier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38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i="1" lang="en-GB" sz="2000" spc="-1" strike="noStrike">
                <a:solidFill>
                  <a:srgbClr val="353a90"/>
                </a:solidFill>
                <a:latin typeface="Frutiger 45 Light"/>
              </a:rPr>
              <a:t>Statement of Scepticism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3800" indent="-2538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Nice, but do we </a:t>
            </a:r>
            <a:r>
              <a:rPr b="0" i="1" lang="en-GB" sz="2000" spc="-1" strike="noStrike">
                <a:solidFill>
                  <a:srgbClr val="353a90"/>
                </a:solidFill>
                <a:latin typeface="Frutiger 45 Light"/>
              </a:rPr>
              <a:t>really</a:t>
            </a: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 need this?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3800" indent="-2538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Learning curve steep enough?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3800" indent="-2538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Return on investment?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3800" indent="-2538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UML not a bit too formal?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2876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5092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i="1" lang="en-GB" sz="2000" spc="-1" strike="noStrike">
                <a:solidFill>
                  <a:srgbClr val="353a90"/>
                </a:solidFill>
                <a:latin typeface="Frutiger 45 Light"/>
              </a:rPr>
              <a:t>Possible Reasons for Spectisism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092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(Past) Experiences with Notation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0920" indent="-2509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SDL:</a:t>
            </a:r>
            <a:br>
              <a:rPr sz="2000"/>
            </a:b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Widely adopted within SG11 (protocol standards, typically specifying the state machines), but applied in the right way?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0920" indent="-2509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TTCN:</a:t>
            </a:r>
            <a:br>
              <a:rPr sz="2000"/>
            </a:b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ratio of sophistication vs. value was not perceived to be very promising to individual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0920" indent="-2509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Little popularity of concept work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16040" indent="0">
              <a:lnSpc>
                <a:spcPct val="94000"/>
              </a:lnSpc>
              <a:spcBef>
                <a:spcPts val="6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“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With IP, everything is easier”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65404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45B5A-B63D-46B7-95D9-4F85644554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Personal Observations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172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i="1" lang="en-GB" sz="2000" spc="-1" strike="noStrike">
                <a:solidFill>
                  <a:srgbClr val="353a90"/>
                </a:solidFill>
                <a:latin typeface="Frutiger 45 Light"/>
              </a:rPr>
              <a:t>“</a:t>
            </a:r>
            <a:r>
              <a:rPr b="1" i="1" lang="en-GB" sz="2000" spc="-1" strike="noStrike">
                <a:solidFill>
                  <a:srgbClr val="353a90"/>
                </a:solidFill>
                <a:latin typeface="Frutiger 45 Light"/>
              </a:rPr>
              <a:t>Contemporary” factor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Time pressure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46640" indent="0">
              <a:lnSpc>
                <a:spcPct val="94000"/>
              </a:lnSpc>
              <a:spcBef>
                <a:spcPts val="6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-&gt;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get out standards fast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Little resources available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46640" indent="0">
              <a:lnSpc>
                <a:spcPct val="94000"/>
              </a:lnSpc>
              <a:spcBef>
                <a:spcPts val="6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-&gt;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reduce efforts to the minimum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Increased Fluctuat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46640" indent="0">
              <a:lnSpc>
                <a:spcPct val="94000"/>
              </a:lnSpc>
              <a:spcBef>
                <a:spcPts val="6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-&gt;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people change,</a:t>
            </a:r>
            <a:br>
              <a:rPr sz="1800"/>
            </a:b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know-how changes...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61720" indent="-2617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Current quality control system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46640" indent="0">
              <a:lnSpc>
                <a:spcPct val="94000"/>
              </a:lnSpc>
              <a:spcBef>
                <a:spcPts val="6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-&gt;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iterative approach: changes to standards as implementers discover imperfect par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2876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38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i="1" lang="en-GB" sz="2000" spc="-1" strike="noStrike">
                <a:solidFill>
                  <a:srgbClr val="353a90"/>
                </a:solidFill>
                <a:latin typeface="Frutiger 45 Light"/>
              </a:rPr>
              <a:t>“</a:t>
            </a:r>
            <a:r>
              <a:rPr b="1" i="1" lang="en-GB" sz="2000" spc="-1" strike="noStrike">
                <a:solidFill>
                  <a:srgbClr val="353a90"/>
                </a:solidFill>
                <a:latin typeface="Frutiger 45 Light"/>
              </a:rPr>
              <a:t>Hidden” factor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3800" indent="-2538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Conceptual work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23600" indent="-29088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generally having a hard tim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23600" indent="-29088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benefits not convincing enough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53800" indent="-25380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ITU “hidden law”:</a:t>
            </a:r>
            <a:br>
              <a:rPr sz="2000"/>
            </a:b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A playground for different parties with particular interests. Lobbying e.g. to...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23600" indent="-29088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advocate a specific solution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23600" indent="-29088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slow down progress of work?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23600" indent="0">
              <a:lnSpc>
                <a:spcPct val="94000"/>
              </a:lnSpc>
              <a:spcBef>
                <a:spcPts val="6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-&gt;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often, full transparency is not necessarily desired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23600" indent="0">
              <a:lnSpc>
                <a:spcPct val="94000"/>
              </a:lnSpc>
              <a:spcBef>
                <a:spcPts val="6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-&gt;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poisons top down approache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65404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33AF-1A84-4187-8259-A84F10B2A7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Personal Long-term Views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5632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i="1" lang="en-GB" sz="2000" spc="-1" strike="noStrike">
                <a:solidFill>
                  <a:srgbClr val="353a90"/>
                </a:solidFill>
                <a:latin typeface="Frutiger 45 Light"/>
              </a:rPr>
              <a:t>Think positive!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6320" indent="-2563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Complexity in telecom will continue to increase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31520" indent="0">
              <a:lnSpc>
                <a:spcPct val="94000"/>
              </a:lnSpc>
              <a:spcBef>
                <a:spcPts val="6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-&gt;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a common understanding of technical and conceptual issues is indispensabl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56320" indent="-2563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Parties with particular interest in transparency: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31520" indent="-294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Governments:</a:t>
            </a:r>
            <a:br>
              <a:rPr sz="1800"/>
            </a:b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regulation, lawful interception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31520" indent="-294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Service Providers:</a:t>
            </a:r>
            <a:br>
              <a:rPr sz="1800"/>
            </a:b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service convergence challenge, cope with network complexity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92876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5092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i="1" lang="en-GB" sz="2000" spc="-1" strike="noStrike">
                <a:solidFill>
                  <a:srgbClr val="353a90"/>
                </a:solidFill>
                <a:latin typeface="Frutiger 45 Light"/>
              </a:rPr>
              <a:t>Summing up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50920" indent="-2509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Need for conceptual work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16040" indent="-28764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still an indisputable necessity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16040" indent="-28764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adoption of new techniques  takes a lot of time</a:t>
            </a:r>
            <a:br>
              <a:rPr sz="1800"/>
            </a:b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-&gt; patience with optimism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50920" indent="-2509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Factors for success/failure: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16040" indent="-28764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on actual participation (parties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16040" indent="-28764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market pressures (competition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16040" indent="-28764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the mood of telecom busines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50920" indent="0" algn="ctr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i="1" lang="en-GB" sz="2000" spc="-1" strike="noStrike">
                <a:solidFill>
                  <a:srgbClr val="353a90"/>
                </a:solidFill>
                <a:latin typeface="Wingdings"/>
                <a:ea typeface="Wingdings"/>
              </a:rPr>
              <a:t></a:t>
            </a:r>
            <a:br>
              <a:rPr sz="2000"/>
            </a:br>
            <a:r>
              <a:rPr b="0" i="1" lang="en-GB" sz="2000" spc="-1" strike="noStrike">
                <a:solidFill>
                  <a:srgbClr val="353a90"/>
                </a:solidFill>
                <a:latin typeface="Frutiger 45 Light"/>
              </a:rPr>
              <a:t> </a:t>
            </a:r>
            <a:r>
              <a:rPr b="0" i="1" lang="en-GB" sz="2000" spc="-1" strike="noStrike">
                <a:solidFill>
                  <a:srgbClr val="353a90"/>
                </a:solidFill>
                <a:latin typeface="Frutiger 45 Light"/>
              </a:rPr>
              <a:t>Better days will be coming agai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65404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7FB2-7ED5-46FA-8C90-CF1897FE3C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2057400" y="1752480"/>
            <a:ext cx="4876920" cy="1752840"/>
          </a:xfrm>
          <a:prstGeom prst="cloudCallout">
            <a:avLst>
              <a:gd name="adj1" fmla="val -73666"/>
              <a:gd name="adj2" fmla="val 30708"/>
            </a:avLst>
          </a:prstGeom>
          <a:solidFill>
            <a:srgbClr val="cdcfed"/>
          </a:solidFill>
          <a:ln w="12600">
            <a:solidFill>
              <a:srgbClr val="353a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3a90"/>
                </a:solidFill>
                <a:latin typeface="Times New Roman"/>
              </a:rPr>
              <a:t>Thank you!</a:t>
            </a:r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3a9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...and enjoy your stay in Switzerland</a:t>
            </a:r>
            <a:endParaRPr b="0" lang="en-US" sz="18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0" y="3733920"/>
            <a:ext cx="4267080" cy="1218960"/>
          </a:xfrm>
          <a:prstGeom prst="cloudCallout">
            <a:avLst>
              <a:gd name="adj1" fmla="val 54800"/>
              <a:gd name="adj2" fmla="val 96486"/>
            </a:avLst>
          </a:prstGeom>
          <a:solidFill>
            <a:srgbClr val="ccffff"/>
          </a:solidFill>
          <a:ln w="12600">
            <a:solidFill>
              <a:srgbClr val="353a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5a"/>
                </a:solidFill>
                <a:latin typeface="Frutiger 45 Light"/>
              </a:rPr>
              <a:t>...despite the *?+!%ç&amp;*/ weather!</a:t>
            </a:r>
            <a:endParaRPr b="0" lang="en-US" sz="18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5334120"/>
            <a:ext cx="1752480" cy="914400"/>
          </a:xfrm>
          <a:prstGeom prst="cloudCallout">
            <a:avLst>
              <a:gd name="adj1" fmla="val -111865"/>
              <a:gd name="adj2" fmla="val 104513"/>
            </a:avLst>
          </a:prstGeom>
          <a:solidFill>
            <a:srgbClr val="ffffcc"/>
          </a:solidFill>
          <a:ln w="12600">
            <a:solidFill>
              <a:srgbClr val="cdcf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a5e3"/>
                </a:solidFill>
                <a:latin typeface="Frutiger 45 Light"/>
              </a:rPr>
              <a:t>coffee break</a:t>
            </a:r>
            <a:br>
              <a:rPr sz="1800"/>
            </a:br>
            <a:r>
              <a:rPr b="0" lang="en-GB" sz="1800" spc="-1" strike="noStrike">
                <a:solidFill>
                  <a:srgbClr val="4ba5e3"/>
                </a:solidFill>
                <a:latin typeface="Frutiger 45 Light"/>
              </a:rPr>
              <a:t>now?</a:t>
            </a:r>
            <a:endParaRPr b="0" lang="en-US" sz="18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248520" y="5943600"/>
            <a:ext cx="1066680" cy="609480"/>
          </a:xfrm>
          <a:prstGeom prst="cloudCallout">
            <a:avLst>
              <a:gd name="adj1" fmla="val 106847"/>
              <a:gd name="adj2" fmla="val 83333"/>
            </a:avLst>
          </a:prstGeom>
          <a:solidFill>
            <a:srgbClr val="ffffcc"/>
          </a:solidFill>
          <a:ln w="12600">
            <a:solidFill>
              <a:srgbClr val="cdcf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a5e3"/>
                </a:solidFill>
                <a:latin typeface="Frutiger 45 Light"/>
              </a:rPr>
              <a:t>psst!</a:t>
            </a:r>
            <a:endParaRPr b="0" lang="en-US" sz="18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BBEC-228B-4DCC-BBB5-674B3849DD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Supplemental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GB" sz="20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571500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ACKUP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636EB-AE39-4E5C-AE65-798181EAD99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r" pos="781524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Links &amp; Book References</a:t>
            </a: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	</a:t>
            </a: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1/2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i="1" lang="en-GB" sz="2200" spc="-1" strike="noStrike">
                <a:solidFill>
                  <a:srgbClr val="353a90"/>
                </a:solidFill>
                <a:latin typeface="Frutiger 45 Light"/>
              </a:rPr>
              <a:t>OOA/D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100000"/>
              </a:lnSpc>
              <a:spcAft>
                <a:spcPts val="601"/>
              </a:spcAft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1"/>
              </a:rPr>
              <a:t>http://www.</a:t>
            </a: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2"/>
              </a:rPr>
              <a:t>sdmagazine</a:t>
            </a: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3"/>
              </a:rPr>
              <a:t>.com/articles/1999/0006/0006a/0006a.</a:t>
            </a: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4"/>
              </a:rPr>
              <a:t>htm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100000"/>
              </a:lnSpc>
              <a:spcAft>
                <a:spcPts val="601"/>
              </a:spcAft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“</a:t>
            </a:r>
            <a:r>
              <a:rPr b="1" lang="en-GB" sz="1800" spc="-1" strike="noStrike">
                <a:solidFill>
                  <a:srgbClr val="353a90"/>
                </a:solidFill>
                <a:latin typeface="Frutiger 45 Light"/>
              </a:rPr>
              <a:t>Building Object Applications That Work: Your Step-By-Step Handbook for Developing Robust Systems with Object Technology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” by Scott W. Ambler (Cambridge University Press, 1998) 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i="1" lang="en-GB" sz="2200" spc="-1" strike="noStrike">
                <a:solidFill>
                  <a:srgbClr val="353a90"/>
                </a:solidFill>
                <a:latin typeface="Frutiger 45 Light"/>
              </a:rPr>
              <a:t>OOM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100000"/>
              </a:lnSpc>
              <a:spcAft>
                <a:spcPts val="601"/>
              </a:spcAft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5"/>
              </a:rPr>
              <a:t>http://www.</a:t>
            </a: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6"/>
              </a:rPr>
              <a:t>ambysoft</a:t>
            </a: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7"/>
              </a:rPr>
              <a:t>.com/</a:t>
            </a: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8"/>
              </a:rPr>
              <a:t>eCommerceArchitecture</a:t>
            </a: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9"/>
              </a:rPr>
              <a:t>.html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100000"/>
              </a:lnSpc>
              <a:spcAft>
                <a:spcPts val="601"/>
              </a:spcAft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http://www.sdmagazine.com/articles/1999/0004/0004o/0004o.htm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100000"/>
              </a:lnSpc>
              <a:spcAft>
                <a:spcPts val="601"/>
              </a:spcAft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“</a:t>
            </a:r>
            <a:r>
              <a:rPr b="1" lang="en-GB" sz="1800" spc="-1" strike="noStrike">
                <a:solidFill>
                  <a:srgbClr val="353a90"/>
                </a:solidFill>
                <a:latin typeface="Frutiger 45 Light"/>
              </a:rPr>
              <a:t>Business Engineering With Object Technology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” by David Taylor (John Wiley and Sons, 1995) 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100000"/>
              </a:lnSpc>
              <a:spcAft>
                <a:spcPts val="601"/>
              </a:spcAft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“</a:t>
            </a:r>
            <a:r>
              <a:rPr b="1" lang="en-GB" sz="1800" spc="-1" strike="noStrike">
                <a:solidFill>
                  <a:srgbClr val="353a90"/>
                </a:solidFill>
                <a:latin typeface="Frutiger 45 Light"/>
              </a:rPr>
              <a:t>Enterprise Modelling with UML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” by Chris Marshall (Addison-Wesley, Object Technology series, 1999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65404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264A-B1B2-49A2-964B-2BEB7AC388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r" pos="781524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Links &amp; Book References</a:t>
            </a: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	</a:t>
            </a: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2/2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i="1" lang="en-GB" sz="2000" spc="-1" strike="noStrike">
                <a:solidFill>
                  <a:srgbClr val="353a90"/>
                </a:solidFill>
                <a:latin typeface="Frutiger 45 Light"/>
              </a:rPr>
              <a:t>UML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94000"/>
              </a:lnSpc>
              <a:spcBef>
                <a:spcPts val="1125"/>
              </a:spcBef>
              <a:spcAft>
                <a:spcPts val="601"/>
              </a:spcAft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1"/>
              </a:rPr>
              <a:t>http://www.</a:t>
            </a: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2"/>
              </a:rPr>
              <a:t>omg</a:t>
            </a: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3"/>
              </a:rPr>
              <a:t>.org/</a:t>
            </a: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4"/>
              </a:rPr>
              <a:t>uml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94000"/>
              </a:lnSpc>
              <a:spcBef>
                <a:spcPts val="1125"/>
              </a:spcBef>
              <a:spcAft>
                <a:spcPts val="601"/>
              </a:spcAft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5"/>
              </a:rPr>
              <a:t>http://www.rational.com/</a:t>
            </a:r>
            <a:r>
              <a:rPr b="0" lang="en-GB" sz="1800" spc="-1" strike="noStrike" u="sng">
                <a:solidFill>
                  <a:srgbClr val="f98b47"/>
                </a:solidFill>
                <a:uFillTx/>
                <a:latin typeface="Frutiger 45 Light"/>
                <a:hlinkClick r:id="rId6"/>
              </a:rPr>
              <a:t>uml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94000"/>
              </a:lnSpc>
              <a:spcBef>
                <a:spcPts val="1125"/>
              </a:spcBef>
              <a:spcAft>
                <a:spcPts val="601"/>
              </a:spcAft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1800" spc="-1" strike="noStrike">
                <a:solidFill>
                  <a:srgbClr val="353a90"/>
                </a:solidFill>
                <a:latin typeface="Frutiger 45 Light"/>
              </a:rPr>
              <a:t>“</a:t>
            </a:r>
            <a:r>
              <a:rPr b="1" lang="en-GB" sz="1800" spc="-1" strike="noStrike">
                <a:solidFill>
                  <a:srgbClr val="353a90"/>
                </a:solidFill>
                <a:latin typeface="Frutiger 45 Light"/>
              </a:rPr>
              <a:t>The Unified Modeling Language Reference Manual” 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by Grady Booch, James Rumbaugh, and Ivar Jacobson (Addison-Wesley, Object Technology Series, 1999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-270000">
              <a:lnSpc>
                <a:spcPct val="94000"/>
              </a:lnSpc>
              <a:spcBef>
                <a:spcPts val="1125"/>
              </a:spcBef>
              <a:spcAft>
                <a:spcPts val="601"/>
              </a:spcAft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“</a:t>
            </a:r>
            <a:r>
              <a:rPr b="1" lang="en-GB" sz="1800" spc="-1" strike="noStrike">
                <a:solidFill>
                  <a:srgbClr val="353a90"/>
                </a:solidFill>
                <a:latin typeface="Frutiger 45 Light"/>
              </a:rPr>
              <a:t>The Unified Modeling Language User Guide” 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by Grady Booch, James Rumbaugh, and Ivar Jacobson (Addison-Wesley, Object Technology Series, 1999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654048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625B-EE20-4F1A-975D-37F03EFAFE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Contents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1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Introduct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Preambl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About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The OOM Story in SG11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2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Why OO-Modelling &amp; UML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OO-Analysis &amp; -Design (OOA/D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OO-Modelling (OOM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Telecom vs. Computing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876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3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OOM for BICC Requirement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Purpose and Benefi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Existing BICC CS2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Supplementing BICC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4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Results &amp; Conclus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Reception by the meeting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Personal observation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Long-term view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1500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492F-648E-4F8A-868E-52894DD78E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1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Introduct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Preambl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About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The OOM Story in SG11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2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Why OO-Modelling &amp; UML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OO-Analysis &amp; -Design (OOA/D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OO-Modelling (OOM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Telecom vs. Computing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876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3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OOM for BICC Requirement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Purpose and Benefi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Existing BICC CS2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Supplementing BICC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4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 Results &amp; Conclus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Reception by the meeting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Personal observation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Long-term view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28600" y="914400"/>
            <a:ext cx="4952880" cy="3581280"/>
          </a:xfrm>
          <a:prstGeom prst="irregularSeal2">
            <a:avLst/>
          </a:prstGeom>
          <a:noFill/>
          <a:ln w="12600">
            <a:solidFill>
              <a:srgbClr val="4ba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71500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18516-AD96-4BE6-9CE9-2958F11EAD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SG11 Signalling Requirements - what’s this?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3800" indent="-25380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200" spc="-1" strike="noStrike">
                <a:solidFill>
                  <a:srgbClr val="353a90"/>
                </a:solidFill>
                <a:latin typeface="Frutiger 45 Light"/>
              </a:rPr>
              <a:t>Question to be answered before protocol development starts:</a:t>
            </a:r>
            <a:br>
              <a:rPr sz="2200"/>
            </a:br>
            <a:r>
              <a:rPr b="0" lang="en-GB" sz="2200" spc="-1" strike="noStrike">
                <a:solidFill>
                  <a:srgbClr val="353a90"/>
                </a:solidFill>
                <a:latin typeface="Frutiger 45 Light"/>
              </a:rPr>
              <a:t>“</a:t>
            </a:r>
            <a:r>
              <a:rPr b="0" i="1" lang="en-GB" sz="2200" spc="-1" strike="noStrike">
                <a:solidFill>
                  <a:srgbClr val="353a90"/>
                </a:solidFill>
                <a:latin typeface="Frutiger 45 Light"/>
              </a:rPr>
              <a:t>What do we expect the particular signalling protocol to do?</a:t>
            </a:r>
            <a:r>
              <a:rPr b="0" lang="en-GB" sz="2200" spc="-1" strike="noStrike">
                <a:solidFill>
                  <a:srgbClr val="353a90"/>
                </a:solidFill>
                <a:latin typeface="Frutiger 45 Light"/>
              </a:rPr>
              <a:t>”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marL="253800" indent="-25380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200" spc="-1" strike="noStrike">
                <a:solidFill>
                  <a:srgbClr val="353a90"/>
                </a:solidFill>
                <a:latin typeface="Frutiger 45 Light"/>
              </a:rPr>
              <a:t>A collection of functional requirements on a signalling protocol that is destined for specific purposes and applications: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23600" indent="-290880">
              <a:lnSpc>
                <a:spcPct val="94000"/>
              </a:lnSpc>
              <a:spcBef>
                <a:spcPts val="751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That is, signalling requirements need to identify...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35440" indent="-23256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The context of usage (= equal to an applicability statement?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35440" indent="-23256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All the scenarios that need to be applicabl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23600" indent="-290880">
              <a:lnSpc>
                <a:spcPct val="94000"/>
              </a:lnSpc>
              <a:spcBef>
                <a:spcPts val="751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Hence signalling requirements would contai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35440" indent="-23256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Signalling [network] architecture and functional el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35440" indent="-23256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Description of network functions that are needed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135440" indent="-23256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Functional elements to be implemented ( != physical elements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23600" indent="0">
              <a:lnSpc>
                <a:spcPct val="94000"/>
              </a:lnSpc>
              <a:spcBef>
                <a:spcPts val="751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Ideally...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71500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B631-F1EE-41F4-820F-A6FE2B0F46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The Proposal for SG11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200" spc="-1" strike="noStrike">
                <a:solidFill>
                  <a:srgbClr val="353a90"/>
                </a:solidFill>
                <a:latin typeface="Frutiger 45 Light"/>
              </a:rPr>
              <a:t>BICC Capability Set 3 (Bearer Independent Call Control)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751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BICC is a framework for providing ISDN services over transport technologies beyond simply TDM: ATM AAL1, AAL2, IP, MPLS.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751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In the light of the starting BICC CS3 activity, further ways to improve the modelling techniques for envisaged signalling architecture were seeked.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751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This resulted in a contribution brought into WP 2/11 at the SG11 meeting in Mai 2001: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0">
              <a:lnSpc>
                <a:spcPct val="94000"/>
              </a:lnSpc>
              <a:spcBef>
                <a:spcPts val="751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Delayed Contribution </a:t>
            </a:r>
            <a:r>
              <a:rPr b="0" lang="de-DE" sz="2000" spc="-1" strike="noStrike">
                <a:solidFill>
                  <a:srgbClr val="353a90"/>
                </a:solidFill>
                <a:latin typeface="Frutiger 45 Light"/>
              </a:rPr>
              <a:t>D.229 – 2/11</a:t>
            </a:r>
            <a:br>
              <a:rPr sz="2000"/>
            </a:b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Aim: to propagate the idea of using OOM and UML for the development of signalling requirement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71500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F265-B3E8-4CD2-9BB2-189F9A47A3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877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1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Introduct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Preambl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Story lin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About myself and SG11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700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2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Why OO-Modelling &amp; UML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OO-Analysis &amp; -Design (OOA/D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OO-Modelling (OOM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70040" indent="-30960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Telecom vs. Computing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28760" y="1980720"/>
            <a:ext cx="3862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3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OOM for BICC Requirements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Purpose and Benefi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Existing BICC CS2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Supplementing BICC Signalling Requirement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marL="264600" indent="0">
              <a:lnSpc>
                <a:spcPct val="94000"/>
              </a:lnSpc>
              <a:spcBef>
                <a:spcPts val="12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4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	</a:t>
            </a:r>
            <a:r>
              <a:rPr b="1" lang="en-GB" sz="2000" spc="-1" strike="noStrike">
                <a:solidFill>
                  <a:srgbClr val="cdcfed"/>
                </a:solidFill>
                <a:latin typeface="Frutiger 45 Light"/>
              </a:rPr>
              <a:t> Results &amp; Conclusion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Reception by the meeting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Personal observation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54560" indent="-303120">
              <a:lnSpc>
                <a:spcPct val="94000"/>
              </a:lnSpc>
              <a:spcBef>
                <a:spcPts val="675"/>
              </a:spcBef>
              <a:buClr>
                <a:srgbClr val="cdcfed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cdcfed"/>
                </a:solidFill>
                <a:latin typeface="Frutiger 45 Light"/>
              </a:rPr>
              <a:t>Long-term view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04200" y="2743200"/>
            <a:ext cx="5181480" cy="3581280"/>
          </a:xfrm>
          <a:prstGeom prst="irregularSeal2">
            <a:avLst/>
          </a:prstGeom>
          <a:noFill/>
          <a:ln w="12600">
            <a:solidFill>
              <a:srgbClr val="4ba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99292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D951-6F3D-40E0-970C-68AD26C805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7877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Object-Oriented Analysis &amp; Design (OOA/D)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56320" indent="-2563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A very, very little history: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31520" indent="-294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late 1980s: OO programming languages (Smalltalk, C++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31520" indent="-294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early 1990s: OOA/D techniques (Booch, Rumbaugh, Jacobson, ...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31520" indent="-294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late 1990s: joint effort to develop the UML standard; adopted by OMG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56320" indent="-256320">
              <a:lnSpc>
                <a:spcPct val="94000"/>
              </a:lnSpc>
              <a:spcBef>
                <a:spcPts val="1250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OOA&amp;D as conceptual tool was originally directly associated with software development: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31520" indent="-294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OOA:</a:t>
            </a:r>
            <a:br>
              <a:rPr sz="2000"/>
            </a:b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Analysing a system and its environment, as well as the requirements on the system, seen from a user’s perspective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31520" indent="-294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OOD:</a:t>
            </a:r>
            <a:br>
              <a:rPr sz="2000"/>
            </a:b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Documentation on the concept, and the design of the implementation (== the inside of the system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31520" indent="-294120">
              <a:lnSpc>
                <a:spcPct val="94000"/>
              </a:lnSpc>
              <a:spcBef>
                <a:spcPts val="675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UML: UML as notation standard; 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UML tools with the purpose to automatically create program code out of the object-oriented models.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99292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8141-F8E5-49D1-962C-189B9E3D2A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7877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3000" spc="-1" strike="noStrike">
                <a:solidFill>
                  <a:srgbClr val="353a90"/>
                </a:solidFill>
                <a:latin typeface="TheMixSemiLight"/>
              </a:rPr>
              <a:t>Object-Oriented Modelling (OOM)</a:t>
            </a:r>
            <a:endParaRPr b="1" lang="en-US" sz="3000" spc="-1" strike="noStrike">
              <a:solidFill>
                <a:srgbClr val="353a90"/>
              </a:solidFill>
              <a:latin typeface="TheMixSemi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877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5520" indent="-245520">
              <a:lnSpc>
                <a:spcPct val="94000"/>
              </a:lnSpc>
              <a:spcBef>
                <a:spcPts val="1375"/>
              </a:spcBef>
              <a:buClr>
                <a:srgbClr val="353a90"/>
              </a:buClr>
              <a:buFont typeface="Wingdings" charset="2"/>
              <a:buChar char="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200" spc="-1" strike="noStrike">
                <a:solidFill>
                  <a:srgbClr val="353a90"/>
                </a:solidFill>
                <a:latin typeface="Frutiger 45 Light"/>
              </a:rPr>
              <a:t>Simply going beyond the purpose of developing software :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00560" indent="-281520">
              <a:lnSpc>
                <a:spcPct val="94000"/>
              </a:lnSpc>
              <a:spcBef>
                <a:spcPts val="751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OOA, OOD &amp; UML are </a:t>
            </a:r>
            <a:r>
              <a:rPr b="1" lang="en-GB" sz="2000" spc="-1" strike="noStrike">
                <a:solidFill>
                  <a:srgbClr val="353a90"/>
                </a:solidFill>
                <a:latin typeface="Frutiger 45 Light"/>
              </a:rPr>
              <a:t>description techniques</a:t>
            </a: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, thus probably also applicable for other things than software development.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1" marL="700560" indent="-281520">
              <a:lnSpc>
                <a:spcPct val="94000"/>
              </a:lnSpc>
              <a:spcBef>
                <a:spcPts val="751"/>
              </a:spcBef>
              <a:buClr>
                <a:srgbClr val="353a90"/>
              </a:buClr>
              <a:buFont typeface="Frutiger 45 Light"/>
              <a:buChar char="–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000" spc="-1" strike="noStrike">
                <a:solidFill>
                  <a:srgbClr val="353a90"/>
                </a:solidFill>
                <a:latin typeface="Frutiger 45 Light"/>
              </a:rPr>
              <a:t>Meanwhile, modelling is used in many areas, e.g.:</a:t>
            </a:r>
            <a:endParaRPr b="0" lang="en-US" sz="20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099080" indent="-22536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1800" spc="-1" strike="noStrike">
                <a:solidFill>
                  <a:srgbClr val="353a90"/>
                </a:solidFill>
                <a:latin typeface="Frutiger 45 Light"/>
              </a:rPr>
              <a:t>Business engineering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: modelling of enterprises in terms of purpose, processes and organisational entitie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099080" indent="-22536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1800" spc="-1" strike="noStrike">
                <a:solidFill>
                  <a:srgbClr val="353a90"/>
                </a:solidFill>
                <a:latin typeface="Frutiger 45 Light"/>
              </a:rPr>
              <a:t>Service development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: service components and their associations amongst themselves as well to network capabilitie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099080" indent="-22536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1800" spc="-1" strike="noStrike">
                <a:solidFill>
                  <a:srgbClr val="353a90"/>
                </a:solidFill>
                <a:latin typeface="Frutiger 45 Light"/>
              </a:rPr>
              <a:t>Database design &amp; data warehouses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: data structures, specifications for data mining and information exchange (XML/DTD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099080" indent="-22536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1800" spc="-1" strike="noStrike">
                <a:solidFill>
                  <a:srgbClr val="353a90"/>
                </a:solidFill>
                <a:latin typeface="Frutiger 45 Light"/>
              </a:rPr>
              <a:t>Telecom Operations Map (TOM)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: a framework for a process architecture suitable to telecommunications service providers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lvl="2" marL="1099080" indent="-225360">
              <a:lnSpc>
                <a:spcPct val="94000"/>
              </a:lnSpc>
              <a:spcBef>
                <a:spcPts val="451"/>
              </a:spcBef>
              <a:buClr>
                <a:srgbClr val="353a90"/>
              </a:buClr>
              <a:buFont typeface="Frutiger 45 Light"/>
              <a:buChar char="–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1800" spc="-1" strike="noStrike">
                <a:solidFill>
                  <a:srgbClr val="353a90"/>
                </a:solidFill>
                <a:latin typeface="Frutiger 45 Light"/>
              </a:rPr>
              <a:t>Network Management Systems</a:t>
            </a:r>
            <a:r>
              <a:rPr b="0" lang="en-GB" sz="1800" spc="-1" strike="noStrike">
                <a:solidFill>
                  <a:srgbClr val="353a90"/>
                </a:solidFill>
                <a:latin typeface="Frutiger 45 Light"/>
              </a:rPr>
              <a:t>: managed objects (MIBs)</a:t>
            </a:r>
            <a:endParaRPr b="0" lang="en-US" sz="1800" spc="-1" strike="noStrike">
              <a:solidFill>
                <a:srgbClr val="353a90"/>
              </a:solidFill>
              <a:latin typeface="Frutiger 45 Light"/>
            </a:endParaRPr>
          </a:p>
          <a:p>
            <a:pPr marL="245520"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2200" spc="-1" strike="noStrike">
                <a:solidFill>
                  <a:srgbClr val="353a90"/>
                </a:solidFill>
                <a:latin typeface="Wingdings"/>
                <a:ea typeface="Wingdings"/>
              </a:rPr>
              <a:t></a:t>
            </a:r>
            <a:r>
              <a:rPr b="0" lang="en-GB" sz="2200" spc="-1" strike="noStrike">
                <a:solidFill>
                  <a:srgbClr val="353a90"/>
                </a:solidFill>
                <a:latin typeface="Frutiger 45 Light"/>
              </a:rPr>
              <a:t>	</a:t>
            </a:r>
            <a:r>
              <a:rPr b="0" lang="en-GB" sz="2200" spc="-1" strike="noStrike">
                <a:solidFill>
                  <a:srgbClr val="353a90"/>
                </a:solidFill>
                <a:latin typeface="Frutiger 45 Light"/>
              </a:rPr>
              <a:t>Why not make profit from OOM &amp; UML in ITU efforts as well?</a:t>
            </a:r>
            <a:endParaRPr b="0" lang="en-US" sz="2200" spc="-1" strike="noStrike">
              <a:solidFill>
                <a:srgbClr val="353a90"/>
              </a:solidFill>
              <a:latin typeface="Frutiger 45 Light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992920"/>
            <a:ext cx="684360" cy="179280"/>
          </a:xfrm>
          <a:prstGeom prst="rect">
            <a:avLst/>
          </a:prstGeom>
          <a:solidFill>
            <a:srgbClr val="4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715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Intro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OOM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BICC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</a:rPr>
              <a:t>Results</a:t>
            </a:r>
            <a:endParaRPr b="0" lang="en-US" sz="1200" spc="-1" strike="noStrike">
              <a:solidFill>
                <a:srgbClr val="353a9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 Workshop on "Use of Description Technique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1BF3-1BAF-4F42-AEDD-1625D98EA3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1:25:30Z</dcterms:created>
  <dc:creator>Schumacher Raphael</dc:creator>
  <dc:description/>
  <dc:language>en-US</dc:language>
  <cp:lastModifiedBy>Schumacher Raphael</cp:lastModifiedBy>
  <cp:lastPrinted>2002-11-23T07:59:22Z</cp:lastPrinted>
  <dcterms:modified xsi:type="dcterms:W3CDTF">2002-11-23T08:30:51Z</dcterms:modified>
  <cp:revision>362</cp:revision>
  <dc:subject>ITU Workshop "Use Of Description Techniques"</dc:subject>
  <dc:title>Use of Object-Oriented Modelling (OOM) Principles and UML Notation to Define Signalling Requirements</dc:title>
</cp:coreProperties>
</file>