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165E-03E3-43A8-8780-8EFE6691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9A95-F199-41C9-8493-A6B5CC75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8DDE-7A95-4B82-A4BE-2B1C9AA62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0346-1783-4812-A38A-B08ED762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1B4B-0111-47A3-BEE0-A4208C65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AC5B-A5F2-4DF0-8FED-EF8062E4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2253-C135-4336-957B-DED0E340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8F0B-F0CF-43F4-801F-F37AC6C6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050B-C0C3-4906-94BA-F89B95DE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1981-1E21-467C-B5D6-E869D2C3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3D9A-A405-4691-83B4-1762FE9D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0804-30A2-458F-8D78-5B62D77A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740D-ECC9-4DDC-959A-2FB8BC72F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TU-T Workshop 23 November 2002 on</a:t>
            </a:r>
            <a:br>
              <a:rPr sz="2400"/>
            </a:br>
            <a:r>
              <a:rPr b="1" lang="nb-NO" sz="4400" spc="-1" strike="noStrike">
                <a:solidFill>
                  <a:srgbClr val="ff0000"/>
                </a:solidFill>
                <a:latin typeface="Times New Roman"/>
              </a:rPr>
              <a:t>Use of Description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Arve Meising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tudy Group 17 Vice chair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Rea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971800" y="3048120"/>
            <a:ext cx="3319560" cy="2020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181480" y="4724280"/>
            <a:ext cx="3395880" cy="1803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09480" y="1905120"/>
            <a:ext cx="3408480" cy="1636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62960" y="6248520"/>
            <a:ext cx="22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600" spc="-1" strike="noStrike">
                <a:solidFill>
                  <a:srgbClr val="000000"/>
                </a:solidFill>
                <a:latin typeface="Times New Roman"/>
              </a:rPr>
              <a:t>the Wilde Wolves’ Wor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242840" y="190512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600" spc="-1" strike="noStrike">
                <a:solidFill>
                  <a:srgbClr val="000000"/>
                </a:solidFill>
                <a:latin typeface="Times New Roman"/>
              </a:rPr>
              <a:t>I love wol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jectiv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workshop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 needs for improvements to the description techniques for various application domai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esentations of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perienc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us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al ITU description techniques and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d use of description techniques are the basis for determining nee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esentations also provide an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portun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mpare and contrast different approach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Con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orkshop is seeking contributions from the following domain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g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periences on the applicability of individua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scription techniq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ge experiences on th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bined u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description techniq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ences from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arning and introductory u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description techniq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needs for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formal and formal u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description techniq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eds for extending or focus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scope of ITU description techniq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periences from tool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and identification of needs for improvements </a:t>
            </a:r>
            <a:r>
              <a:rPr b="0" lang="en-GB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(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ences from and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eds for suppor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uch as consultancy, teaching, and marketing </a:t>
            </a:r>
            <a:r>
              <a:rPr b="0" lang="en-GB" sz="20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(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s for co-ordination with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-IT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scription techniq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contribut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jec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co-ordination of use of the description techniques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results </a:t>
            </a:r>
            <a:r>
              <a:rPr b="0" lang="nb-NO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y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labe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Unified Language Family (ul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Telecommunication Interoperation Language Environment (t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000000"/>
                </a:solidFill>
                <a:latin typeface="Times New Roman"/>
              </a:rPr>
              <a:t>Dynam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65325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000000"/>
                </a:solidFill>
                <a:latin typeface="Times New Roman"/>
              </a:rPr>
              <a:t>The p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36732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i="1" lang="nb-NO" sz="4400" spc="-1" strike="noStrike">
                <a:solidFill>
                  <a:srgbClr val="000000"/>
                </a:solidFill>
                <a:latin typeface="Times New Roman"/>
              </a:rPr>
              <a:t>covering the 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47920" y="2438280"/>
            <a:ext cx="6367320" cy="33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09:30–09:45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Openin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. Arve Meising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09:45–10:15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Use of object-oriented modeling (OOM) principles and 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UML notation to define Signalling requirements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Raphael Schumach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10:15–10:45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Syntax language for the support of PSTN/ISDN services 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within IP session control protocols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. Keith Mainwa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10:45–11:00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Coffee bre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11:00–11:30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SG 16 activities and the need for formal description 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techniques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. Simao Ferraz de Campos N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11:30–12:00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Use and needs of Decription Techniques in Study Group 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. Knut Johanness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12:00–12:30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Summary of needs for description techniques within 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ITU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. Amardeo Sar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010280" y="914400"/>
            <a:ext cx="121932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Agenda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aftern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14:00–14:30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SDL &amp; Requirements of Signalling Systems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William H. Ske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14:30–15:00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The use of TTCN-3 for Software Testing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Ina Schieferdec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15:00–15:30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Experiences from teaching, learning and introductory 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use of description techniques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. Richard San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15:30–16:00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Coffee bre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16:00–16:30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Using the User Requirements Notation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. Daniel Amy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16:30–17:00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Back to Basic SDL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. Rick R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17:00–17:30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Summary of workshop and action items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Thomas Weige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010280" y="914400"/>
            <a:ext cx="121932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09:19:41Z</dcterms:created>
  <dc:creator>Ansatt i</dc:creator>
  <dc:description/>
  <dc:language>en-US</dc:language>
  <cp:lastModifiedBy>Ansatt i</cp:lastModifiedBy>
  <dcterms:modified xsi:type="dcterms:W3CDTF">2002-11-14T15:55:40Z</dcterms:modified>
  <cp:revision>10</cp:revision>
  <dc:subject/>
  <dc:title>ITU-T Workshop 23 November 2002 on Use of Description Techniques</dc:title>
</cp:coreProperties>
</file>