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4249-6BCC-4C45-ADFE-529C4067A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924C-4D7E-4B99-9735-CFA034D4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DD1A-010F-4E9C-9DB6-11248F559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0C11-4213-43BA-8F42-834E7908D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BA29-ED3A-47AA-A5C0-CC7FEBB5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190C-FBD6-46AF-8864-B0CE671D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D9BC-1E59-4B2C-867F-BFF77D76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F46D-88FC-44E5-BE57-3012ED44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3ECC-2234-4398-8A76-8D7603F3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1FB5-2233-4E7A-9FA7-06F300EC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1D67-61F6-4D10-86C3-C69B8A64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5560-B36F-4D39-90EF-9660B337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C6DE-056D-4897-8161-18DD9453A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TU-T Workshop 23 November 2002 on</a:t>
            </a:r>
            <a:br>
              <a:rPr sz="2400"/>
            </a:br>
            <a:r>
              <a:rPr b="1" lang="nb-NO" sz="4400" spc="-1" strike="noStrike">
                <a:solidFill>
                  <a:srgbClr val="ff0000"/>
                </a:solidFill>
                <a:latin typeface="Times New Roman"/>
              </a:rPr>
              <a:t>Use of Description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Arve Meising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tudy Group 17 Vice chair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Rea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971800" y="3048120"/>
            <a:ext cx="3319560" cy="2020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181480" y="4724280"/>
            <a:ext cx="3395880" cy="1803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09480" y="1905120"/>
            <a:ext cx="3408480" cy="1636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62960" y="6248520"/>
            <a:ext cx="22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600" spc="-1" strike="noStrike">
                <a:solidFill>
                  <a:srgbClr val="000000"/>
                </a:solidFill>
                <a:latin typeface="Times New Roman"/>
              </a:rPr>
              <a:t>the Wilde Wolves’ Wor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242840" y="190512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600" spc="-1" strike="noStrike">
                <a:solidFill>
                  <a:srgbClr val="000000"/>
                </a:solidFill>
                <a:latin typeface="Times New Roman"/>
              </a:rPr>
              <a:t>I love wol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jectiv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workshop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termine needs for improvements to the description techniques for various application domai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esentations of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perienc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us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vidual ITU description techniques and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d use of description techniques are the basis for determining nee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esentations also provide an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portun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mpare and contrast different approach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Con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orkshop is seeking contributions from the following domain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g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periences on the applicability of individua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scription techniq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ge experiences on th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bined u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description techniq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ences from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arning and introductory u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description techniq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needs for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formal and formal u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description techniq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eds for extending or focus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scope of ITU description techniq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periences from tool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and identification of needs for improvements </a:t>
            </a:r>
            <a:r>
              <a:rPr b="0" lang="en-GB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(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ences from and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eds for suppor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uch as consultancy, teaching, and marketing </a:t>
            </a:r>
            <a:r>
              <a:rPr b="0" lang="en-GB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(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s for co-ordination with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-ITU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scription techniq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contribut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je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co-ordination of use of the description techniques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results </a:t>
            </a:r>
            <a:r>
              <a:rPr b="0" lang="nb-NO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y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labe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Unified Language Family (ul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Telecommunication Interoperation Language Environment (t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000000"/>
                </a:solidFill>
                <a:latin typeface="Times New Roman"/>
              </a:rPr>
              <a:t>Dynam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2895480"/>
            <a:ext cx="653256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000000"/>
                </a:solidFill>
                <a:latin typeface="Times New Roman"/>
              </a:rPr>
              <a:t>The p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36732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i="1" lang="nb-NO" sz="4400" spc="-1" strike="noStrike">
                <a:solidFill>
                  <a:srgbClr val="000000"/>
                </a:solidFill>
                <a:latin typeface="Times New Roman"/>
              </a:rPr>
              <a:t>covering the 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47920" y="2438280"/>
            <a:ext cx="6367320" cy="33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09:30–09:45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Openin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. Arve Meising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09:45–10:15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Use of object-oriented modeling (OOM) principles and 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UML notation to define Signalling requirements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Raphael Schumach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10:15–10:45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Syntax language for the support of PSTN/ISDN services 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within IP session control protocols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. Keith Mainwa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10:45–11:00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Coffee bre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11:00–11:30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SG 16 activities and the need for formal description 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techniques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. Simao Ferraz de Campos N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11:30–12:00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Use and needs of Decription Techniques in Study Group 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. Knut Johanness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12:00–12:30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Summary of needs for description techniques within 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ITU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. Amardeo Sar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010280" y="914400"/>
            <a:ext cx="121932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Agenda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aftern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14:00–14:30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SDL &amp; Requirements of Signalling Systems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William H. Ske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14:30–15:00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The use of TTCN-3 for Software Testin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Ina Schieferdec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15:00–15:30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Experiences from teaching, learning and introductory 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use of description techniques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. Richard San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15:30–16:00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Coffee bre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16:00–16:30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Using the User Requirements Notation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. Daniel Amy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16:30–17:00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Back to Basic SDL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. Rick R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17:00–17:30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Summary of workshop and action items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Thomas Weige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010280" y="914400"/>
            <a:ext cx="121932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09:19:41Z</dcterms:created>
  <dc:creator>Ansatt i</dc:creator>
  <dc:description/>
  <dc:language>en-US</dc:language>
  <cp:lastModifiedBy>Ansatt i</cp:lastModifiedBy>
  <dcterms:modified xsi:type="dcterms:W3CDTF">2002-11-14T15:55:40Z</dcterms:modified>
  <cp:revision>10</cp:revision>
  <dc:subject/>
  <dc:title>ITU-T Workshop 23 November 2002 on Use of Description Techniques</dc:title>
</cp:coreProperties>
</file>