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74288" cy="75057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312720" y="531360"/>
            <a:ext cx="360828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F0CFD8-739B-4777-B014-5B31ADC8F2A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sentation gibt Über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oals achieved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7E761E-10D9-46F6-A5F4-69A52AC601C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VCSR results will increase furthermor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am Thresh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ain Absolute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ain Relative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EF0577-92CC-4E8D-B0A9-087BC78426C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397160" y="3357720"/>
            <a:ext cx="7503840" cy="31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fficient Erro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jor Requirement from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Verification for legal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Improve Recognition for Ton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364760" y="335232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 Information In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dec negotiation per S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us der FE Standard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 in Speech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 in Application and protoc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de Range of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at is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ich Requirements were set 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25 % Reduction for Well Matched Training / Te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50 % Reduction for Mismatched Training /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dde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ck End was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oad Te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ognition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qualification Cri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istent Performance over all Test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B4987-B4E7-4C23-B2BE-4B91626EF86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 Extr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calculation of cepstral feat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 Com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ata reduction by using vector quan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ming, Bit-Stream Formatting, Error Prot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Re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put signal de-noi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veform Proces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dditional waveform-based de-no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pstral Calc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calculation of cepstr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ind Equa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n-line cepstral mean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and 16 kHz Ex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rocessing of 11 and 16 kHz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bination with VAD i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B4B77A-A382-413A-A38A-59C6A028732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ature Extra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calculation of noise robust cepstral features from input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ature Compr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compress cepstral features by using vector quan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ing, Bit-Stream Formatting, Error Prot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processing for channe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ise Re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input signal de-noi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 Proces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additional waveform-based de-no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pstral Calc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calculation of cepstral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ind Equal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on-line cepstral mean rem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 and 16 kHz Exten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processing of 11 and 16 kHz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voice activity detection for non-speech frame dro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43200" y="152280"/>
            <a:ext cx="6781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-72396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152280"/>
            <a:ext cx="6781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-72396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038480" y="6858000"/>
            <a:ext cx="1638360" cy="43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9000"/>
          </a:bodyPr>
          <a:p>
            <a:pPr marL="282960" indent="-28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040" indent="-1789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1836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39080" y="693432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15.03.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Seite </a:t>
            </a:r>
            <a:fld id="{FABF2063-F291-4077-B4EC-9F757CA070C6}" type="slidenum">
              <a:rPr b="0" lang="fr-FR" sz="11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08920"/>
            <a:ext cx="198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Bernhard No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20641" t="10207" r="0" b="76285"/>
          <a:stretch/>
        </p:blipFill>
        <p:spPr>
          <a:xfrm>
            <a:off x="2103480" y="822240"/>
            <a:ext cx="8062920" cy="100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TSI  S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6705720"/>
            <a:ext cx="2209680" cy="5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9718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TSI STQ-Aurora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peech Recognition (DS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858000"/>
            <a:ext cx="93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hard Noé                                                                                Bernhard.Noe@alcate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00400" y="304920"/>
            <a:ext cx="3657240" cy="877320"/>
            <a:chOff x="3200400" y="304920"/>
            <a:chExt cx="3657240" cy="877320"/>
          </a:xfrm>
        </p:grpSpPr>
        <p:graphicFrame>
          <p:nvGraphicFramePr>
            <p:cNvPr id="47" name=""/>
            <p:cNvGraphicFramePr/>
            <p:nvPr/>
          </p:nvGraphicFramePr>
          <p:xfrm>
            <a:off x="3200400" y="304920"/>
            <a:ext cx="3494880" cy="87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304920"/>
                      <a:ext cx="3494880" cy="87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3687840" y="812160"/>
              <a:ext cx="31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99"/>
                  </a:solidFill>
                  <a:latin typeface="Arial"/>
                </a:rPr>
                <a:t>Distributed Speech Recog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8680" y="299160"/>
            <a:ext cx="91558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8680" y="1756080"/>
            <a:ext cx="915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472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035160" indent="-231120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225960" indent="-250200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16400" indent="-269244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2057400"/>
          <a:ext cx="8991720" cy="20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991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98320" y="4141800"/>
          <a:ext cx="8990280" cy="200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4141800"/>
                    <a:ext cx="899028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ion and Encoding /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973160"/>
            <a:ext cx="864540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ssion: Split VQ of pairwise grouped Cepstral Features with 6 /8 bit Resolution per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ing, Bit-Stream and Erro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36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C Code generated for a Frame-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itframe format, synchronisation sequence, header field and error protection are as in ETS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201 108 (WI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packet str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VAD bit (Wi008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r Mitigation Scheme based on CRC and first derivative of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66880" y="15876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,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44953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rk item (WI 030) “DSR front-end extension for tonal language recognition and Speech Reconstruction” since Jun 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cognition in Tonal-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-based Speech Reconstruction for Verification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1828800"/>
          <a:ext cx="92156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92156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66880" y="158760"/>
            <a:ext cx="58197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3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Activit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9487080" cy="46483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Rate 10msec, Minimum Set of addition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rate &lt; 1000 bits 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equirements and Test-Set for “Intellig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equirements for “Tonal-Language Recognition evaluatio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BM &amp; Motorola are mainly contrib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66880" y="158760"/>
            <a:ext cx="58197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, Activiti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8000"/>
          </a:bodyPr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and Reuse existing Protocols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DSR Model first but keep it open for further Extensions (Multimodal I/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DSR into 3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Extensions necessary for DSR within 3GPP, IETF ,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ransport and Session Protoco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eta informa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xtensions for Multimod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38280" y="158760"/>
            <a:ext cx="6172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and Se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F, BargeIn and Speech Segments in DTX M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c Negotita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Protocol (work in progres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RTP, definition of RTP payload for D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Protocol (work in progres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use SIP /SDP as it is adopted by 3GP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for Codec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158760"/>
            <a:ext cx="61722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aison to other Standardization bod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8000"/>
          </a:bodyPr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R was launched into 3GPP in July 2001 (Goal: bring DSR into Release 5), now probably Relea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R has achieved state 1 (some questions to be sol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between AMR based SR and DSR based 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n issues: service examples, billin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ubgroup in 3GPP: Speech Enabl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Extensions necessary for DSR within 3GPP, IETF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- T  SG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avoid duplicat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986796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645760" cy="4876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isation of DSR Front-End including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R Front-End Standard (WI007) published in Feb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d Front-End (WI008) selected in Feb 200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al of Standard planned for Mid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R Front-End Extension for Tonal-Language Recognition and Speech Reconstruction (WI 0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Applications an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definition, Client /Ser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ison to other Standardisation bod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ribution to other Standardisa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8645400" cy="2895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7000"/>
          </a:bodyPr>
          <a:p>
            <a:pPr marL="277200" indent="-2772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1875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atel, Comverse, Ericsson, France Telecom, Hewlett Packard, Hutchinson, IBM, Microsoft, Mitsubishi, Motorola, Nokia, Nuance, Qualcomm, Siemens, Speech Works, Texas Instruments, Verbaltek, VoiceSignals, e.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man of Aurora:  David Pearce, Moto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228600"/>
            <a:ext cx="6324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verview,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600200"/>
            <a:ext cx="2006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322600">
            <a:off x="1306080" y="2468160"/>
            <a:ext cx="452520" cy="636840"/>
          </a:xfrm>
          <a:prstGeom prst="triangle">
            <a:avLst>
              <a:gd name="adj" fmla="val 50000"/>
            </a:avLst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2425680"/>
            <a:ext cx="1144440" cy="735120"/>
          </a:xfrm>
          <a:prstGeom prst="rect">
            <a:avLst/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6640" y="2523960"/>
            <a:ext cx="13143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62400" y="2449440"/>
            <a:ext cx="1144440" cy="698400"/>
          </a:xfrm>
          <a:prstGeom prst="rect">
            <a:avLst/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536920"/>
            <a:ext cx="12859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0480" y="2425680"/>
            <a:ext cx="3306960" cy="6984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0480" y="2438280"/>
            <a:ext cx="27417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 Independent (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3649680"/>
            <a:ext cx="1144800" cy="6015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6240" y="3649680"/>
            <a:ext cx="947880" cy="6015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3662280"/>
            <a:ext cx="1144440" cy="60192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61240" y="2425680"/>
            <a:ext cx="1144800" cy="711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17040" y="2463840"/>
            <a:ext cx="11127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1760" y="2768760"/>
            <a:ext cx="19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1120" y="2768760"/>
            <a:ext cx="15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1080" y="2768760"/>
            <a:ext cx="21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6840" y="276876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07440" y="2768760"/>
            <a:ext cx="25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3640" y="2608200"/>
            <a:ext cx="437760" cy="343080"/>
            <a:chOff x="593640" y="2608200"/>
            <a:chExt cx="437760" cy="343080"/>
          </a:xfrm>
        </p:grpSpPr>
        <p:sp>
          <p:nvSpPr>
            <p:cNvPr id="120" name=""/>
            <p:cNvSpPr/>
            <p:nvPr/>
          </p:nvSpPr>
          <p:spPr>
            <a:xfrm>
              <a:off x="593640" y="2608200"/>
              <a:ext cx="437760" cy="34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3640" y="260820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5622840" y="3111480"/>
            <a:ext cx="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80320" y="3111120"/>
            <a:ext cx="0" cy="53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180280" y="3123720"/>
            <a:ext cx="0" cy="55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1160" y="2228760"/>
            <a:ext cx="33120" cy="264816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8640" y="4287960"/>
            <a:ext cx="3443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nt -End / Termi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7320" y="4287960"/>
            <a:ext cx="3084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k -End / 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924320" y="2057400"/>
            <a:ext cx="1258920" cy="355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76920" y="2252520"/>
            <a:ext cx="25200" cy="262440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371600"/>
            <a:ext cx="4635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mission channel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G,  IP, ITU, etc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2960" y="1652760"/>
            <a:ext cx="1949400" cy="62532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860720" y="1616040"/>
            <a:ext cx="1793880" cy="72396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49525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ndependent, Low Delay, Medium Complexi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rate &lt; 4.8 kbit /sec, support 8k,11k and 16k Sampl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Robust, Match WI007 Performance for Clean Spee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(25% / 50% Reduction of WER to WI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286000"/>
            <a:ext cx="28195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200400"/>
            <a:ext cx="2743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008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66880" y="15876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68000"/>
          </a:bodyPr>
          <a:p>
            <a:pPr marL="194040" indent="-1940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ubmission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ormance Results on Small 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bases in Ja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1314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andidates from Nokia, Ericsson, Qualcomm/OGI/ICSI, Motorola and Alcatel/France-Télé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ubmission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ormance Results on Small and Large 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bases in Jan 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1314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andidates from Qualcomm/OGI/ICSI and  Motorola/France-Télécom/Alc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66880" y="22860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48000"/>
          </a:bodyPr>
          <a:p>
            <a:pPr marL="137160" indent="-1371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vocabulary databases (10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 SDC Databases and synthetic TI-Digits Database with artificially add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Based Recognizer, Pre-tuned but then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 vocabulary database (5000 Wor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 Street Journal Database with artificially add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me-based Recognizer with langu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ly 93 Test sets with Different Languages, Noise levels, Microphones, Noise types  and  different Mismatch between Training and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on Criteria: Absolute Recognit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66880" y="228600"/>
            <a:ext cx="5819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1760" y="297144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1000"/>
          </a:bodyPr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est Performance:  Absolute Accuracy 84.82 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ighted sum of all Test-Sets with Files ranging from 0 - 20dB SNR + Clean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erformance in most of the Test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Fea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/Ram /Rom:   ~ 12.55 wMops /3.8 /3.7k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 Latency: 63 m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rate: 4.8 kbit/se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Mot._Labs._Prfrd_Vert_frmt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1546200" cy="949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482760"/>
          </a:xfrm>
          <a:prstGeom prst="rect">
            <a:avLst/>
          </a:prstGeom>
          <a:ln w="0">
            <a:noFill/>
          </a:ln>
        </p:spPr>
      </p:pic>
      <p:pic>
        <p:nvPicPr>
          <p:cNvPr id="146" name="FTR&amp;D2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15145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71440" y="2279520"/>
            <a:ext cx="7758360" cy="186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rminal Front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08920" y="2855880"/>
            <a:ext cx="997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20920" y="3390840"/>
            <a:ext cx="57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18480" y="339084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7040" y="2808360"/>
            <a:ext cx="179388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eature Extr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0520" y="2808360"/>
            <a:ext cx="179388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eature Compre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59680" y="2808360"/>
            <a:ext cx="245880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raming, Bit-Stream,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Error Prot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94400" y="3390840"/>
            <a:ext cx="66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7640" y="3390840"/>
            <a:ext cx="50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38600"/>
            <a:ext cx="909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put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09200" y="63054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11960" bIns="-11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4720" y="4530600"/>
            <a:ext cx="7940520" cy="23781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35160" y="5989680"/>
            <a:ext cx="150480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00320" y="5987880"/>
            <a:ext cx="156708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aveform Process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987880"/>
            <a:ext cx="170640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pstrum Calc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5994360"/>
            <a:ext cx="172260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lind Eq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920" y="5032440"/>
            <a:ext cx="184464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 and 16 kHz Exten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7400" y="6310440"/>
            <a:ext cx="3618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7280" bIns="-10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39960" y="6311880"/>
            <a:ext cx="36036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7280" bIns="-10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67280"/>
            <a:ext cx="1144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put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600" y="6307200"/>
            <a:ext cx="36216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8720" bIns="-10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9120" y="63054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11960" bIns="-11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978760" y="5715000"/>
            <a:ext cx="119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to feat. comp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Processing in the Term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990720" y="396252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962520"/>
            <a:ext cx="6705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Processing in th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2133720"/>
            <a:ext cx="5400720" cy="20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oding, Error Mitigation and Decom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576600"/>
            <a:ext cx="529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124080"/>
            <a:ext cx="2230200" cy="93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t-Stream Decoding,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rror Mitig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18040" y="358128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124080"/>
            <a:ext cx="1828800" cy="928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eatu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ompre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581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590920"/>
            <a:ext cx="1235160" cy="167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1020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from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45:05Z</dcterms:created>
  <dc:creator>ptbutle</dc:creator>
  <dc:description>Überarbeitet: Hintergunrdschwärzung
bereinigt</dc:description>
  <dc:language>en-US</dc:language>
  <cp:lastModifiedBy>Bernhard Noé</cp:lastModifiedBy>
  <cp:lastPrinted>2002-03-14T10:54:50Z</cp:lastPrinted>
  <dcterms:modified xsi:type="dcterms:W3CDTF">2002-03-14T11:10:35Z</dcterms:modified>
  <cp:revision>16</cp:revision>
  <dc:subject/>
  <dc:title>Kein Folientitel</dc:title>
</cp:coreProperties>
</file>