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move the slid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72E-FD4B-45D8-9E6A-DAB36B70D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is in doc 21 and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ze uniqueness of 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ion relation to 13,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78E2F-0830-4648-9590-AFD279827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2AB2-64B4-4282-BFC9-5778EC235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6B35-E15D-4E4E-A67C-435853D49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FFC2-4640-4F61-8988-6E587D8C9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BCC5F-04AF-4452-81E6-B7841D39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85C1B-A5A2-460E-A5B3-A6A3916A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40322-7DA0-405F-9D97-6D093523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62A0C-8011-4D42-81E5-D6BE0D72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DD356-AFB5-4385-A766-B6D0DB30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273E9-AB24-4F8C-AA33-BC6839D9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E097B-B13E-4392-92F7-D2A3B3C7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68CE-B2B8-4256-8E94-D35FC074D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57C5B-A99C-4CAB-9334-C0AE4FD8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76C7E-4333-48D0-B9E4-F8CDACF6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7298B-4384-47C6-B0F0-C2AB7226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F4153-5B51-4E2C-BFD8-169B33FF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8992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19600" y="167616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988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58992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19600" y="3706200"/>
            <a:ext cx="2790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6A230-0B6B-4B3F-80CF-F22B1D7D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9081-62CD-43B0-B007-CD50DA280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0873-BFF5-484C-B85E-66C15D828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CA3F-8317-46FA-85A2-D5C0A574A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1677D-21B7-4735-9597-23F9786AC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DDC3-57F0-4D7B-BDE5-0AC491AEF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99760" y="370620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6F50-834E-400F-83B6-574D51ECA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99760" y="1676160"/>
            <a:ext cx="4228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9880" y="3706200"/>
            <a:ext cx="86648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CB0B2-5ADC-4B6D-A569-FFFB212DC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294920" y="5715000"/>
            <a:ext cx="8029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3600" spc="-1" strike="noStrike">
                <a:solidFill>
                  <a:srgbClr val="ff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&lt;footer&gt;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95720" y="6400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D21B-B769-4F64-94E9-4B4036F093E9}" type="slidenum">
              <a:rPr b="1" lang="de-DE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U_Logo" descr=""/>
          <p:cNvPicPr/>
          <p:nvPr/>
        </p:nvPicPr>
        <p:blipFill>
          <a:blip r:embed="rId2"/>
          <a:stretch/>
        </p:blipFill>
        <p:spPr>
          <a:xfrm>
            <a:off x="533520" y="5638680"/>
            <a:ext cx="1052280" cy="106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1176120" cy="6854760"/>
            <a:chOff x="0" y="0"/>
            <a:chExt cx="1176120" cy="685476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176120" cy="6854760"/>
            </a:xfrm>
            <a:prstGeom prst="rect">
              <a:avLst/>
            </a:prstGeom>
            <a:gradFill rotWithShape="0">
              <a:gsLst>
                <a:gs pos="0">
                  <a:srgbClr val="ff3300"/>
                </a:gs>
                <a:gs pos="5000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82440" y="163440"/>
              <a:ext cx="164520" cy="6550200"/>
              <a:chOff x="82440" y="163440"/>
              <a:chExt cx="164520" cy="6550200"/>
            </a:xfrm>
          </p:grpSpPr>
          <p:sp>
            <p:nvSpPr>
              <p:cNvPr id="46" name=""/>
              <p:cNvSpPr/>
              <p:nvPr/>
            </p:nvSpPr>
            <p:spPr>
              <a:xfrm>
                <a:off x="82440" y="17542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2440" y="19843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440" y="221148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440" y="244152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2440" y="2671920"/>
                <a:ext cx="164520" cy="1504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440" y="28987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2440" y="31291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2440" y="3359160"/>
                <a:ext cx="164520" cy="1490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2440" y="358632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440" y="381636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" y="404640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" y="42721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440" y="45021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40" y="4729320"/>
                <a:ext cx="164520" cy="15372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440" y="49593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440" y="51894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440" y="541656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440" y="56466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440" y="58770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440" y="61038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440" y="63342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2440" y="656280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2440" y="163440"/>
                <a:ext cx="164520" cy="14940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2440" y="390600"/>
                <a:ext cx="164520" cy="1522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2440" y="620640"/>
                <a:ext cx="164520" cy="1526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440" y="8492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440" y="107640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2440" y="1306440"/>
                <a:ext cx="164520" cy="15408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2440" y="1536840"/>
                <a:ext cx="164520" cy="150840"/>
              </a:xfrm>
              <a:prstGeom prst="rect">
                <a:avLst/>
              </a:prstGeom>
              <a:solidFill>
                <a:srgbClr val="ff33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Click to edit the title text format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123840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4"/>
          </p:nvPr>
        </p:nvSpPr>
        <p:spPr>
          <a:xfrm>
            <a:off x="3878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5"/>
          </p:nvPr>
        </p:nvSpPr>
        <p:spPr>
          <a:xfrm>
            <a:off x="759096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3B2C-B5B4-46C9-BE1B-916176CE4613}" type="slidenum">
              <a:rPr b="1" lang="en-US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28600" algn="ctr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99960" algn="ctr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41904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41904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6200" y="-10591920"/>
            <a:ext cx="10009080" cy="174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5486400"/>
            <a:ext cx="8240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IP Cablecom and MEDIACOM 200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295280"/>
            <a:ext cx="7172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ITU_Logo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052640" cy="1067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5235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: market needs and standardisation within the ITU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980720" y="3886200"/>
            <a:ext cx="693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 Klaus – T-Systems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apporteur of Q9/12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rald.Klaus@T-Systems.com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13A7E-BFC5-4D31-B796-13CC46FCFE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ufficient or unknown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nd-to-end speech quality including termina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ctrical-acoustical or acoustical-electr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oustical-acoustical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proprietary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high percentage of packet lo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, Table 2 and 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55E5-45C8-4821-B008-99138FB26A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ethods that cover end-to-end speech quality including the termi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speech quality monitoring tools for packet-oriented netwo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bust speech quality measures for speech quality enhancement effects in the 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strumental models that consider conversational speech quality asp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975E5-A959-48D9-8088-DF5F451D5B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Market needs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alable measurement solutions (for e.g. different classes / profiles of application, price, accuracy, ..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ssessment using  knowledge of network parameters and of the psycho-acou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2718-81A3-4093-9D2B-45BB47214F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ctivities of Question 9/12 until 200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velopment of new Recommendation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d-to-end speech quality including acoustical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n-intrusive meas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 kHz wideb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2440" indent="-357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lker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apporteur‘s Meeting in Berlin (March 2002) to define requirements and tes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del selection and characterization starting in Summer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5680" indent="-304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commendations to be expected in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8EAB-3E5B-41A3-8BA7-E52788DDE7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Standardisation within ITU-T SG12 (2)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ctivities of other Questions of SG12 related to speech quality assess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2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ech Transmission Characteristics and Measurement methods for Terminals and Gateways interfacing Packet-Switched (IP)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6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 methods using complex measurement signal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7: Methods, tools and test plans for the subjective assessment of speech and audio quality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16: In-service non-intrusive assessment of voice transmission performance on non-linear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A0492-7C1F-44D9-86D1-FEE419BE2C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Conclusion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9880" y="1371600"/>
            <a:ext cx="86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day‘s instrumental speech quality measurement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ver a rather limited range of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quire an expert knowledge to prevent ill-u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ve to be handled with caution for new techn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3139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re is a strong demand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ssessment of a wider range of applications (e.g. end-to-end transmission including acoustical interfaces, wideband speech, talker qual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alable and flexible solutions for different business models of network provi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369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revised develompent procedure to create new ITU-T Recommendations with low budget and time-to-mar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4AF4-1597-4B2B-A435-A4CDC31946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66680" y="1044720"/>
            <a:ext cx="777240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700" spc="-1" strike="noStrike">
                <a:solidFill>
                  <a:srgbClr val="0000ff"/>
                </a:solidFill>
                <a:latin typeface="comic"/>
              </a:rPr>
              <a:t>Thank you!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Phone: +49 30 3497-238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ff"/>
                </a:solidFill>
                <a:latin typeface="Tele-GroteskUlt"/>
              </a:rPr>
              <a:t>Harald.Klaus@T-Systems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HKlaus-070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92440" cy="28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C54D0-1509-41DC-AB11-E94E895E8F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Outline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mental speech quality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ification and basic princi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ay’s cover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sation within ITU-T Study Group 12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tivies within Question 9/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499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 within other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4977-2860-4DDC-884E-AABB52D98D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90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duction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rald Kla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udied electrotechnical engineering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Technical University of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assistant for speech recognition applications and speech quality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d of quality assessment of tele-service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-Systems Nova Berkom in Be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ITU-T Study Group 12 for instrumental speech quality assessmen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porteur in ETSI Technical Committee ST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3DB9-BCB3-4E88-8FD6-5FDF0F21EC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130480" y="0"/>
          <a:ext cx="7772400" cy="5829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0"/>
                    <a:ext cx="77724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B0FE-40B1-476C-826B-467478691C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33720" y="0"/>
          <a:ext cx="7769160" cy="5826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0"/>
                    <a:ext cx="776916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Intro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37BC-86F9-4BEB-905C-74065E36D3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listening qualit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ngle-ended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-service non-intrusive measurement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ll clarity ind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odels based on signal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TU-T Rec. P.86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08400" indent="-37692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OSQA, PACE, PAMS, PSQM,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2040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peech quality analysis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CD11-4B99-41C1-91C1-D97261F3B7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Instrumental speech quality measures (2)</a:t>
            </a:r>
            <a:endParaRPr b="0" i="1" lang="en-US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lassification of models (other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lann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-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Other planning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700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nalysis systems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ality of servic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38088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versational quality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5775-7CC5-4099-92BF-E25CC571F6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Principle of comparison method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625932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BEC01-F385-4E52-998D-56ECCE5C25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e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ff3300"/>
                </a:solidFill>
                <a:uFillTx/>
                <a:latin typeface="Arial"/>
              </a:rPr>
              <a:t>Today‘s coverage of models</a:t>
            </a:r>
            <a:endParaRPr b="0" i="1" lang="en-US" sz="40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9880" y="1676160"/>
            <a:ext cx="8664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ufficient (validated!) accuracy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alogue and ISDN connections with INM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formance of known code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oice over IP with small amount of packet loss and jitter (electrical-electrical network access only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ckground no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dec tandem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3640">
              <a:spcBef>
                <a:spcPts val="601"/>
              </a:spcBef>
              <a:buClr>
                <a:srgbClr val="ff3300"/>
              </a:buClr>
              <a:buSzPct val="120000"/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 (cf. ITU-T Rec. P.862 Table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7EB4-FDC5-4E31-A06F-A432AE88C2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7:23:15Z</dcterms:created>
  <dc:creator>Roberto Wilson Meirelles de Castro</dc:creator>
  <dc:description/>
  <dc:language>en-US</dc:language>
  <cp:lastModifiedBy>UGALE, Arvin Carlos D.</cp:lastModifiedBy>
  <cp:lastPrinted>2000-09-20T01:32:11Z</cp:lastPrinted>
  <dcterms:modified xsi:type="dcterms:W3CDTF">2002-03-07T19:21:03Z</dcterms:modified>
  <cp:revision>52</cp:revision>
  <dc:subject/>
  <dc:title>PowerPoint Presentation</dc:title>
</cp:coreProperties>
</file>