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move the slid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923F-9B0B-4562-B5FF-D5E72C5C9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is in doc 21 and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8F11-A51C-41F6-BA8B-9E3D85007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2ED6E-D640-46ED-A628-C82480336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AE61E-4839-46AF-9140-56933EF3E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C8B4-04FC-489E-B627-847E7B57D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8667F-A7CA-44C0-B15C-0D7A8D17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51792-4CCC-4963-9695-F121860F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4B2B2-93C4-4220-8062-8EA37F5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E8B53-D37E-43D3-B3C4-89F3D4E2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B7386-8924-4089-A015-24F29A8A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2A6CE-61FC-4472-99AC-06BC850C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C8F43-4596-4EA3-AF92-82197CE2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E5EB-D1B1-4A31-B387-7C0909BB6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30B46-653D-4C23-8D37-83FC7A23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5FD2C-8644-481D-B984-ECD7C07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CE522-7605-4792-94D3-39B65E14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33CC6-48CE-4D0A-84E6-4A65AB9F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789BF-A1E2-48F3-B96E-C21009C6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2F28-C5AE-454B-8F15-A1D5F4A05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A0DE-1522-4251-8816-F0B818997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D676-93CF-497D-9EAD-56897FE19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C609-D673-4E02-AA8A-5EDD97EE5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0253-F3DA-4B29-B422-1A13FDA37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BED7-5058-4A07-BF4D-894A3DD7E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A942-51B4-4174-91D0-BE457EA5C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294920" y="5715000"/>
            <a:ext cx="802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6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&lt;footer&gt;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95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E1D-F121-4CA4-BC77-936F45B15E59}" type="slidenum">
              <a:rPr b="1" lang="de-DE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U_Logo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105228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6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5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1F21-0AD5-4526-9760-45121352FA19}" type="slidenum">
              <a:rPr b="1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99960" algn="ctr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41904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295280"/>
            <a:ext cx="7172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: market needs and standardisation within the ITU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0720" y="38862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 Klaus – T-System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pporteur of Q9/1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.Klaus@T-Systems.com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44424-5B08-4F66-907A-24D1B6ACC6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ufficient or unknown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d-to-end speech quality including termina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ctrical-acoustical or acoustical-electr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oustical-acoust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proprietary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high percentage of packet 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, Table 2 and 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6A4D-4FF0-477F-B60A-D6B4588AA6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ethods that cover end-to-end speech quality including the ter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speech quality monitoring tools for packet-oriented net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bust speech quality measures for speech quality enhancement effects in the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odels that consider conversational speech quality asp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EC3B-E15A-48EB-BCA5-A68A842D70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alable measurement solutions (for e.g. different classes / profiles of application, price, accuracy, ..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ssessment using  knowledge of network parameters and of the psycho-acou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92A1-66CA-41E5-B4B7-93A48C1400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ities of Question 9/12 until 20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velopment of new Recommendation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d-to-end speech quality including acoustical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n-intrusive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 kHz wideb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lker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pporteur‘s Meeting in Berlin (March 2002) to define requirements and tes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el selection and characterization starting in Summer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ommendations to be expected in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DA2B-783D-4D7F-8116-FFDA686B34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ctivities of other Questions of SG12 related to speech quality assess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2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ech Transmission Characteristics and Measurement methods for Terminals and Gateways interfacing Packet-Switched (IP)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6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 methods using complex measurement signal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7: Methods, tools and test plans for the subjective assessment of speech and audio qualit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16: In-service non-intrusive assessment of voice transmission performance on non-linea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99DD-B3C5-422D-8833-2D305685BF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Conclusion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9880" y="1371600"/>
            <a:ext cx="86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day‘s instrumental speech quality measurement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ver a rather limited range of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quire an expert knowledge to prevent ill-u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ve to be handled with caution for new techn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re is a strong deman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sessment of a wider range of applications (e.g. end-to-end transmission including acoustical interfaces, wideband speech, talker qual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alable and flexible solutions for different business models of network provi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revised develompent procedure to create new ITU-T Recommendations with low budget and time-to-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B056-96E8-47B6-83B0-CB5B7DB920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1044720"/>
            <a:ext cx="777240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700" spc="-1" strike="noStrike">
                <a:solidFill>
                  <a:srgbClr val="0000ff"/>
                </a:solidFill>
                <a:latin typeface="comic"/>
              </a:rPr>
              <a:t>Thank you!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Phone: +49 30 3497-238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Harald.Klaus@T-Systems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HKlaus-070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92440" cy="28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2B1A-09E6-412F-B4B6-5C44F1D475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Outlin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l speech quality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ication and basic princi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’s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sation within ITU-T Study Group 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tivies within Question 9/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 within other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51B8-438A-45ED-9947-F0C8B16B6D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duction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ald Kla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died electrotechnical engineer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Technical University of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assistant for speech recognition applications and speech quality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 of quality assessment of tele-servic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-Systems Nova Berkom in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ITU-T Study Group 12 for instrumental speech quality assess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ETSI Technical Committee ST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A1D8-32BF-4D36-8098-110D4197E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130480" y="0"/>
          <a:ext cx="7772400" cy="5829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0"/>
                    <a:ext cx="77724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F9C9-4B76-4C51-A212-38920E2131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33720" y="0"/>
          <a:ext cx="7769160" cy="582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0"/>
                    <a:ext cx="7769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A311-F995-414F-B592-2D3497829F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listening 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-service non-intrusive measurement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l clarity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dels based on signal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U-T Rec. P.86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SQA, PACE, PAMS, PSQM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689B-26E5-4EB8-8757-4381D60CA3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 (2)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other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ann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-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ther planning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alysis system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ality of servic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versational quality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D787-6156-4A70-B643-8864D136F8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Principle of comparison metho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625932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CF3C-4DED-405B-B5C2-2A0F5950C8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ufficient (validated!)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alogue and ISDN connections with IN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known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small amount of packet loss and jitter (electrical-electrical network access only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 no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dec tandem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 Table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08F6-E236-45BA-B6B4-668131F14E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UGALE, Arvin Carlos D.</cp:lastModifiedBy>
  <cp:lastPrinted>2000-09-20T01:32:11Z</cp:lastPrinted>
  <dcterms:modified xsi:type="dcterms:W3CDTF">2002-03-07T19:21:03Z</dcterms:modified>
  <cp:revision>52</cp:revision>
  <dc:subject/>
  <dc:title>PowerPoint Presentation</dc:title>
</cp:coreProperties>
</file>