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773-0781-476A-A878-F537E3D0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FF4F-214F-4012-988A-8ED51578B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D07D-E9BF-46EE-ADC1-D77044796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25D3-4D65-4DB1-97D9-253B5DCF8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93ED-2D9C-49D2-B954-4B35DB74C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D3EC7-500C-4DD4-B07F-C721B869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A26A5-9E2C-4E42-848A-88A3CE93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6880C-971C-48FA-89BE-660E4BB3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72D99-3179-4E5C-89A1-1AD35800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98B9-E898-45DA-87DC-5E5007C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B7920-856A-44F9-B100-3090CE4A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F740C-A8D3-4A26-B131-A3708CF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CA61-1D58-4EFE-92EE-8364E1B17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E387-8660-49EC-9A3F-225ECA3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27175-0653-42D1-B54F-38C58D0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DCCAD-1786-41FA-937C-1A745AB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95446-BFD9-4069-A3EE-A45B40BC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464B9-CDF0-4421-B2D7-7D4BD552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E320-737B-4E97-A6C3-37D9EC58E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BFCC-E6E7-4FDF-B811-277998D62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7452-F350-433D-980E-A020311C5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7EDF-38AF-4064-8330-3A3DC609C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4963-D903-45DA-BB3A-D8EBEBD5F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2EC1-89E0-4E03-A235-60EE5EB87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6264-3154-45FD-B3B8-674EDC8C9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FB8-18F8-47B5-96E9-68889C6372C7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AD7-358E-4F92-9857-8D744AC9C4A7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190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: market needs and standardisation within the ITU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.Klaus@T-Systems.co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116B3-8917-4CFC-8421-69E5C0160C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ufficient or unknown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d-to-end speech quality including termin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ctrical-acoustical or acoustical-electr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oustical-acoust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proprietary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high percentage of packet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, Table 2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8DFF-4AB5-4D1D-8185-35965725DE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ethods that cover end-to-end speech quality including the 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speech quality monitoring tools for packet-oriented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bust speech quality measures for speech quality enhancement effects in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odels that consider conversational speech quality a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5A44-8C4E-4CE4-AE01-91574725A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alable measurement solutions (for e.g. different classes / profiles of application, price, accuracy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ssessment using  knowledge of network parameters and of the psycho-acou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4904-E033-48D7-80E1-CD5AE73F37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ities of Question 9/12 until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new Recommendatio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-to-end speech quality including acoustical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intrusive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 kHz wide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lker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pporteur‘s Meeting in Berlin (March 2002) to define requirements and tes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 selection and characterization starting in Summer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mmendations to be expected in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861D-A52D-44B2-B031-B00076646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ctivities of other Questions of SG12 related to speech quality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ech Transmission Characteristics and Measurement methods for Terminals and Gateways interfacing Packet-Switched (IP)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6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methods using complex measurement signal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7: Methods, tools and test plans for the subjective assessment of speech and audio qualit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16: In-service non-intrusive assessment of voice transmission performance on non-linea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30FA-A208-4FD6-9583-19A8CEAEA5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86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day‘s instrumental speech quality measurem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ver a rather limited range of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quire an expert knowledge to prevent ill-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ve to be handled with caution for new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re is a strong deman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ssment of a wider range of applications (e.g. end-to-end transmission including acoustical interfaces, wideband speech, talker qua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alable and flexible solutions for different business models of network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revised develompent procedure to create new ITU-T Recommendations with low budget and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D2A3-4546-4C8E-9CB7-0E36C33CA0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044720"/>
            <a:ext cx="777240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700" spc="-1" strike="noStrike">
                <a:solidFill>
                  <a:srgbClr val="0000ff"/>
                </a:solidFill>
                <a:latin typeface="comic"/>
              </a:rPr>
              <a:t>Thank you!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Phone: +49 30 3497-23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Harald.Klaus@T-Systems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HKlaus-070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92440" cy="28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FBC9-7E30-40C7-BBDF-B84ACC090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speech qual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and basic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’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sation within ITU-T Study Group 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tivies within Question 9/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within other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6410-C724-43AF-8680-406A6F0F5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B66E-286A-4970-8856-840811E5E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130480" y="0"/>
          <a:ext cx="7772400" cy="582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1977-671C-4D80-8C3B-450903124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33720" y="0"/>
          <a:ext cx="7769160" cy="582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7769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8EF7-9D4D-4130-AA56-9199A76A43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listening 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-service non-intrusive measurement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l clarit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s based on signal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U-T Rec. P.8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SQA, PACE, PAMS, PSQM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0A22-F764-4C61-A588-CD3645B23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 (2)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oth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n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-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her planning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ysis system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ty of servi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sational quality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CBC8-10AB-4F15-87C0-4FD19D872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rinciple of comparison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25932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38B3-72CF-4C40-B591-68C7883AAD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fficient (validated!)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ogue and ISDN connections with IN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known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small amount of packet loss and jitter (electrical-electrical network access on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dec tandem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 Table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FA65-14C5-4613-B52B-35D8452F28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UGALE, Arvin Carlos D.</cp:lastModifiedBy>
  <cp:lastPrinted>2000-09-20T01:32:11Z</cp:lastPrinted>
  <dcterms:modified xsi:type="dcterms:W3CDTF">2002-03-07T19:21:03Z</dcterms:modified>
  <cp:revision>52</cp:revision>
  <dc:subject/>
  <dc:title>PowerPoint Presentation</dc:title>
</cp:coreProperties>
</file>