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move the slid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F234-A822-4AE6-A51A-8CD37DB48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is in doc 21 and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0970-9793-454E-823B-87E8AE61F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3832D-69FD-4918-973F-1154FDD0D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F8DB-C465-4019-8A5F-6E82C1884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55159-E387-4FC4-A6FA-8B154F067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C8112-63D5-4B43-9870-03265709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6018D-BAA4-4E21-9FD9-13C3B1CF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E028B-6D9A-4FFB-A4B3-AF47F980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AD5A0-C7A7-41C8-9CFD-E5C10352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1A513-0CE1-44BF-89C8-457A06DD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42BEA-B60C-4AF5-82B9-AD5E1C4E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2A0AD-4736-479B-ADEB-426FA398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A4AEC-437B-42F4-AFE3-CCE89D3C6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47B57-E912-4A47-8B3B-D00C0D2C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A6193-8AFA-4981-9C0A-59302383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6CA4C-5F0B-47A0-A8AB-82895CA3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CDFDC-DE74-4F23-89CF-12A49663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ACF56-45EA-4A6D-80E5-30C6E3CA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8F02-1E4C-4218-ACBB-FEF11E3B9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49DD-13BC-4190-8B96-36B42DE8C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4EAD-E27D-4F11-9717-22D90261A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4025-45BF-4565-9B63-8368582AA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93B6B-0300-4AC2-BA1E-70282DEFC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7F99-CA54-4A94-A40A-43A7A8BFB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6CD5-80C4-4D16-BEAD-E7D4382EC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294920" y="5715000"/>
            <a:ext cx="8029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600" spc="-1" strike="noStrike">
                <a:solidFill>
                  <a:srgbClr val="ff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&lt;footer&gt;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09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380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9572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7F9C-B51F-4C44-8E59-09925A183046}" type="slidenum">
              <a:rPr b="1" lang="de-DE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U_Logo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1052280" cy="106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1176120" cy="6854760"/>
            <a:chOff x="0" y="0"/>
            <a:chExt cx="1176120" cy="685476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176120" cy="6854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82440" y="163440"/>
              <a:ext cx="164520" cy="6550200"/>
              <a:chOff x="82440" y="163440"/>
              <a:chExt cx="164520" cy="6550200"/>
            </a:xfrm>
          </p:grpSpPr>
          <p:sp>
            <p:nvSpPr>
              <p:cNvPr id="46" name=""/>
              <p:cNvSpPr/>
              <p:nvPr/>
            </p:nvSpPr>
            <p:spPr>
              <a:xfrm>
                <a:off x="82440" y="17542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2440" y="19843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440" y="22114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440" y="24415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440" y="2671920"/>
                <a:ext cx="164520" cy="1504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440" y="28987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440" y="31291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2440" y="3359160"/>
                <a:ext cx="164520" cy="1490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440" y="35863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2440" y="381636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" y="404640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" y="42721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40" y="45021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40" y="47293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440" y="49593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440" y="51894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40" y="54165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40" y="56466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440" y="58770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440" y="61038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440" y="63342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40" y="65628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440" y="16344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440" y="3906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440" y="620640"/>
                <a:ext cx="164520" cy="1526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440" y="8492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440" y="10764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440" y="130644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440" y="15368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123840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4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5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CA87-1524-42E5-8F56-4E8B80656682}" type="slidenum">
              <a:rPr b="1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99960" algn="ctr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41904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41904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41904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06200" y="-10591920"/>
            <a:ext cx="10009080" cy="174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295280"/>
            <a:ext cx="7172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ITU_Logo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052640" cy="1067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: market needs and standardisation within the ITU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80720" y="3886200"/>
            <a:ext cx="693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ald Klaus – T-Systems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apporteur of Q9/1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ald.Klaus@T-Systems.com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E0722-063D-4901-A70B-71EFC53484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oday‘s coverage of models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ufficient or unknown accurac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d-to-end speech quality including termina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ctrical-acoustical or acoustical-electric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oustical-acoustic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 of proprietary cod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ce over IP with high percentage of packet lo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 (cf. ITU-T Rec. P.862, Table 2 and 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0A99-9867-4FC4-8409-A97062029D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Market nee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trumental methods that cover end-to-end speech quality including the term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gle-ended speech quality monitoring tools for packet-oriented netwo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bust speech quality measures for speech quality enhancement effects in the 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trumental models that consider conversational speech quality asp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BEB8-34F6-46E9-8063-797B3DDE04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Market needs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alable measurement solutions (for e.g. different classes / profiles of application, price, accuracy, ..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ssessment using  knowledge of network parameters and of the psycho-acou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nalysis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6287-9131-4BE1-BD94-66EB4C4993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Standardisation within ITU-T SG12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ctivities of Question 9/12 until 20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velopment of new Recommendation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d-to-end speech quality including acoustical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n-intrusive meas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 kHz wideb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lker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apporteur‘s Meeting in Berlin (March 2002) to define requirements and tes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del selection and characterization starting in Summer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commendations to be expected in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7178-BFEC-438D-B17D-0422FF0522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Standardisation within ITU-T SG12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ctivities of other Questions of SG12 related to speech quality assess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2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ech Transmission Characteristics and Measurement methods for Terminals and Gateways interfacing Packet-Switched (IP)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6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sis methods using complex measurement signal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7: Methods, tools and test plans for the subjective assessment of speech and audio quality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16: In-service non-intrusive assessment of voice transmission performance on non-linear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855E-6D5E-44F9-805E-9B027378BC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Conclusion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9880" y="1371600"/>
            <a:ext cx="86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31240" indent="-313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day‘s instrumental speech quality measurement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ver a rather limited range of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quire an expert knowledge to prevent ill-u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ve to be handled with caution for new techn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313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re is a strong demand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ssessment of a wider range of applications (e.g. end-to-end transmission including acoustical interfaces, wideband speech, talker qual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alable and flexible solutions for different business models of network provi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revised develompent procedure to create new ITU-T Recommendations with low budget and time-to-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D5FD-4218-4F2E-BAA2-4DE7F9445E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1044720"/>
            <a:ext cx="777240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700" spc="-1" strike="noStrike">
                <a:solidFill>
                  <a:srgbClr val="0000ff"/>
                </a:solidFill>
                <a:latin typeface="comic"/>
              </a:rPr>
              <a:t>Thank you!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Tele-GroteskUlt"/>
              </a:rPr>
              <a:t>Phone: +49 30 3497-238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Tele-GroteskUlt"/>
              </a:rPr>
              <a:t>Harald.Klaus@T-Systems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HKlaus-070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92440" cy="281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A39D-6422-4EBC-A0AB-FE440F5AA4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Outlin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al speech quality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ification and basic princi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ay’s co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sation within ITU-T Study Group 1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tivies within Question 9/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 within other 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3B58-9125-4E06-BC20-8BF56B0EC2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duction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rald Kla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udied electrotechnical engineering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Technical University of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 assistant for speech recognition applications and speech quality 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d of quality assessment of tele-service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-Systems Nova Berkom in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ITU-T Study Group 12 for instrumental speech quality assessmen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ETSI Technical Committee ST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B10E-C7A7-4DC6-942B-6E8EF1AEFD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130480" y="0"/>
          <a:ext cx="7772400" cy="5829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0480" y="0"/>
                    <a:ext cx="77724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5331-65FD-4D3C-B0DC-311D0FCE60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33720" y="0"/>
          <a:ext cx="7769160" cy="582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0"/>
                    <a:ext cx="776916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227D-B7B3-4349-8652-720EF76126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</a:t>
            </a:r>
            <a:endParaRPr b="0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lassification of models (listening 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gle-ended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-service non-intrusive measurement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l clarity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odels based on signal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TU-T Rec. P.86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SQA, PACE, PAMS, PSQM,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nalysis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51BF-9C94-409D-803C-E1FF09B311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 (2)</a:t>
            </a:r>
            <a:endParaRPr b="0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lassification of models (other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lann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-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ther planning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alysis system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ality of service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versational quality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17F45-9225-4057-B7C6-1F4A298A01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Principle of comparison metho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6259320" cy="47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E449-147D-4D94-B0D2-25C494A803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oday‘s coverage of model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ufficient (validated!) accurac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alogue and ISDN connections with INM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 of known cod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ce over IP with small amount of packet loss and jitter (electrical-electrical network access only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ckground no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dec tandem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 (cf. ITU-T Rec. P.862 Table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4F691-6CA4-447C-A431-0B857B20794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UGALE, Arvin Carlos D.</cp:lastModifiedBy>
  <cp:lastPrinted>2000-09-20T01:32:11Z</cp:lastPrinted>
  <dcterms:modified xsi:type="dcterms:W3CDTF">2002-03-07T19:21:03Z</dcterms:modified>
  <cp:revision>52</cp:revision>
  <dc:subject/>
  <dc:title>PowerPoint Presentation</dc:title>
</cp:coreProperties>
</file>