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move the slid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92A8-C4B8-4B89-8A49-F78158E17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is in doc 21 and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5C1B-A1FD-44A3-9223-A56812A8F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FB9F-600C-4D5E-8DDA-997CDC452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6382-66A2-46DB-A0BE-397C7CC71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3A44-FEF0-49DF-8944-343ACB18B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55306-3C35-4824-9605-D3AB040E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D1D11-830B-4E94-B997-EEEB2002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FBD1D-5202-48EE-A2EC-DA32B9ED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9ECDC-56A4-4B25-BBA4-4C8C7D70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D3BE7-0C0E-4E5F-B97D-E69CD54B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CF39D-1EB9-418E-8C78-39D4F308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B7C19-564F-46D3-B620-CC3041D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C9F2-157B-4B20-859F-D33BF9389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B5D8E-CB95-49F2-9786-6A062D59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CDB1C-4D3D-454F-924F-0808B565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65B29-C223-43BF-AAE5-AFC12FCA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DCA41-137E-413C-8968-ECC81B24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372B2-3EA4-4704-BB6A-89540E50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A90D-2A33-44EB-8ACE-630BD8A02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E64E-4748-44E3-8ED0-E7C408E1D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25E1-16F6-4CD0-B535-C559F2997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F73E-1BF4-417F-9DB3-78CD49AF2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2F06-087D-40FD-85ED-2494C848B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63AA-C2F9-4AB9-ABFF-BA1F85618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FCDD-9845-49D2-8FBB-56B14FD5B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294920" y="5715000"/>
            <a:ext cx="8029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6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&lt;footer&gt;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9572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F44A-2237-471C-83CE-8DFB5B1BE737}" type="slidenum">
              <a:rPr b="1" lang="de-DE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U_Logo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1052280" cy="106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6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5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6263-FB4B-4D0D-8802-208D27A21945}" type="slidenum">
              <a:rPr b="1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99960" algn="ctr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41904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295280"/>
            <a:ext cx="7172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: market needs and standardisation within the ITU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0720" y="38862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 Klaus – T-System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pporteur of Q9/1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.Klaus@T-Systems.com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F6815-98E1-4F6D-B98A-D6B27B38D4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ufficient or unknown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d-to-end speech quality including termina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ctrical-acoustical or acoustical-electr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oustical-acoust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proprietary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high percentage of packet l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, Table 2 and 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9CCC5-3380-47DE-B231-442D863D1B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ethods that cover end-to-end speech quality including the term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speech quality monitoring tools for packet-oriented netwo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bust speech quality measures for speech quality enhancement effects in the 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odels that consider conversational speech quality asp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A9C7-CEF6-4F98-9B2A-B344DDFF12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alable measurement solutions (for e.g. different classes / profiles of application, price, accuracy, ..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ssessment using  knowledge of network parameters and of the psycho-acou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7508-7389-47B7-9EE6-4B28071346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tivities of Question 9/12 until 20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velopment of new Recommendation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d-to-end speech quality including acoustical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n-intrusive meas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 kHz wideb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lker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pporteur‘s Meeting in Berlin (March 2002) to define requirements and tes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el selection and characterization starting in Summer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ommendations to be expected in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83E8-5CD1-4750-B2F5-C878144463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ctivities of other Questions of SG12 related to speech quality assess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2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ech Transmission Characteristics and Measurement methods for Terminals and Gateways interfacing Packet-Switched (IP)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6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 methods using complex measurement signal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7: Methods, tools and test plans for the subjective assessment of speech and audio quality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16: In-service non-intrusive assessment of voice transmission performance on non-linea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6B09-F60A-4B50-BAEA-7753109F19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Conclusion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9880" y="1371600"/>
            <a:ext cx="86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day‘s instrumental speech quality measurement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ver a rather limited range of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quire an expert knowledge to prevent ill-u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ve to be handled with caution for new techn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re is a strong deman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sessment of a wider range of applications (e.g. end-to-end transmission including acoustical interfaces, wideband speech, talker qual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alable and flexible solutions for different business models of network provi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revised develompent procedure to create new ITU-T Recommendations with low budget and time-to-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4CCB-0036-4177-B3BF-7194F6CF42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1044720"/>
            <a:ext cx="777240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700" spc="-1" strike="noStrike">
                <a:solidFill>
                  <a:srgbClr val="0000ff"/>
                </a:solidFill>
                <a:latin typeface="comic"/>
              </a:rPr>
              <a:t>Thank you!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Phone: +49 30 3497-238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Harald.Klaus@T-Systems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HKlaus-070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92440" cy="28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252C-773D-40DD-963B-FCE52B3B5F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Outlin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l speech quality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ication and basic princi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’s co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sation within ITU-T Study Group 1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tivies within Question 9/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 within other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22C2-6C0D-4680-B288-7500D06445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duction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ald Kla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died electrotechnical engineer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Technical University of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assistant for speech recognition applications and speech quality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d of quality assessment of tele-servic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-Systems Nova Berkom in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ITU-T Study Group 12 for instrumental speech quality assessm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ETSI Technical Committee ST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BAA5-99D3-498A-A38B-0AFBD5BAB7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130480" y="0"/>
          <a:ext cx="7772400" cy="5829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0"/>
                    <a:ext cx="77724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49B9B-0283-4A47-BCA9-5F397947E3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33720" y="0"/>
          <a:ext cx="7769160" cy="582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0"/>
                    <a:ext cx="776916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7D3B-A66E-4883-A4EE-3796E4B04A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listening 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-service non-intrusive measurement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l clarity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dels based on signal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U-T Rec. P.86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SQA, PACE, PAMS, PSQM,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8180-E3E1-40BE-815B-7CF0894225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 (2)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other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ann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-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ther planning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alysis system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ality of servic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versational quality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C5DB-72DE-4468-B84E-FAED61C810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Principle of comparison metho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625932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35B1-086E-4C26-85EF-BB58BB5EFE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ufficient (validated!)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alogue and ISDN connections with INM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known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small amount of packet loss and jitter (electrical-electrical network access only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ground no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dec tandem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 Table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913D-FC44-4649-B8B3-4C15C25B89C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UGALE, Arvin Carlos D.</cp:lastModifiedBy>
  <cp:lastPrinted>2000-09-20T01:32:11Z</cp:lastPrinted>
  <dcterms:modified xsi:type="dcterms:W3CDTF">2002-03-07T19:21:03Z</dcterms:modified>
  <cp:revision>52</cp:revision>
  <dc:subject/>
  <dc:title>PowerPoint Presentation</dc:title>
</cp:coreProperties>
</file>