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move the slide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47A4-01A2-4BA5-882C-5571B9064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is in doc 21 and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48711-40B2-4EEC-9F5B-02274B78F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16292-9957-47D1-88EE-0E913A843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A798A-2313-4A6C-A95C-2156D35BE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960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988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960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9250-28FA-4CD3-A8E5-ACA36F5AF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3D4E8-1EEA-4FFC-A8A2-A51D0682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546C2-6D9A-4B82-B139-E9A2ABAD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464D0-DCDC-48D6-BDAE-20FE8947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E9BAC-57D5-422D-9188-FADD6BB7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0FD5C-3193-4BCF-AE75-0F69408C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1F45C-102C-474C-9A1D-CCA8908E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20B5C-952E-4277-B559-DB39ADD0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84284-6B2B-4377-9D56-7CEF59A93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14D91-184C-4A5C-9DB8-9792FDE2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A11A4-A7CD-4FF7-A054-B4E00A3E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E0074-847F-42D0-8ABD-8002780D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65E5E-9B73-4340-9A5B-C1A35A3F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8992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1960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988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8992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1960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B0156-57D9-4BC8-B440-71B9DB50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3D302-DB88-4178-A4DF-4F72AAEE9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E9CE7-FE8D-4DB1-9C8F-BCA345342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E5364-CEBD-49A7-A748-5B220ED24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B3650-1D8F-4675-8B5E-DEE221C5F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4D4BE-F19B-491E-BD74-F9F2373CD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75CED-26EC-4D9C-B6B6-8B7385683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ACFCA-4614-4FF9-BD28-FF2C829F8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294920" y="5715000"/>
            <a:ext cx="8029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3600" spc="-1" strike="noStrike">
                <a:solidFill>
                  <a:srgbClr val="ff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&lt;footer&gt;</a:t>
            </a: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6094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3808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edit the title text format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95720" y="6400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81F8-798D-4F54-9761-9EF8BA856044}" type="slidenum">
              <a:rPr b="1" lang="de-DE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U_Logo" descr=""/>
          <p:cNvPicPr/>
          <p:nvPr/>
        </p:nvPicPr>
        <p:blipFill>
          <a:blip r:embed="rId2"/>
          <a:stretch/>
        </p:blipFill>
        <p:spPr>
          <a:xfrm>
            <a:off x="533520" y="5638680"/>
            <a:ext cx="1052280" cy="106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1176120" cy="6854760"/>
            <a:chOff x="0" y="0"/>
            <a:chExt cx="1176120" cy="685476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176120" cy="68547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82440" y="163440"/>
              <a:ext cx="164520" cy="6550200"/>
              <a:chOff x="82440" y="163440"/>
              <a:chExt cx="164520" cy="6550200"/>
            </a:xfrm>
          </p:grpSpPr>
          <p:sp>
            <p:nvSpPr>
              <p:cNvPr id="46" name=""/>
              <p:cNvSpPr/>
              <p:nvPr/>
            </p:nvSpPr>
            <p:spPr>
              <a:xfrm>
                <a:off x="82440" y="17542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2440" y="19843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440" y="22114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440" y="24415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2440" y="2671920"/>
                <a:ext cx="164520" cy="1504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440" y="28987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2440" y="31291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2440" y="3359160"/>
                <a:ext cx="164520" cy="1490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2440" y="35863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2440" y="381636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" y="404640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" y="42721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2440" y="45021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2440" y="47293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440" y="49593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440" y="51894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40" y="54165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40" y="56466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440" y="58770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440" y="61038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440" y="63342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40" y="65628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440" y="16344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440" y="3906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440" y="620640"/>
                <a:ext cx="164520" cy="1526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440" y="8492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440" y="10764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440" y="130644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440" y="15368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edit the title text format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3"/>
          </p:nvPr>
        </p:nvSpPr>
        <p:spPr>
          <a:xfrm>
            <a:off x="123840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4"/>
          </p:nvPr>
        </p:nvSpPr>
        <p:spPr>
          <a:xfrm>
            <a:off x="3878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5"/>
          </p:nvPr>
        </p:nvSpPr>
        <p:spPr>
          <a:xfrm>
            <a:off x="759096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4FB7-EF1D-4877-A5D8-A8DDB3720690}" type="slidenum">
              <a:rPr b="1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399960" algn="ctr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41904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41904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41904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06200" y="-10591920"/>
            <a:ext cx="10009080" cy="174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54864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295280"/>
            <a:ext cx="7172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ITU_Logo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1052640" cy="1067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strumental speech quality measures: market needs and standardisation within the ITU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980720" y="3886200"/>
            <a:ext cx="693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rald Klaus – T-Systems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apporteur of Q9/12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rald.Klaus@T-Systems.com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A65A7-591C-4D46-ADDA-47C838D490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Today‘s coverage of models (2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sufficient or unknown accuracy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d-to-end speech quality including termina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ctrical-acoustical or acoustical-electrical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oustical-acoustical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formance of proprietary code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ice over IP with high percentage of packet lo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 (cf. ITU-T Rec. P.862, Table 2 and 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E4125-43A0-4D4D-A7DB-56A6151A26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Market need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strumental methods that cover end-to-end speech quality including the termi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ingle-ended speech quality monitoring tools for packet-oriented networ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bust speech quality measures for speech quality enhancement effects in the net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strumental models that consider conversational speech quality asp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2A9F-DDB8-4CD5-9BD2-27D4586BF6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Market needs (2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calable measurement solutions (for e.g. different classes / profiles of application, price, accuracy, ..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peech quality assessment using  knowledge of network parameters and of the psycho-acou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peech quality analysis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21C7-5C2F-403F-A851-A44949D001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Standardisation within ITU-T SG12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ctivities of Question 9/12 until 200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velopment of new Recommendations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d-to-end speech quality including acoustical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n-intrusive measu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 kHz wideb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lker q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apporteur‘s Meeting in Berlin (March 2002) to define requirements and test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del selection and characterization starting in Summer 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commendations to be expected in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949C-B33F-4B94-9B7A-02B260C2E5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Standardisation within ITU-T SG12 (2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ctivities of other Questions of SG12 related to speech quality assess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2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eech Transmission Characteristics and Measurement methods for Terminals and Gateways interfacing Packet-Switched (IP)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6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sis methods using complex measurement signal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7: Methods, tools and test plans for the subjective assessment of speech and audio quality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16: In-service non-intrusive assessment of voice transmission performance on non-linear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AA1A5-6938-4465-B58E-8565E70637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Conclusion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9880" y="1371600"/>
            <a:ext cx="86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31240" indent="-313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day‘s instrumental speech quality measurement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ver a rather limited range of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quire an expert knowledge to prevent ill-us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ve to be handled with caution for new technolog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313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re is a strong demand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ssessment of a wider range of applications (e.g. end-to-end transmission including acoustical interfaces, wideband speech, talker qualit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alable and flexible solutions for different business models of network provi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revised develompent procedure to create new ITU-T Recommendations with low budget and time-to-mar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327E2-B04A-4277-BC30-336939427F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66680" y="1044720"/>
            <a:ext cx="777240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700" spc="-1" strike="noStrike">
                <a:solidFill>
                  <a:srgbClr val="0000ff"/>
                </a:solidFill>
                <a:latin typeface="comic"/>
              </a:rPr>
              <a:t>Thank you!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Tele-GroteskUlt"/>
              </a:rPr>
              <a:t>Phone: +49 30 3497-238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Tele-GroteskUlt"/>
              </a:rPr>
              <a:t>Harald.Klaus@T-Systems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HKlaus-070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92440" cy="281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849DA-9055-4A08-9B59-35914B0F0D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Outline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mental speech quality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ification and basic princi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day’s cove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sation within ITU-T Study Group 1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tivies within Question 9/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 within other 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76E5B-057A-430E-81A9-3E63A947BA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troduction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arald Kla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udied electrotechnical engineering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Technical University of Be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arch assistant for speech recognition applications and speech quality assess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d of quality assessment of tele-service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-Systems Nova Berkom in Be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pporteur in ITU-T Study Group 12 for instrumental speech quality assessment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pporteur in ETSI Technical Committee ST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4524A-DED5-4EA8-989B-1A309FC0D2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130480" y="0"/>
          <a:ext cx="7772400" cy="5829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0480" y="0"/>
                    <a:ext cx="777240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tro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446D4-15D9-404A-81F9-E8F5B1ECDB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33720" y="0"/>
          <a:ext cx="7769160" cy="5826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0"/>
                    <a:ext cx="776916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tro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6A2CA-DA5D-4C35-B11F-DB905635A06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Instrumental speech quality measures</a:t>
            </a:r>
            <a:endParaRPr b="0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lassification of models (listening 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2040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ingle-ended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-service non-intrusive measurement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ll clarity 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2040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odels based on signal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TU-T Rec. P.86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SQA, PACE, PAMS, PSQM,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2040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peech quality analysis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344F-EA69-4B37-BF3E-E4E6D07911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Instrumental speech quality measures (2)</a:t>
            </a:r>
            <a:endParaRPr b="0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lassification of models (other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lanning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-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ther planning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alysis systems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ality of service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versational quality asp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22110-06F2-4F10-936B-2EF6C3E720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Principle of comparison method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6259320" cy="470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59C1-482F-4C65-B645-EF8D07A4B2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Today‘s coverage of model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ufficient (validated!) accuracy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alogue and ISDN connections with INM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formance of known code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ice over IP with small amount of packet loss and jitter (electrical-electrical network access only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ackground no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dec tandem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 (cf. ITU-T Rec. P.862 Table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0A9A7-6377-4BC8-873F-8356EEA2404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7:23:15Z</dcterms:created>
  <dc:creator>Roberto Wilson Meirelles de Castro</dc:creator>
  <dc:description/>
  <dc:language>en-US</dc:language>
  <cp:lastModifiedBy>UGALE, Arvin Carlos D.</cp:lastModifiedBy>
  <cp:lastPrinted>2000-09-20T01:32:11Z</cp:lastPrinted>
  <dcterms:modified xsi:type="dcterms:W3CDTF">2002-03-07T19:21:03Z</dcterms:modified>
  <cp:revision>52</cp:revision>
  <dc:subject/>
  <dc:title>PowerPoint Presentation</dc:title>
</cp:coreProperties>
</file>