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4.wmf" ContentType="image/x-wmf"/>
  <Override PartName="/ppt/media/image3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28.wmf" ContentType="image/x-wmf"/>
  <Override PartName="/ppt/media/image17.png" ContentType="image/png"/>
  <Override PartName="/ppt/media/image27.png" ContentType="image/png"/>
  <Override PartName="/ppt/media/image26.jpeg" ContentType="image/jpeg"/>
  <Override PartName="/ppt/media/image23.png" ContentType="image/pn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7773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410360"/>
            <a:ext cx="7773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3793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9200" y="1902960"/>
            <a:ext cx="3793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410360"/>
            <a:ext cx="3793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9200" y="4410360"/>
            <a:ext cx="3793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2503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4520" y="1902960"/>
            <a:ext cx="2503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2880" y="1902960"/>
            <a:ext cx="2503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410360"/>
            <a:ext cx="2503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4520" y="4410360"/>
            <a:ext cx="2503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2880" y="4410360"/>
            <a:ext cx="2503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2960"/>
            <a:ext cx="7773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7773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3793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902960"/>
            <a:ext cx="3793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563868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3793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02960"/>
            <a:ext cx="3793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410360"/>
            <a:ext cx="3793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2960"/>
            <a:ext cx="7773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3793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200" y="1902960"/>
            <a:ext cx="3793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200" y="4410360"/>
            <a:ext cx="3793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3793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200" y="1902960"/>
            <a:ext cx="3793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410360"/>
            <a:ext cx="7773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7773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410360"/>
            <a:ext cx="7773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3793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200" y="1902960"/>
            <a:ext cx="3793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410360"/>
            <a:ext cx="3793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200" y="4410360"/>
            <a:ext cx="3793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2503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4520" y="1902960"/>
            <a:ext cx="2503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2880" y="1902960"/>
            <a:ext cx="2503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410360"/>
            <a:ext cx="2503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4520" y="4410360"/>
            <a:ext cx="2503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2880" y="4410360"/>
            <a:ext cx="2503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7773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3793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902960"/>
            <a:ext cx="3793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563868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3793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200" y="1902960"/>
            <a:ext cx="3793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410360"/>
            <a:ext cx="3793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3793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200" y="1902960"/>
            <a:ext cx="3793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9200" y="4410360"/>
            <a:ext cx="3793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3793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02960"/>
            <a:ext cx="3793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410360"/>
            <a:ext cx="7773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440" y="50760"/>
            <a:ext cx="9145440" cy="2125800"/>
          </a:xfrm>
          <a:custGeom>
            <a:avLst/>
            <a:gdLst/>
            <a:ahLst/>
            <a:rect l="l" t="t" r="r" b="b"/>
            <a:pathLst>
              <a:path w="6239" h="1339">
                <a:moveTo>
                  <a:pt x="2" y="1339"/>
                </a:moveTo>
                <a:lnTo>
                  <a:pt x="0" y="0"/>
                </a:lnTo>
                <a:lnTo>
                  <a:pt x="6239" y="2"/>
                </a:lnTo>
                <a:lnTo>
                  <a:pt x="6238" y="190"/>
                </a:lnTo>
                <a:lnTo>
                  <a:pt x="6196" y="190"/>
                </a:lnTo>
                <a:lnTo>
                  <a:pt x="6060" y="194"/>
                </a:lnTo>
                <a:cubicBezTo>
                  <a:pt x="5973" y="197"/>
                  <a:pt x="5935" y="192"/>
                  <a:pt x="5676" y="210"/>
                </a:cubicBezTo>
                <a:cubicBezTo>
                  <a:pt x="5417" y="228"/>
                  <a:pt x="4953" y="251"/>
                  <a:pt x="4506" y="302"/>
                </a:cubicBezTo>
                <a:cubicBezTo>
                  <a:pt x="4058" y="352"/>
                  <a:pt x="3546" y="413"/>
                  <a:pt x="2990" y="516"/>
                </a:cubicBezTo>
                <a:cubicBezTo>
                  <a:pt x="2433" y="618"/>
                  <a:pt x="1666" y="777"/>
                  <a:pt x="1169" y="915"/>
                </a:cubicBezTo>
                <a:cubicBezTo>
                  <a:pt x="671" y="1052"/>
                  <a:pt x="245" y="1250"/>
                  <a:pt x="2" y="1339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54360" y="0"/>
            <a:ext cx="20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ilips/CE/DN/PdB - </a:t>
            </a:r>
            <a:fld id="{72ED72EF-472B-4A83-AC26-B50BCB2F1981}" type="datetime">
              <a:rPr b="0" lang="en-US" sz="800" spc="-1" strike="noStrike">
                <a:solidFill>
                  <a:srgbClr val="ffffff"/>
                </a:solidFill>
                <a:latin typeface="Arial"/>
              </a:rPr>
              <a:t>07/31/26</a:t>
            </a:fld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A5AAF968-5522-4678-9779-FC7113FB9F0E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902960"/>
            <a:ext cx="7773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00240" indent="-285840">
              <a:lnSpc>
                <a:spcPct val="105000"/>
              </a:lnSpc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542960" indent="-228600">
              <a:lnSpc>
                <a:spcPct val="105000"/>
              </a:lnSpc>
              <a:buClr>
                <a:srgbClr val="0000ff"/>
              </a:buClr>
              <a:buSzPct val="75000"/>
              <a:buFont typeface="Wingdings 2" charset="2"/>
              <a:buChar char="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886040" indent="-228600">
              <a:lnSpc>
                <a:spcPct val="105000"/>
              </a:lnSpc>
              <a:buClr>
                <a:srgbClr val="009900"/>
              </a:buClr>
              <a:buSzPct val="75000"/>
              <a:buFont typeface="Wingdings 3" charset="2"/>
              <a:buChar char="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1886040" indent="-228600">
              <a:lnSpc>
                <a:spcPct val="105000"/>
              </a:lnSpc>
              <a:buClr>
                <a:srgbClr val="000000"/>
              </a:buClr>
              <a:buSzPct val="75000"/>
              <a:buFont typeface="Wingdings 3" charset="2"/>
              <a:buChar char="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1886040" indent="-228600">
              <a:lnSpc>
                <a:spcPct val="105000"/>
              </a:lnSpc>
              <a:buClr>
                <a:srgbClr val="000000"/>
              </a:buClr>
              <a:buSzPct val="75000"/>
              <a:buFont typeface="Wingdings 3" charset="2"/>
              <a:buChar char="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"/>
          <p:cNvSpPr/>
          <p:nvPr/>
        </p:nvSpPr>
        <p:spPr>
          <a:xfrm>
            <a:off x="7101000" y="0"/>
            <a:ext cx="20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ilips Digit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5440" cy="2125800"/>
          </a:xfrm>
          <a:custGeom>
            <a:avLst/>
            <a:gdLst/>
            <a:ahLst/>
            <a:rect l="l" t="t" r="r" b="b"/>
            <a:pathLst>
              <a:path w="6239" h="1339">
                <a:moveTo>
                  <a:pt x="2" y="1339"/>
                </a:moveTo>
                <a:lnTo>
                  <a:pt x="0" y="0"/>
                </a:lnTo>
                <a:lnTo>
                  <a:pt x="6239" y="2"/>
                </a:lnTo>
                <a:lnTo>
                  <a:pt x="6238" y="190"/>
                </a:lnTo>
                <a:lnTo>
                  <a:pt x="6196" y="190"/>
                </a:lnTo>
                <a:lnTo>
                  <a:pt x="6060" y="194"/>
                </a:lnTo>
                <a:cubicBezTo>
                  <a:pt x="5973" y="197"/>
                  <a:pt x="5935" y="192"/>
                  <a:pt x="5676" y="210"/>
                </a:cubicBezTo>
                <a:cubicBezTo>
                  <a:pt x="5417" y="228"/>
                  <a:pt x="4953" y="251"/>
                  <a:pt x="4506" y="302"/>
                </a:cubicBezTo>
                <a:cubicBezTo>
                  <a:pt x="4058" y="352"/>
                  <a:pt x="3546" y="413"/>
                  <a:pt x="2990" y="516"/>
                </a:cubicBezTo>
                <a:cubicBezTo>
                  <a:pt x="2433" y="618"/>
                  <a:pt x="1666" y="777"/>
                  <a:pt x="1169" y="915"/>
                </a:cubicBezTo>
                <a:cubicBezTo>
                  <a:pt x="671" y="1052"/>
                  <a:pt x="245" y="1250"/>
                  <a:pt x="2" y="1339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"/>
          <p:cNvSpPr/>
          <p:nvPr/>
        </p:nvSpPr>
        <p:spPr>
          <a:xfrm>
            <a:off x="7628400" y="-108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25560" y="65152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4432-0E4C-40E8-9899-16DA2E947C05}" type="slidenum">
              <a:rPr b="1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82760" y="6515280"/>
            <a:ext cx="149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Philips Sof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hilips%20logo" descr=""/>
          <p:cNvPicPr/>
          <p:nvPr/>
        </p:nvPicPr>
        <p:blipFill>
          <a:blip r:embed="rId2"/>
          <a:stretch/>
        </p:blipFill>
        <p:spPr>
          <a:xfrm>
            <a:off x="6769080" y="6242040"/>
            <a:ext cx="205740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7360" y="2895480"/>
            <a:ext cx="63230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Gill Sans MT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240"/>
            <a:ext cx="9144000" cy="3149640"/>
          </a:xfrm>
          <a:custGeom>
            <a:avLst/>
            <a:gdLst/>
            <a:ahLst/>
            <a:rect l="l" t="t" r="r" b="b"/>
            <a:pathLst>
              <a:path w="6240" h="1984">
                <a:moveTo>
                  <a:pt x="0" y="1984"/>
                </a:moveTo>
                <a:lnTo>
                  <a:pt x="2" y="0"/>
                </a:lnTo>
                <a:lnTo>
                  <a:pt x="6238" y="0"/>
                </a:lnTo>
                <a:lnTo>
                  <a:pt x="6240" y="320"/>
                </a:lnTo>
                <a:lnTo>
                  <a:pt x="6136" y="326"/>
                </a:lnTo>
                <a:cubicBezTo>
                  <a:pt x="5918" y="345"/>
                  <a:pt x="5298" y="396"/>
                  <a:pt x="4936" y="440"/>
                </a:cubicBezTo>
                <a:cubicBezTo>
                  <a:pt x="4573" y="484"/>
                  <a:pt x="4285" y="533"/>
                  <a:pt x="3962" y="590"/>
                </a:cubicBezTo>
                <a:cubicBezTo>
                  <a:pt x="3638" y="646"/>
                  <a:pt x="3376" y="691"/>
                  <a:pt x="2995" y="780"/>
                </a:cubicBezTo>
                <a:cubicBezTo>
                  <a:pt x="2613" y="868"/>
                  <a:pt x="2045" y="1007"/>
                  <a:pt x="1672" y="1122"/>
                </a:cubicBezTo>
                <a:cubicBezTo>
                  <a:pt x="1298" y="1236"/>
                  <a:pt x="997" y="1359"/>
                  <a:pt x="752" y="1470"/>
                </a:cubicBezTo>
                <a:cubicBezTo>
                  <a:pt x="506" y="1580"/>
                  <a:pt x="325" y="1700"/>
                  <a:pt x="200" y="1786"/>
                </a:cubicBezTo>
                <a:cubicBezTo>
                  <a:pt x="74" y="1871"/>
                  <a:pt x="41" y="1942"/>
                  <a:pt x="0" y="1984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5440" cy="2125800"/>
          </a:xfrm>
          <a:custGeom>
            <a:avLst/>
            <a:gdLst/>
            <a:ahLst/>
            <a:rect l="l" t="t" r="r" b="b"/>
            <a:pathLst>
              <a:path w="6239" h="1339">
                <a:moveTo>
                  <a:pt x="2" y="1339"/>
                </a:moveTo>
                <a:lnTo>
                  <a:pt x="0" y="0"/>
                </a:lnTo>
                <a:lnTo>
                  <a:pt x="6239" y="2"/>
                </a:lnTo>
                <a:lnTo>
                  <a:pt x="6238" y="190"/>
                </a:lnTo>
                <a:lnTo>
                  <a:pt x="6196" y="190"/>
                </a:lnTo>
                <a:lnTo>
                  <a:pt x="6060" y="194"/>
                </a:lnTo>
                <a:cubicBezTo>
                  <a:pt x="5973" y="197"/>
                  <a:pt x="5935" y="192"/>
                  <a:pt x="5676" y="210"/>
                </a:cubicBezTo>
                <a:cubicBezTo>
                  <a:pt x="5417" y="228"/>
                  <a:pt x="4953" y="251"/>
                  <a:pt x="4506" y="302"/>
                </a:cubicBezTo>
                <a:cubicBezTo>
                  <a:pt x="4058" y="352"/>
                  <a:pt x="3546" y="413"/>
                  <a:pt x="2990" y="516"/>
                </a:cubicBezTo>
                <a:cubicBezTo>
                  <a:pt x="2433" y="618"/>
                  <a:pt x="1666" y="777"/>
                  <a:pt x="1169" y="915"/>
                </a:cubicBezTo>
                <a:cubicBezTo>
                  <a:pt x="671" y="1052"/>
                  <a:pt x="245" y="1250"/>
                  <a:pt x="2" y="1339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417920"/>
            <a:ext cx="2063880" cy="2438640"/>
          </a:xfrm>
          <a:custGeom>
            <a:avLst/>
            <a:gdLst/>
            <a:ahLst/>
            <a:rect l="l" t="t" r="r" b="b"/>
            <a:pathLst>
              <a:path w="1300" h="1536">
                <a:moveTo>
                  <a:pt x="1300" y="1536"/>
                </a:moveTo>
                <a:lnTo>
                  <a:pt x="0" y="1536"/>
                </a:lnTo>
                <a:lnTo>
                  <a:pt x="0" y="0"/>
                </a:lnTo>
                <a:lnTo>
                  <a:pt x="4" y="28"/>
                </a:lnTo>
                <a:cubicBezTo>
                  <a:pt x="64" y="125"/>
                  <a:pt x="147" y="332"/>
                  <a:pt x="363" y="584"/>
                </a:cubicBezTo>
                <a:cubicBezTo>
                  <a:pt x="578" y="835"/>
                  <a:pt x="1104" y="1337"/>
                  <a:pt x="1300" y="1536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4%20Black%20bar-orange" descr=""/>
          <p:cNvPicPr/>
          <p:nvPr/>
        </p:nvPicPr>
        <p:blipFill>
          <a:blip r:embed="rId2"/>
          <a:stretch/>
        </p:blipFill>
        <p:spPr>
          <a:xfrm>
            <a:off x="0" y="5330880"/>
            <a:ext cx="9144000" cy="1527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62520" y="20574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Philips Sof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8400" y="-108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mhp_original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904760" cy="866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114480" indent="0" algn="ctr">
              <a:lnSpc>
                <a:spcPct val="105000"/>
              </a:lnSpc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236520" algn="ctr">
              <a:lnSpc>
                <a:spcPct val="105000"/>
              </a:lnSpc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360360" algn="ctr">
              <a:lnSpc>
                <a:spcPct val="105000"/>
              </a:lnSpc>
              <a:buClr>
                <a:srgbClr val="0000ff"/>
              </a:buClr>
              <a:buSzPct val="75000"/>
              <a:buFont typeface="Wingdings 2" charset="2"/>
              <a:buChar char=""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4" marL="474840" algn="ctr">
              <a:lnSpc>
                <a:spcPct val="105000"/>
              </a:lnSpc>
              <a:buClr>
                <a:srgbClr val="009900"/>
              </a:buClr>
              <a:buSzPct val="75000"/>
              <a:buFont typeface="Wingdings 3" charset="2"/>
              <a:buChar char=""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5" marL="474840">
              <a:spcBef>
                <a:spcPts val="300"/>
              </a:spcBef>
              <a:buClr>
                <a:srgbClr val="000000"/>
              </a:buClr>
              <a:buSzPct val="75000"/>
              <a:buFont typeface="Wingdings 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6" marL="474840">
              <a:spcBef>
                <a:spcPts val="300"/>
              </a:spcBef>
              <a:buClr>
                <a:srgbClr val="000000"/>
              </a:buClr>
              <a:buSzPct val="75000"/>
              <a:buFont typeface="Wingdings 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image" Target="../media/image6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paul.bristow@philips.com" TargetMode="External"/><Relationship Id="rId2" Type="http://schemas.openxmlformats.org/officeDocument/2006/relationships/hyperlink" Target="http://www.mhp.philips.com/" TargetMode="External"/><Relationship Id="rId3" Type="http://schemas.openxmlformats.org/officeDocument/2006/relationships/hyperlink" Target="http://www.mpeg-4.philips.com/" TargetMode="External"/><Relationship Id="rId4" Type="http://schemas.openxmlformats.org/officeDocument/2006/relationships/hyperlink" Target="http://www.dvb.org/" TargetMode="External"/><Relationship Id="rId5" Type="http://schemas.openxmlformats.org/officeDocument/2006/relationships/hyperlink" Target="http://www.mhp.org/" TargetMode="External"/><Relationship Id="rId6" Type="http://schemas.openxmlformats.org/officeDocument/2006/relationships/hyperlink" Target="http://www.cselt.it/mpeg" TargetMode="External"/><Relationship Id="rId7" Type="http://schemas.openxmlformats.org/officeDocument/2006/relationships/hyperlink" Target="http://www.cselt.it/mpeg" TargetMode="External"/><Relationship Id="rId8" Type="http://schemas.openxmlformats.org/officeDocument/2006/relationships/hyperlink" Target="http://www.cselt.it/mpeg" TargetMode="External"/><Relationship Id="rId9" Type="http://schemas.openxmlformats.org/officeDocument/2006/relationships/hyperlink" Target="http://www.m4if.org/" TargetMode="External"/><Relationship Id="rId10" Type="http://schemas.openxmlformats.org/officeDocument/2006/relationships/hyperlink" Target="http://www.isma.tv/" TargetMode="External"/><Relationship Id="rId11" Type="http://schemas.openxmlformats.org/officeDocument/2006/relationships/hyperlink" Target="http://www.isma.tv/" TargetMode="External"/><Relationship Id="rId12" Type="http://schemas.openxmlformats.org/officeDocument/2006/relationships/hyperlink" Target="http://www.isma.tv/" TargetMode="External"/><Relationship Id="rId13" Type="http://schemas.openxmlformats.org/officeDocument/2006/relationships/hyperlink" Target="http://www.isma.tv/" TargetMode="External"/><Relationship Id="rId14" Type="http://schemas.openxmlformats.org/officeDocument/2006/relationships/hyperlink" Target="http://www.3gpp.org/" TargetMode="External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" y="4435560"/>
            <a:ext cx="2063520" cy="2438280"/>
          </a:xfrm>
          <a:custGeom>
            <a:avLst/>
            <a:gdLst/>
            <a:ahLst/>
            <a:rect l="l" t="t" r="r" b="b"/>
            <a:pathLst>
              <a:path w="1300" h="1536">
                <a:moveTo>
                  <a:pt x="1300" y="1536"/>
                </a:moveTo>
                <a:lnTo>
                  <a:pt x="0" y="1536"/>
                </a:lnTo>
                <a:lnTo>
                  <a:pt x="0" y="0"/>
                </a:lnTo>
                <a:lnTo>
                  <a:pt x="4" y="28"/>
                </a:lnTo>
                <a:cubicBezTo>
                  <a:pt x="64" y="125"/>
                  <a:pt x="147" y="332"/>
                  <a:pt x="363" y="584"/>
                </a:cubicBezTo>
                <a:cubicBezTo>
                  <a:pt x="578" y="835"/>
                  <a:pt x="1104" y="1337"/>
                  <a:pt x="1300" y="1536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40" y="3240"/>
            <a:ext cx="9140760" cy="3149640"/>
          </a:xfrm>
          <a:custGeom>
            <a:avLst/>
            <a:gdLst/>
            <a:ahLst/>
            <a:rect l="l" t="t" r="r" b="b"/>
            <a:pathLst>
              <a:path w="6240" h="1984">
                <a:moveTo>
                  <a:pt x="0" y="1984"/>
                </a:moveTo>
                <a:lnTo>
                  <a:pt x="2" y="0"/>
                </a:lnTo>
                <a:lnTo>
                  <a:pt x="6238" y="0"/>
                </a:lnTo>
                <a:lnTo>
                  <a:pt x="6240" y="320"/>
                </a:lnTo>
                <a:lnTo>
                  <a:pt x="6136" y="326"/>
                </a:lnTo>
                <a:cubicBezTo>
                  <a:pt x="5918" y="345"/>
                  <a:pt x="5298" y="396"/>
                  <a:pt x="4936" y="440"/>
                </a:cubicBezTo>
                <a:cubicBezTo>
                  <a:pt x="4573" y="484"/>
                  <a:pt x="4285" y="533"/>
                  <a:pt x="3962" y="590"/>
                </a:cubicBezTo>
                <a:cubicBezTo>
                  <a:pt x="3638" y="646"/>
                  <a:pt x="3376" y="691"/>
                  <a:pt x="2995" y="780"/>
                </a:cubicBezTo>
                <a:cubicBezTo>
                  <a:pt x="2613" y="868"/>
                  <a:pt x="2045" y="1007"/>
                  <a:pt x="1672" y="1122"/>
                </a:cubicBezTo>
                <a:cubicBezTo>
                  <a:pt x="1298" y="1236"/>
                  <a:pt x="997" y="1359"/>
                  <a:pt x="752" y="1470"/>
                </a:cubicBezTo>
                <a:cubicBezTo>
                  <a:pt x="506" y="1580"/>
                  <a:pt x="325" y="1700"/>
                  <a:pt x="200" y="1786"/>
                </a:cubicBezTo>
                <a:cubicBezTo>
                  <a:pt x="74" y="1871"/>
                  <a:pt x="41" y="1942"/>
                  <a:pt x="0" y="1984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2560" cy="2125800"/>
          </a:xfrm>
          <a:custGeom>
            <a:avLst/>
            <a:gdLst/>
            <a:ahLst/>
            <a:rect l="l" t="t" r="r" b="b"/>
            <a:pathLst>
              <a:path w="6239" h="1339">
                <a:moveTo>
                  <a:pt x="2" y="1339"/>
                </a:moveTo>
                <a:lnTo>
                  <a:pt x="0" y="0"/>
                </a:lnTo>
                <a:lnTo>
                  <a:pt x="6239" y="2"/>
                </a:lnTo>
                <a:lnTo>
                  <a:pt x="6238" y="190"/>
                </a:lnTo>
                <a:lnTo>
                  <a:pt x="6196" y="190"/>
                </a:lnTo>
                <a:lnTo>
                  <a:pt x="6060" y="194"/>
                </a:lnTo>
                <a:cubicBezTo>
                  <a:pt x="5973" y="197"/>
                  <a:pt x="5935" y="192"/>
                  <a:pt x="5676" y="210"/>
                </a:cubicBezTo>
                <a:cubicBezTo>
                  <a:pt x="5417" y="228"/>
                  <a:pt x="4953" y="251"/>
                  <a:pt x="4506" y="302"/>
                </a:cubicBezTo>
                <a:cubicBezTo>
                  <a:pt x="4058" y="352"/>
                  <a:pt x="3546" y="413"/>
                  <a:pt x="2990" y="516"/>
                </a:cubicBezTo>
                <a:cubicBezTo>
                  <a:pt x="2433" y="618"/>
                  <a:pt x="1666" y="777"/>
                  <a:pt x="1169" y="915"/>
                </a:cubicBezTo>
                <a:cubicBezTo>
                  <a:pt x="671" y="1052"/>
                  <a:pt x="245" y="1250"/>
                  <a:pt x="2" y="1339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40" y="5334120"/>
            <a:ext cx="9140760" cy="1542960"/>
          </a:xfrm>
          <a:custGeom>
            <a:avLst/>
            <a:gdLst/>
            <a:ahLst/>
            <a:rect l="l" t="t" r="r" b="b"/>
            <a:pathLst>
              <a:path w="5984" h="720">
                <a:moveTo>
                  <a:pt x="0" y="8"/>
                </a:moveTo>
                <a:lnTo>
                  <a:pt x="0" y="720"/>
                </a:lnTo>
                <a:lnTo>
                  <a:pt x="5984" y="720"/>
                </a:lnTo>
                <a:lnTo>
                  <a:pt x="5984" y="0"/>
                </a:lnTo>
                <a:lnTo>
                  <a:pt x="5912" y="16"/>
                </a:lnTo>
                <a:lnTo>
                  <a:pt x="5840" y="24"/>
                </a:lnTo>
                <a:lnTo>
                  <a:pt x="5768" y="40"/>
                </a:lnTo>
                <a:lnTo>
                  <a:pt x="5680" y="48"/>
                </a:lnTo>
                <a:lnTo>
                  <a:pt x="5544" y="64"/>
                </a:lnTo>
                <a:lnTo>
                  <a:pt x="5400" y="80"/>
                </a:lnTo>
                <a:lnTo>
                  <a:pt x="5232" y="96"/>
                </a:lnTo>
                <a:lnTo>
                  <a:pt x="5088" y="120"/>
                </a:lnTo>
                <a:lnTo>
                  <a:pt x="4952" y="136"/>
                </a:lnTo>
                <a:lnTo>
                  <a:pt x="4816" y="152"/>
                </a:lnTo>
                <a:lnTo>
                  <a:pt x="4616" y="168"/>
                </a:lnTo>
                <a:lnTo>
                  <a:pt x="4408" y="184"/>
                </a:lnTo>
                <a:lnTo>
                  <a:pt x="4240" y="192"/>
                </a:lnTo>
                <a:lnTo>
                  <a:pt x="4048" y="208"/>
                </a:lnTo>
                <a:lnTo>
                  <a:pt x="3904" y="216"/>
                </a:lnTo>
                <a:lnTo>
                  <a:pt x="3752" y="224"/>
                </a:lnTo>
                <a:lnTo>
                  <a:pt x="3568" y="232"/>
                </a:lnTo>
                <a:lnTo>
                  <a:pt x="3432" y="232"/>
                </a:lnTo>
                <a:lnTo>
                  <a:pt x="3304" y="232"/>
                </a:lnTo>
                <a:lnTo>
                  <a:pt x="3096" y="240"/>
                </a:lnTo>
                <a:lnTo>
                  <a:pt x="2896" y="240"/>
                </a:lnTo>
                <a:lnTo>
                  <a:pt x="2744" y="240"/>
                </a:lnTo>
                <a:lnTo>
                  <a:pt x="2520" y="232"/>
                </a:lnTo>
                <a:lnTo>
                  <a:pt x="2240" y="224"/>
                </a:lnTo>
                <a:lnTo>
                  <a:pt x="1992" y="208"/>
                </a:lnTo>
                <a:lnTo>
                  <a:pt x="1792" y="200"/>
                </a:lnTo>
                <a:lnTo>
                  <a:pt x="1592" y="184"/>
                </a:lnTo>
                <a:lnTo>
                  <a:pt x="1408" y="168"/>
                </a:lnTo>
                <a:lnTo>
                  <a:pt x="1248" y="152"/>
                </a:lnTo>
                <a:lnTo>
                  <a:pt x="1008" y="128"/>
                </a:lnTo>
                <a:lnTo>
                  <a:pt x="760" y="104"/>
                </a:lnTo>
                <a:lnTo>
                  <a:pt x="592" y="80"/>
                </a:lnTo>
                <a:lnTo>
                  <a:pt x="456" y="64"/>
                </a:lnTo>
                <a:lnTo>
                  <a:pt x="256" y="40"/>
                </a:lnTo>
                <a:lnTo>
                  <a:pt x="112" y="24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0" y="6324480"/>
            <a:ext cx="1992240" cy="312840"/>
          </a:xfrm>
          <a:prstGeom prst="rect">
            <a:avLst/>
          </a:prstGeom>
          <a:ln w="0">
            <a:noFill/>
          </a:ln>
        </p:spPr>
      </p:pic>
      <p:pic>
        <p:nvPicPr>
          <p:cNvPr id="96" name="LETSMake%20thigns%20better" descr=""/>
          <p:cNvPicPr/>
          <p:nvPr/>
        </p:nvPicPr>
        <p:blipFill>
          <a:blip r:embed="rId2"/>
          <a:stretch/>
        </p:blipFill>
        <p:spPr>
          <a:xfrm>
            <a:off x="254160" y="6259680"/>
            <a:ext cx="2288880" cy="4348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9800" y="3123720"/>
            <a:ext cx="844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Opportunities in MHP &amp; MPEG-4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Presentation at ITU MediaCOM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1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 March 2002</a:t>
            </a:r>
            <a:endParaRPr b="1" lang="en-US" sz="3200" spc="-1" strike="noStrike">
              <a:solidFill>
                <a:srgbClr val="ff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828440" y="4876920"/>
            <a:ext cx="63198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Paul Bristow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Strategic Technologist, Philips Softworks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paul.bristow@philips.com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9" name="mhp_original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904760" cy="8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762120"/>
            <a:ext cx="9036000" cy="5533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0"/>
            <a:ext cx="9145440" cy="2125800"/>
          </a:xfrm>
          <a:custGeom>
            <a:avLst/>
            <a:gdLst/>
            <a:ahLst/>
            <a:rect l="l" t="t" r="r" b="b"/>
            <a:pathLst>
              <a:path w="6239" h="1339">
                <a:moveTo>
                  <a:pt x="2" y="1339"/>
                </a:moveTo>
                <a:lnTo>
                  <a:pt x="0" y="0"/>
                </a:lnTo>
                <a:lnTo>
                  <a:pt x="6239" y="2"/>
                </a:lnTo>
                <a:lnTo>
                  <a:pt x="6238" y="190"/>
                </a:lnTo>
                <a:lnTo>
                  <a:pt x="6196" y="190"/>
                </a:lnTo>
                <a:lnTo>
                  <a:pt x="6060" y="194"/>
                </a:lnTo>
                <a:cubicBezTo>
                  <a:pt x="5973" y="197"/>
                  <a:pt x="5935" y="192"/>
                  <a:pt x="5676" y="210"/>
                </a:cubicBezTo>
                <a:cubicBezTo>
                  <a:pt x="5417" y="228"/>
                  <a:pt x="4953" y="251"/>
                  <a:pt x="4506" y="302"/>
                </a:cubicBezTo>
                <a:cubicBezTo>
                  <a:pt x="4058" y="352"/>
                  <a:pt x="3546" y="413"/>
                  <a:pt x="2990" y="516"/>
                </a:cubicBezTo>
                <a:cubicBezTo>
                  <a:pt x="2433" y="618"/>
                  <a:pt x="1666" y="777"/>
                  <a:pt x="1169" y="915"/>
                </a:cubicBezTo>
                <a:cubicBezTo>
                  <a:pt x="671" y="1052"/>
                  <a:pt x="245" y="1250"/>
                  <a:pt x="2" y="1339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The Digital Home </a:t>
            </a: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"/>
          <p:cNvSpPr/>
          <p:nvPr/>
        </p:nvSpPr>
        <p:spPr>
          <a:xfrm>
            <a:off x="1786680" y="1600200"/>
            <a:ext cx="1603800" cy="305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h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67676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Gill Sans MT"/>
              </a:rPr>
              <a:t>Encode</a:t>
            </a:r>
            <a:r>
              <a:rPr b="1" i="1" lang="en-GB" sz="2600" spc="-1" strike="noStrike">
                <a:solidFill>
                  <a:srgbClr val="ffffff"/>
                </a:solidFill>
                <a:latin typeface="Gill Sans MT"/>
              </a:rPr>
              <a:t>Once </a:t>
            </a:r>
            <a:r>
              <a:rPr b="1" lang="en-GB" sz="2600" spc="-1" strike="noStrike">
                <a:solidFill>
                  <a:srgbClr val="ffffff"/>
                </a:solidFill>
                <a:latin typeface="Gill Sans MT"/>
              </a:rPr>
              <a:t>for Various Networks</a:t>
            </a:r>
            <a:endParaRPr b="1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0" y="1295280"/>
            <a:ext cx="40384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obus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4560" indent="-2332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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Resync marker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74560" indent="-2332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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Error recovery tools : data partitioning, reversible variable length coding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74560" indent="-2332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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Error resilience tool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74560" indent="0">
              <a:lnSpc>
                <a:spcPct val="105000"/>
              </a:lnSpc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7160" indent="-22716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cal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4560" indent="-2332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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Encode only once for multiple devices and circumstanc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74560" indent="-2332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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Users unaware of bitrate choic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74560" indent="-2332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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Enhancement layers to basic quality objec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74560" indent="-2332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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Low priority objects can be dropped to save bit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"/>
          <p:cNvSpPr/>
          <p:nvPr/>
        </p:nvSpPr>
        <p:spPr>
          <a:xfrm>
            <a:off x="1160640" y="3652920"/>
            <a:ext cx="1674720" cy="598320"/>
          </a:xfrm>
          <a:prstGeom prst="rect">
            <a:avLst/>
          </a:prstGeom>
          <a:solidFill>
            <a:srgbClr val="000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Bas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60640" y="1844640"/>
            <a:ext cx="1674720" cy="1763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33520" y="1706760"/>
            <a:ext cx="2531520" cy="2625480"/>
            <a:chOff x="533520" y="1706760"/>
            <a:chExt cx="2531520" cy="2625480"/>
          </a:xfrm>
        </p:grpSpPr>
        <p:sp>
          <p:nvSpPr>
            <p:cNvPr id="165" name=""/>
            <p:cNvSpPr/>
            <p:nvPr/>
          </p:nvSpPr>
          <p:spPr>
            <a:xfrm>
              <a:off x="927720" y="1844640"/>
              <a:ext cx="0" cy="2422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915840" y="4239720"/>
              <a:ext cx="214920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200000">
              <a:off x="-631080" y="2871720"/>
              <a:ext cx="262548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US" sz="1400" spc="-1" strike="noStrike">
                  <a:solidFill>
                    <a:srgbClr val="00005c"/>
                  </a:solidFill>
                  <a:latin typeface="Gill Sans MT"/>
                </a:rPr>
                <a:t>Available Bandwidth  (bitra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68120" y="4195800"/>
            <a:ext cx="4325760" cy="2665800"/>
            <a:chOff x="168120" y="4195800"/>
            <a:chExt cx="4325760" cy="2665800"/>
          </a:xfrm>
        </p:grpSpPr>
        <p:sp>
          <p:nvSpPr>
            <p:cNvPr id="169" name=""/>
            <p:cNvSpPr/>
            <p:nvPr/>
          </p:nvSpPr>
          <p:spPr>
            <a:xfrm>
              <a:off x="168120" y="4939920"/>
              <a:ext cx="1087560" cy="6717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ill Sans MT"/>
                </a:rPr>
                <a:t>MPEG-4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Gill Sans MT"/>
                </a:rPr>
                <a:t>EncodeOnce </a:t>
              </a:r>
              <a:r>
                <a:rPr b="0" lang="en-US" sz="1200" spc="-1" strike="noStrike">
                  <a:solidFill>
                    <a:srgbClr val="ffffff"/>
                  </a:solidFill>
                  <a:latin typeface="Gill Sans MT"/>
                </a:rPr>
                <a:t>for all Networ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3636720" y="4195800"/>
              <a:ext cx="655920" cy="5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3777840" y="4754520"/>
              <a:ext cx="4273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Gill Sans MT"/>
                </a:rPr>
                <a:t>P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" name=""/>
            <p:cNvCxnSpPr>
              <a:stCxn id="169" idx="3"/>
              <a:endCxn id="173" idx="0"/>
            </p:cNvCxnSpPr>
            <p:nvPr/>
          </p:nvCxnSpPr>
          <p:spPr>
            <a:xfrm flipV="1">
              <a:off x="1255680" y="5274000"/>
              <a:ext cx="25056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4" name=""/>
            <p:cNvCxnSpPr>
              <a:stCxn id="173" idx="1"/>
              <a:endCxn id="170" idx="1"/>
            </p:cNvCxnSpPr>
            <p:nvPr/>
          </p:nvCxnSpPr>
          <p:spPr>
            <a:xfrm flipV="1">
              <a:off x="2736360" y="4489200"/>
              <a:ext cx="900720" cy="78516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000000"/>
              </a:solidFill>
              <a:miter/>
            </a:ln>
          </p:spPr>
        </p:cxnSp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3573720" y="5036040"/>
              <a:ext cx="920160" cy="47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774600" y="5584680"/>
              <a:ext cx="4536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Gill Sans MT"/>
                </a:rPr>
                <a:t>ST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" name=""/>
            <p:cNvCxnSpPr>
              <a:stCxn id="173" idx="2"/>
              <a:endCxn id="175" idx="1"/>
            </p:cNvCxnSpPr>
            <p:nvPr/>
          </p:nvCxnSpPr>
          <p:spPr>
            <a:xfrm>
              <a:off x="2736360" y="5274360"/>
              <a:ext cx="838080" cy="180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8" name=""/>
            <p:cNvSpPr/>
            <p:nvPr/>
          </p:nvSpPr>
          <p:spPr>
            <a:xfrm>
              <a:off x="3624480" y="6581160"/>
              <a:ext cx="784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Gill Sans MT"/>
                </a:rPr>
                <a:t>MOBI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3780720" y="5957640"/>
              <a:ext cx="357120" cy="594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80" name=""/>
            <p:cNvCxnSpPr/>
            <p:nvPr/>
          </p:nvCxnSpPr>
          <p:spPr>
            <a:xfrm>
              <a:off x="2664720" y="5274360"/>
              <a:ext cx="1045440" cy="981000"/>
            </a:xfrm>
            <a:prstGeom prst="bentConnector3">
              <a:avLst>
                <a:gd name="adj1" fmla="val 5005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1501560" y="4875840"/>
              <a:ext cx="1235880" cy="795960"/>
            </a:xfrm>
            <a:prstGeom prst="cloudCallout">
              <a:avLst>
                <a:gd name="adj1" fmla="val 12657"/>
                <a:gd name="adj2" fmla="val -1588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Gill Sans MT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Gill Sans MT"/>
                </a:rPr>
                <a:t>Delive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Potential MPEG-4 applications</a:t>
            </a: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7773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reaming over I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nhanced broadcas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orage in Set Top Box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ersonalized servi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calable servi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mbining all of the abov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ingle application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very) rich multimedia applicat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t …. Already many existing forma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ML, SMIL, MHP, etc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usiness Model ?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 easily fit into MH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JMF, life cycle, signalling is all ther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down" descr=""/>
          <p:cNvPicPr/>
          <p:nvPr/>
        </p:nvPicPr>
        <p:blipFill>
          <a:blip r:embed="rId1"/>
          <a:stretch/>
        </p:blipFill>
        <p:spPr>
          <a:xfrm>
            <a:off x="1066680" y="1704960"/>
            <a:ext cx="7026480" cy="4464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MPEG4 enabled MHP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Immersive Broadcast</a:t>
            </a: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85" name="current_view" descr=""/>
          <p:cNvPicPr/>
          <p:nvPr/>
        </p:nvPicPr>
        <p:blipFill>
          <a:blip r:embed="rId2"/>
          <a:stretch/>
        </p:blipFill>
        <p:spPr>
          <a:xfrm>
            <a:off x="1066680" y="1708200"/>
            <a:ext cx="7026480" cy="4464000"/>
          </a:xfrm>
          <a:prstGeom prst="rect">
            <a:avLst/>
          </a:prstGeom>
          <a:ln w="0">
            <a:noFill/>
          </a:ln>
        </p:spPr>
      </p:pic>
      <p:pic>
        <p:nvPicPr>
          <p:cNvPr id="186" name="view_select" descr=""/>
          <p:cNvPicPr/>
          <p:nvPr/>
        </p:nvPicPr>
        <p:blipFill>
          <a:blip r:embed="rId3"/>
          <a:stretch/>
        </p:blipFill>
        <p:spPr>
          <a:xfrm>
            <a:off x="1057320" y="1701720"/>
            <a:ext cx="703584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729880" y="99072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745"/>
                </a:solidFill>
                <a:latin typeface="Arial"/>
              </a:rPr>
              <a:t>Vertical businesses in a horizontal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432576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ff9900"/>
                </a:solidFill>
                <a:latin typeface="Arial Narrow"/>
              </a:rPr>
              <a:t>Networks / Trans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ff9900"/>
                </a:solidFill>
                <a:latin typeface="Arial Narrow"/>
              </a:rPr>
              <a:t>(</a:t>
            </a:r>
            <a:r>
              <a:rPr b="0" i="1" lang="de-DE" sz="1600" spc="-1" strike="noStrike">
                <a:solidFill>
                  <a:srgbClr val="ff9900"/>
                </a:solidFill>
                <a:latin typeface="Arial Narrow"/>
              </a:rPr>
              <a:t>MPEG-2 &amp; IP</a:t>
            </a:r>
            <a:r>
              <a:rPr b="0" lang="de-DE" sz="1600" spc="-1" strike="noStrike">
                <a:solidFill>
                  <a:srgbClr val="ff9900"/>
                </a:solidFill>
                <a:latin typeface="Arial Narro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34876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ff9900"/>
                </a:solidFill>
                <a:latin typeface="Arial Narrow"/>
              </a:rPr>
              <a:t>Conditional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ff9900"/>
                </a:solidFill>
                <a:latin typeface="Arial Narrow"/>
              </a:rPr>
              <a:t>(</a:t>
            </a:r>
            <a:r>
              <a:rPr b="0" i="1" lang="de-DE" sz="1600" spc="-1" strike="noStrike">
                <a:solidFill>
                  <a:srgbClr val="ff9900"/>
                </a:solidFill>
                <a:latin typeface="Arial Narrow"/>
              </a:rPr>
              <a:t>Service Providers</a:t>
            </a:r>
            <a:r>
              <a:rPr b="0" lang="de-DE" sz="1600" spc="-1" strike="noStrike">
                <a:solidFill>
                  <a:srgbClr val="ff9900"/>
                </a:solidFill>
                <a:latin typeface="Arial Narrow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65104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ff9900"/>
                </a:solidFill>
                <a:latin typeface="Arial Narrow"/>
              </a:rPr>
              <a:t>Programmes &amp;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ff9900"/>
                </a:solidFill>
                <a:latin typeface="Arial Narrow"/>
              </a:rPr>
              <a:t>(</a:t>
            </a:r>
            <a:r>
              <a:rPr b="0" i="1" lang="de-DE" sz="1600" spc="-1" strike="noStrike">
                <a:solidFill>
                  <a:srgbClr val="ff9900"/>
                </a:solidFill>
                <a:latin typeface="Arial Narrow"/>
              </a:rPr>
              <a:t>Broadcasters, Web Sites</a:t>
            </a:r>
            <a:r>
              <a:rPr b="0" lang="de-DE" sz="1600" spc="-1" strike="noStrike">
                <a:solidFill>
                  <a:srgbClr val="ff9900"/>
                </a:solidFill>
                <a:latin typeface="Arial Narrow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181116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ff9900"/>
                </a:solidFill>
                <a:latin typeface="Arial Narrow"/>
              </a:rPr>
              <a:t>Applications &amp;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ff9900"/>
                </a:solidFill>
                <a:latin typeface="Arial Narrow"/>
              </a:rPr>
              <a:t>(</a:t>
            </a:r>
            <a:r>
              <a:rPr b="0" i="1" lang="de-DE" sz="1600" spc="-1" strike="noStrike">
                <a:solidFill>
                  <a:srgbClr val="ff9900"/>
                </a:solidFill>
                <a:latin typeface="Arial Narrow"/>
              </a:rPr>
              <a:t>Producers/Distributors</a:t>
            </a:r>
            <a:r>
              <a:rPr b="0" lang="de-DE" sz="1600" spc="-1" strike="noStrike">
                <a:solidFill>
                  <a:srgbClr val="ff9900"/>
                </a:solidFill>
                <a:latin typeface="Arial Narro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53928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ff9900"/>
                </a:solidFill>
                <a:latin typeface="Arial Narrow"/>
              </a:rPr>
              <a:t>Receivers / Termi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ff9900"/>
                </a:solidFill>
                <a:latin typeface="Arial Narrow"/>
              </a:rPr>
              <a:t>(</a:t>
            </a:r>
            <a:r>
              <a:rPr b="0" i="1" lang="de-DE" sz="1600" spc="-1" strike="noStrike">
                <a:solidFill>
                  <a:srgbClr val="ff9900"/>
                </a:solidFill>
                <a:latin typeface="Arial Narrow"/>
              </a:rPr>
              <a:t>CE devices / PCs</a:t>
            </a:r>
            <a:r>
              <a:rPr b="0" lang="de-DE" sz="1600" spc="-1" strike="noStrike">
                <a:solidFill>
                  <a:srgbClr val="ff9900"/>
                </a:solidFill>
                <a:latin typeface="Arial Narrow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624852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745"/>
                </a:solidFill>
                <a:latin typeface="Arial"/>
              </a:rPr>
              <a:t>All competing for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903320"/>
            <a:ext cx="5791320" cy="53352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2741760"/>
            <a:ext cx="5791320" cy="533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3579840"/>
            <a:ext cx="2971800" cy="533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4417920"/>
            <a:ext cx="5791320" cy="533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5484960"/>
            <a:ext cx="5791320" cy="533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447920" y="3198960"/>
            <a:ext cx="45720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3198960"/>
            <a:ext cx="68580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2360520"/>
            <a:ext cx="53352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980720" y="2360520"/>
            <a:ext cx="83844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361960" y="2360520"/>
            <a:ext cx="160020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2284560"/>
            <a:ext cx="0" cy="533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2360520"/>
            <a:ext cx="106704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2360520"/>
            <a:ext cx="205740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396072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523520" y="3960720"/>
            <a:ext cx="76212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960720"/>
            <a:ext cx="45720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4875120"/>
            <a:ext cx="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4875120"/>
            <a:ext cx="99072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4875120"/>
            <a:ext cx="228600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4875120"/>
            <a:ext cx="327636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047760" y="4875120"/>
            <a:ext cx="228600" cy="152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352680" y="4875120"/>
            <a:ext cx="7632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57600" y="4875120"/>
            <a:ext cx="15228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4875120"/>
            <a:ext cx="38088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276360" y="3198960"/>
            <a:ext cx="22860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319896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3198960"/>
            <a:ext cx="22860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352680" y="2665080"/>
            <a:ext cx="7632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809880" y="258876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114800" y="2665080"/>
            <a:ext cx="7632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962520" y="3198960"/>
            <a:ext cx="1218960" cy="1295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2640"/>
            <a:ext cx="0" cy="1371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19920" y="4875120"/>
            <a:ext cx="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599840" y="4875120"/>
            <a:ext cx="342900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276360" y="4875120"/>
            <a:ext cx="205740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419720" y="4875120"/>
            <a:ext cx="121896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3579840"/>
            <a:ext cx="2819520" cy="533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85800" y="2032200"/>
            <a:ext cx="5638680" cy="3906000"/>
            <a:chOff x="685800" y="2032200"/>
            <a:chExt cx="5638680" cy="3906000"/>
          </a:xfrm>
        </p:grpSpPr>
        <p:sp>
          <p:nvSpPr>
            <p:cNvPr id="232" name=""/>
            <p:cNvSpPr/>
            <p:nvPr/>
          </p:nvSpPr>
          <p:spPr>
            <a:xfrm>
              <a:off x="2133720" y="4540320"/>
              <a:ext cx="1218960" cy="307080"/>
            </a:xfrm>
            <a:prstGeom prst="rect">
              <a:avLst/>
            </a:prstGeom>
            <a:solidFill>
              <a:srgbClr val="00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tor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05320" y="4540320"/>
              <a:ext cx="1218960" cy="30708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tor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120" y="4540320"/>
              <a:ext cx="1218960" cy="307080"/>
            </a:xfrm>
            <a:prstGeom prst="rect">
              <a:avLst/>
            </a:prstGeom>
            <a:solidFill>
              <a:srgbClr val="00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tor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71600" y="2863800"/>
              <a:ext cx="1219320" cy="3070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rovider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52880" y="2863800"/>
              <a:ext cx="1219320" cy="3070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rovider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863800"/>
              <a:ext cx="1219320" cy="3070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rovider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2120" y="3678480"/>
              <a:ext cx="1218960" cy="30708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tor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33720" y="3678480"/>
              <a:ext cx="1218960" cy="30708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tor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2120" y="2049480"/>
              <a:ext cx="1218960" cy="30708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pplier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09680" y="2036880"/>
              <a:ext cx="1219320" cy="30708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pplier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52880" y="2032200"/>
              <a:ext cx="1219320" cy="30708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pplier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81280" y="2038320"/>
              <a:ext cx="1219320" cy="30708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pplier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29200" y="5631120"/>
              <a:ext cx="1295280" cy="3070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anuf.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5631120"/>
              <a:ext cx="1295280" cy="3070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anuf.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33720" y="5631120"/>
              <a:ext cx="1295280" cy="3070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anuf.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81280" y="5631120"/>
              <a:ext cx="1295640" cy="3070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anuf.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52880" y="4516560"/>
              <a:ext cx="1219320" cy="30708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tor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57600" y="3678480"/>
              <a:ext cx="1219320" cy="30708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tor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29200" y="3678480"/>
              <a:ext cx="1219320" cy="30708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tor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H="1">
            <a:off x="380520" y="2131920"/>
            <a:ext cx="381240" cy="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2131920"/>
            <a:ext cx="0" cy="25146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4646520"/>
            <a:ext cx="381240" cy="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ill Sans MT"/>
              </a:rPr>
              <a:t>MHP Market Model Evolution</a:t>
            </a: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1905120"/>
            <a:ext cx="6019920" cy="4114800"/>
            <a:chOff x="380880" y="1905120"/>
            <a:chExt cx="6019920" cy="4114800"/>
          </a:xfrm>
        </p:grpSpPr>
        <p:grpSp>
          <p:nvGrpSpPr>
            <p:cNvPr id="256" name=""/>
            <p:cNvGrpSpPr/>
            <p:nvPr/>
          </p:nvGrpSpPr>
          <p:grpSpPr>
            <a:xfrm>
              <a:off x="609480" y="1905120"/>
              <a:ext cx="5790960" cy="533160"/>
              <a:chOff x="609480" y="1905120"/>
              <a:chExt cx="5790960" cy="533160"/>
            </a:xfrm>
          </p:grpSpPr>
          <p:sp>
            <p:nvSpPr>
              <p:cNvPr id="257" name=""/>
              <p:cNvSpPr/>
              <p:nvPr/>
            </p:nvSpPr>
            <p:spPr>
              <a:xfrm>
                <a:off x="609480" y="1905120"/>
                <a:ext cx="5790960" cy="533160"/>
              </a:xfrm>
              <a:prstGeom prst="rect">
                <a:avLst/>
              </a:prstGeom>
              <a:solidFill>
                <a:srgbClr val="969696"/>
              </a:solidFill>
              <a:ln w="284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356280" y="1981080"/>
                <a:ext cx="194760" cy="40968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09480" y="2743560"/>
              <a:ext cx="5790960" cy="533160"/>
              <a:chOff x="609480" y="2743560"/>
              <a:chExt cx="5790960" cy="533160"/>
            </a:xfrm>
          </p:grpSpPr>
          <p:sp>
            <p:nvSpPr>
              <p:cNvPr id="260" name=""/>
              <p:cNvSpPr/>
              <p:nvPr/>
            </p:nvSpPr>
            <p:spPr>
              <a:xfrm>
                <a:off x="609480" y="2743560"/>
                <a:ext cx="5790960" cy="533160"/>
              </a:xfrm>
              <a:prstGeom prst="rect">
                <a:avLst/>
              </a:prstGeom>
              <a:solidFill>
                <a:srgbClr val="969696"/>
              </a:solidFill>
              <a:ln w="284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83640" y="2819520"/>
                <a:ext cx="197640" cy="40968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09480" y="3581640"/>
              <a:ext cx="2971800" cy="533160"/>
              <a:chOff x="609480" y="3581640"/>
              <a:chExt cx="2971800" cy="533160"/>
            </a:xfrm>
          </p:grpSpPr>
          <p:sp>
            <p:nvSpPr>
              <p:cNvPr id="263" name=""/>
              <p:cNvSpPr/>
              <p:nvPr/>
            </p:nvSpPr>
            <p:spPr>
              <a:xfrm>
                <a:off x="609480" y="3581640"/>
                <a:ext cx="2971800" cy="533160"/>
              </a:xfrm>
              <a:prstGeom prst="rect">
                <a:avLst/>
              </a:prstGeom>
              <a:solidFill>
                <a:srgbClr val="969696"/>
              </a:solidFill>
              <a:ln w="284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961920" y="3657600"/>
                <a:ext cx="196560" cy="40968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609480" y="4419720"/>
              <a:ext cx="5791320" cy="53352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09480" y="5486760"/>
              <a:ext cx="5790960" cy="533160"/>
              <a:chOff x="609480" y="5486760"/>
              <a:chExt cx="5790960" cy="533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09480" y="5486760"/>
                <a:ext cx="5790960" cy="533160"/>
              </a:xfrm>
              <a:prstGeom prst="rect">
                <a:avLst/>
              </a:prstGeom>
              <a:solidFill>
                <a:srgbClr val="969696"/>
              </a:solidFill>
              <a:ln w="284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954000" y="5562720"/>
                <a:ext cx="244800" cy="39888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761760" y="4648320"/>
              <a:ext cx="990720" cy="763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8080" y="4496040"/>
              <a:ext cx="1143000" cy="3049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33360" y="4532760"/>
              <a:ext cx="1219320" cy="3070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tor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04960" y="4532760"/>
              <a:ext cx="1219320" cy="3070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tor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1760" y="4532760"/>
              <a:ext cx="1219320" cy="3070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tor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71600" y="2856600"/>
              <a:ext cx="1218960" cy="3070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rovider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2856600"/>
              <a:ext cx="1219320" cy="3070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rovider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00400" y="2856600"/>
              <a:ext cx="1218960" cy="3070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rovider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1760" y="3670920"/>
              <a:ext cx="1219320" cy="3070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tor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33360" y="3670920"/>
              <a:ext cx="1219320" cy="3070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tor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1760" y="2041920"/>
              <a:ext cx="1219320" cy="3070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pplier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09680" y="2029320"/>
              <a:ext cx="1219320" cy="3070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pplier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52880" y="2024640"/>
              <a:ext cx="1219320" cy="3070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pplier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81280" y="2030760"/>
              <a:ext cx="1219320" cy="3070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pplier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447560" y="3200760"/>
              <a:ext cx="457200" cy="45720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57400" y="3200760"/>
              <a:ext cx="685800" cy="45720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29200" y="5623560"/>
              <a:ext cx="1295280" cy="3070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anuf.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5800" y="5623560"/>
              <a:ext cx="1295280" cy="3070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anuf.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33360" y="5623560"/>
              <a:ext cx="1295640" cy="3070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anuf.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81280" y="5623560"/>
              <a:ext cx="1295280" cy="3070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anuf.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95280" y="2362320"/>
              <a:ext cx="533520" cy="45720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981080" y="2362320"/>
              <a:ext cx="838080" cy="45720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361600" y="2362320"/>
              <a:ext cx="1600200" cy="45720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15000" y="2286360"/>
              <a:ext cx="0" cy="53316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95680" y="2362320"/>
              <a:ext cx="1066680" cy="45720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24080" y="2362320"/>
              <a:ext cx="2057400" cy="45720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43000" y="3962520"/>
              <a:ext cx="0" cy="53352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523520" y="3962520"/>
              <a:ext cx="762120" cy="53352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43200" y="3962520"/>
              <a:ext cx="457200" cy="53352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90360" y="4876920"/>
              <a:ext cx="0" cy="76212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95280" y="4876920"/>
              <a:ext cx="990720" cy="76212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23880" y="4876920"/>
              <a:ext cx="2286000" cy="68580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04760" y="4876920"/>
              <a:ext cx="3276720" cy="76212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047400" y="4876920"/>
              <a:ext cx="228600" cy="152640"/>
            </a:xfrm>
            <a:prstGeom prst="line">
              <a:avLst/>
            </a:prstGeom>
            <a:ln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352680" y="4876920"/>
              <a:ext cx="76320" cy="228600"/>
            </a:xfrm>
            <a:prstGeom prst="line">
              <a:avLst/>
            </a:prstGeom>
            <a:ln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57600" y="4876920"/>
              <a:ext cx="152280" cy="228600"/>
            </a:xfrm>
            <a:prstGeom prst="line">
              <a:avLst/>
            </a:prstGeom>
            <a:ln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86200" y="4876920"/>
              <a:ext cx="380880" cy="228600"/>
            </a:xfrm>
            <a:prstGeom prst="line">
              <a:avLst/>
            </a:prstGeom>
            <a:ln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3276000" y="3200760"/>
              <a:ext cx="228600" cy="152280"/>
            </a:xfrm>
            <a:prstGeom prst="line">
              <a:avLst/>
            </a:prstGeom>
            <a:ln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09880" y="3200760"/>
              <a:ext cx="0" cy="228600"/>
            </a:xfrm>
            <a:prstGeom prst="line">
              <a:avLst/>
            </a:prstGeom>
            <a:ln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14800" y="3200760"/>
              <a:ext cx="228600" cy="228600"/>
            </a:xfrm>
            <a:prstGeom prst="line">
              <a:avLst/>
            </a:prstGeom>
            <a:ln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3352680" y="2666880"/>
              <a:ext cx="76320" cy="152280"/>
            </a:xfrm>
            <a:prstGeom prst="line">
              <a:avLst/>
            </a:prstGeom>
            <a:ln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809880" y="2590560"/>
              <a:ext cx="0" cy="228600"/>
            </a:xfrm>
            <a:prstGeom prst="line">
              <a:avLst/>
            </a:prstGeom>
            <a:ln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4114800" y="2666880"/>
              <a:ext cx="75960" cy="152280"/>
            </a:xfrm>
            <a:prstGeom prst="line">
              <a:avLst/>
            </a:prstGeom>
            <a:ln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961800" y="3200760"/>
              <a:ext cx="1219320" cy="129528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38680" y="3124440"/>
              <a:ext cx="0" cy="137160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19560" y="4876920"/>
              <a:ext cx="0" cy="68580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1599840" y="4876920"/>
              <a:ext cx="3429000" cy="68580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76000" y="4876920"/>
              <a:ext cx="2057400" cy="68580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419000" y="4876920"/>
              <a:ext cx="1219320" cy="76212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52880" y="4509000"/>
              <a:ext cx="1219320" cy="3070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tor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581280" y="3581640"/>
              <a:ext cx="2819520" cy="533160"/>
              <a:chOff x="3581280" y="3581640"/>
              <a:chExt cx="2819520" cy="533160"/>
            </a:xfrm>
          </p:grpSpPr>
          <p:sp>
            <p:nvSpPr>
              <p:cNvPr id="320" name=""/>
              <p:cNvSpPr/>
              <p:nvPr/>
            </p:nvSpPr>
            <p:spPr>
              <a:xfrm>
                <a:off x="3581280" y="3581640"/>
                <a:ext cx="2819520" cy="533160"/>
              </a:xfrm>
              <a:prstGeom prst="rect">
                <a:avLst/>
              </a:prstGeom>
              <a:solidFill>
                <a:srgbClr val="969696"/>
              </a:solidFill>
              <a:ln w="284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909240" y="3657600"/>
                <a:ext cx="197280" cy="40968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657600" y="3670920"/>
              <a:ext cx="1218960" cy="3070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tor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29200" y="3670920"/>
              <a:ext cx="1218960" cy="3070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tor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380880" y="2133720"/>
              <a:ext cx="380880" cy="0"/>
            </a:xfrm>
            <a:prstGeom prst="line">
              <a:avLst/>
            </a:prstGeom>
            <a:ln cap="rnd" w="12600">
              <a:solidFill>
                <a:srgbClr val="77777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880" y="2133720"/>
              <a:ext cx="0" cy="2514600"/>
            </a:xfrm>
            <a:prstGeom prst="line">
              <a:avLst/>
            </a:prstGeom>
            <a:ln cap="rnd" w="12600">
              <a:solidFill>
                <a:srgbClr val="77777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0880" y="4648320"/>
              <a:ext cx="380880" cy="0"/>
            </a:xfrm>
            <a:prstGeom prst="line">
              <a:avLst/>
            </a:prstGeom>
            <a:ln cap="rnd" w="12600">
              <a:solidFill>
                <a:srgbClr val="777777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729960" y="1370520"/>
            <a:ext cx="2366640" cy="4955040"/>
            <a:chOff x="3729960" y="1370520"/>
            <a:chExt cx="2366640" cy="4955040"/>
          </a:xfrm>
        </p:grpSpPr>
        <p:grpSp>
          <p:nvGrpSpPr>
            <p:cNvPr id="328" name=""/>
            <p:cNvGrpSpPr/>
            <p:nvPr/>
          </p:nvGrpSpPr>
          <p:grpSpPr>
            <a:xfrm>
              <a:off x="3729960" y="1370520"/>
              <a:ext cx="2366640" cy="4955040"/>
              <a:chOff x="3729960" y="1370520"/>
              <a:chExt cx="2366640" cy="4955040"/>
            </a:xfrm>
          </p:grpSpPr>
          <p:sp>
            <p:nvSpPr>
              <p:cNvPr id="329" name=""/>
              <p:cNvSpPr/>
              <p:nvPr/>
            </p:nvSpPr>
            <p:spPr>
              <a:xfrm rot="10803000">
                <a:off x="3732120" y="1371600"/>
                <a:ext cx="2362320" cy="4952880"/>
              </a:xfrm>
              <a:prstGeom prst="downArrow">
                <a:avLst>
                  <a:gd name="adj1" fmla="val 50000"/>
                  <a:gd name="adj2" fmla="val 5241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44480" y="2589120"/>
                <a:ext cx="114696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otto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U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ull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rad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4046400" y="5332320"/>
              <a:ext cx="17380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su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o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85800" y="1370160"/>
            <a:ext cx="2286000" cy="4952880"/>
            <a:chOff x="685800" y="1370160"/>
            <a:chExt cx="2286000" cy="4952880"/>
          </a:xfrm>
        </p:grpSpPr>
        <p:sp>
          <p:nvSpPr>
            <p:cNvPr id="333" name=""/>
            <p:cNvSpPr/>
            <p:nvPr/>
          </p:nvSpPr>
          <p:spPr>
            <a:xfrm>
              <a:off x="685800" y="1370160"/>
              <a:ext cx="2286000" cy="4952880"/>
            </a:xfrm>
            <a:prstGeom prst="downArrow">
              <a:avLst>
                <a:gd name="adj1" fmla="val 50000"/>
                <a:gd name="adj2" fmla="val 5416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ush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a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57880" y="1522440"/>
              <a:ext cx="1976040" cy="825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roadcas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u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228600" rIns="228600" tIns="114480" bIns="1144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Conclusion</a:t>
            </a: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4356000" y="3029040"/>
          <a:ext cx="4508640" cy="20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3029040"/>
                    <a:ext cx="450864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8" name="mpeg_logo-anim_l" descr=""/>
          <p:cNvPicPr/>
          <p:nvPr/>
        </p:nvPicPr>
        <p:blipFill>
          <a:blip r:embed="rId3"/>
          <a:stretch/>
        </p:blipFill>
        <p:spPr>
          <a:xfrm>
            <a:off x="5029200" y="5146560"/>
            <a:ext cx="2608200" cy="8845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4413240" y="5291280"/>
            <a:ext cx="800280" cy="6984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09760" y="1981080"/>
            <a:ext cx="863424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marL="88920" indent="-8892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HP allows rich applications for iT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PEG-4 allows rich media types, which MHP does not c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utting the two together makes s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PEG-4 solves many IP streaming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re than just a video co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720" indent="-8892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720" indent="-8892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720" indent="-8892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pe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720" indent="-8892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edia 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720" indent="-8892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D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720" indent="-8892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3D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720" indent="-8892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cene 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nally, H26L is MPEG4 Level 10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Questions?</a:t>
            </a: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7773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k now…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mail me </a:t>
            </a:r>
            <a:r>
              <a:rPr b="0" lang="en-US" sz="2000" spc="-1" strike="noStrike" u="sng">
                <a:solidFill>
                  <a:srgbClr val="4b8de1"/>
                </a:solidFill>
                <a:uFillTx/>
                <a:latin typeface="Gill Sans MT"/>
                <a:hlinkClick r:id="rId1"/>
              </a:rPr>
              <a:t>paul.bristow@philips.com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r go to </a:t>
            </a:r>
            <a:r>
              <a:rPr b="0" lang="en-US" sz="2000" spc="-1" strike="noStrike" u="sng">
                <a:solidFill>
                  <a:srgbClr val="4b8de1"/>
                </a:solidFill>
                <a:uFillTx/>
                <a:latin typeface="Gill Sans MT"/>
                <a:hlinkClick r:id="rId2"/>
              </a:rPr>
              <a:t>http://www.mhp.philips.co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d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4b8de1"/>
                </a:solidFill>
                <a:uFillTx/>
                <a:latin typeface="Gill Sans MT"/>
                <a:hlinkClick r:id="rId3"/>
              </a:rPr>
              <a:t>http://www.mpeg-4.philips.com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ther useful web site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VB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 u="sng">
                <a:solidFill>
                  <a:srgbClr val="4b8de1"/>
                </a:solidFill>
                <a:uFillTx/>
                <a:latin typeface="Gill Sans MT"/>
                <a:hlinkClick r:id="rId4"/>
              </a:rPr>
              <a:t>http://www.dvb.org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HP: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 u="sng">
                <a:solidFill>
                  <a:srgbClr val="4b8de1"/>
                </a:solidFill>
                <a:uFillTx/>
                <a:latin typeface="Gill Sans MT"/>
                <a:hlinkClick r:id="rId5"/>
              </a:rPr>
              <a:t>http://www.mhp.org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PEG 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 u="sng">
                <a:solidFill>
                  <a:srgbClr val="4b8de1"/>
                </a:solidFill>
                <a:uFillTx/>
                <a:latin typeface="Gill Sans MT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4b8de1"/>
                </a:solidFill>
                <a:uFillTx/>
                <a:latin typeface="Gill Sans MT"/>
                <a:hlinkClick r:id="rId7"/>
              </a:rPr>
              <a:t>cselt</a:t>
            </a:r>
            <a:r>
              <a:rPr b="0" lang="en-US" sz="2000" spc="-1" strike="noStrike" u="sng">
                <a:solidFill>
                  <a:srgbClr val="4b8de1"/>
                </a:solidFill>
                <a:uFillTx/>
                <a:latin typeface="Gill Sans MT"/>
                <a:hlinkClick r:id="rId8"/>
              </a:rPr>
              <a:t>.it/mpe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4IF 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 u="sng">
                <a:solidFill>
                  <a:srgbClr val="4b8de1"/>
                </a:solidFill>
                <a:uFillTx/>
                <a:latin typeface="Gill Sans MT"/>
                <a:hlinkClick r:id="rId9"/>
              </a:rPr>
              <a:t>http://www.m4if.org/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SMA :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 u="sng">
                <a:solidFill>
                  <a:srgbClr val="4b8de1"/>
                </a:solidFill>
                <a:uFillTx/>
                <a:latin typeface="Gill Sans MT"/>
                <a:hlinkClick r:id="rId10"/>
              </a:rPr>
              <a:t>http://www.</a:t>
            </a:r>
            <a:r>
              <a:rPr b="0" lang="en-US" sz="2000" spc="-1" strike="noStrike" u="sng">
                <a:solidFill>
                  <a:srgbClr val="4b8de1"/>
                </a:solidFill>
                <a:uFillTx/>
                <a:latin typeface="Gill Sans MT"/>
                <a:hlinkClick r:id="rId11"/>
              </a:rPr>
              <a:t>isma</a:t>
            </a:r>
            <a:r>
              <a:rPr b="0" lang="en-US" sz="2000" spc="-1" strike="noStrike" u="sng">
                <a:solidFill>
                  <a:srgbClr val="4b8de1"/>
                </a:solidFill>
                <a:uFillTx/>
                <a:latin typeface="Gill Sans MT"/>
                <a:hlinkClick r:id="rId12"/>
              </a:rPr>
              <a:t>.</a:t>
            </a:r>
            <a:r>
              <a:rPr b="0" lang="en-US" sz="2000" spc="-1" strike="noStrike" u="sng">
                <a:solidFill>
                  <a:srgbClr val="4b8de1"/>
                </a:solidFill>
                <a:uFillTx/>
                <a:latin typeface="Gill Sans MT"/>
                <a:hlinkClick r:id="rId13"/>
              </a:rPr>
              <a:t>tv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GPP 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 u="sng">
                <a:solidFill>
                  <a:srgbClr val="4b8de1"/>
                </a:solidFill>
                <a:uFillTx/>
                <a:latin typeface="Gill Sans MT"/>
                <a:hlinkClick r:id="rId14"/>
              </a:rPr>
              <a:t>http://www.3gpp.org/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0">
              <a:lnSpc>
                <a:spcPct val="80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Basics of MHP</a:t>
            </a: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7773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Public Standar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for Interactive TV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Integrates Interne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nectiv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 profil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nhanced TV, Interactive TV, Internet TV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s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s its found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TV Centric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ame system for Satellite, Cable, Terrestri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nified Global Cont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vers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end-to-en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ha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Secur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Open,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Extensibl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Framewor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Scalabl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rchitec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nly Proven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Interoperabl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olu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29200" y="4800600"/>
            <a:ext cx="3867120" cy="1389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Basics of MPEG-4</a:t>
            </a: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7773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ndard for A/V delivery on Internet and Mobile Network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n features of MPEG-4 Visual (Video &amp; Graphic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ptimized quality at low bit rates : 10K to 1Mbp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Object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orient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IFS (graphics format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obust and scalab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n features of MPEG-4 Audio (Speech &amp; Audio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uite of audio cod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peech cod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ynthetic audio, and speec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fficient low bit rate cod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Separate streams for audio, video, graphics, etc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Allows streaming by any transport layer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(RTP, MPEG2-TS…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MPEG-4 Features (1)</a:t>
            </a: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7773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PEG-4 visu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atural textures, still images, vide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extures and still images wavelets, video DCT bas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ynthetic obje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ace and body animation at very low bitrat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bitrary shap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nsparency plane, in addition to YUV pla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gh coding efficiency at low bitrat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bvious choice for streaming over Interne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calabil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patial, temporal, FG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MPEG-4 Features (2)</a:t>
            </a: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7773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PEG-4 Audi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range of codecs for speech and musi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igh level of scalabili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amless adaptation to varying bandwidt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PEG-4 Graphic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VRML bas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inary format for transpor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reaming of animations at a few kbit/se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MPEG-4 Features (3)</a:t>
            </a: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2960"/>
            <a:ext cx="7773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PEG-4 Sce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PEG-4 is about Objects 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cenes define how to compose obje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ynamic composi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00240" indent="-285840">
              <a:lnSpc>
                <a:spcPct val="105000"/>
              </a:lnSpc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mposition may vary in time and spa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itable for Personalized Servi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00240" indent="-285840">
              <a:lnSpc>
                <a:spcPct val="105000"/>
              </a:lnSpc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ser specific composi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05000"/>
              </a:lnSpc>
              <a:buClr>
                <a:srgbClr val="ff9900"/>
              </a:buClr>
              <a:buSzPct val="60000"/>
              <a:buFont typeface="Monotype Sorts" charset="2"/>
              <a:buChar char=""/>
              <a:tabLst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fficient transpor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Object-Based Coding</a:t>
            </a: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90480" y="1571400"/>
            <a:ext cx="485316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bject Oriente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95160" indent="-233280">
              <a:lnSpc>
                <a:spcPct val="105000"/>
              </a:lnSpc>
              <a:buClr>
                <a:srgbClr val="ff9900"/>
              </a:buClr>
              <a:buSzPct val="50000"/>
              <a:buFont typeface="Monotype Sorts" charset="2"/>
              <a:buChar char="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Free composition of graphics, and video objects into scenes (overlays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95160" indent="-233280">
              <a:lnSpc>
                <a:spcPct val="105000"/>
              </a:lnSpc>
              <a:buClr>
                <a:srgbClr val="ff9900"/>
              </a:buClr>
              <a:buSzPct val="50000"/>
              <a:buFont typeface="Monotype Sorts" charset="2"/>
              <a:buChar char="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Audio and video objects can be independently manipulate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95160" indent="-233280">
              <a:lnSpc>
                <a:spcPct val="105000"/>
              </a:lnSpc>
              <a:buClr>
                <a:srgbClr val="ff9900"/>
              </a:buClr>
              <a:buSzPct val="50000"/>
              <a:buFont typeface="Monotype Sorts" charset="2"/>
              <a:buChar char="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Arbitrary shapes (binary or alpha blended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95160" indent="-233280">
              <a:lnSpc>
                <a:spcPct val="105000"/>
              </a:lnSpc>
              <a:buClr>
                <a:srgbClr val="ff9900"/>
              </a:buClr>
              <a:buSzPct val="50000"/>
              <a:buFont typeface="Monotype Sorts" charset="2"/>
              <a:buChar char="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BIFS : text, 2D, and 3D binary forma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95160" indent="-233280">
              <a:lnSpc>
                <a:spcPct val="105000"/>
              </a:lnSpc>
              <a:buClr>
                <a:srgbClr val="ff9900"/>
              </a:buClr>
              <a:buSzPct val="50000"/>
              <a:buFont typeface="Monotype Sorts" charset="2"/>
              <a:buChar char="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separate  front and backgroun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95160" indent="-233280">
              <a:lnSpc>
                <a:spcPct val="105000"/>
              </a:lnSpc>
              <a:buClr>
                <a:srgbClr val="ff9900"/>
              </a:buClr>
              <a:buSzPct val="50000"/>
              <a:buFont typeface="Monotype Sorts" charset="2"/>
              <a:buChar char="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multiple foreground object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95160" indent="-233280">
              <a:lnSpc>
                <a:spcPct val="105000"/>
              </a:lnSpc>
              <a:buClr>
                <a:srgbClr val="ff9900"/>
              </a:buClr>
              <a:buSzPct val="50000"/>
              <a:buFont typeface="Monotype Sorts" charset="2"/>
              <a:buChar char="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variable spatial placing of object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95160" indent="-233280">
              <a:lnSpc>
                <a:spcPct val="105000"/>
              </a:lnSpc>
              <a:buClr>
                <a:srgbClr val="ff9900"/>
              </a:buClr>
              <a:buSzPct val="50000"/>
              <a:buFont typeface="Monotype Sorts" charset="2"/>
              <a:buChar char="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alpha shape to blend visual object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7760">
              <a:lnSpc>
                <a:spcPct val="105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bject-Based Coding MPEG-4 is a great vehicle for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95160" indent="-233280">
              <a:lnSpc>
                <a:spcPct val="105000"/>
              </a:lnSpc>
              <a:buClr>
                <a:srgbClr val="ff9900"/>
              </a:buClr>
              <a:buSzPct val="50000"/>
              <a:buFont typeface="Monotype Sorts" charset="2"/>
              <a:buChar char="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nteraction at the end user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95160" indent="-233280">
              <a:lnSpc>
                <a:spcPct val="105000"/>
              </a:lnSpc>
              <a:buClr>
                <a:srgbClr val="ff9900"/>
              </a:buClr>
              <a:buSzPct val="50000"/>
              <a:buFont typeface="Monotype Sorts" charset="2"/>
              <a:buChar char="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Capturing user profil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95160" indent="-233280">
              <a:lnSpc>
                <a:spcPct val="105000"/>
              </a:lnSpc>
              <a:buClr>
                <a:srgbClr val="ff9900"/>
              </a:buClr>
              <a:buSzPct val="50000"/>
              <a:buFont typeface="Monotype Sorts" charset="2"/>
              <a:buChar char="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Adding value to the conten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105000"/>
              </a:lnSpc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8960" y="2286000"/>
            <a:ext cx="1863360" cy="1395000"/>
            <a:chOff x="138960" y="2286000"/>
            <a:chExt cx="1863360" cy="1395000"/>
          </a:xfrm>
        </p:grpSpPr>
        <p:graphicFrame>
          <p:nvGraphicFramePr>
            <p:cNvPr id="114" name=""/>
            <p:cNvGraphicFramePr/>
            <p:nvPr/>
          </p:nvGraphicFramePr>
          <p:xfrm>
            <a:off x="152280" y="2709360"/>
            <a:ext cx="1782720" cy="97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2709360"/>
                      <a:ext cx="178272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"/>
            <p:cNvSpPr/>
            <p:nvPr/>
          </p:nvSpPr>
          <p:spPr>
            <a:xfrm>
              <a:off x="138960" y="2286000"/>
              <a:ext cx="18633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GB" sz="1100" spc="-1" strike="noStrike">
                  <a:solidFill>
                    <a:srgbClr val="7eadea"/>
                  </a:solidFill>
                  <a:latin typeface="Gill Sans MT"/>
                </a:rPr>
                <a:t>Object #1:  Main Progra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GB" sz="1100" spc="-1" strike="noStrike">
                  <a:solidFill>
                    <a:srgbClr val="7eadea"/>
                  </a:solidFill>
                  <a:latin typeface="Gill Sans MT"/>
                </a:rPr>
                <a:t>(Newscast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200400" y="2743200"/>
            <a:ext cx="1558800" cy="920520"/>
            <a:chOff x="3200400" y="2743200"/>
            <a:chExt cx="1558800" cy="920520"/>
          </a:xfrm>
        </p:grpSpPr>
        <p:pic>
          <p:nvPicPr>
            <p:cNvPr id="118" name="" descr=""/>
            <p:cNvPicPr/>
            <p:nvPr/>
          </p:nvPicPr>
          <p:blipFill>
            <a:blip r:embed="rId3"/>
            <a:srcRect l="0" t="0" r="9468" b="19622"/>
            <a:stretch/>
          </p:blipFill>
          <p:spPr>
            <a:xfrm>
              <a:off x="3200400" y="3329280"/>
              <a:ext cx="155880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411360" y="2743200"/>
              <a:ext cx="1224720" cy="5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GB" sz="1100" spc="-1" strike="noStrike">
                  <a:solidFill>
                    <a:srgbClr val="7eadea"/>
                  </a:solidFill>
                  <a:latin typeface="Gill Sans MT"/>
                </a:rPr>
                <a:t>Object #3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GB" sz="1100" spc="-1" strike="noStrike">
                  <a:solidFill>
                    <a:srgbClr val="7eadea"/>
                  </a:solidFill>
                  <a:latin typeface="Gill Sans MT"/>
                </a:rPr>
                <a:t>Graphic Overla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GB" sz="1100" spc="-1" strike="noStrike">
                  <a:solidFill>
                    <a:srgbClr val="7eadea"/>
                  </a:solidFill>
                  <a:latin typeface="Gill Sans MT"/>
                </a:rPr>
                <a:t>(Sponsor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14480" y="3487680"/>
            <a:ext cx="4329000" cy="967680"/>
            <a:chOff x="114480" y="3487680"/>
            <a:chExt cx="4329000" cy="967680"/>
          </a:xfrm>
        </p:grpSpPr>
        <p:sp>
          <p:nvSpPr>
            <p:cNvPr id="121" name=""/>
            <p:cNvSpPr/>
            <p:nvPr/>
          </p:nvSpPr>
          <p:spPr>
            <a:xfrm>
              <a:off x="1838880" y="3487680"/>
              <a:ext cx="1224720" cy="5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GB" sz="1100" spc="-1" strike="noStrike">
                  <a:solidFill>
                    <a:srgbClr val="7eadea"/>
                  </a:solidFill>
                  <a:latin typeface="Gill Sans MT"/>
                </a:rPr>
                <a:t>Object #4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GB" sz="1100" spc="-1" strike="noStrike">
                  <a:solidFill>
                    <a:srgbClr val="7eadea"/>
                  </a:solidFill>
                  <a:latin typeface="Gill Sans MT"/>
                </a:rPr>
                <a:t>Graphic Overla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GB" sz="1100" spc="-1" strike="noStrike">
                  <a:solidFill>
                    <a:srgbClr val="7eadea"/>
                  </a:solidFill>
                  <a:latin typeface="Gill Sans MT"/>
                </a:rPr>
                <a:t>(Stock Ticker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4480" y="4067640"/>
              <a:ext cx="4329000" cy="38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US" sz="1000" spc="-1" strike="noStrike">
                  <a:solidFill>
                    <a:srgbClr val="00ff00"/>
                  </a:solidFill>
                  <a:latin typeface="Webdings"/>
                  <a:ea typeface="Webdings"/>
                </a:rPr>
                <a:t></a:t>
              </a:r>
              <a:r>
                <a:rPr b="0" lang="en-US" sz="1000" spc="-1" strike="noStrike">
                  <a:solidFill>
                    <a:srgbClr val="ffffff"/>
                  </a:solidFill>
                  <a:latin typeface="GillSans"/>
                </a:rPr>
                <a:t>Philips 40%</a:t>
              </a:r>
              <a:r>
                <a:rPr b="0" lang="en-US" sz="1000" spc="-1" strike="noStrike">
                  <a:solidFill>
                    <a:srgbClr val="ff0000"/>
                  </a:solidFill>
                  <a:latin typeface="Webdings"/>
                  <a:ea typeface="Webdings"/>
                </a:rPr>
                <a:t></a:t>
              </a:r>
              <a:r>
                <a:rPr b="0" lang="en-US" sz="1000" spc="-1" strike="noStrike">
                  <a:solidFill>
                    <a:srgbClr val="ffffff"/>
                  </a:solidFill>
                  <a:latin typeface="GillSans"/>
                </a:rPr>
                <a:t>SONY 25% </a:t>
              </a:r>
              <a:r>
                <a:rPr b="0" lang="en-US" sz="1000" spc="-1" strike="noStrike">
                  <a:solidFill>
                    <a:srgbClr val="ff0000"/>
                  </a:solidFill>
                  <a:latin typeface="Webdings"/>
                  <a:ea typeface="Webdings"/>
                </a:rPr>
                <a:t></a:t>
              </a:r>
              <a:r>
                <a:rPr b="0" lang="en-US" sz="1000" spc="-1" strike="noStrike">
                  <a:solidFill>
                    <a:srgbClr val="ffffff"/>
                  </a:solidFill>
                  <a:latin typeface="GillSans"/>
                </a:rPr>
                <a:t> Panasonic 12%</a:t>
              </a:r>
              <a:r>
                <a:rPr b="0" lang="en-US" sz="1000" spc="-1" strike="noStrike">
                  <a:solidFill>
                    <a:srgbClr val="ff0000"/>
                  </a:solidFill>
                  <a:latin typeface="Webdings"/>
                  <a:ea typeface="Webdings"/>
                </a:rPr>
                <a:t></a:t>
              </a:r>
              <a:r>
                <a:rPr b="0" lang="en-US" sz="1000" spc="-1" strike="noStrike">
                  <a:solidFill>
                    <a:srgbClr val="ffffff"/>
                  </a:solidFill>
                  <a:latin typeface="GillSans"/>
                </a:rPr>
                <a:t>Thomson 34% </a:t>
              </a:r>
              <a:r>
                <a:rPr b="0" lang="en-US" sz="1000" spc="-1" strike="noStrike">
                  <a:solidFill>
                    <a:srgbClr val="00ff00"/>
                  </a:solidFill>
                  <a:latin typeface="Webdings"/>
                  <a:ea typeface="Webdings"/>
                </a:rPr>
                <a:t></a:t>
              </a:r>
              <a:r>
                <a:rPr b="0" lang="en-US" sz="1000" spc="-1" strike="noStrike">
                  <a:solidFill>
                    <a:srgbClr val="ffffff"/>
                  </a:solidFill>
                  <a:latin typeface="GillSans"/>
                </a:rPr>
                <a:t>Gemstar 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86000" y="1676520"/>
            <a:ext cx="1225080" cy="1056960"/>
            <a:chOff x="2286000" y="1676520"/>
            <a:chExt cx="1225080" cy="1056960"/>
          </a:xfrm>
        </p:grpSpPr>
        <p:sp>
          <p:nvSpPr>
            <p:cNvPr id="124" name=""/>
            <p:cNvSpPr/>
            <p:nvPr/>
          </p:nvSpPr>
          <p:spPr>
            <a:xfrm>
              <a:off x="2286360" y="1676520"/>
              <a:ext cx="1224720" cy="5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GB" sz="1100" spc="-1" strike="noStrike">
                  <a:solidFill>
                    <a:srgbClr val="7eadea"/>
                  </a:solidFill>
                  <a:latin typeface="Gill Sans MT"/>
                </a:rPr>
                <a:t>Object #2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GB" sz="1100" spc="-1" strike="noStrike">
                  <a:solidFill>
                    <a:srgbClr val="7eadea"/>
                  </a:solidFill>
                  <a:latin typeface="Gill Sans MT"/>
                </a:rPr>
                <a:t>Graphic Overla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GB" sz="1100" spc="-1" strike="noStrike">
                  <a:solidFill>
                    <a:srgbClr val="7eadea"/>
                  </a:solidFill>
                  <a:latin typeface="Gill Sans MT"/>
                </a:rPr>
                <a:t>(Station ID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2286000" y="2399400"/>
              <a:ext cx="1200240" cy="33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1444680" y="4454640"/>
            <a:ext cx="2898360" cy="2344320"/>
            <a:chOff x="1444680" y="4454640"/>
            <a:chExt cx="2898360" cy="2344320"/>
          </a:xfrm>
        </p:grpSpPr>
        <p:pic>
          <p:nvPicPr>
            <p:cNvPr id="127" name="hdtv" descr=""/>
            <p:cNvPicPr/>
            <p:nvPr/>
          </p:nvPicPr>
          <p:blipFill>
            <a:blip r:embed="rId5"/>
            <a:srcRect l="3836" t="3743" r="3118" b="3669"/>
            <a:stretch/>
          </p:blipFill>
          <p:spPr>
            <a:xfrm>
              <a:off x="2383560" y="4800600"/>
              <a:ext cx="1959480" cy="1998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28" name=""/>
            <p:cNvGraphicFramePr/>
            <p:nvPr/>
          </p:nvGraphicFramePr>
          <p:xfrm>
            <a:off x="2462400" y="4891680"/>
            <a:ext cx="1783440" cy="971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462400" y="4891680"/>
                      <a:ext cx="1783440" cy="97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2455200" y="5737320"/>
              <a:ext cx="1779480" cy="20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US" sz="400" spc="-1" strike="noStrike">
                  <a:solidFill>
                    <a:srgbClr val="00ff00"/>
                  </a:solidFill>
                  <a:latin typeface="Webdings"/>
                  <a:ea typeface="Webdings"/>
                </a:rPr>
                <a:t></a:t>
              </a:r>
              <a:r>
                <a:rPr b="0" lang="en-US" sz="400" spc="-1" strike="noStrike">
                  <a:solidFill>
                    <a:srgbClr val="ffffff"/>
                  </a:solidFill>
                  <a:latin typeface="GillSans"/>
                </a:rPr>
                <a:t>Philips 40%</a:t>
              </a:r>
              <a:r>
                <a:rPr b="0" lang="en-US" sz="400" spc="-1" strike="noStrike">
                  <a:solidFill>
                    <a:srgbClr val="ff0000"/>
                  </a:solidFill>
                  <a:latin typeface="Webdings"/>
                  <a:ea typeface="Webdings"/>
                </a:rPr>
                <a:t></a:t>
              </a:r>
              <a:r>
                <a:rPr b="0" lang="en-US" sz="400" spc="-1" strike="noStrike">
                  <a:solidFill>
                    <a:srgbClr val="ffffff"/>
                  </a:solidFill>
                  <a:latin typeface="GillSans"/>
                </a:rPr>
                <a:t>SONY 25% </a:t>
              </a:r>
              <a:r>
                <a:rPr b="0" lang="en-US" sz="400" spc="-1" strike="noStrike">
                  <a:solidFill>
                    <a:srgbClr val="ff0000"/>
                  </a:solidFill>
                  <a:latin typeface="Webdings"/>
                  <a:ea typeface="Webdings"/>
                </a:rPr>
                <a:t></a:t>
              </a:r>
              <a:r>
                <a:rPr b="0" lang="en-US" sz="400" spc="-1" strike="noStrike">
                  <a:solidFill>
                    <a:srgbClr val="ffffff"/>
                  </a:solidFill>
                  <a:latin typeface="GillSans"/>
                </a:rPr>
                <a:t> Panasonic 12%</a:t>
              </a:r>
              <a:r>
                <a:rPr b="0" lang="en-US" sz="400" spc="-1" strike="noStrike">
                  <a:solidFill>
                    <a:srgbClr val="ff0000"/>
                  </a:solidFill>
                  <a:latin typeface="Webdings"/>
                  <a:ea typeface="Webdings"/>
                </a:rPr>
                <a:t></a:t>
              </a:r>
              <a:r>
                <a:rPr b="0" lang="en-US" sz="400" spc="-1" strike="noStrike">
                  <a:solidFill>
                    <a:srgbClr val="ffffff"/>
                  </a:solidFill>
                  <a:latin typeface="GillSans"/>
                </a:rPr>
                <a:t>Thomson 34% </a:t>
              </a:r>
              <a:r>
                <a:rPr b="0" lang="en-US" sz="400" spc="-1" strike="noStrike">
                  <a:solidFill>
                    <a:srgbClr val="00ff00"/>
                  </a:solidFill>
                  <a:latin typeface="Webdings"/>
                  <a:ea typeface="Webdings"/>
                </a:rPr>
                <a:t></a:t>
              </a:r>
              <a:r>
                <a:rPr b="0" lang="en-US" sz="400" spc="-1" strike="noStrike">
                  <a:solidFill>
                    <a:srgbClr val="ffffff"/>
                  </a:solidFill>
                  <a:latin typeface="GillSans"/>
                </a:rPr>
                <a:t>Gemstar 30%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8"/>
            <a:srcRect l="0" t="0" r="9468" b="19622"/>
            <a:stretch/>
          </p:blipFill>
          <p:spPr>
            <a:xfrm>
              <a:off x="2496600" y="4907520"/>
              <a:ext cx="470160" cy="1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 flipH="1" flipV="1" rot="16200000">
              <a:off x="1213560" y="4697280"/>
              <a:ext cx="1334160" cy="871920"/>
            </a:xfrm>
            <a:custGeom>
              <a:avLst/>
              <a:gdLst>
                <a:gd name="textAreaLeft" fmla="*/ 444960 w 1334160"/>
                <a:gd name="textAreaRight" fmla="*/ 1143000 w 1334160"/>
                <a:gd name="textAreaTop" fmla="*/ 502200 h 871920"/>
                <a:gd name="textAreaBottom" fmla="*/ 747000 h 87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14160" y="4454640"/>
              <a:ext cx="18525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GB" sz="1600" spc="-1" strike="noStrike">
                  <a:solidFill>
                    <a:srgbClr val="7eadea"/>
                  </a:solidFill>
                  <a:latin typeface="Gill Sans MT"/>
                </a:rPr>
                <a:t>Composed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9"/>
            <a:stretch/>
          </p:blipFill>
          <p:spPr>
            <a:xfrm>
              <a:off x="3671640" y="4900320"/>
              <a:ext cx="547200" cy="151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Personalised Video</a:t>
            </a: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36" name="Stade%20avec%20logo%20Caixa%20cube%203D%20ombré" descr=""/>
          <p:cNvPicPr/>
          <p:nvPr/>
        </p:nvPicPr>
        <p:blipFill>
          <a:blip r:embed="rId1"/>
          <a:stretch/>
        </p:blipFill>
        <p:spPr>
          <a:xfrm>
            <a:off x="1023840" y="1251000"/>
            <a:ext cx="2908440" cy="23461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137" name="Foot%20Coca%20Rond%20central%20%20WCup%2098%20Italie" descr=""/>
          <p:cNvPicPr/>
          <p:nvPr/>
        </p:nvPicPr>
        <p:blipFill>
          <a:blip r:embed="rId2"/>
          <a:stretch/>
        </p:blipFill>
        <p:spPr>
          <a:xfrm>
            <a:off x="5470560" y="1263600"/>
            <a:ext cx="2863800" cy="23335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138" name="3%20Feeds" descr=""/>
          <p:cNvPicPr/>
          <p:nvPr/>
        </p:nvPicPr>
        <p:blipFill>
          <a:blip r:embed="rId3"/>
          <a:stretch/>
        </p:blipFill>
        <p:spPr>
          <a:xfrm>
            <a:off x="1023840" y="3745080"/>
            <a:ext cx="2938680" cy="23508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139" name="3Feeds" descr=""/>
          <p:cNvPicPr/>
          <p:nvPr/>
        </p:nvPicPr>
        <p:blipFill>
          <a:blip r:embed="rId4"/>
          <a:stretch/>
        </p:blipFill>
        <p:spPr>
          <a:xfrm>
            <a:off x="5478480" y="3745080"/>
            <a:ext cx="2938320" cy="23508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0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162000" rIns="90000" tIns="118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7160"/>
                <a:tab algn="l" pos="2254320"/>
                <a:tab algn="l" pos="3381480"/>
                <a:tab algn="l" pos="4508640"/>
                <a:tab algn="l" pos="5635800"/>
                <a:tab algn="l" pos="6762600"/>
                <a:tab algn="l" pos="7889760"/>
                <a:tab algn="l" pos="9016920"/>
                <a:tab algn="l" pos="10144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Buy the Ball” PPV</a:t>
            </a:r>
            <a:endParaRPr b="1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41" name="CRE_2000_poster_picture_PSV_Ball" descr=""/>
          <p:cNvPicPr/>
          <p:nvPr/>
        </p:nvPicPr>
        <p:blipFill>
          <a:blip r:embed="rId1"/>
          <a:stretch/>
        </p:blipFill>
        <p:spPr>
          <a:xfrm>
            <a:off x="789120" y="2021040"/>
            <a:ext cx="2263680" cy="1234800"/>
          </a:xfrm>
          <a:prstGeom prst="rect">
            <a:avLst/>
          </a:prstGeom>
          <a:ln w="0">
            <a:noFill/>
          </a:ln>
        </p:spPr>
      </p:pic>
      <p:pic>
        <p:nvPicPr>
          <p:cNvPr id="142" name="CRE_2000_poster_picture_PSV_Ball_removed" descr=""/>
          <p:cNvPicPr/>
          <p:nvPr/>
        </p:nvPicPr>
        <p:blipFill>
          <a:blip r:embed="rId2"/>
          <a:stretch/>
        </p:blipFill>
        <p:spPr>
          <a:xfrm>
            <a:off x="3530520" y="3529080"/>
            <a:ext cx="2265480" cy="1235160"/>
          </a:xfrm>
          <a:prstGeom prst="rect">
            <a:avLst/>
          </a:prstGeom>
          <a:ln w="0">
            <a:noFill/>
          </a:ln>
        </p:spPr>
      </p:pic>
      <p:pic>
        <p:nvPicPr>
          <p:cNvPr id="143" name="CRE_2000_poster_picture_PSV_Noball_edited" descr=""/>
          <p:cNvPicPr/>
          <p:nvPr/>
        </p:nvPicPr>
        <p:blipFill>
          <a:blip r:embed="rId3"/>
          <a:stretch/>
        </p:blipFill>
        <p:spPr>
          <a:xfrm>
            <a:off x="6205680" y="3529080"/>
            <a:ext cx="2197080" cy="1235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_PSV_only_the_Ball" descr=""/>
          <p:cNvPicPr/>
          <p:nvPr/>
        </p:nvPicPr>
        <p:blipFill>
          <a:blip r:embed="rId4"/>
          <a:stretch/>
        </p:blipFill>
        <p:spPr>
          <a:xfrm>
            <a:off x="4157640" y="2363760"/>
            <a:ext cx="128520" cy="115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V="1">
            <a:off x="3052800" y="2431800"/>
            <a:ext cx="1028520" cy="206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52800" y="2638440"/>
            <a:ext cx="41112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6000" y="4146480"/>
            <a:ext cx="411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75520" y="5245200"/>
            <a:ext cx="2058840" cy="6850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PEG-2 Video  Enco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07120" y="2638440"/>
            <a:ext cx="2127240" cy="6850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PEG-4 Visual  Enco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356000" y="2157120"/>
            <a:ext cx="1851120" cy="274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05840" y="4764240"/>
            <a:ext cx="0" cy="480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07120" y="1814400"/>
            <a:ext cx="2127240" cy="6850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PEG-4 Scene  Enco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56000" y="2432160"/>
            <a:ext cx="1851120" cy="54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49800" y="1519200"/>
            <a:ext cx="18730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PEG-4 object: b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11640" y="1844640"/>
            <a:ext cx="71280" cy="463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0:15:42Z</dcterms:created>
  <dc:creator>Paul Bristow</dc:creator>
  <dc:description/>
  <cp:keywords>MHP PVR iTV hard disk</cp:keywords>
  <dc:language>en-US</dc:language>
  <cp:lastModifiedBy>Paul Bristow</cp:lastModifiedBy>
  <cp:lastPrinted>2001-11-15T06:47:43Z</cp:lastPrinted>
  <dcterms:modified xsi:type="dcterms:W3CDTF">2002-03-05T15:54:44Z</dcterms:modified>
  <cp:revision>49</cp:revision>
  <dc:subject/>
  <dc:title>Integrating MHP and Personal Video Recording</dc:title>
</cp:coreProperties>
</file>