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TH AMERICAN PROGRESS IN MULTIMEDIA BROAD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on IP Cablecom/Mediacom 200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ity in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va, 12 - 15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in Ak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s Research Centre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RADIO BROADCASTING IN C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estrial Radio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placement for AM and FM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ill operate in the L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ill use System A (EUREKA 147) of ITU-R Rec. BS.111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0-30% of capacity available for multimed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BA service started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ervice available in Montreal, Toronto, Windso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couver - covers 35%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apid deployment in high population density corridor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bec-Windsor, Edmonton-Calgary, Fraser Va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AB receivers in some 2003 model GM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RADIO BROADCASTING IN CANAD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Radio Broadcasting (S-D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t planned for Canada at this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C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estrial 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ses System A of ITU-R Rec.1309-1 (8-V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ses the existing VHF and UHF TV broadcast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ach 6 MHz channel has ~20 Mb/s 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xperimental Transmitters exist in Ottaw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mmercial service expected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CANAD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re are two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Bell ExpressVu (Operates in the BSS 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ar Choice (Operates in the FSS 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chnologies are not compatible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ecoder STB’s provide interactive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arly models provide return link by 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wer models provide high speed return link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.4 million subscribers (8% of TV househol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CANAD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ble Tel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ses same standards as the USA ca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STB’s also conform to the Open Cabl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B’s provide return interac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6.6 million basic cable subscribers (77% of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0.6 million digital cable subscribers (9% of bas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cri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ve Return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Protocols and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: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Most work on these issues in North America is in connection with Digital TV. In Canada some experimental work is being carried out for D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RETURN CHA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be provided by terrestrial wired and wireless telecommunication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STN, DECT, GSM, LM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Return Channel by ITU-R WP-6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estrial Return Channel in the UHF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ne system standardized by 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RC in Canada is carrying out return channel 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es using COFDM for fixed and mobil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TSC has started studies on retur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 in the Transmission Subcommittee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 PROTOCOLS AND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SC Standards for D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SC A/65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and System Information Protoco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restrial Broadcast and Cable (PS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TSC A/70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ditional Access System for Terre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TSC A/8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Broadcast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 PROTOCOLS AND STANDARD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SC Candidate Standards for D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TV Application Software Environment (DASE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1: Introduction, Architecture and Common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2: Declarative Applications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3: Procedural Applications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4: Applications Programming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5: ZIP Archive Resourc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6: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7: Application Delivery System - ARM 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art 8: Con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ve TV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teractive Program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ideo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V-Based Web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Digital Video Rec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ddressabl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V Por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hanced TV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gramming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nhanced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ersonalize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teractive Gam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Broadcast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adio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levision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media Broadcas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media Broadcast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APPLIC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KEY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mstar-TV Guide, TVGateway, iSurfTV, DIVA, Concurrent, SeaChange, nCUBE, Intertainer, WebTV, WorldGate, AOLTV, TiVo, Ultimate TV, Navic Networks,  SONICblue/Replay TV, SpotOn, Expanse Networks, MbTV, Jovio, LocalSource, MetaTV, WorldGat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W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ixed Signals, Commerce TV, RespondTV, ACTV, Two Way TV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Bl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.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APPLIC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: iW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 in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nteractivity synchronized to program and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usable on analog and digital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can respond to advertisement and orde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request additional detail related to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being used on terrestrial broadcasting, DB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TV systems in the USA, Canada and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APPLIC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2: iB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 in 1999 - Service started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wireless data distribution network using terrestrial DTV broadcast transmi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greement with 258 broadcast stations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minimum 2 stations per market - reach 92%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ment with many major content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Gbyte/day per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can be received on equipped TV sets, P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can personalize content to be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BROADCASTING APPLIC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B DATACASTING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 started in 1996 by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 To provide Internet access to mobile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interaction channel provided by Mobite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: RIM, Globis, PS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services of interest to mobil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p-to-date traff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eather reports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ock marke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mage and video information to police for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B MULTIMEDI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Broadcasting infrastructure is rapidly evolving In the USA and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channels are available through cable, satellite and other wired and wireless telecommunication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and protocols for data and multimedia broadcasting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system and content providers are available for variou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more information please cont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Metin Ak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Research Centre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01 Carling A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O. Box 11490, Station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tawa, Ontario K2H 8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1 613 998 27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1 613 990 64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metin.akgun@crc.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BROADCASTING INFRA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rre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rre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ble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RADIO BROADCASTING IN THE U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estrial Radio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placement for AM and FM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ill use the existing spectrum (IB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itially will coexist with AM and FM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ill use System C of ITU-R Rec. BS.1114 in the F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itially limited spare capacity for multimed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capacity when FM broadcasting c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as not yet been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milar technology planned for the A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RADIO BROADCASTING IN THE US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Radio Broadcasting (S-D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perates in the 2.3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re are two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XM Satellite Radio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erates from two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ystem augmented by 1,000 terrestrial repea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vides 100 different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irius (Service launched in 200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erates from 3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ystem will be augmented by terrestrial repea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vides 100 differen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THE U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estrial 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ses System A of ITU-R Rec.1309-1 (8-V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Uses the existing VHF and UHF TV broadcast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ach 6 MHz channel has ~20 Mb/s 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ver 200 digital TV transmitters exis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urrently covers 70%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THE US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1920" indent="-24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perates in the BSS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re are two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irect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cho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chnologies are not compatible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ecoder STB’s provide interactive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arly models provide return link by 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w models provide high speed satellite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7 million subscribers (16% of TV househol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TELEVISION BROADCASTING IN THE USA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ble Tel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igital Cable Standards have been developed by S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STB’s conform to the Open Cabl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B’s provide return interac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73 million basic cable subscribers (70% of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4 million digital cable subscribers (18% of bas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cri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BROADCASTING INFRA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rre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vision Broad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rre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ble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0:15:49Z</dcterms:created>
  <dc:creator>Karey Mulcaster</dc:creator>
  <dc:description/>
  <dc:language>en-US</dc:language>
  <cp:lastModifiedBy>Metin Akgun</cp:lastModifiedBy>
  <cp:lastPrinted>2002-02-21T19:02:17Z</cp:lastPrinted>
  <dcterms:modified xsi:type="dcterms:W3CDTF">2002-03-01T18:11:57Z</dcterms:modified>
  <cp:revision>30</cp:revision>
  <dc:subject/>
  <dc:title>No Slide Title</dc:title>
</cp:coreProperties>
</file>