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499-16F3-45F7-9892-795321AE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A6A-3748-47A2-A96F-C5B6329E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2BF-EA94-471D-8623-C91EF8C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8F4-99D1-4353-A585-8DEB988E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E44B-F7D9-4549-9B6D-0F5F16A3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09B4-06C5-4F7F-B0D7-C925CD2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472-DA29-4C62-8113-B805F833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7ED-259F-4C94-BB99-EC580FC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1FB-2F81-4514-AD79-D12DD074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8800" y="147240"/>
            <a:ext cx="6858000" cy="28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-65556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6C7-895E-4460-997D-7BDA665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AFA-ED59-4799-AAF8-D7E02DE4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336-2163-4275-A054-5A4FB0C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577E-9FCE-4280-8E46-7776029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B835-14B9-4B45-8068-6F35499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6DB-D191-4E62-AC4B-BBDB127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63AD-9B5F-4805-9DCE-9EAA9BF9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608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3720" y="12949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608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3720" y="3975120"/>
            <a:ext cx="250236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ED02-099C-4374-BD28-1D7EE22D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8FC-6B07-45C7-B39E-2A8963EC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C90-0541-406D-AD32-CBAD4322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39F-4A9A-46D4-BC65-8D09C83D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800" y="147240"/>
            <a:ext cx="6858000" cy="28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5560" indent="-65556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542-6BDA-43A5-9820-AC0F5DA4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EDA-5BCA-4151-A43D-62C5B7D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9751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AB6-D457-4706-AE3B-04CB003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294920"/>
            <a:ext cx="37926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975120"/>
            <a:ext cx="7772400" cy="244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327-A0D8-4B62-81BA-83EBC20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37040" y="6578640"/>
            <a:ext cx="2876400" cy="2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FuturaA Md BT"/>
              </a:rPr>
              <a:t>Tim Gysel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17160" y="6568920"/>
            <a:ext cx="2352600" cy="2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uturaA Md BT"/>
              </a:rPr>
              <a:t>14/03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9051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942-3BF5-4638-A67C-C395B89D7828}" type="slidenum">
              <a:rPr b="0" lang="en-US" sz="800" spc="-1" strike="noStrike">
                <a:solidFill>
                  <a:srgbClr val="ffffff"/>
                </a:solidFill>
                <a:latin typeface="FuturaA Md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040" y="73080"/>
            <a:ext cx="1755000" cy="562320"/>
            <a:chOff x="68040" y="73080"/>
            <a:chExt cx="1755000" cy="562320"/>
          </a:xfrm>
        </p:grpSpPr>
        <p:pic>
          <p:nvPicPr>
            <p:cNvPr id="6" name="ALCLOGO" descr=""/>
            <p:cNvPicPr/>
            <p:nvPr/>
          </p:nvPicPr>
          <p:blipFill>
            <a:blip r:embed="rId3"/>
            <a:stretch/>
          </p:blipFill>
          <p:spPr>
            <a:xfrm>
              <a:off x="312480" y="73080"/>
              <a:ext cx="12679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8040" y="434880"/>
              <a:ext cx="1755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FuturaA Bk BT"/>
                </a:rPr>
                <a:t>ARCHITECTS OF AN INTERNET WORLD</a:t>
              </a:r>
              <a:endParaRPr b="0" lang="en-US" sz="7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7972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9196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6640" indent="-22860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37040" y="6578640"/>
            <a:ext cx="2876400" cy="2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317160" y="6568920"/>
            <a:ext cx="2352600" cy="2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uturaA Md BT"/>
              </a:rPr>
              <a:t>14/03/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858000" y="6552720"/>
            <a:ext cx="190512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FuturaA Md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5D98-7180-43F3-BDD7-DA5BCA744AD8}" type="slidenum">
              <a:rPr b="0" lang="en-US" sz="800" spc="-1" strike="noStrike">
                <a:solidFill>
                  <a:srgbClr val="ffffff"/>
                </a:solidFill>
                <a:latin typeface="FuturaA Md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6360" y="152280"/>
            <a:ext cx="2440800" cy="839880"/>
            <a:chOff x="216360" y="152280"/>
            <a:chExt cx="2440800" cy="839880"/>
          </a:xfrm>
        </p:grpSpPr>
        <p:pic>
          <p:nvPicPr>
            <p:cNvPr id="50" name="ALCLOGO" descr=""/>
            <p:cNvPicPr/>
            <p:nvPr/>
          </p:nvPicPr>
          <p:blipFill>
            <a:blip r:embed="rId3"/>
            <a:stretch/>
          </p:blipFill>
          <p:spPr>
            <a:xfrm>
              <a:off x="560520" y="152280"/>
              <a:ext cx="17794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16360" y="745920"/>
              <a:ext cx="24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FuturaA Bk BT"/>
                </a:rPr>
                <a:t>ARCHITECTS OF AN INTERNET WORLD</a:t>
              </a:r>
              <a:endParaRPr b="0" lang="en-US" sz="1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07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72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lvl="1" marL="2575080" indent="0" algn="ctr">
              <a:lnSpc>
                <a:spcPts val="2798"/>
              </a:lnSpc>
              <a:spcBef>
                <a:spcPts val="550"/>
              </a:spcBef>
              <a:spcAft>
                <a:spcPts val="2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747880" indent="-2092320" algn="ctr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919240" indent="-2263680" algn="ctr">
              <a:lnSpc>
                <a:spcPts val="2798"/>
              </a:lnSpc>
              <a:spcBef>
                <a:spcPts val="451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092400" indent="-2436840" algn="ctr">
              <a:lnSpc>
                <a:spcPts val="2798"/>
              </a:lnSpc>
              <a:spcBef>
                <a:spcPts val="400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092400" indent="-2436840">
              <a:spcBef>
                <a:spcPts val="400"/>
              </a:spcBef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092400" indent="-2436840">
              <a:spcBef>
                <a:spcPts val="400"/>
              </a:spcBef>
              <a:buClr>
                <a:srgbClr val="ffcc66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7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8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9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2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21.wmf"/><Relationship Id="rId34" Type="http://schemas.openxmlformats.org/officeDocument/2006/relationships/image" Target="../media/image5.wmf"/><Relationship Id="rId3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7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Broadband Passive </a:t>
            </a:r>
            <a:br>
              <a:rPr sz="4200"/>
            </a:br>
            <a:r>
              <a:rPr b="1" lang="en-GB" sz="4200" spc="-1" strike="noStrike">
                <a:solidFill>
                  <a:srgbClr val="ffffff"/>
                </a:solidFill>
                <a:latin typeface="Arial"/>
              </a:rPr>
              <a:t>Optical Network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b727"/>
                </a:solidFill>
                <a:latin typeface="Arial"/>
              </a:rPr>
              <a:t>March 14, 2002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b727"/>
                </a:solidFill>
                <a:latin typeface="Arial"/>
              </a:rPr>
              <a:t>Tim Gyselings, Alcatel</a:t>
            </a: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b727"/>
              </a:solidFill>
              <a:latin typeface="Arial"/>
            </a:endParaRPr>
          </a:p>
          <a:p>
            <a:pPr marL="655560" indent="0" algn="ctr">
              <a:lnSpc>
                <a:spcPts val="2985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b727"/>
                </a:solidFill>
                <a:latin typeface="Arial"/>
              </a:rPr>
              <a:t>Tim.gyselings@alcatel.be</a:t>
            </a:r>
            <a:endParaRPr b="0" lang="en-US" sz="2000" spc="-1" strike="noStrike">
              <a:solidFill>
                <a:srgbClr val="ffb7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8350-6DD7-46CB-B878-9112418EDCD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D2AA6657-B4FE-4B08-AFCE-4A208C712159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41440" y="1904040"/>
            <a:ext cx="5568840" cy="3810960"/>
            <a:chOff x="1441440" y="1904040"/>
            <a:chExt cx="5568840" cy="3810960"/>
          </a:xfrm>
        </p:grpSpPr>
        <p:grpSp>
          <p:nvGrpSpPr>
            <p:cNvPr id="646" name=""/>
            <p:cNvGrpSpPr/>
            <p:nvPr/>
          </p:nvGrpSpPr>
          <p:grpSpPr>
            <a:xfrm>
              <a:off x="2971440" y="2971800"/>
              <a:ext cx="4038840" cy="2743200"/>
              <a:chOff x="2971440" y="2971800"/>
              <a:chExt cx="4038840" cy="27432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714640" y="2971800"/>
                <a:ext cx="1295640" cy="152280"/>
                <a:chOff x="5714640" y="2971800"/>
                <a:chExt cx="1295640" cy="15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94360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705720" y="2971800"/>
                  <a:ext cx="3045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5714640" y="30481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5714640" y="5562720"/>
                <a:ext cx="1295640" cy="152280"/>
                <a:chOff x="5714640" y="5562720"/>
                <a:chExt cx="1295640" cy="152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6705720" y="5562720"/>
                  <a:ext cx="30456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a5002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5714640" y="563868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5714640" y="3886200"/>
                <a:ext cx="914760" cy="152280"/>
                <a:chOff x="5714640" y="3886200"/>
                <a:chExt cx="914760" cy="1522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5714640" y="39625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24480" y="38862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00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2971440" y="4495680"/>
                <a:ext cx="1676880" cy="152640"/>
                <a:chOff x="2971440" y="4495680"/>
                <a:chExt cx="1676880" cy="152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20040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962520" y="4495680"/>
                  <a:ext cx="30456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8128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00"/>
                    </a:gs>
                    <a:gs pos="100000">
                      <a:srgbClr val="0099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343400" y="4495680"/>
                  <a:ext cx="304920" cy="15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a5002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2971440" y="457200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3363840" y="475380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DMA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441440" y="1904040"/>
              <a:ext cx="190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me period 1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378080" y="2132640"/>
            <a:ext cx="5632200" cy="3582360"/>
            <a:chOff x="1378080" y="2132640"/>
            <a:chExt cx="5632200" cy="3582360"/>
          </a:xfrm>
        </p:grpSpPr>
        <p:grpSp>
          <p:nvGrpSpPr>
            <p:cNvPr id="666" name=""/>
            <p:cNvGrpSpPr/>
            <p:nvPr/>
          </p:nvGrpSpPr>
          <p:grpSpPr>
            <a:xfrm>
              <a:off x="1378080" y="2132640"/>
              <a:ext cx="5632200" cy="3582360"/>
              <a:chOff x="1378080" y="2132640"/>
              <a:chExt cx="5632200" cy="3582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2971440" y="3048120"/>
                <a:ext cx="4038840" cy="2666880"/>
                <a:chOff x="2971440" y="3048120"/>
                <a:chExt cx="4038840" cy="2666880"/>
              </a:xfrm>
            </p:grpSpPr>
            <p:sp>
              <p:nvSpPr>
                <p:cNvPr id="668" name=""/>
                <p:cNvSpPr/>
                <p:nvPr/>
              </p:nvSpPr>
              <p:spPr>
                <a:xfrm flipH="1">
                  <a:off x="5714640" y="3048120"/>
                  <a:ext cx="152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714640" y="5562720"/>
                  <a:ext cx="533880" cy="152280"/>
                  <a:chOff x="5714640" y="5562720"/>
                  <a:chExt cx="533880" cy="15228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5943600" y="556272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100000">
                        <a:srgbClr val="a5002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>
                    <a:off x="5714640" y="563868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5714640" y="3886200"/>
                  <a:ext cx="1295640" cy="152280"/>
                  <a:chOff x="5714640" y="3886200"/>
                  <a:chExt cx="1295640" cy="15228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>
                    <a:off x="5714640" y="396252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943600" y="388620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324480" y="3886200"/>
                    <a:ext cx="30492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705720" y="3886200"/>
                    <a:ext cx="304560" cy="152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2971440" y="4495680"/>
                  <a:ext cx="1676880" cy="152640"/>
                  <a:chOff x="2971440" y="4495680"/>
                  <a:chExt cx="1676880" cy="15264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3581280" y="4495680"/>
                    <a:ext cx="304920" cy="15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99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343400" y="4495680"/>
                    <a:ext cx="304920" cy="152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3300"/>
                      </a:gs>
                      <a:gs pos="100000">
                        <a:srgbClr val="a5002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H="1">
                    <a:off x="2971440" y="4572000"/>
                    <a:ext cx="1522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"/>
                <p:cNvSpPr/>
                <p:nvPr/>
              </p:nvSpPr>
              <p:spPr>
                <a:xfrm>
                  <a:off x="3363840" y="4753800"/>
                  <a:ext cx="901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TDMA</a:t>
                  </a:r>
                  <a:endParaRPr b="0" lang="en-US" sz="2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" name=""/>
              <p:cNvSpPr/>
              <p:nvPr/>
            </p:nvSpPr>
            <p:spPr>
              <a:xfrm>
                <a:off x="1378080" y="2132640"/>
                <a:ext cx="197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Time period 2</a:t>
                </a:r>
                <a:endParaRPr b="0" lang="en-US" sz="20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3962520" y="4495680"/>
              <a:ext cx="304560" cy="1526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00400" y="4495680"/>
              <a:ext cx="304920" cy="1526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4120" y="913320"/>
            <a:ext cx="84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4 : A broadband optical access system with increased servi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bility using dynamic bandwidth assignm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44400" y="2209680"/>
            <a:ext cx="8118720" cy="3760920"/>
            <a:chOff x="644400" y="2209680"/>
            <a:chExt cx="8118720" cy="3760920"/>
          </a:xfrm>
        </p:grpSpPr>
        <p:grpSp>
          <p:nvGrpSpPr>
            <p:cNvPr id="688" name=""/>
            <p:cNvGrpSpPr/>
            <p:nvPr/>
          </p:nvGrpSpPr>
          <p:grpSpPr>
            <a:xfrm>
              <a:off x="644400" y="2817720"/>
              <a:ext cx="2242080" cy="2789280"/>
              <a:chOff x="644400" y="2817720"/>
              <a:chExt cx="2242080" cy="2789280"/>
            </a:xfrm>
          </p:grpSpPr>
          <p:sp>
            <p:nvSpPr>
              <p:cNvPr id="689" name=""/>
              <p:cNvSpPr/>
              <p:nvPr/>
            </p:nvSpPr>
            <p:spPr>
              <a:xfrm>
                <a:off x="925560" y="28177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8200" y="28476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95400" y="37321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95400" y="44179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4400" y="39607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4400" y="47224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558800" y="33508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696" name="" descr=""/>
            <p:cNvPicPr/>
            <p:nvPr/>
          </p:nvPicPr>
          <p:blipFill>
            <a:blip r:embed="rId1"/>
            <a:stretch/>
          </p:blipFill>
          <p:spPr>
            <a:xfrm>
              <a:off x="7848720" y="5105160"/>
              <a:ext cx="9144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262240" y="40384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556236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91320" y="3684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3000" y="426708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24200" y="42670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83160" y="42670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653000" y="27428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97560" y="579096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10080" y="400212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20960" y="400212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72000" y="41925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4648320" y="365724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2"/>
            <a:stretch/>
          </p:blipFill>
          <p:spPr>
            <a:xfrm>
              <a:off x="7772400" y="3124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162920" y="34304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91320" y="27702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7772400" y="2209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7162920" y="25160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524240" y="2345400"/>
            <a:ext cx="5533920" cy="3369600"/>
            <a:chOff x="1524240" y="2345400"/>
            <a:chExt cx="5533920" cy="3369600"/>
          </a:xfrm>
        </p:grpSpPr>
        <p:sp>
          <p:nvSpPr>
            <p:cNvPr id="715" name=""/>
            <p:cNvSpPr/>
            <p:nvPr/>
          </p:nvSpPr>
          <p:spPr>
            <a:xfrm flipH="1">
              <a:off x="5762520" y="39625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1172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24240" y="2345400"/>
              <a:ext cx="18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ime period 3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762520" y="2971800"/>
              <a:ext cx="1295640" cy="152280"/>
              <a:chOff x="5762520" y="2971800"/>
              <a:chExt cx="1295640" cy="15228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5762520" y="2971800"/>
                <a:ext cx="1295640" cy="152280"/>
                <a:chOff x="5762520" y="2971800"/>
                <a:chExt cx="1295640" cy="1522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99112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753240" y="2971800"/>
                  <a:ext cx="304920" cy="15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97cd3"/>
                    </a:gs>
                    <a:gs pos="100000">
                      <a:srgbClr val="1a2f6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5762520" y="3048120"/>
                  <a:ext cx="152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64008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5762520" y="5562720"/>
              <a:ext cx="1295640" cy="152280"/>
              <a:chOff x="5762520" y="5562720"/>
              <a:chExt cx="1295640" cy="152280"/>
            </a:xfrm>
          </p:grpSpPr>
          <p:sp>
            <p:nvSpPr>
              <p:cNvPr id="725" name=""/>
              <p:cNvSpPr/>
              <p:nvPr/>
            </p:nvSpPr>
            <p:spPr>
              <a:xfrm>
                <a:off x="6753240" y="55627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5762520" y="563868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3600" y="55627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019320" y="4495680"/>
              <a:ext cx="1676520" cy="152640"/>
              <a:chOff x="3019320" y="4495680"/>
              <a:chExt cx="1676520" cy="152640"/>
            </a:xfrm>
          </p:grpSpPr>
          <p:sp>
            <p:nvSpPr>
              <p:cNvPr id="729" name=""/>
              <p:cNvSpPr/>
              <p:nvPr/>
            </p:nvSpPr>
            <p:spPr>
              <a:xfrm>
                <a:off x="324792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01004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39092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019320" y="457200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576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3435120" y="1735560"/>
            <a:ext cx="533340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BA: 622 Mbps / 32 users = 20 Mbps / user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A: 20 Mbps average; 622 Mbps pea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2000" y="6018840"/>
            <a:ext cx="68252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BA: statistical multiplexing gain of PON BW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4120" y="5866200"/>
            <a:ext cx="81831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7 : ONT management and control interface specification for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A B-PON system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DEE-891F-49C7-8669-82393DA3699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CA744B-5555-45B7-8E83-FAC8D0F355F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6640" y="913320"/>
            <a:ext cx="75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5 : A broadband optical access system with enhanced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rvivability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644400" y="2055960"/>
            <a:ext cx="8118720" cy="3760200"/>
            <a:chOff x="644400" y="2055960"/>
            <a:chExt cx="8118720" cy="3760200"/>
          </a:xfrm>
        </p:grpSpPr>
        <p:grpSp>
          <p:nvGrpSpPr>
            <p:cNvPr id="741" name=""/>
            <p:cNvGrpSpPr/>
            <p:nvPr/>
          </p:nvGrpSpPr>
          <p:grpSpPr>
            <a:xfrm>
              <a:off x="644400" y="2663640"/>
              <a:ext cx="2242080" cy="2788920"/>
              <a:chOff x="644400" y="2663640"/>
              <a:chExt cx="2242080" cy="2788920"/>
            </a:xfrm>
          </p:grpSpPr>
          <p:sp>
            <p:nvSpPr>
              <p:cNvPr id="742" name=""/>
              <p:cNvSpPr/>
              <p:nvPr/>
            </p:nvSpPr>
            <p:spPr>
              <a:xfrm>
                <a:off x="925560" y="2663640"/>
                <a:ext cx="1905120" cy="278892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8920"/>
                  <a:gd name="textAreaBottom" fmla="*/ 2730600 h 2788920"/>
                </a:gdLst>
                <a:ahLst/>
                <a:rect l="textAreaLeft" t="textAreaTop" r="textAreaRight" b="textAreaBottom"/>
                <a:pathLst>
                  <a:path w="21600" h="31619">
                    <a:moveTo>
                      <a:pt x="2268" y="0"/>
                    </a:moveTo>
                    <a:arcTo wR="2268" hR="2268" stAng="16200000" swAng="-5400000"/>
                    <a:lnTo>
                      <a:pt x="0" y="29351"/>
                    </a:lnTo>
                    <a:arcTo wR="2268" hR="2268" stAng="10800000" swAng="-5400000"/>
                    <a:lnTo>
                      <a:pt x="19332" y="31619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98200" y="269316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95400" y="3577680"/>
                <a:ext cx="492120" cy="53280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95400" y="4263480"/>
                <a:ext cx="492120" cy="53280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4400" y="38062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4400" y="456804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558800" y="3196440"/>
                <a:ext cx="631800" cy="1981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7848720" y="4951440"/>
              <a:ext cx="91440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2262240" y="3884400"/>
              <a:ext cx="492120" cy="4568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38880" y="5408640"/>
              <a:ext cx="633600" cy="38052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91320" y="353052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53000" y="411300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24200" y="411300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83160" y="4113000"/>
              <a:ext cx="750960" cy="1537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4653000" y="2589120"/>
              <a:ext cx="1138320" cy="15235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97560" y="563724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10080" y="384804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20960" y="384804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2000" y="4038480"/>
              <a:ext cx="152280" cy="15192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648320" y="350316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2"/>
            <a:stretch/>
          </p:blipFill>
          <p:spPr>
            <a:xfrm>
              <a:off x="7772400" y="2970000"/>
              <a:ext cx="91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7162920" y="327636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61612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765" name="" descr=""/>
            <p:cNvPicPr/>
            <p:nvPr/>
          </p:nvPicPr>
          <p:blipFill>
            <a:blip r:embed="rId3"/>
            <a:stretch/>
          </p:blipFill>
          <p:spPr>
            <a:xfrm>
              <a:off x="7772400" y="2055960"/>
              <a:ext cx="9144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7162920" y="236196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286000" y="1828800"/>
            <a:ext cx="5610240" cy="3427200"/>
            <a:chOff x="2286000" y="1828800"/>
            <a:chExt cx="5610240" cy="3427200"/>
          </a:xfrm>
        </p:grpSpPr>
        <p:sp>
          <p:nvSpPr>
            <p:cNvPr id="768" name=""/>
            <p:cNvSpPr/>
            <p:nvPr/>
          </p:nvSpPr>
          <p:spPr>
            <a:xfrm>
              <a:off x="2286000" y="3351240"/>
              <a:ext cx="492120" cy="457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62640" y="4875120"/>
              <a:ext cx="63360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86680" y="2743200"/>
              <a:ext cx="63324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86680" y="1828800"/>
              <a:ext cx="633240" cy="3808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819520" y="1979640"/>
            <a:ext cx="4430160" cy="3048120"/>
            <a:chOff x="2819520" y="1979640"/>
            <a:chExt cx="4430160" cy="3048120"/>
          </a:xfrm>
        </p:grpSpPr>
        <p:sp>
          <p:nvSpPr>
            <p:cNvPr id="773" name=""/>
            <p:cNvSpPr/>
            <p:nvPr/>
          </p:nvSpPr>
          <p:spPr>
            <a:xfrm>
              <a:off x="5786280" y="2921040"/>
              <a:ext cx="1406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47960" y="3503880"/>
              <a:ext cx="833040" cy="15238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19520" y="3503880"/>
              <a:ext cx="18237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8120" y="3503880"/>
              <a:ext cx="750600" cy="15372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4647960" y="1979640"/>
              <a:ext cx="1137960" cy="152424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92520" y="5027760"/>
              <a:ext cx="1757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05040" y="3238560"/>
              <a:ext cx="240840" cy="266760"/>
            </a:xfrm>
            <a:prstGeom prst="ellipse">
              <a:avLst/>
            </a:prstGeom>
            <a:noFill/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716280" y="3238560"/>
              <a:ext cx="240840" cy="266760"/>
            </a:xfrm>
            <a:prstGeom prst="ellipse">
              <a:avLst/>
            </a:prstGeom>
            <a:noFill/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566960" y="3429000"/>
              <a:ext cx="152280" cy="15264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643280" y="2894040"/>
              <a:ext cx="1142640" cy="61128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86280" y="2006640"/>
              <a:ext cx="1406160" cy="0"/>
            </a:xfrm>
            <a:prstGeom prst="line">
              <a:avLst/>
            </a:prstGeom>
            <a:ln w="255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285640" y="3808440"/>
            <a:ext cx="609840" cy="685800"/>
            <a:chOff x="2285640" y="3808440"/>
            <a:chExt cx="609840" cy="685800"/>
          </a:xfrm>
        </p:grpSpPr>
        <p:sp>
          <p:nvSpPr>
            <p:cNvPr id="785" name=""/>
            <p:cNvSpPr/>
            <p:nvPr/>
          </p:nvSpPr>
          <p:spPr>
            <a:xfrm flipH="1">
              <a:off x="228564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8600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504960" y="3808440"/>
            <a:ext cx="609840" cy="685800"/>
            <a:chOff x="3504960" y="3808440"/>
            <a:chExt cx="609840" cy="685800"/>
          </a:xfrm>
        </p:grpSpPr>
        <p:sp>
          <p:nvSpPr>
            <p:cNvPr id="788" name=""/>
            <p:cNvSpPr/>
            <p:nvPr/>
          </p:nvSpPr>
          <p:spPr>
            <a:xfrm flipH="1">
              <a:off x="350496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05320" y="3808440"/>
              <a:ext cx="60948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370440" y="5774400"/>
            <a:ext cx="77032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ction against board - network failur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ndant network can be used to transmit low priority traffic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F6F-0267-4AA1-90AF-176EB83D0C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3123C45-DAF4-43DC-B7EB-BDCCF5659876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n-going standardis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4920" y="1447920"/>
            <a:ext cx="8534160" cy="487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44400" y="1981080"/>
            <a:ext cx="8118720" cy="3760920"/>
            <a:chOff x="644400" y="1981080"/>
            <a:chExt cx="8118720" cy="3760920"/>
          </a:xfrm>
        </p:grpSpPr>
        <p:grpSp>
          <p:nvGrpSpPr>
            <p:cNvPr id="794" name=""/>
            <p:cNvGrpSpPr/>
            <p:nvPr/>
          </p:nvGrpSpPr>
          <p:grpSpPr>
            <a:xfrm>
              <a:off x="644400" y="2589120"/>
              <a:ext cx="2242080" cy="2789280"/>
              <a:chOff x="644400" y="2589120"/>
              <a:chExt cx="2242080" cy="2789280"/>
            </a:xfrm>
          </p:grpSpPr>
          <p:sp>
            <p:nvSpPr>
              <p:cNvPr id="795" name=""/>
              <p:cNvSpPr/>
              <p:nvPr/>
            </p:nvSpPr>
            <p:spPr>
              <a:xfrm>
                <a:off x="925560" y="25891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98200" y="26190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95400" y="35035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95400" y="41893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4400" y="37321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44400" y="44938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58800" y="31222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802" name="" descr=""/>
            <p:cNvPicPr/>
            <p:nvPr/>
          </p:nvPicPr>
          <p:blipFill>
            <a:blip r:embed="rId1"/>
            <a:stretch/>
          </p:blipFill>
          <p:spPr>
            <a:xfrm>
              <a:off x="7848720" y="4876920"/>
              <a:ext cx="914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2262240" y="38098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38880" y="5334120"/>
              <a:ext cx="63360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91320" y="34560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53000" y="4038480"/>
              <a:ext cx="833400" cy="1524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4200" y="40384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83160" y="40384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4653000" y="25142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97560" y="556272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10080" y="3773520"/>
              <a:ext cx="241200" cy="26676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720960" y="3773520"/>
              <a:ext cx="241560" cy="26676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2000" y="39639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4648320" y="3429000"/>
              <a:ext cx="1143000" cy="6112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2"/>
            <a:stretch/>
          </p:blipFill>
          <p:spPr>
            <a:xfrm>
              <a:off x="7772400" y="28954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162920" y="3201840"/>
              <a:ext cx="63324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541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818" name="" descr=""/>
            <p:cNvPicPr/>
            <p:nvPr/>
          </p:nvPicPr>
          <p:blipFill>
            <a:blip r:embed="rId3"/>
            <a:stretch/>
          </p:blipFill>
          <p:spPr>
            <a:xfrm>
              <a:off x="7772400" y="1981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7162920" y="2287440"/>
              <a:ext cx="63324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193840" y="1523880"/>
            <a:ext cx="3753000" cy="990360"/>
            <a:chOff x="2193840" y="1523880"/>
            <a:chExt cx="3753000" cy="990360"/>
          </a:xfrm>
        </p:grpSpPr>
        <p:sp>
          <p:nvSpPr>
            <p:cNvPr id="821" name=""/>
            <p:cNvSpPr/>
            <p:nvPr/>
          </p:nvSpPr>
          <p:spPr>
            <a:xfrm>
              <a:off x="2839680" y="1523880"/>
              <a:ext cx="24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.25 / 2.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/ 10 Gbp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93840" y="2055600"/>
              <a:ext cx="37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0.155 / 0.622 / 1.2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/ 2.5 / 10 Gbp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81280" y="182844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581280" y="236196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57480" y="98964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GPON: Gigabit Passive Optical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920" y="1447920"/>
            <a:ext cx="8534160" cy="4876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mmendation for Gigabit PON system is under developmen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Medium layer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Distribution Network: G.982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velength plan: G.983.3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FEC is under discuss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interface parameters are under discuss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ed: DS 1.25 Gbps - 10 Gbps ; US 155 Mbps - 10 Gbp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mission Convergence layer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 structure to be defin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timeslot and US overhead to be defin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timeslot or variable timeslot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oriented or packet oriented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rget: Recommendation approved by end 2003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B75-0BC8-4820-94AC-AB0AC540D9F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FB7C33-3B9D-44F4-8BD3-345C565F962E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U-T has approved a well balanced set of recommendations covering all aspects of BPON (G.983.1 has been approved in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id basis for implementation of a full service access network, offering data, voice an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-going activities are opening an evolution path by focussing on higher bitrates and packet oriented PO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xisting and emerging recommendations are a strong catalyst for the PON mark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6B6-A651-4921-9CF6-C724018FF8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1637429-5F8D-4D41-A19A-6CF17107E503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026040" y="1295280"/>
            <a:ext cx="2478240" cy="4757760"/>
          </a:xfrm>
          <a:prstGeom prst="rect">
            <a:avLst/>
          </a:prstGeom>
          <a:ln w="0">
            <a:noFill/>
          </a:ln>
        </p:spPr>
      </p:pic>
      <p:grpSp>
        <p:nvGrpSpPr>
          <p:cNvPr id="831" name=""/>
          <p:cNvGrpSpPr/>
          <p:nvPr/>
        </p:nvGrpSpPr>
        <p:grpSpPr>
          <a:xfrm>
            <a:off x="380880" y="1973160"/>
            <a:ext cx="5180760" cy="3323520"/>
            <a:chOff x="380880" y="1973160"/>
            <a:chExt cx="5180760" cy="3323520"/>
          </a:xfrm>
        </p:grpSpPr>
        <p:grpSp>
          <p:nvGrpSpPr>
            <p:cNvPr id="832" name=""/>
            <p:cNvGrpSpPr/>
            <p:nvPr/>
          </p:nvGrpSpPr>
          <p:grpSpPr>
            <a:xfrm>
              <a:off x="380880" y="1973160"/>
              <a:ext cx="5180760" cy="3323520"/>
              <a:chOff x="380880" y="1973160"/>
              <a:chExt cx="5180760" cy="3323520"/>
            </a:xfrm>
          </p:grpSpPr>
          <p:sp>
            <p:nvSpPr>
              <p:cNvPr id="833" name=""/>
              <p:cNvSpPr/>
              <p:nvPr/>
            </p:nvSpPr>
            <p:spPr>
              <a:xfrm>
                <a:off x="380880" y="1988640"/>
                <a:ext cx="4872600" cy="3308040"/>
              </a:xfrm>
              <a:custGeom>
                <a:avLst/>
                <a:gdLst/>
                <a:ahLst/>
                <a:rect l="l" t="t" r="r" b="b"/>
                <a:pathLst>
                  <a:path w="331" h="215">
                    <a:moveTo>
                      <a:pt x="133" y="11"/>
                    </a:moveTo>
                    <a:cubicBezTo>
                      <a:pt x="92" y="14"/>
                      <a:pt x="79" y="21"/>
                      <a:pt x="66" y="33"/>
                    </a:cubicBezTo>
                    <a:cubicBezTo>
                      <a:pt x="62" y="37"/>
                      <a:pt x="61" y="43"/>
                      <a:pt x="64" y="47"/>
                    </a:cubicBezTo>
                    <a:cubicBezTo>
                      <a:pt x="69" y="54"/>
                      <a:pt x="78" y="57"/>
                      <a:pt x="86" y="59"/>
                    </a:cubicBezTo>
                    <a:lnTo>
                      <a:pt x="86" y="60"/>
                    </a:lnTo>
                    <a:lnTo>
                      <a:pt x="88" y="56"/>
                    </a:lnTo>
                    <a:lnTo>
                      <a:pt x="87" y="56"/>
                    </a:lnTo>
                    <a:cubicBezTo>
                      <a:pt x="43" y="60"/>
                      <a:pt x="0" y="84"/>
                      <a:pt x="0" y="119"/>
                    </a:cubicBezTo>
                    <a:cubicBezTo>
                      <a:pt x="5" y="150"/>
                      <a:pt x="53" y="163"/>
                      <a:pt x="90" y="159"/>
                    </a:cubicBezTo>
                    <a:lnTo>
                      <a:pt x="93" y="158"/>
                    </a:lnTo>
                    <a:lnTo>
                      <a:pt x="90" y="154"/>
                    </a:lnTo>
                    <a:lnTo>
                      <a:pt x="88" y="156"/>
                    </a:lnTo>
                    <a:cubicBezTo>
                      <a:pt x="83" y="161"/>
                      <a:pt x="78" y="168"/>
                      <a:pt x="81" y="175"/>
                    </a:cubicBezTo>
                    <a:cubicBezTo>
                      <a:pt x="89" y="193"/>
                      <a:pt x="113" y="203"/>
                      <a:pt x="136" y="209"/>
                    </a:cubicBezTo>
                    <a:cubicBezTo>
                      <a:pt x="154" y="214"/>
                      <a:pt x="172" y="215"/>
                      <a:pt x="191" y="213"/>
                    </a:cubicBezTo>
                    <a:cubicBezTo>
                      <a:pt x="206" y="212"/>
                      <a:pt x="226" y="211"/>
                      <a:pt x="235" y="201"/>
                    </a:cubicBezTo>
                    <a:lnTo>
                      <a:pt x="236" y="200"/>
                    </a:lnTo>
                    <a:lnTo>
                      <a:pt x="231" y="201"/>
                    </a:lnTo>
                    <a:lnTo>
                      <a:pt x="235" y="203"/>
                    </a:lnTo>
                    <a:cubicBezTo>
                      <a:pt x="272" y="205"/>
                      <a:pt x="308" y="188"/>
                      <a:pt x="323" y="164"/>
                    </a:cubicBezTo>
                    <a:cubicBezTo>
                      <a:pt x="331" y="151"/>
                      <a:pt x="326" y="137"/>
                      <a:pt x="311" y="128"/>
                    </a:cubicBezTo>
                    <a:cubicBezTo>
                      <a:pt x="297" y="119"/>
                      <a:pt x="281" y="114"/>
                      <a:pt x="263" y="111"/>
                    </a:cubicBezTo>
                    <a:lnTo>
                      <a:pt x="261" y="110"/>
                    </a:lnTo>
                    <a:lnTo>
                      <a:pt x="261" y="115"/>
                    </a:lnTo>
                    <a:lnTo>
                      <a:pt x="263" y="115"/>
                    </a:lnTo>
                    <a:cubicBezTo>
                      <a:pt x="287" y="108"/>
                      <a:pt x="311" y="92"/>
                      <a:pt x="309" y="72"/>
                    </a:cubicBezTo>
                    <a:cubicBezTo>
                      <a:pt x="308" y="52"/>
                      <a:pt x="293" y="36"/>
                      <a:pt x="273" y="25"/>
                    </a:cubicBezTo>
                    <a:cubicBezTo>
                      <a:pt x="254" y="14"/>
                      <a:pt x="234" y="7"/>
                      <a:pt x="211" y="4"/>
                    </a:cubicBezTo>
                    <a:cubicBezTo>
                      <a:pt x="184" y="1"/>
                      <a:pt x="155" y="0"/>
                      <a:pt x="131" y="8"/>
                    </a:cubicBezTo>
                    <a:cubicBezTo>
                      <a:pt x="130" y="8"/>
                      <a:pt x="129" y="9"/>
                      <a:pt x="130" y="10"/>
                    </a:cubicBezTo>
                    <a:cubicBezTo>
                      <a:pt x="130" y="11"/>
                      <a:pt x="132" y="11"/>
                      <a:pt x="133" y="11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4280" y="1973160"/>
                <a:ext cx="4887360" cy="3308040"/>
              </a:xfrm>
              <a:custGeom>
                <a:avLst/>
                <a:gdLst/>
                <a:ahLst/>
                <a:rect l="l" t="t" r="r" b="b"/>
                <a:pathLst>
                  <a:path w="332" h="215">
                    <a:moveTo>
                      <a:pt x="175" y="15"/>
                    </a:moveTo>
                    <a:cubicBezTo>
                      <a:pt x="159" y="7"/>
                      <a:pt x="138" y="12"/>
                      <a:pt x="119" y="15"/>
                    </a:cubicBezTo>
                    <a:cubicBezTo>
                      <a:pt x="100" y="18"/>
                      <a:pt x="81" y="22"/>
                      <a:pt x="68" y="34"/>
                    </a:cubicBezTo>
                    <a:cubicBezTo>
                      <a:pt x="63" y="38"/>
                      <a:pt x="62" y="43"/>
                      <a:pt x="66" y="48"/>
                    </a:cubicBezTo>
                    <a:cubicBezTo>
                      <a:pt x="71" y="54"/>
                      <a:pt x="79" y="57"/>
                      <a:pt x="87" y="60"/>
                    </a:cubicBezTo>
                    <a:lnTo>
                      <a:pt x="87" y="60"/>
                    </a:lnTo>
                    <a:lnTo>
                      <a:pt x="89" y="56"/>
                    </a:lnTo>
                    <a:lnTo>
                      <a:pt x="88" y="56"/>
                    </a:lnTo>
                    <a:cubicBezTo>
                      <a:pt x="45" y="60"/>
                      <a:pt x="0" y="84"/>
                      <a:pt x="1" y="119"/>
                    </a:cubicBezTo>
                    <a:cubicBezTo>
                      <a:pt x="7" y="150"/>
                      <a:pt x="55" y="163"/>
                      <a:pt x="92" y="159"/>
                    </a:cubicBezTo>
                    <a:lnTo>
                      <a:pt x="94" y="159"/>
                    </a:lnTo>
                    <a:lnTo>
                      <a:pt x="92" y="155"/>
                    </a:lnTo>
                    <a:lnTo>
                      <a:pt x="90" y="156"/>
                    </a:lnTo>
                    <a:cubicBezTo>
                      <a:pt x="84" y="161"/>
                      <a:pt x="79" y="169"/>
                      <a:pt x="82" y="175"/>
                    </a:cubicBezTo>
                    <a:cubicBezTo>
                      <a:pt x="90" y="193"/>
                      <a:pt x="114" y="204"/>
                      <a:pt x="137" y="209"/>
                    </a:cubicBezTo>
                    <a:cubicBezTo>
                      <a:pt x="155" y="214"/>
                      <a:pt x="174" y="215"/>
                      <a:pt x="192" y="214"/>
                    </a:cubicBezTo>
                    <a:cubicBezTo>
                      <a:pt x="208" y="212"/>
                      <a:pt x="227" y="212"/>
                      <a:pt x="237" y="201"/>
                    </a:cubicBezTo>
                    <a:lnTo>
                      <a:pt x="237" y="200"/>
                    </a:lnTo>
                    <a:lnTo>
                      <a:pt x="233" y="202"/>
                    </a:lnTo>
                    <a:lnTo>
                      <a:pt x="236" y="203"/>
                    </a:lnTo>
                    <a:cubicBezTo>
                      <a:pt x="273" y="206"/>
                      <a:pt x="309" y="189"/>
                      <a:pt x="324" y="164"/>
                    </a:cubicBezTo>
                    <a:cubicBezTo>
                      <a:pt x="332" y="151"/>
                      <a:pt x="327" y="137"/>
                      <a:pt x="312" y="128"/>
                    </a:cubicBezTo>
                    <a:cubicBezTo>
                      <a:pt x="298" y="119"/>
                      <a:pt x="282" y="114"/>
                      <a:pt x="265" y="111"/>
                    </a:cubicBezTo>
                    <a:lnTo>
                      <a:pt x="262" y="111"/>
                    </a:lnTo>
                    <a:lnTo>
                      <a:pt x="262" y="115"/>
                    </a:lnTo>
                    <a:lnTo>
                      <a:pt x="264" y="115"/>
                    </a:lnTo>
                    <a:cubicBezTo>
                      <a:pt x="288" y="109"/>
                      <a:pt x="312" y="93"/>
                      <a:pt x="311" y="72"/>
                    </a:cubicBezTo>
                    <a:cubicBezTo>
                      <a:pt x="309" y="53"/>
                      <a:pt x="295" y="37"/>
                      <a:pt x="274" y="25"/>
                    </a:cubicBezTo>
                    <a:cubicBezTo>
                      <a:pt x="255" y="14"/>
                      <a:pt x="235" y="8"/>
                      <a:pt x="212" y="4"/>
                    </a:cubicBezTo>
                    <a:cubicBezTo>
                      <a:pt x="185" y="1"/>
                      <a:pt x="157" y="0"/>
                      <a:pt x="132" y="8"/>
                    </a:cubicBezTo>
                    <a:cubicBezTo>
                      <a:pt x="131" y="9"/>
                      <a:pt x="131" y="10"/>
                      <a:pt x="131" y="11"/>
                    </a:cubicBezTo>
                    <a:cubicBezTo>
                      <a:pt x="132" y="12"/>
                      <a:pt x="133" y="12"/>
                      <a:pt x="134" y="11"/>
                    </a:cubicBezTo>
                    <a:cubicBezTo>
                      <a:pt x="172" y="2"/>
                      <a:pt x="213" y="5"/>
                      <a:pt x="249" y="19"/>
                    </a:cubicBezTo>
                    <a:cubicBezTo>
                      <a:pt x="280" y="30"/>
                      <a:pt x="310" y="52"/>
                      <a:pt x="304" y="80"/>
                    </a:cubicBezTo>
                    <a:cubicBezTo>
                      <a:pt x="300" y="95"/>
                      <a:pt x="282" y="104"/>
                      <a:pt x="265" y="110"/>
                    </a:cubicBezTo>
                    <a:lnTo>
                      <a:pt x="261" y="111"/>
                    </a:lnTo>
                    <a:cubicBezTo>
                      <a:pt x="260" y="111"/>
                      <a:pt x="259" y="112"/>
                      <a:pt x="259" y="113"/>
                    </a:cubicBezTo>
                    <a:cubicBezTo>
                      <a:pt x="258" y="114"/>
                      <a:pt x="259" y="115"/>
                      <a:pt x="261" y="115"/>
                    </a:cubicBezTo>
                    <a:lnTo>
                      <a:pt x="264" y="116"/>
                    </a:lnTo>
                    <a:cubicBezTo>
                      <a:pt x="285" y="120"/>
                      <a:pt x="310" y="126"/>
                      <a:pt x="319" y="143"/>
                    </a:cubicBezTo>
                    <a:cubicBezTo>
                      <a:pt x="328" y="157"/>
                      <a:pt x="314" y="171"/>
                      <a:pt x="300" y="181"/>
                    </a:cubicBezTo>
                    <a:cubicBezTo>
                      <a:pt x="284" y="194"/>
                      <a:pt x="262" y="199"/>
                      <a:pt x="240" y="199"/>
                    </a:cubicBezTo>
                    <a:lnTo>
                      <a:pt x="236" y="198"/>
                    </a:lnTo>
                    <a:cubicBezTo>
                      <a:pt x="236" y="198"/>
                      <a:pt x="235" y="198"/>
                      <a:pt x="235" y="198"/>
                    </a:cubicBezTo>
                    <a:cubicBezTo>
                      <a:pt x="234" y="197"/>
                      <a:pt x="232" y="198"/>
                      <a:pt x="232" y="199"/>
                    </a:cubicBezTo>
                    <a:lnTo>
                      <a:pt x="231" y="201"/>
                    </a:lnTo>
                    <a:cubicBezTo>
                      <a:pt x="209" y="211"/>
                      <a:pt x="181" y="211"/>
                      <a:pt x="156" y="208"/>
                    </a:cubicBezTo>
                    <a:cubicBezTo>
                      <a:pt x="128" y="205"/>
                      <a:pt x="99" y="195"/>
                      <a:pt x="88" y="175"/>
                    </a:cubicBezTo>
                    <a:cubicBezTo>
                      <a:pt x="86" y="170"/>
                      <a:pt x="89" y="165"/>
                      <a:pt x="92" y="161"/>
                    </a:cubicBezTo>
                    <a:lnTo>
                      <a:pt x="95" y="158"/>
                    </a:lnTo>
                    <a:cubicBezTo>
                      <a:pt x="96" y="158"/>
                      <a:pt x="97" y="157"/>
                      <a:pt x="96" y="156"/>
                    </a:cubicBezTo>
                    <a:cubicBezTo>
                      <a:pt x="96" y="155"/>
                      <a:pt x="94" y="154"/>
                      <a:pt x="93" y="155"/>
                    </a:cubicBezTo>
                    <a:lnTo>
                      <a:pt x="89" y="155"/>
                    </a:lnTo>
                    <a:cubicBezTo>
                      <a:pt x="56" y="158"/>
                      <a:pt x="13" y="147"/>
                      <a:pt x="7" y="119"/>
                    </a:cubicBezTo>
                    <a:cubicBezTo>
                      <a:pt x="6" y="87"/>
                      <a:pt x="46" y="65"/>
                      <a:pt x="85" y="61"/>
                    </a:cubicBezTo>
                    <a:lnTo>
                      <a:pt x="89" y="61"/>
                    </a:lnTo>
                    <a:lnTo>
                      <a:pt x="89" y="61"/>
                    </a:lnTo>
                    <a:lnTo>
                      <a:pt x="87" y="55"/>
                    </a:lnTo>
                    <a:cubicBezTo>
                      <a:pt x="80" y="52"/>
                      <a:pt x="69" y="49"/>
                      <a:pt x="69" y="42"/>
                    </a:cubicBezTo>
                    <a:cubicBezTo>
                      <a:pt x="69" y="33"/>
                      <a:pt x="83" y="28"/>
                      <a:pt x="93" y="25"/>
                    </a:cubicBezTo>
                    <a:cubicBezTo>
                      <a:pt x="102" y="22"/>
                      <a:pt x="110" y="19"/>
                      <a:pt x="120" y="18"/>
                    </a:cubicBezTo>
                    <a:cubicBezTo>
                      <a:pt x="138" y="15"/>
                      <a:pt x="157" y="10"/>
                      <a:pt x="175" y="16"/>
                    </a:cubicBezTo>
                    <a:cubicBezTo>
                      <a:pt x="175" y="16"/>
                      <a:pt x="175" y="16"/>
                      <a:pt x="176" y="16"/>
                    </a:cubicBezTo>
                    <a:cubicBezTo>
                      <a:pt x="176" y="16"/>
                      <a:pt x="176" y="15"/>
                      <a:pt x="175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1452600" y="2658960"/>
              <a:ext cx="3657600" cy="1847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5400" rIns="954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Do you have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 </a:t>
              </a: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any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63720"/>
                  <a:tab algn="l" pos="1927080"/>
                  <a:tab algn="l" pos="2890800"/>
                  <a:tab algn="l" pos="3854520"/>
                  <a:tab algn="l" pos="4818240"/>
                  <a:tab algn="l" pos="5781600"/>
                  <a:tab algn="l" pos="6745320"/>
                  <a:tab algn="l" pos="7709040"/>
                  <a:tab algn="l" pos="8672400"/>
                  <a:tab algn="l" pos="9636120"/>
                  <a:tab algn="l" pos="10599840"/>
                </a:tabLst>
              </a:pP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 </a:t>
              </a:r>
              <a:r>
                <a:rPr b="1" lang="en-GB" sz="3200" spc="-1" strike="noStrike">
                  <a:solidFill>
                    <a:srgbClr val="ffcc66"/>
                  </a:solidFill>
                  <a:latin typeface="Comic Sans MS"/>
                </a:rPr>
                <a:t>questions ?</a:t>
              </a:r>
              <a:endParaRPr b="0" lang="en-US" sz="32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0F6-2165-4FD3-9EE4-5868C8EDC31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3101F62-830C-4CAA-8B12-5E73A990B97C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2600" y="1336680"/>
            <a:ext cx="6499080" cy="550800"/>
          </a:xfrm>
          <a:custGeom>
            <a:avLst/>
            <a:gdLst>
              <a:gd name="textAreaLeft" fmla="*/ 35640 w 6499080"/>
              <a:gd name="textAreaRight" fmla="*/ 6463440 w 649908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254714" h="21600">
                <a:moveTo>
                  <a:pt x="0" y="0"/>
                </a:moveTo>
                <a:lnTo>
                  <a:pt x="254714" y="0"/>
                </a:lnTo>
                <a:lnTo>
                  <a:pt x="254714" y="21600"/>
                </a:lnTo>
                <a:lnTo>
                  <a:pt x="0" y="21600"/>
                </a:lnTo>
                <a:close/>
              </a:path>
              <a:path fill="lightenLess" w="254714" h="21600">
                <a:moveTo>
                  <a:pt x="0" y="0"/>
                </a:moveTo>
                <a:lnTo>
                  <a:pt x="254714" y="0"/>
                </a:lnTo>
                <a:lnTo>
                  <a:pt x="253314" y="1400"/>
                </a:lnTo>
                <a:lnTo>
                  <a:pt x="1400" y="1400"/>
                </a:lnTo>
                <a:close/>
              </a:path>
              <a:path fill="darken" w="254714" h="21600">
                <a:moveTo>
                  <a:pt x="254714" y="0"/>
                </a:moveTo>
                <a:lnTo>
                  <a:pt x="254714" y="21600"/>
                </a:lnTo>
                <a:lnTo>
                  <a:pt x="253314" y="20200"/>
                </a:lnTo>
                <a:lnTo>
                  <a:pt x="253314" y="1400"/>
                </a:lnTo>
                <a:close/>
              </a:path>
              <a:path fill="darkenLess" w="254714" h="21600">
                <a:moveTo>
                  <a:pt x="2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4" y="20200"/>
                </a:lnTo>
                <a:close/>
              </a:path>
              <a:path fill="lighten" w="2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ON Characteristics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35240"/>
            <a:ext cx="6510240" cy="544320"/>
          </a:xfrm>
          <a:custGeom>
            <a:avLst/>
            <a:gdLst>
              <a:gd name="textAreaLeft" fmla="*/ 35280 w 6510240"/>
              <a:gd name="textAreaRight" fmla="*/ 6474960 w 6510240"/>
              <a:gd name="textAreaTop" fmla="*/ 35280 h 544320"/>
              <a:gd name="textAreaBottom" fmla="*/ 509040 h 544320"/>
            </a:gdLst>
            <a:ahLst/>
            <a:rect l="textAreaLeft" t="textAreaTop" r="textAreaRight" b="textAreaBottom"/>
            <a:pathLst>
              <a:path w="258186" h="21600">
                <a:moveTo>
                  <a:pt x="0" y="0"/>
                </a:moveTo>
                <a:lnTo>
                  <a:pt x="258186" y="0"/>
                </a:lnTo>
                <a:lnTo>
                  <a:pt x="258186" y="21600"/>
                </a:lnTo>
                <a:lnTo>
                  <a:pt x="0" y="21600"/>
                </a:lnTo>
                <a:close/>
              </a:path>
              <a:path fill="lightenLess" w="258186" h="21600">
                <a:moveTo>
                  <a:pt x="0" y="0"/>
                </a:moveTo>
                <a:lnTo>
                  <a:pt x="258186" y="0"/>
                </a:lnTo>
                <a:lnTo>
                  <a:pt x="256786" y="1400"/>
                </a:lnTo>
                <a:lnTo>
                  <a:pt x="1400" y="1400"/>
                </a:lnTo>
                <a:close/>
              </a:path>
              <a:path fill="darken" w="258186" h="21600">
                <a:moveTo>
                  <a:pt x="258186" y="0"/>
                </a:moveTo>
                <a:lnTo>
                  <a:pt x="258186" y="21600"/>
                </a:lnTo>
                <a:lnTo>
                  <a:pt x="256786" y="20200"/>
                </a:lnTo>
                <a:lnTo>
                  <a:pt x="256786" y="1400"/>
                </a:lnTo>
                <a:close/>
              </a:path>
              <a:path fill="darkenLess" w="258186" h="21600">
                <a:moveTo>
                  <a:pt x="258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786" y="20200"/>
                </a:lnTo>
                <a:close/>
              </a:path>
              <a:path fill="lighten" w="258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PON and Standardisation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3400" y="3127320"/>
            <a:ext cx="5938920" cy="500040"/>
          </a:xfrm>
          <a:custGeom>
            <a:avLst/>
            <a:gdLst>
              <a:gd name="textAreaLeft" fmla="*/ 32400 w 5938920"/>
              <a:gd name="textAreaRight" fmla="*/ 5906520 w 59389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56372" h="21600">
                <a:moveTo>
                  <a:pt x="0" y="0"/>
                </a:moveTo>
                <a:lnTo>
                  <a:pt x="256372" y="0"/>
                </a:lnTo>
                <a:lnTo>
                  <a:pt x="256372" y="21600"/>
                </a:lnTo>
                <a:lnTo>
                  <a:pt x="0" y="21600"/>
                </a:lnTo>
                <a:close/>
              </a:path>
              <a:path fill="lightenLess" w="256372" h="21600">
                <a:moveTo>
                  <a:pt x="0" y="0"/>
                </a:moveTo>
                <a:lnTo>
                  <a:pt x="256372" y="0"/>
                </a:lnTo>
                <a:lnTo>
                  <a:pt x="254972" y="1400"/>
                </a:lnTo>
                <a:lnTo>
                  <a:pt x="1400" y="1400"/>
                </a:lnTo>
                <a:close/>
              </a:path>
              <a:path fill="darken" w="256372" h="21600">
                <a:moveTo>
                  <a:pt x="256372" y="0"/>
                </a:moveTo>
                <a:lnTo>
                  <a:pt x="256372" y="21600"/>
                </a:lnTo>
                <a:lnTo>
                  <a:pt x="254972" y="20200"/>
                </a:lnTo>
                <a:lnTo>
                  <a:pt x="254972" y="1400"/>
                </a:lnTo>
                <a:close/>
              </a:path>
              <a:path fill="darkenLess" w="256372" h="21600">
                <a:moveTo>
                  <a:pt x="256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72" y="20200"/>
                </a:lnTo>
                <a:close/>
              </a:path>
              <a:path fill="lighten" w="256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Standardisation groups</a:t>
            </a:r>
            <a:endParaRPr b="0" lang="en-US" sz="2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4826160"/>
            <a:ext cx="5923080" cy="520560"/>
          </a:xfrm>
          <a:custGeom>
            <a:avLst/>
            <a:gdLst>
              <a:gd name="textAreaLeft" fmla="*/ 33480 w 5923080"/>
              <a:gd name="textAreaRight" fmla="*/ 5889600 w 59230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5616" h="21600">
                <a:moveTo>
                  <a:pt x="0" y="0"/>
                </a:moveTo>
                <a:lnTo>
                  <a:pt x="245616" y="0"/>
                </a:lnTo>
                <a:lnTo>
                  <a:pt x="245616" y="21600"/>
                </a:lnTo>
                <a:lnTo>
                  <a:pt x="0" y="21600"/>
                </a:lnTo>
                <a:close/>
              </a:path>
              <a:path fill="lightenLess" w="245616" h="21600">
                <a:moveTo>
                  <a:pt x="0" y="0"/>
                </a:moveTo>
                <a:lnTo>
                  <a:pt x="245616" y="0"/>
                </a:lnTo>
                <a:lnTo>
                  <a:pt x="244216" y="1400"/>
                </a:lnTo>
                <a:lnTo>
                  <a:pt x="1400" y="1400"/>
                </a:lnTo>
                <a:close/>
              </a:path>
              <a:path fill="darken" w="245616" h="21600">
                <a:moveTo>
                  <a:pt x="245616" y="0"/>
                </a:moveTo>
                <a:lnTo>
                  <a:pt x="245616" y="21600"/>
                </a:lnTo>
                <a:lnTo>
                  <a:pt x="244216" y="20200"/>
                </a:lnTo>
                <a:lnTo>
                  <a:pt x="244216" y="1400"/>
                </a:lnTo>
                <a:close/>
              </a:path>
              <a:path fill="darkenLess" w="245616" h="21600">
                <a:moveTo>
                  <a:pt x="245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216" y="20200"/>
                </a:lnTo>
                <a:close/>
              </a:path>
              <a:path fill="lighten" w="245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n-going standardisation activities</a:t>
            </a:r>
            <a:endParaRPr b="0" lang="en-US" sz="2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52600" y="5694480"/>
            <a:ext cx="6499080" cy="550800"/>
          </a:xfrm>
          <a:custGeom>
            <a:avLst/>
            <a:gdLst>
              <a:gd name="textAreaLeft" fmla="*/ 35640 w 6499080"/>
              <a:gd name="textAreaRight" fmla="*/ 6463440 w 6499080"/>
              <a:gd name="textAreaTop" fmla="*/ 35640 h 550800"/>
              <a:gd name="textAreaBottom" fmla="*/ 515160 h 550800"/>
            </a:gdLst>
            <a:ahLst/>
            <a:rect l="textAreaLeft" t="textAreaTop" r="textAreaRight" b="textAreaBottom"/>
            <a:pathLst>
              <a:path w="254714" h="21600">
                <a:moveTo>
                  <a:pt x="0" y="0"/>
                </a:moveTo>
                <a:lnTo>
                  <a:pt x="254714" y="0"/>
                </a:lnTo>
                <a:lnTo>
                  <a:pt x="254714" y="21600"/>
                </a:lnTo>
                <a:lnTo>
                  <a:pt x="0" y="21600"/>
                </a:lnTo>
                <a:close/>
              </a:path>
              <a:path fill="lightenLess" w="254714" h="21600">
                <a:moveTo>
                  <a:pt x="0" y="0"/>
                </a:moveTo>
                <a:lnTo>
                  <a:pt x="254714" y="0"/>
                </a:lnTo>
                <a:lnTo>
                  <a:pt x="253314" y="1400"/>
                </a:lnTo>
                <a:lnTo>
                  <a:pt x="1400" y="1400"/>
                </a:lnTo>
                <a:close/>
              </a:path>
              <a:path fill="darken" w="254714" h="21600">
                <a:moveTo>
                  <a:pt x="254714" y="0"/>
                </a:moveTo>
                <a:lnTo>
                  <a:pt x="254714" y="21600"/>
                </a:lnTo>
                <a:lnTo>
                  <a:pt x="253314" y="20200"/>
                </a:lnTo>
                <a:lnTo>
                  <a:pt x="253314" y="1400"/>
                </a:lnTo>
                <a:close/>
              </a:path>
              <a:path fill="darkenLess" w="254714" h="21600">
                <a:moveTo>
                  <a:pt x="254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14" y="20200"/>
                </a:lnTo>
                <a:close/>
              </a:path>
              <a:path fill="lighten" w="254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5200" y="3975120"/>
            <a:ext cx="5933880" cy="503280"/>
          </a:xfrm>
          <a:custGeom>
            <a:avLst/>
            <a:gdLst>
              <a:gd name="textAreaLeft" fmla="*/ 32400 w 5933880"/>
              <a:gd name="textAreaRight" fmla="*/ 5901480 w 59338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54506" h="21600">
                <a:moveTo>
                  <a:pt x="0" y="0"/>
                </a:moveTo>
                <a:lnTo>
                  <a:pt x="254506" y="0"/>
                </a:lnTo>
                <a:lnTo>
                  <a:pt x="254506" y="21600"/>
                </a:lnTo>
                <a:lnTo>
                  <a:pt x="0" y="21600"/>
                </a:lnTo>
                <a:close/>
              </a:path>
              <a:path fill="lightenLess" w="254506" h="21600">
                <a:moveTo>
                  <a:pt x="0" y="0"/>
                </a:moveTo>
                <a:lnTo>
                  <a:pt x="254506" y="0"/>
                </a:lnTo>
                <a:lnTo>
                  <a:pt x="253106" y="1400"/>
                </a:lnTo>
                <a:lnTo>
                  <a:pt x="1400" y="1400"/>
                </a:lnTo>
                <a:close/>
              </a:path>
              <a:path fill="darken" w="254506" h="21600">
                <a:moveTo>
                  <a:pt x="254506" y="0"/>
                </a:moveTo>
                <a:lnTo>
                  <a:pt x="254506" y="21600"/>
                </a:lnTo>
                <a:lnTo>
                  <a:pt x="253106" y="20200"/>
                </a:lnTo>
                <a:lnTo>
                  <a:pt x="253106" y="1400"/>
                </a:lnTo>
                <a:close/>
              </a:path>
              <a:path fill="darkenLess" w="254506" h="21600">
                <a:moveTo>
                  <a:pt x="25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06" y="20200"/>
                </a:lnTo>
                <a:close/>
              </a:path>
              <a:path fill="lighten" w="25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xisting PON recommendations</a:t>
            </a:r>
            <a:endParaRPr b="0" lang="en-US" sz="19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C43-D255-4CA3-BE2E-E549F8CC6B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D6E94DA-8B0F-4DE0-B63E-F425574CC504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504800"/>
            <a:ext cx="8534160" cy="487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28200" y="3332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32 (64)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82880" y="5543640"/>
            <a:ext cx="4343400" cy="492120"/>
            <a:chOff x="2882880" y="5543640"/>
            <a:chExt cx="4343400" cy="492120"/>
          </a:xfrm>
        </p:grpSpPr>
        <p:sp>
          <p:nvSpPr>
            <p:cNvPr id="102" name=""/>
            <p:cNvSpPr/>
            <p:nvPr/>
          </p:nvSpPr>
          <p:spPr>
            <a:xfrm>
              <a:off x="2882880" y="6035760"/>
              <a:ext cx="4343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4880" y="554364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0-20 km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056760" y="1657440"/>
            <a:ext cx="2014200" cy="990360"/>
            <a:chOff x="3056760" y="1657440"/>
            <a:chExt cx="2014200" cy="990360"/>
          </a:xfrm>
        </p:grpSpPr>
        <p:sp>
          <p:nvSpPr>
            <p:cNvPr id="105" name=""/>
            <p:cNvSpPr/>
            <p:nvPr/>
          </p:nvSpPr>
          <p:spPr>
            <a:xfrm>
              <a:off x="3056760" y="1657440"/>
              <a:ext cx="20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155/622 Mbit/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82680" y="2189160"/>
              <a:ext cx="196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155/622 Mbit/s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81280" y="196200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581280" y="249552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PON Characteristic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44400" y="1581120"/>
            <a:ext cx="8118720" cy="4294080"/>
            <a:chOff x="644400" y="1581120"/>
            <a:chExt cx="8118720" cy="4294080"/>
          </a:xfrm>
        </p:grpSpPr>
        <p:grpSp>
          <p:nvGrpSpPr>
            <p:cNvPr id="111" name=""/>
            <p:cNvGrpSpPr/>
            <p:nvPr/>
          </p:nvGrpSpPr>
          <p:grpSpPr>
            <a:xfrm>
              <a:off x="644400" y="2722680"/>
              <a:ext cx="2242080" cy="2789280"/>
              <a:chOff x="644400" y="2722680"/>
              <a:chExt cx="2242080" cy="2789280"/>
            </a:xfrm>
          </p:grpSpPr>
          <p:sp>
            <p:nvSpPr>
              <p:cNvPr id="112" name=""/>
              <p:cNvSpPr/>
              <p:nvPr/>
            </p:nvSpPr>
            <p:spPr>
              <a:xfrm>
                <a:off x="925560" y="272268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98200" y="275256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95400" y="363708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95400" y="432288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4400" y="38656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4400" y="462744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58800" y="325584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486400" y="1581120"/>
              <a:ext cx="3276720" cy="4294080"/>
              <a:chOff x="5486400" y="1581120"/>
              <a:chExt cx="3276720" cy="42940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3409920"/>
                <a:ext cx="990720" cy="127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5486400" y="1962000"/>
                <a:ext cx="837720" cy="1126440"/>
                <a:chOff x="5486400" y="1962000"/>
                <a:chExt cx="837720" cy="1126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486400" y="1962000"/>
                  <a:ext cx="837720" cy="1126440"/>
                </a:xfrm>
                <a:prstGeom prst="cube">
                  <a:avLst>
                    <a:gd name="adj" fmla="val 13333"/>
                  </a:avLst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536440" y="2148480"/>
                  <a:ext cx="274320" cy="89136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875560" y="2148480"/>
                  <a:ext cx="274320" cy="891360"/>
                </a:xfrm>
                <a:prstGeom prst="rect">
                  <a:avLst/>
                </a:prstGeom>
                <a:solidFill>
                  <a:srgbClr val="00ae00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66480" y="2538360"/>
                  <a:ext cx="0" cy="6948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907960" y="2545560"/>
                  <a:ext cx="0" cy="6948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8520" y="2114640"/>
                <a:ext cx="1523520" cy="761400"/>
                <a:chOff x="6248520" y="2114640"/>
                <a:chExt cx="1523520" cy="76140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248520" y="2114640"/>
                  <a:ext cx="761400" cy="75960"/>
                  <a:chOff x="6248520" y="2114640"/>
                  <a:chExt cx="761400" cy="75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6248520" y="211464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518160" y="211464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776280" y="211464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781680" y="2114640"/>
                  <a:ext cx="761760" cy="75960"/>
                  <a:chOff x="6781680" y="2114640"/>
                  <a:chExt cx="761760" cy="75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781680" y="211464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51680" y="211464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09800" y="211464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248520" y="2800080"/>
                  <a:ext cx="761400" cy="75960"/>
                  <a:chOff x="6248520" y="2800080"/>
                  <a:chExt cx="761400" cy="759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248520" y="280008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518160" y="280008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776280" y="280008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010280" y="2800080"/>
                  <a:ext cx="761760" cy="75960"/>
                  <a:chOff x="7010280" y="2800080"/>
                  <a:chExt cx="761760" cy="759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7010280" y="2800080"/>
                    <a:ext cx="25092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280280" y="2800080"/>
                    <a:ext cx="23508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538400" y="2800080"/>
                    <a:ext cx="233640" cy="75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91520" y="1581120"/>
                <a:ext cx="914400" cy="7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96080" y="2316240"/>
                <a:ext cx="914400" cy="7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48720" y="5010120"/>
                <a:ext cx="914400" cy="86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"/>
          <p:cNvGrpSpPr/>
          <p:nvPr/>
        </p:nvGrpSpPr>
        <p:grpSpPr>
          <a:xfrm>
            <a:off x="2262240" y="2571840"/>
            <a:ext cx="5610240" cy="3276360"/>
            <a:chOff x="2262240" y="2571840"/>
            <a:chExt cx="5610240" cy="3276360"/>
          </a:xfrm>
        </p:grpSpPr>
        <p:sp>
          <p:nvSpPr>
            <p:cNvPr id="148" name=""/>
            <p:cNvSpPr/>
            <p:nvPr/>
          </p:nvSpPr>
          <p:spPr>
            <a:xfrm>
              <a:off x="2262240" y="325584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62240" y="47800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2325240" y="4008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25718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414648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5467320"/>
              <a:ext cx="63360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824200" y="2797200"/>
              <a:ext cx="3763800" cy="1603080"/>
              <a:chOff x="2824200" y="2797200"/>
              <a:chExt cx="3763800" cy="1603080"/>
            </a:xfrm>
          </p:grpSpPr>
          <p:sp>
            <p:nvSpPr>
              <p:cNvPr id="155" name=""/>
              <p:cNvSpPr/>
              <p:nvPr/>
            </p:nvSpPr>
            <p:spPr>
              <a:xfrm>
                <a:off x="5216400" y="2797200"/>
                <a:ext cx="37008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181480" y="4400280"/>
                <a:ext cx="140652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572000" y="2800080"/>
                <a:ext cx="628560" cy="6811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24200" y="3484440"/>
                <a:ext cx="180180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10080" y="3219480"/>
                <a:ext cx="24120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83160" y="3484440"/>
                <a:ext cx="598320" cy="91584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583160" y="3181320"/>
                <a:ext cx="674640" cy="3031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72000" y="3485880"/>
                <a:ext cx="609480" cy="38124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20960" y="3219480"/>
                <a:ext cx="24156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95680" y="3409920"/>
                <a:ext cx="152640" cy="152280"/>
              </a:xfrm>
              <a:prstGeom prst="ellipse">
                <a:avLst/>
              </a:prstGeom>
              <a:solidFill>
                <a:srgbClr val="ff9933"/>
              </a:solidFill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24200" y="4779720"/>
              <a:ext cx="4430520" cy="914760"/>
              <a:chOff x="2824200" y="4779720"/>
              <a:chExt cx="4430520" cy="914760"/>
            </a:xfrm>
          </p:grpSpPr>
          <p:sp>
            <p:nvSpPr>
              <p:cNvPr id="166" name=""/>
              <p:cNvSpPr/>
              <p:nvPr/>
            </p:nvSpPr>
            <p:spPr>
              <a:xfrm>
                <a:off x="4653000" y="5085000"/>
                <a:ext cx="844560" cy="60948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24200" y="5085000"/>
                <a:ext cx="182412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83160" y="5085000"/>
                <a:ext cx="750960" cy="15408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653000" y="4779720"/>
                <a:ext cx="280800" cy="30492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97560" y="5694480"/>
                <a:ext cx="17571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10080" y="4820040"/>
                <a:ext cx="24120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20960" y="4820040"/>
                <a:ext cx="241560" cy="266400"/>
              </a:xfrm>
              <a:prstGeom prst="ellipse">
                <a:avLst/>
              </a:prstGeom>
              <a:noFill/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2000" y="5010480"/>
                <a:ext cx="152280" cy="152280"/>
              </a:xfrm>
              <a:prstGeom prst="ellipse">
                <a:avLst/>
              </a:prstGeom>
              <a:solidFill>
                <a:srgbClr val="ff9933"/>
              </a:solidFill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648320" y="4933800"/>
                <a:ext cx="533160" cy="15228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3438000" y="40194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9160" y="973800"/>
            <a:ext cx="55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ON = Broadband Passive Optical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920" y="1904040"/>
            <a:ext cx="3889800" cy="1448640"/>
            <a:chOff x="529920" y="1904040"/>
            <a:chExt cx="3889800" cy="1448640"/>
          </a:xfrm>
        </p:grpSpPr>
        <p:sp>
          <p:nvSpPr>
            <p:cNvPr id="178" name=""/>
            <p:cNvSpPr/>
            <p:nvPr/>
          </p:nvSpPr>
          <p:spPr>
            <a:xfrm>
              <a:off x="529920" y="1904040"/>
              <a:ext cx="26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sive optical splitter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3160" y="2362320"/>
              <a:ext cx="1906560" cy="99036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93120" y="5942160"/>
            <a:ext cx="68544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PON is a full service access network :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 for voice, data and video connection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639040" y="4799520"/>
            <a:ext cx="1482120" cy="763200"/>
            <a:chOff x="5639040" y="4799520"/>
            <a:chExt cx="1482120" cy="763200"/>
          </a:xfrm>
        </p:grpSpPr>
        <p:sp>
          <p:nvSpPr>
            <p:cNvPr id="182" name=""/>
            <p:cNvSpPr/>
            <p:nvPr/>
          </p:nvSpPr>
          <p:spPr>
            <a:xfrm>
              <a:off x="5639040" y="4799520"/>
              <a:ext cx="148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tical fibr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5943240" y="5181480"/>
              <a:ext cx="152280" cy="38124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B71-8623-4312-9F57-15F9E8F71C9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8F9946E-B7B4-4D54-9BDE-BA4BC12D2589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TTx with BP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076480"/>
            <a:ext cx="9144000" cy="434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23160" y="2557440"/>
            <a:ext cx="180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16800" y="2557440"/>
            <a:ext cx="144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54720" y="2557440"/>
            <a:ext cx="144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2240" y="2557440"/>
            <a:ext cx="1800" cy="3602160"/>
          </a:xfrm>
          <a:prstGeom prst="line">
            <a:avLst/>
          </a:prstGeom>
          <a:ln w="28440">
            <a:solidFill>
              <a:srgbClr val="ffcc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0080" y="4191120"/>
            <a:ext cx="105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819160" y="3295800"/>
            <a:ext cx="533160" cy="0"/>
          </a:xfrm>
          <a:prstGeom prst="line">
            <a:avLst/>
          </a:prstGeom>
          <a:ln w="12600">
            <a:solidFill>
              <a:srgbClr val="f68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219480"/>
            <a:ext cx="147600" cy="15696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610000"/>
            <a:ext cx="595080" cy="36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3143160"/>
            <a:ext cx="81756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23880" y="3524040"/>
            <a:ext cx="8384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523880" y="382896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05756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44808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838600"/>
            <a:ext cx="151452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240" y="2247840"/>
            <a:ext cx="151416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20" y="2365200"/>
            <a:ext cx="209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M NETWORK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56160" y="2990880"/>
            <a:ext cx="171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L Network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320" y="3600360"/>
            <a:ext cx="1368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54720" y="4133880"/>
            <a:ext cx="1706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TS/ISDN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22240" y="414972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5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8360" y="2536920"/>
            <a:ext cx="98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B5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31080" y="3124080"/>
            <a:ext cx="1091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2600" indent="-282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.703</a:t>
            </a:r>
            <a:endParaRPr b="0" lang="en-US" sz="1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166920"/>
            <a:ext cx="115920" cy="128880"/>
          </a:xfrm>
          <a:prstGeom prst="ellipse">
            <a:avLst/>
          </a:prstGeom>
          <a:noFill/>
          <a:ln w="12600">
            <a:solidFill>
              <a:srgbClr val="f68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828800" y="1319040"/>
          <a:ext cx="127152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19040"/>
                    <a:ext cx="12715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3352680" y="1371600"/>
            <a:ext cx="5732640" cy="1923840"/>
            <a:chOff x="3352680" y="1371600"/>
            <a:chExt cx="5732640" cy="1923840"/>
          </a:xfrm>
        </p:grpSpPr>
        <p:grpSp>
          <p:nvGrpSpPr>
            <p:cNvPr id="212" name=""/>
            <p:cNvGrpSpPr/>
            <p:nvPr/>
          </p:nvGrpSpPr>
          <p:grpSpPr>
            <a:xfrm>
              <a:off x="3352680" y="1892160"/>
              <a:ext cx="5732640" cy="1403280"/>
              <a:chOff x="3352680" y="1892160"/>
              <a:chExt cx="5732640" cy="1403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3352680" y="2381400"/>
                <a:ext cx="5732640" cy="914040"/>
                <a:chOff x="3352680" y="2381400"/>
                <a:chExt cx="5732640" cy="91404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3352680" y="2617560"/>
                  <a:ext cx="844560" cy="67788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450960" y="23814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70280" y="2768760"/>
                  <a:ext cx="1159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7" name=""/>
                <p:cNvGraphicFramePr/>
                <p:nvPr/>
              </p:nvGraphicFramePr>
              <p:xfrm>
                <a:off x="4235400" y="2416320"/>
                <a:ext cx="254160" cy="6778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1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235400" y="2416320"/>
                          <a:ext cx="254160" cy="677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19" name=""/>
                <p:cNvSpPr/>
                <p:nvPr/>
              </p:nvSpPr>
              <p:spPr>
                <a:xfrm>
                  <a:off x="4500720" y="2635200"/>
                  <a:ext cx="3314520" cy="18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8181720" y="2655720"/>
                  <a:ext cx="60156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8191080" y="305604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78680" y="2425680"/>
                  <a:ext cx="309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126280" y="2963880"/>
                  <a:ext cx="0" cy="619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24" name=""/>
                <p:cNvGraphicFramePr/>
                <p:nvPr/>
              </p:nvGraphicFramePr>
              <p:xfrm>
                <a:off x="8445600" y="2960640"/>
                <a:ext cx="225360" cy="2253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8445600" y="296064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26" name=""/>
                <p:cNvGraphicFramePr/>
                <p:nvPr/>
              </p:nvGraphicFramePr>
              <p:xfrm>
                <a:off x="8736120" y="2516040"/>
                <a:ext cx="349200" cy="3430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8736120" y="2516040"/>
                          <a:ext cx="349200" cy="343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28" name=""/>
                <p:cNvSpPr/>
                <p:nvPr/>
              </p:nvSpPr>
              <p:spPr>
                <a:xfrm>
                  <a:off x="8031240" y="302904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83480" y="299556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79360" y="2639880"/>
                  <a:ext cx="15102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DSL ( &lt; 6 KM )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71600" y="2790720"/>
                  <a:ext cx="12967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8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889800" y="1892160"/>
                <a:ext cx="75672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Ex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233" name="" descr=""/>
            <p:cNvPicPr/>
            <p:nvPr/>
          </p:nvPicPr>
          <p:blipFill>
            <a:blip r:embed="rId9"/>
            <a:stretch/>
          </p:blipFill>
          <p:spPr>
            <a:xfrm>
              <a:off x="3886200" y="1371600"/>
              <a:ext cx="8319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3352680" y="1371600"/>
            <a:ext cx="5734080" cy="2865240"/>
            <a:chOff x="3352680" y="1371600"/>
            <a:chExt cx="5734080" cy="2865240"/>
          </a:xfrm>
        </p:grpSpPr>
        <p:grpSp>
          <p:nvGrpSpPr>
            <p:cNvPr id="235" name=""/>
            <p:cNvGrpSpPr/>
            <p:nvPr/>
          </p:nvGrpSpPr>
          <p:grpSpPr>
            <a:xfrm>
              <a:off x="3352680" y="1892160"/>
              <a:ext cx="5734080" cy="2344680"/>
              <a:chOff x="3352680" y="1892160"/>
              <a:chExt cx="5734080" cy="23446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3352680" y="3294000"/>
                <a:ext cx="5734080" cy="942840"/>
                <a:chOff x="3352680" y="3294000"/>
                <a:chExt cx="5734080" cy="942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692240" y="32940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52680" y="3295800"/>
                  <a:ext cx="1873440" cy="43956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36960" y="3548160"/>
                  <a:ext cx="1159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540400" y="3767040"/>
                  <a:ext cx="2771640" cy="180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41" name=""/>
                <p:cNvGraphicFramePr/>
                <p:nvPr/>
              </p:nvGraphicFramePr>
              <p:xfrm>
                <a:off x="5327640" y="3521160"/>
                <a:ext cx="254160" cy="511200"/>
              </p:xfrm>
              <a:graphic>
                <a:graphicData uri="http://schemas.openxmlformats.org/presentationml/2006/ole">
                  <p:oleObj r:id="rId10" spid="">
                    <p:embed/>
                    <p:pic>
                      <p:nvPicPr>
                        <p:cNvPr id="242" name="" descr=""/>
                        <p:cNvPicPr/>
                        <p:nvPr/>
                      </p:nvPicPr>
                      <p:blipFill>
                        <a:blip r:embed="rId11"/>
                        <a:stretch/>
                      </p:blipFill>
                      <p:spPr>
                        <a:xfrm>
                          <a:off x="5327640" y="3521160"/>
                          <a:ext cx="254160" cy="511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3" name=""/>
                <p:cNvSpPr/>
                <p:nvPr/>
              </p:nvSpPr>
              <p:spPr>
                <a:xfrm flipH="1">
                  <a:off x="8178480" y="39276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>
                  <a:off x="8178480" y="343836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>
                  <a:off x="8178480" y="40543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978680" y="3425760"/>
                  <a:ext cx="314280" cy="5317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115480" y="39603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48" name=""/>
                <p:cNvGraphicFramePr/>
                <p:nvPr/>
              </p:nvGraphicFramePr>
              <p:xfrm>
                <a:off x="8410680" y="3540240"/>
                <a:ext cx="323640" cy="349200"/>
              </p:xfrm>
              <a:graphic>
                <a:graphicData uri="http://schemas.openxmlformats.org/presentationml/2006/ole">
                  <p:oleObj r:id="rId12" spid="">
                    <p:embed/>
                    <p:pic>
                      <p:nvPicPr>
                        <p:cNvPr id="249" name="" descr=""/>
                        <p:cNvPicPr/>
                        <p:nvPr/>
                      </p:nvPicPr>
                      <p:blipFill>
                        <a:blip r:embed="rId13"/>
                        <a:stretch/>
                      </p:blipFill>
                      <p:spPr>
                        <a:xfrm>
                          <a:off x="8410680" y="3540240"/>
                          <a:ext cx="32364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0" name=""/>
                <p:cNvGraphicFramePr/>
                <p:nvPr/>
              </p:nvGraphicFramePr>
              <p:xfrm>
                <a:off x="8432640" y="3960720"/>
                <a:ext cx="225720" cy="22536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51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8432640" y="3960720"/>
                          <a:ext cx="22572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52" name=""/>
                <p:cNvGraphicFramePr/>
                <p:nvPr/>
              </p:nvGraphicFramePr>
              <p:xfrm>
                <a:off x="8724960" y="3795840"/>
                <a:ext cx="349200" cy="34272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253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8724960" y="3795840"/>
                          <a:ext cx="349200" cy="34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4" name=""/>
                <p:cNvSpPr/>
                <p:nvPr/>
              </p:nvSpPr>
              <p:spPr>
                <a:xfrm>
                  <a:off x="8432640" y="3381480"/>
                  <a:ext cx="25272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094600" y="335916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18640" y="402912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70880" y="399564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25920" y="3732120"/>
                  <a:ext cx="182124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DSL/VDSL ( &lt; 1 KM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731640" y="3917880"/>
                  <a:ext cx="13669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26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977720" y="1892160"/>
                <a:ext cx="90612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Cab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257800" y="1371600"/>
              <a:ext cx="450720" cy="517680"/>
              <a:chOff x="5257800" y="1371600"/>
              <a:chExt cx="450720" cy="517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257800" y="1371600"/>
                <a:ext cx="450720" cy="517680"/>
              </a:xfrm>
              <a:prstGeom prst="cube">
                <a:avLst>
                  <a:gd name="adj" fmla="val 13333"/>
                </a:avLst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84800" y="1457280"/>
                <a:ext cx="147600" cy="4096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67320" y="1457280"/>
                <a:ext cx="147600" cy="40968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08640" y="1636560"/>
                <a:ext cx="0" cy="320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600" y="1639800"/>
                <a:ext cx="0" cy="3204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3352680" y="613080"/>
            <a:ext cx="5761080" cy="4711320"/>
            <a:chOff x="3352680" y="613080"/>
            <a:chExt cx="5761080" cy="4711320"/>
          </a:xfrm>
        </p:grpSpPr>
        <p:grpSp>
          <p:nvGrpSpPr>
            <p:cNvPr id="268" name=""/>
            <p:cNvGrpSpPr/>
            <p:nvPr/>
          </p:nvGrpSpPr>
          <p:grpSpPr>
            <a:xfrm>
              <a:off x="3352680" y="1892160"/>
              <a:ext cx="5761080" cy="3432240"/>
              <a:chOff x="3352680" y="1892160"/>
              <a:chExt cx="5761080" cy="34322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352680" y="3295800"/>
                <a:ext cx="5761080" cy="2028600"/>
                <a:chOff x="3352680" y="3295800"/>
                <a:chExt cx="5761080" cy="20286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3352680" y="3295800"/>
                  <a:ext cx="2967120" cy="141264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39920" y="432108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18200" y="4081320"/>
                  <a:ext cx="115920" cy="12888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743880" y="4711680"/>
                  <a:ext cx="1330200" cy="1440"/>
                </a:xfrm>
                <a:prstGeom prst="line">
                  <a:avLst/>
                </a:prstGeom>
                <a:ln w="2844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74" name=""/>
                <p:cNvGraphicFramePr/>
                <p:nvPr/>
              </p:nvGraphicFramePr>
              <p:xfrm>
                <a:off x="6461280" y="4578480"/>
                <a:ext cx="253800" cy="379440"/>
              </p:xfrm>
              <a:graphic>
                <a:graphicData uri="http://schemas.openxmlformats.org/presentationml/2006/ole">
                  <p:oleObj r:id="rId18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19"/>
                        <a:stretch/>
                      </p:blipFill>
                      <p:spPr>
                        <a:xfrm>
                          <a:off x="6461280" y="4578480"/>
                          <a:ext cx="253800" cy="37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 flipH="1">
                  <a:off x="8151480" y="50166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8151480" y="45259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8151480" y="514368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78680" y="4513320"/>
                  <a:ext cx="336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X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8086680" y="50493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81" name=""/>
                <p:cNvGraphicFramePr/>
                <p:nvPr/>
              </p:nvGraphicFramePr>
              <p:xfrm>
                <a:off x="8437680" y="4629240"/>
                <a:ext cx="323640" cy="34920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282" name="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8437680" y="4629240"/>
                          <a:ext cx="32364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3" name=""/>
                <p:cNvGraphicFramePr/>
                <p:nvPr/>
              </p:nvGraphicFramePr>
              <p:xfrm>
                <a:off x="8461440" y="5048280"/>
                <a:ext cx="225360" cy="225360"/>
              </p:xfrm>
              <a:graphic>
                <a:graphicData uri="http://schemas.openxmlformats.org/presentationml/2006/ole">
                  <p:oleObj r:id="rId22" spid="">
                    <p:embed/>
                    <p:pic>
                      <p:nvPicPr>
                        <p:cNvPr id="284" name="" descr=""/>
                        <p:cNvPicPr/>
                        <p:nvPr/>
                      </p:nvPicPr>
                      <p:blipFill>
                        <a:blip r:embed="rId23"/>
                        <a:stretch/>
                      </p:blipFill>
                      <p:spPr>
                        <a:xfrm>
                          <a:off x="8461440" y="504828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85" name=""/>
                <p:cNvGraphicFramePr/>
                <p:nvPr/>
              </p:nvGraphicFramePr>
              <p:xfrm>
                <a:off x="8751960" y="4883040"/>
                <a:ext cx="349200" cy="343080"/>
              </p:xfrm>
              <a:graphic>
                <a:graphicData uri="http://schemas.openxmlformats.org/presentationml/2006/ole">
                  <p:oleObj r:id="rId24" spid="">
                    <p:embed/>
                    <p:pic>
                      <p:nvPicPr>
                        <p:cNvPr id="286" name="" descr=""/>
                        <p:cNvPicPr/>
                        <p:nvPr/>
                      </p:nvPicPr>
                      <p:blipFill>
                        <a:blip r:embed="rId25"/>
                        <a:stretch/>
                      </p:blipFill>
                      <p:spPr>
                        <a:xfrm>
                          <a:off x="8751960" y="4883040"/>
                          <a:ext cx="349200" cy="343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87" name=""/>
                <p:cNvSpPr/>
                <p:nvPr/>
              </p:nvSpPr>
              <p:spPr>
                <a:xfrm>
                  <a:off x="8461440" y="4470480"/>
                  <a:ext cx="25092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121600" y="444672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91640" y="5116680"/>
                  <a:ext cx="174600" cy="12852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643880" y="508320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368400" y="4713120"/>
                  <a:ext cx="179352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01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Arial"/>
                    </a:rPr>
                    <a:t>VDSL/DHN ( &lt; 300 M )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753960" y="4876920"/>
                  <a:ext cx="13669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52 Mbit/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244200" y="1892160"/>
                <a:ext cx="656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C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537160" y="613080"/>
              <a:ext cx="1220760" cy="1247400"/>
              <a:chOff x="5537160" y="613080"/>
              <a:chExt cx="1220760" cy="1247400"/>
            </a:xfrm>
          </p:grpSpPr>
          <p:sp>
            <p:nvSpPr>
              <p:cNvPr id="295" name=""/>
              <p:cNvSpPr/>
              <p:nvPr/>
            </p:nvSpPr>
            <p:spPr>
              <a:xfrm>
                <a:off x="6513480" y="762120"/>
                <a:ext cx="44280" cy="1098360"/>
              </a:xfrm>
              <a:prstGeom prst="rect">
                <a:avLst/>
              </a:prstGeom>
              <a:solidFill>
                <a:srgbClr val="ad6900"/>
              </a:solidFill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9640" y="850680"/>
                <a:ext cx="136440" cy="9504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554880" y="848880"/>
                <a:ext cx="137880" cy="94680"/>
              </a:xfrm>
              <a:prstGeom prst="line">
                <a:avLst/>
              </a:prstGeom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697800" y="792000"/>
                <a:ext cx="36360" cy="34200"/>
                <a:chOff x="6697800" y="792000"/>
                <a:chExt cx="36360" cy="342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702480" y="79488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19" y="19"/>
                      </a:lnTo>
                      <a:lnTo>
                        <a:pt x="1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697800" y="7920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10" y="11"/>
                      </a:lnTo>
                      <a:lnTo>
                        <a:pt x="5" y="11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622920" y="792000"/>
                <a:ext cx="36720" cy="34200"/>
                <a:chOff x="6622920" y="792000"/>
                <a:chExt cx="36720" cy="34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627960" y="794880"/>
                  <a:ext cx="31680" cy="3132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5" y="0"/>
                      </a:moveTo>
                      <a:lnTo>
                        <a:pt x="0" y="19"/>
                      </a:lnTo>
                      <a:lnTo>
                        <a:pt x="19" y="19"/>
                      </a:lnTo>
                      <a:lnTo>
                        <a:pt x="13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22920" y="79200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11" y="11"/>
                      </a:lnTo>
                      <a:lnTo>
                        <a:pt x="5" y="11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05480" y="795240"/>
                <a:ext cx="33480" cy="30960"/>
                <a:chOff x="6405480" y="795240"/>
                <a:chExt cx="33480" cy="30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10160" y="796320"/>
                  <a:ext cx="28800" cy="298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0"/>
                      </a:moveTo>
                      <a:lnTo>
                        <a:pt x="0" y="18"/>
                      </a:lnTo>
                      <a:lnTo>
                        <a:pt x="17" y="18"/>
                      </a:lnTo>
                      <a:lnTo>
                        <a:pt x="1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7952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1" y="0"/>
                      </a:lnTo>
                      <a:lnTo>
                        <a:pt x="3" y="0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7" y="4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335640" y="795240"/>
                <a:ext cx="36720" cy="30960"/>
                <a:chOff x="6335640" y="795240"/>
                <a:chExt cx="36720" cy="30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343560" y="796320"/>
                  <a:ext cx="28800" cy="2988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5" y="0"/>
                      </a:moveTo>
                      <a:lnTo>
                        <a:pt x="0" y="18"/>
                      </a:lnTo>
                      <a:lnTo>
                        <a:pt x="17" y="18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19191"/>
                </a:soli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335640" y="79524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7" y="4"/>
                      </a:lnTo>
                      <a:lnTo>
                        <a:pt x="9" y="4"/>
                      </a:lnTo>
                      <a:lnTo>
                        <a:pt x="11" y="10"/>
                      </a:lnTo>
                      <a:lnTo>
                        <a:pt x="5" y="10"/>
                      </a:lnTo>
                      <a:lnTo>
                        <a:pt x="7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6313320" y="831600"/>
                <a:ext cx="444600" cy="14040"/>
              </a:xfrm>
              <a:prstGeom prst="rect">
                <a:avLst/>
              </a:prstGeom>
              <a:solidFill>
                <a:srgbClr val="ad6900"/>
              </a:solidFill>
              <a:ln w="12600">
                <a:solidFill>
                  <a:srgbClr val="ad6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08800" y="866520"/>
                <a:ext cx="52200" cy="25200"/>
              </a:xfrm>
              <a:prstGeom prst="rect">
                <a:avLst/>
              </a:prstGeom>
              <a:solidFill>
                <a:srgbClr val="71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10240" y="831600"/>
                <a:ext cx="54000" cy="0"/>
              </a:xfrm>
              <a:prstGeom prst="line">
                <a:avLst/>
              </a:prstGeom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86560" y="915840"/>
                <a:ext cx="0" cy="26640"/>
              </a:xfrm>
              <a:prstGeom prst="line">
                <a:avLst/>
              </a:prstGeom>
              <a:ln w="12600">
                <a:solidFill>
                  <a:srgbClr val="714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3716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0232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98960" y="618120"/>
                <a:ext cx="81252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21200" y="613080"/>
                <a:ext cx="812520" cy="34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99"/>
                    </a:moveTo>
                    <a:arcTo wR="10800" hR="10800" stAng="-63905" swAng="54639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99"/>
                    </a:moveTo>
                    <a:arcTo wR="10800" hR="10800" stAng="-63905" swAng="5463905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276720" y="1116000"/>
            <a:ext cx="5800680" cy="5256000"/>
            <a:chOff x="3276720" y="1116000"/>
            <a:chExt cx="5800680" cy="5256000"/>
          </a:xfrm>
        </p:grpSpPr>
        <p:grpSp>
          <p:nvGrpSpPr>
            <p:cNvPr id="319" name=""/>
            <p:cNvGrpSpPr/>
            <p:nvPr/>
          </p:nvGrpSpPr>
          <p:grpSpPr>
            <a:xfrm>
              <a:off x="3276720" y="1892160"/>
              <a:ext cx="5800680" cy="4479840"/>
              <a:chOff x="3276720" y="1892160"/>
              <a:chExt cx="5800680" cy="447984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3276720" y="3295440"/>
                <a:ext cx="5800680" cy="3076560"/>
                <a:chOff x="3276720" y="3295440"/>
                <a:chExt cx="5800680" cy="30765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276720" y="3295440"/>
                  <a:ext cx="4203720" cy="2554200"/>
                </a:xfrm>
                <a:prstGeom prst="line">
                  <a:avLst/>
                </a:prstGeom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997320" y="5457600"/>
                  <a:ext cx="108504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Arial"/>
                    </a:rPr>
                    <a:t>ONU</a:t>
                  </a:r>
                  <a:endParaRPr b="0" lang="en-US" sz="12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981760" y="4843440"/>
                  <a:ext cx="114120" cy="128520"/>
                </a:xfrm>
                <a:prstGeom prst="ellipse">
                  <a:avLst/>
                </a:prstGeom>
                <a:noFill/>
                <a:ln w="12600">
                  <a:solidFill>
                    <a:srgbClr val="f680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7738920" y="5900760"/>
                  <a:ext cx="219240" cy="2376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5" name=""/>
                <p:cNvGraphicFramePr/>
                <p:nvPr/>
              </p:nvGraphicFramePr>
              <p:xfrm>
                <a:off x="7658280" y="5738760"/>
                <a:ext cx="253800" cy="317520"/>
              </p:xfrm>
              <a:graphic>
                <a:graphicData uri="http://schemas.openxmlformats.org/presentationml/2006/ole">
                  <p:oleObj r:id="rId26" spid="">
                    <p:embed/>
                    <p:pic>
                      <p:nvPicPr>
                        <p:cNvPr id="326" name="" descr=""/>
                        <p:cNvPicPr/>
                        <p:nvPr/>
                      </p:nvPicPr>
                      <p:blipFill>
                        <a:blip r:embed="rId27"/>
                        <a:stretch/>
                      </p:blipFill>
                      <p:spPr>
                        <a:xfrm>
                          <a:off x="7658280" y="5738760"/>
                          <a:ext cx="253800" cy="317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7" name=""/>
                <p:cNvSpPr/>
                <p:nvPr/>
              </p:nvSpPr>
              <p:spPr>
                <a:xfrm flipH="1">
                  <a:off x="8170560" y="6064200"/>
                  <a:ext cx="60156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>
                  <a:off x="8170560" y="5573520"/>
                  <a:ext cx="276120" cy="180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8170560" y="6191280"/>
                  <a:ext cx="276120" cy="144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78680" y="5560920"/>
                  <a:ext cx="336600" cy="533520"/>
                </a:xfrm>
                <a:prstGeom prst="rect">
                  <a:avLst/>
                </a:prstGeom>
                <a:solidFill>
                  <a:srgbClr val="00cc99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8680" rIns="5868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374760"/>
                      <a:tab algn="l" pos="749160"/>
                      <a:tab algn="l" pos="1123920"/>
                      <a:tab algn="l" pos="1498680"/>
                      <a:tab algn="l" pos="1873080"/>
                      <a:tab algn="l" pos="2247840"/>
                      <a:tab algn="l" pos="2622600"/>
                      <a:tab algn="l" pos="2997360"/>
                      <a:tab algn="l" pos="3371760"/>
                      <a:tab algn="l" pos="3746520"/>
                      <a:tab algn="l" pos="4121280"/>
                      <a:tab algn="l" pos="4495680"/>
                      <a:tab algn="l" pos="4870440"/>
                      <a:tab algn="l" pos="5245200"/>
                      <a:tab algn="l" pos="5619600"/>
                      <a:tab algn="l" pos="5994360"/>
                      <a:tab algn="l" pos="6369120"/>
                      <a:tab algn="l" pos="6743880"/>
                      <a:tab algn="l" pos="7118280"/>
                      <a:tab algn="l" pos="749304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ONT</a:t>
                  </a:r>
                  <a:endParaRPr b="0" lang="en-US" sz="8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8105760" y="6096960"/>
                  <a:ext cx="0" cy="63720"/>
                </a:xfrm>
                <a:prstGeom prst="line">
                  <a:avLst/>
                </a:prstGeom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2" name=""/>
                <p:cNvGraphicFramePr/>
                <p:nvPr/>
              </p:nvGraphicFramePr>
              <p:xfrm>
                <a:off x="8400960" y="5676840"/>
                <a:ext cx="324000" cy="349200"/>
              </p:xfrm>
              <a:graphic>
                <a:graphicData uri="http://schemas.openxmlformats.org/presentationml/2006/ole">
                  <p:oleObj r:id="rId28" spid="">
                    <p:embed/>
                    <p:pic>
                      <p:nvPicPr>
                        <p:cNvPr id="333" name="" descr=""/>
                        <p:cNvPicPr/>
                        <p:nvPr/>
                      </p:nvPicPr>
                      <p:blipFill>
                        <a:blip r:embed="rId29"/>
                        <a:stretch/>
                      </p:blipFill>
                      <p:spPr>
                        <a:xfrm>
                          <a:off x="8400960" y="5676840"/>
                          <a:ext cx="324000" cy="34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34" name=""/>
                <p:cNvGraphicFramePr/>
                <p:nvPr/>
              </p:nvGraphicFramePr>
              <p:xfrm>
                <a:off x="8423280" y="6095880"/>
                <a:ext cx="225360" cy="225360"/>
              </p:xfrm>
              <a:graphic>
                <a:graphicData uri="http://schemas.openxmlformats.org/presentationml/2006/ole">
                  <p:oleObj r:id="rId30" spid="">
                    <p:embed/>
                    <p:pic>
                      <p:nvPicPr>
                        <p:cNvPr id="335" name="" descr=""/>
                        <p:cNvPicPr/>
                        <p:nvPr/>
                      </p:nvPicPr>
                      <p:blipFill>
                        <a:blip r:embed="rId31"/>
                        <a:stretch/>
                      </p:blipFill>
                      <p:spPr>
                        <a:xfrm>
                          <a:off x="8423280" y="6095880"/>
                          <a:ext cx="225360" cy="225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336" name=""/>
                <p:cNvGraphicFramePr/>
                <p:nvPr/>
              </p:nvGraphicFramePr>
              <p:xfrm>
                <a:off x="8715240" y="5932440"/>
                <a:ext cx="349560" cy="341280"/>
              </p:xfrm>
              <a:graphic>
                <a:graphicData uri="http://schemas.openxmlformats.org/presentationml/2006/ole">
                  <p:oleObj r:id="rId32" spid="">
                    <p:embed/>
                    <p:pic>
                      <p:nvPicPr>
                        <p:cNvPr id="337" name="" descr=""/>
                        <p:cNvPicPr/>
                        <p:nvPr/>
                      </p:nvPicPr>
                      <p:blipFill>
                        <a:blip r:embed="rId33"/>
                        <a:stretch/>
                      </p:blipFill>
                      <p:spPr>
                        <a:xfrm>
                          <a:off x="8715240" y="5932440"/>
                          <a:ext cx="349560" cy="341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8" name=""/>
                <p:cNvSpPr/>
                <p:nvPr/>
              </p:nvSpPr>
              <p:spPr>
                <a:xfrm>
                  <a:off x="8423280" y="5518080"/>
                  <a:ext cx="252360" cy="12996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085240" y="5494320"/>
                  <a:ext cx="99216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TB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10360" y="6165720"/>
                  <a:ext cx="174960" cy="1270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62960" y="6130800"/>
                  <a:ext cx="91440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PS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242760" y="5813280"/>
                  <a:ext cx="177372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622 Mbit/s down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  <a:p>
                  <a:pPr marL="282600" indent="-282600">
                    <a:lnSpc>
                      <a:spcPct val="100000"/>
                    </a:lnSpc>
                    <a:spcBef>
                      <a:spcPts val="249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&lt; 622 Mbit/s up</a:t>
                  </a:r>
                  <a:endParaRPr b="0" lang="en-US" sz="10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>
                <a:off x="7398720" y="1892160"/>
                <a:ext cx="90144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FuturaA Bk BT"/>
                  </a:rPr>
                  <a:t>FTTH/B</a:t>
                </a:r>
                <a:endParaRPr b="0" lang="en-US" sz="16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344" name="" descr=""/>
            <p:cNvPicPr/>
            <p:nvPr/>
          </p:nvPicPr>
          <p:blipFill>
            <a:blip r:embed="rId34"/>
            <a:stretch/>
          </p:blipFill>
          <p:spPr>
            <a:xfrm>
              <a:off x="7391520" y="1116000"/>
              <a:ext cx="95724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 rot="5400000">
            <a:off x="1942560" y="3162240"/>
            <a:ext cx="1295280" cy="609480"/>
          </a:xfrm>
          <a:prstGeom prst="parallelogram">
            <a:avLst>
              <a:gd name="adj" fmla="val 53131"/>
            </a:avLst>
          </a:prstGeom>
          <a:solidFill>
            <a:srgbClr val="66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uturaA Md BT"/>
              </a:rPr>
              <a:t>FIT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43D-198E-4006-95E4-BB1D33C4A37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116C625-FF47-4CAF-A910-D098FFFEA9B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ndardis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117080"/>
            <a:ext cx="8153640" cy="51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U-T SG15 generates Recommendations to standardise access technologies (amongst which PON syste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are backed by vendors and operators in industry forum FSAN (Full Service Access Networ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ts val="2798"/>
              </a:lnSpc>
              <a:spcBef>
                <a:spcPts val="601"/>
              </a:spcBef>
              <a:spcAft>
                <a:spcPts val="201"/>
              </a:spcAft>
              <a:buClr>
                <a:srgbClr val="ff9900"/>
              </a:buClr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wide backing of Recommend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operability between vendors by common system description and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Clr>
                <a:srgbClr val="ff9900"/>
              </a:buClr>
              <a:buSzPct val="7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sing volumes with common specifications, leading to cost-effectiv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ts val="2798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5CE-C6DE-4624-92F4-C28F30CB2CE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F330EF-A0DB-47FD-B33E-B574AF733C7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44400" y="2182680"/>
            <a:ext cx="8118720" cy="4294080"/>
            <a:chOff x="644400" y="2182680"/>
            <a:chExt cx="8118720" cy="4294080"/>
          </a:xfrm>
        </p:grpSpPr>
        <p:grpSp>
          <p:nvGrpSpPr>
            <p:cNvPr id="351" name=""/>
            <p:cNvGrpSpPr/>
            <p:nvPr/>
          </p:nvGrpSpPr>
          <p:grpSpPr>
            <a:xfrm>
              <a:off x="644400" y="2182680"/>
              <a:ext cx="8118720" cy="4294080"/>
              <a:chOff x="644400" y="2182680"/>
              <a:chExt cx="8118720" cy="429408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44400" y="3324240"/>
                <a:ext cx="2242080" cy="2789280"/>
                <a:chOff x="644400" y="3324240"/>
                <a:chExt cx="2242080" cy="2789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925560" y="3324240"/>
                  <a:ext cx="1905120" cy="2789280"/>
                </a:xfrm>
                <a:custGeom>
                  <a:avLst/>
                  <a:gdLst>
                    <a:gd name="textAreaLeft" fmla="*/ 58320 w 1905120"/>
                    <a:gd name="textAreaRight" fmla="*/ 1846800 w 1905120"/>
                    <a:gd name="textAreaTop" fmla="*/ 58320 h 2789280"/>
                    <a:gd name="textAreaBottom" fmla="*/ 2730960 h 2789280"/>
                  </a:gdLst>
                  <a:ahLst/>
                  <a:rect l="textAreaLeft" t="textAreaTop" r="textAreaRight" b="textAreaBottom"/>
                  <a:pathLst>
                    <a:path w="21600" h="31623">
                      <a:moveTo>
                        <a:pt x="2268" y="0"/>
                      </a:moveTo>
                      <a:arcTo wR="2268" hR="2268" stAng="16200000" swAng="-5400000"/>
                      <a:lnTo>
                        <a:pt x="0" y="29355"/>
                      </a:lnTo>
                      <a:arcTo wR="2268" hR="2268" stAng="10800000" swAng="-5400000"/>
                      <a:lnTo>
                        <a:pt x="19332" y="31623"/>
                      </a:lnTo>
                      <a:arcTo wR="2268" hR="2268" stAng="5400000" swAng="-5400000"/>
                      <a:lnTo>
                        <a:pt x="21600" y="2268"/>
                      </a:lnTo>
                      <a:arcTo wR="2268" hR="2268" stAng="0" swAng="-5400000"/>
                      <a:close/>
                    </a:path>
                  </a:pathLst>
                </a:custGeom>
                <a:solidFill>
                  <a:srgbClr val="cc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98200" y="3354120"/>
                  <a:ext cx="198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Access Node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95400" y="4238640"/>
                  <a:ext cx="492120" cy="533160"/>
                </a:xfrm>
                <a:prstGeom prst="rect">
                  <a:avLst/>
                </a:prstGeom>
                <a:noFill/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NB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95400" y="4924440"/>
                  <a:ext cx="492120" cy="533160"/>
                </a:xfrm>
                <a:prstGeom prst="rect">
                  <a:avLst/>
                </a:prstGeom>
                <a:noFill/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BB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44400" y="4467240"/>
                  <a:ext cx="35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44400" y="5229000"/>
                  <a:ext cx="351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58800" y="3857400"/>
                  <a:ext cx="631800" cy="1981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FuturaA Md BT"/>
                    </a:rPr>
                    <a:t>CC</a:t>
                  </a:r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486400" y="2182680"/>
                <a:ext cx="3276720" cy="4294080"/>
                <a:chOff x="5486400" y="2182680"/>
                <a:chExt cx="3276720" cy="4294080"/>
              </a:xfrm>
            </p:grpSpPr>
            <p:pic>
              <p:nvPicPr>
                <p:cNvPr id="36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086600" y="4011480"/>
                  <a:ext cx="990720" cy="1270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2" name=""/>
                <p:cNvGrpSpPr/>
                <p:nvPr/>
              </p:nvGrpSpPr>
              <p:grpSpPr>
                <a:xfrm>
                  <a:off x="5486400" y="2563560"/>
                  <a:ext cx="837720" cy="1126440"/>
                  <a:chOff x="5486400" y="2563560"/>
                  <a:chExt cx="837720" cy="11264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5486400" y="2563560"/>
                    <a:ext cx="837720" cy="1126440"/>
                  </a:xfrm>
                  <a:prstGeom prst="cube">
                    <a:avLst>
                      <a:gd name="adj" fmla="val 13333"/>
                    </a:avLst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5536440" y="2750040"/>
                    <a:ext cx="274320" cy="891360"/>
                  </a:xfrm>
                  <a:prstGeom prst="rect">
                    <a:avLst/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875560" y="2750040"/>
                    <a:ext cx="274320" cy="891360"/>
                  </a:xfrm>
                  <a:prstGeom prst="rect">
                    <a:avLst/>
                  </a:prstGeom>
                  <a:solidFill>
                    <a:srgbClr val="00ae00"/>
                  </a:solidFill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766480" y="3139920"/>
                    <a:ext cx="0" cy="69480"/>
                  </a:xfrm>
                  <a:prstGeom prst="line">
                    <a:avLst/>
                  </a:prstGeom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07960" y="3147120"/>
                    <a:ext cx="0" cy="69480"/>
                  </a:xfrm>
                  <a:prstGeom prst="line">
                    <a:avLst/>
                  </a:prstGeom>
                  <a:ln w="1260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ffcc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248520" y="2716200"/>
                  <a:ext cx="1523520" cy="761400"/>
                  <a:chOff x="6248520" y="2716200"/>
                  <a:chExt cx="1523520" cy="7614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6248520" y="2716200"/>
                    <a:ext cx="761400" cy="75960"/>
                    <a:chOff x="6248520" y="2716200"/>
                    <a:chExt cx="761400" cy="7596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6248520" y="271620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6518160" y="271620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6776280" y="271620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6781680" y="2716200"/>
                    <a:ext cx="761760" cy="75960"/>
                    <a:chOff x="6781680" y="2716200"/>
                    <a:chExt cx="761760" cy="759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6781680" y="271620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051680" y="271620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7309800" y="271620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6248520" y="3401640"/>
                    <a:ext cx="761400" cy="75960"/>
                    <a:chOff x="6248520" y="3401640"/>
                    <a:chExt cx="761400" cy="759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6248520" y="340164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6518160" y="340164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6776280" y="340164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7010280" y="3401640"/>
                    <a:ext cx="761760" cy="75960"/>
                    <a:chOff x="7010280" y="3401640"/>
                    <a:chExt cx="761760" cy="759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7010280" y="3401640"/>
                      <a:ext cx="25092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280280" y="3401640"/>
                      <a:ext cx="23508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7538400" y="3401640"/>
                      <a:ext cx="233640" cy="759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pic>
              <p:nvPicPr>
                <p:cNvPr id="3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91520" y="2182680"/>
                  <a:ext cx="914400" cy="71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96080" y="2917800"/>
                  <a:ext cx="914400" cy="71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48720" y="5611680"/>
                  <a:ext cx="91440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8" name=""/>
            <p:cNvSpPr/>
            <p:nvPr/>
          </p:nvSpPr>
          <p:spPr>
            <a:xfrm>
              <a:off x="2262240" y="385776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2240" y="538164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2325240" y="4610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317340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3080" y="474804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8880" y="606888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16400" y="3398760"/>
              <a:ext cx="3700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5002200"/>
              <a:ext cx="14065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72000" y="3402000"/>
              <a:ext cx="628560" cy="6811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24200" y="4086360"/>
              <a:ext cx="180180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10080" y="3821040"/>
              <a:ext cx="241200" cy="26676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4087800"/>
              <a:ext cx="1828800" cy="9144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583160" y="4011480"/>
              <a:ext cx="674640" cy="74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72000" y="4087800"/>
              <a:ext cx="609480" cy="380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20960" y="3821040"/>
              <a:ext cx="241560" cy="26676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5680" y="4011480"/>
              <a:ext cx="152640" cy="1526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2824200" y="5381280"/>
              <a:ext cx="4430520" cy="914760"/>
              <a:chOff x="2824200" y="5381280"/>
              <a:chExt cx="4430520" cy="914760"/>
            </a:xfrm>
          </p:grpSpPr>
          <p:sp>
            <p:nvSpPr>
              <p:cNvPr id="405" name=""/>
              <p:cNvSpPr/>
              <p:nvPr/>
            </p:nvSpPr>
            <p:spPr>
              <a:xfrm>
                <a:off x="4653000" y="5686560"/>
                <a:ext cx="844560" cy="6094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824200" y="5686560"/>
                <a:ext cx="182412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83160" y="5686560"/>
                <a:ext cx="750960" cy="1540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4653000" y="5381280"/>
                <a:ext cx="280800" cy="30492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97560" y="6296040"/>
                <a:ext cx="175716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10080" y="5421600"/>
                <a:ext cx="241200" cy="266400"/>
              </a:xfrm>
              <a:prstGeom prst="ellipse">
                <a:avLst/>
              </a:prstGeom>
              <a:noFill/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20960" y="5421600"/>
                <a:ext cx="241560" cy="266400"/>
              </a:xfrm>
              <a:prstGeom prst="ellipse">
                <a:avLst/>
              </a:prstGeom>
              <a:noFill/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72000" y="5612040"/>
                <a:ext cx="152280" cy="152280"/>
              </a:xfrm>
              <a:prstGeom prst="ellipse">
                <a:avLst/>
              </a:prstGeom>
              <a:solidFill>
                <a:srgbClr val="ff9933"/>
              </a:solidFill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648320" y="5535360"/>
                <a:ext cx="533160" cy="1522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rot="16200000">
              <a:off x="3438000" y="462132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aA Md BT"/>
                </a:rPr>
                <a:t>...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76720" y="4011480"/>
              <a:ext cx="152280" cy="1526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5520" y="4392720"/>
              <a:ext cx="152280" cy="15228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192640" y="4239720"/>
              <a:ext cx="522360" cy="228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1480" y="4468680"/>
              <a:ext cx="533520" cy="228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93400" y="837000"/>
            <a:ext cx="77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2 : Optical access networks to support services up to th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DN primary rate or equivalent bit rate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0080" y="1751400"/>
            <a:ext cx="3492360" cy="1313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cal Distribution Network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A:   5 - 20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B: 10 - 25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N class C: 15 - 30 dB los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4B6-BDBC-4914-A8DF-3929D9DF44D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99478E-6DC1-4A35-9ECD-AD8EBB6CFF57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 G.983.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44400" y="2894040"/>
            <a:ext cx="2242080" cy="2789280"/>
            <a:chOff x="644400" y="2894040"/>
            <a:chExt cx="2242080" cy="2789280"/>
          </a:xfrm>
        </p:grpSpPr>
        <p:sp>
          <p:nvSpPr>
            <p:cNvPr id="424" name=""/>
            <p:cNvSpPr/>
            <p:nvPr/>
          </p:nvSpPr>
          <p:spPr>
            <a:xfrm>
              <a:off x="925560" y="2894040"/>
              <a:ext cx="1905120" cy="2789280"/>
            </a:xfrm>
            <a:custGeom>
              <a:avLst/>
              <a:gdLst>
                <a:gd name="textAreaLeft" fmla="*/ 58320 w 1905120"/>
                <a:gd name="textAreaRight" fmla="*/ 1846800 w 1905120"/>
                <a:gd name="textAreaTop" fmla="*/ 58320 h 2789280"/>
                <a:gd name="textAreaBottom" fmla="*/ 2730960 h 2789280"/>
              </a:gdLst>
              <a:ahLst/>
              <a:rect l="textAreaLeft" t="textAreaTop" r="textAreaRight" b="textAreaBottom"/>
              <a:pathLst>
                <a:path w="21600" h="31623">
                  <a:moveTo>
                    <a:pt x="2268" y="0"/>
                  </a:moveTo>
                  <a:arcTo wR="2268" hR="2268" stAng="16200000" swAng="-5400000"/>
                  <a:lnTo>
                    <a:pt x="0" y="29355"/>
                  </a:lnTo>
                  <a:arcTo wR="2268" hR="2268" stAng="10800000" swAng="-5400000"/>
                  <a:lnTo>
                    <a:pt x="19332" y="31623"/>
                  </a:lnTo>
                  <a:arcTo wR="2268" hR="2268" stAng="5400000" swAng="-5400000"/>
                  <a:lnTo>
                    <a:pt x="21600" y="2268"/>
                  </a:lnTo>
                  <a:arcTo wR="2268" hR="2268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98200" y="292392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Access Nod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95400" y="38084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N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95400" y="44942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B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403704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4400" y="479880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8800" y="3427200"/>
              <a:ext cx="631800" cy="198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C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8654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262240" y="4114800"/>
            <a:ext cx="4921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Md BT"/>
              </a:rPr>
              <a:t>L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38880" y="5638680"/>
            <a:ext cx="63360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37609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53000" y="4343400"/>
            <a:ext cx="833400" cy="1523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24200" y="4343400"/>
            <a:ext cx="18241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83160" y="4343400"/>
            <a:ext cx="750960" cy="154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53000" y="2819160"/>
            <a:ext cx="1138320" cy="15238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97560" y="5867280"/>
            <a:ext cx="175716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10080" y="4078440"/>
            <a:ext cx="24120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20960" y="4078440"/>
            <a:ext cx="24156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4268880"/>
            <a:ext cx="152280" cy="1522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648320" y="3733560"/>
            <a:ext cx="1143000" cy="61092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5920" y="913320"/>
            <a:ext cx="84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1 + amendment : Broadband optical access systems based 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ive optical networks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162920" y="35067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28465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162920" y="25923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29600" y="43466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32 (64)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882880" y="5832360"/>
            <a:ext cx="4343400" cy="492120"/>
            <a:chOff x="2882880" y="5832360"/>
            <a:chExt cx="4343400" cy="492120"/>
          </a:xfrm>
        </p:grpSpPr>
        <p:sp>
          <p:nvSpPr>
            <p:cNvPr id="452" name=""/>
            <p:cNvSpPr/>
            <p:nvPr/>
          </p:nvSpPr>
          <p:spPr>
            <a:xfrm>
              <a:off x="2882880" y="6324480"/>
              <a:ext cx="4343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4880" y="583236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0-20 km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499120" y="1905120"/>
            <a:ext cx="3585240" cy="990360"/>
            <a:chOff x="2499120" y="1905120"/>
            <a:chExt cx="3585240" cy="990360"/>
          </a:xfrm>
        </p:grpSpPr>
        <p:sp>
          <p:nvSpPr>
            <p:cNvPr id="455" name=""/>
            <p:cNvSpPr/>
            <p:nvPr/>
          </p:nvSpPr>
          <p:spPr>
            <a:xfrm>
              <a:off x="2499120" y="1905120"/>
              <a:ext cx="358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A Md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S: 155/622 Mbit/s @ 1530 nm ± 50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21800" y="2436840"/>
              <a:ext cx="353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: 155/622 Mbit/s @ 1310 nm ± 50</a:t>
              </a:r>
              <a:endParaRPr b="0" lang="en-US" sz="16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03400" y="2209680"/>
              <a:ext cx="914400" cy="152640"/>
            </a:xfrm>
            <a:prstGeom prst="rightArrow">
              <a:avLst>
                <a:gd name="adj1" fmla="val 50000"/>
                <a:gd name="adj2" fmla="val 149764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3803400" y="2743200"/>
              <a:ext cx="914400" cy="152280"/>
            </a:xfrm>
            <a:prstGeom prst="rightArrow">
              <a:avLst>
                <a:gd name="adj1" fmla="val 50000"/>
                <a:gd name="adj2" fmla="val 150118"/>
              </a:avLst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71440" y="2971800"/>
            <a:ext cx="4038840" cy="2743200"/>
            <a:chOff x="2971440" y="2971800"/>
            <a:chExt cx="4038840" cy="2743200"/>
          </a:xfrm>
        </p:grpSpPr>
        <p:grpSp>
          <p:nvGrpSpPr>
            <p:cNvPr id="460" name=""/>
            <p:cNvGrpSpPr/>
            <p:nvPr/>
          </p:nvGrpSpPr>
          <p:grpSpPr>
            <a:xfrm>
              <a:off x="5714640" y="2971800"/>
              <a:ext cx="1295640" cy="152280"/>
              <a:chOff x="5714640" y="2971800"/>
              <a:chExt cx="12956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59436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05720" y="29718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5714640" y="30481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5714640" y="5562720"/>
              <a:ext cx="1295640" cy="152280"/>
              <a:chOff x="5714640" y="5562720"/>
              <a:chExt cx="1295640" cy="152280"/>
            </a:xfrm>
          </p:grpSpPr>
          <p:sp>
            <p:nvSpPr>
              <p:cNvPr id="465" name=""/>
              <p:cNvSpPr/>
              <p:nvPr/>
            </p:nvSpPr>
            <p:spPr>
              <a:xfrm>
                <a:off x="6705720" y="55627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5714640" y="56386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714640" y="3886200"/>
              <a:ext cx="1295640" cy="152280"/>
              <a:chOff x="5714640" y="3886200"/>
              <a:chExt cx="1295640" cy="15228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5714640" y="39625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24480" y="3886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5720" y="38862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971440" y="4495680"/>
              <a:ext cx="1676880" cy="152640"/>
              <a:chOff x="2971440" y="4495680"/>
              <a:chExt cx="1676880" cy="152640"/>
            </a:xfrm>
          </p:grpSpPr>
          <p:sp>
            <p:nvSpPr>
              <p:cNvPr id="472" name=""/>
              <p:cNvSpPr/>
              <p:nvPr/>
            </p:nvSpPr>
            <p:spPr>
              <a:xfrm>
                <a:off x="3200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62520" y="44956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8128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43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971440" y="4572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36384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48120" y="2880360"/>
            <a:ext cx="2480400" cy="3207240"/>
            <a:chOff x="3048120" y="2880360"/>
            <a:chExt cx="2480400" cy="3207240"/>
          </a:xfrm>
        </p:grpSpPr>
        <p:grpSp>
          <p:nvGrpSpPr>
            <p:cNvPr id="479" name=""/>
            <p:cNvGrpSpPr/>
            <p:nvPr/>
          </p:nvGrpSpPr>
          <p:grpSpPr>
            <a:xfrm>
              <a:off x="3048120" y="3809880"/>
              <a:ext cx="1447560" cy="152640"/>
              <a:chOff x="3048120" y="3809880"/>
              <a:chExt cx="1447560" cy="152640"/>
            </a:xfrm>
          </p:grpSpPr>
          <p:sp>
            <p:nvSpPr>
              <p:cNvPr id="480" name=""/>
              <p:cNvSpPr/>
              <p:nvPr/>
            </p:nvSpPr>
            <p:spPr>
              <a:xfrm>
                <a:off x="39625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5760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81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5268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43400" y="38862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698360" y="4772880"/>
              <a:ext cx="745560" cy="1314720"/>
              <a:chOff x="4698360" y="4772880"/>
              <a:chExt cx="745560" cy="1314720"/>
            </a:xfrm>
          </p:grpSpPr>
          <p:sp>
            <p:nvSpPr>
              <p:cNvPr id="486" name=""/>
              <p:cNvSpPr/>
              <p:nvPr/>
            </p:nvSpPr>
            <p:spPr>
              <a:xfrm rot="3724200">
                <a:off x="5113080" y="56750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724200">
                <a:off x="4969800" y="54054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3724200">
                <a:off x="4684680" y="48668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3724200">
                <a:off x="4827240" y="51361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2640" y="5952960"/>
                <a:ext cx="71280" cy="13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619880" y="2880360"/>
              <a:ext cx="908640" cy="1218240"/>
              <a:chOff x="4619880" y="2880360"/>
              <a:chExt cx="908640" cy="1218240"/>
            </a:xfrm>
          </p:grpSpPr>
          <p:sp>
            <p:nvSpPr>
              <p:cNvPr id="492" name=""/>
              <p:cNvSpPr/>
              <p:nvPr/>
            </p:nvSpPr>
            <p:spPr>
              <a:xfrm rot="18348600">
                <a:off x="5153400" y="311328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8348600">
                <a:off x="4974840" y="335988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8348600">
                <a:off x="4618440" y="38545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8348600">
                <a:off x="4796280" y="3607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5439600" y="2880360"/>
                <a:ext cx="889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3381120" y="34120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7467480" y="2286000"/>
            <a:ext cx="304920" cy="152280"/>
          </a:xfrm>
          <a:prstGeom prst="rect">
            <a:avLst/>
          </a:pr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467480" y="3200400"/>
            <a:ext cx="304920" cy="15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67480" y="5334120"/>
            <a:ext cx="30492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3DE-7AC9-4D0C-B206-A4499753AAD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ED2DFBF-89D3-4A76-9888-C0EE7DD2120F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44400" y="2894040"/>
            <a:ext cx="2242080" cy="2789280"/>
            <a:chOff x="644400" y="2894040"/>
            <a:chExt cx="2242080" cy="2789280"/>
          </a:xfrm>
        </p:grpSpPr>
        <p:sp>
          <p:nvSpPr>
            <p:cNvPr id="504" name=""/>
            <p:cNvSpPr/>
            <p:nvPr/>
          </p:nvSpPr>
          <p:spPr>
            <a:xfrm>
              <a:off x="925560" y="2894040"/>
              <a:ext cx="1905120" cy="2789280"/>
            </a:xfrm>
            <a:custGeom>
              <a:avLst/>
              <a:gdLst>
                <a:gd name="textAreaLeft" fmla="*/ 58320 w 1905120"/>
                <a:gd name="textAreaRight" fmla="*/ 1846800 w 1905120"/>
                <a:gd name="textAreaTop" fmla="*/ 58320 h 2789280"/>
                <a:gd name="textAreaBottom" fmla="*/ 2730960 h 2789280"/>
              </a:gdLst>
              <a:ahLst/>
              <a:rect l="textAreaLeft" t="textAreaTop" r="textAreaRight" b="textAreaBottom"/>
              <a:pathLst>
                <a:path w="21600" h="31623">
                  <a:moveTo>
                    <a:pt x="2268" y="0"/>
                  </a:moveTo>
                  <a:arcTo wR="2268" hR="2268" stAng="16200000" swAng="-5400000"/>
                  <a:lnTo>
                    <a:pt x="0" y="29355"/>
                  </a:lnTo>
                  <a:arcTo wR="2268" hR="2268" stAng="10800000" swAng="-5400000"/>
                  <a:lnTo>
                    <a:pt x="19332" y="31623"/>
                  </a:lnTo>
                  <a:arcTo wR="2268" hR="2268" stAng="5400000" swAng="-5400000"/>
                  <a:lnTo>
                    <a:pt x="21600" y="2268"/>
                  </a:lnTo>
                  <a:arcTo wR="2268" hR="2268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8200" y="2923920"/>
              <a:ext cx="19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Access Node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95400" y="38084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N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95400" y="4494240"/>
              <a:ext cx="492120" cy="53316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BB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0" y="403704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0" y="4798800"/>
              <a:ext cx="35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58800" y="3427200"/>
              <a:ext cx="631800" cy="1981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CC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7848720" y="5181480"/>
            <a:ext cx="914400" cy="865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262240" y="4114800"/>
            <a:ext cx="4921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A Md BT"/>
              </a:rPr>
              <a:t>LT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5638680"/>
            <a:ext cx="63360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1320" y="37609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53000" y="4343400"/>
            <a:ext cx="833400" cy="1523880"/>
          </a:xfrm>
          <a:prstGeom prst="line">
            <a:avLst/>
          </a:prstGeom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24200" y="4343400"/>
            <a:ext cx="18241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83160" y="4343400"/>
            <a:ext cx="750960" cy="1540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653000" y="2819160"/>
            <a:ext cx="1138320" cy="152388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97560" y="5867280"/>
            <a:ext cx="175716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10080" y="4078440"/>
            <a:ext cx="24120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720960" y="4078440"/>
            <a:ext cx="241560" cy="266400"/>
          </a:xfrm>
          <a:prstGeom prst="ellipse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0" y="4268880"/>
            <a:ext cx="152280" cy="15228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648320" y="3733560"/>
            <a:ext cx="1143000" cy="61092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5560" y="913320"/>
            <a:ext cx="786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2 + amendment : ONT management and control interfa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ication for ATM P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7162920" y="35067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2846520"/>
            <a:ext cx="1406520" cy="0"/>
          </a:xfrm>
          <a:prstGeom prst="line">
            <a:avLst/>
          </a:prstGeom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914400" cy="712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7162920" y="2592360"/>
            <a:ext cx="633240" cy="380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A Md BT"/>
              </a:rPr>
              <a:t>ONU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8120" y="2880360"/>
            <a:ext cx="2480400" cy="3207240"/>
            <a:chOff x="3048120" y="2880360"/>
            <a:chExt cx="2480400" cy="3207240"/>
          </a:xfrm>
        </p:grpSpPr>
        <p:grpSp>
          <p:nvGrpSpPr>
            <p:cNvPr id="531" name=""/>
            <p:cNvGrpSpPr/>
            <p:nvPr/>
          </p:nvGrpSpPr>
          <p:grpSpPr>
            <a:xfrm>
              <a:off x="3048120" y="3809880"/>
              <a:ext cx="1447560" cy="152640"/>
              <a:chOff x="3048120" y="3809880"/>
              <a:chExt cx="1447560" cy="152640"/>
            </a:xfrm>
          </p:grpSpPr>
          <p:sp>
            <p:nvSpPr>
              <p:cNvPr id="532" name=""/>
              <p:cNvSpPr/>
              <p:nvPr/>
            </p:nvSpPr>
            <p:spPr>
              <a:xfrm>
                <a:off x="39625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5760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48120" y="38098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52680" y="38098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38862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698360" y="4772880"/>
              <a:ext cx="745560" cy="1314720"/>
              <a:chOff x="4698360" y="4772880"/>
              <a:chExt cx="745560" cy="1314720"/>
            </a:xfrm>
          </p:grpSpPr>
          <p:sp>
            <p:nvSpPr>
              <p:cNvPr id="538" name=""/>
              <p:cNvSpPr/>
              <p:nvPr/>
            </p:nvSpPr>
            <p:spPr>
              <a:xfrm rot="3724200">
                <a:off x="5113080" y="56750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3724200">
                <a:off x="4969800" y="54054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3724200">
                <a:off x="4684680" y="486684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3724200">
                <a:off x="4827240" y="513612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72640" y="5952960"/>
                <a:ext cx="71280" cy="13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19880" y="2880360"/>
              <a:ext cx="908640" cy="1218240"/>
              <a:chOff x="4619880" y="2880360"/>
              <a:chExt cx="908640" cy="1218240"/>
            </a:xfrm>
          </p:grpSpPr>
          <p:sp>
            <p:nvSpPr>
              <p:cNvPr id="544" name=""/>
              <p:cNvSpPr/>
              <p:nvPr/>
            </p:nvSpPr>
            <p:spPr>
              <a:xfrm rot="18348600">
                <a:off x="5153400" y="311328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8348600">
                <a:off x="4974840" y="335988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8348600">
                <a:off x="4618440" y="38545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8348600">
                <a:off x="4796280" y="3607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439600" y="2880360"/>
                <a:ext cx="88920" cy="12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381120" y="34120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467480" y="2286000"/>
            <a:ext cx="304920" cy="152280"/>
          </a:xfrm>
          <a:prstGeom prst="rect">
            <a:avLst/>
          </a:prstGeom>
          <a:gradFill rotWithShape="0">
            <a:gsLst>
              <a:gs pos="0">
                <a:srgbClr val="597cd3"/>
              </a:gs>
              <a:gs pos="100000">
                <a:srgbClr val="1a2f6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3200400"/>
            <a:ext cx="304920" cy="15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67480" y="5334120"/>
            <a:ext cx="304920" cy="1522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6320" y="1827720"/>
            <a:ext cx="489276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Us managed by LT via OMCI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T Management and Control Interface)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971440" y="2971800"/>
            <a:ext cx="4038840" cy="2743200"/>
            <a:chOff x="2971440" y="2971800"/>
            <a:chExt cx="4038840" cy="2743200"/>
          </a:xfrm>
        </p:grpSpPr>
        <p:grpSp>
          <p:nvGrpSpPr>
            <p:cNvPr id="555" name=""/>
            <p:cNvGrpSpPr/>
            <p:nvPr/>
          </p:nvGrpSpPr>
          <p:grpSpPr>
            <a:xfrm>
              <a:off x="5714640" y="2971800"/>
              <a:ext cx="1295640" cy="152280"/>
              <a:chOff x="5714640" y="2971800"/>
              <a:chExt cx="1295640" cy="152280"/>
            </a:xfrm>
          </p:grpSpPr>
          <p:sp>
            <p:nvSpPr>
              <p:cNvPr id="556" name=""/>
              <p:cNvSpPr/>
              <p:nvPr/>
            </p:nvSpPr>
            <p:spPr>
              <a:xfrm>
                <a:off x="5943600" y="29718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05720" y="29718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714640" y="30481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714640" y="5562720"/>
              <a:ext cx="1295640" cy="152280"/>
              <a:chOff x="5714640" y="5562720"/>
              <a:chExt cx="1295640" cy="152280"/>
            </a:xfrm>
          </p:grpSpPr>
          <p:sp>
            <p:nvSpPr>
              <p:cNvPr id="560" name=""/>
              <p:cNvSpPr/>
              <p:nvPr/>
            </p:nvSpPr>
            <p:spPr>
              <a:xfrm>
                <a:off x="6705720" y="556272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714640" y="563868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714640" y="3886200"/>
              <a:ext cx="1295640" cy="152280"/>
              <a:chOff x="5714640" y="3886200"/>
              <a:chExt cx="1295640" cy="152280"/>
            </a:xfrm>
          </p:grpSpPr>
          <p:sp>
            <p:nvSpPr>
              <p:cNvPr id="563" name=""/>
              <p:cNvSpPr/>
              <p:nvPr/>
            </p:nvSpPr>
            <p:spPr>
              <a:xfrm flipH="1">
                <a:off x="5714640" y="396252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24480" y="3886200"/>
                <a:ext cx="30492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05720" y="3886200"/>
                <a:ext cx="304560" cy="15228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971440" y="4495680"/>
              <a:ext cx="1676880" cy="152640"/>
              <a:chOff x="2971440" y="4495680"/>
              <a:chExt cx="1676880" cy="152640"/>
            </a:xfrm>
          </p:grpSpPr>
          <p:sp>
            <p:nvSpPr>
              <p:cNvPr id="567" name=""/>
              <p:cNvSpPr/>
              <p:nvPr/>
            </p:nvSpPr>
            <p:spPr>
              <a:xfrm>
                <a:off x="3200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62520" y="4495680"/>
                <a:ext cx="304560" cy="152640"/>
              </a:xfrm>
              <a:prstGeom prst="rect">
                <a:avLst/>
              </a:prstGeom>
              <a:gradFill rotWithShape="0">
                <a:gsLst>
                  <a:gs pos="0">
                    <a:srgbClr val="597cd3"/>
                  </a:gs>
                  <a:gs pos="100000">
                    <a:srgbClr val="1a2f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8128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343400" y="4495680"/>
                <a:ext cx="304920" cy="1526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a5002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971440" y="457200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363840" y="47538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E7A-8523-4DB9-BDA4-0713015F511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C60FAC3-08DD-4B9E-81FD-4CF635805CF2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28800" y="147240"/>
            <a:ext cx="68580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commendation: G.983.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4120" y="913320"/>
            <a:ext cx="84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.983.3 : A broadband optical access system with increased service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bility by wavelength allocation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44400" y="2209680"/>
            <a:ext cx="8118720" cy="3760920"/>
            <a:chOff x="644400" y="2209680"/>
            <a:chExt cx="8118720" cy="3760920"/>
          </a:xfrm>
        </p:grpSpPr>
        <p:grpSp>
          <p:nvGrpSpPr>
            <p:cNvPr id="577" name=""/>
            <p:cNvGrpSpPr/>
            <p:nvPr/>
          </p:nvGrpSpPr>
          <p:grpSpPr>
            <a:xfrm>
              <a:off x="644400" y="2817720"/>
              <a:ext cx="2242080" cy="2789280"/>
              <a:chOff x="644400" y="2817720"/>
              <a:chExt cx="2242080" cy="2789280"/>
            </a:xfrm>
          </p:grpSpPr>
          <p:sp>
            <p:nvSpPr>
              <p:cNvPr id="578" name=""/>
              <p:cNvSpPr/>
              <p:nvPr/>
            </p:nvSpPr>
            <p:spPr>
              <a:xfrm>
                <a:off x="925560" y="2817720"/>
                <a:ext cx="1905120" cy="2789280"/>
              </a:xfrm>
              <a:custGeom>
                <a:avLst/>
                <a:gdLst>
                  <a:gd name="textAreaLeft" fmla="*/ 58320 w 1905120"/>
                  <a:gd name="textAreaRight" fmla="*/ 1846800 w 1905120"/>
                  <a:gd name="textAreaTop" fmla="*/ 58320 h 2789280"/>
                  <a:gd name="textAreaBottom" fmla="*/ 2730960 h 2789280"/>
                </a:gdLst>
                <a:ahLst/>
                <a:rect l="textAreaLeft" t="textAreaTop" r="textAreaRight" b="textAreaBottom"/>
                <a:pathLst>
                  <a:path w="21600" h="31623">
                    <a:moveTo>
                      <a:pt x="2268" y="0"/>
                    </a:moveTo>
                    <a:arcTo wR="2268" hR="2268" stAng="16200000" swAng="-5400000"/>
                    <a:lnTo>
                      <a:pt x="0" y="29355"/>
                    </a:lnTo>
                    <a:arcTo wR="2268" hR="2268" stAng="10800000" swAng="-5400000"/>
                    <a:lnTo>
                      <a:pt x="19332" y="31623"/>
                    </a:lnTo>
                    <a:arcTo wR="2268" hR="2268" stAng="5400000" swAng="-5400000"/>
                    <a:lnTo>
                      <a:pt x="21600" y="2268"/>
                    </a:lnTo>
                    <a:arcTo wR="2268" hR="2268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98200" y="284760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Access Node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95400" y="37321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N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995400" y="4417920"/>
                <a:ext cx="492120" cy="533160"/>
              </a:xfrm>
              <a:prstGeom prst="rect">
                <a:avLst/>
              </a:prstGeom>
              <a:noFill/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BB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4400" y="396072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4400" y="4722480"/>
                <a:ext cx="351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8800" y="3350880"/>
                <a:ext cx="631800" cy="1981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FuturaA Md BT"/>
                  </a:rPr>
                  <a:t>CC</a:t>
                </a:r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7848720" y="5105160"/>
              <a:ext cx="9144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262240" y="4038480"/>
              <a:ext cx="492120" cy="4572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FuturaA Md BT"/>
                </a:rPr>
                <a:t>LT</a:t>
              </a:r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38880" y="5562360"/>
              <a:ext cx="633600" cy="38124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91320" y="36846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3000" y="4267080"/>
              <a:ext cx="833400" cy="1523880"/>
            </a:xfrm>
            <a:prstGeom prst="line">
              <a:avLst/>
            </a:prstGeom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24200" y="4267080"/>
              <a:ext cx="18241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3160" y="4267080"/>
              <a:ext cx="750960" cy="1540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653000" y="2742840"/>
              <a:ext cx="1138320" cy="1523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97560" y="5790960"/>
              <a:ext cx="175716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10080" y="4002120"/>
              <a:ext cx="24120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720960" y="4002120"/>
              <a:ext cx="241560" cy="266400"/>
            </a:xfrm>
            <a:prstGeom prst="ellipse">
              <a:avLst/>
            </a:prstGeom>
            <a:noFill/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72000" y="4192560"/>
              <a:ext cx="152280" cy="152280"/>
            </a:xfrm>
            <a:prstGeom prst="ellipse">
              <a:avLst/>
            </a:prstGeom>
            <a:solidFill>
              <a:srgbClr val="ff9933"/>
            </a:solidFill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648320" y="3657240"/>
              <a:ext cx="1143000" cy="61092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7772400" y="31240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7162920" y="34304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91320" y="2770200"/>
              <a:ext cx="14065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3"/>
            <a:stretch/>
          </p:blipFill>
          <p:spPr>
            <a:xfrm>
              <a:off x="7772400" y="2209680"/>
              <a:ext cx="914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7162920" y="2516040"/>
              <a:ext cx="63324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A Md BT"/>
                </a:rPr>
                <a:t>ON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25720" y="1751760"/>
            <a:ext cx="4130280" cy="3812040"/>
            <a:chOff x="225720" y="1751760"/>
            <a:chExt cx="4130280" cy="3812040"/>
          </a:xfrm>
        </p:grpSpPr>
        <p:sp>
          <p:nvSpPr>
            <p:cNvPr id="606" name=""/>
            <p:cNvSpPr/>
            <p:nvPr/>
          </p:nvSpPr>
          <p:spPr>
            <a:xfrm>
              <a:off x="762120" y="327672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2120" y="502920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76520" y="1751760"/>
              <a:ext cx="10861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.983.1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5720" y="26661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5720" y="44028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9480" y="32756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94400" y="50122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95280" y="2514600"/>
              <a:ext cx="2286000" cy="730080"/>
            </a:xfrm>
            <a:prstGeom prst="rect">
              <a:avLst/>
            </a:prstGeom>
            <a:gradFill rotWithShape="0">
              <a:gsLst>
                <a:gs pos="0">
                  <a:srgbClr val="597cd3"/>
                </a:gs>
                <a:gs pos="100000">
                  <a:srgbClr val="1a2f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95280" y="4267080"/>
              <a:ext cx="2286000" cy="7304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a500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27720" y="335196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2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37760" y="338220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91440" y="5134680"/>
              <a:ext cx="74772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01120" y="5164920"/>
              <a:ext cx="74772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5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120" y="1751760"/>
            <a:ext cx="4130280" cy="4116600"/>
            <a:chOff x="4650120" y="1751760"/>
            <a:chExt cx="4130280" cy="4116600"/>
          </a:xfrm>
        </p:grpSpPr>
        <p:sp>
          <p:nvSpPr>
            <p:cNvPr id="620" name=""/>
            <p:cNvSpPr/>
            <p:nvPr/>
          </p:nvSpPr>
          <p:spPr>
            <a:xfrm>
              <a:off x="6172200" y="1751760"/>
              <a:ext cx="10861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.983.3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86520" y="2895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86520" y="54100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50120" y="22849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U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50120" y="47836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S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83880" y="281844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18800" y="52711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19680" y="2133720"/>
              <a:ext cx="2286000" cy="730080"/>
            </a:xfrm>
            <a:prstGeom prst="rect">
              <a:avLst/>
            </a:prstGeom>
            <a:gradFill rotWithShape="0">
              <a:gsLst>
                <a:gs pos="0">
                  <a:srgbClr val="597cd3"/>
                </a:gs>
                <a:gs pos="100000">
                  <a:srgbClr val="1a2f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968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a500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2120" y="289476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2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2160" y="2925000"/>
              <a:ext cx="7477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04800" y="5469480"/>
              <a:ext cx="1400040" cy="3988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80-150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86520" y="411480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83880" y="403776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19680" y="3352680"/>
              <a:ext cx="2286000" cy="7304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uture Use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52120" y="4113720"/>
              <a:ext cx="74772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38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62160" y="4143960"/>
              <a:ext cx="74772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460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672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800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B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01120" y="4648320"/>
              <a:ext cx="604800" cy="7300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FU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552360" y="5469480"/>
              <a:ext cx="1400040" cy="398880"/>
            </a:xfrm>
            <a:prstGeom prst="rect">
              <a:avLst/>
            </a:prstGeom>
            <a:solidFill>
              <a:srgbClr val="ff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1539-1565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78760" y="5469480"/>
              <a:ext cx="336240" cy="3988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76200" y="5469480"/>
            <a:ext cx="6419880" cy="1084680"/>
            <a:chOff x="376200" y="5469480"/>
            <a:chExt cx="6419880" cy="1084680"/>
          </a:xfrm>
        </p:grpSpPr>
        <p:sp>
          <p:nvSpPr>
            <p:cNvPr id="642" name=""/>
            <p:cNvSpPr/>
            <p:nvPr/>
          </p:nvSpPr>
          <p:spPr>
            <a:xfrm>
              <a:off x="376200" y="5850360"/>
              <a:ext cx="6419880" cy="70380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cc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tributive video (analogue and/or digital)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dicated wavelength connections (US and/or DS)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0520" y="5469480"/>
              <a:ext cx="2712240" cy="39888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cc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nhancement Band :</a:t>
              </a:r>
              <a:endParaRPr b="0" lang="en-US" sz="20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7CE-6875-4196-8F2B-3CA83A8CF6A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30D180E-640C-4B90-8657-617FFB92E58C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9:59:26Z</dcterms:created>
  <dc:creator>bell alcatel</dc:creator>
  <dc:description/>
  <dc:language>en-US</dc:language>
  <cp:lastModifiedBy>delegateitu</cp:lastModifiedBy>
  <cp:lastPrinted>2001-04-24T15:23:59Z</cp:lastPrinted>
  <dcterms:modified xsi:type="dcterms:W3CDTF">2002-03-14T07:44:20Z</dcterms:modified>
  <cp:revision>184</cp:revision>
  <dc:subject/>
  <dc:title>No Slide Title</dc:title>
</cp:coreProperties>
</file>