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348AF-8657-420E-9380-CAAC84F881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0920" y="6854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0920" y="3153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0A1E6-8923-46D0-85D1-CF9759B9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0920" y="6854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6854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920" y="3153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720" y="3153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F18B8-9D81-44BE-877D-DC9692F7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0920" y="6854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400" y="6854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0240" y="6854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0920" y="3153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400" y="3153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0240" y="3153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F401-AED7-495A-B24D-15E29E9285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0920" y="6854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2EEB2-3E47-46E4-9870-C274EBE0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0920" y="6854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7751F-2875-4812-940B-74EE805B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0920" y="6854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720" y="6854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B36B1-0069-45C6-B4AF-02756018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CBC90-9AAF-4442-8459-67B5CCDF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1D279-8884-4FBB-856B-368B1C02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6854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6854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0920" y="3153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2D12-02B2-4A59-988C-4F438B6D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6854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6854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720" y="3153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F42F1-1317-4560-A788-1F67CDC6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6854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6854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0920" y="3153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B3D8-D3F9-440D-982F-8B836B89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10920" y="685440"/>
            <a:ext cx="7924680" cy="472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94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4 March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09D6-6D6F-4568-A4EB-B6F45B9F3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5578560"/>
            <a:ext cx="6951960" cy="839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83480" y="555768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 txBox="1"/>
          <p:nvPr/>
        </p:nvSpPr>
        <p:spPr>
          <a:xfrm>
            <a:off x="1905120" y="5715000"/>
            <a:ext cx="457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U-T Study Group 1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685800"/>
            <a:ext cx="7925040" cy="472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SG 15 activity on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Broadband Delivery and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In-Home Networking</a:t>
            </a:r>
            <a:br>
              <a:rPr sz="3600"/>
            </a:b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Andrew Nunn (BT, UK)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hairman</a:t>
            </a: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 ITU-T WP1/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G.983.3 -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A broadband optical access system with increased service capability by wavelength allocation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ＭＳ 明朝"/>
              </a:rPr>
              <a:t>Defines new wavelength allocations to distribute ATM-PON signals and additional service signals simultaneously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ＭＳ 明朝"/>
              </a:rPr>
              <a:t>Allows distribution of video broadcast services or data services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without disturbing basic ATM-PON system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Q.4/15 - Transceivers for customer access and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in-premises phone line networking systems on metallic pairs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Recommendation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.991.1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High bit-rate Digital Subscriber Line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4" marL="17359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(HDSL) </a:t>
            </a:r>
            <a:endParaRPr b="0" lang="en-US" sz="2800" spc="-1" strike="noStrike">
              <a:solidFill>
                <a:srgbClr val="cc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.991.2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Single-pair High-speed DSL (SHDSL)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.992.1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Asymmetrical DSL (ADSL)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.992.2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‘Splitterless’ or ‘lite’ ADSL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1" marL="7279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Q.4/15 - Transceivers for customer access and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in-premises phone line networking systems on metallic pairs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Recommendations (continued)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.993.1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ery high bit rate DSL (VDSL) –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oundation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.994.1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SL Handshaking procedure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.995.1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verview of DSL Recommendation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Q.4/15 - Transceivers for customer access and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in-premises phone line networking systems on metallic pair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Recommendations (continued)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.996.1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SL Testing procedure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.997.1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SL Physical Layer management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.989.1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hone-line Networking - Foundation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.989.2 -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hone-line Networking - Payload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ormat and Link Layer requirement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xDSL Deployment 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84360" y="1487520"/>
          <a:ext cx="165240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7520"/>
                    <a:ext cx="165240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2272680" y="2155680"/>
            <a:ext cx="102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Local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705720" y="2209680"/>
          <a:ext cx="88740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2209680"/>
                    <a:ext cx="887400" cy="14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3584160" y="2438280"/>
            <a:ext cx="1435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Street Cabi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967200" y="2828880"/>
            <a:ext cx="471600" cy="596880"/>
            <a:chOff x="3967200" y="2828880"/>
            <a:chExt cx="471600" cy="596880"/>
          </a:xfrm>
        </p:grpSpPr>
        <p:sp>
          <p:nvSpPr>
            <p:cNvPr id="350" name=""/>
            <p:cNvSpPr/>
            <p:nvPr/>
          </p:nvSpPr>
          <p:spPr>
            <a:xfrm>
              <a:off x="3967200" y="2828880"/>
              <a:ext cx="471600" cy="596880"/>
            </a:xfrm>
            <a:prstGeom prst="cube">
              <a:avLst>
                <a:gd name="adj" fmla="val 13333"/>
              </a:avLst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95640" y="2927520"/>
              <a:ext cx="154080" cy="473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86080" y="2927520"/>
              <a:ext cx="154080" cy="473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24160" y="313380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05160" y="313704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538960" y="2432160"/>
            <a:ext cx="490320" cy="1098360"/>
            <a:chOff x="5538960" y="2432160"/>
            <a:chExt cx="490320" cy="1098360"/>
          </a:xfrm>
        </p:grpSpPr>
        <p:sp>
          <p:nvSpPr>
            <p:cNvPr id="356" name=""/>
            <p:cNvSpPr/>
            <p:nvPr/>
          </p:nvSpPr>
          <p:spPr>
            <a:xfrm>
              <a:off x="5757840" y="2432160"/>
              <a:ext cx="49320" cy="1098360"/>
            </a:xfrm>
            <a:prstGeom prst="rect">
              <a:avLst/>
            </a:prstGeom>
            <a:solidFill>
              <a:srgbClr val="ad6900"/>
            </a:solidFill>
            <a:ln w="12600">
              <a:solidFill>
                <a:srgbClr val="714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24640" y="2517840"/>
              <a:ext cx="150840" cy="96840"/>
            </a:xfrm>
            <a:prstGeom prst="line">
              <a:avLst/>
            </a:prstGeom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5802120" y="2517840"/>
              <a:ext cx="145800" cy="92160"/>
            </a:xfrm>
            <a:prstGeom prst="line">
              <a:avLst/>
            </a:prstGeom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5959440" y="2460600"/>
              <a:ext cx="42840" cy="33480"/>
              <a:chOff x="5959440" y="2460600"/>
              <a:chExt cx="42840" cy="33480"/>
            </a:xfrm>
          </p:grpSpPr>
          <p:sp>
            <p:nvSpPr>
              <p:cNvPr id="360" name=""/>
              <p:cNvSpPr/>
              <p:nvPr/>
            </p:nvSpPr>
            <p:spPr>
              <a:xfrm>
                <a:off x="5967360" y="2465280"/>
                <a:ext cx="34920" cy="288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5" y="0"/>
                    </a:moveTo>
                    <a:lnTo>
                      <a:pt x="0" y="17"/>
                    </a:lnTo>
                    <a:lnTo>
                      <a:pt x="21" y="17"/>
                    </a:lnTo>
                    <a:lnTo>
                      <a:pt x="14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59440" y="24606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5" y="0"/>
                    </a:moveTo>
                    <a:lnTo>
                      <a:pt x="0" y="12"/>
                    </a:lnTo>
                    <a:lnTo>
                      <a:pt x="17" y="12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8"/>
                    </a:lnTo>
                    <a:lnTo>
                      <a:pt x="6" y="8"/>
                    </a:lnTo>
                    <a:lnTo>
                      <a:pt x="8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878440" y="2460600"/>
              <a:ext cx="41400" cy="33480"/>
              <a:chOff x="5878440" y="2460600"/>
              <a:chExt cx="41400" cy="33480"/>
            </a:xfrm>
          </p:grpSpPr>
          <p:sp>
            <p:nvSpPr>
              <p:cNvPr id="363" name=""/>
              <p:cNvSpPr/>
              <p:nvPr/>
            </p:nvSpPr>
            <p:spPr>
              <a:xfrm>
                <a:off x="5886360" y="246528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5" y="0"/>
                    </a:moveTo>
                    <a:lnTo>
                      <a:pt x="0" y="17"/>
                    </a:lnTo>
                    <a:lnTo>
                      <a:pt x="20" y="17"/>
                    </a:lnTo>
                    <a:lnTo>
                      <a:pt x="1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78440" y="246060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5" y="0"/>
                    </a:moveTo>
                    <a:lnTo>
                      <a:pt x="0" y="12"/>
                    </a:lnTo>
                    <a:lnTo>
                      <a:pt x="17" y="12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8"/>
                    </a:lnTo>
                    <a:lnTo>
                      <a:pt x="6" y="8"/>
                    </a:lnTo>
                    <a:lnTo>
                      <a:pt x="8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5640480" y="2462040"/>
              <a:ext cx="41040" cy="34920"/>
              <a:chOff x="5640480" y="2462040"/>
              <a:chExt cx="41040" cy="34920"/>
            </a:xfrm>
          </p:grpSpPr>
          <p:sp>
            <p:nvSpPr>
              <p:cNvPr id="366" name=""/>
              <p:cNvSpPr/>
              <p:nvPr/>
            </p:nvSpPr>
            <p:spPr>
              <a:xfrm>
                <a:off x="5648400" y="246852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5" y="0"/>
                    </a:moveTo>
                    <a:lnTo>
                      <a:pt x="0" y="17"/>
                    </a:lnTo>
                    <a:lnTo>
                      <a:pt x="20" y="17"/>
                    </a:lnTo>
                    <a:lnTo>
                      <a:pt x="1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640480" y="246204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5" y="0"/>
                    </a:moveTo>
                    <a:lnTo>
                      <a:pt x="0" y="13"/>
                    </a:lnTo>
                    <a:lnTo>
                      <a:pt x="17" y="13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9"/>
                    </a:lnTo>
                    <a:lnTo>
                      <a:pt x="6" y="9"/>
                    </a:lnTo>
                    <a:lnTo>
                      <a:pt x="8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565600" y="2462040"/>
              <a:ext cx="41400" cy="34920"/>
              <a:chOff x="5565600" y="2462040"/>
              <a:chExt cx="41400" cy="34920"/>
            </a:xfrm>
          </p:grpSpPr>
          <p:sp>
            <p:nvSpPr>
              <p:cNvPr id="369" name=""/>
              <p:cNvSpPr/>
              <p:nvPr/>
            </p:nvSpPr>
            <p:spPr>
              <a:xfrm>
                <a:off x="5575320" y="24685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5" y="0"/>
                    </a:moveTo>
                    <a:lnTo>
                      <a:pt x="0" y="17"/>
                    </a:lnTo>
                    <a:lnTo>
                      <a:pt x="19" y="17"/>
                    </a:lnTo>
                    <a:lnTo>
                      <a:pt x="16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565600" y="246204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5" y="0"/>
                    </a:moveTo>
                    <a:lnTo>
                      <a:pt x="0" y="13"/>
                    </a:lnTo>
                    <a:lnTo>
                      <a:pt x="18" y="13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2" y="9"/>
                    </a:lnTo>
                    <a:lnTo>
                      <a:pt x="6" y="9"/>
                    </a:lnTo>
                    <a:lnTo>
                      <a:pt x="8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5538960" y="2498760"/>
              <a:ext cx="490320" cy="15840"/>
            </a:xfrm>
            <a:prstGeom prst="rect">
              <a:avLst/>
            </a:prstGeom>
            <a:solidFill>
              <a:srgbClr val="ad6900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5754600" y="2535120"/>
              <a:ext cx="55800" cy="5040"/>
            </a:xfrm>
            <a:prstGeom prst="rect">
              <a:avLst/>
            </a:prstGeom>
            <a:solidFill>
              <a:srgbClr val="71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54600" y="2492280"/>
              <a:ext cx="79560" cy="0"/>
            </a:xfrm>
            <a:prstGeom prst="line">
              <a:avLst/>
            </a:prstGeom>
            <a:ln w="12600">
              <a:solidFill>
                <a:srgbClr val="714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29480" y="2583000"/>
              <a:ext cx="0" cy="46080"/>
            </a:xfrm>
            <a:prstGeom prst="line">
              <a:avLst/>
            </a:prstGeom>
            <a:ln w="12600">
              <a:solidFill>
                <a:srgbClr val="714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282760" y="3556080"/>
            <a:ext cx="17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257720" y="34290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57720" y="35434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8100000">
            <a:off x="5769360" y="1523880"/>
            <a:ext cx="1082160" cy="119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8" y="0"/>
                </a:moveTo>
                <a:arcTo wR="10800" hR="10800" stAng="-5410066" swAng="5410066"/>
                <a:lnTo>
                  <a:pt x="10800" y="10800"/>
                </a:lnTo>
                <a:close/>
              </a:path>
              <a:path fill="none" w="21600" h="21600">
                <a:moveTo>
                  <a:pt x="10768" y="0"/>
                </a:moveTo>
                <a:arcTo wR="10800" hR="10800" stAng="-5410066" swAng="541006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4160" y="2019240"/>
            <a:ext cx="45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630120" y="1752480"/>
            <a:ext cx="1037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04800" y="4033800"/>
            <a:ext cx="1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960560" y="4006800"/>
            <a:ext cx="316080" cy="55440"/>
            <a:chOff x="1960560" y="4006800"/>
            <a:chExt cx="316080" cy="55440"/>
          </a:xfrm>
        </p:grpSpPr>
        <p:sp>
          <p:nvSpPr>
            <p:cNvPr id="383" name=""/>
            <p:cNvSpPr/>
            <p:nvPr/>
          </p:nvSpPr>
          <p:spPr>
            <a:xfrm>
              <a:off x="1960560" y="4006800"/>
              <a:ext cx="525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019240" y="403380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282760" y="4006800"/>
            <a:ext cx="314280" cy="55440"/>
            <a:chOff x="2282760" y="4006800"/>
            <a:chExt cx="314280" cy="55440"/>
          </a:xfrm>
        </p:grpSpPr>
        <p:sp>
          <p:nvSpPr>
            <p:cNvPr id="386" name=""/>
            <p:cNvSpPr/>
            <p:nvPr/>
          </p:nvSpPr>
          <p:spPr>
            <a:xfrm>
              <a:off x="2282760" y="4006800"/>
              <a:ext cx="507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0000" y="403380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603520" y="4006800"/>
            <a:ext cx="314280" cy="55440"/>
            <a:chOff x="2603520" y="4006800"/>
            <a:chExt cx="314280" cy="55440"/>
          </a:xfrm>
        </p:grpSpPr>
        <p:sp>
          <p:nvSpPr>
            <p:cNvPr id="389" name=""/>
            <p:cNvSpPr/>
            <p:nvPr/>
          </p:nvSpPr>
          <p:spPr>
            <a:xfrm>
              <a:off x="2603520" y="4006800"/>
              <a:ext cx="507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60760" y="403380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639800" y="4006800"/>
            <a:ext cx="314280" cy="55440"/>
            <a:chOff x="1639800" y="4006800"/>
            <a:chExt cx="314280" cy="55440"/>
          </a:xfrm>
        </p:grpSpPr>
        <p:sp>
          <p:nvSpPr>
            <p:cNvPr id="392" name=""/>
            <p:cNvSpPr/>
            <p:nvPr/>
          </p:nvSpPr>
          <p:spPr>
            <a:xfrm>
              <a:off x="1639800" y="4006800"/>
              <a:ext cx="507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97040" y="403380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924280" y="4006800"/>
            <a:ext cx="314280" cy="55440"/>
            <a:chOff x="2924280" y="4006800"/>
            <a:chExt cx="314280" cy="55440"/>
          </a:xfrm>
        </p:grpSpPr>
        <p:sp>
          <p:nvSpPr>
            <p:cNvPr id="395" name=""/>
            <p:cNvSpPr/>
            <p:nvPr/>
          </p:nvSpPr>
          <p:spPr>
            <a:xfrm>
              <a:off x="2924280" y="4006800"/>
              <a:ext cx="507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81160" y="403380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244680" y="4006800"/>
            <a:ext cx="316080" cy="55440"/>
            <a:chOff x="3244680" y="4006800"/>
            <a:chExt cx="316080" cy="55440"/>
          </a:xfrm>
        </p:grpSpPr>
        <p:sp>
          <p:nvSpPr>
            <p:cNvPr id="398" name=""/>
            <p:cNvSpPr/>
            <p:nvPr/>
          </p:nvSpPr>
          <p:spPr>
            <a:xfrm>
              <a:off x="3244680" y="4006800"/>
              <a:ext cx="525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03720" y="403380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567240" y="4006800"/>
            <a:ext cx="50760" cy="55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624120" y="4033800"/>
            <a:ext cx="1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57680" y="4033800"/>
            <a:ext cx="12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892680" y="4006800"/>
            <a:ext cx="636480" cy="55440"/>
            <a:chOff x="3892680" y="4006800"/>
            <a:chExt cx="636480" cy="55440"/>
          </a:xfrm>
        </p:grpSpPr>
        <p:grpSp>
          <p:nvGrpSpPr>
            <p:cNvPr id="404" name=""/>
            <p:cNvGrpSpPr/>
            <p:nvPr/>
          </p:nvGrpSpPr>
          <p:grpSpPr>
            <a:xfrm>
              <a:off x="3892680" y="4006800"/>
              <a:ext cx="314280" cy="55440"/>
              <a:chOff x="3892680" y="4006800"/>
              <a:chExt cx="314280" cy="55440"/>
            </a:xfrm>
          </p:grpSpPr>
          <p:sp>
            <p:nvSpPr>
              <p:cNvPr id="405" name=""/>
              <p:cNvSpPr/>
              <p:nvPr/>
            </p:nvSpPr>
            <p:spPr>
              <a:xfrm>
                <a:off x="3892680" y="4006800"/>
                <a:ext cx="507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949560" y="4033800"/>
                <a:ext cx="25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4213080" y="4006800"/>
              <a:ext cx="316080" cy="55440"/>
              <a:chOff x="4213080" y="4006800"/>
              <a:chExt cx="316080" cy="55440"/>
            </a:xfrm>
          </p:grpSpPr>
          <p:sp>
            <p:nvSpPr>
              <p:cNvPr id="408" name=""/>
              <p:cNvSpPr/>
              <p:nvPr/>
            </p:nvSpPr>
            <p:spPr>
              <a:xfrm>
                <a:off x="4213080" y="4006800"/>
                <a:ext cx="525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72120" y="4033800"/>
                <a:ext cx="25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535640" y="4006800"/>
            <a:ext cx="634680" cy="55440"/>
            <a:chOff x="4535640" y="4006800"/>
            <a:chExt cx="634680" cy="55440"/>
          </a:xfrm>
        </p:grpSpPr>
        <p:grpSp>
          <p:nvGrpSpPr>
            <p:cNvPr id="411" name=""/>
            <p:cNvGrpSpPr/>
            <p:nvPr/>
          </p:nvGrpSpPr>
          <p:grpSpPr>
            <a:xfrm>
              <a:off x="4535640" y="4006800"/>
              <a:ext cx="314280" cy="55440"/>
              <a:chOff x="4535640" y="4006800"/>
              <a:chExt cx="314280" cy="55440"/>
            </a:xfrm>
          </p:grpSpPr>
          <p:sp>
            <p:nvSpPr>
              <p:cNvPr id="412" name=""/>
              <p:cNvSpPr/>
              <p:nvPr/>
            </p:nvSpPr>
            <p:spPr>
              <a:xfrm>
                <a:off x="4535640" y="4006800"/>
                <a:ext cx="507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592520" y="4033800"/>
                <a:ext cx="25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856040" y="4006800"/>
              <a:ext cx="314280" cy="55440"/>
              <a:chOff x="4856040" y="4006800"/>
              <a:chExt cx="314280" cy="55440"/>
            </a:xfrm>
          </p:grpSpPr>
          <p:sp>
            <p:nvSpPr>
              <p:cNvPr id="415" name=""/>
              <p:cNvSpPr/>
              <p:nvPr/>
            </p:nvSpPr>
            <p:spPr>
              <a:xfrm>
                <a:off x="4856040" y="4006800"/>
                <a:ext cx="525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915080" y="4033800"/>
                <a:ext cx="25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5176800" y="4006800"/>
            <a:ext cx="636480" cy="55440"/>
            <a:chOff x="5176800" y="4006800"/>
            <a:chExt cx="636480" cy="55440"/>
          </a:xfrm>
        </p:grpSpPr>
        <p:grpSp>
          <p:nvGrpSpPr>
            <p:cNvPr id="418" name=""/>
            <p:cNvGrpSpPr/>
            <p:nvPr/>
          </p:nvGrpSpPr>
          <p:grpSpPr>
            <a:xfrm>
              <a:off x="5176800" y="4006800"/>
              <a:ext cx="314280" cy="55440"/>
              <a:chOff x="5176800" y="4006800"/>
              <a:chExt cx="314280" cy="55440"/>
            </a:xfrm>
          </p:grpSpPr>
          <p:sp>
            <p:nvSpPr>
              <p:cNvPr id="419" name=""/>
              <p:cNvSpPr/>
              <p:nvPr/>
            </p:nvSpPr>
            <p:spPr>
              <a:xfrm>
                <a:off x="5176800" y="4006800"/>
                <a:ext cx="507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234040" y="4033800"/>
                <a:ext cx="25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5497560" y="4006800"/>
              <a:ext cx="315720" cy="55440"/>
              <a:chOff x="5497560" y="4006800"/>
              <a:chExt cx="315720" cy="55440"/>
            </a:xfrm>
          </p:grpSpPr>
          <p:sp>
            <p:nvSpPr>
              <p:cNvPr id="422" name=""/>
              <p:cNvSpPr/>
              <p:nvPr/>
            </p:nvSpPr>
            <p:spPr>
              <a:xfrm>
                <a:off x="5497560" y="4006800"/>
                <a:ext cx="5220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556240" y="4033800"/>
                <a:ext cx="25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5819760" y="4006800"/>
            <a:ext cx="635040" cy="55440"/>
            <a:chOff x="5819760" y="4006800"/>
            <a:chExt cx="635040" cy="55440"/>
          </a:xfrm>
        </p:grpSpPr>
        <p:grpSp>
          <p:nvGrpSpPr>
            <p:cNvPr id="425" name=""/>
            <p:cNvGrpSpPr/>
            <p:nvPr/>
          </p:nvGrpSpPr>
          <p:grpSpPr>
            <a:xfrm>
              <a:off x="5819760" y="4006800"/>
              <a:ext cx="314280" cy="55440"/>
              <a:chOff x="5819760" y="4006800"/>
              <a:chExt cx="314280" cy="55440"/>
            </a:xfrm>
          </p:grpSpPr>
          <p:sp>
            <p:nvSpPr>
              <p:cNvPr id="426" name=""/>
              <p:cNvSpPr/>
              <p:nvPr/>
            </p:nvSpPr>
            <p:spPr>
              <a:xfrm>
                <a:off x="5819760" y="4006800"/>
                <a:ext cx="507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77000" y="4033800"/>
                <a:ext cx="25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6140520" y="4006800"/>
              <a:ext cx="314280" cy="55440"/>
              <a:chOff x="6140520" y="4006800"/>
              <a:chExt cx="314280" cy="55440"/>
            </a:xfrm>
          </p:grpSpPr>
          <p:sp>
            <p:nvSpPr>
              <p:cNvPr id="429" name=""/>
              <p:cNvSpPr/>
              <p:nvPr/>
            </p:nvSpPr>
            <p:spPr>
              <a:xfrm>
                <a:off x="6140520" y="4006800"/>
                <a:ext cx="5220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199200" y="4033800"/>
                <a:ext cx="255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1" name=""/>
          <p:cNvSpPr/>
          <p:nvPr/>
        </p:nvSpPr>
        <p:spPr>
          <a:xfrm>
            <a:off x="6461280" y="4006800"/>
            <a:ext cx="50760" cy="55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3480" y="387360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89240" y="3956040"/>
            <a:ext cx="160200" cy="165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6480" y="464832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V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38480" y="4753080"/>
            <a:ext cx="160560" cy="1648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203720" y="4800600"/>
            <a:ext cx="314280" cy="55440"/>
            <a:chOff x="4203720" y="4800600"/>
            <a:chExt cx="314280" cy="55440"/>
          </a:xfrm>
        </p:grpSpPr>
        <p:sp>
          <p:nvSpPr>
            <p:cNvPr id="437" name=""/>
            <p:cNvSpPr/>
            <p:nvPr/>
          </p:nvSpPr>
          <p:spPr>
            <a:xfrm>
              <a:off x="4203720" y="4800600"/>
              <a:ext cx="507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60960" y="482760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495680" y="4800600"/>
            <a:ext cx="315720" cy="55440"/>
            <a:chOff x="4495680" y="4800600"/>
            <a:chExt cx="315720" cy="55440"/>
          </a:xfrm>
        </p:grpSpPr>
        <p:sp>
          <p:nvSpPr>
            <p:cNvPr id="440" name=""/>
            <p:cNvSpPr/>
            <p:nvPr/>
          </p:nvSpPr>
          <p:spPr>
            <a:xfrm>
              <a:off x="4495680" y="4800600"/>
              <a:ext cx="5220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54360" y="482760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4800600" y="4800600"/>
            <a:ext cx="314280" cy="55440"/>
            <a:chOff x="4800600" y="4800600"/>
            <a:chExt cx="314280" cy="55440"/>
          </a:xfrm>
        </p:grpSpPr>
        <p:sp>
          <p:nvSpPr>
            <p:cNvPr id="443" name=""/>
            <p:cNvSpPr/>
            <p:nvPr/>
          </p:nvSpPr>
          <p:spPr>
            <a:xfrm>
              <a:off x="4800600" y="4800600"/>
              <a:ext cx="507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57840" y="482760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105520" y="4800600"/>
            <a:ext cx="315720" cy="55440"/>
            <a:chOff x="5105520" y="4800600"/>
            <a:chExt cx="315720" cy="55440"/>
          </a:xfrm>
        </p:grpSpPr>
        <p:sp>
          <p:nvSpPr>
            <p:cNvPr id="446" name=""/>
            <p:cNvSpPr/>
            <p:nvPr/>
          </p:nvSpPr>
          <p:spPr>
            <a:xfrm>
              <a:off x="5105520" y="4800600"/>
              <a:ext cx="5220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64200" y="482760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410080" y="4800600"/>
            <a:ext cx="312840" cy="55440"/>
            <a:chOff x="5410080" y="4800600"/>
            <a:chExt cx="312840" cy="55440"/>
          </a:xfrm>
        </p:grpSpPr>
        <p:sp>
          <p:nvSpPr>
            <p:cNvPr id="449" name=""/>
            <p:cNvSpPr/>
            <p:nvPr/>
          </p:nvSpPr>
          <p:spPr>
            <a:xfrm>
              <a:off x="5410080" y="4800600"/>
              <a:ext cx="507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67320" y="48276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715000" y="4800600"/>
            <a:ext cx="50760" cy="55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528960" y="4003560"/>
            <a:ext cx="635400" cy="55800"/>
            <a:chOff x="6528960" y="4003560"/>
            <a:chExt cx="635400" cy="55800"/>
          </a:xfrm>
        </p:grpSpPr>
        <p:grpSp>
          <p:nvGrpSpPr>
            <p:cNvPr id="453" name=""/>
            <p:cNvGrpSpPr/>
            <p:nvPr/>
          </p:nvGrpSpPr>
          <p:grpSpPr>
            <a:xfrm>
              <a:off x="6850080" y="4003560"/>
              <a:ext cx="314280" cy="55800"/>
              <a:chOff x="6850080" y="4003560"/>
              <a:chExt cx="314280" cy="55800"/>
            </a:xfrm>
          </p:grpSpPr>
          <p:sp>
            <p:nvSpPr>
              <p:cNvPr id="454" name=""/>
              <p:cNvSpPr/>
              <p:nvPr/>
            </p:nvSpPr>
            <p:spPr>
              <a:xfrm>
                <a:off x="7113600" y="4003560"/>
                <a:ext cx="50760" cy="55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6850080" y="4032360"/>
                <a:ext cx="25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6528960" y="4003560"/>
              <a:ext cx="314640" cy="55800"/>
              <a:chOff x="6528960" y="4003560"/>
              <a:chExt cx="314640" cy="55800"/>
            </a:xfrm>
          </p:grpSpPr>
          <p:sp>
            <p:nvSpPr>
              <p:cNvPr id="457" name=""/>
              <p:cNvSpPr/>
              <p:nvPr/>
            </p:nvSpPr>
            <p:spPr>
              <a:xfrm>
                <a:off x="6792840" y="4003560"/>
                <a:ext cx="50760" cy="55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6528960" y="4032360"/>
                <a:ext cx="25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9" name=""/>
          <p:cNvSpPr/>
          <p:nvPr/>
        </p:nvSpPr>
        <p:spPr>
          <a:xfrm>
            <a:off x="2286720" y="4495680"/>
            <a:ext cx="653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Fi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257800" y="4495680"/>
            <a:ext cx="835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o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1371600" y="4826160"/>
            <a:ext cx="2674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33920" y="36576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o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757480" y="4800600"/>
            <a:ext cx="635400" cy="55440"/>
            <a:chOff x="5757480" y="4800600"/>
            <a:chExt cx="635400" cy="55440"/>
          </a:xfrm>
        </p:grpSpPr>
        <p:grpSp>
          <p:nvGrpSpPr>
            <p:cNvPr id="464" name=""/>
            <p:cNvGrpSpPr/>
            <p:nvPr/>
          </p:nvGrpSpPr>
          <p:grpSpPr>
            <a:xfrm>
              <a:off x="6078600" y="4800600"/>
              <a:ext cx="314280" cy="55440"/>
              <a:chOff x="6078600" y="4800600"/>
              <a:chExt cx="314280" cy="55440"/>
            </a:xfrm>
          </p:grpSpPr>
          <p:sp>
            <p:nvSpPr>
              <p:cNvPr id="465" name=""/>
              <p:cNvSpPr/>
              <p:nvPr/>
            </p:nvSpPr>
            <p:spPr>
              <a:xfrm>
                <a:off x="6342120" y="4800600"/>
                <a:ext cx="507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6078600" y="4829040"/>
                <a:ext cx="25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757480" y="4800600"/>
              <a:ext cx="314640" cy="55440"/>
              <a:chOff x="5757480" y="4800600"/>
              <a:chExt cx="314640" cy="55440"/>
            </a:xfrm>
          </p:grpSpPr>
          <p:sp>
            <p:nvSpPr>
              <p:cNvPr id="468" name=""/>
              <p:cNvSpPr/>
              <p:nvPr/>
            </p:nvSpPr>
            <p:spPr>
              <a:xfrm>
                <a:off x="6021360" y="4800600"/>
                <a:ext cx="507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5757480" y="4829040"/>
                <a:ext cx="25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"/>
          <p:cNvSpPr/>
          <p:nvPr/>
        </p:nvSpPr>
        <p:spPr>
          <a:xfrm flipV="1">
            <a:off x="4076640" y="3428640"/>
            <a:ext cx="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6400440" y="4800600"/>
            <a:ext cx="635400" cy="55440"/>
            <a:chOff x="6400440" y="4800600"/>
            <a:chExt cx="635400" cy="55440"/>
          </a:xfrm>
        </p:grpSpPr>
        <p:grpSp>
          <p:nvGrpSpPr>
            <p:cNvPr id="472" name=""/>
            <p:cNvGrpSpPr/>
            <p:nvPr/>
          </p:nvGrpSpPr>
          <p:grpSpPr>
            <a:xfrm>
              <a:off x="6721560" y="4800600"/>
              <a:ext cx="314280" cy="55440"/>
              <a:chOff x="6721560" y="4800600"/>
              <a:chExt cx="314280" cy="55440"/>
            </a:xfrm>
          </p:grpSpPr>
          <p:sp>
            <p:nvSpPr>
              <p:cNvPr id="473" name=""/>
              <p:cNvSpPr/>
              <p:nvPr/>
            </p:nvSpPr>
            <p:spPr>
              <a:xfrm>
                <a:off x="6985080" y="4800600"/>
                <a:ext cx="507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6721560" y="4829040"/>
                <a:ext cx="25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6400440" y="4800600"/>
              <a:ext cx="314640" cy="55440"/>
              <a:chOff x="6400440" y="4800600"/>
              <a:chExt cx="314640" cy="55440"/>
            </a:xfrm>
          </p:grpSpPr>
          <p:sp>
            <p:nvSpPr>
              <p:cNvPr id="476" name=""/>
              <p:cNvSpPr/>
              <p:nvPr/>
            </p:nvSpPr>
            <p:spPr>
              <a:xfrm>
                <a:off x="6664320" y="4800600"/>
                <a:ext cx="507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6400440" y="4829040"/>
                <a:ext cx="25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10920" y="685440"/>
            <a:ext cx="7924680" cy="472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G.992.1 - Asymmetric Digital Subscriber Line transceiver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One twisted pair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Payload upstream up to 640 kbit/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Downstream up to 6.144 Mbit/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Simultaneous Voiceband and N-ISDN possible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Line Code - DMT (Discrete MultiTone)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0920" y="685440"/>
            <a:ext cx="7924680" cy="472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G.993.1 - Very high bit-rate Digital Subscriber Line transceiver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 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One twisted pair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TimesNewRoman"/>
                <a:ea typeface="Arial"/>
              </a:rPr>
              <a:t>Asymmetric and symmetric data rates up to tens of Mbit/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TimesNewRoman"/>
                <a:ea typeface="Arial"/>
              </a:rPr>
              <a:t>Frequency Division Duplexing to separate upstream &amp; downstream traffic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c0000"/>
                </a:solidFill>
                <a:latin typeface="TimesNewRoman"/>
                <a:ea typeface="Arial"/>
              </a:rPr>
              <a:t>Three band plans defined occupying 138kHz up to 12 MHz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610920" y="685440"/>
            <a:ext cx="7924680" cy="472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G.989.1/G.989.2  – Home Phoneline Networking Transceiver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-premises distribution of data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ver existing phoneline wiring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minal effective throughput equal to 10BASE-T Ethernet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mpatibility with other phoneline services such as POTS, V.90/V.92, ISDN and G.992.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pectrum notching for compatibility with Amateur Radio service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925040" cy="472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Q.2/15 -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ptical systems for access network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Current/future work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Enhancement of G.983.2 to support survivability (G.983.5) and new service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Enhancement of G.983.3 to include 622.080 Mbit/s upstream rate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igabit PON (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.48832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t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/s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?)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Q.4/15 - Transceivers for customer access and in-premises phone line networking systems on metallic pairs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Current/future work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Revision of Single-pair High-speed DSL (SHDSL) - G.991.2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Second Generation ADSL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Second Generation‘Splitterless’ ADSL</a:t>
            </a:r>
            <a:r>
              <a:rPr b="0" lang="en-GB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Questions under study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Typical Access Network construction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Optical Access Network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Digital Subscriber Loop (xDSL) &amp;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Home Phoneline Networking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Current/future work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Other SDOs/Bodie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Q.4/15 - Transceivers for customer access and in-premises phone line networking systems on metallic pairs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Current/future work (continued)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ery high bit rate DSL (VDSL) – G.vdsl.l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hone-line Networking - Isolation Filter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– G.pnt.if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Voice over DSL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Bonding of DSL system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Power Line Transmission (in-premises only)?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610920" y="685440"/>
            <a:ext cx="7924680" cy="472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ther SDOs/Bodies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SAN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ETSI/TM6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1E1.4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DSL Forum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IEEE 802.3 ah EFM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R30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Summary </a:t>
            </a: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ITU-T SG 15 has produced a comprehensive set of broadband access network standards for both copper and fibre media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B-PONs either alone of in conjunction with VDSL provide a basis for the implementation of a full service access network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On-going activities are focussing on higher bitrates and transport of  packet/Ethernet traffic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Questions Under Study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Times New Roman"/>
              </a:rPr>
              <a:t>Q.2/15 - </a:t>
            </a:r>
            <a:r>
              <a:rPr b="1" lang="en-GB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ptical systems for access networks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cc0000"/>
                </a:solidFill>
                <a:latin typeface="Times New Roman"/>
              </a:rPr>
              <a:t>Rapporteur: Dave Faulkner (BT, UK)</a:t>
            </a:r>
            <a:endParaRPr b="0" lang="en-US" sz="2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Times New Roman"/>
              </a:rPr>
              <a:t>Q.3/15 - </a:t>
            </a:r>
            <a:r>
              <a:rPr b="1" lang="en-GB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pport for Recommendations Specifying Systems Based on ISDN Physical Layers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</a:rPr>
              <a:t> Lead Study Group</a:t>
            </a:r>
            <a:r>
              <a:rPr b="0" lang="en-US" sz="2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cc0000"/>
                </a:solidFill>
                <a:latin typeface="Times New Roman"/>
              </a:rPr>
              <a:t>Rapporteur: Koji Kikushima (NTT, Japan)</a:t>
            </a:r>
            <a:endParaRPr b="0" lang="en-US" sz="2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00"/>
                </a:solidFill>
                <a:latin typeface="Times New Roman"/>
              </a:rPr>
              <a:t>Q.4/15 - </a:t>
            </a:r>
            <a:r>
              <a:rPr b="1" lang="en-GB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ransceivers for customer access and in-premises phone line networking systems on metallic pairs</a:t>
            </a:r>
            <a:endParaRPr b="0" lang="en-US" sz="2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apporteur: Dick Stuart (Aware, USA)</a:t>
            </a:r>
            <a:endParaRPr b="0" lang="en-US" sz="2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Typical Access Network Construction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14400" y="1447920"/>
          <a:ext cx="15508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15508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" name=""/>
          <p:cNvGrpSpPr/>
          <p:nvPr/>
        </p:nvGrpSpPr>
        <p:grpSpPr>
          <a:xfrm>
            <a:off x="4343400" y="2362320"/>
            <a:ext cx="415800" cy="530280"/>
            <a:chOff x="4343400" y="2362320"/>
            <a:chExt cx="415800" cy="530280"/>
          </a:xfrm>
        </p:grpSpPr>
        <p:sp>
          <p:nvSpPr>
            <p:cNvPr id="51" name=""/>
            <p:cNvSpPr/>
            <p:nvPr/>
          </p:nvSpPr>
          <p:spPr>
            <a:xfrm>
              <a:off x="4343400" y="2362320"/>
              <a:ext cx="415800" cy="530280"/>
            </a:xfrm>
            <a:prstGeom prst="cube">
              <a:avLst>
                <a:gd name="adj" fmla="val 13333"/>
              </a:avLst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68600" y="2449440"/>
              <a:ext cx="136800" cy="4201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36000" y="2449440"/>
              <a:ext cx="136800" cy="4201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82720" y="2642760"/>
              <a:ext cx="0" cy="1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53640" y="2645640"/>
              <a:ext cx="0" cy="1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7315200" y="1828800"/>
          <a:ext cx="78588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1828800"/>
                    <a:ext cx="78588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315200" y="4038480"/>
          <a:ext cx="709560" cy="106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4038480"/>
                    <a:ext cx="7095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715000" y="4114800"/>
          <a:ext cx="1098720" cy="965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114800"/>
                    <a:ext cx="10987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" name=""/>
          <p:cNvGrpSpPr/>
          <p:nvPr/>
        </p:nvGrpSpPr>
        <p:grpSpPr>
          <a:xfrm>
            <a:off x="4800600" y="3276720"/>
            <a:ext cx="693720" cy="55440"/>
            <a:chOff x="4800600" y="3276720"/>
            <a:chExt cx="693720" cy="55440"/>
          </a:xfrm>
        </p:grpSpPr>
        <p:grpSp>
          <p:nvGrpSpPr>
            <p:cNvPr id="63" name=""/>
            <p:cNvGrpSpPr/>
            <p:nvPr/>
          </p:nvGrpSpPr>
          <p:grpSpPr>
            <a:xfrm>
              <a:off x="4800600" y="3276720"/>
              <a:ext cx="339840" cy="55440"/>
              <a:chOff x="4800600" y="3276720"/>
              <a:chExt cx="339840" cy="55440"/>
            </a:xfrm>
          </p:grpSpPr>
          <p:sp>
            <p:nvSpPr>
              <p:cNvPr id="64" name=""/>
              <p:cNvSpPr/>
              <p:nvPr/>
            </p:nvSpPr>
            <p:spPr>
              <a:xfrm>
                <a:off x="4800600" y="327672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875120" y="330372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153040" y="3276720"/>
              <a:ext cx="341280" cy="55440"/>
              <a:chOff x="5153040" y="3276720"/>
              <a:chExt cx="341280" cy="55440"/>
            </a:xfrm>
          </p:grpSpPr>
          <p:sp>
            <p:nvSpPr>
              <p:cNvPr id="67" name=""/>
              <p:cNvSpPr/>
              <p:nvPr/>
            </p:nvSpPr>
            <p:spPr>
              <a:xfrm>
                <a:off x="5153040" y="327672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229360" y="330372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5486400" y="3276720"/>
            <a:ext cx="693720" cy="55440"/>
            <a:chOff x="5486400" y="3276720"/>
            <a:chExt cx="693720" cy="55440"/>
          </a:xfrm>
        </p:grpSpPr>
        <p:grpSp>
          <p:nvGrpSpPr>
            <p:cNvPr id="70" name=""/>
            <p:cNvGrpSpPr/>
            <p:nvPr/>
          </p:nvGrpSpPr>
          <p:grpSpPr>
            <a:xfrm>
              <a:off x="5486400" y="3276720"/>
              <a:ext cx="339840" cy="55440"/>
              <a:chOff x="5486400" y="3276720"/>
              <a:chExt cx="339840" cy="55440"/>
            </a:xfrm>
          </p:grpSpPr>
          <p:sp>
            <p:nvSpPr>
              <p:cNvPr id="71" name=""/>
              <p:cNvSpPr/>
              <p:nvPr/>
            </p:nvSpPr>
            <p:spPr>
              <a:xfrm>
                <a:off x="5486400" y="327672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560920" y="330372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838840" y="3276720"/>
              <a:ext cx="341280" cy="55440"/>
              <a:chOff x="5838840" y="3276720"/>
              <a:chExt cx="341280" cy="55440"/>
            </a:xfrm>
          </p:grpSpPr>
          <p:sp>
            <p:nvSpPr>
              <p:cNvPr id="74" name=""/>
              <p:cNvSpPr/>
              <p:nvPr/>
            </p:nvSpPr>
            <p:spPr>
              <a:xfrm>
                <a:off x="5838840" y="327672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915160" y="330372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6172200" y="3276720"/>
            <a:ext cx="693720" cy="55440"/>
            <a:chOff x="6172200" y="3276720"/>
            <a:chExt cx="693720" cy="55440"/>
          </a:xfrm>
        </p:grpSpPr>
        <p:grpSp>
          <p:nvGrpSpPr>
            <p:cNvPr id="77" name=""/>
            <p:cNvGrpSpPr/>
            <p:nvPr/>
          </p:nvGrpSpPr>
          <p:grpSpPr>
            <a:xfrm>
              <a:off x="6172200" y="3276720"/>
              <a:ext cx="339840" cy="55440"/>
              <a:chOff x="6172200" y="3276720"/>
              <a:chExt cx="339840" cy="55440"/>
            </a:xfrm>
          </p:grpSpPr>
          <p:sp>
            <p:nvSpPr>
              <p:cNvPr id="78" name=""/>
              <p:cNvSpPr/>
              <p:nvPr/>
            </p:nvSpPr>
            <p:spPr>
              <a:xfrm>
                <a:off x="6172200" y="327672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246720" y="330372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6524640" y="3276720"/>
              <a:ext cx="341280" cy="55440"/>
              <a:chOff x="6524640" y="3276720"/>
              <a:chExt cx="341280" cy="55440"/>
            </a:xfrm>
          </p:grpSpPr>
          <p:sp>
            <p:nvSpPr>
              <p:cNvPr id="81" name=""/>
              <p:cNvSpPr/>
              <p:nvPr/>
            </p:nvSpPr>
            <p:spPr>
              <a:xfrm>
                <a:off x="6524640" y="327672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600960" y="330372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6858000" y="3276720"/>
            <a:ext cx="693720" cy="55440"/>
            <a:chOff x="6858000" y="3276720"/>
            <a:chExt cx="693720" cy="55440"/>
          </a:xfrm>
        </p:grpSpPr>
        <p:grpSp>
          <p:nvGrpSpPr>
            <p:cNvPr id="84" name=""/>
            <p:cNvGrpSpPr/>
            <p:nvPr/>
          </p:nvGrpSpPr>
          <p:grpSpPr>
            <a:xfrm>
              <a:off x="6858000" y="3276720"/>
              <a:ext cx="339840" cy="55440"/>
              <a:chOff x="6858000" y="3276720"/>
              <a:chExt cx="339840" cy="55440"/>
            </a:xfrm>
          </p:grpSpPr>
          <p:sp>
            <p:nvSpPr>
              <p:cNvPr id="85" name=""/>
              <p:cNvSpPr/>
              <p:nvPr/>
            </p:nvSpPr>
            <p:spPr>
              <a:xfrm>
                <a:off x="6858000" y="327672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32520" y="330372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7210440" y="3276720"/>
              <a:ext cx="341280" cy="55440"/>
              <a:chOff x="7210440" y="3276720"/>
              <a:chExt cx="341280" cy="55440"/>
            </a:xfrm>
          </p:grpSpPr>
          <p:sp>
            <p:nvSpPr>
              <p:cNvPr id="88" name=""/>
              <p:cNvSpPr/>
              <p:nvPr/>
            </p:nvSpPr>
            <p:spPr>
              <a:xfrm>
                <a:off x="7210440" y="327672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286760" y="330372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5410080" y="4952880"/>
            <a:ext cx="693720" cy="55440"/>
            <a:chOff x="5410080" y="4952880"/>
            <a:chExt cx="693720" cy="55440"/>
          </a:xfrm>
        </p:grpSpPr>
        <p:grpSp>
          <p:nvGrpSpPr>
            <p:cNvPr id="91" name=""/>
            <p:cNvGrpSpPr/>
            <p:nvPr/>
          </p:nvGrpSpPr>
          <p:grpSpPr>
            <a:xfrm>
              <a:off x="5410080" y="4952880"/>
              <a:ext cx="339480" cy="55440"/>
              <a:chOff x="5410080" y="4952880"/>
              <a:chExt cx="339480" cy="55440"/>
            </a:xfrm>
          </p:grpSpPr>
          <p:sp>
            <p:nvSpPr>
              <p:cNvPr id="92" name=""/>
              <p:cNvSpPr/>
              <p:nvPr/>
            </p:nvSpPr>
            <p:spPr>
              <a:xfrm>
                <a:off x="5410080" y="495288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484600" y="497988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5762520" y="4952880"/>
              <a:ext cx="341280" cy="55440"/>
              <a:chOff x="5762520" y="4952880"/>
              <a:chExt cx="341280" cy="55440"/>
            </a:xfrm>
          </p:grpSpPr>
          <p:sp>
            <p:nvSpPr>
              <p:cNvPr id="95" name=""/>
              <p:cNvSpPr/>
              <p:nvPr/>
            </p:nvSpPr>
            <p:spPr>
              <a:xfrm>
                <a:off x="5762520" y="495288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838480" y="497988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4724280" y="4343400"/>
            <a:ext cx="693720" cy="55440"/>
            <a:chOff x="4724280" y="4343400"/>
            <a:chExt cx="693720" cy="55440"/>
          </a:xfrm>
        </p:grpSpPr>
        <p:grpSp>
          <p:nvGrpSpPr>
            <p:cNvPr id="98" name=""/>
            <p:cNvGrpSpPr/>
            <p:nvPr/>
          </p:nvGrpSpPr>
          <p:grpSpPr>
            <a:xfrm>
              <a:off x="4724280" y="4343400"/>
              <a:ext cx="339480" cy="55440"/>
              <a:chOff x="4724280" y="4343400"/>
              <a:chExt cx="339480" cy="55440"/>
            </a:xfrm>
          </p:grpSpPr>
          <p:sp>
            <p:nvSpPr>
              <p:cNvPr id="99" name=""/>
              <p:cNvSpPr/>
              <p:nvPr/>
            </p:nvSpPr>
            <p:spPr>
              <a:xfrm>
                <a:off x="4724280" y="434340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98800" y="437040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076720" y="4343400"/>
              <a:ext cx="341280" cy="55440"/>
              <a:chOff x="5076720" y="4343400"/>
              <a:chExt cx="341280" cy="55440"/>
            </a:xfrm>
          </p:grpSpPr>
          <p:sp>
            <p:nvSpPr>
              <p:cNvPr id="102" name=""/>
              <p:cNvSpPr/>
              <p:nvPr/>
            </p:nvSpPr>
            <p:spPr>
              <a:xfrm>
                <a:off x="5076720" y="434340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52680" y="437040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5410080" y="4648320"/>
            <a:ext cx="57240" cy="325440"/>
            <a:chOff x="5410080" y="4648320"/>
            <a:chExt cx="57240" cy="325440"/>
          </a:xfrm>
        </p:grpSpPr>
        <p:sp>
          <p:nvSpPr>
            <p:cNvPr id="105" name=""/>
            <p:cNvSpPr/>
            <p:nvPr/>
          </p:nvSpPr>
          <p:spPr>
            <a:xfrm>
              <a:off x="5410080" y="4648320"/>
              <a:ext cx="5724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38520" y="4721400"/>
              <a:ext cx="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410080" y="4343400"/>
            <a:ext cx="57240" cy="325440"/>
            <a:chOff x="5410080" y="4343400"/>
            <a:chExt cx="57240" cy="325440"/>
          </a:xfrm>
        </p:grpSpPr>
        <p:sp>
          <p:nvSpPr>
            <p:cNvPr id="108" name=""/>
            <p:cNvSpPr/>
            <p:nvPr/>
          </p:nvSpPr>
          <p:spPr>
            <a:xfrm>
              <a:off x="5410080" y="4343400"/>
              <a:ext cx="5724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38520" y="4416480"/>
              <a:ext cx="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 flipH="1" flipV="1">
            <a:off x="4495320" y="2895480"/>
            <a:ext cx="22860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4647960" y="2895120"/>
            <a:ext cx="1522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29400" y="4191120"/>
            <a:ext cx="7621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523880" y="3657600"/>
            <a:ext cx="341280" cy="54000"/>
            <a:chOff x="1523880" y="3657600"/>
            <a:chExt cx="341280" cy="54000"/>
          </a:xfrm>
        </p:grpSpPr>
        <p:sp>
          <p:nvSpPr>
            <p:cNvPr id="114" name=""/>
            <p:cNvSpPr/>
            <p:nvPr/>
          </p:nvSpPr>
          <p:spPr>
            <a:xfrm>
              <a:off x="1523880" y="3657600"/>
              <a:ext cx="58680" cy="54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00200" y="3684600"/>
              <a:ext cx="26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295280" y="3962520"/>
            <a:ext cx="341280" cy="54000"/>
            <a:chOff x="1295280" y="3962520"/>
            <a:chExt cx="341280" cy="54000"/>
          </a:xfrm>
        </p:grpSpPr>
        <p:sp>
          <p:nvSpPr>
            <p:cNvPr id="117" name=""/>
            <p:cNvSpPr/>
            <p:nvPr/>
          </p:nvSpPr>
          <p:spPr>
            <a:xfrm>
              <a:off x="1295280" y="3962520"/>
              <a:ext cx="58680" cy="54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989520"/>
              <a:ext cx="26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143000" y="2971800"/>
            <a:ext cx="15228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297180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3429000"/>
            <a:ext cx="693720" cy="55440"/>
            <a:chOff x="2133720" y="3429000"/>
            <a:chExt cx="693720" cy="55440"/>
          </a:xfrm>
        </p:grpSpPr>
        <p:grpSp>
          <p:nvGrpSpPr>
            <p:cNvPr id="122" name=""/>
            <p:cNvGrpSpPr/>
            <p:nvPr/>
          </p:nvGrpSpPr>
          <p:grpSpPr>
            <a:xfrm>
              <a:off x="2133720" y="3429000"/>
              <a:ext cx="339840" cy="55440"/>
              <a:chOff x="2133720" y="3429000"/>
              <a:chExt cx="339840" cy="55440"/>
            </a:xfrm>
          </p:grpSpPr>
          <p:sp>
            <p:nvSpPr>
              <p:cNvPr id="123" name=""/>
              <p:cNvSpPr/>
              <p:nvPr/>
            </p:nvSpPr>
            <p:spPr>
              <a:xfrm>
                <a:off x="2133720" y="342900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8240" y="345600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486160" y="3429000"/>
              <a:ext cx="341280" cy="55440"/>
              <a:chOff x="2486160" y="3429000"/>
              <a:chExt cx="341280" cy="55440"/>
            </a:xfrm>
          </p:grpSpPr>
          <p:sp>
            <p:nvSpPr>
              <p:cNvPr id="126" name=""/>
              <p:cNvSpPr/>
              <p:nvPr/>
            </p:nvSpPr>
            <p:spPr>
              <a:xfrm>
                <a:off x="2486160" y="342900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562480" y="345600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1828800" y="3429000"/>
            <a:ext cx="341280" cy="54000"/>
            <a:chOff x="1828800" y="3429000"/>
            <a:chExt cx="341280" cy="54000"/>
          </a:xfrm>
        </p:grpSpPr>
        <p:sp>
          <p:nvSpPr>
            <p:cNvPr id="129" name=""/>
            <p:cNvSpPr/>
            <p:nvPr/>
          </p:nvSpPr>
          <p:spPr>
            <a:xfrm>
              <a:off x="1828800" y="3429000"/>
              <a:ext cx="58680" cy="54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5120" y="3456000"/>
              <a:ext cx="26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819520" y="3429000"/>
            <a:ext cx="693720" cy="55440"/>
            <a:chOff x="2819520" y="3429000"/>
            <a:chExt cx="693720" cy="55440"/>
          </a:xfrm>
        </p:grpSpPr>
        <p:grpSp>
          <p:nvGrpSpPr>
            <p:cNvPr id="132" name=""/>
            <p:cNvGrpSpPr/>
            <p:nvPr/>
          </p:nvGrpSpPr>
          <p:grpSpPr>
            <a:xfrm>
              <a:off x="2819520" y="3429000"/>
              <a:ext cx="339840" cy="55440"/>
              <a:chOff x="2819520" y="3429000"/>
              <a:chExt cx="339840" cy="55440"/>
            </a:xfrm>
          </p:grpSpPr>
          <p:sp>
            <p:nvSpPr>
              <p:cNvPr id="133" name=""/>
              <p:cNvSpPr/>
              <p:nvPr/>
            </p:nvSpPr>
            <p:spPr>
              <a:xfrm>
                <a:off x="2819520" y="342900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894040" y="345600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3171960" y="3429000"/>
              <a:ext cx="341280" cy="55440"/>
              <a:chOff x="3171960" y="3429000"/>
              <a:chExt cx="341280" cy="55440"/>
            </a:xfrm>
          </p:grpSpPr>
          <p:sp>
            <p:nvSpPr>
              <p:cNvPr id="136" name=""/>
              <p:cNvSpPr/>
              <p:nvPr/>
            </p:nvSpPr>
            <p:spPr>
              <a:xfrm>
                <a:off x="3171960" y="342900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48280" y="345600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3505320" y="3429000"/>
            <a:ext cx="693720" cy="55440"/>
            <a:chOff x="3505320" y="3429000"/>
            <a:chExt cx="693720" cy="55440"/>
          </a:xfrm>
        </p:grpSpPr>
        <p:grpSp>
          <p:nvGrpSpPr>
            <p:cNvPr id="139" name=""/>
            <p:cNvGrpSpPr/>
            <p:nvPr/>
          </p:nvGrpSpPr>
          <p:grpSpPr>
            <a:xfrm>
              <a:off x="3505320" y="3429000"/>
              <a:ext cx="339840" cy="55440"/>
              <a:chOff x="3505320" y="3429000"/>
              <a:chExt cx="339840" cy="55440"/>
            </a:xfrm>
          </p:grpSpPr>
          <p:sp>
            <p:nvSpPr>
              <p:cNvPr id="140" name=""/>
              <p:cNvSpPr/>
              <p:nvPr/>
            </p:nvSpPr>
            <p:spPr>
              <a:xfrm>
                <a:off x="3505320" y="342900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79840" y="345600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857760" y="3429000"/>
              <a:ext cx="341280" cy="55440"/>
              <a:chOff x="3857760" y="3429000"/>
              <a:chExt cx="341280" cy="55440"/>
            </a:xfrm>
          </p:grpSpPr>
          <p:sp>
            <p:nvSpPr>
              <p:cNvPr id="143" name=""/>
              <p:cNvSpPr/>
              <p:nvPr/>
            </p:nvSpPr>
            <p:spPr>
              <a:xfrm>
                <a:off x="3857760" y="342900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934080" y="345600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"/>
          <p:cNvSpPr/>
          <p:nvPr/>
        </p:nvSpPr>
        <p:spPr>
          <a:xfrm flipH="1">
            <a:off x="4190760" y="2895480"/>
            <a:ext cx="228600" cy="5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76720" y="3962520"/>
            <a:ext cx="693720" cy="55440"/>
            <a:chOff x="3276720" y="3962520"/>
            <a:chExt cx="693720" cy="55440"/>
          </a:xfrm>
        </p:grpSpPr>
        <p:grpSp>
          <p:nvGrpSpPr>
            <p:cNvPr id="147" name=""/>
            <p:cNvGrpSpPr/>
            <p:nvPr/>
          </p:nvGrpSpPr>
          <p:grpSpPr>
            <a:xfrm>
              <a:off x="3276720" y="3962520"/>
              <a:ext cx="339840" cy="55440"/>
              <a:chOff x="3276720" y="3962520"/>
              <a:chExt cx="339840" cy="55440"/>
            </a:xfrm>
          </p:grpSpPr>
          <p:sp>
            <p:nvSpPr>
              <p:cNvPr id="148" name=""/>
              <p:cNvSpPr/>
              <p:nvPr/>
            </p:nvSpPr>
            <p:spPr>
              <a:xfrm>
                <a:off x="3276720" y="396252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351240" y="398952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3629160" y="3962520"/>
              <a:ext cx="341280" cy="55440"/>
              <a:chOff x="3629160" y="3962520"/>
              <a:chExt cx="341280" cy="55440"/>
            </a:xfrm>
          </p:grpSpPr>
          <p:sp>
            <p:nvSpPr>
              <p:cNvPr id="151" name=""/>
              <p:cNvSpPr/>
              <p:nvPr/>
            </p:nvSpPr>
            <p:spPr>
              <a:xfrm>
                <a:off x="3629160" y="396252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05480" y="398952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2819520" y="342900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289548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38880" y="289512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1371600"/>
            <a:ext cx="1499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Central 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(Exchange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9000" y="297180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Feed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520" y="198108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Street Cabi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7280" y="281952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Distribution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4320" y="3505320"/>
            <a:ext cx="11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Overh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5760" y="32767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Under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76920" y="3657600"/>
            <a:ext cx="693720" cy="55440"/>
            <a:chOff x="4876920" y="3657600"/>
            <a:chExt cx="693720" cy="55440"/>
          </a:xfrm>
        </p:grpSpPr>
        <p:grpSp>
          <p:nvGrpSpPr>
            <p:cNvPr id="163" name=""/>
            <p:cNvGrpSpPr/>
            <p:nvPr/>
          </p:nvGrpSpPr>
          <p:grpSpPr>
            <a:xfrm>
              <a:off x="4876920" y="3657600"/>
              <a:ext cx="339840" cy="55440"/>
              <a:chOff x="4876920" y="3657600"/>
              <a:chExt cx="339840" cy="5544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657600"/>
                <a:ext cx="5724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951440" y="3684600"/>
                <a:ext cx="2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229360" y="3657600"/>
              <a:ext cx="341280" cy="55440"/>
              <a:chOff x="5229360" y="3657600"/>
              <a:chExt cx="341280" cy="55440"/>
            </a:xfrm>
          </p:grpSpPr>
          <p:sp>
            <p:nvSpPr>
              <p:cNvPr id="167" name=""/>
              <p:cNvSpPr/>
              <p:nvPr/>
            </p:nvSpPr>
            <p:spPr>
              <a:xfrm>
                <a:off x="5229360" y="3657600"/>
                <a:ext cx="5868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305680" y="3684600"/>
                <a:ext cx="2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4572000" y="320040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4571640" y="2895120"/>
            <a:ext cx="3049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57600" y="3414600"/>
          <a:ext cx="28800" cy="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57600" y="3414600"/>
                    <a:ext cx="28800" cy="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557600" y="3414600"/>
          <a:ext cx="28800" cy="28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57600" y="3414600"/>
                    <a:ext cx="28800" cy="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086600" y="1447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925040" cy="472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Q.2/15 -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ptical systems for access network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Recommendation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.983.1 + </a:t>
            </a:r>
            <a:r>
              <a:rPr b="0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Amendment 1</a:t>
            </a:r>
            <a:r>
              <a:rPr b="1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-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High speed optical access systems based on Passive Optical Network (PON) techniques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.983.2 -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ONT Management and Control Interface specification for ATM PON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925040" cy="472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Q.2/15 -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ptical systems for access network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Recommendations (continued)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.983.3 -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A broadband optical access system with increased service capability by wavelength allocation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.983.4 -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A broadband optical access system with increased service capability using Dynamic Bandwidth Assignment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925040" cy="472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Q.2/15 -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ptical systems for access networks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Recommendations (continued)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G.983.5 - A broadband optical access system with enhanced survivability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.983.7 -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ONT Management and Control Interface specification for Dynamic Bandwidth Assignment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7964640" y="3886200"/>
            <a:ext cx="609480" cy="2089080"/>
            <a:chOff x="7964640" y="3886200"/>
            <a:chExt cx="609480" cy="2089080"/>
          </a:xfrm>
        </p:grpSpPr>
        <p:sp>
          <p:nvSpPr>
            <p:cNvPr id="180" name=""/>
            <p:cNvSpPr/>
            <p:nvPr/>
          </p:nvSpPr>
          <p:spPr>
            <a:xfrm>
              <a:off x="8186760" y="3889440"/>
              <a:ext cx="379440" cy="2076480"/>
            </a:xfrm>
            <a:custGeom>
              <a:avLst/>
              <a:gdLst/>
              <a:ahLst/>
              <a:rect l="l" t="t" r="r" b="b"/>
              <a:pathLst>
                <a:path w="239" h="1308">
                  <a:moveTo>
                    <a:pt x="0" y="0"/>
                  </a:moveTo>
                  <a:lnTo>
                    <a:pt x="237" y="41"/>
                  </a:lnTo>
                  <a:lnTo>
                    <a:pt x="238" y="1307"/>
                  </a:lnTo>
                  <a:lnTo>
                    <a:pt x="0" y="1307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86760" y="3886200"/>
              <a:ext cx="387360" cy="2089080"/>
            </a:xfrm>
            <a:custGeom>
              <a:avLst/>
              <a:gdLst/>
              <a:ahLst/>
              <a:rect l="l" t="t" r="r" b="b"/>
              <a:pathLst>
                <a:path w="244" h="1316">
                  <a:moveTo>
                    <a:pt x="0" y="0"/>
                  </a:moveTo>
                  <a:lnTo>
                    <a:pt x="243" y="41"/>
                  </a:lnTo>
                  <a:lnTo>
                    <a:pt x="243" y="1315"/>
                  </a:lnTo>
                  <a:lnTo>
                    <a:pt x="0" y="13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964640" y="3886200"/>
              <a:ext cx="585720" cy="2082960"/>
              <a:chOff x="7964640" y="3886200"/>
              <a:chExt cx="585720" cy="20829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7964640" y="3886200"/>
                <a:ext cx="214200" cy="2082960"/>
                <a:chOff x="7964640" y="3886200"/>
                <a:chExt cx="214200" cy="20829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7964640" y="3886200"/>
                  <a:ext cx="214200" cy="2082960"/>
                </a:xfrm>
                <a:custGeom>
                  <a:avLst/>
                  <a:gdLst/>
                  <a:ahLst/>
                  <a:rect l="l" t="t" r="r" b="b"/>
                  <a:pathLst>
                    <a:path w="135" h="1312">
                      <a:moveTo>
                        <a:pt x="0" y="102"/>
                      </a:moveTo>
                      <a:lnTo>
                        <a:pt x="134" y="0"/>
                      </a:lnTo>
                      <a:lnTo>
                        <a:pt x="134" y="1311"/>
                      </a:lnTo>
                      <a:lnTo>
                        <a:pt x="0" y="1311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8116920" y="3936960"/>
                  <a:ext cx="1440" cy="199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047080" y="3992400"/>
                  <a:ext cx="0" cy="194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102520" y="5842080"/>
                  <a:ext cx="2700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029440" y="5842080"/>
                  <a:ext cx="2700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8204040" y="4025880"/>
                <a:ext cx="346320" cy="1924200"/>
                <a:chOff x="8204040" y="4025880"/>
                <a:chExt cx="346320" cy="192420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8247240" y="5819760"/>
                  <a:ext cx="261720" cy="130320"/>
                  <a:chOff x="8247240" y="5819760"/>
                  <a:chExt cx="261720" cy="1303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8416800" y="5821200"/>
                    <a:ext cx="28800" cy="128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8478720" y="5821200"/>
                    <a:ext cx="30240" cy="128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8247240" y="5819760"/>
                    <a:ext cx="28440" cy="128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312040" y="5819760"/>
                    <a:ext cx="30240" cy="1285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8204040" y="4049640"/>
                  <a:ext cx="346320" cy="1676520"/>
                  <a:chOff x="8204040" y="4049640"/>
                  <a:chExt cx="346320" cy="16765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8209080" y="4049640"/>
                    <a:ext cx="34128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68">
                        <a:moveTo>
                          <a:pt x="0" y="0"/>
                        </a:moveTo>
                        <a:lnTo>
                          <a:pt x="214" y="34"/>
                        </a:lnTo>
                        <a:lnTo>
                          <a:pt x="214" y="67"/>
                        </a:lnTo>
                        <a:lnTo>
                          <a:pt x="0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8209080" y="4145040"/>
                    <a:ext cx="3412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69">
                        <a:moveTo>
                          <a:pt x="0" y="0"/>
                        </a:moveTo>
                        <a:lnTo>
                          <a:pt x="214" y="34"/>
                        </a:lnTo>
                        <a:lnTo>
                          <a:pt x="214" y="68"/>
                        </a:lnTo>
                        <a:lnTo>
                          <a:pt x="0" y="3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8209080" y="4246560"/>
                    <a:ext cx="34128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68">
                        <a:moveTo>
                          <a:pt x="0" y="0"/>
                        </a:moveTo>
                        <a:lnTo>
                          <a:pt x="214" y="34"/>
                        </a:lnTo>
                        <a:lnTo>
                          <a:pt x="214" y="67"/>
                        </a:lnTo>
                        <a:lnTo>
                          <a:pt x="0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8209080" y="4341960"/>
                    <a:ext cx="34128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68">
                        <a:moveTo>
                          <a:pt x="0" y="0"/>
                        </a:moveTo>
                        <a:lnTo>
                          <a:pt x="214" y="34"/>
                        </a:lnTo>
                        <a:lnTo>
                          <a:pt x="214" y="67"/>
                        </a:lnTo>
                        <a:lnTo>
                          <a:pt x="0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8209080" y="4440240"/>
                    <a:ext cx="3412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64">
                        <a:moveTo>
                          <a:pt x="0" y="0"/>
                        </a:moveTo>
                        <a:lnTo>
                          <a:pt x="214" y="30"/>
                        </a:lnTo>
                        <a:lnTo>
                          <a:pt x="214" y="63"/>
                        </a:lnTo>
                        <a:lnTo>
                          <a:pt x="0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8209080" y="4532400"/>
                    <a:ext cx="3412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64">
                        <a:moveTo>
                          <a:pt x="0" y="0"/>
                        </a:moveTo>
                        <a:lnTo>
                          <a:pt x="214" y="30"/>
                        </a:lnTo>
                        <a:lnTo>
                          <a:pt x="214" y="63"/>
                        </a:lnTo>
                        <a:lnTo>
                          <a:pt x="0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8209080" y="4626000"/>
                    <a:ext cx="3412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64">
                        <a:moveTo>
                          <a:pt x="0" y="0"/>
                        </a:moveTo>
                        <a:lnTo>
                          <a:pt x="214" y="30"/>
                        </a:lnTo>
                        <a:lnTo>
                          <a:pt x="214" y="63"/>
                        </a:lnTo>
                        <a:lnTo>
                          <a:pt x="0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8209080" y="4724280"/>
                    <a:ext cx="34128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59">
                        <a:moveTo>
                          <a:pt x="0" y="0"/>
                        </a:moveTo>
                        <a:lnTo>
                          <a:pt x="214" y="25"/>
                        </a:lnTo>
                        <a:lnTo>
                          <a:pt x="214" y="58"/>
                        </a:lnTo>
                        <a:lnTo>
                          <a:pt x="0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8209080" y="4819680"/>
                    <a:ext cx="3412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59">
                        <a:moveTo>
                          <a:pt x="0" y="0"/>
                        </a:moveTo>
                        <a:lnTo>
                          <a:pt x="214" y="25"/>
                        </a:lnTo>
                        <a:lnTo>
                          <a:pt x="214" y="58"/>
                        </a:lnTo>
                        <a:lnTo>
                          <a:pt x="0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8209080" y="4915080"/>
                    <a:ext cx="3412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57">
                        <a:moveTo>
                          <a:pt x="0" y="0"/>
                        </a:moveTo>
                        <a:lnTo>
                          <a:pt x="214" y="23"/>
                        </a:lnTo>
                        <a:lnTo>
                          <a:pt x="214" y="56"/>
                        </a:lnTo>
                        <a:lnTo>
                          <a:pt x="0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8209080" y="5018040"/>
                    <a:ext cx="3412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57">
                        <a:moveTo>
                          <a:pt x="0" y="0"/>
                        </a:moveTo>
                        <a:lnTo>
                          <a:pt x="214" y="23"/>
                        </a:lnTo>
                        <a:lnTo>
                          <a:pt x="214" y="56"/>
                        </a:lnTo>
                        <a:lnTo>
                          <a:pt x="0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8209080" y="5121360"/>
                    <a:ext cx="3412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57">
                        <a:moveTo>
                          <a:pt x="0" y="0"/>
                        </a:moveTo>
                        <a:lnTo>
                          <a:pt x="214" y="23"/>
                        </a:lnTo>
                        <a:lnTo>
                          <a:pt x="214" y="56"/>
                        </a:lnTo>
                        <a:lnTo>
                          <a:pt x="0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8209080" y="5232240"/>
                    <a:ext cx="34128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52">
                        <a:moveTo>
                          <a:pt x="0" y="0"/>
                        </a:moveTo>
                        <a:lnTo>
                          <a:pt x="214" y="19"/>
                        </a:lnTo>
                        <a:lnTo>
                          <a:pt x="214" y="51"/>
                        </a:lnTo>
                        <a:lnTo>
                          <a:pt x="0" y="3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8207280" y="5337000"/>
                    <a:ext cx="34128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52">
                        <a:moveTo>
                          <a:pt x="0" y="0"/>
                        </a:moveTo>
                        <a:lnTo>
                          <a:pt x="214" y="19"/>
                        </a:lnTo>
                        <a:lnTo>
                          <a:pt x="214" y="51"/>
                        </a:lnTo>
                        <a:lnTo>
                          <a:pt x="0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8204040" y="5445000"/>
                    <a:ext cx="3463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49">
                        <a:moveTo>
                          <a:pt x="0" y="0"/>
                        </a:moveTo>
                        <a:lnTo>
                          <a:pt x="217" y="16"/>
                        </a:lnTo>
                        <a:lnTo>
                          <a:pt x="217" y="48"/>
                        </a:lnTo>
                        <a:lnTo>
                          <a:pt x="0" y="3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8204040" y="5554800"/>
                    <a:ext cx="34632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45">
                        <a:moveTo>
                          <a:pt x="0" y="0"/>
                        </a:moveTo>
                        <a:lnTo>
                          <a:pt x="217" y="12"/>
                        </a:lnTo>
                        <a:lnTo>
                          <a:pt x="217" y="44"/>
                        </a:lnTo>
                        <a:lnTo>
                          <a:pt x="0" y="3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8204040" y="5662440"/>
                    <a:ext cx="34632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40">
                        <a:moveTo>
                          <a:pt x="0" y="0"/>
                        </a:moveTo>
                        <a:lnTo>
                          <a:pt x="217" y="7"/>
                        </a:lnTo>
                        <a:lnTo>
                          <a:pt x="217" y="39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8285040" y="4025880"/>
                  <a:ext cx="192240" cy="1798560"/>
                  <a:chOff x="8285040" y="4025880"/>
                  <a:chExt cx="192240" cy="1798560"/>
                </a:xfrm>
              </p:grpSpPr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8285040" y="4025880"/>
                    <a:ext cx="41400" cy="1798560"/>
                    <a:chOff x="8285040" y="4025880"/>
                    <a:chExt cx="41400" cy="179856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 flipV="1">
                      <a:off x="8285040" y="4025880"/>
                      <a:ext cx="0" cy="179856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V="1">
                      <a:off x="8326440" y="4030200"/>
                      <a:ext cx="0" cy="179388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8440560" y="4051080"/>
                    <a:ext cx="36720" cy="1773360"/>
                    <a:chOff x="8440560" y="4051080"/>
                    <a:chExt cx="36720" cy="1773360"/>
                  </a:xfrm>
                </p:grpSpPr>
                <p:sp>
                  <p:nvSpPr>
                    <p:cNvPr id="218" name=""/>
                    <p:cNvSpPr/>
                    <p:nvPr/>
                  </p:nvSpPr>
                  <p:spPr>
                    <a:xfrm flipV="1">
                      <a:off x="8440560" y="4051080"/>
                      <a:ext cx="0" cy="177300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flipV="1">
                      <a:off x="8477280" y="4056120"/>
                      <a:ext cx="0" cy="1768320"/>
                    </a:xfrm>
                    <a:prstGeom prst="line">
                      <a:avLst/>
                    </a:prstGeom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20" name="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Access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ibre Deployment 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815240" y="4437000"/>
            <a:ext cx="58680" cy="1471680"/>
            <a:chOff x="7815240" y="4437000"/>
            <a:chExt cx="58680" cy="1471680"/>
          </a:xfrm>
        </p:grpSpPr>
        <p:sp>
          <p:nvSpPr>
            <p:cNvPr id="222" name=""/>
            <p:cNvSpPr/>
            <p:nvPr/>
          </p:nvSpPr>
          <p:spPr>
            <a:xfrm>
              <a:off x="7815240" y="5850000"/>
              <a:ext cx="55440" cy="586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842240" y="5560560"/>
              <a:ext cx="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7815240" y="4854240"/>
              <a:ext cx="55440" cy="700560"/>
              <a:chOff x="7815240" y="4854240"/>
              <a:chExt cx="55440" cy="70056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7815240" y="5208120"/>
                <a:ext cx="55440" cy="346680"/>
                <a:chOff x="7815240" y="5208120"/>
                <a:chExt cx="55440" cy="3466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815240" y="5497560"/>
                  <a:ext cx="55440" cy="5724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7842240" y="5208120"/>
                  <a:ext cx="0" cy="28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7815240" y="4854240"/>
                <a:ext cx="55440" cy="348120"/>
                <a:chOff x="7815240" y="4854240"/>
                <a:chExt cx="55440" cy="3481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815240" y="5143680"/>
                  <a:ext cx="55440" cy="5868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>
                  <a:off x="7842240" y="4854240"/>
                  <a:ext cx="0" cy="28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7818480" y="4791240"/>
              <a:ext cx="55440" cy="56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7815240" y="4437000"/>
              <a:ext cx="55440" cy="347760"/>
              <a:chOff x="7815240" y="4437000"/>
              <a:chExt cx="55440" cy="347760"/>
            </a:xfrm>
          </p:grpSpPr>
          <p:sp>
            <p:nvSpPr>
              <p:cNvPr id="233" name=""/>
              <p:cNvSpPr/>
              <p:nvPr/>
            </p:nvSpPr>
            <p:spPr>
              <a:xfrm>
                <a:off x="7815240" y="4437000"/>
                <a:ext cx="55440" cy="586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842240" y="4502160"/>
                <a:ext cx="0" cy="28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" name=""/>
          <p:cNvSpPr/>
          <p:nvPr/>
        </p:nvSpPr>
        <p:spPr>
          <a:xfrm>
            <a:off x="7594560" y="5797440"/>
            <a:ext cx="184320" cy="165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5715000"/>
            <a:ext cx="1447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FTTBa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84360" y="1487520"/>
          <a:ext cx="165240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7520"/>
                    <a:ext cx="165240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2285280" y="1600200"/>
            <a:ext cx="102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Local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705720" y="2209680"/>
          <a:ext cx="88740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2209680"/>
                    <a:ext cx="887400" cy="14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3584160" y="2438280"/>
            <a:ext cx="1435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Street Cabi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962520" y="2819520"/>
            <a:ext cx="471240" cy="596880"/>
            <a:chOff x="3962520" y="2819520"/>
            <a:chExt cx="471240" cy="596880"/>
          </a:xfrm>
        </p:grpSpPr>
        <p:sp>
          <p:nvSpPr>
            <p:cNvPr id="244" name=""/>
            <p:cNvSpPr/>
            <p:nvPr/>
          </p:nvSpPr>
          <p:spPr>
            <a:xfrm>
              <a:off x="3962520" y="2819520"/>
              <a:ext cx="471240" cy="596880"/>
            </a:xfrm>
            <a:prstGeom prst="cube">
              <a:avLst>
                <a:gd name="adj" fmla="val 13333"/>
              </a:avLst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90600" y="2918160"/>
              <a:ext cx="153720" cy="473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81040" y="2918160"/>
              <a:ext cx="153720" cy="4730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19120" y="312444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00120" y="31276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538960" y="2432160"/>
            <a:ext cx="490320" cy="1098360"/>
            <a:chOff x="5538960" y="2432160"/>
            <a:chExt cx="490320" cy="1098360"/>
          </a:xfrm>
        </p:grpSpPr>
        <p:sp>
          <p:nvSpPr>
            <p:cNvPr id="250" name=""/>
            <p:cNvSpPr/>
            <p:nvPr/>
          </p:nvSpPr>
          <p:spPr>
            <a:xfrm>
              <a:off x="5757840" y="2432160"/>
              <a:ext cx="49320" cy="1098360"/>
            </a:xfrm>
            <a:prstGeom prst="rect">
              <a:avLst/>
            </a:prstGeom>
            <a:solidFill>
              <a:srgbClr val="ad6900"/>
            </a:solidFill>
            <a:ln w="12600">
              <a:solidFill>
                <a:srgbClr val="714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24640" y="2517840"/>
              <a:ext cx="150840" cy="96840"/>
            </a:xfrm>
            <a:prstGeom prst="line">
              <a:avLst/>
            </a:prstGeom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802120" y="2517840"/>
              <a:ext cx="145800" cy="92160"/>
            </a:xfrm>
            <a:prstGeom prst="line">
              <a:avLst/>
            </a:prstGeom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959440" y="2460600"/>
              <a:ext cx="42840" cy="33480"/>
              <a:chOff x="5959440" y="2460600"/>
              <a:chExt cx="42840" cy="33480"/>
            </a:xfrm>
          </p:grpSpPr>
          <p:sp>
            <p:nvSpPr>
              <p:cNvPr id="254" name=""/>
              <p:cNvSpPr/>
              <p:nvPr/>
            </p:nvSpPr>
            <p:spPr>
              <a:xfrm>
                <a:off x="5967360" y="2465280"/>
                <a:ext cx="34920" cy="288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5" y="0"/>
                    </a:moveTo>
                    <a:lnTo>
                      <a:pt x="0" y="17"/>
                    </a:lnTo>
                    <a:lnTo>
                      <a:pt x="21" y="17"/>
                    </a:lnTo>
                    <a:lnTo>
                      <a:pt x="14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959440" y="24606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5" y="0"/>
                    </a:moveTo>
                    <a:lnTo>
                      <a:pt x="0" y="12"/>
                    </a:lnTo>
                    <a:lnTo>
                      <a:pt x="17" y="12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8"/>
                    </a:lnTo>
                    <a:lnTo>
                      <a:pt x="6" y="8"/>
                    </a:lnTo>
                    <a:lnTo>
                      <a:pt x="8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878440" y="2460600"/>
              <a:ext cx="41400" cy="33480"/>
              <a:chOff x="5878440" y="2460600"/>
              <a:chExt cx="41400" cy="33480"/>
            </a:xfrm>
          </p:grpSpPr>
          <p:sp>
            <p:nvSpPr>
              <p:cNvPr id="257" name=""/>
              <p:cNvSpPr/>
              <p:nvPr/>
            </p:nvSpPr>
            <p:spPr>
              <a:xfrm>
                <a:off x="5886360" y="246528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5" y="0"/>
                    </a:moveTo>
                    <a:lnTo>
                      <a:pt x="0" y="17"/>
                    </a:lnTo>
                    <a:lnTo>
                      <a:pt x="20" y="17"/>
                    </a:lnTo>
                    <a:lnTo>
                      <a:pt x="1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78440" y="246060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5" y="0"/>
                    </a:moveTo>
                    <a:lnTo>
                      <a:pt x="0" y="12"/>
                    </a:lnTo>
                    <a:lnTo>
                      <a:pt x="17" y="12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8"/>
                    </a:lnTo>
                    <a:lnTo>
                      <a:pt x="6" y="8"/>
                    </a:lnTo>
                    <a:lnTo>
                      <a:pt x="8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5640480" y="2462040"/>
              <a:ext cx="41040" cy="34920"/>
              <a:chOff x="5640480" y="2462040"/>
              <a:chExt cx="41040" cy="34920"/>
            </a:xfrm>
          </p:grpSpPr>
          <p:sp>
            <p:nvSpPr>
              <p:cNvPr id="260" name=""/>
              <p:cNvSpPr/>
              <p:nvPr/>
            </p:nvSpPr>
            <p:spPr>
              <a:xfrm>
                <a:off x="5648400" y="246852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5" y="0"/>
                    </a:moveTo>
                    <a:lnTo>
                      <a:pt x="0" y="17"/>
                    </a:lnTo>
                    <a:lnTo>
                      <a:pt x="20" y="17"/>
                    </a:lnTo>
                    <a:lnTo>
                      <a:pt x="1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640480" y="246204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5" y="0"/>
                    </a:moveTo>
                    <a:lnTo>
                      <a:pt x="0" y="13"/>
                    </a:lnTo>
                    <a:lnTo>
                      <a:pt x="17" y="13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9"/>
                    </a:lnTo>
                    <a:lnTo>
                      <a:pt x="6" y="9"/>
                    </a:lnTo>
                    <a:lnTo>
                      <a:pt x="8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565600" y="2462040"/>
              <a:ext cx="41400" cy="34920"/>
              <a:chOff x="5565600" y="2462040"/>
              <a:chExt cx="41400" cy="34920"/>
            </a:xfrm>
          </p:grpSpPr>
          <p:sp>
            <p:nvSpPr>
              <p:cNvPr id="263" name=""/>
              <p:cNvSpPr/>
              <p:nvPr/>
            </p:nvSpPr>
            <p:spPr>
              <a:xfrm>
                <a:off x="5575320" y="24685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5" y="0"/>
                    </a:moveTo>
                    <a:lnTo>
                      <a:pt x="0" y="17"/>
                    </a:lnTo>
                    <a:lnTo>
                      <a:pt x="19" y="17"/>
                    </a:lnTo>
                    <a:lnTo>
                      <a:pt x="16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65600" y="246204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5" y="0"/>
                    </a:moveTo>
                    <a:lnTo>
                      <a:pt x="0" y="13"/>
                    </a:lnTo>
                    <a:lnTo>
                      <a:pt x="18" y="13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2" y="9"/>
                    </a:lnTo>
                    <a:lnTo>
                      <a:pt x="6" y="9"/>
                    </a:lnTo>
                    <a:lnTo>
                      <a:pt x="8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5538960" y="2498760"/>
              <a:ext cx="490320" cy="15840"/>
            </a:xfrm>
            <a:prstGeom prst="rect">
              <a:avLst/>
            </a:prstGeom>
            <a:solidFill>
              <a:srgbClr val="ad6900"/>
            </a:solidFill>
            <a:ln w="1260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5754600" y="2535120"/>
              <a:ext cx="55800" cy="5040"/>
            </a:xfrm>
            <a:prstGeom prst="rect">
              <a:avLst/>
            </a:prstGeom>
            <a:solidFill>
              <a:srgbClr val="71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54600" y="2492280"/>
              <a:ext cx="79560" cy="0"/>
            </a:xfrm>
            <a:prstGeom prst="line">
              <a:avLst/>
            </a:prstGeom>
            <a:ln w="12600">
              <a:solidFill>
                <a:srgbClr val="714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29480" y="2583000"/>
              <a:ext cx="0" cy="46080"/>
            </a:xfrm>
            <a:prstGeom prst="line">
              <a:avLst/>
            </a:prstGeom>
            <a:ln w="12600">
              <a:solidFill>
                <a:srgbClr val="714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286000" y="3554280"/>
            <a:ext cx="179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257720" y="34290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57720" y="35434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8100000">
            <a:off x="5769360" y="1523880"/>
            <a:ext cx="1082160" cy="119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8" y="0"/>
                </a:moveTo>
                <a:arcTo wR="10800" hR="10800" stAng="-5410066" swAng="5410066"/>
                <a:lnTo>
                  <a:pt x="10800" y="10800"/>
                </a:lnTo>
                <a:close/>
              </a:path>
              <a:path fill="none" w="21600" h="21600">
                <a:moveTo>
                  <a:pt x="10768" y="0"/>
                </a:moveTo>
                <a:arcTo wR="10800" hR="10800" stAng="-5410066" swAng="541006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64160" y="2019240"/>
            <a:ext cx="45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30120" y="1752480"/>
            <a:ext cx="1037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4267080"/>
            <a:ext cx="1263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FTT</a:t>
            </a: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Cabi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44960" y="4336920"/>
            <a:ext cx="160200" cy="165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222800" y="4400640"/>
            <a:ext cx="314280" cy="55440"/>
            <a:chOff x="4222800" y="4400640"/>
            <a:chExt cx="314280" cy="55440"/>
          </a:xfrm>
        </p:grpSpPr>
        <p:sp>
          <p:nvSpPr>
            <p:cNvPr id="278" name=""/>
            <p:cNvSpPr/>
            <p:nvPr/>
          </p:nvSpPr>
          <p:spPr>
            <a:xfrm>
              <a:off x="4222800" y="4400640"/>
              <a:ext cx="507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80040" y="442764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543560" y="4400640"/>
            <a:ext cx="315720" cy="55440"/>
            <a:chOff x="4543560" y="4400640"/>
            <a:chExt cx="315720" cy="55440"/>
          </a:xfrm>
        </p:grpSpPr>
        <p:sp>
          <p:nvSpPr>
            <p:cNvPr id="281" name=""/>
            <p:cNvSpPr/>
            <p:nvPr/>
          </p:nvSpPr>
          <p:spPr>
            <a:xfrm>
              <a:off x="4543560" y="4400640"/>
              <a:ext cx="5220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02240" y="442764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865760" y="4400640"/>
            <a:ext cx="314280" cy="55440"/>
            <a:chOff x="4865760" y="4400640"/>
            <a:chExt cx="314280" cy="55440"/>
          </a:xfrm>
        </p:grpSpPr>
        <p:sp>
          <p:nvSpPr>
            <p:cNvPr id="284" name=""/>
            <p:cNvSpPr/>
            <p:nvPr/>
          </p:nvSpPr>
          <p:spPr>
            <a:xfrm>
              <a:off x="4865760" y="4400640"/>
              <a:ext cx="507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3000" y="442764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186520" y="4400640"/>
            <a:ext cx="315720" cy="55440"/>
            <a:chOff x="5186520" y="4400640"/>
            <a:chExt cx="315720" cy="55440"/>
          </a:xfrm>
        </p:grpSpPr>
        <p:sp>
          <p:nvSpPr>
            <p:cNvPr id="287" name=""/>
            <p:cNvSpPr/>
            <p:nvPr/>
          </p:nvSpPr>
          <p:spPr>
            <a:xfrm>
              <a:off x="5186520" y="4400640"/>
              <a:ext cx="5220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45200" y="442764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508720" y="4400640"/>
            <a:ext cx="312480" cy="55440"/>
            <a:chOff x="5508720" y="4400640"/>
            <a:chExt cx="312480" cy="55440"/>
          </a:xfrm>
        </p:grpSpPr>
        <p:sp>
          <p:nvSpPr>
            <p:cNvPr id="290" name=""/>
            <p:cNvSpPr/>
            <p:nvPr/>
          </p:nvSpPr>
          <p:spPr>
            <a:xfrm>
              <a:off x="5508720" y="4400640"/>
              <a:ext cx="507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65600" y="44276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827680" y="4400640"/>
            <a:ext cx="316080" cy="55440"/>
            <a:chOff x="5827680" y="4400640"/>
            <a:chExt cx="316080" cy="55440"/>
          </a:xfrm>
        </p:grpSpPr>
        <p:sp>
          <p:nvSpPr>
            <p:cNvPr id="293" name=""/>
            <p:cNvSpPr/>
            <p:nvPr/>
          </p:nvSpPr>
          <p:spPr>
            <a:xfrm>
              <a:off x="5827680" y="4400640"/>
              <a:ext cx="52560" cy="55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86360" y="442764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149880" y="4400640"/>
            <a:ext cx="50760" cy="55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70640" y="4400640"/>
            <a:ext cx="52560" cy="55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207120" y="442764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51440" y="4781520"/>
            <a:ext cx="52560" cy="55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10120" y="480852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73640" y="4781520"/>
            <a:ext cx="51120" cy="55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92960" y="4781520"/>
            <a:ext cx="52200" cy="55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230880" y="480852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83320" y="4718160"/>
            <a:ext cx="160200" cy="1648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9320" y="4648320"/>
            <a:ext cx="102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FTT</a:t>
            </a: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Ke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48440" y="5086440"/>
            <a:ext cx="160560" cy="1648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9320" y="5029200"/>
            <a:ext cx="109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FTTH</a:t>
            </a: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6528960" y="4397400"/>
            <a:ext cx="635400" cy="55440"/>
            <a:chOff x="6528960" y="4397400"/>
            <a:chExt cx="635400" cy="55440"/>
          </a:xfrm>
        </p:grpSpPr>
        <p:grpSp>
          <p:nvGrpSpPr>
            <p:cNvPr id="308" name=""/>
            <p:cNvGrpSpPr/>
            <p:nvPr/>
          </p:nvGrpSpPr>
          <p:grpSpPr>
            <a:xfrm>
              <a:off x="6850080" y="4397400"/>
              <a:ext cx="314280" cy="55440"/>
              <a:chOff x="6850080" y="4397400"/>
              <a:chExt cx="314280" cy="55440"/>
            </a:xfrm>
          </p:grpSpPr>
          <p:sp>
            <p:nvSpPr>
              <p:cNvPr id="309" name=""/>
              <p:cNvSpPr/>
              <p:nvPr/>
            </p:nvSpPr>
            <p:spPr>
              <a:xfrm>
                <a:off x="7113600" y="4397400"/>
                <a:ext cx="507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6850080" y="4425840"/>
                <a:ext cx="25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6528960" y="4397400"/>
              <a:ext cx="314640" cy="55440"/>
              <a:chOff x="6528960" y="4397400"/>
              <a:chExt cx="314640" cy="55440"/>
            </a:xfrm>
          </p:grpSpPr>
          <p:sp>
            <p:nvSpPr>
              <p:cNvPr id="312" name=""/>
              <p:cNvSpPr/>
              <p:nvPr/>
            </p:nvSpPr>
            <p:spPr>
              <a:xfrm>
                <a:off x="6792840" y="4397400"/>
                <a:ext cx="50760" cy="554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6528960" y="4425840"/>
                <a:ext cx="25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6528960" y="4778280"/>
            <a:ext cx="635400" cy="55800"/>
            <a:chOff x="6528960" y="4778280"/>
            <a:chExt cx="635400" cy="55800"/>
          </a:xfrm>
        </p:grpSpPr>
        <p:grpSp>
          <p:nvGrpSpPr>
            <p:cNvPr id="315" name=""/>
            <p:cNvGrpSpPr/>
            <p:nvPr/>
          </p:nvGrpSpPr>
          <p:grpSpPr>
            <a:xfrm>
              <a:off x="6850080" y="4778280"/>
              <a:ext cx="314280" cy="55800"/>
              <a:chOff x="6850080" y="4778280"/>
              <a:chExt cx="314280" cy="55800"/>
            </a:xfrm>
          </p:grpSpPr>
          <p:sp>
            <p:nvSpPr>
              <p:cNvPr id="316" name=""/>
              <p:cNvSpPr/>
              <p:nvPr/>
            </p:nvSpPr>
            <p:spPr>
              <a:xfrm>
                <a:off x="7113600" y="4778280"/>
                <a:ext cx="50760" cy="55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6850080" y="4807080"/>
                <a:ext cx="25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528960" y="4778280"/>
              <a:ext cx="314640" cy="55800"/>
              <a:chOff x="6528960" y="4778280"/>
              <a:chExt cx="314640" cy="55800"/>
            </a:xfrm>
          </p:grpSpPr>
          <p:sp>
            <p:nvSpPr>
              <p:cNvPr id="319" name=""/>
              <p:cNvSpPr/>
              <p:nvPr/>
            </p:nvSpPr>
            <p:spPr>
              <a:xfrm>
                <a:off x="6792840" y="4778280"/>
                <a:ext cx="50760" cy="55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6528960" y="4807080"/>
                <a:ext cx="25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1" name=""/>
          <p:cNvSpPr/>
          <p:nvPr/>
        </p:nvSpPr>
        <p:spPr>
          <a:xfrm>
            <a:off x="2133720" y="4038480"/>
            <a:ext cx="76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Fi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10080" y="4038480"/>
            <a:ext cx="835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o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828440" y="5181480"/>
            <a:ext cx="5257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1817280" y="5877000"/>
            <a:ext cx="5791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28440" y="4800600"/>
            <a:ext cx="3886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854360" y="4419720"/>
            <a:ext cx="22096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57560" y="3408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200400" y="4190760"/>
            <a:ext cx="38088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581280" y="4571640"/>
            <a:ext cx="38124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971800" y="4952520"/>
            <a:ext cx="38088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429000" y="5638320"/>
            <a:ext cx="38088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5867280"/>
            <a:ext cx="38088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4419720"/>
            <a:ext cx="38088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800600"/>
            <a:ext cx="38124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71800" y="5181480"/>
            <a:ext cx="38088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60958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Optical Spli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G.983.1 + Amendment 1 -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High speed optical access systems based on Passive Optical Network (PON) techniques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TM-PON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55.520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/1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55.520 Mbit/s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622.080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/1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55.520 Mbit/s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622.080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622.080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 Mbit/s downstream/upstream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Single or two fibre working 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Maximum range of at least 20 Km</a:t>
            </a:r>
            <a:endParaRPr b="0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0T19:49:48Z</dcterms:created>
  <dc:creator>Nortel</dc:creator>
  <dc:description/>
  <dc:language>en-US</dc:language>
  <cp:lastModifiedBy>Andrew Nunn</cp:lastModifiedBy>
  <cp:lastPrinted>2001-05-09T19:50:47Z</cp:lastPrinted>
  <dcterms:modified xsi:type="dcterms:W3CDTF">2002-03-17T14:37:23Z</dcterms:modified>
  <cp:revision>306</cp:revision>
  <dc:subject/>
  <dc:title>No Slide Title</dc:title>
</cp:coreProperties>
</file>