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110D4-1373-4A0F-BEFF-932535EC4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55600" y="68112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1080" rIns="91080" anchor="t">
            <a:noAutofit/>
          </a:bodyPr>
          <a:p>
            <a:pPr>
              <a:lnSpc>
                <a:spcPct val="100000"/>
              </a:lnSpc>
              <a:spcBef>
                <a:spcPts val="524"/>
              </a:spcBef>
              <a:buClr>
                <a:srgbClr val="0066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6666"/>
                </a:solidFill>
                <a:latin typeface="Tahoma"/>
              </a:rPr>
              <a:t>Home networking industry progressing rapid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rket predi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524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I need some numbers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N equipment is flying off of the shel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524"/>
              </a:spcBef>
              <a:buClr>
                <a:srgbClr val="cc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Times New Roman"/>
              </a:rPr>
              <a:t>I need some numbers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s being offered (earthlink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Clr>
                <a:srgbClr val="0066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6666"/>
                </a:solidFill>
                <a:latin typeface="Tahoma"/>
              </a:rPr>
              <a:t>Home networks could emerge as a primary strategic market for cable opera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Quote Glenn Edens (is this OK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Clr>
                <a:srgbClr val="0066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6666"/>
                </a:solidFill>
                <a:latin typeface="Tahoma"/>
              </a:rPr>
              <a:t>Cable operator service delivery requirements must be satisfi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etitive efforts are under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A VHN, ETSI DV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 sure capabilities needed to provide cable services are in pl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37"/>
              </a:spcBef>
              <a:spcAft>
                <a:spcPts val="3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9BB8-5077-469C-B884-6EA31E94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9B8A-162F-4742-BC36-BC045B96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AB0F-2708-4CCA-A636-9A402FCF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C239-1135-4D60-B6CA-1544D6927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62BD-B6B6-44CB-A5C3-85D792317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5467-0E17-4ABE-9D64-A30AFA273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D72B-19A5-4014-B324-0B8D356F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555-0828-4D7D-86D4-36632189C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5BC5-6EDC-4275-97E0-192A31C9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1465-0A9C-4433-9D58-037A2533C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B28C-5AD2-488E-9DD7-DD6B198B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EE10-1B16-4AC0-BE8C-6CF1655E5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F989-CC8C-4B36-A778-83128D653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60" y="456840"/>
            <a:ext cx="8991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TU-T Workshop on Multimedia Convergenc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roadband Delivery and In-home Distribution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eneva, Switzerland 12 – 15 March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8960" y="4495320"/>
            <a:ext cx="65674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oug J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ief Architect, YAS Broad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ultant to CableLabs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oug@yas.com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, +1 303.661.38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9040" y="122040"/>
            <a:ext cx="856908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rebuchet MS"/>
              </a:rPr>
              <a:t>Home Networking Architecture</a:t>
            </a:r>
            <a:br>
              <a:rPr sz="4400"/>
            </a:b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(Exa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3657600"/>
            <a:ext cx="3504960" cy="152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A = Access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B = Home 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 = Client end-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N = Non-compliant end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2743200"/>
            <a:ext cx="1295640" cy="0"/>
          </a:xfrm>
          <a:prstGeom prst="line">
            <a:avLst/>
          </a:prstGeom>
          <a:ln w="39600">
            <a:solidFill>
              <a:srgbClr val="3772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520" y="2286000"/>
            <a:ext cx="1261800" cy="8780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183760" y="2514600"/>
            <a:ext cx="281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rebuchet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4525920" y="2276280"/>
            <a:ext cx="425520" cy="268200"/>
          </a:xfrm>
          <a:prstGeom prst="line">
            <a:avLst/>
          </a:prstGeom>
          <a:ln w="39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5751360" y="2225520"/>
            <a:ext cx="711360" cy="9720"/>
          </a:xfrm>
          <a:prstGeom prst="line">
            <a:avLst/>
          </a:prstGeom>
          <a:ln w="39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462800" y="2271600"/>
            <a:ext cx="287280" cy="1800"/>
          </a:xfrm>
          <a:prstGeom prst="line">
            <a:avLst/>
          </a:prstGeom>
          <a:ln w="39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999560" y="2470320"/>
            <a:ext cx="1440" cy="366480"/>
          </a:xfrm>
          <a:prstGeom prst="line">
            <a:avLst/>
          </a:prstGeom>
          <a:ln w="39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7475400" y="3355560"/>
            <a:ext cx="338400" cy="297000"/>
          </a:xfrm>
          <a:prstGeom prst="line">
            <a:avLst/>
          </a:prstGeom>
          <a:ln w="39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939000" y="4130640"/>
            <a:ext cx="754200" cy="77760"/>
          </a:xfrm>
          <a:custGeom>
            <a:avLst/>
            <a:gdLst/>
            <a:ahLst/>
            <a:rect l="l" t="t" r="r" b="b"/>
            <a:pathLst>
              <a:path w="1207" h="99">
                <a:moveTo>
                  <a:pt x="1065" y="0"/>
                </a:moveTo>
                <a:lnTo>
                  <a:pt x="0" y="0"/>
                </a:lnTo>
                <a:lnTo>
                  <a:pt x="141" y="99"/>
                </a:lnTo>
                <a:lnTo>
                  <a:pt x="1207" y="99"/>
                </a:lnTo>
                <a:lnTo>
                  <a:pt x="1065" y="0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04280" y="3651120"/>
            <a:ext cx="88920" cy="557280"/>
          </a:xfrm>
          <a:custGeom>
            <a:avLst/>
            <a:gdLst/>
            <a:ahLst/>
            <a:rect l="l" t="t" r="r" b="b"/>
            <a:pathLst>
              <a:path w="142" h="703">
                <a:moveTo>
                  <a:pt x="142" y="703"/>
                </a:moveTo>
                <a:lnTo>
                  <a:pt x="0" y="604"/>
                </a:lnTo>
                <a:lnTo>
                  <a:pt x="0" y="0"/>
                </a:lnTo>
                <a:lnTo>
                  <a:pt x="142" y="98"/>
                </a:lnTo>
                <a:lnTo>
                  <a:pt x="142" y="703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9000" y="3651120"/>
            <a:ext cx="666720" cy="481320"/>
          </a:xfrm>
          <a:prstGeom prst="rect">
            <a:avLst/>
          </a:prstGeom>
          <a:solidFill>
            <a:srgbClr val="ccb5b5"/>
          </a:solidFill>
          <a:ln w="3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131600" y="3657600"/>
            <a:ext cx="34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186760" y="4287960"/>
            <a:ext cx="957240" cy="77760"/>
          </a:xfrm>
          <a:custGeom>
            <a:avLst/>
            <a:gdLst/>
            <a:ahLst/>
            <a:rect l="l" t="t" r="r" b="b"/>
            <a:pathLst>
              <a:path w="1207" h="99">
                <a:moveTo>
                  <a:pt x="1066" y="0"/>
                </a:moveTo>
                <a:lnTo>
                  <a:pt x="0" y="0"/>
                </a:lnTo>
                <a:lnTo>
                  <a:pt x="142" y="99"/>
                </a:lnTo>
                <a:lnTo>
                  <a:pt x="1207" y="99"/>
                </a:lnTo>
                <a:lnTo>
                  <a:pt x="1066" y="0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31320" y="3808440"/>
            <a:ext cx="112680" cy="557280"/>
          </a:xfrm>
          <a:custGeom>
            <a:avLst/>
            <a:gdLst/>
            <a:ahLst/>
            <a:rect l="l" t="t" r="r" b="b"/>
            <a:pathLst>
              <a:path w="141" h="703">
                <a:moveTo>
                  <a:pt x="141" y="703"/>
                </a:moveTo>
                <a:lnTo>
                  <a:pt x="0" y="604"/>
                </a:lnTo>
                <a:lnTo>
                  <a:pt x="0" y="0"/>
                </a:lnTo>
                <a:lnTo>
                  <a:pt x="141" y="98"/>
                </a:lnTo>
                <a:lnTo>
                  <a:pt x="141" y="703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86760" y="3808440"/>
            <a:ext cx="846000" cy="480960"/>
          </a:xfrm>
          <a:prstGeom prst="rect">
            <a:avLst/>
          </a:prstGeom>
          <a:solidFill>
            <a:srgbClr val="ccb5b5"/>
          </a:solidFill>
          <a:ln w="3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426880" y="3763800"/>
            <a:ext cx="34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8307000" y="3512880"/>
            <a:ext cx="290520" cy="307800"/>
          </a:xfrm>
          <a:prstGeom prst="line">
            <a:avLst/>
          </a:prstGeom>
          <a:ln w="39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01960" y="2673360"/>
            <a:ext cx="638280" cy="7920"/>
          </a:xfrm>
          <a:prstGeom prst="line">
            <a:avLst/>
          </a:prstGeom>
          <a:ln w="39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4921200" y="1913040"/>
            <a:ext cx="843120" cy="645480"/>
            <a:chOff x="4921200" y="1913040"/>
            <a:chExt cx="843120" cy="645480"/>
          </a:xfrm>
        </p:grpSpPr>
        <p:sp>
          <p:nvSpPr>
            <p:cNvPr id="92" name=""/>
            <p:cNvSpPr/>
            <p:nvPr/>
          </p:nvSpPr>
          <p:spPr>
            <a:xfrm>
              <a:off x="4921200" y="2492280"/>
              <a:ext cx="843120" cy="6624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30920" y="1913040"/>
              <a:ext cx="753840" cy="57456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155920" y="1927080"/>
              <a:ext cx="273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675400" y="1915920"/>
              <a:ext cx="88920" cy="64260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 flipH="1" flipV="1">
            <a:off x="4506480" y="2844720"/>
            <a:ext cx="731880" cy="339840"/>
          </a:xfrm>
          <a:prstGeom prst="line">
            <a:avLst/>
          </a:prstGeom>
          <a:ln w="39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 flipV="1">
            <a:off x="5925600" y="3540240"/>
            <a:ext cx="282600" cy="650880"/>
          </a:xfrm>
          <a:prstGeom prst="line">
            <a:avLst/>
          </a:prstGeom>
          <a:ln w="39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91240" y="4667400"/>
            <a:ext cx="927000" cy="77760"/>
          </a:xfrm>
          <a:custGeom>
            <a:avLst/>
            <a:gdLst/>
            <a:ahLst/>
            <a:rect l="l" t="t" r="r" b="b"/>
            <a:pathLst>
              <a:path w="1205" h="99">
                <a:moveTo>
                  <a:pt x="1064" y="0"/>
                </a:moveTo>
                <a:lnTo>
                  <a:pt x="0" y="0"/>
                </a:lnTo>
                <a:lnTo>
                  <a:pt x="142" y="99"/>
                </a:lnTo>
                <a:lnTo>
                  <a:pt x="1205" y="99"/>
                </a:lnTo>
                <a:lnTo>
                  <a:pt x="1064" y="0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08800" y="4187880"/>
            <a:ext cx="109440" cy="557280"/>
          </a:xfrm>
          <a:custGeom>
            <a:avLst/>
            <a:gdLst/>
            <a:ahLst/>
            <a:rect l="l" t="t" r="r" b="b"/>
            <a:pathLst>
              <a:path w="141" h="703">
                <a:moveTo>
                  <a:pt x="141" y="703"/>
                </a:moveTo>
                <a:lnTo>
                  <a:pt x="0" y="604"/>
                </a:lnTo>
                <a:lnTo>
                  <a:pt x="0" y="0"/>
                </a:lnTo>
                <a:lnTo>
                  <a:pt x="141" y="99"/>
                </a:lnTo>
                <a:lnTo>
                  <a:pt x="141" y="703"/>
                </a:lnTo>
                <a:close/>
              </a:path>
            </a:pathLst>
          </a:custGeom>
          <a:solidFill>
            <a:srgbClr val="c0c0c0"/>
          </a:solidFill>
          <a:ln w="324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8000" y="4187880"/>
            <a:ext cx="819000" cy="480960"/>
          </a:xfrm>
          <a:prstGeom prst="rect">
            <a:avLst/>
          </a:prstGeom>
          <a:solidFill>
            <a:srgbClr val="ccb5b5"/>
          </a:solidFill>
          <a:ln w="3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788080" y="4213080"/>
            <a:ext cx="68904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Trebuchet MS"/>
              </a:rPr>
              <a:t>N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715160" y="1887480"/>
            <a:ext cx="843120" cy="646200"/>
            <a:chOff x="7715160" y="1887480"/>
            <a:chExt cx="843120" cy="646200"/>
          </a:xfrm>
        </p:grpSpPr>
        <p:sp>
          <p:nvSpPr>
            <p:cNvPr id="103" name=""/>
            <p:cNvSpPr/>
            <p:nvPr/>
          </p:nvSpPr>
          <p:spPr>
            <a:xfrm>
              <a:off x="7715160" y="2467080"/>
              <a:ext cx="843120" cy="6660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724880" y="1887480"/>
              <a:ext cx="753840" cy="57492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948440" y="1901880"/>
              <a:ext cx="27360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69360" y="1890720"/>
              <a:ext cx="88920" cy="64296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5200560" y="2903400"/>
            <a:ext cx="843120" cy="646200"/>
            <a:chOff x="5200560" y="2903400"/>
            <a:chExt cx="843120" cy="646200"/>
          </a:xfrm>
        </p:grpSpPr>
        <p:sp>
          <p:nvSpPr>
            <p:cNvPr id="108" name=""/>
            <p:cNvSpPr/>
            <p:nvPr/>
          </p:nvSpPr>
          <p:spPr>
            <a:xfrm>
              <a:off x="5200560" y="3483000"/>
              <a:ext cx="843120" cy="6660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0280" y="2903400"/>
              <a:ext cx="753840" cy="57492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441400" y="2917800"/>
              <a:ext cx="259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954760" y="2906640"/>
              <a:ext cx="88920" cy="64296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338640" y="2286000"/>
            <a:ext cx="1400040" cy="819000"/>
            <a:chOff x="3338640" y="2286000"/>
            <a:chExt cx="1400040" cy="819000"/>
          </a:xfrm>
        </p:grpSpPr>
        <p:sp>
          <p:nvSpPr>
            <p:cNvPr id="113" name=""/>
            <p:cNvSpPr/>
            <p:nvPr/>
          </p:nvSpPr>
          <p:spPr>
            <a:xfrm>
              <a:off x="3338640" y="2286000"/>
              <a:ext cx="1400040" cy="819000"/>
            </a:xfrm>
            <a:custGeom>
              <a:avLst/>
              <a:gdLst/>
              <a:ahLst/>
              <a:rect l="l" t="t" r="r" b="b"/>
              <a:pathLst>
                <a:path w="1285" h="1127">
                  <a:moveTo>
                    <a:pt x="190" y="836"/>
                  </a:moveTo>
                  <a:lnTo>
                    <a:pt x="207" y="888"/>
                  </a:lnTo>
                  <a:lnTo>
                    <a:pt x="227" y="936"/>
                  </a:lnTo>
                  <a:lnTo>
                    <a:pt x="250" y="980"/>
                  </a:lnTo>
                  <a:lnTo>
                    <a:pt x="277" y="1018"/>
                  </a:lnTo>
                  <a:lnTo>
                    <a:pt x="303" y="1052"/>
                  </a:lnTo>
                  <a:lnTo>
                    <a:pt x="333" y="1080"/>
                  </a:lnTo>
                  <a:lnTo>
                    <a:pt x="364" y="1102"/>
                  </a:lnTo>
                  <a:lnTo>
                    <a:pt x="396" y="1117"/>
                  </a:lnTo>
                  <a:lnTo>
                    <a:pt x="428" y="1125"/>
                  </a:lnTo>
                  <a:lnTo>
                    <a:pt x="460" y="1127"/>
                  </a:lnTo>
                  <a:lnTo>
                    <a:pt x="494" y="1122"/>
                  </a:lnTo>
                  <a:lnTo>
                    <a:pt x="526" y="1112"/>
                  </a:lnTo>
                  <a:lnTo>
                    <a:pt x="557" y="1093"/>
                  </a:lnTo>
                  <a:lnTo>
                    <a:pt x="587" y="1070"/>
                  </a:lnTo>
                  <a:lnTo>
                    <a:pt x="615" y="1040"/>
                  </a:lnTo>
                  <a:lnTo>
                    <a:pt x="644" y="1003"/>
                  </a:lnTo>
                  <a:lnTo>
                    <a:pt x="670" y="1040"/>
                  </a:lnTo>
                  <a:lnTo>
                    <a:pt x="698" y="1070"/>
                  </a:lnTo>
                  <a:lnTo>
                    <a:pt x="729" y="1093"/>
                  </a:lnTo>
                  <a:lnTo>
                    <a:pt x="759" y="1112"/>
                  </a:lnTo>
                  <a:lnTo>
                    <a:pt x="791" y="1122"/>
                  </a:lnTo>
                  <a:lnTo>
                    <a:pt x="825" y="1127"/>
                  </a:lnTo>
                  <a:lnTo>
                    <a:pt x="857" y="1125"/>
                  </a:lnTo>
                  <a:lnTo>
                    <a:pt x="890" y="1117"/>
                  </a:lnTo>
                  <a:lnTo>
                    <a:pt x="922" y="1102"/>
                  </a:lnTo>
                  <a:lnTo>
                    <a:pt x="952" y="1080"/>
                  </a:lnTo>
                  <a:lnTo>
                    <a:pt x="982" y="1052"/>
                  </a:lnTo>
                  <a:lnTo>
                    <a:pt x="1009" y="1018"/>
                  </a:lnTo>
                  <a:lnTo>
                    <a:pt x="1035" y="980"/>
                  </a:lnTo>
                  <a:lnTo>
                    <a:pt x="1058" y="936"/>
                  </a:lnTo>
                  <a:lnTo>
                    <a:pt x="1079" y="888"/>
                  </a:lnTo>
                  <a:lnTo>
                    <a:pt x="1096" y="836"/>
                  </a:lnTo>
                  <a:lnTo>
                    <a:pt x="1118" y="845"/>
                  </a:lnTo>
                  <a:lnTo>
                    <a:pt x="1141" y="845"/>
                  </a:lnTo>
                  <a:lnTo>
                    <a:pt x="1164" y="839"/>
                  </a:lnTo>
                  <a:lnTo>
                    <a:pt x="1187" y="828"/>
                  </a:lnTo>
                  <a:lnTo>
                    <a:pt x="1207" y="809"/>
                  </a:lnTo>
                  <a:lnTo>
                    <a:pt x="1226" y="786"/>
                  </a:lnTo>
                  <a:lnTo>
                    <a:pt x="1243" y="758"/>
                  </a:lnTo>
                  <a:lnTo>
                    <a:pt x="1258" y="724"/>
                  </a:lnTo>
                  <a:lnTo>
                    <a:pt x="1270" y="688"/>
                  </a:lnTo>
                  <a:lnTo>
                    <a:pt x="1277" y="648"/>
                  </a:lnTo>
                  <a:lnTo>
                    <a:pt x="1283" y="606"/>
                  </a:lnTo>
                  <a:lnTo>
                    <a:pt x="1285" y="564"/>
                  </a:lnTo>
                  <a:lnTo>
                    <a:pt x="1283" y="521"/>
                  </a:lnTo>
                  <a:lnTo>
                    <a:pt x="1277" y="479"/>
                  </a:lnTo>
                  <a:lnTo>
                    <a:pt x="1270" y="439"/>
                  </a:lnTo>
                  <a:lnTo>
                    <a:pt x="1258" y="402"/>
                  </a:lnTo>
                  <a:lnTo>
                    <a:pt x="1243" y="370"/>
                  </a:lnTo>
                  <a:lnTo>
                    <a:pt x="1226" y="340"/>
                  </a:lnTo>
                  <a:lnTo>
                    <a:pt x="1207" y="317"/>
                  </a:lnTo>
                  <a:lnTo>
                    <a:pt x="1187" y="300"/>
                  </a:lnTo>
                  <a:lnTo>
                    <a:pt x="1164" y="287"/>
                  </a:lnTo>
                  <a:lnTo>
                    <a:pt x="1141" y="282"/>
                  </a:lnTo>
                  <a:lnTo>
                    <a:pt x="1118" y="284"/>
                  </a:lnTo>
                  <a:lnTo>
                    <a:pt x="1096" y="290"/>
                  </a:lnTo>
                  <a:lnTo>
                    <a:pt x="1079" y="238"/>
                  </a:lnTo>
                  <a:lnTo>
                    <a:pt x="1058" y="190"/>
                  </a:lnTo>
                  <a:lnTo>
                    <a:pt x="1035" y="147"/>
                  </a:lnTo>
                  <a:lnTo>
                    <a:pt x="1009" y="108"/>
                  </a:lnTo>
                  <a:lnTo>
                    <a:pt x="982" y="75"/>
                  </a:lnTo>
                  <a:lnTo>
                    <a:pt x="952" y="48"/>
                  </a:lnTo>
                  <a:lnTo>
                    <a:pt x="922" y="26"/>
                  </a:lnTo>
                  <a:lnTo>
                    <a:pt x="890" y="11"/>
                  </a:lnTo>
                  <a:lnTo>
                    <a:pt x="857" y="1"/>
                  </a:lnTo>
                  <a:lnTo>
                    <a:pt x="825" y="0"/>
                  </a:lnTo>
                  <a:lnTo>
                    <a:pt x="791" y="5"/>
                  </a:lnTo>
                  <a:lnTo>
                    <a:pt x="759" y="16"/>
                  </a:lnTo>
                  <a:lnTo>
                    <a:pt x="729" y="35"/>
                  </a:lnTo>
                  <a:lnTo>
                    <a:pt x="698" y="58"/>
                  </a:lnTo>
                  <a:lnTo>
                    <a:pt x="670" y="88"/>
                  </a:lnTo>
                  <a:lnTo>
                    <a:pt x="644" y="123"/>
                  </a:lnTo>
                  <a:lnTo>
                    <a:pt x="615" y="88"/>
                  </a:lnTo>
                  <a:lnTo>
                    <a:pt x="587" y="58"/>
                  </a:lnTo>
                  <a:lnTo>
                    <a:pt x="557" y="35"/>
                  </a:lnTo>
                  <a:lnTo>
                    <a:pt x="526" y="16"/>
                  </a:lnTo>
                  <a:lnTo>
                    <a:pt x="494" y="5"/>
                  </a:lnTo>
                  <a:lnTo>
                    <a:pt x="460" y="0"/>
                  </a:lnTo>
                  <a:lnTo>
                    <a:pt x="428" y="1"/>
                  </a:lnTo>
                  <a:lnTo>
                    <a:pt x="396" y="11"/>
                  </a:lnTo>
                  <a:lnTo>
                    <a:pt x="364" y="26"/>
                  </a:lnTo>
                  <a:lnTo>
                    <a:pt x="333" y="48"/>
                  </a:lnTo>
                  <a:lnTo>
                    <a:pt x="303" y="75"/>
                  </a:lnTo>
                  <a:lnTo>
                    <a:pt x="277" y="108"/>
                  </a:lnTo>
                  <a:lnTo>
                    <a:pt x="250" y="147"/>
                  </a:lnTo>
                  <a:lnTo>
                    <a:pt x="227" y="190"/>
                  </a:lnTo>
                  <a:lnTo>
                    <a:pt x="207" y="238"/>
                  </a:lnTo>
                  <a:lnTo>
                    <a:pt x="190" y="290"/>
                  </a:lnTo>
                  <a:lnTo>
                    <a:pt x="167" y="284"/>
                  </a:lnTo>
                  <a:lnTo>
                    <a:pt x="144" y="282"/>
                  </a:lnTo>
                  <a:lnTo>
                    <a:pt x="121" y="287"/>
                  </a:lnTo>
                  <a:lnTo>
                    <a:pt x="99" y="300"/>
                  </a:lnTo>
                  <a:lnTo>
                    <a:pt x="78" y="317"/>
                  </a:lnTo>
                  <a:lnTo>
                    <a:pt x="59" y="340"/>
                  </a:lnTo>
                  <a:lnTo>
                    <a:pt x="42" y="370"/>
                  </a:lnTo>
                  <a:lnTo>
                    <a:pt x="27" y="402"/>
                  </a:lnTo>
                  <a:lnTo>
                    <a:pt x="15" y="439"/>
                  </a:lnTo>
                  <a:lnTo>
                    <a:pt x="8" y="479"/>
                  </a:lnTo>
                  <a:lnTo>
                    <a:pt x="2" y="521"/>
                  </a:lnTo>
                  <a:lnTo>
                    <a:pt x="0" y="564"/>
                  </a:lnTo>
                  <a:lnTo>
                    <a:pt x="2" y="606"/>
                  </a:lnTo>
                  <a:lnTo>
                    <a:pt x="8" y="648"/>
                  </a:lnTo>
                  <a:lnTo>
                    <a:pt x="15" y="688"/>
                  </a:lnTo>
                  <a:lnTo>
                    <a:pt x="27" y="724"/>
                  </a:lnTo>
                  <a:lnTo>
                    <a:pt x="42" y="758"/>
                  </a:lnTo>
                  <a:lnTo>
                    <a:pt x="59" y="786"/>
                  </a:lnTo>
                  <a:lnTo>
                    <a:pt x="78" y="809"/>
                  </a:lnTo>
                  <a:lnTo>
                    <a:pt x="99" y="828"/>
                  </a:lnTo>
                  <a:lnTo>
                    <a:pt x="121" y="839"/>
                  </a:lnTo>
                  <a:lnTo>
                    <a:pt x="144" y="845"/>
                  </a:lnTo>
                  <a:lnTo>
                    <a:pt x="167" y="845"/>
                  </a:lnTo>
                  <a:lnTo>
                    <a:pt x="190" y="836"/>
                  </a:lnTo>
                  <a:close/>
                </a:path>
              </a:pathLst>
            </a:custGeom>
            <a:solidFill>
              <a:srgbClr val="b7ff6f"/>
            </a:solidFill>
            <a:ln w="396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43200" y="2438280"/>
              <a:ext cx="801720" cy="488880"/>
            </a:xfrm>
            <a:prstGeom prst="rect">
              <a:avLst/>
            </a:prstGeom>
            <a:solidFill>
              <a:srgbClr val="b7f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Ho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342200" y="2762280"/>
            <a:ext cx="1400040" cy="819000"/>
            <a:chOff x="7342200" y="2762280"/>
            <a:chExt cx="1400040" cy="819000"/>
          </a:xfrm>
        </p:grpSpPr>
        <p:sp>
          <p:nvSpPr>
            <p:cNvPr id="116" name=""/>
            <p:cNvSpPr/>
            <p:nvPr/>
          </p:nvSpPr>
          <p:spPr>
            <a:xfrm>
              <a:off x="7342200" y="2762280"/>
              <a:ext cx="1400040" cy="819000"/>
            </a:xfrm>
            <a:custGeom>
              <a:avLst/>
              <a:gdLst/>
              <a:ahLst/>
              <a:rect l="l" t="t" r="r" b="b"/>
              <a:pathLst>
                <a:path w="1285" h="1127">
                  <a:moveTo>
                    <a:pt x="190" y="836"/>
                  </a:moveTo>
                  <a:lnTo>
                    <a:pt x="207" y="888"/>
                  </a:lnTo>
                  <a:lnTo>
                    <a:pt x="227" y="936"/>
                  </a:lnTo>
                  <a:lnTo>
                    <a:pt x="250" y="980"/>
                  </a:lnTo>
                  <a:lnTo>
                    <a:pt x="277" y="1018"/>
                  </a:lnTo>
                  <a:lnTo>
                    <a:pt x="303" y="1052"/>
                  </a:lnTo>
                  <a:lnTo>
                    <a:pt x="333" y="1080"/>
                  </a:lnTo>
                  <a:lnTo>
                    <a:pt x="364" y="1102"/>
                  </a:lnTo>
                  <a:lnTo>
                    <a:pt x="396" y="1117"/>
                  </a:lnTo>
                  <a:lnTo>
                    <a:pt x="428" y="1125"/>
                  </a:lnTo>
                  <a:lnTo>
                    <a:pt x="460" y="1127"/>
                  </a:lnTo>
                  <a:lnTo>
                    <a:pt x="494" y="1122"/>
                  </a:lnTo>
                  <a:lnTo>
                    <a:pt x="526" y="1112"/>
                  </a:lnTo>
                  <a:lnTo>
                    <a:pt x="557" y="1093"/>
                  </a:lnTo>
                  <a:lnTo>
                    <a:pt x="587" y="1070"/>
                  </a:lnTo>
                  <a:lnTo>
                    <a:pt x="615" y="1040"/>
                  </a:lnTo>
                  <a:lnTo>
                    <a:pt x="644" y="1003"/>
                  </a:lnTo>
                  <a:lnTo>
                    <a:pt x="670" y="1040"/>
                  </a:lnTo>
                  <a:lnTo>
                    <a:pt x="698" y="1070"/>
                  </a:lnTo>
                  <a:lnTo>
                    <a:pt x="729" y="1093"/>
                  </a:lnTo>
                  <a:lnTo>
                    <a:pt x="759" y="1112"/>
                  </a:lnTo>
                  <a:lnTo>
                    <a:pt x="791" y="1122"/>
                  </a:lnTo>
                  <a:lnTo>
                    <a:pt x="825" y="1127"/>
                  </a:lnTo>
                  <a:lnTo>
                    <a:pt x="857" y="1125"/>
                  </a:lnTo>
                  <a:lnTo>
                    <a:pt x="890" y="1117"/>
                  </a:lnTo>
                  <a:lnTo>
                    <a:pt x="922" y="1102"/>
                  </a:lnTo>
                  <a:lnTo>
                    <a:pt x="952" y="1080"/>
                  </a:lnTo>
                  <a:lnTo>
                    <a:pt x="982" y="1052"/>
                  </a:lnTo>
                  <a:lnTo>
                    <a:pt x="1009" y="1018"/>
                  </a:lnTo>
                  <a:lnTo>
                    <a:pt x="1035" y="980"/>
                  </a:lnTo>
                  <a:lnTo>
                    <a:pt x="1058" y="936"/>
                  </a:lnTo>
                  <a:lnTo>
                    <a:pt x="1079" y="888"/>
                  </a:lnTo>
                  <a:lnTo>
                    <a:pt x="1096" y="836"/>
                  </a:lnTo>
                  <a:lnTo>
                    <a:pt x="1118" y="845"/>
                  </a:lnTo>
                  <a:lnTo>
                    <a:pt x="1141" y="845"/>
                  </a:lnTo>
                  <a:lnTo>
                    <a:pt x="1164" y="839"/>
                  </a:lnTo>
                  <a:lnTo>
                    <a:pt x="1187" y="828"/>
                  </a:lnTo>
                  <a:lnTo>
                    <a:pt x="1207" y="809"/>
                  </a:lnTo>
                  <a:lnTo>
                    <a:pt x="1226" y="786"/>
                  </a:lnTo>
                  <a:lnTo>
                    <a:pt x="1243" y="758"/>
                  </a:lnTo>
                  <a:lnTo>
                    <a:pt x="1258" y="724"/>
                  </a:lnTo>
                  <a:lnTo>
                    <a:pt x="1270" y="688"/>
                  </a:lnTo>
                  <a:lnTo>
                    <a:pt x="1277" y="648"/>
                  </a:lnTo>
                  <a:lnTo>
                    <a:pt x="1283" y="606"/>
                  </a:lnTo>
                  <a:lnTo>
                    <a:pt x="1285" y="564"/>
                  </a:lnTo>
                  <a:lnTo>
                    <a:pt x="1283" y="521"/>
                  </a:lnTo>
                  <a:lnTo>
                    <a:pt x="1277" y="479"/>
                  </a:lnTo>
                  <a:lnTo>
                    <a:pt x="1270" y="439"/>
                  </a:lnTo>
                  <a:lnTo>
                    <a:pt x="1258" y="402"/>
                  </a:lnTo>
                  <a:lnTo>
                    <a:pt x="1243" y="370"/>
                  </a:lnTo>
                  <a:lnTo>
                    <a:pt x="1226" y="340"/>
                  </a:lnTo>
                  <a:lnTo>
                    <a:pt x="1207" y="317"/>
                  </a:lnTo>
                  <a:lnTo>
                    <a:pt x="1187" y="300"/>
                  </a:lnTo>
                  <a:lnTo>
                    <a:pt x="1164" y="287"/>
                  </a:lnTo>
                  <a:lnTo>
                    <a:pt x="1141" y="282"/>
                  </a:lnTo>
                  <a:lnTo>
                    <a:pt x="1118" y="284"/>
                  </a:lnTo>
                  <a:lnTo>
                    <a:pt x="1096" y="290"/>
                  </a:lnTo>
                  <a:lnTo>
                    <a:pt x="1079" y="238"/>
                  </a:lnTo>
                  <a:lnTo>
                    <a:pt x="1058" y="190"/>
                  </a:lnTo>
                  <a:lnTo>
                    <a:pt x="1035" y="147"/>
                  </a:lnTo>
                  <a:lnTo>
                    <a:pt x="1009" y="108"/>
                  </a:lnTo>
                  <a:lnTo>
                    <a:pt x="982" y="75"/>
                  </a:lnTo>
                  <a:lnTo>
                    <a:pt x="952" y="48"/>
                  </a:lnTo>
                  <a:lnTo>
                    <a:pt x="922" y="26"/>
                  </a:lnTo>
                  <a:lnTo>
                    <a:pt x="890" y="11"/>
                  </a:lnTo>
                  <a:lnTo>
                    <a:pt x="857" y="1"/>
                  </a:lnTo>
                  <a:lnTo>
                    <a:pt x="825" y="0"/>
                  </a:lnTo>
                  <a:lnTo>
                    <a:pt x="791" y="5"/>
                  </a:lnTo>
                  <a:lnTo>
                    <a:pt x="759" y="16"/>
                  </a:lnTo>
                  <a:lnTo>
                    <a:pt x="729" y="35"/>
                  </a:lnTo>
                  <a:lnTo>
                    <a:pt x="698" y="58"/>
                  </a:lnTo>
                  <a:lnTo>
                    <a:pt x="670" y="88"/>
                  </a:lnTo>
                  <a:lnTo>
                    <a:pt x="644" y="123"/>
                  </a:lnTo>
                  <a:lnTo>
                    <a:pt x="615" y="88"/>
                  </a:lnTo>
                  <a:lnTo>
                    <a:pt x="587" y="58"/>
                  </a:lnTo>
                  <a:lnTo>
                    <a:pt x="557" y="35"/>
                  </a:lnTo>
                  <a:lnTo>
                    <a:pt x="526" y="16"/>
                  </a:lnTo>
                  <a:lnTo>
                    <a:pt x="494" y="5"/>
                  </a:lnTo>
                  <a:lnTo>
                    <a:pt x="460" y="0"/>
                  </a:lnTo>
                  <a:lnTo>
                    <a:pt x="428" y="1"/>
                  </a:lnTo>
                  <a:lnTo>
                    <a:pt x="396" y="11"/>
                  </a:lnTo>
                  <a:lnTo>
                    <a:pt x="364" y="26"/>
                  </a:lnTo>
                  <a:lnTo>
                    <a:pt x="333" y="48"/>
                  </a:lnTo>
                  <a:lnTo>
                    <a:pt x="303" y="75"/>
                  </a:lnTo>
                  <a:lnTo>
                    <a:pt x="277" y="108"/>
                  </a:lnTo>
                  <a:lnTo>
                    <a:pt x="250" y="147"/>
                  </a:lnTo>
                  <a:lnTo>
                    <a:pt x="227" y="190"/>
                  </a:lnTo>
                  <a:lnTo>
                    <a:pt x="207" y="238"/>
                  </a:lnTo>
                  <a:lnTo>
                    <a:pt x="190" y="290"/>
                  </a:lnTo>
                  <a:lnTo>
                    <a:pt x="167" y="284"/>
                  </a:lnTo>
                  <a:lnTo>
                    <a:pt x="144" y="282"/>
                  </a:lnTo>
                  <a:lnTo>
                    <a:pt x="121" y="287"/>
                  </a:lnTo>
                  <a:lnTo>
                    <a:pt x="99" y="300"/>
                  </a:lnTo>
                  <a:lnTo>
                    <a:pt x="78" y="317"/>
                  </a:lnTo>
                  <a:lnTo>
                    <a:pt x="59" y="340"/>
                  </a:lnTo>
                  <a:lnTo>
                    <a:pt x="42" y="370"/>
                  </a:lnTo>
                  <a:lnTo>
                    <a:pt x="27" y="402"/>
                  </a:lnTo>
                  <a:lnTo>
                    <a:pt x="15" y="439"/>
                  </a:lnTo>
                  <a:lnTo>
                    <a:pt x="8" y="479"/>
                  </a:lnTo>
                  <a:lnTo>
                    <a:pt x="2" y="521"/>
                  </a:lnTo>
                  <a:lnTo>
                    <a:pt x="0" y="564"/>
                  </a:lnTo>
                  <a:lnTo>
                    <a:pt x="2" y="606"/>
                  </a:lnTo>
                  <a:lnTo>
                    <a:pt x="8" y="648"/>
                  </a:lnTo>
                  <a:lnTo>
                    <a:pt x="15" y="688"/>
                  </a:lnTo>
                  <a:lnTo>
                    <a:pt x="27" y="724"/>
                  </a:lnTo>
                  <a:lnTo>
                    <a:pt x="42" y="758"/>
                  </a:lnTo>
                  <a:lnTo>
                    <a:pt x="59" y="786"/>
                  </a:lnTo>
                  <a:lnTo>
                    <a:pt x="78" y="809"/>
                  </a:lnTo>
                  <a:lnTo>
                    <a:pt x="99" y="828"/>
                  </a:lnTo>
                  <a:lnTo>
                    <a:pt x="121" y="839"/>
                  </a:lnTo>
                  <a:lnTo>
                    <a:pt x="144" y="845"/>
                  </a:lnTo>
                  <a:lnTo>
                    <a:pt x="167" y="845"/>
                  </a:lnTo>
                  <a:lnTo>
                    <a:pt x="190" y="836"/>
                  </a:lnTo>
                  <a:close/>
                </a:path>
              </a:pathLst>
            </a:custGeom>
            <a:solidFill>
              <a:srgbClr val="b7ff6f"/>
            </a:solidFill>
            <a:ln w="396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46760" y="2914560"/>
              <a:ext cx="801720" cy="488880"/>
            </a:xfrm>
            <a:prstGeom prst="rect">
              <a:avLst/>
            </a:prstGeom>
            <a:solidFill>
              <a:srgbClr val="b7f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Ho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102360" y="1870200"/>
            <a:ext cx="1400040" cy="819000"/>
            <a:chOff x="6102360" y="1870200"/>
            <a:chExt cx="1400040" cy="819000"/>
          </a:xfrm>
        </p:grpSpPr>
        <p:sp>
          <p:nvSpPr>
            <p:cNvPr id="119" name=""/>
            <p:cNvSpPr/>
            <p:nvPr/>
          </p:nvSpPr>
          <p:spPr>
            <a:xfrm>
              <a:off x="6102360" y="1870200"/>
              <a:ext cx="1400040" cy="819000"/>
            </a:xfrm>
            <a:custGeom>
              <a:avLst/>
              <a:gdLst/>
              <a:ahLst/>
              <a:rect l="l" t="t" r="r" b="b"/>
              <a:pathLst>
                <a:path w="1285" h="1127">
                  <a:moveTo>
                    <a:pt x="190" y="836"/>
                  </a:moveTo>
                  <a:lnTo>
                    <a:pt x="207" y="888"/>
                  </a:lnTo>
                  <a:lnTo>
                    <a:pt x="227" y="936"/>
                  </a:lnTo>
                  <a:lnTo>
                    <a:pt x="250" y="980"/>
                  </a:lnTo>
                  <a:lnTo>
                    <a:pt x="277" y="1018"/>
                  </a:lnTo>
                  <a:lnTo>
                    <a:pt x="303" y="1052"/>
                  </a:lnTo>
                  <a:lnTo>
                    <a:pt x="333" y="1080"/>
                  </a:lnTo>
                  <a:lnTo>
                    <a:pt x="364" y="1102"/>
                  </a:lnTo>
                  <a:lnTo>
                    <a:pt x="396" y="1117"/>
                  </a:lnTo>
                  <a:lnTo>
                    <a:pt x="428" y="1125"/>
                  </a:lnTo>
                  <a:lnTo>
                    <a:pt x="460" y="1127"/>
                  </a:lnTo>
                  <a:lnTo>
                    <a:pt x="494" y="1122"/>
                  </a:lnTo>
                  <a:lnTo>
                    <a:pt x="526" y="1112"/>
                  </a:lnTo>
                  <a:lnTo>
                    <a:pt x="557" y="1093"/>
                  </a:lnTo>
                  <a:lnTo>
                    <a:pt x="587" y="1070"/>
                  </a:lnTo>
                  <a:lnTo>
                    <a:pt x="615" y="1040"/>
                  </a:lnTo>
                  <a:lnTo>
                    <a:pt x="644" y="1003"/>
                  </a:lnTo>
                  <a:lnTo>
                    <a:pt x="670" y="1040"/>
                  </a:lnTo>
                  <a:lnTo>
                    <a:pt x="698" y="1070"/>
                  </a:lnTo>
                  <a:lnTo>
                    <a:pt x="729" y="1093"/>
                  </a:lnTo>
                  <a:lnTo>
                    <a:pt x="759" y="1112"/>
                  </a:lnTo>
                  <a:lnTo>
                    <a:pt x="791" y="1122"/>
                  </a:lnTo>
                  <a:lnTo>
                    <a:pt x="825" y="1127"/>
                  </a:lnTo>
                  <a:lnTo>
                    <a:pt x="857" y="1125"/>
                  </a:lnTo>
                  <a:lnTo>
                    <a:pt x="890" y="1117"/>
                  </a:lnTo>
                  <a:lnTo>
                    <a:pt x="922" y="1102"/>
                  </a:lnTo>
                  <a:lnTo>
                    <a:pt x="952" y="1080"/>
                  </a:lnTo>
                  <a:lnTo>
                    <a:pt x="982" y="1052"/>
                  </a:lnTo>
                  <a:lnTo>
                    <a:pt x="1009" y="1018"/>
                  </a:lnTo>
                  <a:lnTo>
                    <a:pt x="1035" y="980"/>
                  </a:lnTo>
                  <a:lnTo>
                    <a:pt x="1058" y="936"/>
                  </a:lnTo>
                  <a:lnTo>
                    <a:pt x="1079" y="888"/>
                  </a:lnTo>
                  <a:lnTo>
                    <a:pt x="1096" y="836"/>
                  </a:lnTo>
                  <a:lnTo>
                    <a:pt x="1118" y="845"/>
                  </a:lnTo>
                  <a:lnTo>
                    <a:pt x="1141" y="845"/>
                  </a:lnTo>
                  <a:lnTo>
                    <a:pt x="1164" y="839"/>
                  </a:lnTo>
                  <a:lnTo>
                    <a:pt x="1187" y="828"/>
                  </a:lnTo>
                  <a:lnTo>
                    <a:pt x="1207" y="809"/>
                  </a:lnTo>
                  <a:lnTo>
                    <a:pt x="1226" y="786"/>
                  </a:lnTo>
                  <a:lnTo>
                    <a:pt x="1243" y="758"/>
                  </a:lnTo>
                  <a:lnTo>
                    <a:pt x="1258" y="724"/>
                  </a:lnTo>
                  <a:lnTo>
                    <a:pt x="1270" y="688"/>
                  </a:lnTo>
                  <a:lnTo>
                    <a:pt x="1277" y="648"/>
                  </a:lnTo>
                  <a:lnTo>
                    <a:pt x="1283" y="606"/>
                  </a:lnTo>
                  <a:lnTo>
                    <a:pt x="1285" y="564"/>
                  </a:lnTo>
                  <a:lnTo>
                    <a:pt x="1283" y="521"/>
                  </a:lnTo>
                  <a:lnTo>
                    <a:pt x="1277" y="479"/>
                  </a:lnTo>
                  <a:lnTo>
                    <a:pt x="1270" y="439"/>
                  </a:lnTo>
                  <a:lnTo>
                    <a:pt x="1258" y="402"/>
                  </a:lnTo>
                  <a:lnTo>
                    <a:pt x="1243" y="370"/>
                  </a:lnTo>
                  <a:lnTo>
                    <a:pt x="1226" y="340"/>
                  </a:lnTo>
                  <a:lnTo>
                    <a:pt x="1207" y="317"/>
                  </a:lnTo>
                  <a:lnTo>
                    <a:pt x="1187" y="300"/>
                  </a:lnTo>
                  <a:lnTo>
                    <a:pt x="1164" y="287"/>
                  </a:lnTo>
                  <a:lnTo>
                    <a:pt x="1141" y="282"/>
                  </a:lnTo>
                  <a:lnTo>
                    <a:pt x="1118" y="284"/>
                  </a:lnTo>
                  <a:lnTo>
                    <a:pt x="1096" y="290"/>
                  </a:lnTo>
                  <a:lnTo>
                    <a:pt x="1079" y="238"/>
                  </a:lnTo>
                  <a:lnTo>
                    <a:pt x="1058" y="190"/>
                  </a:lnTo>
                  <a:lnTo>
                    <a:pt x="1035" y="147"/>
                  </a:lnTo>
                  <a:lnTo>
                    <a:pt x="1009" y="108"/>
                  </a:lnTo>
                  <a:lnTo>
                    <a:pt x="982" y="75"/>
                  </a:lnTo>
                  <a:lnTo>
                    <a:pt x="952" y="48"/>
                  </a:lnTo>
                  <a:lnTo>
                    <a:pt x="922" y="26"/>
                  </a:lnTo>
                  <a:lnTo>
                    <a:pt x="890" y="11"/>
                  </a:lnTo>
                  <a:lnTo>
                    <a:pt x="857" y="1"/>
                  </a:lnTo>
                  <a:lnTo>
                    <a:pt x="825" y="0"/>
                  </a:lnTo>
                  <a:lnTo>
                    <a:pt x="791" y="5"/>
                  </a:lnTo>
                  <a:lnTo>
                    <a:pt x="759" y="16"/>
                  </a:lnTo>
                  <a:lnTo>
                    <a:pt x="729" y="35"/>
                  </a:lnTo>
                  <a:lnTo>
                    <a:pt x="698" y="58"/>
                  </a:lnTo>
                  <a:lnTo>
                    <a:pt x="670" y="88"/>
                  </a:lnTo>
                  <a:lnTo>
                    <a:pt x="644" y="123"/>
                  </a:lnTo>
                  <a:lnTo>
                    <a:pt x="615" y="88"/>
                  </a:lnTo>
                  <a:lnTo>
                    <a:pt x="587" y="58"/>
                  </a:lnTo>
                  <a:lnTo>
                    <a:pt x="557" y="35"/>
                  </a:lnTo>
                  <a:lnTo>
                    <a:pt x="526" y="16"/>
                  </a:lnTo>
                  <a:lnTo>
                    <a:pt x="494" y="5"/>
                  </a:lnTo>
                  <a:lnTo>
                    <a:pt x="460" y="0"/>
                  </a:lnTo>
                  <a:lnTo>
                    <a:pt x="428" y="1"/>
                  </a:lnTo>
                  <a:lnTo>
                    <a:pt x="396" y="11"/>
                  </a:lnTo>
                  <a:lnTo>
                    <a:pt x="364" y="26"/>
                  </a:lnTo>
                  <a:lnTo>
                    <a:pt x="333" y="48"/>
                  </a:lnTo>
                  <a:lnTo>
                    <a:pt x="303" y="75"/>
                  </a:lnTo>
                  <a:lnTo>
                    <a:pt x="277" y="108"/>
                  </a:lnTo>
                  <a:lnTo>
                    <a:pt x="250" y="147"/>
                  </a:lnTo>
                  <a:lnTo>
                    <a:pt x="227" y="190"/>
                  </a:lnTo>
                  <a:lnTo>
                    <a:pt x="207" y="238"/>
                  </a:lnTo>
                  <a:lnTo>
                    <a:pt x="190" y="290"/>
                  </a:lnTo>
                  <a:lnTo>
                    <a:pt x="167" y="284"/>
                  </a:lnTo>
                  <a:lnTo>
                    <a:pt x="144" y="282"/>
                  </a:lnTo>
                  <a:lnTo>
                    <a:pt x="121" y="287"/>
                  </a:lnTo>
                  <a:lnTo>
                    <a:pt x="99" y="300"/>
                  </a:lnTo>
                  <a:lnTo>
                    <a:pt x="78" y="317"/>
                  </a:lnTo>
                  <a:lnTo>
                    <a:pt x="59" y="340"/>
                  </a:lnTo>
                  <a:lnTo>
                    <a:pt x="42" y="370"/>
                  </a:lnTo>
                  <a:lnTo>
                    <a:pt x="27" y="402"/>
                  </a:lnTo>
                  <a:lnTo>
                    <a:pt x="15" y="439"/>
                  </a:lnTo>
                  <a:lnTo>
                    <a:pt x="8" y="479"/>
                  </a:lnTo>
                  <a:lnTo>
                    <a:pt x="2" y="521"/>
                  </a:lnTo>
                  <a:lnTo>
                    <a:pt x="0" y="564"/>
                  </a:lnTo>
                  <a:lnTo>
                    <a:pt x="2" y="606"/>
                  </a:lnTo>
                  <a:lnTo>
                    <a:pt x="8" y="648"/>
                  </a:lnTo>
                  <a:lnTo>
                    <a:pt x="15" y="688"/>
                  </a:lnTo>
                  <a:lnTo>
                    <a:pt x="27" y="724"/>
                  </a:lnTo>
                  <a:lnTo>
                    <a:pt x="42" y="758"/>
                  </a:lnTo>
                  <a:lnTo>
                    <a:pt x="59" y="786"/>
                  </a:lnTo>
                  <a:lnTo>
                    <a:pt x="78" y="809"/>
                  </a:lnTo>
                  <a:lnTo>
                    <a:pt x="99" y="828"/>
                  </a:lnTo>
                  <a:lnTo>
                    <a:pt x="121" y="839"/>
                  </a:lnTo>
                  <a:lnTo>
                    <a:pt x="144" y="845"/>
                  </a:lnTo>
                  <a:lnTo>
                    <a:pt x="167" y="845"/>
                  </a:lnTo>
                  <a:lnTo>
                    <a:pt x="190" y="836"/>
                  </a:lnTo>
                  <a:close/>
                </a:path>
              </a:pathLst>
            </a:custGeom>
            <a:solidFill>
              <a:srgbClr val="b7ff6f"/>
            </a:solidFill>
            <a:ln w="396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06920" y="2022480"/>
              <a:ext cx="801720" cy="488880"/>
            </a:xfrm>
            <a:prstGeom prst="rect">
              <a:avLst/>
            </a:prstGeom>
            <a:solidFill>
              <a:srgbClr val="b7f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Ho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rebuchet MS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80880" y="1523880"/>
            <a:ext cx="113508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W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rebuchet MS"/>
              </a:rPr>
              <a:t>(2-way, real time, interactiv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76520" y="1523880"/>
            <a:ext cx="0" cy="3200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28800" y="1523880"/>
            <a:ext cx="1211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rebuchet MS"/>
              </a:rPr>
              <a:t>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8300880" y="1143000"/>
            <a:ext cx="843120" cy="646200"/>
            <a:chOff x="8300880" y="1143000"/>
            <a:chExt cx="843120" cy="646200"/>
          </a:xfrm>
        </p:grpSpPr>
        <p:sp>
          <p:nvSpPr>
            <p:cNvPr id="125" name=""/>
            <p:cNvSpPr/>
            <p:nvPr/>
          </p:nvSpPr>
          <p:spPr>
            <a:xfrm>
              <a:off x="8300880" y="1722600"/>
              <a:ext cx="843120" cy="6660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310600" y="1143000"/>
              <a:ext cx="753840" cy="57492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541720" y="1157400"/>
              <a:ext cx="25992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rebuchet MS"/>
                </a:rPr>
                <a:t>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055080" y="1146240"/>
              <a:ext cx="88920" cy="64296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 flipH="1">
            <a:off x="8076960" y="1523880"/>
            <a:ext cx="228600" cy="381240"/>
          </a:xfrm>
          <a:prstGeom prst="line">
            <a:avLst/>
          </a:prstGeom>
          <a:ln w="39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5105520"/>
            <a:ext cx="54104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7760" indent="-3477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llustrate basic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ure provisioning &amp; mgm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ot datalink specif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ccess De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Residential Gatewa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PEG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ultiple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ate trans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P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ynamic Host Configuration Protocol (DHC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twork Address Translation (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twork Address Port Translation (NAP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omain Name Service (D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rew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irus Chec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410080" y="5257800"/>
            <a:ext cx="3200400" cy="1295280"/>
            <a:chOff x="5410080" y="5257800"/>
            <a:chExt cx="3200400" cy="1295280"/>
          </a:xfrm>
        </p:grpSpPr>
        <p:sp>
          <p:nvSpPr>
            <p:cNvPr id="134" name=""/>
            <p:cNvSpPr/>
            <p:nvPr/>
          </p:nvSpPr>
          <p:spPr>
            <a:xfrm>
              <a:off x="5519520" y="5743440"/>
              <a:ext cx="470160" cy="0"/>
            </a:xfrm>
            <a:prstGeom prst="line">
              <a:avLst/>
            </a:prstGeom>
            <a:ln w="39600">
              <a:solidFill>
                <a:srgbClr val="3772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06880" y="5603760"/>
              <a:ext cx="457200" cy="266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97320" y="5673600"/>
              <a:ext cx="8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6939000" y="5601960"/>
              <a:ext cx="153720" cy="8100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7381800" y="5586480"/>
              <a:ext cx="257040" cy="324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8002080" y="5600880"/>
              <a:ext cx="103320" cy="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8196120" y="5660640"/>
              <a:ext cx="1440" cy="11124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8007120" y="5929200"/>
              <a:ext cx="122400" cy="9072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812000" y="6164280"/>
              <a:ext cx="272880" cy="23760"/>
            </a:xfrm>
            <a:custGeom>
              <a:avLst/>
              <a:gdLst/>
              <a:ahLst/>
              <a:rect l="l" t="t" r="r" b="b"/>
              <a:pathLst>
                <a:path w="1207" h="99">
                  <a:moveTo>
                    <a:pt x="1065" y="0"/>
                  </a:moveTo>
                  <a:lnTo>
                    <a:pt x="0" y="0"/>
                  </a:lnTo>
                  <a:lnTo>
                    <a:pt x="141" y="99"/>
                  </a:lnTo>
                  <a:lnTo>
                    <a:pt x="1207" y="99"/>
                  </a:lnTo>
                  <a:lnTo>
                    <a:pt x="1065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53200" y="6018120"/>
              <a:ext cx="31680" cy="169920"/>
            </a:xfrm>
            <a:custGeom>
              <a:avLst/>
              <a:gdLst/>
              <a:ahLst/>
              <a:rect l="l" t="t" r="r" b="b"/>
              <a:pathLst>
                <a:path w="142" h="703">
                  <a:moveTo>
                    <a:pt x="142" y="703"/>
                  </a:moveTo>
                  <a:lnTo>
                    <a:pt x="0" y="604"/>
                  </a:lnTo>
                  <a:lnTo>
                    <a:pt x="0" y="0"/>
                  </a:lnTo>
                  <a:lnTo>
                    <a:pt x="142" y="98"/>
                  </a:lnTo>
                  <a:lnTo>
                    <a:pt x="142" y="703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812000" y="6018120"/>
              <a:ext cx="241200" cy="147600"/>
            </a:xfrm>
            <a:prstGeom prst="rect">
              <a:avLst/>
            </a:prstGeom>
            <a:solidFill>
              <a:srgbClr val="ccb5b5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886880" y="6067440"/>
              <a:ext cx="102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264520" y="6211800"/>
              <a:ext cx="345960" cy="23760"/>
            </a:xfrm>
            <a:custGeom>
              <a:avLst/>
              <a:gdLst/>
              <a:ahLst/>
              <a:rect l="l" t="t" r="r" b="b"/>
              <a:pathLst>
                <a:path w="1207" h="99">
                  <a:moveTo>
                    <a:pt x="1066" y="0"/>
                  </a:moveTo>
                  <a:lnTo>
                    <a:pt x="0" y="0"/>
                  </a:lnTo>
                  <a:lnTo>
                    <a:pt x="142" y="99"/>
                  </a:lnTo>
                  <a:lnTo>
                    <a:pt x="1207" y="99"/>
                  </a:lnTo>
                  <a:lnTo>
                    <a:pt x="1066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569080" y="6067440"/>
              <a:ext cx="41400" cy="168120"/>
            </a:xfrm>
            <a:custGeom>
              <a:avLst/>
              <a:gdLst/>
              <a:ahLst/>
              <a:rect l="l" t="t" r="r" b="b"/>
              <a:pathLst>
                <a:path w="141" h="703">
                  <a:moveTo>
                    <a:pt x="141" y="703"/>
                  </a:moveTo>
                  <a:lnTo>
                    <a:pt x="0" y="604"/>
                  </a:lnTo>
                  <a:lnTo>
                    <a:pt x="0" y="0"/>
                  </a:lnTo>
                  <a:lnTo>
                    <a:pt x="141" y="98"/>
                  </a:lnTo>
                  <a:lnTo>
                    <a:pt x="141" y="703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264520" y="6067440"/>
              <a:ext cx="306360" cy="146160"/>
            </a:xfrm>
            <a:prstGeom prst="rect">
              <a:avLst/>
            </a:prstGeom>
            <a:solidFill>
              <a:srgbClr val="ccb5b5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54880" y="6113520"/>
              <a:ext cx="102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8307000" y="5978520"/>
              <a:ext cx="106200" cy="9216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351480" y="5721480"/>
              <a:ext cx="230040" cy="288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081560" y="5667480"/>
              <a:ext cx="304920" cy="2052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84800" y="5492880"/>
              <a:ext cx="273240" cy="17280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175520" y="5559480"/>
              <a:ext cx="8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354800" y="5492880"/>
              <a:ext cx="31680" cy="19512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 flipV="1">
              <a:off x="6931080" y="5775480"/>
              <a:ext cx="266400" cy="10152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flipV="1">
              <a:off x="7445160" y="5984640"/>
              <a:ext cx="101520" cy="19836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361280" y="6327720"/>
              <a:ext cx="334800" cy="23760"/>
            </a:xfrm>
            <a:custGeom>
              <a:avLst/>
              <a:gdLst/>
              <a:ahLst/>
              <a:rect l="l" t="t" r="r" b="b"/>
              <a:pathLst>
                <a:path w="1205" h="99">
                  <a:moveTo>
                    <a:pt x="1064" y="0"/>
                  </a:moveTo>
                  <a:lnTo>
                    <a:pt x="0" y="0"/>
                  </a:lnTo>
                  <a:lnTo>
                    <a:pt x="142" y="99"/>
                  </a:lnTo>
                  <a:lnTo>
                    <a:pt x="1205" y="99"/>
                  </a:lnTo>
                  <a:lnTo>
                    <a:pt x="1064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56480" y="6181560"/>
              <a:ext cx="39600" cy="169920"/>
            </a:xfrm>
            <a:custGeom>
              <a:avLst/>
              <a:gdLst/>
              <a:ahLst/>
              <a:rect l="l" t="t" r="r" b="b"/>
              <a:pathLst>
                <a:path w="141" h="703">
                  <a:moveTo>
                    <a:pt x="141" y="703"/>
                  </a:moveTo>
                  <a:lnTo>
                    <a:pt x="0" y="604"/>
                  </a:lnTo>
                  <a:lnTo>
                    <a:pt x="0" y="0"/>
                  </a:lnTo>
                  <a:lnTo>
                    <a:pt x="141" y="99"/>
                  </a:lnTo>
                  <a:lnTo>
                    <a:pt x="141" y="703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59480" y="6181560"/>
              <a:ext cx="295200" cy="147960"/>
            </a:xfrm>
            <a:prstGeom prst="rect">
              <a:avLst/>
            </a:prstGeom>
            <a:solidFill>
              <a:srgbClr val="ccb5b5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69200" y="622944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092800" y="5659560"/>
              <a:ext cx="304920" cy="2052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096040" y="5483160"/>
              <a:ext cx="273240" cy="17460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97560" y="5535720"/>
              <a:ext cx="8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66040" y="5484960"/>
              <a:ext cx="31680" cy="19512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181640" y="5967360"/>
              <a:ext cx="306360" cy="2052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86320" y="5792760"/>
              <a:ext cx="273240" cy="17460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287840" y="5859360"/>
              <a:ext cx="8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454880" y="5792760"/>
              <a:ext cx="33120" cy="19512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08800" y="5603760"/>
              <a:ext cx="506160" cy="249480"/>
            </a:xfrm>
            <a:custGeom>
              <a:avLst/>
              <a:gdLst/>
              <a:ahLst/>
              <a:rect l="l" t="t" r="r" b="b"/>
              <a:pathLst>
                <a:path w="1285" h="1127">
                  <a:moveTo>
                    <a:pt x="190" y="836"/>
                  </a:moveTo>
                  <a:lnTo>
                    <a:pt x="207" y="888"/>
                  </a:lnTo>
                  <a:lnTo>
                    <a:pt x="227" y="936"/>
                  </a:lnTo>
                  <a:lnTo>
                    <a:pt x="250" y="980"/>
                  </a:lnTo>
                  <a:lnTo>
                    <a:pt x="277" y="1018"/>
                  </a:lnTo>
                  <a:lnTo>
                    <a:pt x="303" y="1052"/>
                  </a:lnTo>
                  <a:lnTo>
                    <a:pt x="333" y="1080"/>
                  </a:lnTo>
                  <a:lnTo>
                    <a:pt x="364" y="1102"/>
                  </a:lnTo>
                  <a:lnTo>
                    <a:pt x="396" y="1117"/>
                  </a:lnTo>
                  <a:lnTo>
                    <a:pt x="428" y="1125"/>
                  </a:lnTo>
                  <a:lnTo>
                    <a:pt x="460" y="1127"/>
                  </a:lnTo>
                  <a:lnTo>
                    <a:pt x="494" y="1122"/>
                  </a:lnTo>
                  <a:lnTo>
                    <a:pt x="526" y="1112"/>
                  </a:lnTo>
                  <a:lnTo>
                    <a:pt x="557" y="1093"/>
                  </a:lnTo>
                  <a:lnTo>
                    <a:pt x="587" y="1070"/>
                  </a:lnTo>
                  <a:lnTo>
                    <a:pt x="615" y="1040"/>
                  </a:lnTo>
                  <a:lnTo>
                    <a:pt x="644" y="1003"/>
                  </a:lnTo>
                  <a:lnTo>
                    <a:pt x="670" y="1040"/>
                  </a:lnTo>
                  <a:lnTo>
                    <a:pt x="698" y="1070"/>
                  </a:lnTo>
                  <a:lnTo>
                    <a:pt x="729" y="1093"/>
                  </a:lnTo>
                  <a:lnTo>
                    <a:pt x="759" y="1112"/>
                  </a:lnTo>
                  <a:lnTo>
                    <a:pt x="791" y="1122"/>
                  </a:lnTo>
                  <a:lnTo>
                    <a:pt x="825" y="1127"/>
                  </a:lnTo>
                  <a:lnTo>
                    <a:pt x="857" y="1125"/>
                  </a:lnTo>
                  <a:lnTo>
                    <a:pt x="890" y="1117"/>
                  </a:lnTo>
                  <a:lnTo>
                    <a:pt x="922" y="1102"/>
                  </a:lnTo>
                  <a:lnTo>
                    <a:pt x="952" y="1080"/>
                  </a:lnTo>
                  <a:lnTo>
                    <a:pt x="982" y="1052"/>
                  </a:lnTo>
                  <a:lnTo>
                    <a:pt x="1009" y="1018"/>
                  </a:lnTo>
                  <a:lnTo>
                    <a:pt x="1035" y="980"/>
                  </a:lnTo>
                  <a:lnTo>
                    <a:pt x="1058" y="936"/>
                  </a:lnTo>
                  <a:lnTo>
                    <a:pt x="1079" y="888"/>
                  </a:lnTo>
                  <a:lnTo>
                    <a:pt x="1096" y="836"/>
                  </a:lnTo>
                  <a:lnTo>
                    <a:pt x="1118" y="845"/>
                  </a:lnTo>
                  <a:lnTo>
                    <a:pt x="1141" y="845"/>
                  </a:lnTo>
                  <a:lnTo>
                    <a:pt x="1164" y="839"/>
                  </a:lnTo>
                  <a:lnTo>
                    <a:pt x="1187" y="828"/>
                  </a:lnTo>
                  <a:lnTo>
                    <a:pt x="1207" y="809"/>
                  </a:lnTo>
                  <a:lnTo>
                    <a:pt x="1226" y="786"/>
                  </a:lnTo>
                  <a:lnTo>
                    <a:pt x="1243" y="758"/>
                  </a:lnTo>
                  <a:lnTo>
                    <a:pt x="1258" y="724"/>
                  </a:lnTo>
                  <a:lnTo>
                    <a:pt x="1270" y="688"/>
                  </a:lnTo>
                  <a:lnTo>
                    <a:pt x="1277" y="648"/>
                  </a:lnTo>
                  <a:lnTo>
                    <a:pt x="1283" y="606"/>
                  </a:lnTo>
                  <a:lnTo>
                    <a:pt x="1285" y="564"/>
                  </a:lnTo>
                  <a:lnTo>
                    <a:pt x="1283" y="521"/>
                  </a:lnTo>
                  <a:lnTo>
                    <a:pt x="1277" y="479"/>
                  </a:lnTo>
                  <a:lnTo>
                    <a:pt x="1270" y="439"/>
                  </a:lnTo>
                  <a:lnTo>
                    <a:pt x="1258" y="402"/>
                  </a:lnTo>
                  <a:lnTo>
                    <a:pt x="1243" y="370"/>
                  </a:lnTo>
                  <a:lnTo>
                    <a:pt x="1226" y="340"/>
                  </a:lnTo>
                  <a:lnTo>
                    <a:pt x="1207" y="317"/>
                  </a:lnTo>
                  <a:lnTo>
                    <a:pt x="1187" y="300"/>
                  </a:lnTo>
                  <a:lnTo>
                    <a:pt x="1164" y="287"/>
                  </a:lnTo>
                  <a:lnTo>
                    <a:pt x="1141" y="282"/>
                  </a:lnTo>
                  <a:lnTo>
                    <a:pt x="1118" y="284"/>
                  </a:lnTo>
                  <a:lnTo>
                    <a:pt x="1096" y="290"/>
                  </a:lnTo>
                  <a:lnTo>
                    <a:pt x="1079" y="238"/>
                  </a:lnTo>
                  <a:lnTo>
                    <a:pt x="1058" y="190"/>
                  </a:lnTo>
                  <a:lnTo>
                    <a:pt x="1035" y="147"/>
                  </a:lnTo>
                  <a:lnTo>
                    <a:pt x="1009" y="108"/>
                  </a:lnTo>
                  <a:lnTo>
                    <a:pt x="982" y="75"/>
                  </a:lnTo>
                  <a:lnTo>
                    <a:pt x="952" y="48"/>
                  </a:lnTo>
                  <a:lnTo>
                    <a:pt x="922" y="26"/>
                  </a:lnTo>
                  <a:lnTo>
                    <a:pt x="890" y="11"/>
                  </a:lnTo>
                  <a:lnTo>
                    <a:pt x="857" y="1"/>
                  </a:lnTo>
                  <a:lnTo>
                    <a:pt x="825" y="0"/>
                  </a:lnTo>
                  <a:lnTo>
                    <a:pt x="791" y="5"/>
                  </a:lnTo>
                  <a:lnTo>
                    <a:pt x="759" y="16"/>
                  </a:lnTo>
                  <a:lnTo>
                    <a:pt x="729" y="35"/>
                  </a:lnTo>
                  <a:lnTo>
                    <a:pt x="698" y="58"/>
                  </a:lnTo>
                  <a:lnTo>
                    <a:pt x="670" y="88"/>
                  </a:lnTo>
                  <a:lnTo>
                    <a:pt x="644" y="123"/>
                  </a:lnTo>
                  <a:lnTo>
                    <a:pt x="615" y="88"/>
                  </a:lnTo>
                  <a:lnTo>
                    <a:pt x="587" y="58"/>
                  </a:lnTo>
                  <a:lnTo>
                    <a:pt x="557" y="35"/>
                  </a:lnTo>
                  <a:lnTo>
                    <a:pt x="526" y="16"/>
                  </a:lnTo>
                  <a:lnTo>
                    <a:pt x="494" y="5"/>
                  </a:lnTo>
                  <a:lnTo>
                    <a:pt x="460" y="0"/>
                  </a:lnTo>
                  <a:lnTo>
                    <a:pt x="428" y="1"/>
                  </a:lnTo>
                  <a:lnTo>
                    <a:pt x="396" y="11"/>
                  </a:lnTo>
                  <a:lnTo>
                    <a:pt x="364" y="26"/>
                  </a:lnTo>
                  <a:lnTo>
                    <a:pt x="333" y="48"/>
                  </a:lnTo>
                  <a:lnTo>
                    <a:pt x="303" y="75"/>
                  </a:lnTo>
                  <a:lnTo>
                    <a:pt x="277" y="108"/>
                  </a:lnTo>
                  <a:lnTo>
                    <a:pt x="250" y="147"/>
                  </a:lnTo>
                  <a:lnTo>
                    <a:pt x="227" y="190"/>
                  </a:lnTo>
                  <a:lnTo>
                    <a:pt x="207" y="238"/>
                  </a:lnTo>
                  <a:lnTo>
                    <a:pt x="190" y="290"/>
                  </a:lnTo>
                  <a:lnTo>
                    <a:pt x="167" y="284"/>
                  </a:lnTo>
                  <a:lnTo>
                    <a:pt x="144" y="282"/>
                  </a:lnTo>
                  <a:lnTo>
                    <a:pt x="121" y="287"/>
                  </a:lnTo>
                  <a:lnTo>
                    <a:pt x="99" y="300"/>
                  </a:lnTo>
                  <a:lnTo>
                    <a:pt x="78" y="317"/>
                  </a:lnTo>
                  <a:lnTo>
                    <a:pt x="59" y="340"/>
                  </a:lnTo>
                  <a:lnTo>
                    <a:pt x="42" y="370"/>
                  </a:lnTo>
                  <a:lnTo>
                    <a:pt x="27" y="402"/>
                  </a:lnTo>
                  <a:lnTo>
                    <a:pt x="15" y="439"/>
                  </a:lnTo>
                  <a:lnTo>
                    <a:pt x="8" y="479"/>
                  </a:lnTo>
                  <a:lnTo>
                    <a:pt x="2" y="521"/>
                  </a:lnTo>
                  <a:lnTo>
                    <a:pt x="0" y="564"/>
                  </a:lnTo>
                  <a:lnTo>
                    <a:pt x="2" y="606"/>
                  </a:lnTo>
                  <a:lnTo>
                    <a:pt x="8" y="648"/>
                  </a:lnTo>
                  <a:lnTo>
                    <a:pt x="15" y="688"/>
                  </a:lnTo>
                  <a:lnTo>
                    <a:pt x="27" y="724"/>
                  </a:lnTo>
                  <a:lnTo>
                    <a:pt x="42" y="758"/>
                  </a:lnTo>
                  <a:lnTo>
                    <a:pt x="59" y="786"/>
                  </a:lnTo>
                  <a:lnTo>
                    <a:pt x="78" y="809"/>
                  </a:lnTo>
                  <a:lnTo>
                    <a:pt x="99" y="828"/>
                  </a:lnTo>
                  <a:lnTo>
                    <a:pt x="121" y="839"/>
                  </a:lnTo>
                  <a:lnTo>
                    <a:pt x="144" y="845"/>
                  </a:lnTo>
                  <a:lnTo>
                    <a:pt x="167" y="845"/>
                  </a:lnTo>
                  <a:lnTo>
                    <a:pt x="190" y="836"/>
                  </a:lnTo>
                  <a:close/>
                </a:path>
              </a:pathLst>
            </a:custGeom>
            <a:solidFill>
              <a:srgbClr val="b7ff6f"/>
            </a:solidFill>
            <a:ln w="396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00800" y="5562720"/>
              <a:ext cx="7239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58160" y="5748480"/>
              <a:ext cx="506160" cy="249120"/>
            </a:xfrm>
            <a:custGeom>
              <a:avLst/>
              <a:gdLst/>
              <a:ahLst/>
              <a:rect l="l" t="t" r="r" b="b"/>
              <a:pathLst>
                <a:path w="1285" h="1127">
                  <a:moveTo>
                    <a:pt x="190" y="836"/>
                  </a:moveTo>
                  <a:lnTo>
                    <a:pt x="207" y="888"/>
                  </a:lnTo>
                  <a:lnTo>
                    <a:pt x="227" y="936"/>
                  </a:lnTo>
                  <a:lnTo>
                    <a:pt x="250" y="980"/>
                  </a:lnTo>
                  <a:lnTo>
                    <a:pt x="277" y="1018"/>
                  </a:lnTo>
                  <a:lnTo>
                    <a:pt x="303" y="1052"/>
                  </a:lnTo>
                  <a:lnTo>
                    <a:pt x="333" y="1080"/>
                  </a:lnTo>
                  <a:lnTo>
                    <a:pt x="364" y="1102"/>
                  </a:lnTo>
                  <a:lnTo>
                    <a:pt x="396" y="1117"/>
                  </a:lnTo>
                  <a:lnTo>
                    <a:pt x="428" y="1125"/>
                  </a:lnTo>
                  <a:lnTo>
                    <a:pt x="460" y="1127"/>
                  </a:lnTo>
                  <a:lnTo>
                    <a:pt x="494" y="1122"/>
                  </a:lnTo>
                  <a:lnTo>
                    <a:pt x="526" y="1112"/>
                  </a:lnTo>
                  <a:lnTo>
                    <a:pt x="557" y="1093"/>
                  </a:lnTo>
                  <a:lnTo>
                    <a:pt x="587" y="1070"/>
                  </a:lnTo>
                  <a:lnTo>
                    <a:pt x="615" y="1040"/>
                  </a:lnTo>
                  <a:lnTo>
                    <a:pt x="644" y="1003"/>
                  </a:lnTo>
                  <a:lnTo>
                    <a:pt x="670" y="1040"/>
                  </a:lnTo>
                  <a:lnTo>
                    <a:pt x="698" y="1070"/>
                  </a:lnTo>
                  <a:lnTo>
                    <a:pt x="729" y="1093"/>
                  </a:lnTo>
                  <a:lnTo>
                    <a:pt x="759" y="1112"/>
                  </a:lnTo>
                  <a:lnTo>
                    <a:pt x="791" y="1122"/>
                  </a:lnTo>
                  <a:lnTo>
                    <a:pt x="825" y="1127"/>
                  </a:lnTo>
                  <a:lnTo>
                    <a:pt x="857" y="1125"/>
                  </a:lnTo>
                  <a:lnTo>
                    <a:pt x="890" y="1117"/>
                  </a:lnTo>
                  <a:lnTo>
                    <a:pt x="922" y="1102"/>
                  </a:lnTo>
                  <a:lnTo>
                    <a:pt x="952" y="1080"/>
                  </a:lnTo>
                  <a:lnTo>
                    <a:pt x="982" y="1052"/>
                  </a:lnTo>
                  <a:lnTo>
                    <a:pt x="1009" y="1018"/>
                  </a:lnTo>
                  <a:lnTo>
                    <a:pt x="1035" y="980"/>
                  </a:lnTo>
                  <a:lnTo>
                    <a:pt x="1058" y="936"/>
                  </a:lnTo>
                  <a:lnTo>
                    <a:pt x="1079" y="888"/>
                  </a:lnTo>
                  <a:lnTo>
                    <a:pt x="1096" y="836"/>
                  </a:lnTo>
                  <a:lnTo>
                    <a:pt x="1118" y="845"/>
                  </a:lnTo>
                  <a:lnTo>
                    <a:pt x="1141" y="845"/>
                  </a:lnTo>
                  <a:lnTo>
                    <a:pt x="1164" y="839"/>
                  </a:lnTo>
                  <a:lnTo>
                    <a:pt x="1187" y="828"/>
                  </a:lnTo>
                  <a:lnTo>
                    <a:pt x="1207" y="809"/>
                  </a:lnTo>
                  <a:lnTo>
                    <a:pt x="1226" y="786"/>
                  </a:lnTo>
                  <a:lnTo>
                    <a:pt x="1243" y="758"/>
                  </a:lnTo>
                  <a:lnTo>
                    <a:pt x="1258" y="724"/>
                  </a:lnTo>
                  <a:lnTo>
                    <a:pt x="1270" y="688"/>
                  </a:lnTo>
                  <a:lnTo>
                    <a:pt x="1277" y="648"/>
                  </a:lnTo>
                  <a:lnTo>
                    <a:pt x="1283" y="606"/>
                  </a:lnTo>
                  <a:lnTo>
                    <a:pt x="1285" y="564"/>
                  </a:lnTo>
                  <a:lnTo>
                    <a:pt x="1283" y="521"/>
                  </a:lnTo>
                  <a:lnTo>
                    <a:pt x="1277" y="479"/>
                  </a:lnTo>
                  <a:lnTo>
                    <a:pt x="1270" y="439"/>
                  </a:lnTo>
                  <a:lnTo>
                    <a:pt x="1258" y="402"/>
                  </a:lnTo>
                  <a:lnTo>
                    <a:pt x="1243" y="370"/>
                  </a:lnTo>
                  <a:lnTo>
                    <a:pt x="1226" y="340"/>
                  </a:lnTo>
                  <a:lnTo>
                    <a:pt x="1207" y="317"/>
                  </a:lnTo>
                  <a:lnTo>
                    <a:pt x="1187" y="300"/>
                  </a:lnTo>
                  <a:lnTo>
                    <a:pt x="1164" y="287"/>
                  </a:lnTo>
                  <a:lnTo>
                    <a:pt x="1141" y="282"/>
                  </a:lnTo>
                  <a:lnTo>
                    <a:pt x="1118" y="284"/>
                  </a:lnTo>
                  <a:lnTo>
                    <a:pt x="1096" y="290"/>
                  </a:lnTo>
                  <a:lnTo>
                    <a:pt x="1079" y="238"/>
                  </a:lnTo>
                  <a:lnTo>
                    <a:pt x="1058" y="190"/>
                  </a:lnTo>
                  <a:lnTo>
                    <a:pt x="1035" y="147"/>
                  </a:lnTo>
                  <a:lnTo>
                    <a:pt x="1009" y="108"/>
                  </a:lnTo>
                  <a:lnTo>
                    <a:pt x="982" y="75"/>
                  </a:lnTo>
                  <a:lnTo>
                    <a:pt x="952" y="48"/>
                  </a:lnTo>
                  <a:lnTo>
                    <a:pt x="922" y="26"/>
                  </a:lnTo>
                  <a:lnTo>
                    <a:pt x="890" y="11"/>
                  </a:lnTo>
                  <a:lnTo>
                    <a:pt x="857" y="1"/>
                  </a:lnTo>
                  <a:lnTo>
                    <a:pt x="825" y="0"/>
                  </a:lnTo>
                  <a:lnTo>
                    <a:pt x="791" y="5"/>
                  </a:lnTo>
                  <a:lnTo>
                    <a:pt x="759" y="16"/>
                  </a:lnTo>
                  <a:lnTo>
                    <a:pt x="729" y="35"/>
                  </a:lnTo>
                  <a:lnTo>
                    <a:pt x="698" y="58"/>
                  </a:lnTo>
                  <a:lnTo>
                    <a:pt x="670" y="88"/>
                  </a:lnTo>
                  <a:lnTo>
                    <a:pt x="644" y="123"/>
                  </a:lnTo>
                  <a:lnTo>
                    <a:pt x="615" y="88"/>
                  </a:lnTo>
                  <a:lnTo>
                    <a:pt x="587" y="58"/>
                  </a:lnTo>
                  <a:lnTo>
                    <a:pt x="557" y="35"/>
                  </a:lnTo>
                  <a:lnTo>
                    <a:pt x="526" y="16"/>
                  </a:lnTo>
                  <a:lnTo>
                    <a:pt x="494" y="5"/>
                  </a:lnTo>
                  <a:lnTo>
                    <a:pt x="460" y="0"/>
                  </a:lnTo>
                  <a:lnTo>
                    <a:pt x="428" y="1"/>
                  </a:lnTo>
                  <a:lnTo>
                    <a:pt x="396" y="11"/>
                  </a:lnTo>
                  <a:lnTo>
                    <a:pt x="364" y="26"/>
                  </a:lnTo>
                  <a:lnTo>
                    <a:pt x="333" y="48"/>
                  </a:lnTo>
                  <a:lnTo>
                    <a:pt x="303" y="75"/>
                  </a:lnTo>
                  <a:lnTo>
                    <a:pt x="277" y="108"/>
                  </a:lnTo>
                  <a:lnTo>
                    <a:pt x="250" y="147"/>
                  </a:lnTo>
                  <a:lnTo>
                    <a:pt x="227" y="190"/>
                  </a:lnTo>
                  <a:lnTo>
                    <a:pt x="207" y="238"/>
                  </a:lnTo>
                  <a:lnTo>
                    <a:pt x="190" y="290"/>
                  </a:lnTo>
                  <a:lnTo>
                    <a:pt x="167" y="284"/>
                  </a:lnTo>
                  <a:lnTo>
                    <a:pt x="144" y="282"/>
                  </a:lnTo>
                  <a:lnTo>
                    <a:pt x="121" y="287"/>
                  </a:lnTo>
                  <a:lnTo>
                    <a:pt x="99" y="300"/>
                  </a:lnTo>
                  <a:lnTo>
                    <a:pt x="78" y="317"/>
                  </a:lnTo>
                  <a:lnTo>
                    <a:pt x="59" y="340"/>
                  </a:lnTo>
                  <a:lnTo>
                    <a:pt x="42" y="370"/>
                  </a:lnTo>
                  <a:lnTo>
                    <a:pt x="27" y="402"/>
                  </a:lnTo>
                  <a:lnTo>
                    <a:pt x="15" y="439"/>
                  </a:lnTo>
                  <a:lnTo>
                    <a:pt x="8" y="479"/>
                  </a:lnTo>
                  <a:lnTo>
                    <a:pt x="2" y="521"/>
                  </a:lnTo>
                  <a:lnTo>
                    <a:pt x="0" y="564"/>
                  </a:lnTo>
                  <a:lnTo>
                    <a:pt x="2" y="606"/>
                  </a:lnTo>
                  <a:lnTo>
                    <a:pt x="8" y="648"/>
                  </a:lnTo>
                  <a:lnTo>
                    <a:pt x="15" y="688"/>
                  </a:lnTo>
                  <a:lnTo>
                    <a:pt x="27" y="724"/>
                  </a:lnTo>
                  <a:lnTo>
                    <a:pt x="42" y="758"/>
                  </a:lnTo>
                  <a:lnTo>
                    <a:pt x="59" y="786"/>
                  </a:lnTo>
                  <a:lnTo>
                    <a:pt x="78" y="809"/>
                  </a:lnTo>
                  <a:lnTo>
                    <a:pt x="99" y="828"/>
                  </a:lnTo>
                  <a:lnTo>
                    <a:pt x="121" y="839"/>
                  </a:lnTo>
                  <a:lnTo>
                    <a:pt x="144" y="845"/>
                  </a:lnTo>
                  <a:lnTo>
                    <a:pt x="167" y="845"/>
                  </a:lnTo>
                  <a:lnTo>
                    <a:pt x="190" y="836"/>
                  </a:lnTo>
                  <a:close/>
                </a:path>
              </a:pathLst>
            </a:custGeom>
            <a:solidFill>
              <a:srgbClr val="b7ff6f"/>
            </a:solidFill>
            <a:ln w="396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0320" y="5478480"/>
              <a:ext cx="506520" cy="249120"/>
            </a:xfrm>
            <a:custGeom>
              <a:avLst/>
              <a:gdLst/>
              <a:ahLst/>
              <a:rect l="l" t="t" r="r" b="b"/>
              <a:pathLst>
                <a:path w="1285" h="1127">
                  <a:moveTo>
                    <a:pt x="190" y="836"/>
                  </a:moveTo>
                  <a:lnTo>
                    <a:pt x="207" y="888"/>
                  </a:lnTo>
                  <a:lnTo>
                    <a:pt x="227" y="936"/>
                  </a:lnTo>
                  <a:lnTo>
                    <a:pt x="250" y="980"/>
                  </a:lnTo>
                  <a:lnTo>
                    <a:pt x="277" y="1018"/>
                  </a:lnTo>
                  <a:lnTo>
                    <a:pt x="303" y="1052"/>
                  </a:lnTo>
                  <a:lnTo>
                    <a:pt x="333" y="1080"/>
                  </a:lnTo>
                  <a:lnTo>
                    <a:pt x="364" y="1102"/>
                  </a:lnTo>
                  <a:lnTo>
                    <a:pt x="396" y="1117"/>
                  </a:lnTo>
                  <a:lnTo>
                    <a:pt x="428" y="1125"/>
                  </a:lnTo>
                  <a:lnTo>
                    <a:pt x="460" y="1127"/>
                  </a:lnTo>
                  <a:lnTo>
                    <a:pt x="494" y="1122"/>
                  </a:lnTo>
                  <a:lnTo>
                    <a:pt x="526" y="1112"/>
                  </a:lnTo>
                  <a:lnTo>
                    <a:pt x="557" y="1093"/>
                  </a:lnTo>
                  <a:lnTo>
                    <a:pt x="587" y="1070"/>
                  </a:lnTo>
                  <a:lnTo>
                    <a:pt x="615" y="1040"/>
                  </a:lnTo>
                  <a:lnTo>
                    <a:pt x="644" y="1003"/>
                  </a:lnTo>
                  <a:lnTo>
                    <a:pt x="670" y="1040"/>
                  </a:lnTo>
                  <a:lnTo>
                    <a:pt x="698" y="1070"/>
                  </a:lnTo>
                  <a:lnTo>
                    <a:pt x="729" y="1093"/>
                  </a:lnTo>
                  <a:lnTo>
                    <a:pt x="759" y="1112"/>
                  </a:lnTo>
                  <a:lnTo>
                    <a:pt x="791" y="1122"/>
                  </a:lnTo>
                  <a:lnTo>
                    <a:pt x="825" y="1127"/>
                  </a:lnTo>
                  <a:lnTo>
                    <a:pt x="857" y="1125"/>
                  </a:lnTo>
                  <a:lnTo>
                    <a:pt x="890" y="1117"/>
                  </a:lnTo>
                  <a:lnTo>
                    <a:pt x="922" y="1102"/>
                  </a:lnTo>
                  <a:lnTo>
                    <a:pt x="952" y="1080"/>
                  </a:lnTo>
                  <a:lnTo>
                    <a:pt x="982" y="1052"/>
                  </a:lnTo>
                  <a:lnTo>
                    <a:pt x="1009" y="1018"/>
                  </a:lnTo>
                  <a:lnTo>
                    <a:pt x="1035" y="980"/>
                  </a:lnTo>
                  <a:lnTo>
                    <a:pt x="1058" y="936"/>
                  </a:lnTo>
                  <a:lnTo>
                    <a:pt x="1079" y="888"/>
                  </a:lnTo>
                  <a:lnTo>
                    <a:pt x="1096" y="836"/>
                  </a:lnTo>
                  <a:lnTo>
                    <a:pt x="1118" y="845"/>
                  </a:lnTo>
                  <a:lnTo>
                    <a:pt x="1141" y="845"/>
                  </a:lnTo>
                  <a:lnTo>
                    <a:pt x="1164" y="839"/>
                  </a:lnTo>
                  <a:lnTo>
                    <a:pt x="1187" y="828"/>
                  </a:lnTo>
                  <a:lnTo>
                    <a:pt x="1207" y="809"/>
                  </a:lnTo>
                  <a:lnTo>
                    <a:pt x="1226" y="786"/>
                  </a:lnTo>
                  <a:lnTo>
                    <a:pt x="1243" y="758"/>
                  </a:lnTo>
                  <a:lnTo>
                    <a:pt x="1258" y="724"/>
                  </a:lnTo>
                  <a:lnTo>
                    <a:pt x="1270" y="688"/>
                  </a:lnTo>
                  <a:lnTo>
                    <a:pt x="1277" y="648"/>
                  </a:lnTo>
                  <a:lnTo>
                    <a:pt x="1283" y="606"/>
                  </a:lnTo>
                  <a:lnTo>
                    <a:pt x="1285" y="564"/>
                  </a:lnTo>
                  <a:lnTo>
                    <a:pt x="1283" y="521"/>
                  </a:lnTo>
                  <a:lnTo>
                    <a:pt x="1277" y="479"/>
                  </a:lnTo>
                  <a:lnTo>
                    <a:pt x="1270" y="439"/>
                  </a:lnTo>
                  <a:lnTo>
                    <a:pt x="1258" y="402"/>
                  </a:lnTo>
                  <a:lnTo>
                    <a:pt x="1243" y="370"/>
                  </a:lnTo>
                  <a:lnTo>
                    <a:pt x="1226" y="340"/>
                  </a:lnTo>
                  <a:lnTo>
                    <a:pt x="1207" y="317"/>
                  </a:lnTo>
                  <a:lnTo>
                    <a:pt x="1187" y="300"/>
                  </a:lnTo>
                  <a:lnTo>
                    <a:pt x="1164" y="287"/>
                  </a:lnTo>
                  <a:lnTo>
                    <a:pt x="1141" y="282"/>
                  </a:lnTo>
                  <a:lnTo>
                    <a:pt x="1118" y="284"/>
                  </a:lnTo>
                  <a:lnTo>
                    <a:pt x="1096" y="290"/>
                  </a:lnTo>
                  <a:lnTo>
                    <a:pt x="1079" y="238"/>
                  </a:lnTo>
                  <a:lnTo>
                    <a:pt x="1058" y="190"/>
                  </a:lnTo>
                  <a:lnTo>
                    <a:pt x="1035" y="147"/>
                  </a:lnTo>
                  <a:lnTo>
                    <a:pt x="1009" y="108"/>
                  </a:lnTo>
                  <a:lnTo>
                    <a:pt x="982" y="75"/>
                  </a:lnTo>
                  <a:lnTo>
                    <a:pt x="952" y="48"/>
                  </a:lnTo>
                  <a:lnTo>
                    <a:pt x="922" y="26"/>
                  </a:lnTo>
                  <a:lnTo>
                    <a:pt x="890" y="11"/>
                  </a:lnTo>
                  <a:lnTo>
                    <a:pt x="857" y="1"/>
                  </a:lnTo>
                  <a:lnTo>
                    <a:pt x="825" y="0"/>
                  </a:lnTo>
                  <a:lnTo>
                    <a:pt x="791" y="5"/>
                  </a:lnTo>
                  <a:lnTo>
                    <a:pt x="759" y="16"/>
                  </a:lnTo>
                  <a:lnTo>
                    <a:pt x="729" y="35"/>
                  </a:lnTo>
                  <a:lnTo>
                    <a:pt x="698" y="58"/>
                  </a:lnTo>
                  <a:lnTo>
                    <a:pt x="670" y="88"/>
                  </a:lnTo>
                  <a:lnTo>
                    <a:pt x="644" y="123"/>
                  </a:lnTo>
                  <a:lnTo>
                    <a:pt x="615" y="88"/>
                  </a:lnTo>
                  <a:lnTo>
                    <a:pt x="587" y="58"/>
                  </a:lnTo>
                  <a:lnTo>
                    <a:pt x="557" y="35"/>
                  </a:lnTo>
                  <a:lnTo>
                    <a:pt x="526" y="16"/>
                  </a:lnTo>
                  <a:lnTo>
                    <a:pt x="494" y="5"/>
                  </a:lnTo>
                  <a:lnTo>
                    <a:pt x="460" y="0"/>
                  </a:lnTo>
                  <a:lnTo>
                    <a:pt x="428" y="1"/>
                  </a:lnTo>
                  <a:lnTo>
                    <a:pt x="396" y="11"/>
                  </a:lnTo>
                  <a:lnTo>
                    <a:pt x="364" y="26"/>
                  </a:lnTo>
                  <a:lnTo>
                    <a:pt x="333" y="48"/>
                  </a:lnTo>
                  <a:lnTo>
                    <a:pt x="303" y="75"/>
                  </a:lnTo>
                  <a:lnTo>
                    <a:pt x="277" y="108"/>
                  </a:lnTo>
                  <a:lnTo>
                    <a:pt x="250" y="147"/>
                  </a:lnTo>
                  <a:lnTo>
                    <a:pt x="227" y="190"/>
                  </a:lnTo>
                  <a:lnTo>
                    <a:pt x="207" y="238"/>
                  </a:lnTo>
                  <a:lnTo>
                    <a:pt x="190" y="290"/>
                  </a:lnTo>
                  <a:lnTo>
                    <a:pt x="167" y="284"/>
                  </a:lnTo>
                  <a:lnTo>
                    <a:pt x="144" y="282"/>
                  </a:lnTo>
                  <a:lnTo>
                    <a:pt x="121" y="287"/>
                  </a:lnTo>
                  <a:lnTo>
                    <a:pt x="99" y="300"/>
                  </a:lnTo>
                  <a:lnTo>
                    <a:pt x="78" y="317"/>
                  </a:lnTo>
                  <a:lnTo>
                    <a:pt x="59" y="340"/>
                  </a:lnTo>
                  <a:lnTo>
                    <a:pt x="42" y="370"/>
                  </a:lnTo>
                  <a:lnTo>
                    <a:pt x="27" y="402"/>
                  </a:lnTo>
                  <a:lnTo>
                    <a:pt x="15" y="439"/>
                  </a:lnTo>
                  <a:lnTo>
                    <a:pt x="8" y="479"/>
                  </a:lnTo>
                  <a:lnTo>
                    <a:pt x="2" y="521"/>
                  </a:lnTo>
                  <a:lnTo>
                    <a:pt x="0" y="564"/>
                  </a:lnTo>
                  <a:lnTo>
                    <a:pt x="2" y="606"/>
                  </a:lnTo>
                  <a:lnTo>
                    <a:pt x="8" y="648"/>
                  </a:lnTo>
                  <a:lnTo>
                    <a:pt x="15" y="688"/>
                  </a:lnTo>
                  <a:lnTo>
                    <a:pt x="27" y="724"/>
                  </a:lnTo>
                  <a:lnTo>
                    <a:pt x="42" y="758"/>
                  </a:lnTo>
                  <a:lnTo>
                    <a:pt x="59" y="786"/>
                  </a:lnTo>
                  <a:lnTo>
                    <a:pt x="78" y="809"/>
                  </a:lnTo>
                  <a:lnTo>
                    <a:pt x="99" y="828"/>
                  </a:lnTo>
                  <a:lnTo>
                    <a:pt x="121" y="839"/>
                  </a:lnTo>
                  <a:lnTo>
                    <a:pt x="144" y="845"/>
                  </a:lnTo>
                  <a:lnTo>
                    <a:pt x="167" y="845"/>
                  </a:lnTo>
                  <a:lnTo>
                    <a:pt x="190" y="836"/>
                  </a:lnTo>
                  <a:close/>
                </a:path>
              </a:pathLst>
            </a:custGeom>
            <a:solidFill>
              <a:srgbClr val="b7ff6f"/>
            </a:solidFill>
            <a:ln w="396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10080" y="5373720"/>
              <a:ext cx="43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W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906880" y="5373720"/>
              <a:ext cx="0" cy="1179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960880" y="5373720"/>
              <a:ext cx="43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305560" y="5433840"/>
              <a:ext cx="304920" cy="2088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308800" y="5257800"/>
              <a:ext cx="273240" cy="17460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8392680" y="5303880"/>
              <a:ext cx="8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577000" y="5259240"/>
              <a:ext cx="33480" cy="19548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8223120" y="5373720"/>
              <a:ext cx="84240" cy="11592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29320" y="5410080"/>
              <a:ext cx="72396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94440" y="5715000"/>
              <a:ext cx="63972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ccess (A) Devi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Embedded or Stand-Al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andalone A-device connects externally to a home broadband access mod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.g., a cable modem of DSL mod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mbedded A-device is built into same physical enclosure as the mod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162880" y="5857920"/>
            <a:ext cx="48517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llustrates security conce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ridging De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82880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terconnect different types of data lin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ired, wirel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ynchronous, asynchron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.g., 802.2, 802.11, HPNA™, HomeRF™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QoS a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410080" y="5257800"/>
            <a:ext cx="3200400" cy="1295280"/>
            <a:chOff x="5410080" y="5257800"/>
            <a:chExt cx="3200400" cy="1295280"/>
          </a:xfrm>
        </p:grpSpPr>
        <p:sp>
          <p:nvSpPr>
            <p:cNvPr id="190" name=""/>
            <p:cNvSpPr/>
            <p:nvPr/>
          </p:nvSpPr>
          <p:spPr>
            <a:xfrm>
              <a:off x="5519520" y="5743440"/>
              <a:ext cx="470160" cy="0"/>
            </a:xfrm>
            <a:prstGeom prst="line">
              <a:avLst/>
            </a:prstGeom>
            <a:ln w="39600">
              <a:solidFill>
                <a:srgbClr val="3772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906880" y="5603760"/>
              <a:ext cx="457200" cy="266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97320" y="5673600"/>
              <a:ext cx="8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6939000" y="5601960"/>
              <a:ext cx="153720" cy="8100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381800" y="5586480"/>
              <a:ext cx="257040" cy="324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8002080" y="5600880"/>
              <a:ext cx="103320" cy="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8196120" y="5660640"/>
              <a:ext cx="1440" cy="11124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8007120" y="5929200"/>
              <a:ext cx="122400" cy="9072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812000" y="6164280"/>
              <a:ext cx="272880" cy="23760"/>
            </a:xfrm>
            <a:custGeom>
              <a:avLst/>
              <a:gdLst/>
              <a:ahLst/>
              <a:rect l="l" t="t" r="r" b="b"/>
              <a:pathLst>
                <a:path w="1207" h="99">
                  <a:moveTo>
                    <a:pt x="1065" y="0"/>
                  </a:moveTo>
                  <a:lnTo>
                    <a:pt x="0" y="0"/>
                  </a:lnTo>
                  <a:lnTo>
                    <a:pt x="141" y="99"/>
                  </a:lnTo>
                  <a:lnTo>
                    <a:pt x="1207" y="99"/>
                  </a:lnTo>
                  <a:lnTo>
                    <a:pt x="1065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53200" y="6018120"/>
              <a:ext cx="31680" cy="169920"/>
            </a:xfrm>
            <a:custGeom>
              <a:avLst/>
              <a:gdLst/>
              <a:ahLst/>
              <a:rect l="l" t="t" r="r" b="b"/>
              <a:pathLst>
                <a:path w="142" h="703">
                  <a:moveTo>
                    <a:pt x="142" y="703"/>
                  </a:moveTo>
                  <a:lnTo>
                    <a:pt x="0" y="604"/>
                  </a:lnTo>
                  <a:lnTo>
                    <a:pt x="0" y="0"/>
                  </a:lnTo>
                  <a:lnTo>
                    <a:pt x="142" y="98"/>
                  </a:lnTo>
                  <a:lnTo>
                    <a:pt x="142" y="703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812000" y="6018120"/>
              <a:ext cx="241200" cy="147600"/>
            </a:xfrm>
            <a:prstGeom prst="rect">
              <a:avLst/>
            </a:prstGeom>
            <a:solidFill>
              <a:srgbClr val="ccb5b5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86880" y="6067440"/>
              <a:ext cx="102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264520" y="6211800"/>
              <a:ext cx="345960" cy="23760"/>
            </a:xfrm>
            <a:custGeom>
              <a:avLst/>
              <a:gdLst/>
              <a:ahLst/>
              <a:rect l="l" t="t" r="r" b="b"/>
              <a:pathLst>
                <a:path w="1207" h="99">
                  <a:moveTo>
                    <a:pt x="1066" y="0"/>
                  </a:moveTo>
                  <a:lnTo>
                    <a:pt x="0" y="0"/>
                  </a:lnTo>
                  <a:lnTo>
                    <a:pt x="142" y="99"/>
                  </a:lnTo>
                  <a:lnTo>
                    <a:pt x="1207" y="99"/>
                  </a:lnTo>
                  <a:lnTo>
                    <a:pt x="1066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569080" y="6067440"/>
              <a:ext cx="41400" cy="168120"/>
            </a:xfrm>
            <a:custGeom>
              <a:avLst/>
              <a:gdLst/>
              <a:ahLst/>
              <a:rect l="l" t="t" r="r" b="b"/>
              <a:pathLst>
                <a:path w="141" h="703">
                  <a:moveTo>
                    <a:pt x="141" y="703"/>
                  </a:moveTo>
                  <a:lnTo>
                    <a:pt x="0" y="604"/>
                  </a:lnTo>
                  <a:lnTo>
                    <a:pt x="0" y="0"/>
                  </a:lnTo>
                  <a:lnTo>
                    <a:pt x="141" y="98"/>
                  </a:lnTo>
                  <a:lnTo>
                    <a:pt x="141" y="703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264520" y="6067440"/>
              <a:ext cx="306360" cy="146160"/>
            </a:xfrm>
            <a:prstGeom prst="rect">
              <a:avLst/>
            </a:prstGeom>
            <a:solidFill>
              <a:srgbClr val="ccb5b5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354880" y="6113520"/>
              <a:ext cx="102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8307000" y="5978520"/>
              <a:ext cx="106200" cy="9216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351480" y="5721480"/>
              <a:ext cx="230040" cy="288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1560" y="5667480"/>
              <a:ext cx="304920" cy="2052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84800" y="5492880"/>
              <a:ext cx="273240" cy="17280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75520" y="5559480"/>
              <a:ext cx="8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54800" y="5492880"/>
              <a:ext cx="31680" cy="19512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6931080" y="5775480"/>
              <a:ext cx="266400" cy="10152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 flipV="1">
              <a:off x="7445160" y="5984640"/>
              <a:ext cx="101520" cy="19836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61280" y="6327720"/>
              <a:ext cx="334800" cy="23760"/>
            </a:xfrm>
            <a:custGeom>
              <a:avLst/>
              <a:gdLst/>
              <a:ahLst/>
              <a:rect l="l" t="t" r="r" b="b"/>
              <a:pathLst>
                <a:path w="1205" h="99">
                  <a:moveTo>
                    <a:pt x="1064" y="0"/>
                  </a:moveTo>
                  <a:lnTo>
                    <a:pt x="0" y="0"/>
                  </a:lnTo>
                  <a:lnTo>
                    <a:pt x="142" y="99"/>
                  </a:lnTo>
                  <a:lnTo>
                    <a:pt x="1205" y="99"/>
                  </a:lnTo>
                  <a:lnTo>
                    <a:pt x="1064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656480" y="6181560"/>
              <a:ext cx="39600" cy="169920"/>
            </a:xfrm>
            <a:custGeom>
              <a:avLst/>
              <a:gdLst/>
              <a:ahLst/>
              <a:rect l="l" t="t" r="r" b="b"/>
              <a:pathLst>
                <a:path w="141" h="703">
                  <a:moveTo>
                    <a:pt x="141" y="703"/>
                  </a:moveTo>
                  <a:lnTo>
                    <a:pt x="0" y="604"/>
                  </a:lnTo>
                  <a:lnTo>
                    <a:pt x="0" y="0"/>
                  </a:lnTo>
                  <a:lnTo>
                    <a:pt x="141" y="99"/>
                  </a:lnTo>
                  <a:lnTo>
                    <a:pt x="141" y="703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359480" y="6181560"/>
              <a:ext cx="295200" cy="147960"/>
            </a:xfrm>
            <a:prstGeom prst="rect">
              <a:avLst/>
            </a:prstGeom>
            <a:solidFill>
              <a:srgbClr val="ccb5b5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369200" y="622944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92800" y="5659560"/>
              <a:ext cx="304920" cy="2052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8096040" y="5483160"/>
              <a:ext cx="273240" cy="17460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197560" y="5535720"/>
              <a:ext cx="8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366040" y="5484960"/>
              <a:ext cx="31680" cy="19512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181640" y="5967360"/>
              <a:ext cx="306360" cy="2052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186320" y="5792760"/>
              <a:ext cx="273240" cy="17460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287840" y="5859360"/>
              <a:ext cx="8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54880" y="5792760"/>
              <a:ext cx="33120" cy="19512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08800" y="5603760"/>
              <a:ext cx="506160" cy="249480"/>
            </a:xfrm>
            <a:custGeom>
              <a:avLst/>
              <a:gdLst/>
              <a:ahLst/>
              <a:rect l="l" t="t" r="r" b="b"/>
              <a:pathLst>
                <a:path w="1285" h="1127">
                  <a:moveTo>
                    <a:pt x="190" y="836"/>
                  </a:moveTo>
                  <a:lnTo>
                    <a:pt x="207" y="888"/>
                  </a:lnTo>
                  <a:lnTo>
                    <a:pt x="227" y="936"/>
                  </a:lnTo>
                  <a:lnTo>
                    <a:pt x="250" y="980"/>
                  </a:lnTo>
                  <a:lnTo>
                    <a:pt x="277" y="1018"/>
                  </a:lnTo>
                  <a:lnTo>
                    <a:pt x="303" y="1052"/>
                  </a:lnTo>
                  <a:lnTo>
                    <a:pt x="333" y="1080"/>
                  </a:lnTo>
                  <a:lnTo>
                    <a:pt x="364" y="1102"/>
                  </a:lnTo>
                  <a:lnTo>
                    <a:pt x="396" y="1117"/>
                  </a:lnTo>
                  <a:lnTo>
                    <a:pt x="428" y="1125"/>
                  </a:lnTo>
                  <a:lnTo>
                    <a:pt x="460" y="1127"/>
                  </a:lnTo>
                  <a:lnTo>
                    <a:pt x="494" y="1122"/>
                  </a:lnTo>
                  <a:lnTo>
                    <a:pt x="526" y="1112"/>
                  </a:lnTo>
                  <a:lnTo>
                    <a:pt x="557" y="1093"/>
                  </a:lnTo>
                  <a:lnTo>
                    <a:pt x="587" y="1070"/>
                  </a:lnTo>
                  <a:lnTo>
                    <a:pt x="615" y="1040"/>
                  </a:lnTo>
                  <a:lnTo>
                    <a:pt x="644" y="1003"/>
                  </a:lnTo>
                  <a:lnTo>
                    <a:pt x="670" y="1040"/>
                  </a:lnTo>
                  <a:lnTo>
                    <a:pt x="698" y="1070"/>
                  </a:lnTo>
                  <a:lnTo>
                    <a:pt x="729" y="1093"/>
                  </a:lnTo>
                  <a:lnTo>
                    <a:pt x="759" y="1112"/>
                  </a:lnTo>
                  <a:lnTo>
                    <a:pt x="791" y="1122"/>
                  </a:lnTo>
                  <a:lnTo>
                    <a:pt x="825" y="1127"/>
                  </a:lnTo>
                  <a:lnTo>
                    <a:pt x="857" y="1125"/>
                  </a:lnTo>
                  <a:lnTo>
                    <a:pt x="890" y="1117"/>
                  </a:lnTo>
                  <a:lnTo>
                    <a:pt x="922" y="1102"/>
                  </a:lnTo>
                  <a:lnTo>
                    <a:pt x="952" y="1080"/>
                  </a:lnTo>
                  <a:lnTo>
                    <a:pt x="982" y="1052"/>
                  </a:lnTo>
                  <a:lnTo>
                    <a:pt x="1009" y="1018"/>
                  </a:lnTo>
                  <a:lnTo>
                    <a:pt x="1035" y="980"/>
                  </a:lnTo>
                  <a:lnTo>
                    <a:pt x="1058" y="936"/>
                  </a:lnTo>
                  <a:lnTo>
                    <a:pt x="1079" y="888"/>
                  </a:lnTo>
                  <a:lnTo>
                    <a:pt x="1096" y="836"/>
                  </a:lnTo>
                  <a:lnTo>
                    <a:pt x="1118" y="845"/>
                  </a:lnTo>
                  <a:lnTo>
                    <a:pt x="1141" y="845"/>
                  </a:lnTo>
                  <a:lnTo>
                    <a:pt x="1164" y="839"/>
                  </a:lnTo>
                  <a:lnTo>
                    <a:pt x="1187" y="828"/>
                  </a:lnTo>
                  <a:lnTo>
                    <a:pt x="1207" y="809"/>
                  </a:lnTo>
                  <a:lnTo>
                    <a:pt x="1226" y="786"/>
                  </a:lnTo>
                  <a:lnTo>
                    <a:pt x="1243" y="758"/>
                  </a:lnTo>
                  <a:lnTo>
                    <a:pt x="1258" y="724"/>
                  </a:lnTo>
                  <a:lnTo>
                    <a:pt x="1270" y="688"/>
                  </a:lnTo>
                  <a:lnTo>
                    <a:pt x="1277" y="648"/>
                  </a:lnTo>
                  <a:lnTo>
                    <a:pt x="1283" y="606"/>
                  </a:lnTo>
                  <a:lnTo>
                    <a:pt x="1285" y="564"/>
                  </a:lnTo>
                  <a:lnTo>
                    <a:pt x="1283" y="521"/>
                  </a:lnTo>
                  <a:lnTo>
                    <a:pt x="1277" y="479"/>
                  </a:lnTo>
                  <a:lnTo>
                    <a:pt x="1270" y="439"/>
                  </a:lnTo>
                  <a:lnTo>
                    <a:pt x="1258" y="402"/>
                  </a:lnTo>
                  <a:lnTo>
                    <a:pt x="1243" y="370"/>
                  </a:lnTo>
                  <a:lnTo>
                    <a:pt x="1226" y="340"/>
                  </a:lnTo>
                  <a:lnTo>
                    <a:pt x="1207" y="317"/>
                  </a:lnTo>
                  <a:lnTo>
                    <a:pt x="1187" y="300"/>
                  </a:lnTo>
                  <a:lnTo>
                    <a:pt x="1164" y="287"/>
                  </a:lnTo>
                  <a:lnTo>
                    <a:pt x="1141" y="282"/>
                  </a:lnTo>
                  <a:lnTo>
                    <a:pt x="1118" y="284"/>
                  </a:lnTo>
                  <a:lnTo>
                    <a:pt x="1096" y="290"/>
                  </a:lnTo>
                  <a:lnTo>
                    <a:pt x="1079" y="238"/>
                  </a:lnTo>
                  <a:lnTo>
                    <a:pt x="1058" y="190"/>
                  </a:lnTo>
                  <a:lnTo>
                    <a:pt x="1035" y="147"/>
                  </a:lnTo>
                  <a:lnTo>
                    <a:pt x="1009" y="108"/>
                  </a:lnTo>
                  <a:lnTo>
                    <a:pt x="982" y="75"/>
                  </a:lnTo>
                  <a:lnTo>
                    <a:pt x="952" y="48"/>
                  </a:lnTo>
                  <a:lnTo>
                    <a:pt x="922" y="26"/>
                  </a:lnTo>
                  <a:lnTo>
                    <a:pt x="890" y="11"/>
                  </a:lnTo>
                  <a:lnTo>
                    <a:pt x="857" y="1"/>
                  </a:lnTo>
                  <a:lnTo>
                    <a:pt x="825" y="0"/>
                  </a:lnTo>
                  <a:lnTo>
                    <a:pt x="791" y="5"/>
                  </a:lnTo>
                  <a:lnTo>
                    <a:pt x="759" y="16"/>
                  </a:lnTo>
                  <a:lnTo>
                    <a:pt x="729" y="35"/>
                  </a:lnTo>
                  <a:lnTo>
                    <a:pt x="698" y="58"/>
                  </a:lnTo>
                  <a:lnTo>
                    <a:pt x="670" y="88"/>
                  </a:lnTo>
                  <a:lnTo>
                    <a:pt x="644" y="123"/>
                  </a:lnTo>
                  <a:lnTo>
                    <a:pt x="615" y="88"/>
                  </a:lnTo>
                  <a:lnTo>
                    <a:pt x="587" y="58"/>
                  </a:lnTo>
                  <a:lnTo>
                    <a:pt x="557" y="35"/>
                  </a:lnTo>
                  <a:lnTo>
                    <a:pt x="526" y="16"/>
                  </a:lnTo>
                  <a:lnTo>
                    <a:pt x="494" y="5"/>
                  </a:lnTo>
                  <a:lnTo>
                    <a:pt x="460" y="0"/>
                  </a:lnTo>
                  <a:lnTo>
                    <a:pt x="428" y="1"/>
                  </a:lnTo>
                  <a:lnTo>
                    <a:pt x="396" y="11"/>
                  </a:lnTo>
                  <a:lnTo>
                    <a:pt x="364" y="26"/>
                  </a:lnTo>
                  <a:lnTo>
                    <a:pt x="333" y="48"/>
                  </a:lnTo>
                  <a:lnTo>
                    <a:pt x="303" y="75"/>
                  </a:lnTo>
                  <a:lnTo>
                    <a:pt x="277" y="108"/>
                  </a:lnTo>
                  <a:lnTo>
                    <a:pt x="250" y="147"/>
                  </a:lnTo>
                  <a:lnTo>
                    <a:pt x="227" y="190"/>
                  </a:lnTo>
                  <a:lnTo>
                    <a:pt x="207" y="238"/>
                  </a:lnTo>
                  <a:lnTo>
                    <a:pt x="190" y="290"/>
                  </a:lnTo>
                  <a:lnTo>
                    <a:pt x="167" y="284"/>
                  </a:lnTo>
                  <a:lnTo>
                    <a:pt x="144" y="282"/>
                  </a:lnTo>
                  <a:lnTo>
                    <a:pt x="121" y="287"/>
                  </a:lnTo>
                  <a:lnTo>
                    <a:pt x="99" y="300"/>
                  </a:lnTo>
                  <a:lnTo>
                    <a:pt x="78" y="317"/>
                  </a:lnTo>
                  <a:lnTo>
                    <a:pt x="59" y="340"/>
                  </a:lnTo>
                  <a:lnTo>
                    <a:pt x="42" y="370"/>
                  </a:lnTo>
                  <a:lnTo>
                    <a:pt x="27" y="402"/>
                  </a:lnTo>
                  <a:lnTo>
                    <a:pt x="15" y="439"/>
                  </a:lnTo>
                  <a:lnTo>
                    <a:pt x="8" y="479"/>
                  </a:lnTo>
                  <a:lnTo>
                    <a:pt x="2" y="521"/>
                  </a:lnTo>
                  <a:lnTo>
                    <a:pt x="0" y="564"/>
                  </a:lnTo>
                  <a:lnTo>
                    <a:pt x="2" y="606"/>
                  </a:lnTo>
                  <a:lnTo>
                    <a:pt x="8" y="648"/>
                  </a:lnTo>
                  <a:lnTo>
                    <a:pt x="15" y="688"/>
                  </a:lnTo>
                  <a:lnTo>
                    <a:pt x="27" y="724"/>
                  </a:lnTo>
                  <a:lnTo>
                    <a:pt x="42" y="758"/>
                  </a:lnTo>
                  <a:lnTo>
                    <a:pt x="59" y="786"/>
                  </a:lnTo>
                  <a:lnTo>
                    <a:pt x="78" y="809"/>
                  </a:lnTo>
                  <a:lnTo>
                    <a:pt x="99" y="828"/>
                  </a:lnTo>
                  <a:lnTo>
                    <a:pt x="121" y="839"/>
                  </a:lnTo>
                  <a:lnTo>
                    <a:pt x="144" y="845"/>
                  </a:lnTo>
                  <a:lnTo>
                    <a:pt x="167" y="845"/>
                  </a:lnTo>
                  <a:lnTo>
                    <a:pt x="190" y="836"/>
                  </a:lnTo>
                  <a:close/>
                </a:path>
              </a:pathLst>
            </a:custGeom>
            <a:solidFill>
              <a:srgbClr val="b7ff6f"/>
            </a:solidFill>
            <a:ln w="396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400800" y="5562720"/>
              <a:ext cx="7239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958160" y="5748480"/>
              <a:ext cx="506160" cy="249120"/>
            </a:xfrm>
            <a:custGeom>
              <a:avLst/>
              <a:gdLst/>
              <a:ahLst/>
              <a:rect l="l" t="t" r="r" b="b"/>
              <a:pathLst>
                <a:path w="1285" h="1127">
                  <a:moveTo>
                    <a:pt x="190" y="836"/>
                  </a:moveTo>
                  <a:lnTo>
                    <a:pt x="207" y="888"/>
                  </a:lnTo>
                  <a:lnTo>
                    <a:pt x="227" y="936"/>
                  </a:lnTo>
                  <a:lnTo>
                    <a:pt x="250" y="980"/>
                  </a:lnTo>
                  <a:lnTo>
                    <a:pt x="277" y="1018"/>
                  </a:lnTo>
                  <a:lnTo>
                    <a:pt x="303" y="1052"/>
                  </a:lnTo>
                  <a:lnTo>
                    <a:pt x="333" y="1080"/>
                  </a:lnTo>
                  <a:lnTo>
                    <a:pt x="364" y="1102"/>
                  </a:lnTo>
                  <a:lnTo>
                    <a:pt x="396" y="1117"/>
                  </a:lnTo>
                  <a:lnTo>
                    <a:pt x="428" y="1125"/>
                  </a:lnTo>
                  <a:lnTo>
                    <a:pt x="460" y="1127"/>
                  </a:lnTo>
                  <a:lnTo>
                    <a:pt x="494" y="1122"/>
                  </a:lnTo>
                  <a:lnTo>
                    <a:pt x="526" y="1112"/>
                  </a:lnTo>
                  <a:lnTo>
                    <a:pt x="557" y="1093"/>
                  </a:lnTo>
                  <a:lnTo>
                    <a:pt x="587" y="1070"/>
                  </a:lnTo>
                  <a:lnTo>
                    <a:pt x="615" y="1040"/>
                  </a:lnTo>
                  <a:lnTo>
                    <a:pt x="644" y="1003"/>
                  </a:lnTo>
                  <a:lnTo>
                    <a:pt x="670" y="1040"/>
                  </a:lnTo>
                  <a:lnTo>
                    <a:pt x="698" y="1070"/>
                  </a:lnTo>
                  <a:lnTo>
                    <a:pt x="729" y="1093"/>
                  </a:lnTo>
                  <a:lnTo>
                    <a:pt x="759" y="1112"/>
                  </a:lnTo>
                  <a:lnTo>
                    <a:pt x="791" y="1122"/>
                  </a:lnTo>
                  <a:lnTo>
                    <a:pt x="825" y="1127"/>
                  </a:lnTo>
                  <a:lnTo>
                    <a:pt x="857" y="1125"/>
                  </a:lnTo>
                  <a:lnTo>
                    <a:pt x="890" y="1117"/>
                  </a:lnTo>
                  <a:lnTo>
                    <a:pt x="922" y="1102"/>
                  </a:lnTo>
                  <a:lnTo>
                    <a:pt x="952" y="1080"/>
                  </a:lnTo>
                  <a:lnTo>
                    <a:pt x="982" y="1052"/>
                  </a:lnTo>
                  <a:lnTo>
                    <a:pt x="1009" y="1018"/>
                  </a:lnTo>
                  <a:lnTo>
                    <a:pt x="1035" y="980"/>
                  </a:lnTo>
                  <a:lnTo>
                    <a:pt x="1058" y="936"/>
                  </a:lnTo>
                  <a:lnTo>
                    <a:pt x="1079" y="888"/>
                  </a:lnTo>
                  <a:lnTo>
                    <a:pt x="1096" y="836"/>
                  </a:lnTo>
                  <a:lnTo>
                    <a:pt x="1118" y="845"/>
                  </a:lnTo>
                  <a:lnTo>
                    <a:pt x="1141" y="845"/>
                  </a:lnTo>
                  <a:lnTo>
                    <a:pt x="1164" y="839"/>
                  </a:lnTo>
                  <a:lnTo>
                    <a:pt x="1187" y="828"/>
                  </a:lnTo>
                  <a:lnTo>
                    <a:pt x="1207" y="809"/>
                  </a:lnTo>
                  <a:lnTo>
                    <a:pt x="1226" y="786"/>
                  </a:lnTo>
                  <a:lnTo>
                    <a:pt x="1243" y="758"/>
                  </a:lnTo>
                  <a:lnTo>
                    <a:pt x="1258" y="724"/>
                  </a:lnTo>
                  <a:lnTo>
                    <a:pt x="1270" y="688"/>
                  </a:lnTo>
                  <a:lnTo>
                    <a:pt x="1277" y="648"/>
                  </a:lnTo>
                  <a:lnTo>
                    <a:pt x="1283" y="606"/>
                  </a:lnTo>
                  <a:lnTo>
                    <a:pt x="1285" y="564"/>
                  </a:lnTo>
                  <a:lnTo>
                    <a:pt x="1283" y="521"/>
                  </a:lnTo>
                  <a:lnTo>
                    <a:pt x="1277" y="479"/>
                  </a:lnTo>
                  <a:lnTo>
                    <a:pt x="1270" y="439"/>
                  </a:lnTo>
                  <a:lnTo>
                    <a:pt x="1258" y="402"/>
                  </a:lnTo>
                  <a:lnTo>
                    <a:pt x="1243" y="370"/>
                  </a:lnTo>
                  <a:lnTo>
                    <a:pt x="1226" y="340"/>
                  </a:lnTo>
                  <a:lnTo>
                    <a:pt x="1207" y="317"/>
                  </a:lnTo>
                  <a:lnTo>
                    <a:pt x="1187" y="300"/>
                  </a:lnTo>
                  <a:lnTo>
                    <a:pt x="1164" y="287"/>
                  </a:lnTo>
                  <a:lnTo>
                    <a:pt x="1141" y="282"/>
                  </a:lnTo>
                  <a:lnTo>
                    <a:pt x="1118" y="284"/>
                  </a:lnTo>
                  <a:lnTo>
                    <a:pt x="1096" y="290"/>
                  </a:lnTo>
                  <a:lnTo>
                    <a:pt x="1079" y="238"/>
                  </a:lnTo>
                  <a:lnTo>
                    <a:pt x="1058" y="190"/>
                  </a:lnTo>
                  <a:lnTo>
                    <a:pt x="1035" y="147"/>
                  </a:lnTo>
                  <a:lnTo>
                    <a:pt x="1009" y="108"/>
                  </a:lnTo>
                  <a:lnTo>
                    <a:pt x="982" y="75"/>
                  </a:lnTo>
                  <a:lnTo>
                    <a:pt x="952" y="48"/>
                  </a:lnTo>
                  <a:lnTo>
                    <a:pt x="922" y="26"/>
                  </a:lnTo>
                  <a:lnTo>
                    <a:pt x="890" y="11"/>
                  </a:lnTo>
                  <a:lnTo>
                    <a:pt x="857" y="1"/>
                  </a:lnTo>
                  <a:lnTo>
                    <a:pt x="825" y="0"/>
                  </a:lnTo>
                  <a:lnTo>
                    <a:pt x="791" y="5"/>
                  </a:lnTo>
                  <a:lnTo>
                    <a:pt x="759" y="16"/>
                  </a:lnTo>
                  <a:lnTo>
                    <a:pt x="729" y="35"/>
                  </a:lnTo>
                  <a:lnTo>
                    <a:pt x="698" y="58"/>
                  </a:lnTo>
                  <a:lnTo>
                    <a:pt x="670" y="88"/>
                  </a:lnTo>
                  <a:lnTo>
                    <a:pt x="644" y="123"/>
                  </a:lnTo>
                  <a:lnTo>
                    <a:pt x="615" y="88"/>
                  </a:lnTo>
                  <a:lnTo>
                    <a:pt x="587" y="58"/>
                  </a:lnTo>
                  <a:lnTo>
                    <a:pt x="557" y="35"/>
                  </a:lnTo>
                  <a:lnTo>
                    <a:pt x="526" y="16"/>
                  </a:lnTo>
                  <a:lnTo>
                    <a:pt x="494" y="5"/>
                  </a:lnTo>
                  <a:lnTo>
                    <a:pt x="460" y="0"/>
                  </a:lnTo>
                  <a:lnTo>
                    <a:pt x="428" y="1"/>
                  </a:lnTo>
                  <a:lnTo>
                    <a:pt x="396" y="11"/>
                  </a:lnTo>
                  <a:lnTo>
                    <a:pt x="364" y="26"/>
                  </a:lnTo>
                  <a:lnTo>
                    <a:pt x="333" y="48"/>
                  </a:lnTo>
                  <a:lnTo>
                    <a:pt x="303" y="75"/>
                  </a:lnTo>
                  <a:lnTo>
                    <a:pt x="277" y="108"/>
                  </a:lnTo>
                  <a:lnTo>
                    <a:pt x="250" y="147"/>
                  </a:lnTo>
                  <a:lnTo>
                    <a:pt x="227" y="190"/>
                  </a:lnTo>
                  <a:lnTo>
                    <a:pt x="207" y="238"/>
                  </a:lnTo>
                  <a:lnTo>
                    <a:pt x="190" y="290"/>
                  </a:lnTo>
                  <a:lnTo>
                    <a:pt x="167" y="284"/>
                  </a:lnTo>
                  <a:lnTo>
                    <a:pt x="144" y="282"/>
                  </a:lnTo>
                  <a:lnTo>
                    <a:pt x="121" y="287"/>
                  </a:lnTo>
                  <a:lnTo>
                    <a:pt x="99" y="300"/>
                  </a:lnTo>
                  <a:lnTo>
                    <a:pt x="78" y="317"/>
                  </a:lnTo>
                  <a:lnTo>
                    <a:pt x="59" y="340"/>
                  </a:lnTo>
                  <a:lnTo>
                    <a:pt x="42" y="370"/>
                  </a:lnTo>
                  <a:lnTo>
                    <a:pt x="27" y="402"/>
                  </a:lnTo>
                  <a:lnTo>
                    <a:pt x="15" y="439"/>
                  </a:lnTo>
                  <a:lnTo>
                    <a:pt x="8" y="479"/>
                  </a:lnTo>
                  <a:lnTo>
                    <a:pt x="2" y="521"/>
                  </a:lnTo>
                  <a:lnTo>
                    <a:pt x="0" y="564"/>
                  </a:lnTo>
                  <a:lnTo>
                    <a:pt x="2" y="606"/>
                  </a:lnTo>
                  <a:lnTo>
                    <a:pt x="8" y="648"/>
                  </a:lnTo>
                  <a:lnTo>
                    <a:pt x="15" y="688"/>
                  </a:lnTo>
                  <a:lnTo>
                    <a:pt x="27" y="724"/>
                  </a:lnTo>
                  <a:lnTo>
                    <a:pt x="42" y="758"/>
                  </a:lnTo>
                  <a:lnTo>
                    <a:pt x="59" y="786"/>
                  </a:lnTo>
                  <a:lnTo>
                    <a:pt x="78" y="809"/>
                  </a:lnTo>
                  <a:lnTo>
                    <a:pt x="99" y="828"/>
                  </a:lnTo>
                  <a:lnTo>
                    <a:pt x="121" y="839"/>
                  </a:lnTo>
                  <a:lnTo>
                    <a:pt x="144" y="845"/>
                  </a:lnTo>
                  <a:lnTo>
                    <a:pt x="167" y="845"/>
                  </a:lnTo>
                  <a:lnTo>
                    <a:pt x="190" y="836"/>
                  </a:lnTo>
                  <a:close/>
                </a:path>
              </a:pathLst>
            </a:custGeom>
            <a:solidFill>
              <a:srgbClr val="b7ff6f"/>
            </a:solidFill>
            <a:ln w="396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510320" y="5478480"/>
              <a:ext cx="506520" cy="249120"/>
            </a:xfrm>
            <a:custGeom>
              <a:avLst/>
              <a:gdLst/>
              <a:ahLst/>
              <a:rect l="l" t="t" r="r" b="b"/>
              <a:pathLst>
                <a:path w="1285" h="1127">
                  <a:moveTo>
                    <a:pt x="190" y="836"/>
                  </a:moveTo>
                  <a:lnTo>
                    <a:pt x="207" y="888"/>
                  </a:lnTo>
                  <a:lnTo>
                    <a:pt x="227" y="936"/>
                  </a:lnTo>
                  <a:lnTo>
                    <a:pt x="250" y="980"/>
                  </a:lnTo>
                  <a:lnTo>
                    <a:pt x="277" y="1018"/>
                  </a:lnTo>
                  <a:lnTo>
                    <a:pt x="303" y="1052"/>
                  </a:lnTo>
                  <a:lnTo>
                    <a:pt x="333" y="1080"/>
                  </a:lnTo>
                  <a:lnTo>
                    <a:pt x="364" y="1102"/>
                  </a:lnTo>
                  <a:lnTo>
                    <a:pt x="396" y="1117"/>
                  </a:lnTo>
                  <a:lnTo>
                    <a:pt x="428" y="1125"/>
                  </a:lnTo>
                  <a:lnTo>
                    <a:pt x="460" y="1127"/>
                  </a:lnTo>
                  <a:lnTo>
                    <a:pt x="494" y="1122"/>
                  </a:lnTo>
                  <a:lnTo>
                    <a:pt x="526" y="1112"/>
                  </a:lnTo>
                  <a:lnTo>
                    <a:pt x="557" y="1093"/>
                  </a:lnTo>
                  <a:lnTo>
                    <a:pt x="587" y="1070"/>
                  </a:lnTo>
                  <a:lnTo>
                    <a:pt x="615" y="1040"/>
                  </a:lnTo>
                  <a:lnTo>
                    <a:pt x="644" y="1003"/>
                  </a:lnTo>
                  <a:lnTo>
                    <a:pt x="670" y="1040"/>
                  </a:lnTo>
                  <a:lnTo>
                    <a:pt x="698" y="1070"/>
                  </a:lnTo>
                  <a:lnTo>
                    <a:pt x="729" y="1093"/>
                  </a:lnTo>
                  <a:lnTo>
                    <a:pt x="759" y="1112"/>
                  </a:lnTo>
                  <a:lnTo>
                    <a:pt x="791" y="1122"/>
                  </a:lnTo>
                  <a:lnTo>
                    <a:pt x="825" y="1127"/>
                  </a:lnTo>
                  <a:lnTo>
                    <a:pt x="857" y="1125"/>
                  </a:lnTo>
                  <a:lnTo>
                    <a:pt x="890" y="1117"/>
                  </a:lnTo>
                  <a:lnTo>
                    <a:pt x="922" y="1102"/>
                  </a:lnTo>
                  <a:lnTo>
                    <a:pt x="952" y="1080"/>
                  </a:lnTo>
                  <a:lnTo>
                    <a:pt x="982" y="1052"/>
                  </a:lnTo>
                  <a:lnTo>
                    <a:pt x="1009" y="1018"/>
                  </a:lnTo>
                  <a:lnTo>
                    <a:pt x="1035" y="980"/>
                  </a:lnTo>
                  <a:lnTo>
                    <a:pt x="1058" y="936"/>
                  </a:lnTo>
                  <a:lnTo>
                    <a:pt x="1079" y="888"/>
                  </a:lnTo>
                  <a:lnTo>
                    <a:pt x="1096" y="836"/>
                  </a:lnTo>
                  <a:lnTo>
                    <a:pt x="1118" y="845"/>
                  </a:lnTo>
                  <a:lnTo>
                    <a:pt x="1141" y="845"/>
                  </a:lnTo>
                  <a:lnTo>
                    <a:pt x="1164" y="839"/>
                  </a:lnTo>
                  <a:lnTo>
                    <a:pt x="1187" y="828"/>
                  </a:lnTo>
                  <a:lnTo>
                    <a:pt x="1207" y="809"/>
                  </a:lnTo>
                  <a:lnTo>
                    <a:pt x="1226" y="786"/>
                  </a:lnTo>
                  <a:lnTo>
                    <a:pt x="1243" y="758"/>
                  </a:lnTo>
                  <a:lnTo>
                    <a:pt x="1258" y="724"/>
                  </a:lnTo>
                  <a:lnTo>
                    <a:pt x="1270" y="688"/>
                  </a:lnTo>
                  <a:lnTo>
                    <a:pt x="1277" y="648"/>
                  </a:lnTo>
                  <a:lnTo>
                    <a:pt x="1283" y="606"/>
                  </a:lnTo>
                  <a:lnTo>
                    <a:pt x="1285" y="564"/>
                  </a:lnTo>
                  <a:lnTo>
                    <a:pt x="1283" y="521"/>
                  </a:lnTo>
                  <a:lnTo>
                    <a:pt x="1277" y="479"/>
                  </a:lnTo>
                  <a:lnTo>
                    <a:pt x="1270" y="439"/>
                  </a:lnTo>
                  <a:lnTo>
                    <a:pt x="1258" y="402"/>
                  </a:lnTo>
                  <a:lnTo>
                    <a:pt x="1243" y="370"/>
                  </a:lnTo>
                  <a:lnTo>
                    <a:pt x="1226" y="340"/>
                  </a:lnTo>
                  <a:lnTo>
                    <a:pt x="1207" y="317"/>
                  </a:lnTo>
                  <a:lnTo>
                    <a:pt x="1187" y="300"/>
                  </a:lnTo>
                  <a:lnTo>
                    <a:pt x="1164" y="287"/>
                  </a:lnTo>
                  <a:lnTo>
                    <a:pt x="1141" y="282"/>
                  </a:lnTo>
                  <a:lnTo>
                    <a:pt x="1118" y="284"/>
                  </a:lnTo>
                  <a:lnTo>
                    <a:pt x="1096" y="290"/>
                  </a:lnTo>
                  <a:lnTo>
                    <a:pt x="1079" y="238"/>
                  </a:lnTo>
                  <a:lnTo>
                    <a:pt x="1058" y="190"/>
                  </a:lnTo>
                  <a:lnTo>
                    <a:pt x="1035" y="147"/>
                  </a:lnTo>
                  <a:lnTo>
                    <a:pt x="1009" y="108"/>
                  </a:lnTo>
                  <a:lnTo>
                    <a:pt x="982" y="75"/>
                  </a:lnTo>
                  <a:lnTo>
                    <a:pt x="952" y="48"/>
                  </a:lnTo>
                  <a:lnTo>
                    <a:pt x="922" y="26"/>
                  </a:lnTo>
                  <a:lnTo>
                    <a:pt x="890" y="11"/>
                  </a:lnTo>
                  <a:lnTo>
                    <a:pt x="857" y="1"/>
                  </a:lnTo>
                  <a:lnTo>
                    <a:pt x="825" y="0"/>
                  </a:lnTo>
                  <a:lnTo>
                    <a:pt x="791" y="5"/>
                  </a:lnTo>
                  <a:lnTo>
                    <a:pt x="759" y="16"/>
                  </a:lnTo>
                  <a:lnTo>
                    <a:pt x="729" y="35"/>
                  </a:lnTo>
                  <a:lnTo>
                    <a:pt x="698" y="58"/>
                  </a:lnTo>
                  <a:lnTo>
                    <a:pt x="670" y="88"/>
                  </a:lnTo>
                  <a:lnTo>
                    <a:pt x="644" y="123"/>
                  </a:lnTo>
                  <a:lnTo>
                    <a:pt x="615" y="88"/>
                  </a:lnTo>
                  <a:lnTo>
                    <a:pt x="587" y="58"/>
                  </a:lnTo>
                  <a:lnTo>
                    <a:pt x="557" y="35"/>
                  </a:lnTo>
                  <a:lnTo>
                    <a:pt x="526" y="16"/>
                  </a:lnTo>
                  <a:lnTo>
                    <a:pt x="494" y="5"/>
                  </a:lnTo>
                  <a:lnTo>
                    <a:pt x="460" y="0"/>
                  </a:lnTo>
                  <a:lnTo>
                    <a:pt x="428" y="1"/>
                  </a:lnTo>
                  <a:lnTo>
                    <a:pt x="396" y="11"/>
                  </a:lnTo>
                  <a:lnTo>
                    <a:pt x="364" y="26"/>
                  </a:lnTo>
                  <a:lnTo>
                    <a:pt x="333" y="48"/>
                  </a:lnTo>
                  <a:lnTo>
                    <a:pt x="303" y="75"/>
                  </a:lnTo>
                  <a:lnTo>
                    <a:pt x="277" y="108"/>
                  </a:lnTo>
                  <a:lnTo>
                    <a:pt x="250" y="147"/>
                  </a:lnTo>
                  <a:lnTo>
                    <a:pt x="227" y="190"/>
                  </a:lnTo>
                  <a:lnTo>
                    <a:pt x="207" y="238"/>
                  </a:lnTo>
                  <a:lnTo>
                    <a:pt x="190" y="290"/>
                  </a:lnTo>
                  <a:lnTo>
                    <a:pt x="167" y="284"/>
                  </a:lnTo>
                  <a:lnTo>
                    <a:pt x="144" y="282"/>
                  </a:lnTo>
                  <a:lnTo>
                    <a:pt x="121" y="287"/>
                  </a:lnTo>
                  <a:lnTo>
                    <a:pt x="99" y="300"/>
                  </a:lnTo>
                  <a:lnTo>
                    <a:pt x="78" y="317"/>
                  </a:lnTo>
                  <a:lnTo>
                    <a:pt x="59" y="340"/>
                  </a:lnTo>
                  <a:lnTo>
                    <a:pt x="42" y="370"/>
                  </a:lnTo>
                  <a:lnTo>
                    <a:pt x="27" y="402"/>
                  </a:lnTo>
                  <a:lnTo>
                    <a:pt x="15" y="439"/>
                  </a:lnTo>
                  <a:lnTo>
                    <a:pt x="8" y="479"/>
                  </a:lnTo>
                  <a:lnTo>
                    <a:pt x="2" y="521"/>
                  </a:lnTo>
                  <a:lnTo>
                    <a:pt x="0" y="564"/>
                  </a:lnTo>
                  <a:lnTo>
                    <a:pt x="2" y="606"/>
                  </a:lnTo>
                  <a:lnTo>
                    <a:pt x="8" y="648"/>
                  </a:lnTo>
                  <a:lnTo>
                    <a:pt x="15" y="688"/>
                  </a:lnTo>
                  <a:lnTo>
                    <a:pt x="27" y="724"/>
                  </a:lnTo>
                  <a:lnTo>
                    <a:pt x="42" y="758"/>
                  </a:lnTo>
                  <a:lnTo>
                    <a:pt x="59" y="786"/>
                  </a:lnTo>
                  <a:lnTo>
                    <a:pt x="78" y="809"/>
                  </a:lnTo>
                  <a:lnTo>
                    <a:pt x="99" y="828"/>
                  </a:lnTo>
                  <a:lnTo>
                    <a:pt x="121" y="839"/>
                  </a:lnTo>
                  <a:lnTo>
                    <a:pt x="144" y="845"/>
                  </a:lnTo>
                  <a:lnTo>
                    <a:pt x="167" y="845"/>
                  </a:lnTo>
                  <a:lnTo>
                    <a:pt x="190" y="836"/>
                  </a:lnTo>
                  <a:close/>
                </a:path>
              </a:pathLst>
            </a:custGeom>
            <a:solidFill>
              <a:srgbClr val="b7ff6f"/>
            </a:solidFill>
            <a:ln w="396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410080" y="5373720"/>
              <a:ext cx="43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W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906880" y="5373720"/>
              <a:ext cx="0" cy="1179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960880" y="5373720"/>
              <a:ext cx="43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05560" y="5433840"/>
              <a:ext cx="304920" cy="2088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308800" y="5257800"/>
              <a:ext cx="273240" cy="17460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392680" y="5303880"/>
              <a:ext cx="8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577000" y="5259240"/>
              <a:ext cx="33480" cy="19548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8223120" y="5373720"/>
              <a:ext cx="84240" cy="11592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29320" y="5410080"/>
              <a:ext cx="72396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894440" y="5715000"/>
              <a:ext cx="63972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ompliant End-De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erminates the managed dom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visioning/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Q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ant to keep light-weight, but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till needs DHCP, FTP, and SNMP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562720" y="5410080"/>
            <a:ext cx="3200400" cy="1295280"/>
            <a:chOff x="5562720" y="5410080"/>
            <a:chExt cx="3200400" cy="1295280"/>
          </a:xfrm>
        </p:grpSpPr>
        <p:sp>
          <p:nvSpPr>
            <p:cNvPr id="243" name=""/>
            <p:cNvSpPr/>
            <p:nvPr/>
          </p:nvSpPr>
          <p:spPr>
            <a:xfrm>
              <a:off x="5672160" y="5895720"/>
              <a:ext cx="470160" cy="0"/>
            </a:xfrm>
            <a:prstGeom prst="line">
              <a:avLst/>
            </a:prstGeom>
            <a:ln w="39600">
              <a:solidFill>
                <a:srgbClr val="3772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59520" y="5756040"/>
              <a:ext cx="457200" cy="266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49960" y="5825880"/>
              <a:ext cx="8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091640" y="5754240"/>
              <a:ext cx="153720" cy="8100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534440" y="5738760"/>
              <a:ext cx="257040" cy="324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8154720" y="5753160"/>
              <a:ext cx="103320" cy="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8348760" y="5812920"/>
              <a:ext cx="1440" cy="11124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8159760" y="6081480"/>
              <a:ext cx="122400" cy="9072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964640" y="6316560"/>
              <a:ext cx="272880" cy="23760"/>
            </a:xfrm>
            <a:custGeom>
              <a:avLst/>
              <a:gdLst/>
              <a:ahLst/>
              <a:rect l="l" t="t" r="r" b="b"/>
              <a:pathLst>
                <a:path w="1207" h="99">
                  <a:moveTo>
                    <a:pt x="1065" y="0"/>
                  </a:moveTo>
                  <a:lnTo>
                    <a:pt x="0" y="0"/>
                  </a:lnTo>
                  <a:lnTo>
                    <a:pt x="141" y="99"/>
                  </a:lnTo>
                  <a:lnTo>
                    <a:pt x="1207" y="99"/>
                  </a:lnTo>
                  <a:lnTo>
                    <a:pt x="1065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205840" y="6170400"/>
              <a:ext cx="31680" cy="169920"/>
            </a:xfrm>
            <a:custGeom>
              <a:avLst/>
              <a:gdLst/>
              <a:ahLst/>
              <a:rect l="l" t="t" r="r" b="b"/>
              <a:pathLst>
                <a:path w="142" h="703">
                  <a:moveTo>
                    <a:pt x="142" y="703"/>
                  </a:moveTo>
                  <a:lnTo>
                    <a:pt x="0" y="604"/>
                  </a:lnTo>
                  <a:lnTo>
                    <a:pt x="0" y="0"/>
                  </a:lnTo>
                  <a:lnTo>
                    <a:pt x="142" y="98"/>
                  </a:lnTo>
                  <a:lnTo>
                    <a:pt x="142" y="703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964640" y="6170400"/>
              <a:ext cx="241200" cy="147600"/>
            </a:xfrm>
            <a:prstGeom prst="rect">
              <a:avLst/>
            </a:prstGeom>
            <a:solidFill>
              <a:srgbClr val="ccb5b5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039520" y="6219720"/>
              <a:ext cx="102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417160" y="6364080"/>
              <a:ext cx="345960" cy="23760"/>
            </a:xfrm>
            <a:custGeom>
              <a:avLst/>
              <a:gdLst/>
              <a:ahLst/>
              <a:rect l="l" t="t" r="r" b="b"/>
              <a:pathLst>
                <a:path w="1207" h="99">
                  <a:moveTo>
                    <a:pt x="1066" y="0"/>
                  </a:moveTo>
                  <a:lnTo>
                    <a:pt x="0" y="0"/>
                  </a:lnTo>
                  <a:lnTo>
                    <a:pt x="142" y="99"/>
                  </a:lnTo>
                  <a:lnTo>
                    <a:pt x="1207" y="99"/>
                  </a:lnTo>
                  <a:lnTo>
                    <a:pt x="1066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721720" y="6219720"/>
              <a:ext cx="41400" cy="168120"/>
            </a:xfrm>
            <a:custGeom>
              <a:avLst/>
              <a:gdLst/>
              <a:ahLst/>
              <a:rect l="l" t="t" r="r" b="b"/>
              <a:pathLst>
                <a:path w="141" h="703">
                  <a:moveTo>
                    <a:pt x="141" y="703"/>
                  </a:moveTo>
                  <a:lnTo>
                    <a:pt x="0" y="604"/>
                  </a:lnTo>
                  <a:lnTo>
                    <a:pt x="0" y="0"/>
                  </a:lnTo>
                  <a:lnTo>
                    <a:pt x="141" y="98"/>
                  </a:lnTo>
                  <a:lnTo>
                    <a:pt x="141" y="703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17160" y="6219720"/>
              <a:ext cx="306360" cy="146160"/>
            </a:xfrm>
            <a:prstGeom prst="rect">
              <a:avLst/>
            </a:prstGeom>
            <a:solidFill>
              <a:srgbClr val="ccb5b5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507520" y="6265800"/>
              <a:ext cx="102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 flipV="1">
              <a:off x="8459640" y="6130800"/>
              <a:ext cx="106200" cy="9216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04120" y="5873760"/>
              <a:ext cx="230040" cy="288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5819760"/>
              <a:ext cx="304920" cy="2052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37440" y="5645160"/>
              <a:ext cx="273240" cy="17280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328160" y="5711760"/>
              <a:ext cx="8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507440" y="5645160"/>
              <a:ext cx="31680" cy="19512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 flipV="1">
              <a:off x="7083720" y="5927760"/>
              <a:ext cx="266400" cy="10152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 flipV="1">
              <a:off x="7597800" y="6136920"/>
              <a:ext cx="101520" cy="19836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513920" y="6480000"/>
              <a:ext cx="334800" cy="23760"/>
            </a:xfrm>
            <a:custGeom>
              <a:avLst/>
              <a:gdLst/>
              <a:ahLst/>
              <a:rect l="l" t="t" r="r" b="b"/>
              <a:pathLst>
                <a:path w="1205" h="99">
                  <a:moveTo>
                    <a:pt x="1064" y="0"/>
                  </a:moveTo>
                  <a:lnTo>
                    <a:pt x="0" y="0"/>
                  </a:lnTo>
                  <a:lnTo>
                    <a:pt x="142" y="99"/>
                  </a:lnTo>
                  <a:lnTo>
                    <a:pt x="1205" y="99"/>
                  </a:lnTo>
                  <a:lnTo>
                    <a:pt x="1064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09120" y="6333840"/>
              <a:ext cx="39600" cy="169920"/>
            </a:xfrm>
            <a:custGeom>
              <a:avLst/>
              <a:gdLst/>
              <a:ahLst/>
              <a:rect l="l" t="t" r="r" b="b"/>
              <a:pathLst>
                <a:path w="141" h="703">
                  <a:moveTo>
                    <a:pt x="141" y="703"/>
                  </a:moveTo>
                  <a:lnTo>
                    <a:pt x="0" y="604"/>
                  </a:lnTo>
                  <a:lnTo>
                    <a:pt x="0" y="0"/>
                  </a:lnTo>
                  <a:lnTo>
                    <a:pt x="141" y="99"/>
                  </a:lnTo>
                  <a:lnTo>
                    <a:pt x="141" y="703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512120" y="6333840"/>
              <a:ext cx="295200" cy="147960"/>
            </a:xfrm>
            <a:prstGeom prst="rect">
              <a:avLst/>
            </a:prstGeom>
            <a:solidFill>
              <a:srgbClr val="ccb5b5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521840" y="638172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245440" y="5811840"/>
              <a:ext cx="304920" cy="2052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248680" y="5635440"/>
              <a:ext cx="273240" cy="17460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350200" y="5688000"/>
              <a:ext cx="8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518680" y="5637240"/>
              <a:ext cx="31680" cy="19512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34280" y="6119640"/>
              <a:ext cx="306360" cy="2052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338960" y="5945040"/>
              <a:ext cx="273240" cy="17460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440480" y="6011640"/>
              <a:ext cx="8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607520" y="5945040"/>
              <a:ext cx="33120" cy="19512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661440" y="5756040"/>
              <a:ext cx="506160" cy="249480"/>
            </a:xfrm>
            <a:custGeom>
              <a:avLst/>
              <a:gdLst/>
              <a:ahLst/>
              <a:rect l="l" t="t" r="r" b="b"/>
              <a:pathLst>
                <a:path w="1285" h="1127">
                  <a:moveTo>
                    <a:pt x="190" y="836"/>
                  </a:moveTo>
                  <a:lnTo>
                    <a:pt x="207" y="888"/>
                  </a:lnTo>
                  <a:lnTo>
                    <a:pt x="227" y="936"/>
                  </a:lnTo>
                  <a:lnTo>
                    <a:pt x="250" y="980"/>
                  </a:lnTo>
                  <a:lnTo>
                    <a:pt x="277" y="1018"/>
                  </a:lnTo>
                  <a:lnTo>
                    <a:pt x="303" y="1052"/>
                  </a:lnTo>
                  <a:lnTo>
                    <a:pt x="333" y="1080"/>
                  </a:lnTo>
                  <a:lnTo>
                    <a:pt x="364" y="1102"/>
                  </a:lnTo>
                  <a:lnTo>
                    <a:pt x="396" y="1117"/>
                  </a:lnTo>
                  <a:lnTo>
                    <a:pt x="428" y="1125"/>
                  </a:lnTo>
                  <a:lnTo>
                    <a:pt x="460" y="1127"/>
                  </a:lnTo>
                  <a:lnTo>
                    <a:pt x="494" y="1122"/>
                  </a:lnTo>
                  <a:lnTo>
                    <a:pt x="526" y="1112"/>
                  </a:lnTo>
                  <a:lnTo>
                    <a:pt x="557" y="1093"/>
                  </a:lnTo>
                  <a:lnTo>
                    <a:pt x="587" y="1070"/>
                  </a:lnTo>
                  <a:lnTo>
                    <a:pt x="615" y="1040"/>
                  </a:lnTo>
                  <a:lnTo>
                    <a:pt x="644" y="1003"/>
                  </a:lnTo>
                  <a:lnTo>
                    <a:pt x="670" y="1040"/>
                  </a:lnTo>
                  <a:lnTo>
                    <a:pt x="698" y="1070"/>
                  </a:lnTo>
                  <a:lnTo>
                    <a:pt x="729" y="1093"/>
                  </a:lnTo>
                  <a:lnTo>
                    <a:pt x="759" y="1112"/>
                  </a:lnTo>
                  <a:lnTo>
                    <a:pt x="791" y="1122"/>
                  </a:lnTo>
                  <a:lnTo>
                    <a:pt x="825" y="1127"/>
                  </a:lnTo>
                  <a:lnTo>
                    <a:pt x="857" y="1125"/>
                  </a:lnTo>
                  <a:lnTo>
                    <a:pt x="890" y="1117"/>
                  </a:lnTo>
                  <a:lnTo>
                    <a:pt x="922" y="1102"/>
                  </a:lnTo>
                  <a:lnTo>
                    <a:pt x="952" y="1080"/>
                  </a:lnTo>
                  <a:lnTo>
                    <a:pt x="982" y="1052"/>
                  </a:lnTo>
                  <a:lnTo>
                    <a:pt x="1009" y="1018"/>
                  </a:lnTo>
                  <a:lnTo>
                    <a:pt x="1035" y="980"/>
                  </a:lnTo>
                  <a:lnTo>
                    <a:pt x="1058" y="936"/>
                  </a:lnTo>
                  <a:lnTo>
                    <a:pt x="1079" y="888"/>
                  </a:lnTo>
                  <a:lnTo>
                    <a:pt x="1096" y="836"/>
                  </a:lnTo>
                  <a:lnTo>
                    <a:pt x="1118" y="845"/>
                  </a:lnTo>
                  <a:lnTo>
                    <a:pt x="1141" y="845"/>
                  </a:lnTo>
                  <a:lnTo>
                    <a:pt x="1164" y="839"/>
                  </a:lnTo>
                  <a:lnTo>
                    <a:pt x="1187" y="828"/>
                  </a:lnTo>
                  <a:lnTo>
                    <a:pt x="1207" y="809"/>
                  </a:lnTo>
                  <a:lnTo>
                    <a:pt x="1226" y="786"/>
                  </a:lnTo>
                  <a:lnTo>
                    <a:pt x="1243" y="758"/>
                  </a:lnTo>
                  <a:lnTo>
                    <a:pt x="1258" y="724"/>
                  </a:lnTo>
                  <a:lnTo>
                    <a:pt x="1270" y="688"/>
                  </a:lnTo>
                  <a:lnTo>
                    <a:pt x="1277" y="648"/>
                  </a:lnTo>
                  <a:lnTo>
                    <a:pt x="1283" y="606"/>
                  </a:lnTo>
                  <a:lnTo>
                    <a:pt x="1285" y="564"/>
                  </a:lnTo>
                  <a:lnTo>
                    <a:pt x="1283" y="521"/>
                  </a:lnTo>
                  <a:lnTo>
                    <a:pt x="1277" y="479"/>
                  </a:lnTo>
                  <a:lnTo>
                    <a:pt x="1270" y="439"/>
                  </a:lnTo>
                  <a:lnTo>
                    <a:pt x="1258" y="402"/>
                  </a:lnTo>
                  <a:lnTo>
                    <a:pt x="1243" y="370"/>
                  </a:lnTo>
                  <a:lnTo>
                    <a:pt x="1226" y="340"/>
                  </a:lnTo>
                  <a:lnTo>
                    <a:pt x="1207" y="317"/>
                  </a:lnTo>
                  <a:lnTo>
                    <a:pt x="1187" y="300"/>
                  </a:lnTo>
                  <a:lnTo>
                    <a:pt x="1164" y="287"/>
                  </a:lnTo>
                  <a:lnTo>
                    <a:pt x="1141" y="282"/>
                  </a:lnTo>
                  <a:lnTo>
                    <a:pt x="1118" y="284"/>
                  </a:lnTo>
                  <a:lnTo>
                    <a:pt x="1096" y="290"/>
                  </a:lnTo>
                  <a:lnTo>
                    <a:pt x="1079" y="238"/>
                  </a:lnTo>
                  <a:lnTo>
                    <a:pt x="1058" y="190"/>
                  </a:lnTo>
                  <a:lnTo>
                    <a:pt x="1035" y="147"/>
                  </a:lnTo>
                  <a:lnTo>
                    <a:pt x="1009" y="108"/>
                  </a:lnTo>
                  <a:lnTo>
                    <a:pt x="982" y="75"/>
                  </a:lnTo>
                  <a:lnTo>
                    <a:pt x="952" y="48"/>
                  </a:lnTo>
                  <a:lnTo>
                    <a:pt x="922" y="26"/>
                  </a:lnTo>
                  <a:lnTo>
                    <a:pt x="890" y="11"/>
                  </a:lnTo>
                  <a:lnTo>
                    <a:pt x="857" y="1"/>
                  </a:lnTo>
                  <a:lnTo>
                    <a:pt x="825" y="0"/>
                  </a:lnTo>
                  <a:lnTo>
                    <a:pt x="791" y="5"/>
                  </a:lnTo>
                  <a:lnTo>
                    <a:pt x="759" y="16"/>
                  </a:lnTo>
                  <a:lnTo>
                    <a:pt x="729" y="35"/>
                  </a:lnTo>
                  <a:lnTo>
                    <a:pt x="698" y="58"/>
                  </a:lnTo>
                  <a:lnTo>
                    <a:pt x="670" y="88"/>
                  </a:lnTo>
                  <a:lnTo>
                    <a:pt x="644" y="123"/>
                  </a:lnTo>
                  <a:lnTo>
                    <a:pt x="615" y="88"/>
                  </a:lnTo>
                  <a:lnTo>
                    <a:pt x="587" y="58"/>
                  </a:lnTo>
                  <a:lnTo>
                    <a:pt x="557" y="35"/>
                  </a:lnTo>
                  <a:lnTo>
                    <a:pt x="526" y="16"/>
                  </a:lnTo>
                  <a:lnTo>
                    <a:pt x="494" y="5"/>
                  </a:lnTo>
                  <a:lnTo>
                    <a:pt x="460" y="0"/>
                  </a:lnTo>
                  <a:lnTo>
                    <a:pt x="428" y="1"/>
                  </a:lnTo>
                  <a:lnTo>
                    <a:pt x="396" y="11"/>
                  </a:lnTo>
                  <a:lnTo>
                    <a:pt x="364" y="26"/>
                  </a:lnTo>
                  <a:lnTo>
                    <a:pt x="333" y="48"/>
                  </a:lnTo>
                  <a:lnTo>
                    <a:pt x="303" y="75"/>
                  </a:lnTo>
                  <a:lnTo>
                    <a:pt x="277" y="108"/>
                  </a:lnTo>
                  <a:lnTo>
                    <a:pt x="250" y="147"/>
                  </a:lnTo>
                  <a:lnTo>
                    <a:pt x="227" y="190"/>
                  </a:lnTo>
                  <a:lnTo>
                    <a:pt x="207" y="238"/>
                  </a:lnTo>
                  <a:lnTo>
                    <a:pt x="190" y="290"/>
                  </a:lnTo>
                  <a:lnTo>
                    <a:pt x="167" y="284"/>
                  </a:lnTo>
                  <a:lnTo>
                    <a:pt x="144" y="282"/>
                  </a:lnTo>
                  <a:lnTo>
                    <a:pt x="121" y="287"/>
                  </a:lnTo>
                  <a:lnTo>
                    <a:pt x="99" y="300"/>
                  </a:lnTo>
                  <a:lnTo>
                    <a:pt x="78" y="317"/>
                  </a:lnTo>
                  <a:lnTo>
                    <a:pt x="59" y="340"/>
                  </a:lnTo>
                  <a:lnTo>
                    <a:pt x="42" y="370"/>
                  </a:lnTo>
                  <a:lnTo>
                    <a:pt x="27" y="402"/>
                  </a:lnTo>
                  <a:lnTo>
                    <a:pt x="15" y="439"/>
                  </a:lnTo>
                  <a:lnTo>
                    <a:pt x="8" y="479"/>
                  </a:lnTo>
                  <a:lnTo>
                    <a:pt x="2" y="521"/>
                  </a:lnTo>
                  <a:lnTo>
                    <a:pt x="0" y="564"/>
                  </a:lnTo>
                  <a:lnTo>
                    <a:pt x="2" y="606"/>
                  </a:lnTo>
                  <a:lnTo>
                    <a:pt x="8" y="648"/>
                  </a:lnTo>
                  <a:lnTo>
                    <a:pt x="15" y="688"/>
                  </a:lnTo>
                  <a:lnTo>
                    <a:pt x="27" y="724"/>
                  </a:lnTo>
                  <a:lnTo>
                    <a:pt x="42" y="758"/>
                  </a:lnTo>
                  <a:lnTo>
                    <a:pt x="59" y="786"/>
                  </a:lnTo>
                  <a:lnTo>
                    <a:pt x="78" y="809"/>
                  </a:lnTo>
                  <a:lnTo>
                    <a:pt x="99" y="828"/>
                  </a:lnTo>
                  <a:lnTo>
                    <a:pt x="121" y="839"/>
                  </a:lnTo>
                  <a:lnTo>
                    <a:pt x="144" y="845"/>
                  </a:lnTo>
                  <a:lnTo>
                    <a:pt x="167" y="845"/>
                  </a:lnTo>
                  <a:lnTo>
                    <a:pt x="190" y="836"/>
                  </a:lnTo>
                  <a:close/>
                </a:path>
              </a:pathLst>
            </a:custGeom>
            <a:solidFill>
              <a:srgbClr val="b7ff6f"/>
            </a:solidFill>
            <a:ln w="396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553440" y="5715000"/>
              <a:ext cx="7239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10800" y="5900760"/>
              <a:ext cx="506160" cy="249120"/>
            </a:xfrm>
            <a:custGeom>
              <a:avLst/>
              <a:gdLst/>
              <a:ahLst/>
              <a:rect l="l" t="t" r="r" b="b"/>
              <a:pathLst>
                <a:path w="1285" h="1127">
                  <a:moveTo>
                    <a:pt x="190" y="836"/>
                  </a:moveTo>
                  <a:lnTo>
                    <a:pt x="207" y="888"/>
                  </a:lnTo>
                  <a:lnTo>
                    <a:pt x="227" y="936"/>
                  </a:lnTo>
                  <a:lnTo>
                    <a:pt x="250" y="980"/>
                  </a:lnTo>
                  <a:lnTo>
                    <a:pt x="277" y="1018"/>
                  </a:lnTo>
                  <a:lnTo>
                    <a:pt x="303" y="1052"/>
                  </a:lnTo>
                  <a:lnTo>
                    <a:pt x="333" y="1080"/>
                  </a:lnTo>
                  <a:lnTo>
                    <a:pt x="364" y="1102"/>
                  </a:lnTo>
                  <a:lnTo>
                    <a:pt x="396" y="1117"/>
                  </a:lnTo>
                  <a:lnTo>
                    <a:pt x="428" y="1125"/>
                  </a:lnTo>
                  <a:lnTo>
                    <a:pt x="460" y="1127"/>
                  </a:lnTo>
                  <a:lnTo>
                    <a:pt x="494" y="1122"/>
                  </a:lnTo>
                  <a:lnTo>
                    <a:pt x="526" y="1112"/>
                  </a:lnTo>
                  <a:lnTo>
                    <a:pt x="557" y="1093"/>
                  </a:lnTo>
                  <a:lnTo>
                    <a:pt x="587" y="1070"/>
                  </a:lnTo>
                  <a:lnTo>
                    <a:pt x="615" y="1040"/>
                  </a:lnTo>
                  <a:lnTo>
                    <a:pt x="644" y="1003"/>
                  </a:lnTo>
                  <a:lnTo>
                    <a:pt x="670" y="1040"/>
                  </a:lnTo>
                  <a:lnTo>
                    <a:pt x="698" y="1070"/>
                  </a:lnTo>
                  <a:lnTo>
                    <a:pt x="729" y="1093"/>
                  </a:lnTo>
                  <a:lnTo>
                    <a:pt x="759" y="1112"/>
                  </a:lnTo>
                  <a:lnTo>
                    <a:pt x="791" y="1122"/>
                  </a:lnTo>
                  <a:lnTo>
                    <a:pt x="825" y="1127"/>
                  </a:lnTo>
                  <a:lnTo>
                    <a:pt x="857" y="1125"/>
                  </a:lnTo>
                  <a:lnTo>
                    <a:pt x="890" y="1117"/>
                  </a:lnTo>
                  <a:lnTo>
                    <a:pt x="922" y="1102"/>
                  </a:lnTo>
                  <a:lnTo>
                    <a:pt x="952" y="1080"/>
                  </a:lnTo>
                  <a:lnTo>
                    <a:pt x="982" y="1052"/>
                  </a:lnTo>
                  <a:lnTo>
                    <a:pt x="1009" y="1018"/>
                  </a:lnTo>
                  <a:lnTo>
                    <a:pt x="1035" y="980"/>
                  </a:lnTo>
                  <a:lnTo>
                    <a:pt x="1058" y="936"/>
                  </a:lnTo>
                  <a:lnTo>
                    <a:pt x="1079" y="888"/>
                  </a:lnTo>
                  <a:lnTo>
                    <a:pt x="1096" y="836"/>
                  </a:lnTo>
                  <a:lnTo>
                    <a:pt x="1118" y="845"/>
                  </a:lnTo>
                  <a:lnTo>
                    <a:pt x="1141" y="845"/>
                  </a:lnTo>
                  <a:lnTo>
                    <a:pt x="1164" y="839"/>
                  </a:lnTo>
                  <a:lnTo>
                    <a:pt x="1187" y="828"/>
                  </a:lnTo>
                  <a:lnTo>
                    <a:pt x="1207" y="809"/>
                  </a:lnTo>
                  <a:lnTo>
                    <a:pt x="1226" y="786"/>
                  </a:lnTo>
                  <a:lnTo>
                    <a:pt x="1243" y="758"/>
                  </a:lnTo>
                  <a:lnTo>
                    <a:pt x="1258" y="724"/>
                  </a:lnTo>
                  <a:lnTo>
                    <a:pt x="1270" y="688"/>
                  </a:lnTo>
                  <a:lnTo>
                    <a:pt x="1277" y="648"/>
                  </a:lnTo>
                  <a:lnTo>
                    <a:pt x="1283" y="606"/>
                  </a:lnTo>
                  <a:lnTo>
                    <a:pt x="1285" y="564"/>
                  </a:lnTo>
                  <a:lnTo>
                    <a:pt x="1283" y="521"/>
                  </a:lnTo>
                  <a:lnTo>
                    <a:pt x="1277" y="479"/>
                  </a:lnTo>
                  <a:lnTo>
                    <a:pt x="1270" y="439"/>
                  </a:lnTo>
                  <a:lnTo>
                    <a:pt x="1258" y="402"/>
                  </a:lnTo>
                  <a:lnTo>
                    <a:pt x="1243" y="370"/>
                  </a:lnTo>
                  <a:lnTo>
                    <a:pt x="1226" y="340"/>
                  </a:lnTo>
                  <a:lnTo>
                    <a:pt x="1207" y="317"/>
                  </a:lnTo>
                  <a:lnTo>
                    <a:pt x="1187" y="300"/>
                  </a:lnTo>
                  <a:lnTo>
                    <a:pt x="1164" y="287"/>
                  </a:lnTo>
                  <a:lnTo>
                    <a:pt x="1141" y="282"/>
                  </a:lnTo>
                  <a:lnTo>
                    <a:pt x="1118" y="284"/>
                  </a:lnTo>
                  <a:lnTo>
                    <a:pt x="1096" y="290"/>
                  </a:lnTo>
                  <a:lnTo>
                    <a:pt x="1079" y="238"/>
                  </a:lnTo>
                  <a:lnTo>
                    <a:pt x="1058" y="190"/>
                  </a:lnTo>
                  <a:lnTo>
                    <a:pt x="1035" y="147"/>
                  </a:lnTo>
                  <a:lnTo>
                    <a:pt x="1009" y="108"/>
                  </a:lnTo>
                  <a:lnTo>
                    <a:pt x="982" y="75"/>
                  </a:lnTo>
                  <a:lnTo>
                    <a:pt x="952" y="48"/>
                  </a:lnTo>
                  <a:lnTo>
                    <a:pt x="922" y="26"/>
                  </a:lnTo>
                  <a:lnTo>
                    <a:pt x="890" y="11"/>
                  </a:lnTo>
                  <a:lnTo>
                    <a:pt x="857" y="1"/>
                  </a:lnTo>
                  <a:lnTo>
                    <a:pt x="825" y="0"/>
                  </a:lnTo>
                  <a:lnTo>
                    <a:pt x="791" y="5"/>
                  </a:lnTo>
                  <a:lnTo>
                    <a:pt x="759" y="16"/>
                  </a:lnTo>
                  <a:lnTo>
                    <a:pt x="729" y="35"/>
                  </a:lnTo>
                  <a:lnTo>
                    <a:pt x="698" y="58"/>
                  </a:lnTo>
                  <a:lnTo>
                    <a:pt x="670" y="88"/>
                  </a:lnTo>
                  <a:lnTo>
                    <a:pt x="644" y="123"/>
                  </a:lnTo>
                  <a:lnTo>
                    <a:pt x="615" y="88"/>
                  </a:lnTo>
                  <a:lnTo>
                    <a:pt x="587" y="58"/>
                  </a:lnTo>
                  <a:lnTo>
                    <a:pt x="557" y="35"/>
                  </a:lnTo>
                  <a:lnTo>
                    <a:pt x="526" y="16"/>
                  </a:lnTo>
                  <a:lnTo>
                    <a:pt x="494" y="5"/>
                  </a:lnTo>
                  <a:lnTo>
                    <a:pt x="460" y="0"/>
                  </a:lnTo>
                  <a:lnTo>
                    <a:pt x="428" y="1"/>
                  </a:lnTo>
                  <a:lnTo>
                    <a:pt x="396" y="11"/>
                  </a:lnTo>
                  <a:lnTo>
                    <a:pt x="364" y="26"/>
                  </a:lnTo>
                  <a:lnTo>
                    <a:pt x="333" y="48"/>
                  </a:lnTo>
                  <a:lnTo>
                    <a:pt x="303" y="75"/>
                  </a:lnTo>
                  <a:lnTo>
                    <a:pt x="277" y="108"/>
                  </a:lnTo>
                  <a:lnTo>
                    <a:pt x="250" y="147"/>
                  </a:lnTo>
                  <a:lnTo>
                    <a:pt x="227" y="190"/>
                  </a:lnTo>
                  <a:lnTo>
                    <a:pt x="207" y="238"/>
                  </a:lnTo>
                  <a:lnTo>
                    <a:pt x="190" y="290"/>
                  </a:lnTo>
                  <a:lnTo>
                    <a:pt x="167" y="284"/>
                  </a:lnTo>
                  <a:lnTo>
                    <a:pt x="144" y="282"/>
                  </a:lnTo>
                  <a:lnTo>
                    <a:pt x="121" y="287"/>
                  </a:lnTo>
                  <a:lnTo>
                    <a:pt x="99" y="300"/>
                  </a:lnTo>
                  <a:lnTo>
                    <a:pt x="78" y="317"/>
                  </a:lnTo>
                  <a:lnTo>
                    <a:pt x="59" y="340"/>
                  </a:lnTo>
                  <a:lnTo>
                    <a:pt x="42" y="370"/>
                  </a:lnTo>
                  <a:lnTo>
                    <a:pt x="27" y="402"/>
                  </a:lnTo>
                  <a:lnTo>
                    <a:pt x="15" y="439"/>
                  </a:lnTo>
                  <a:lnTo>
                    <a:pt x="8" y="479"/>
                  </a:lnTo>
                  <a:lnTo>
                    <a:pt x="2" y="521"/>
                  </a:lnTo>
                  <a:lnTo>
                    <a:pt x="0" y="564"/>
                  </a:lnTo>
                  <a:lnTo>
                    <a:pt x="2" y="606"/>
                  </a:lnTo>
                  <a:lnTo>
                    <a:pt x="8" y="648"/>
                  </a:lnTo>
                  <a:lnTo>
                    <a:pt x="15" y="688"/>
                  </a:lnTo>
                  <a:lnTo>
                    <a:pt x="27" y="724"/>
                  </a:lnTo>
                  <a:lnTo>
                    <a:pt x="42" y="758"/>
                  </a:lnTo>
                  <a:lnTo>
                    <a:pt x="59" y="786"/>
                  </a:lnTo>
                  <a:lnTo>
                    <a:pt x="78" y="809"/>
                  </a:lnTo>
                  <a:lnTo>
                    <a:pt x="99" y="828"/>
                  </a:lnTo>
                  <a:lnTo>
                    <a:pt x="121" y="839"/>
                  </a:lnTo>
                  <a:lnTo>
                    <a:pt x="144" y="845"/>
                  </a:lnTo>
                  <a:lnTo>
                    <a:pt x="167" y="845"/>
                  </a:lnTo>
                  <a:lnTo>
                    <a:pt x="190" y="836"/>
                  </a:lnTo>
                  <a:close/>
                </a:path>
              </a:pathLst>
            </a:custGeom>
            <a:solidFill>
              <a:srgbClr val="b7ff6f"/>
            </a:solidFill>
            <a:ln w="396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62960" y="5630760"/>
              <a:ext cx="506520" cy="249120"/>
            </a:xfrm>
            <a:custGeom>
              <a:avLst/>
              <a:gdLst/>
              <a:ahLst/>
              <a:rect l="l" t="t" r="r" b="b"/>
              <a:pathLst>
                <a:path w="1285" h="1127">
                  <a:moveTo>
                    <a:pt x="190" y="836"/>
                  </a:moveTo>
                  <a:lnTo>
                    <a:pt x="207" y="888"/>
                  </a:lnTo>
                  <a:lnTo>
                    <a:pt x="227" y="936"/>
                  </a:lnTo>
                  <a:lnTo>
                    <a:pt x="250" y="980"/>
                  </a:lnTo>
                  <a:lnTo>
                    <a:pt x="277" y="1018"/>
                  </a:lnTo>
                  <a:lnTo>
                    <a:pt x="303" y="1052"/>
                  </a:lnTo>
                  <a:lnTo>
                    <a:pt x="333" y="1080"/>
                  </a:lnTo>
                  <a:lnTo>
                    <a:pt x="364" y="1102"/>
                  </a:lnTo>
                  <a:lnTo>
                    <a:pt x="396" y="1117"/>
                  </a:lnTo>
                  <a:lnTo>
                    <a:pt x="428" y="1125"/>
                  </a:lnTo>
                  <a:lnTo>
                    <a:pt x="460" y="1127"/>
                  </a:lnTo>
                  <a:lnTo>
                    <a:pt x="494" y="1122"/>
                  </a:lnTo>
                  <a:lnTo>
                    <a:pt x="526" y="1112"/>
                  </a:lnTo>
                  <a:lnTo>
                    <a:pt x="557" y="1093"/>
                  </a:lnTo>
                  <a:lnTo>
                    <a:pt x="587" y="1070"/>
                  </a:lnTo>
                  <a:lnTo>
                    <a:pt x="615" y="1040"/>
                  </a:lnTo>
                  <a:lnTo>
                    <a:pt x="644" y="1003"/>
                  </a:lnTo>
                  <a:lnTo>
                    <a:pt x="670" y="1040"/>
                  </a:lnTo>
                  <a:lnTo>
                    <a:pt x="698" y="1070"/>
                  </a:lnTo>
                  <a:lnTo>
                    <a:pt x="729" y="1093"/>
                  </a:lnTo>
                  <a:lnTo>
                    <a:pt x="759" y="1112"/>
                  </a:lnTo>
                  <a:lnTo>
                    <a:pt x="791" y="1122"/>
                  </a:lnTo>
                  <a:lnTo>
                    <a:pt x="825" y="1127"/>
                  </a:lnTo>
                  <a:lnTo>
                    <a:pt x="857" y="1125"/>
                  </a:lnTo>
                  <a:lnTo>
                    <a:pt x="890" y="1117"/>
                  </a:lnTo>
                  <a:lnTo>
                    <a:pt x="922" y="1102"/>
                  </a:lnTo>
                  <a:lnTo>
                    <a:pt x="952" y="1080"/>
                  </a:lnTo>
                  <a:lnTo>
                    <a:pt x="982" y="1052"/>
                  </a:lnTo>
                  <a:lnTo>
                    <a:pt x="1009" y="1018"/>
                  </a:lnTo>
                  <a:lnTo>
                    <a:pt x="1035" y="980"/>
                  </a:lnTo>
                  <a:lnTo>
                    <a:pt x="1058" y="936"/>
                  </a:lnTo>
                  <a:lnTo>
                    <a:pt x="1079" y="888"/>
                  </a:lnTo>
                  <a:lnTo>
                    <a:pt x="1096" y="836"/>
                  </a:lnTo>
                  <a:lnTo>
                    <a:pt x="1118" y="845"/>
                  </a:lnTo>
                  <a:lnTo>
                    <a:pt x="1141" y="845"/>
                  </a:lnTo>
                  <a:lnTo>
                    <a:pt x="1164" y="839"/>
                  </a:lnTo>
                  <a:lnTo>
                    <a:pt x="1187" y="828"/>
                  </a:lnTo>
                  <a:lnTo>
                    <a:pt x="1207" y="809"/>
                  </a:lnTo>
                  <a:lnTo>
                    <a:pt x="1226" y="786"/>
                  </a:lnTo>
                  <a:lnTo>
                    <a:pt x="1243" y="758"/>
                  </a:lnTo>
                  <a:lnTo>
                    <a:pt x="1258" y="724"/>
                  </a:lnTo>
                  <a:lnTo>
                    <a:pt x="1270" y="688"/>
                  </a:lnTo>
                  <a:lnTo>
                    <a:pt x="1277" y="648"/>
                  </a:lnTo>
                  <a:lnTo>
                    <a:pt x="1283" y="606"/>
                  </a:lnTo>
                  <a:lnTo>
                    <a:pt x="1285" y="564"/>
                  </a:lnTo>
                  <a:lnTo>
                    <a:pt x="1283" y="521"/>
                  </a:lnTo>
                  <a:lnTo>
                    <a:pt x="1277" y="479"/>
                  </a:lnTo>
                  <a:lnTo>
                    <a:pt x="1270" y="439"/>
                  </a:lnTo>
                  <a:lnTo>
                    <a:pt x="1258" y="402"/>
                  </a:lnTo>
                  <a:lnTo>
                    <a:pt x="1243" y="370"/>
                  </a:lnTo>
                  <a:lnTo>
                    <a:pt x="1226" y="340"/>
                  </a:lnTo>
                  <a:lnTo>
                    <a:pt x="1207" y="317"/>
                  </a:lnTo>
                  <a:lnTo>
                    <a:pt x="1187" y="300"/>
                  </a:lnTo>
                  <a:lnTo>
                    <a:pt x="1164" y="287"/>
                  </a:lnTo>
                  <a:lnTo>
                    <a:pt x="1141" y="282"/>
                  </a:lnTo>
                  <a:lnTo>
                    <a:pt x="1118" y="284"/>
                  </a:lnTo>
                  <a:lnTo>
                    <a:pt x="1096" y="290"/>
                  </a:lnTo>
                  <a:lnTo>
                    <a:pt x="1079" y="238"/>
                  </a:lnTo>
                  <a:lnTo>
                    <a:pt x="1058" y="190"/>
                  </a:lnTo>
                  <a:lnTo>
                    <a:pt x="1035" y="147"/>
                  </a:lnTo>
                  <a:lnTo>
                    <a:pt x="1009" y="108"/>
                  </a:lnTo>
                  <a:lnTo>
                    <a:pt x="982" y="75"/>
                  </a:lnTo>
                  <a:lnTo>
                    <a:pt x="952" y="48"/>
                  </a:lnTo>
                  <a:lnTo>
                    <a:pt x="922" y="26"/>
                  </a:lnTo>
                  <a:lnTo>
                    <a:pt x="890" y="11"/>
                  </a:lnTo>
                  <a:lnTo>
                    <a:pt x="857" y="1"/>
                  </a:lnTo>
                  <a:lnTo>
                    <a:pt x="825" y="0"/>
                  </a:lnTo>
                  <a:lnTo>
                    <a:pt x="791" y="5"/>
                  </a:lnTo>
                  <a:lnTo>
                    <a:pt x="759" y="16"/>
                  </a:lnTo>
                  <a:lnTo>
                    <a:pt x="729" y="35"/>
                  </a:lnTo>
                  <a:lnTo>
                    <a:pt x="698" y="58"/>
                  </a:lnTo>
                  <a:lnTo>
                    <a:pt x="670" y="88"/>
                  </a:lnTo>
                  <a:lnTo>
                    <a:pt x="644" y="123"/>
                  </a:lnTo>
                  <a:lnTo>
                    <a:pt x="615" y="88"/>
                  </a:lnTo>
                  <a:lnTo>
                    <a:pt x="587" y="58"/>
                  </a:lnTo>
                  <a:lnTo>
                    <a:pt x="557" y="35"/>
                  </a:lnTo>
                  <a:lnTo>
                    <a:pt x="526" y="16"/>
                  </a:lnTo>
                  <a:lnTo>
                    <a:pt x="494" y="5"/>
                  </a:lnTo>
                  <a:lnTo>
                    <a:pt x="460" y="0"/>
                  </a:lnTo>
                  <a:lnTo>
                    <a:pt x="428" y="1"/>
                  </a:lnTo>
                  <a:lnTo>
                    <a:pt x="396" y="11"/>
                  </a:lnTo>
                  <a:lnTo>
                    <a:pt x="364" y="26"/>
                  </a:lnTo>
                  <a:lnTo>
                    <a:pt x="333" y="48"/>
                  </a:lnTo>
                  <a:lnTo>
                    <a:pt x="303" y="75"/>
                  </a:lnTo>
                  <a:lnTo>
                    <a:pt x="277" y="108"/>
                  </a:lnTo>
                  <a:lnTo>
                    <a:pt x="250" y="147"/>
                  </a:lnTo>
                  <a:lnTo>
                    <a:pt x="227" y="190"/>
                  </a:lnTo>
                  <a:lnTo>
                    <a:pt x="207" y="238"/>
                  </a:lnTo>
                  <a:lnTo>
                    <a:pt x="190" y="290"/>
                  </a:lnTo>
                  <a:lnTo>
                    <a:pt x="167" y="284"/>
                  </a:lnTo>
                  <a:lnTo>
                    <a:pt x="144" y="282"/>
                  </a:lnTo>
                  <a:lnTo>
                    <a:pt x="121" y="287"/>
                  </a:lnTo>
                  <a:lnTo>
                    <a:pt x="99" y="300"/>
                  </a:lnTo>
                  <a:lnTo>
                    <a:pt x="78" y="317"/>
                  </a:lnTo>
                  <a:lnTo>
                    <a:pt x="59" y="340"/>
                  </a:lnTo>
                  <a:lnTo>
                    <a:pt x="42" y="370"/>
                  </a:lnTo>
                  <a:lnTo>
                    <a:pt x="27" y="402"/>
                  </a:lnTo>
                  <a:lnTo>
                    <a:pt x="15" y="439"/>
                  </a:lnTo>
                  <a:lnTo>
                    <a:pt x="8" y="479"/>
                  </a:lnTo>
                  <a:lnTo>
                    <a:pt x="2" y="521"/>
                  </a:lnTo>
                  <a:lnTo>
                    <a:pt x="0" y="564"/>
                  </a:lnTo>
                  <a:lnTo>
                    <a:pt x="2" y="606"/>
                  </a:lnTo>
                  <a:lnTo>
                    <a:pt x="8" y="648"/>
                  </a:lnTo>
                  <a:lnTo>
                    <a:pt x="15" y="688"/>
                  </a:lnTo>
                  <a:lnTo>
                    <a:pt x="27" y="724"/>
                  </a:lnTo>
                  <a:lnTo>
                    <a:pt x="42" y="758"/>
                  </a:lnTo>
                  <a:lnTo>
                    <a:pt x="59" y="786"/>
                  </a:lnTo>
                  <a:lnTo>
                    <a:pt x="78" y="809"/>
                  </a:lnTo>
                  <a:lnTo>
                    <a:pt x="99" y="828"/>
                  </a:lnTo>
                  <a:lnTo>
                    <a:pt x="121" y="839"/>
                  </a:lnTo>
                  <a:lnTo>
                    <a:pt x="144" y="845"/>
                  </a:lnTo>
                  <a:lnTo>
                    <a:pt x="167" y="845"/>
                  </a:lnTo>
                  <a:lnTo>
                    <a:pt x="190" y="836"/>
                  </a:lnTo>
                  <a:close/>
                </a:path>
              </a:pathLst>
            </a:custGeom>
            <a:solidFill>
              <a:srgbClr val="b7ff6f"/>
            </a:solidFill>
            <a:ln w="396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62720" y="5526000"/>
              <a:ext cx="43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W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59520" y="5526000"/>
              <a:ext cx="0" cy="1179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113520" y="5526000"/>
              <a:ext cx="43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458200" y="5586120"/>
              <a:ext cx="304920" cy="2088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461440" y="5410080"/>
              <a:ext cx="273240" cy="17460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545320" y="5456160"/>
              <a:ext cx="8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729640" y="5411520"/>
              <a:ext cx="33480" cy="19548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8375760" y="5526000"/>
              <a:ext cx="84240" cy="11592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581960" y="5562360"/>
              <a:ext cx="72396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047080" y="5867280"/>
              <a:ext cx="63972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on-Compliant End De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vices connected to the Home LAN, but that do not meet the requi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y really cannot be dealt with, may not even know they are the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562720" y="5410080"/>
            <a:ext cx="3200400" cy="1295280"/>
            <a:chOff x="5562720" y="5410080"/>
            <a:chExt cx="3200400" cy="1295280"/>
          </a:xfrm>
        </p:grpSpPr>
        <p:sp>
          <p:nvSpPr>
            <p:cNvPr id="296" name=""/>
            <p:cNvSpPr/>
            <p:nvPr/>
          </p:nvSpPr>
          <p:spPr>
            <a:xfrm>
              <a:off x="5672160" y="5895720"/>
              <a:ext cx="470160" cy="0"/>
            </a:xfrm>
            <a:prstGeom prst="line">
              <a:avLst/>
            </a:prstGeom>
            <a:ln w="39600">
              <a:solidFill>
                <a:srgbClr val="37729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059520" y="5756040"/>
              <a:ext cx="457200" cy="2667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249960" y="5825880"/>
              <a:ext cx="8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091640" y="5754240"/>
              <a:ext cx="153720" cy="8100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534440" y="5738760"/>
              <a:ext cx="257040" cy="324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154720" y="5753160"/>
              <a:ext cx="103320" cy="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8348760" y="5812920"/>
              <a:ext cx="1440" cy="11124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8159760" y="6081480"/>
              <a:ext cx="122400" cy="9072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64640" y="6316560"/>
              <a:ext cx="272880" cy="23760"/>
            </a:xfrm>
            <a:custGeom>
              <a:avLst/>
              <a:gdLst/>
              <a:ahLst/>
              <a:rect l="l" t="t" r="r" b="b"/>
              <a:pathLst>
                <a:path w="1207" h="99">
                  <a:moveTo>
                    <a:pt x="1065" y="0"/>
                  </a:moveTo>
                  <a:lnTo>
                    <a:pt x="0" y="0"/>
                  </a:lnTo>
                  <a:lnTo>
                    <a:pt x="141" y="99"/>
                  </a:lnTo>
                  <a:lnTo>
                    <a:pt x="1207" y="99"/>
                  </a:lnTo>
                  <a:lnTo>
                    <a:pt x="1065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205840" y="6170400"/>
              <a:ext cx="31680" cy="169920"/>
            </a:xfrm>
            <a:custGeom>
              <a:avLst/>
              <a:gdLst/>
              <a:ahLst/>
              <a:rect l="l" t="t" r="r" b="b"/>
              <a:pathLst>
                <a:path w="142" h="703">
                  <a:moveTo>
                    <a:pt x="142" y="703"/>
                  </a:moveTo>
                  <a:lnTo>
                    <a:pt x="0" y="604"/>
                  </a:lnTo>
                  <a:lnTo>
                    <a:pt x="0" y="0"/>
                  </a:lnTo>
                  <a:lnTo>
                    <a:pt x="142" y="98"/>
                  </a:lnTo>
                  <a:lnTo>
                    <a:pt x="142" y="703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964640" y="6170400"/>
              <a:ext cx="241200" cy="147600"/>
            </a:xfrm>
            <a:prstGeom prst="rect">
              <a:avLst/>
            </a:prstGeom>
            <a:solidFill>
              <a:srgbClr val="ccb5b5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039520" y="6219720"/>
              <a:ext cx="102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417160" y="6364080"/>
              <a:ext cx="345960" cy="23760"/>
            </a:xfrm>
            <a:custGeom>
              <a:avLst/>
              <a:gdLst/>
              <a:ahLst/>
              <a:rect l="l" t="t" r="r" b="b"/>
              <a:pathLst>
                <a:path w="1207" h="99">
                  <a:moveTo>
                    <a:pt x="1066" y="0"/>
                  </a:moveTo>
                  <a:lnTo>
                    <a:pt x="0" y="0"/>
                  </a:lnTo>
                  <a:lnTo>
                    <a:pt x="142" y="99"/>
                  </a:lnTo>
                  <a:lnTo>
                    <a:pt x="1207" y="99"/>
                  </a:lnTo>
                  <a:lnTo>
                    <a:pt x="1066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721720" y="6219720"/>
              <a:ext cx="41400" cy="168120"/>
            </a:xfrm>
            <a:custGeom>
              <a:avLst/>
              <a:gdLst/>
              <a:ahLst/>
              <a:rect l="l" t="t" r="r" b="b"/>
              <a:pathLst>
                <a:path w="141" h="703">
                  <a:moveTo>
                    <a:pt x="141" y="703"/>
                  </a:moveTo>
                  <a:lnTo>
                    <a:pt x="0" y="604"/>
                  </a:lnTo>
                  <a:lnTo>
                    <a:pt x="0" y="0"/>
                  </a:lnTo>
                  <a:lnTo>
                    <a:pt x="141" y="98"/>
                  </a:lnTo>
                  <a:lnTo>
                    <a:pt x="141" y="703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417160" y="6219720"/>
              <a:ext cx="306360" cy="146160"/>
            </a:xfrm>
            <a:prstGeom prst="rect">
              <a:avLst/>
            </a:prstGeom>
            <a:solidFill>
              <a:srgbClr val="ccb5b5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507520" y="6265800"/>
              <a:ext cx="102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 flipV="1">
              <a:off x="8459640" y="6130800"/>
              <a:ext cx="106200" cy="9216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504120" y="5873760"/>
              <a:ext cx="230040" cy="288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34200" y="5819760"/>
              <a:ext cx="304920" cy="2052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37440" y="5645160"/>
              <a:ext cx="273240" cy="17280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328160" y="5711760"/>
              <a:ext cx="8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507440" y="5645160"/>
              <a:ext cx="31680" cy="19512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 flipV="1">
              <a:off x="7083720" y="5927760"/>
              <a:ext cx="266400" cy="10152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7597800" y="6136920"/>
              <a:ext cx="101520" cy="19836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513920" y="6480000"/>
              <a:ext cx="334800" cy="23760"/>
            </a:xfrm>
            <a:custGeom>
              <a:avLst/>
              <a:gdLst/>
              <a:ahLst/>
              <a:rect l="l" t="t" r="r" b="b"/>
              <a:pathLst>
                <a:path w="1205" h="99">
                  <a:moveTo>
                    <a:pt x="1064" y="0"/>
                  </a:moveTo>
                  <a:lnTo>
                    <a:pt x="0" y="0"/>
                  </a:lnTo>
                  <a:lnTo>
                    <a:pt x="142" y="99"/>
                  </a:lnTo>
                  <a:lnTo>
                    <a:pt x="1205" y="99"/>
                  </a:lnTo>
                  <a:lnTo>
                    <a:pt x="1064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09120" y="6333840"/>
              <a:ext cx="39600" cy="169920"/>
            </a:xfrm>
            <a:custGeom>
              <a:avLst/>
              <a:gdLst/>
              <a:ahLst/>
              <a:rect l="l" t="t" r="r" b="b"/>
              <a:pathLst>
                <a:path w="141" h="703">
                  <a:moveTo>
                    <a:pt x="141" y="703"/>
                  </a:moveTo>
                  <a:lnTo>
                    <a:pt x="0" y="604"/>
                  </a:lnTo>
                  <a:lnTo>
                    <a:pt x="0" y="0"/>
                  </a:lnTo>
                  <a:lnTo>
                    <a:pt x="141" y="99"/>
                  </a:lnTo>
                  <a:lnTo>
                    <a:pt x="141" y="703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12120" y="6333840"/>
              <a:ext cx="295200" cy="147960"/>
            </a:xfrm>
            <a:prstGeom prst="rect">
              <a:avLst/>
            </a:prstGeom>
            <a:solidFill>
              <a:srgbClr val="ccb5b5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521840" y="638172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245440" y="5811840"/>
              <a:ext cx="304920" cy="2052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248680" y="5635440"/>
              <a:ext cx="273240" cy="17460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350200" y="5688000"/>
              <a:ext cx="8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518680" y="5637240"/>
              <a:ext cx="31680" cy="19512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334280" y="6119640"/>
              <a:ext cx="306360" cy="2052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38960" y="5945040"/>
              <a:ext cx="273240" cy="17460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40480" y="6011640"/>
              <a:ext cx="8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07520" y="5945040"/>
              <a:ext cx="33120" cy="19512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661440" y="5756040"/>
              <a:ext cx="506160" cy="249480"/>
            </a:xfrm>
            <a:custGeom>
              <a:avLst/>
              <a:gdLst/>
              <a:ahLst/>
              <a:rect l="l" t="t" r="r" b="b"/>
              <a:pathLst>
                <a:path w="1285" h="1127">
                  <a:moveTo>
                    <a:pt x="190" y="836"/>
                  </a:moveTo>
                  <a:lnTo>
                    <a:pt x="207" y="888"/>
                  </a:lnTo>
                  <a:lnTo>
                    <a:pt x="227" y="936"/>
                  </a:lnTo>
                  <a:lnTo>
                    <a:pt x="250" y="980"/>
                  </a:lnTo>
                  <a:lnTo>
                    <a:pt x="277" y="1018"/>
                  </a:lnTo>
                  <a:lnTo>
                    <a:pt x="303" y="1052"/>
                  </a:lnTo>
                  <a:lnTo>
                    <a:pt x="333" y="1080"/>
                  </a:lnTo>
                  <a:lnTo>
                    <a:pt x="364" y="1102"/>
                  </a:lnTo>
                  <a:lnTo>
                    <a:pt x="396" y="1117"/>
                  </a:lnTo>
                  <a:lnTo>
                    <a:pt x="428" y="1125"/>
                  </a:lnTo>
                  <a:lnTo>
                    <a:pt x="460" y="1127"/>
                  </a:lnTo>
                  <a:lnTo>
                    <a:pt x="494" y="1122"/>
                  </a:lnTo>
                  <a:lnTo>
                    <a:pt x="526" y="1112"/>
                  </a:lnTo>
                  <a:lnTo>
                    <a:pt x="557" y="1093"/>
                  </a:lnTo>
                  <a:lnTo>
                    <a:pt x="587" y="1070"/>
                  </a:lnTo>
                  <a:lnTo>
                    <a:pt x="615" y="1040"/>
                  </a:lnTo>
                  <a:lnTo>
                    <a:pt x="644" y="1003"/>
                  </a:lnTo>
                  <a:lnTo>
                    <a:pt x="670" y="1040"/>
                  </a:lnTo>
                  <a:lnTo>
                    <a:pt x="698" y="1070"/>
                  </a:lnTo>
                  <a:lnTo>
                    <a:pt x="729" y="1093"/>
                  </a:lnTo>
                  <a:lnTo>
                    <a:pt x="759" y="1112"/>
                  </a:lnTo>
                  <a:lnTo>
                    <a:pt x="791" y="1122"/>
                  </a:lnTo>
                  <a:lnTo>
                    <a:pt x="825" y="1127"/>
                  </a:lnTo>
                  <a:lnTo>
                    <a:pt x="857" y="1125"/>
                  </a:lnTo>
                  <a:lnTo>
                    <a:pt x="890" y="1117"/>
                  </a:lnTo>
                  <a:lnTo>
                    <a:pt x="922" y="1102"/>
                  </a:lnTo>
                  <a:lnTo>
                    <a:pt x="952" y="1080"/>
                  </a:lnTo>
                  <a:lnTo>
                    <a:pt x="982" y="1052"/>
                  </a:lnTo>
                  <a:lnTo>
                    <a:pt x="1009" y="1018"/>
                  </a:lnTo>
                  <a:lnTo>
                    <a:pt x="1035" y="980"/>
                  </a:lnTo>
                  <a:lnTo>
                    <a:pt x="1058" y="936"/>
                  </a:lnTo>
                  <a:lnTo>
                    <a:pt x="1079" y="888"/>
                  </a:lnTo>
                  <a:lnTo>
                    <a:pt x="1096" y="836"/>
                  </a:lnTo>
                  <a:lnTo>
                    <a:pt x="1118" y="845"/>
                  </a:lnTo>
                  <a:lnTo>
                    <a:pt x="1141" y="845"/>
                  </a:lnTo>
                  <a:lnTo>
                    <a:pt x="1164" y="839"/>
                  </a:lnTo>
                  <a:lnTo>
                    <a:pt x="1187" y="828"/>
                  </a:lnTo>
                  <a:lnTo>
                    <a:pt x="1207" y="809"/>
                  </a:lnTo>
                  <a:lnTo>
                    <a:pt x="1226" y="786"/>
                  </a:lnTo>
                  <a:lnTo>
                    <a:pt x="1243" y="758"/>
                  </a:lnTo>
                  <a:lnTo>
                    <a:pt x="1258" y="724"/>
                  </a:lnTo>
                  <a:lnTo>
                    <a:pt x="1270" y="688"/>
                  </a:lnTo>
                  <a:lnTo>
                    <a:pt x="1277" y="648"/>
                  </a:lnTo>
                  <a:lnTo>
                    <a:pt x="1283" y="606"/>
                  </a:lnTo>
                  <a:lnTo>
                    <a:pt x="1285" y="564"/>
                  </a:lnTo>
                  <a:lnTo>
                    <a:pt x="1283" y="521"/>
                  </a:lnTo>
                  <a:lnTo>
                    <a:pt x="1277" y="479"/>
                  </a:lnTo>
                  <a:lnTo>
                    <a:pt x="1270" y="439"/>
                  </a:lnTo>
                  <a:lnTo>
                    <a:pt x="1258" y="402"/>
                  </a:lnTo>
                  <a:lnTo>
                    <a:pt x="1243" y="370"/>
                  </a:lnTo>
                  <a:lnTo>
                    <a:pt x="1226" y="340"/>
                  </a:lnTo>
                  <a:lnTo>
                    <a:pt x="1207" y="317"/>
                  </a:lnTo>
                  <a:lnTo>
                    <a:pt x="1187" y="300"/>
                  </a:lnTo>
                  <a:lnTo>
                    <a:pt x="1164" y="287"/>
                  </a:lnTo>
                  <a:lnTo>
                    <a:pt x="1141" y="282"/>
                  </a:lnTo>
                  <a:lnTo>
                    <a:pt x="1118" y="284"/>
                  </a:lnTo>
                  <a:lnTo>
                    <a:pt x="1096" y="290"/>
                  </a:lnTo>
                  <a:lnTo>
                    <a:pt x="1079" y="238"/>
                  </a:lnTo>
                  <a:lnTo>
                    <a:pt x="1058" y="190"/>
                  </a:lnTo>
                  <a:lnTo>
                    <a:pt x="1035" y="147"/>
                  </a:lnTo>
                  <a:lnTo>
                    <a:pt x="1009" y="108"/>
                  </a:lnTo>
                  <a:lnTo>
                    <a:pt x="982" y="75"/>
                  </a:lnTo>
                  <a:lnTo>
                    <a:pt x="952" y="48"/>
                  </a:lnTo>
                  <a:lnTo>
                    <a:pt x="922" y="26"/>
                  </a:lnTo>
                  <a:lnTo>
                    <a:pt x="890" y="11"/>
                  </a:lnTo>
                  <a:lnTo>
                    <a:pt x="857" y="1"/>
                  </a:lnTo>
                  <a:lnTo>
                    <a:pt x="825" y="0"/>
                  </a:lnTo>
                  <a:lnTo>
                    <a:pt x="791" y="5"/>
                  </a:lnTo>
                  <a:lnTo>
                    <a:pt x="759" y="16"/>
                  </a:lnTo>
                  <a:lnTo>
                    <a:pt x="729" y="35"/>
                  </a:lnTo>
                  <a:lnTo>
                    <a:pt x="698" y="58"/>
                  </a:lnTo>
                  <a:lnTo>
                    <a:pt x="670" y="88"/>
                  </a:lnTo>
                  <a:lnTo>
                    <a:pt x="644" y="123"/>
                  </a:lnTo>
                  <a:lnTo>
                    <a:pt x="615" y="88"/>
                  </a:lnTo>
                  <a:lnTo>
                    <a:pt x="587" y="58"/>
                  </a:lnTo>
                  <a:lnTo>
                    <a:pt x="557" y="35"/>
                  </a:lnTo>
                  <a:lnTo>
                    <a:pt x="526" y="16"/>
                  </a:lnTo>
                  <a:lnTo>
                    <a:pt x="494" y="5"/>
                  </a:lnTo>
                  <a:lnTo>
                    <a:pt x="460" y="0"/>
                  </a:lnTo>
                  <a:lnTo>
                    <a:pt x="428" y="1"/>
                  </a:lnTo>
                  <a:lnTo>
                    <a:pt x="396" y="11"/>
                  </a:lnTo>
                  <a:lnTo>
                    <a:pt x="364" y="26"/>
                  </a:lnTo>
                  <a:lnTo>
                    <a:pt x="333" y="48"/>
                  </a:lnTo>
                  <a:lnTo>
                    <a:pt x="303" y="75"/>
                  </a:lnTo>
                  <a:lnTo>
                    <a:pt x="277" y="108"/>
                  </a:lnTo>
                  <a:lnTo>
                    <a:pt x="250" y="147"/>
                  </a:lnTo>
                  <a:lnTo>
                    <a:pt x="227" y="190"/>
                  </a:lnTo>
                  <a:lnTo>
                    <a:pt x="207" y="238"/>
                  </a:lnTo>
                  <a:lnTo>
                    <a:pt x="190" y="290"/>
                  </a:lnTo>
                  <a:lnTo>
                    <a:pt x="167" y="284"/>
                  </a:lnTo>
                  <a:lnTo>
                    <a:pt x="144" y="282"/>
                  </a:lnTo>
                  <a:lnTo>
                    <a:pt x="121" y="287"/>
                  </a:lnTo>
                  <a:lnTo>
                    <a:pt x="99" y="300"/>
                  </a:lnTo>
                  <a:lnTo>
                    <a:pt x="78" y="317"/>
                  </a:lnTo>
                  <a:lnTo>
                    <a:pt x="59" y="340"/>
                  </a:lnTo>
                  <a:lnTo>
                    <a:pt x="42" y="370"/>
                  </a:lnTo>
                  <a:lnTo>
                    <a:pt x="27" y="402"/>
                  </a:lnTo>
                  <a:lnTo>
                    <a:pt x="15" y="439"/>
                  </a:lnTo>
                  <a:lnTo>
                    <a:pt x="8" y="479"/>
                  </a:lnTo>
                  <a:lnTo>
                    <a:pt x="2" y="521"/>
                  </a:lnTo>
                  <a:lnTo>
                    <a:pt x="0" y="564"/>
                  </a:lnTo>
                  <a:lnTo>
                    <a:pt x="2" y="606"/>
                  </a:lnTo>
                  <a:lnTo>
                    <a:pt x="8" y="648"/>
                  </a:lnTo>
                  <a:lnTo>
                    <a:pt x="15" y="688"/>
                  </a:lnTo>
                  <a:lnTo>
                    <a:pt x="27" y="724"/>
                  </a:lnTo>
                  <a:lnTo>
                    <a:pt x="42" y="758"/>
                  </a:lnTo>
                  <a:lnTo>
                    <a:pt x="59" y="786"/>
                  </a:lnTo>
                  <a:lnTo>
                    <a:pt x="78" y="809"/>
                  </a:lnTo>
                  <a:lnTo>
                    <a:pt x="99" y="828"/>
                  </a:lnTo>
                  <a:lnTo>
                    <a:pt x="121" y="839"/>
                  </a:lnTo>
                  <a:lnTo>
                    <a:pt x="144" y="845"/>
                  </a:lnTo>
                  <a:lnTo>
                    <a:pt x="167" y="845"/>
                  </a:lnTo>
                  <a:lnTo>
                    <a:pt x="190" y="836"/>
                  </a:lnTo>
                  <a:close/>
                </a:path>
              </a:pathLst>
            </a:custGeom>
            <a:solidFill>
              <a:srgbClr val="b7ff6f"/>
            </a:solidFill>
            <a:ln w="396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553440" y="5715000"/>
              <a:ext cx="7239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110800" y="5900760"/>
              <a:ext cx="506160" cy="249120"/>
            </a:xfrm>
            <a:custGeom>
              <a:avLst/>
              <a:gdLst/>
              <a:ahLst/>
              <a:rect l="l" t="t" r="r" b="b"/>
              <a:pathLst>
                <a:path w="1285" h="1127">
                  <a:moveTo>
                    <a:pt x="190" y="836"/>
                  </a:moveTo>
                  <a:lnTo>
                    <a:pt x="207" y="888"/>
                  </a:lnTo>
                  <a:lnTo>
                    <a:pt x="227" y="936"/>
                  </a:lnTo>
                  <a:lnTo>
                    <a:pt x="250" y="980"/>
                  </a:lnTo>
                  <a:lnTo>
                    <a:pt x="277" y="1018"/>
                  </a:lnTo>
                  <a:lnTo>
                    <a:pt x="303" y="1052"/>
                  </a:lnTo>
                  <a:lnTo>
                    <a:pt x="333" y="1080"/>
                  </a:lnTo>
                  <a:lnTo>
                    <a:pt x="364" y="1102"/>
                  </a:lnTo>
                  <a:lnTo>
                    <a:pt x="396" y="1117"/>
                  </a:lnTo>
                  <a:lnTo>
                    <a:pt x="428" y="1125"/>
                  </a:lnTo>
                  <a:lnTo>
                    <a:pt x="460" y="1127"/>
                  </a:lnTo>
                  <a:lnTo>
                    <a:pt x="494" y="1122"/>
                  </a:lnTo>
                  <a:lnTo>
                    <a:pt x="526" y="1112"/>
                  </a:lnTo>
                  <a:lnTo>
                    <a:pt x="557" y="1093"/>
                  </a:lnTo>
                  <a:lnTo>
                    <a:pt x="587" y="1070"/>
                  </a:lnTo>
                  <a:lnTo>
                    <a:pt x="615" y="1040"/>
                  </a:lnTo>
                  <a:lnTo>
                    <a:pt x="644" y="1003"/>
                  </a:lnTo>
                  <a:lnTo>
                    <a:pt x="670" y="1040"/>
                  </a:lnTo>
                  <a:lnTo>
                    <a:pt x="698" y="1070"/>
                  </a:lnTo>
                  <a:lnTo>
                    <a:pt x="729" y="1093"/>
                  </a:lnTo>
                  <a:lnTo>
                    <a:pt x="759" y="1112"/>
                  </a:lnTo>
                  <a:lnTo>
                    <a:pt x="791" y="1122"/>
                  </a:lnTo>
                  <a:lnTo>
                    <a:pt x="825" y="1127"/>
                  </a:lnTo>
                  <a:lnTo>
                    <a:pt x="857" y="1125"/>
                  </a:lnTo>
                  <a:lnTo>
                    <a:pt x="890" y="1117"/>
                  </a:lnTo>
                  <a:lnTo>
                    <a:pt x="922" y="1102"/>
                  </a:lnTo>
                  <a:lnTo>
                    <a:pt x="952" y="1080"/>
                  </a:lnTo>
                  <a:lnTo>
                    <a:pt x="982" y="1052"/>
                  </a:lnTo>
                  <a:lnTo>
                    <a:pt x="1009" y="1018"/>
                  </a:lnTo>
                  <a:lnTo>
                    <a:pt x="1035" y="980"/>
                  </a:lnTo>
                  <a:lnTo>
                    <a:pt x="1058" y="936"/>
                  </a:lnTo>
                  <a:lnTo>
                    <a:pt x="1079" y="888"/>
                  </a:lnTo>
                  <a:lnTo>
                    <a:pt x="1096" y="836"/>
                  </a:lnTo>
                  <a:lnTo>
                    <a:pt x="1118" y="845"/>
                  </a:lnTo>
                  <a:lnTo>
                    <a:pt x="1141" y="845"/>
                  </a:lnTo>
                  <a:lnTo>
                    <a:pt x="1164" y="839"/>
                  </a:lnTo>
                  <a:lnTo>
                    <a:pt x="1187" y="828"/>
                  </a:lnTo>
                  <a:lnTo>
                    <a:pt x="1207" y="809"/>
                  </a:lnTo>
                  <a:lnTo>
                    <a:pt x="1226" y="786"/>
                  </a:lnTo>
                  <a:lnTo>
                    <a:pt x="1243" y="758"/>
                  </a:lnTo>
                  <a:lnTo>
                    <a:pt x="1258" y="724"/>
                  </a:lnTo>
                  <a:lnTo>
                    <a:pt x="1270" y="688"/>
                  </a:lnTo>
                  <a:lnTo>
                    <a:pt x="1277" y="648"/>
                  </a:lnTo>
                  <a:lnTo>
                    <a:pt x="1283" y="606"/>
                  </a:lnTo>
                  <a:lnTo>
                    <a:pt x="1285" y="564"/>
                  </a:lnTo>
                  <a:lnTo>
                    <a:pt x="1283" y="521"/>
                  </a:lnTo>
                  <a:lnTo>
                    <a:pt x="1277" y="479"/>
                  </a:lnTo>
                  <a:lnTo>
                    <a:pt x="1270" y="439"/>
                  </a:lnTo>
                  <a:lnTo>
                    <a:pt x="1258" y="402"/>
                  </a:lnTo>
                  <a:lnTo>
                    <a:pt x="1243" y="370"/>
                  </a:lnTo>
                  <a:lnTo>
                    <a:pt x="1226" y="340"/>
                  </a:lnTo>
                  <a:lnTo>
                    <a:pt x="1207" y="317"/>
                  </a:lnTo>
                  <a:lnTo>
                    <a:pt x="1187" y="300"/>
                  </a:lnTo>
                  <a:lnTo>
                    <a:pt x="1164" y="287"/>
                  </a:lnTo>
                  <a:lnTo>
                    <a:pt x="1141" y="282"/>
                  </a:lnTo>
                  <a:lnTo>
                    <a:pt x="1118" y="284"/>
                  </a:lnTo>
                  <a:lnTo>
                    <a:pt x="1096" y="290"/>
                  </a:lnTo>
                  <a:lnTo>
                    <a:pt x="1079" y="238"/>
                  </a:lnTo>
                  <a:lnTo>
                    <a:pt x="1058" y="190"/>
                  </a:lnTo>
                  <a:lnTo>
                    <a:pt x="1035" y="147"/>
                  </a:lnTo>
                  <a:lnTo>
                    <a:pt x="1009" y="108"/>
                  </a:lnTo>
                  <a:lnTo>
                    <a:pt x="982" y="75"/>
                  </a:lnTo>
                  <a:lnTo>
                    <a:pt x="952" y="48"/>
                  </a:lnTo>
                  <a:lnTo>
                    <a:pt x="922" y="26"/>
                  </a:lnTo>
                  <a:lnTo>
                    <a:pt x="890" y="11"/>
                  </a:lnTo>
                  <a:lnTo>
                    <a:pt x="857" y="1"/>
                  </a:lnTo>
                  <a:lnTo>
                    <a:pt x="825" y="0"/>
                  </a:lnTo>
                  <a:lnTo>
                    <a:pt x="791" y="5"/>
                  </a:lnTo>
                  <a:lnTo>
                    <a:pt x="759" y="16"/>
                  </a:lnTo>
                  <a:lnTo>
                    <a:pt x="729" y="35"/>
                  </a:lnTo>
                  <a:lnTo>
                    <a:pt x="698" y="58"/>
                  </a:lnTo>
                  <a:lnTo>
                    <a:pt x="670" y="88"/>
                  </a:lnTo>
                  <a:lnTo>
                    <a:pt x="644" y="123"/>
                  </a:lnTo>
                  <a:lnTo>
                    <a:pt x="615" y="88"/>
                  </a:lnTo>
                  <a:lnTo>
                    <a:pt x="587" y="58"/>
                  </a:lnTo>
                  <a:lnTo>
                    <a:pt x="557" y="35"/>
                  </a:lnTo>
                  <a:lnTo>
                    <a:pt x="526" y="16"/>
                  </a:lnTo>
                  <a:lnTo>
                    <a:pt x="494" y="5"/>
                  </a:lnTo>
                  <a:lnTo>
                    <a:pt x="460" y="0"/>
                  </a:lnTo>
                  <a:lnTo>
                    <a:pt x="428" y="1"/>
                  </a:lnTo>
                  <a:lnTo>
                    <a:pt x="396" y="11"/>
                  </a:lnTo>
                  <a:lnTo>
                    <a:pt x="364" y="26"/>
                  </a:lnTo>
                  <a:lnTo>
                    <a:pt x="333" y="48"/>
                  </a:lnTo>
                  <a:lnTo>
                    <a:pt x="303" y="75"/>
                  </a:lnTo>
                  <a:lnTo>
                    <a:pt x="277" y="108"/>
                  </a:lnTo>
                  <a:lnTo>
                    <a:pt x="250" y="147"/>
                  </a:lnTo>
                  <a:lnTo>
                    <a:pt x="227" y="190"/>
                  </a:lnTo>
                  <a:lnTo>
                    <a:pt x="207" y="238"/>
                  </a:lnTo>
                  <a:lnTo>
                    <a:pt x="190" y="290"/>
                  </a:lnTo>
                  <a:lnTo>
                    <a:pt x="167" y="284"/>
                  </a:lnTo>
                  <a:lnTo>
                    <a:pt x="144" y="282"/>
                  </a:lnTo>
                  <a:lnTo>
                    <a:pt x="121" y="287"/>
                  </a:lnTo>
                  <a:lnTo>
                    <a:pt x="99" y="300"/>
                  </a:lnTo>
                  <a:lnTo>
                    <a:pt x="78" y="317"/>
                  </a:lnTo>
                  <a:lnTo>
                    <a:pt x="59" y="340"/>
                  </a:lnTo>
                  <a:lnTo>
                    <a:pt x="42" y="370"/>
                  </a:lnTo>
                  <a:lnTo>
                    <a:pt x="27" y="402"/>
                  </a:lnTo>
                  <a:lnTo>
                    <a:pt x="15" y="439"/>
                  </a:lnTo>
                  <a:lnTo>
                    <a:pt x="8" y="479"/>
                  </a:lnTo>
                  <a:lnTo>
                    <a:pt x="2" y="521"/>
                  </a:lnTo>
                  <a:lnTo>
                    <a:pt x="0" y="564"/>
                  </a:lnTo>
                  <a:lnTo>
                    <a:pt x="2" y="606"/>
                  </a:lnTo>
                  <a:lnTo>
                    <a:pt x="8" y="648"/>
                  </a:lnTo>
                  <a:lnTo>
                    <a:pt x="15" y="688"/>
                  </a:lnTo>
                  <a:lnTo>
                    <a:pt x="27" y="724"/>
                  </a:lnTo>
                  <a:lnTo>
                    <a:pt x="42" y="758"/>
                  </a:lnTo>
                  <a:lnTo>
                    <a:pt x="59" y="786"/>
                  </a:lnTo>
                  <a:lnTo>
                    <a:pt x="78" y="809"/>
                  </a:lnTo>
                  <a:lnTo>
                    <a:pt x="99" y="828"/>
                  </a:lnTo>
                  <a:lnTo>
                    <a:pt x="121" y="839"/>
                  </a:lnTo>
                  <a:lnTo>
                    <a:pt x="144" y="845"/>
                  </a:lnTo>
                  <a:lnTo>
                    <a:pt x="167" y="845"/>
                  </a:lnTo>
                  <a:lnTo>
                    <a:pt x="190" y="836"/>
                  </a:lnTo>
                  <a:close/>
                </a:path>
              </a:pathLst>
            </a:custGeom>
            <a:solidFill>
              <a:srgbClr val="b7ff6f"/>
            </a:solidFill>
            <a:ln w="396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662960" y="5630760"/>
              <a:ext cx="506520" cy="249120"/>
            </a:xfrm>
            <a:custGeom>
              <a:avLst/>
              <a:gdLst/>
              <a:ahLst/>
              <a:rect l="l" t="t" r="r" b="b"/>
              <a:pathLst>
                <a:path w="1285" h="1127">
                  <a:moveTo>
                    <a:pt x="190" y="836"/>
                  </a:moveTo>
                  <a:lnTo>
                    <a:pt x="207" y="888"/>
                  </a:lnTo>
                  <a:lnTo>
                    <a:pt x="227" y="936"/>
                  </a:lnTo>
                  <a:lnTo>
                    <a:pt x="250" y="980"/>
                  </a:lnTo>
                  <a:lnTo>
                    <a:pt x="277" y="1018"/>
                  </a:lnTo>
                  <a:lnTo>
                    <a:pt x="303" y="1052"/>
                  </a:lnTo>
                  <a:lnTo>
                    <a:pt x="333" y="1080"/>
                  </a:lnTo>
                  <a:lnTo>
                    <a:pt x="364" y="1102"/>
                  </a:lnTo>
                  <a:lnTo>
                    <a:pt x="396" y="1117"/>
                  </a:lnTo>
                  <a:lnTo>
                    <a:pt x="428" y="1125"/>
                  </a:lnTo>
                  <a:lnTo>
                    <a:pt x="460" y="1127"/>
                  </a:lnTo>
                  <a:lnTo>
                    <a:pt x="494" y="1122"/>
                  </a:lnTo>
                  <a:lnTo>
                    <a:pt x="526" y="1112"/>
                  </a:lnTo>
                  <a:lnTo>
                    <a:pt x="557" y="1093"/>
                  </a:lnTo>
                  <a:lnTo>
                    <a:pt x="587" y="1070"/>
                  </a:lnTo>
                  <a:lnTo>
                    <a:pt x="615" y="1040"/>
                  </a:lnTo>
                  <a:lnTo>
                    <a:pt x="644" y="1003"/>
                  </a:lnTo>
                  <a:lnTo>
                    <a:pt x="670" y="1040"/>
                  </a:lnTo>
                  <a:lnTo>
                    <a:pt x="698" y="1070"/>
                  </a:lnTo>
                  <a:lnTo>
                    <a:pt x="729" y="1093"/>
                  </a:lnTo>
                  <a:lnTo>
                    <a:pt x="759" y="1112"/>
                  </a:lnTo>
                  <a:lnTo>
                    <a:pt x="791" y="1122"/>
                  </a:lnTo>
                  <a:lnTo>
                    <a:pt x="825" y="1127"/>
                  </a:lnTo>
                  <a:lnTo>
                    <a:pt x="857" y="1125"/>
                  </a:lnTo>
                  <a:lnTo>
                    <a:pt x="890" y="1117"/>
                  </a:lnTo>
                  <a:lnTo>
                    <a:pt x="922" y="1102"/>
                  </a:lnTo>
                  <a:lnTo>
                    <a:pt x="952" y="1080"/>
                  </a:lnTo>
                  <a:lnTo>
                    <a:pt x="982" y="1052"/>
                  </a:lnTo>
                  <a:lnTo>
                    <a:pt x="1009" y="1018"/>
                  </a:lnTo>
                  <a:lnTo>
                    <a:pt x="1035" y="980"/>
                  </a:lnTo>
                  <a:lnTo>
                    <a:pt x="1058" y="936"/>
                  </a:lnTo>
                  <a:lnTo>
                    <a:pt x="1079" y="888"/>
                  </a:lnTo>
                  <a:lnTo>
                    <a:pt x="1096" y="836"/>
                  </a:lnTo>
                  <a:lnTo>
                    <a:pt x="1118" y="845"/>
                  </a:lnTo>
                  <a:lnTo>
                    <a:pt x="1141" y="845"/>
                  </a:lnTo>
                  <a:lnTo>
                    <a:pt x="1164" y="839"/>
                  </a:lnTo>
                  <a:lnTo>
                    <a:pt x="1187" y="828"/>
                  </a:lnTo>
                  <a:lnTo>
                    <a:pt x="1207" y="809"/>
                  </a:lnTo>
                  <a:lnTo>
                    <a:pt x="1226" y="786"/>
                  </a:lnTo>
                  <a:lnTo>
                    <a:pt x="1243" y="758"/>
                  </a:lnTo>
                  <a:lnTo>
                    <a:pt x="1258" y="724"/>
                  </a:lnTo>
                  <a:lnTo>
                    <a:pt x="1270" y="688"/>
                  </a:lnTo>
                  <a:lnTo>
                    <a:pt x="1277" y="648"/>
                  </a:lnTo>
                  <a:lnTo>
                    <a:pt x="1283" y="606"/>
                  </a:lnTo>
                  <a:lnTo>
                    <a:pt x="1285" y="564"/>
                  </a:lnTo>
                  <a:lnTo>
                    <a:pt x="1283" y="521"/>
                  </a:lnTo>
                  <a:lnTo>
                    <a:pt x="1277" y="479"/>
                  </a:lnTo>
                  <a:lnTo>
                    <a:pt x="1270" y="439"/>
                  </a:lnTo>
                  <a:lnTo>
                    <a:pt x="1258" y="402"/>
                  </a:lnTo>
                  <a:lnTo>
                    <a:pt x="1243" y="370"/>
                  </a:lnTo>
                  <a:lnTo>
                    <a:pt x="1226" y="340"/>
                  </a:lnTo>
                  <a:lnTo>
                    <a:pt x="1207" y="317"/>
                  </a:lnTo>
                  <a:lnTo>
                    <a:pt x="1187" y="300"/>
                  </a:lnTo>
                  <a:lnTo>
                    <a:pt x="1164" y="287"/>
                  </a:lnTo>
                  <a:lnTo>
                    <a:pt x="1141" y="282"/>
                  </a:lnTo>
                  <a:lnTo>
                    <a:pt x="1118" y="284"/>
                  </a:lnTo>
                  <a:lnTo>
                    <a:pt x="1096" y="290"/>
                  </a:lnTo>
                  <a:lnTo>
                    <a:pt x="1079" y="238"/>
                  </a:lnTo>
                  <a:lnTo>
                    <a:pt x="1058" y="190"/>
                  </a:lnTo>
                  <a:lnTo>
                    <a:pt x="1035" y="147"/>
                  </a:lnTo>
                  <a:lnTo>
                    <a:pt x="1009" y="108"/>
                  </a:lnTo>
                  <a:lnTo>
                    <a:pt x="982" y="75"/>
                  </a:lnTo>
                  <a:lnTo>
                    <a:pt x="952" y="48"/>
                  </a:lnTo>
                  <a:lnTo>
                    <a:pt x="922" y="26"/>
                  </a:lnTo>
                  <a:lnTo>
                    <a:pt x="890" y="11"/>
                  </a:lnTo>
                  <a:lnTo>
                    <a:pt x="857" y="1"/>
                  </a:lnTo>
                  <a:lnTo>
                    <a:pt x="825" y="0"/>
                  </a:lnTo>
                  <a:lnTo>
                    <a:pt x="791" y="5"/>
                  </a:lnTo>
                  <a:lnTo>
                    <a:pt x="759" y="16"/>
                  </a:lnTo>
                  <a:lnTo>
                    <a:pt x="729" y="35"/>
                  </a:lnTo>
                  <a:lnTo>
                    <a:pt x="698" y="58"/>
                  </a:lnTo>
                  <a:lnTo>
                    <a:pt x="670" y="88"/>
                  </a:lnTo>
                  <a:lnTo>
                    <a:pt x="644" y="123"/>
                  </a:lnTo>
                  <a:lnTo>
                    <a:pt x="615" y="88"/>
                  </a:lnTo>
                  <a:lnTo>
                    <a:pt x="587" y="58"/>
                  </a:lnTo>
                  <a:lnTo>
                    <a:pt x="557" y="35"/>
                  </a:lnTo>
                  <a:lnTo>
                    <a:pt x="526" y="16"/>
                  </a:lnTo>
                  <a:lnTo>
                    <a:pt x="494" y="5"/>
                  </a:lnTo>
                  <a:lnTo>
                    <a:pt x="460" y="0"/>
                  </a:lnTo>
                  <a:lnTo>
                    <a:pt x="428" y="1"/>
                  </a:lnTo>
                  <a:lnTo>
                    <a:pt x="396" y="11"/>
                  </a:lnTo>
                  <a:lnTo>
                    <a:pt x="364" y="26"/>
                  </a:lnTo>
                  <a:lnTo>
                    <a:pt x="333" y="48"/>
                  </a:lnTo>
                  <a:lnTo>
                    <a:pt x="303" y="75"/>
                  </a:lnTo>
                  <a:lnTo>
                    <a:pt x="277" y="108"/>
                  </a:lnTo>
                  <a:lnTo>
                    <a:pt x="250" y="147"/>
                  </a:lnTo>
                  <a:lnTo>
                    <a:pt x="227" y="190"/>
                  </a:lnTo>
                  <a:lnTo>
                    <a:pt x="207" y="238"/>
                  </a:lnTo>
                  <a:lnTo>
                    <a:pt x="190" y="290"/>
                  </a:lnTo>
                  <a:lnTo>
                    <a:pt x="167" y="284"/>
                  </a:lnTo>
                  <a:lnTo>
                    <a:pt x="144" y="282"/>
                  </a:lnTo>
                  <a:lnTo>
                    <a:pt x="121" y="287"/>
                  </a:lnTo>
                  <a:lnTo>
                    <a:pt x="99" y="300"/>
                  </a:lnTo>
                  <a:lnTo>
                    <a:pt x="78" y="317"/>
                  </a:lnTo>
                  <a:lnTo>
                    <a:pt x="59" y="340"/>
                  </a:lnTo>
                  <a:lnTo>
                    <a:pt x="42" y="370"/>
                  </a:lnTo>
                  <a:lnTo>
                    <a:pt x="27" y="402"/>
                  </a:lnTo>
                  <a:lnTo>
                    <a:pt x="15" y="439"/>
                  </a:lnTo>
                  <a:lnTo>
                    <a:pt x="8" y="479"/>
                  </a:lnTo>
                  <a:lnTo>
                    <a:pt x="2" y="521"/>
                  </a:lnTo>
                  <a:lnTo>
                    <a:pt x="0" y="564"/>
                  </a:lnTo>
                  <a:lnTo>
                    <a:pt x="2" y="606"/>
                  </a:lnTo>
                  <a:lnTo>
                    <a:pt x="8" y="648"/>
                  </a:lnTo>
                  <a:lnTo>
                    <a:pt x="15" y="688"/>
                  </a:lnTo>
                  <a:lnTo>
                    <a:pt x="27" y="724"/>
                  </a:lnTo>
                  <a:lnTo>
                    <a:pt x="42" y="758"/>
                  </a:lnTo>
                  <a:lnTo>
                    <a:pt x="59" y="786"/>
                  </a:lnTo>
                  <a:lnTo>
                    <a:pt x="78" y="809"/>
                  </a:lnTo>
                  <a:lnTo>
                    <a:pt x="99" y="828"/>
                  </a:lnTo>
                  <a:lnTo>
                    <a:pt x="121" y="839"/>
                  </a:lnTo>
                  <a:lnTo>
                    <a:pt x="144" y="845"/>
                  </a:lnTo>
                  <a:lnTo>
                    <a:pt x="167" y="845"/>
                  </a:lnTo>
                  <a:lnTo>
                    <a:pt x="190" y="836"/>
                  </a:lnTo>
                  <a:close/>
                </a:path>
              </a:pathLst>
            </a:custGeom>
            <a:solidFill>
              <a:srgbClr val="b7ff6f"/>
            </a:solidFill>
            <a:ln w="39600">
              <a:solidFill>
                <a:srgbClr val="3399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62720" y="5526000"/>
              <a:ext cx="43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W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59520" y="5526000"/>
              <a:ext cx="0" cy="11793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113520" y="5526000"/>
              <a:ext cx="439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LA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458200" y="5586120"/>
              <a:ext cx="304920" cy="20880"/>
            </a:xfrm>
            <a:custGeom>
              <a:avLst/>
              <a:gdLst/>
              <a:ahLst/>
              <a:rect l="l" t="t" r="r" b="b"/>
              <a:pathLst>
                <a:path w="1349" h="125">
                  <a:moveTo>
                    <a:pt x="1208" y="0"/>
                  </a:moveTo>
                  <a:lnTo>
                    <a:pt x="0" y="0"/>
                  </a:lnTo>
                  <a:lnTo>
                    <a:pt x="142" y="125"/>
                  </a:lnTo>
                  <a:lnTo>
                    <a:pt x="1349" y="125"/>
                  </a:lnTo>
                  <a:lnTo>
                    <a:pt x="1208" y="0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461440" y="5410080"/>
              <a:ext cx="273240" cy="174600"/>
            </a:xfrm>
            <a:prstGeom prst="rect">
              <a:avLst/>
            </a:prstGeom>
            <a:solidFill>
              <a:srgbClr val="94c7e4"/>
            </a:solidFill>
            <a:ln w="3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45320" y="5456160"/>
              <a:ext cx="81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rebuchet MS"/>
                </a:rPr>
                <a:t>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729640" y="5411520"/>
              <a:ext cx="33480" cy="195480"/>
            </a:xfrm>
            <a:custGeom>
              <a:avLst/>
              <a:gdLst/>
              <a:ahLst/>
              <a:rect l="l" t="t" r="r" b="b"/>
              <a:pathLst>
                <a:path w="141" h="1215">
                  <a:moveTo>
                    <a:pt x="141" y="1215"/>
                  </a:moveTo>
                  <a:lnTo>
                    <a:pt x="0" y="1090"/>
                  </a:lnTo>
                  <a:lnTo>
                    <a:pt x="0" y="0"/>
                  </a:lnTo>
                  <a:lnTo>
                    <a:pt x="141" y="125"/>
                  </a:lnTo>
                  <a:lnTo>
                    <a:pt x="141" y="1215"/>
                  </a:lnTo>
                  <a:close/>
                </a:path>
              </a:pathLst>
            </a:custGeom>
            <a:solidFill>
              <a:srgbClr val="c0c0c0"/>
            </a:solidFill>
            <a:ln w="324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8375760" y="5526000"/>
              <a:ext cx="84240" cy="115920"/>
            </a:xfrm>
            <a:prstGeom prst="line">
              <a:avLst/>
            </a:prstGeom>
            <a:ln w="39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81960" y="5562360"/>
              <a:ext cx="72396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047080" y="5867280"/>
              <a:ext cx="639720" cy="1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Ho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rebuchet MS"/>
                </a:rPr>
                <a:t>Networ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echnology Discus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ovisio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twork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Quality of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twork address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rade-off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-use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HCP, TOD, TFTP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uld be perceived as heavy-w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merging protoc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niversal Plug and Play (UPn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Jini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eed to make proper technology ch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195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rovisio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evices configurable over the W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ows network provider to offer the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andard metho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HCP, TFTP, SN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it with existing back-end off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ssential for stand-alone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etwork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1920" y="91440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NMP is attractive due to 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NMPv3 User-based Security Model (US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FC 257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Privacy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NMPv3 View-based Access Control Model (VAC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FC 25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Flexible view-based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NMP Coexist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FC 257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llows VACM with any of SNMPv1/v2/v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USM</a:t>
            </a: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 only with SNMPv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ut other protocols may be lighter w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UPnP, Jini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206880" y="5942160"/>
            <a:ext cx="238896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urity is Key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Workshop Ques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vice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nd-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visio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twork address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Quality of Serv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ata link should support Q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But can the specific data link be specifie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pper layer mechanism to signal QoS, lower layer mechanism to implemen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upper layer such as RSVP or SIP/SD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.g., lower layer such as IEEE 802.1p or Subnet Bandwidth Manager (SBM, RFC 281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uthenticated messag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Network Address Manag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ynamic Host Configuration Protocol (DHC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Pv4 and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twork Address Translation (N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twork Address Port Translation (NAP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main Name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outing vs. Switc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ecur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r both service provider and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lready in IPCablecom and J.1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eeded in-hom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Datalink or application layer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ublic Key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lnSpc>
                <a:spcPct val="100000"/>
              </a:lnSpc>
              <a:spcBef>
                <a:spcPts val="499"/>
              </a:spcBef>
              <a:spcAft>
                <a:spcPts val="1001"/>
              </a:spcAft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Which certificate provid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gital Rights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TU standard - Huge opportunity for service providers and equipment manufactur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llow service providers to offer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ure provisioning and 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ilor technology choice for in-home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763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TU-T Workshop on Multimedia Convergenc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roadband Delivery and In-home Distribution</a:t>
            </a:r>
            <a:br>
              <a:rPr sz="4000"/>
            </a:b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Geneva, Switzerland 12 – 15 March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13716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oug J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hief Architect, YAS Broadb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sultant to CableLabs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oug@yas.com</a:t>
            </a: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, +1 303.661.382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Workshop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Overview of the different solutions, future ev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.g. broadband cable, DS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inimum requirements to ensure inter-working and interoperability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280" y="228600"/>
            <a:ext cx="7290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Home Is Where The Net 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7631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r the service provider, a converged network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mmon provisioning/management/secu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For the consumer, a converged applications me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Device-indepen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ame “look and feel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ase of use, plug and p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x of IP and MPE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ultiple technologies &amp; services,  one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est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ecurity, provisioning, 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oice, data,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67820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roadband Advant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pa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ultiple Giga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teractiv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PEG/IP (video, data, vo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It’s not just technology, it’s a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or the subscriber, and for the network op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oviding end-to-en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5268960" y="990720"/>
          <a:ext cx="3875040" cy="335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68960" y="990720"/>
                    <a:ext cx="3875040" cy="33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162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Service Opportunit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14400" y="990720"/>
          <a:ext cx="7162920" cy="48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990720"/>
                    <a:ext cx="7162920" cy="48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913680" y="6019920"/>
            <a:ext cx="776268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sidential &amp; Business (small and lar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onfederation with Other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J.1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PCablec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E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V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C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any other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hould apply technology consistent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Home Networking Devices </a:t>
            </a: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Modes of Ope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280" y="1904760"/>
            <a:ext cx="88394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utonomous configuration by the u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nfigured by a service/network provi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ovider can grant the user access to specific features and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2600" y="5486400"/>
            <a:ext cx="7444080" cy="5814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hould not constrain business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Types of Netwo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P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PNs, gaming, chat, e-commerc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ven in the presence of NAT and NA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IETF RFC 3235: NAT-friendly application design guide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Native MPEG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rebuchet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raditional digital vid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Analog vide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ome network should support 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ifficult to choose a datalink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ide complexity from the us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3T10:30:53Z</dcterms:created>
  <dc:creator>djones</dc:creator>
  <dc:description/>
  <dc:language>en-US</dc:language>
  <cp:lastModifiedBy>djones</cp:lastModifiedBy>
  <dcterms:modified xsi:type="dcterms:W3CDTF">2002-03-14T06:47:32Z</dcterms:modified>
  <cp:revision>91</cp:revision>
  <dc:subject/>
  <dc:title>ITU-T Workshop on Multimedia Convergence Geneva, Switzerland 12 – 15 March 2002</dc:title>
</cp:coreProperties>
</file>