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7C2-892D-450D-A5D8-CDA077BB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18E7-8385-4F2F-88F4-7657FEB7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159-635F-47A3-B224-8B81A430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556F-2BA8-4E91-B5D9-55CEAA92C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C377-A73B-4321-85F4-6F826CAD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5D30C-C8F1-4ADA-B3FA-487CFF4E8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F463-F7C2-4115-A014-B921F0F2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9E21-9E46-4CD0-B49E-D3239A77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8F9B-C34F-488A-9198-6AB25087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8092-B859-447C-B85F-BA0E7F3C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F314-A36D-408D-A9BF-7EB5420A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3DC4-870B-4ABC-B85B-EB317168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1E18F-B9DF-4D56-8CD7-36E5590D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C401-028E-4284-85DE-F6A263EA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9213-9A5D-4B13-89C3-FAE7C2D8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A42A-FF0A-4969-92A6-FADD9A3A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9DCA-61B0-4EA4-9E06-B1001385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E7DD-210F-4DF0-872A-583A7868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136E-7F66-44D0-AFB3-B04A8179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5C1-1110-4562-A3C2-B5F31641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8AE8-365F-4114-91A7-33658F3B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BE1-6C09-4322-A74E-9A936936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2923-2F1D-4148-85C9-8A25585A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8588-C57F-4EA8-BF0C-245E3C6B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5A2F-DA6D-4B60-9812-FF7D718ED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494C-E75D-4854-A369-A2AC5B0B9A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Arial"/>
              </a:rPr>
              <a:t>Cable broadband delivery</a:t>
            </a:r>
            <a:br>
              <a:rPr sz="4000"/>
            </a:b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(Cable modem transport platforms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66680" y="3505320"/>
            <a:ext cx="685800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chard Catchp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U-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y Group 9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ssociate Rapporteu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jc@nortelnetwork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U-T Workshop on Multimedia Converg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rch 12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-1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20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ble modem standard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c. 1996: Internet access versions of DAVIC/DVB and DOC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™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specifications publis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c. 1998: Above ratified by ITU-T as J.112 A&amp;B respectively, plus a variant of DOC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™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s J.112 C for Japan.  J.112A ratified by Region 1 SDO [ETSI], J.112B by Region 2 [ANSI/SCTE] and J.112C by Region 3 [Japan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ct. 2000: For time critical services, further versions of DAVIC/DVB and DOCS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™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specifications publis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rch 2001: Those further versions ratified by ITU-T by amendment to J.112 A&amp;B, resp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Both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ratified by ET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b. 2002: Version for time critical services for Japan ratified by ITU-T by amendment of J.112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81C2-DAFC-4CEB-BB91-B5C849483C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53452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ble mode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ing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gra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t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bility testing and certification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 ITU-T J.112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able mode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 is done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bleLabs for main text option within J.112B [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CSIS™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ComLabs for Annex N option within J.112B [ Eu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CSI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ny cable modem vendors have had their products certified in this way alrea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consequence has been multi-sourcing of fully inter-operable cable modems, together with the rapid price reduction needed for successful take-up of bi-directional broadband serv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re are already over 10 million worldwid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D92-2663-426B-BDB9-25A8345587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676520" y="2514600"/>
            <a:ext cx="6629400" cy="41148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.112B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ing Proc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90920"/>
            <a:ext cx="838080" cy="7617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t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3809880"/>
            <a:ext cx="60948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66880" y="3200400"/>
            <a:ext cx="609840" cy="7621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ec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495680"/>
            <a:ext cx="1600200" cy="6098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4876920"/>
            <a:ext cx="129528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c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amp; Resul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1080" y="2819520"/>
            <a:ext cx="16754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2840" y="3506760"/>
            <a:ext cx="106740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031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03139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3040" y="4192560"/>
            <a:ext cx="16761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03201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032014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10440" y="4648320"/>
            <a:ext cx="15235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0800000">
            <a:off x="1523880" y="2895840"/>
            <a:ext cx="22852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2970360" y="3350160"/>
            <a:ext cx="1063800" cy="10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106" y="341"/>
                </a:moveTo>
                <a:arcTo wR="10800" hR="10800" stAng="-6266652" swAng="6266652"/>
                <a:lnTo>
                  <a:pt x="10800" y="10800"/>
                </a:lnTo>
                <a:close/>
              </a:path>
              <a:path fill="none" w="21600" h="21600">
                <a:moveTo>
                  <a:pt x="8106" y="341"/>
                </a:moveTo>
                <a:arcTo wR="10800" hR="10800" stAng="-6266652" swAng="6266652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3886560" y="4267080"/>
            <a:ext cx="1220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100" y="135"/>
                </a:moveTo>
                <a:arcTo wR="10800" hR="10800" stAng="-5943507" swAng="5943507"/>
                <a:lnTo>
                  <a:pt x="10800" y="10800"/>
                </a:lnTo>
                <a:close/>
              </a:path>
              <a:path fill="none" w="21600" h="21600">
                <a:moveTo>
                  <a:pt x="9100" y="135"/>
                </a:moveTo>
                <a:arcTo wR="10800" hR="10800" stAng="-5943507" swAng="5943507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5712840" y="4876920"/>
            <a:ext cx="16772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575" y="70"/>
                </a:moveTo>
                <a:arcTo wR="10800" hR="10800" stAng="-5790807" swAng="5662454"/>
                <a:lnTo>
                  <a:pt x="10800" y="10800"/>
                </a:lnTo>
                <a:close/>
              </a:path>
              <a:path fill="none" w="21600" h="21600">
                <a:moveTo>
                  <a:pt x="9575" y="70"/>
                </a:moveTo>
                <a:arcTo wR="10800" hR="10800" stAng="-5790807" swAng="5662454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2816280" y="3049560"/>
            <a:ext cx="2976840" cy="1979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863" y="175"/>
                </a:moveTo>
                <a:arcTo wR="10800" hR="10800" stAng="-6020040" swAng="6287133"/>
                <a:lnTo>
                  <a:pt x="10800" y="10800"/>
                </a:lnTo>
                <a:close/>
              </a:path>
              <a:path fill="none" w="21600" h="21600">
                <a:moveTo>
                  <a:pt x="8863" y="175"/>
                </a:moveTo>
                <a:arcTo wR="10800" hR="10800" stAng="-6020040" swAng="6287133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1295280" y="1526040"/>
            <a:ext cx="10698480" cy="395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77" y="1"/>
                </a:moveTo>
                <a:arcTo wR="10800" hR="10800" stAng="-5439151" swAng="5706244"/>
                <a:lnTo>
                  <a:pt x="10800" y="10800"/>
                </a:lnTo>
                <a:close/>
              </a:path>
              <a:path fill="none" w="21600" h="21600">
                <a:moveTo>
                  <a:pt x="10677" y="1"/>
                </a:moveTo>
                <a:arcTo wR="10800" hR="10800" stAng="-5439151" swAng="5706244"/>
              </a:path>
            </a:pathLst>
          </a:custGeom>
          <a:noFill/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2590920"/>
            <a:ext cx="1411200" cy="9144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ir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295280"/>
            <a:ext cx="693396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.112B “DOCSIS” by CableLabs, U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J.112B “EuroDOCSIS” by tComLabs, Belg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003-2E2C-4CA0-8F30-DB2B7225031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r more information…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U-T Q12/9 on cable TV delivery of multimedia using IP or packet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apporteur: Rouzbeh Yassini (rouzbeh@yas.c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ssoc. Rapporteur: Richard Catchpole (rjc@nortelnetworks.c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TSI JTC/Broadcast: http://portal.etsi.org, and click on “Broadcas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apporteur: Richard Catchpole (rjc@nortelnetworks.co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ableLabs: http://www.cablemodem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ComLabs: http://www.tcomlab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9664-EE29-4FF5-9651-D213ABC5BC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ble modem summary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itially on internet acces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n on Voice over 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 future on multi-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evolution in focus has required the introduction of more sophisticated QoS and secu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pidly growing deployment, already exceeding 10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5EB-AE0D-4A2C-99BC-E2313E37EB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050320" cy="2667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4400" y="15228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ble modem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3809880"/>
            <a:ext cx="8153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ble modem” i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term used for equipment for “data communications on a cable television system” [Rec. J.112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U-T Rec. J.112 defines inter-operability of this subscriber located equipment with the cable netwo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able modem” is also know as “Interactive Interface Module” [DVB], “Multimedia Home equipment” [Japan]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914400"/>
            <a:ext cx="914400" cy="533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029200" y="152388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477120" y="16002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4876920" y="251460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1905120"/>
            <a:ext cx="838440" cy="75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181480" y="220932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2286000"/>
            <a:ext cx="114300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6172200" y="1447560"/>
            <a:ext cx="38088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3962520" y="1143000"/>
            <a:ext cx="914400" cy="533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flipH="1" flipV="1">
            <a:off x="4419360" y="167616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119-7E71-46DD-A2CF-AAC60FAEF6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ervices to be supported by cable modems (IPCablecom services, etc.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et ac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ial/Business IP Telepho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deo IP telepho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ice/data/video unified messa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hanced conferencing and media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ertainment Serv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-time multiplayer interactive gam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98D-B2C9-4ED6-9549-35C0FE5D125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28120" y="4343400"/>
            <a:ext cx="4227120" cy="2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Access No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M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Cable Mod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HFC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Hybrid Fiber Coax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ISP     Internet Service Provi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TA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ultimedia Terminal Adap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PSTN Public Switched Tel. 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COMP1" descr=""/>
          <p:cNvPicPr/>
          <p:nvPr/>
        </p:nvPicPr>
        <p:blipFill>
          <a:blip r:embed="rId1"/>
          <a:stretch/>
        </p:blipFill>
        <p:spPr>
          <a:xfrm>
            <a:off x="76320" y="1828800"/>
            <a:ext cx="1523880" cy="1171440"/>
          </a:xfrm>
          <a:prstGeom prst="rect">
            <a:avLst/>
          </a:prstGeom>
          <a:ln w="0">
            <a:noFill/>
          </a:ln>
        </p:spPr>
      </p:pic>
      <p:pic>
        <p:nvPicPr>
          <p:cNvPr id="107" name="PHONE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685800" cy="625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38080" y="3809880"/>
            <a:ext cx="533520" cy="1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81280" y="2209680"/>
            <a:ext cx="3048120" cy="2286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Cable modem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PHONE" descr=""/>
          <p:cNvPicPr/>
          <p:nvPr/>
        </p:nvPicPr>
        <p:blipFill>
          <a:blip r:embed="rId3"/>
          <a:stretch/>
        </p:blipFill>
        <p:spPr>
          <a:xfrm>
            <a:off x="7924680" y="4419720"/>
            <a:ext cx="685800" cy="62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781680" y="2971800"/>
            <a:ext cx="1676520" cy="1143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_OEQ128" descr=""/>
          <p:cNvPicPr/>
          <p:nvPr/>
        </p:nvPicPr>
        <p:blipFill>
          <a:blip r:embed="rId4">
            <a:grayscl/>
          </a:blip>
          <a:stretch/>
        </p:blipFill>
        <p:spPr>
          <a:xfrm>
            <a:off x="6400800" y="2133720"/>
            <a:ext cx="50472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B_OEQ128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4343400" y="3352680"/>
            <a:ext cx="407880" cy="7621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905120" y="2343240"/>
            <a:ext cx="1447560" cy="17715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9051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095560"/>
            <a:ext cx="121932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3920" y="2762280"/>
            <a:ext cx="1219320" cy="9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2514600"/>
            <a:ext cx="15264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3619440"/>
            <a:ext cx="1219320" cy="34308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719520"/>
            <a:ext cx="620640" cy="189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1560" y="3378240"/>
            <a:ext cx="18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_OEQ128" descr=""/>
          <p:cNvPicPr/>
          <p:nvPr/>
        </p:nvPicPr>
        <p:blipFill>
          <a:blip r:embed="rId6">
            <a:grayscl/>
          </a:blip>
          <a:stretch/>
        </p:blipFill>
        <p:spPr>
          <a:xfrm>
            <a:off x="6629400" y="990720"/>
            <a:ext cx="407880" cy="761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342320" y="2536920"/>
            <a:ext cx="152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d I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B_OEQ128" descr=""/>
          <p:cNvPicPr/>
          <p:nvPr/>
        </p:nvPicPr>
        <p:blipFill>
          <a:blip r:embed="rId7">
            <a:grayscl/>
          </a:blip>
          <a:stretch/>
        </p:blipFill>
        <p:spPr>
          <a:xfrm>
            <a:off x="2438280" y="1447920"/>
            <a:ext cx="408240" cy="7617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82520" y="1317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2508120"/>
            <a:ext cx="863640" cy="212760"/>
          </a:xfrm>
          <a:prstGeom prst="rect">
            <a:avLst/>
          </a:prstGeom>
          <a:solidFill>
            <a:srgbClr val="cc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2273400"/>
            <a:ext cx="1440" cy="156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7960" y="28414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F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2590920"/>
            <a:ext cx="3808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_OEQ128" descr=""/>
          <p:cNvPicPr/>
          <p:nvPr/>
        </p:nvPicPr>
        <p:blipFill>
          <a:blip r:embed="rId8">
            <a:grayscl/>
          </a:blip>
          <a:stretch/>
        </p:blipFill>
        <p:spPr>
          <a:xfrm>
            <a:off x="5715000" y="1752480"/>
            <a:ext cx="407880" cy="762120"/>
          </a:xfrm>
          <a:prstGeom prst="rect">
            <a:avLst/>
          </a:prstGeom>
          <a:ln w="0">
            <a:noFill/>
          </a:ln>
        </p:spPr>
      </p:pic>
      <p:pic>
        <p:nvPicPr>
          <p:cNvPr id="132" name="B_OEQ128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4114800" y="1828800"/>
            <a:ext cx="407880" cy="762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95880" y="2324160"/>
            <a:ext cx="304920" cy="114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01000" y="4133880"/>
            <a:ext cx="228600" cy="285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2705040"/>
            <a:ext cx="228600" cy="114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095880" y="1676160"/>
            <a:ext cx="60984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6B2-A4E4-4620-AB68-0C8D1AF8DEC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9383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383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712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57120" y="819000"/>
            <a:ext cx="8429760" cy="55245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971800" y="4876920"/>
            <a:ext cx="2590920" cy="1066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773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cast reference model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31F5-657E-4A51-B143-0CD853E6E75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9383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383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76520" y="762120"/>
          <a:ext cx="6553080" cy="540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6553080" cy="54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9976-79B0-4E10-9CE3-8AF51AE29DAD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9383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383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7120" y="81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076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VB preferred frequency ranges [J.112A]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9056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80880" y="1163520"/>
          <a:ext cx="8305920" cy="44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63520"/>
                    <a:ext cx="830592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B79F-2D7A-4D3E-ADCD-D683854E0CC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ble modem physical layer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523880"/>
            <a:ext cx="80010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wnstream, Access Node to Cable Modem,  uses TDM over the digital broadcast for cable standards [ITU-T Rec. J.83 A, B, C as used in Regions 1, 2, 3 respectively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volutional interlea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ed Solomon encod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AM modul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stream, Cable Modem to Access Node, uses TD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DMA slots can be reserved or allocated by contention resolution, according to the required Q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ed Solomon encod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PSK or QAM, with advanced modulation for further stu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A186-4B2C-43DE-82FA-FD7A7E2F18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75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sic standards process for cable modem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3352680"/>
            <a:ext cx="99072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ableLa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2960" y="2201760"/>
            <a:ext cx="94608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1219320"/>
            <a:ext cx="1114560" cy="3934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TU-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2286000"/>
            <a:ext cx="99072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240" y="4038480"/>
            <a:ext cx="3754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120" bIns="421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638320" y="1599840"/>
            <a:ext cx="22100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743200" y="2742840"/>
            <a:ext cx="19810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105520" y="159984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666880" y="1599840"/>
            <a:ext cx="19051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048120" y="2742840"/>
            <a:ext cx="47242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66880" y="27428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6248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143000"/>
            <a:ext cx="115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Global SDO leve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3800" y="2133720"/>
            <a:ext cx="110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/national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DO leve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2720" y="350532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Contribu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Leve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3200400" y="3657240"/>
            <a:ext cx="9144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3200040" y="3886200"/>
            <a:ext cx="16002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514240" y="3885840"/>
            <a:ext cx="2971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2286000"/>
            <a:ext cx="99072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T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2286000"/>
            <a:ext cx="9903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Japan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3733920"/>
            <a:ext cx="609480" cy="30456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e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4114800"/>
            <a:ext cx="609480" cy="304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e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4495680"/>
            <a:ext cx="609480" cy="3049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e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72920" y="4876920"/>
            <a:ext cx="5203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TSI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European Telecom Standards Institu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ITU-T   International Telecom Union, Telecom sec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CTE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ociety of Cable Telecom Engine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DO     Standards Development Organisation (accredited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Vend.   Ven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Standards draft text to IPR terms of recip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19920" y="3352680"/>
            <a:ext cx="990360" cy="53352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ComLab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724280" y="3733560"/>
            <a:ext cx="129564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10080" y="3886200"/>
            <a:ext cx="11430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5880" y="388584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714640" y="274284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TU-T IPCablecom/Mediacom 2004 Worksho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D7DB-E80F-435A-A5BB-0F9902845D7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12,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0T21:47:07Z</dcterms:created>
  <dc:creator>Edward Miller</dc:creator>
  <dc:description/>
  <dc:language>en-US</dc:language>
  <cp:lastModifiedBy>Richard John Catchpole</cp:lastModifiedBy>
  <dcterms:modified xsi:type="dcterms:W3CDTF">2002-03-06T17:48:28Z</dcterms:modified>
  <cp:revision>142</cp:revision>
  <dc:subject/>
  <dc:title>IPCablecom Overview</dc:title>
</cp:coreProperties>
</file>