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69B-3677-41CC-B392-778BFEDB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F79-97D3-4F4F-921D-49388791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4E5-DECE-4971-A353-72D775D6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791-B8F8-4538-A053-D759B412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F73-7B47-4972-8DA6-3822678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EE4-9FFE-4E5B-A05D-11DDA124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BE3-9F58-4CF4-BA5E-75998593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CCF-59A4-4555-94D7-E2B9B793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BA9-5D0F-4E4F-A4F9-113E3F81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22E-6044-45BA-9124-44BEEA8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ED8-315B-403C-BC42-1CE32FD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79B-8D5D-4E74-87ED-6B8F869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E7C2-4BCE-4E06-9E90-F453770F2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 and Subjective Evaluation for Telecommunications Services and Video Qua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hur Webster, NTIA/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porteur Q21/9, Co-Chair VQ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638680"/>
            <a:ext cx="8915400" cy="1067040"/>
            <a:chOff x="228600" y="5638680"/>
            <a:chExt cx="8915400" cy="1067040"/>
          </a:xfrm>
        </p:grpSpPr>
        <p:sp>
          <p:nvSpPr>
            <p:cNvPr id="44" name=""/>
            <p:cNvSpPr/>
            <p:nvPr/>
          </p:nvSpPr>
          <p:spPr>
            <a:xfrm>
              <a:off x="903240" y="5791320"/>
              <a:ext cx="82407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00"/>
                  </a:solidFill>
                  <a:latin typeface="Arial"/>
                </a:rPr>
                <a:t>IP Cablecom and MEDIACOM 200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ITU_Logo" descr=""/>
            <p:cNvPicPr/>
            <p:nvPr/>
          </p:nvPicPr>
          <p:blipFill>
            <a:blip r:embed="rId1"/>
            <a:stretch/>
          </p:blipFill>
          <p:spPr>
            <a:xfrm>
              <a:off x="228600" y="5638680"/>
              <a:ext cx="105264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1A1 Current Work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mily of 5 Technical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1.TR.PP.72-2001 Methodological Framework for Specifying Accuracy and Cross-calibration of Video Quality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1.TR.PP.73-2001 Video Normalization Methods Applicable to Objective Video Quality Metrics Utilizing a Full Reference 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1.TR.PP.74-2001 Objective Video Quality Measurement Using a Peak-Signal-to-Noise-Ratio (PSNR) Full Reference 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1.TR.PP.75-2001 Objective Perceptual Video Quality Measurement Using a JND-based Full Reference 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1.TR.PP.77-2002 Data and Sample Program Code to Be Used With the Method Specified in Technical Report [72] for the Calculation of Resolving Power of the Video Quality Metrics in Technical Reports [74] and [7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s Input to the ITU for Further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.TR-72-2001 Used to Judge Accuracy of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4911840" y="2109960"/>
            <a:ext cx="726840" cy="4074840"/>
            <a:chOff x="4911840" y="2109960"/>
            <a:chExt cx="726840" cy="4074840"/>
          </a:xfrm>
        </p:grpSpPr>
        <p:sp>
          <p:nvSpPr>
            <p:cNvPr id="89" name=""/>
            <p:cNvSpPr/>
            <p:nvPr/>
          </p:nvSpPr>
          <p:spPr>
            <a:xfrm>
              <a:off x="4911840" y="31971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11840" y="322740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11840" y="32608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11840" y="32907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11840" y="33195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1840" y="335448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1840" y="3382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11840" y="34131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11840" y="34466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11840" y="34765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1840" y="35067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11840" y="35402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1840" y="35701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3598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11840" y="36320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1840" y="36622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11840" y="36925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11840" y="37260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11840" y="37558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11840" y="37861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1840" y="381960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11840" y="384984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11840" y="38782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11840" y="39117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11840" y="39416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11840" y="39718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11840" y="40053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11840" y="40356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11840" y="406548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11840" y="40989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11840" y="412920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11840" y="41576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11840" y="41911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11840" y="4221000"/>
              <a:ext cx="7920" cy="8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11840" y="42512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11840" y="42847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11840" y="43149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11840" y="434484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11840" y="43783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1840" y="44085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11840" y="44370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11840" y="44704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11840" y="45007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11840" y="45306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1840" y="45640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840" y="45943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11840" y="46245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11840" y="465768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11840" y="46864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11840" y="47163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11840" y="47498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11840" y="47800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11840" y="4809960"/>
              <a:ext cx="7920" cy="8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1840" y="4843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11840" y="48736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1840" y="490392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11840" y="493704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11840" y="49658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11840" y="49957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11840" y="50292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11840" y="5059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840" y="50896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1840" y="51228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11840" y="515304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11840" y="518328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11840" y="521640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11840" y="52452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11840" y="5275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11840" y="53085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11840" y="53388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1840" y="53690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1840" y="54021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1840" y="543240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11840" y="546264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1840" y="54957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1840" y="55245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1840" y="55548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11840" y="5587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1840" y="56181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11840" y="56484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11840" y="56815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1840" y="57117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1840" y="574200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1840" y="577548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11840" y="5803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11840" y="58341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11840" y="58672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11840" y="58975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11840" y="59277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11840" y="59612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11840" y="59911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11840" y="6019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11840" y="605484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11840" y="60832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11840" y="61135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11840" y="61466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11840" y="61768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0760" y="21099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0760" y="213984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30760" y="21733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0760" y="22035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0760" y="223200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30760" y="22654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0760" y="2295360"/>
              <a:ext cx="7920" cy="8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0760" y="232560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0760" y="23590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30760" y="23893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30760" y="241920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30760" y="245268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0760" y="24811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0760" y="251136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0760" y="25448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30760" y="25750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0760" y="260496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0760" y="2638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30760" y="266868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30760" y="2698920"/>
              <a:ext cx="7920" cy="10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30760" y="273204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30760" y="27608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30760" y="279072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0760" y="28242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30760" y="2854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0760" y="288432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0760" y="29178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30760" y="294804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0760" y="2978280"/>
              <a:ext cx="79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30760" y="301140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30760" y="30402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0760" y="307512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30760" y="31035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30760" y="31338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30760" y="3166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30760" y="31971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0760" y="322740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0760" y="32608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0760" y="32907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0760" y="33195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0760" y="335448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0760" y="3382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30760" y="34131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30760" y="34466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0760" y="34765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0760" y="35067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30760" y="35402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0760" y="35701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0760" y="35989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0760" y="36320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0760" y="36622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30760" y="36925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0760" y="37260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30760" y="37558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0760" y="37861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30760" y="381960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30760" y="384984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0760" y="38782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0760" y="39117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0760" y="39416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30760" y="39718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0760" y="40053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40356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30760" y="406548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30760" y="409896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30760" y="412920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30760" y="41576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30760" y="41911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30760" y="4221000"/>
              <a:ext cx="7920" cy="8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30760" y="42512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30760" y="42847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30760" y="43149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30760" y="434484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30760" y="437832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30760" y="44085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30760" y="44370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0760" y="44704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30760" y="45007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0760" y="45306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0760" y="45640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0760" y="45943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0760" y="46245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30760" y="465768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0760" y="46864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0760" y="471636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30760" y="47498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0760" y="47800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0760" y="4809960"/>
              <a:ext cx="7920" cy="8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30760" y="4843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0760" y="48736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0760" y="490392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30760" y="493704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30760" y="49658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0760" y="499572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30760" y="50292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0760" y="5059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0760" y="508968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30760" y="51228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30760" y="515304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30760" y="518328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0760" y="5216400"/>
              <a:ext cx="792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0760" y="524520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30760" y="5275440"/>
              <a:ext cx="7920" cy="7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20516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9408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8480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7516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2744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18160" y="5753160"/>
            <a:ext cx="61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708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46840" y="5753160"/>
            <a:ext cx="936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40440" y="5753160"/>
            <a:ext cx="61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732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3080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8804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2116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7840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3068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1960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032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260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5296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43680" y="5753160"/>
            <a:ext cx="61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0092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3404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1280" y="5753160"/>
            <a:ext cx="648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3248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2320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1356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47040" y="5753160"/>
            <a:ext cx="61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0392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6560" y="5753160"/>
            <a:ext cx="61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548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35840" y="5753160"/>
            <a:ext cx="7920" cy="6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84360" y="2046240"/>
            <a:ext cx="5601960" cy="4499280"/>
            <a:chOff x="1584360" y="2046240"/>
            <a:chExt cx="5601960" cy="4499280"/>
          </a:xfrm>
        </p:grpSpPr>
        <p:grpSp>
          <p:nvGrpSpPr>
            <p:cNvPr id="321" name=""/>
            <p:cNvGrpSpPr/>
            <p:nvPr/>
          </p:nvGrpSpPr>
          <p:grpSpPr>
            <a:xfrm>
              <a:off x="2041560" y="2109960"/>
              <a:ext cx="5027400" cy="4097160"/>
              <a:chOff x="2041560" y="2109960"/>
              <a:chExt cx="5027400" cy="4097160"/>
            </a:xfrm>
          </p:grpSpPr>
          <p:sp>
            <p:nvSpPr>
              <p:cNvPr id="322" name=""/>
              <p:cNvSpPr/>
              <p:nvPr/>
            </p:nvSpPr>
            <p:spPr>
              <a:xfrm>
                <a:off x="2041560" y="2120760"/>
                <a:ext cx="5027400" cy="408636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46400" y="567072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57560" y="562608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68360" y="557676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4" y="0"/>
                    </a:moveTo>
                    <a:lnTo>
                      <a:pt x="14" y="3"/>
                    </a:lnTo>
                    <a:lnTo>
                      <a:pt x="9" y="24"/>
                    </a:lnTo>
                    <a:lnTo>
                      <a:pt x="0" y="2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279520" y="5532480"/>
                <a:ext cx="20880" cy="3312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4" y="0"/>
                    </a:moveTo>
                    <a:lnTo>
                      <a:pt x="13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90680" y="548784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4" y="0"/>
                    </a:moveTo>
                    <a:lnTo>
                      <a:pt x="13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300400" y="544356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10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11560" y="539892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7" y="0"/>
                    </a:moveTo>
                    <a:lnTo>
                      <a:pt x="16" y="2"/>
                    </a:lnTo>
                    <a:lnTo>
                      <a:pt x="12" y="21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25600" y="53532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5" y="0"/>
                    </a:moveTo>
                    <a:lnTo>
                      <a:pt x="14" y="3"/>
                    </a:lnTo>
                    <a:lnTo>
                      <a:pt x="9" y="22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36760" y="530856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47920" y="526428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59080" y="521640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2" y="0"/>
                    </a:moveTo>
                    <a:lnTo>
                      <a:pt x="13" y="2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365200" y="517212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376360" y="512604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87520" y="508176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398680" y="5037120"/>
                <a:ext cx="2052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4" y="0"/>
                    </a:moveTo>
                    <a:lnTo>
                      <a:pt x="13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409840" y="4992840"/>
                <a:ext cx="20520" cy="3312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4" y="0"/>
                    </a:moveTo>
                    <a:lnTo>
                      <a:pt x="13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19200" y="494352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5" y="0"/>
                    </a:moveTo>
                    <a:lnTo>
                      <a:pt x="14" y="3"/>
                    </a:lnTo>
                    <a:lnTo>
                      <a:pt x="10" y="24"/>
                    </a:lnTo>
                    <a:lnTo>
                      <a:pt x="0" y="2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0360" y="489888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41520" y="485460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2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449440" y="48099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4" y="0"/>
                    </a:moveTo>
                    <a:lnTo>
                      <a:pt x="13" y="2"/>
                    </a:lnTo>
                    <a:lnTo>
                      <a:pt x="11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60600" y="4765680"/>
                <a:ext cx="2052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4" y="0"/>
                    </a:moveTo>
                    <a:lnTo>
                      <a:pt x="13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70320" y="473868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3" y="0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9" y="10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75000" y="472140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11" y="2"/>
                    </a:lnTo>
                    <a:lnTo>
                      <a:pt x="9" y="14"/>
                    </a:lnTo>
                    <a:lnTo>
                      <a:pt x="0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84360" y="467532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5" y="0"/>
                    </a:moveTo>
                    <a:lnTo>
                      <a:pt x="14" y="3"/>
                    </a:lnTo>
                    <a:lnTo>
                      <a:pt x="10" y="22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495520" y="463068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458640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21080" y="454176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35120" y="449748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546280" y="445284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60680" y="440856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71840" y="436248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585880" y="431784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97040" y="427356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11440" y="422928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22600" y="418464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4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37000" y="414036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14" y="2"/>
                    </a:lnTo>
                    <a:lnTo>
                      <a:pt x="9" y="21"/>
                    </a:lnTo>
                    <a:lnTo>
                      <a:pt x="0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47800" y="409428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4" y="0"/>
                    </a:moveTo>
                    <a:lnTo>
                      <a:pt x="13" y="3"/>
                    </a:lnTo>
                    <a:lnTo>
                      <a:pt x="9" y="22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62200" y="404964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4" y="0"/>
                    </a:moveTo>
                    <a:lnTo>
                      <a:pt x="14" y="3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73360" y="4005360"/>
                <a:ext cx="20520" cy="3312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4" y="0"/>
                    </a:moveTo>
                    <a:lnTo>
                      <a:pt x="13" y="2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87760" y="39862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7760" y="396072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7" y="0"/>
                    </a:moveTo>
                    <a:lnTo>
                      <a:pt x="16" y="2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01800" y="39164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0"/>
                    </a:moveTo>
                    <a:lnTo>
                      <a:pt x="18" y="5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719440" y="387504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9" y="0"/>
                    </a:moveTo>
                    <a:lnTo>
                      <a:pt x="16" y="2"/>
                    </a:lnTo>
                    <a:lnTo>
                      <a:pt x="9" y="21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738520" y="383076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7" y="0"/>
                    </a:moveTo>
                    <a:lnTo>
                      <a:pt x="16" y="5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55800" y="37893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7" y="0"/>
                    </a:moveTo>
                    <a:lnTo>
                      <a:pt x="16" y="2"/>
                    </a:lnTo>
                    <a:lnTo>
                      <a:pt x="9" y="21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73440" y="37450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7" y="0"/>
                    </a:moveTo>
                    <a:lnTo>
                      <a:pt x="16" y="5"/>
                    </a:lnTo>
                    <a:lnTo>
                      <a:pt x="10" y="21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792520" y="37004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7" y="0"/>
                    </a:moveTo>
                    <a:lnTo>
                      <a:pt x="16" y="4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09800" y="36590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7" y="0"/>
                    </a:moveTo>
                    <a:lnTo>
                      <a:pt x="16" y="5"/>
                    </a:lnTo>
                    <a:lnTo>
                      <a:pt x="7" y="21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24200" y="361476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9" y="0"/>
                    </a:moveTo>
                    <a:lnTo>
                      <a:pt x="19" y="4"/>
                    </a:lnTo>
                    <a:lnTo>
                      <a:pt x="9" y="23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843280" y="357336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9" y="0"/>
                    </a:moveTo>
                    <a:lnTo>
                      <a:pt x="16" y="5"/>
                    </a:lnTo>
                    <a:lnTo>
                      <a:pt x="9" y="21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60560" y="35290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7" y="0"/>
                    </a:moveTo>
                    <a:lnTo>
                      <a:pt x="16" y="4"/>
                    </a:lnTo>
                    <a:lnTo>
                      <a:pt x="9" y="23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78200" y="34909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7" y="0"/>
                    </a:moveTo>
                    <a:lnTo>
                      <a:pt x="7" y="0"/>
                    </a:lnTo>
                    <a:lnTo>
                      <a:pt x="0" y="17"/>
                    </a:lnTo>
                    <a:lnTo>
                      <a:pt x="10" y="19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89360" y="34876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9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00520" y="344664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9" y="0"/>
                    </a:moveTo>
                    <a:lnTo>
                      <a:pt x="16" y="5"/>
                    </a:lnTo>
                    <a:lnTo>
                      <a:pt x="7" y="21"/>
                    </a:lnTo>
                    <a:lnTo>
                      <a:pt x="0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22480" y="34052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0"/>
                    </a:moveTo>
                    <a:lnTo>
                      <a:pt x="18" y="5"/>
                    </a:lnTo>
                    <a:lnTo>
                      <a:pt x="7" y="21"/>
                    </a:lnTo>
                    <a:lnTo>
                      <a:pt x="0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3365640"/>
                <a:ext cx="2988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0" y="0"/>
                    </a:moveTo>
                    <a:lnTo>
                      <a:pt x="19" y="4"/>
                    </a:lnTo>
                    <a:lnTo>
                      <a:pt x="10" y="21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65320" y="332424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0"/>
                    </a:moveTo>
                    <a:lnTo>
                      <a:pt x="18" y="4"/>
                    </a:lnTo>
                    <a:lnTo>
                      <a:pt x="9" y="23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90880" y="328608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9" y="0"/>
                    </a:moveTo>
                    <a:lnTo>
                      <a:pt x="16" y="5"/>
                    </a:lnTo>
                    <a:lnTo>
                      <a:pt x="7" y="21"/>
                    </a:lnTo>
                    <a:lnTo>
                      <a:pt x="0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13200" y="324468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9" y="0"/>
                    </a:moveTo>
                    <a:lnTo>
                      <a:pt x="18" y="5"/>
                    </a:lnTo>
                    <a:lnTo>
                      <a:pt x="6" y="22"/>
                    </a:lnTo>
                    <a:lnTo>
                      <a:pt x="0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33720" y="320508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9" y="0"/>
                    </a:moveTo>
                    <a:lnTo>
                      <a:pt x="19" y="4"/>
                    </a:lnTo>
                    <a:lnTo>
                      <a:pt x="9" y="21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56040" y="31640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0"/>
                    </a:moveTo>
                    <a:lnTo>
                      <a:pt x="18" y="5"/>
                    </a:lnTo>
                    <a:lnTo>
                      <a:pt x="9" y="21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81240" y="3122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9" y="0"/>
                    </a:moveTo>
                    <a:lnTo>
                      <a:pt x="16" y="5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03560" y="30812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9" y="0"/>
                    </a:moveTo>
                    <a:lnTo>
                      <a:pt x="18" y="5"/>
                    </a:lnTo>
                    <a:lnTo>
                      <a:pt x="6" y="24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24080" y="30448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0"/>
                    </a:moveTo>
                    <a:lnTo>
                      <a:pt x="18" y="4"/>
                    </a:lnTo>
                    <a:lnTo>
                      <a:pt x="9" y="21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46400" y="30225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49640" y="30034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7" y="0"/>
                    </a:moveTo>
                    <a:lnTo>
                      <a:pt x="16" y="2"/>
                    </a:lnTo>
                    <a:lnTo>
                      <a:pt x="9" y="16"/>
                    </a:lnTo>
                    <a:lnTo>
                      <a:pt x="0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66920" y="295920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0" y="0"/>
                    </a:moveTo>
                    <a:lnTo>
                      <a:pt x="16" y="5"/>
                    </a:lnTo>
                    <a:lnTo>
                      <a:pt x="10" y="23"/>
                    </a:lnTo>
                    <a:lnTo>
                      <a:pt x="0" y="1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86000" y="291780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0"/>
                    </a:moveTo>
                    <a:lnTo>
                      <a:pt x="18" y="5"/>
                    </a:lnTo>
                    <a:lnTo>
                      <a:pt x="9" y="23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08320" y="287640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9" y="0"/>
                    </a:moveTo>
                    <a:lnTo>
                      <a:pt x="15" y="5"/>
                    </a:lnTo>
                    <a:lnTo>
                      <a:pt x="9" y="21"/>
                    </a:lnTo>
                    <a:lnTo>
                      <a:pt x="0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28840" y="2835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7" y="0"/>
                    </a:moveTo>
                    <a:lnTo>
                      <a:pt x="16" y="5"/>
                    </a:lnTo>
                    <a:lnTo>
                      <a:pt x="7" y="21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47920" y="2795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0"/>
                    </a:moveTo>
                    <a:lnTo>
                      <a:pt x="18" y="2"/>
                    </a:lnTo>
                    <a:lnTo>
                      <a:pt x="9" y="21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68800" y="2749680"/>
                <a:ext cx="25200" cy="3780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7" y="0"/>
                    </a:moveTo>
                    <a:lnTo>
                      <a:pt x="16" y="5"/>
                    </a:lnTo>
                    <a:lnTo>
                      <a:pt x="7" y="24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87880" y="271296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9" y="0"/>
                    </a:moveTo>
                    <a:lnTo>
                      <a:pt x="9" y="0"/>
                    </a:lnTo>
                    <a:lnTo>
                      <a:pt x="0" y="16"/>
                    </a:lnTo>
                    <a:lnTo>
                      <a:pt x="9" y="2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301920" y="270972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9" y="4"/>
                    </a:lnTo>
                    <a:lnTo>
                      <a:pt x="7" y="7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08400" y="26686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0"/>
                    </a:moveTo>
                    <a:lnTo>
                      <a:pt x="18" y="4"/>
                    </a:lnTo>
                    <a:lnTo>
                      <a:pt x="9" y="23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330720" y="26463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9" y="11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33600" y="2627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7" y="0"/>
                    </a:moveTo>
                    <a:lnTo>
                      <a:pt x="16" y="5"/>
                    </a:lnTo>
                    <a:lnTo>
                      <a:pt x="9" y="16"/>
                    </a:lnTo>
                    <a:lnTo>
                      <a:pt x="0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52680" y="258588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9" y="0"/>
                    </a:moveTo>
                    <a:lnTo>
                      <a:pt x="18" y="7"/>
                    </a:lnTo>
                    <a:lnTo>
                      <a:pt x="9" y="24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76440" y="254952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0" y="0"/>
                    </a:moveTo>
                    <a:lnTo>
                      <a:pt x="16" y="4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398760" y="2508120"/>
                <a:ext cx="28800" cy="334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0"/>
                    </a:moveTo>
                    <a:lnTo>
                      <a:pt x="18" y="5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21080" y="24670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0"/>
                    </a:moveTo>
                    <a:lnTo>
                      <a:pt x="18" y="5"/>
                    </a:lnTo>
                    <a:lnTo>
                      <a:pt x="9" y="21"/>
                    </a:lnTo>
                    <a:lnTo>
                      <a:pt x="0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441600" y="24336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0" y="0"/>
                    </a:moveTo>
                    <a:lnTo>
                      <a:pt x="7" y="2"/>
                    </a:lnTo>
                    <a:lnTo>
                      <a:pt x="0" y="12"/>
                    </a:lnTo>
                    <a:lnTo>
                      <a:pt x="10" y="1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57440" y="24256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0"/>
                    </a:moveTo>
                    <a:lnTo>
                      <a:pt x="9" y="10"/>
                    </a:lnTo>
                    <a:lnTo>
                      <a:pt x="4" y="12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75080" y="24004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16" y="0"/>
                    </a:moveTo>
                    <a:lnTo>
                      <a:pt x="23" y="9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514680" y="237348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6" y="0"/>
                    </a:moveTo>
                    <a:lnTo>
                      <a:pt x="20" y="10"/>
                    </a:lnTo>
                    <a:lnTo>
                      <a:pt x="4" y="19"/>
                    </a:lnTo>
                    <a:lnTo>
                      <a:pt x="0" y="1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51400" y="23479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6" y="0"/>
                    </a:moveTo>
                    <a:lnTo>
                      <a:pt x="20" y="9"/>
                    </a:lnTo>
                    <a:lnTo>
                      <a:pt x="4" y="19"/>
                    </a:lnTo>
                    <a:lnTo>
                      <a:pt x="0" y="1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86320" y="2322360"/>
                <a:ext cx="36360" cy="2880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16" y="0"/>
                    </a:moveTo>
                    <a:lnTo>
                      <a:pt x="23" y="9"/>
                    </a:lnTo>
                    <a:lnTo>
                      <a:pt x="7" y="18"/>
                    </a:lnTo>
                    <a:lnTo>
                      <a:pt x="0" y="1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25920" y="229536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6" y="0"/>
                    </a:moveTo>
                    <a:lnTo>
                      <a:pt x="21" y="10"/>
                    </a:lnTo>
                    <a:lnTo>
                      <a:pt x="5" y="19"/>
                    </a:lnTo>
                    <a:lnTo>
                      <a:pt x="0" y="1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62280" y="227340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18" y="0"/>
                    </a:moveTo>
                    <a:lnTo>
                      <a:pt x="23" y="9"/>
                    </a:lnTo>
                    <a:lnTo>
                      <a:pt x="5" y="17"/>
                    </a:lnTo>
                    <a:lnTo>
                      <a:pt x="0" y="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06920" y="22543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5" y="0"/>
                    </a:moveTo>
                    <a:lnTo>
                      <a:pt x="20" y="10"/>
                    </a:lnTo>
                    <a:lnTo>
                      <a:pt x="4" y="17"/>
                    </a:lnTo>
                    <a:lnTo>
                      <a:pt x="0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46520" y="223200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8" y="0"/>
                    </a:moveTo>
                    <a:lnTo>
                      <a:pt x="20" y="10"/>
                    </a:lnTo>
                    <a:lnTo>
                      <a:pt x="4" y="19"/>
                    </a:lnTo>
                    <a:lnTo>
                      <a:pt x="0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86120" y="221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8" y="0"/>
                    </a:moveTo>
                    <a:lnTo>
                      <a:pt x="22" y="9"/>
                    </a:lnTo>
                    <a:lnTo>
                      <a:pt x="4" y="16"/>
                    </a:lnTo>
                    <a:lnTo>
                      <a:pt x="0" y="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28960" y="219564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6" y="0"/>
                    </a:moveTo>
                    <a:lnTo>
                      <a:pt x="20" y="7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868560" y="21844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7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79720" y="217980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13" y="10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14640" y="2173320"/>
                <a:ext cx="33480" cy="172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9" y="0"/>
                    </a:moveTo>
                    <a:lnTo>
                      <a:pt x="21" y="9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59280" y="216540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18" y="0"/>
                    </a:moveTo>
                    <a:lnTo>
                      <a:pt x="20" y="9"/>
                    </a:lnTo>
                    <a:lnTo>
                      <a:pt x="2" y="12"/>
                    </a:lnTo>
                    <a:lnTo>
                      <a:pt x="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002120" y="215748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1" y="0"/>
                    </a:moveTo>
                    <a:lnTo>
                      <a:pt x="21" y="10"/>
                    </a:lnTo>
                    <a:lnTo>
                      <a:pt x="2" y="12"/>
                    </a:lnTo>
                    <a:lnTo>
                      <a:pt x="0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49640" y="21510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8" y="0"/>
                    </a:moveTo>
                    <a:lnTo>
                      <a:pt x="20" y="9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92480" y="21430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8" y="0"/>
                    </a:moveTo>
                    <a:lnTo>
                      <a:pt x="20" y="9"/>
                    </a:lnTo>
                    <a:lnTo>
                      <a:pt x="2" y="14"/>
                    </a:lnTo>
                    <a:lnTo>
                      <a:pt x="0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40360" y="21351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0"/>
                    </a:moveTo>
                    <a:lnTo>
                      <a:pt x="18" y="1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3200" y="213192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0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08400" y="21319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0"/>
                    </a:move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29280" y="212868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0"/>
                    </a:moveTo>
                    <a:lnTo>
                      <a:pt x="19" y="11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73560" y="212868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8" y="0"/>
                    </a:moveTo>
                    <a:lnTo>
                      <a:pt x="2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19640" y="2128680"/>
                <a:ext cx="302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63920" y="212868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8" y="0"/>
                    </a:moveTo>
                    <a:lnTo>
                      <a:pt x="2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10000" y="212400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lnTo>
                      <a:pt x="18" y="10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454640" y="2124000"/>
                <a:ext cx="3168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00720" y="2124000"/>
                <a:ext cx="284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43560" y="21240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48240" y="2124000"/>
                <a:ext cx="284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91080" y="2120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lnTo>
                      <a:pt x="18" y="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33920" y="2120760"/>
                <a:ext cx="334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81440" y="21207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4680" y="2120760"/>
                <a:ext cx="2556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24280" y="2120760"/>
                <a:ext cx="334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72160" y="2120760"/>
                <a:ext cx="284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15000" y="212076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1" y="0"/>
                    </a:moveTo>
                    <a:lnTo>
                      <a:pt x="21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62520" y="2120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lnTo>
                      <a:pt x="18" y="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05360" y="2120760"/>
                <a:ext cx="316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52880" y="2120760"/>
                <a:ext cx="2880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95720" y="2120760"/>
                <a:ext cx="320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041800" y="2120760"/>
                <a:ext cx="302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86440" y="2120760"/>
                <a:ext cx="316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32520" y="2120760"/>
                <a:ext cx="284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76800" y="2120760"/>
                <a:ext cx="316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222880" y="2120760"/>
                <a:ext cx="284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265720" y="2120760"/>
                <a:ext cx="334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13240" y="2120760"/>
                <a:ext cx="2880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356080" y="2120760"/>
                <a:ext cx="334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403960" y="2120760"/>
                <a:ext cx="284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46800" y="2120760"/>
                <a:ext cx="3312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94320" y="2120760"/>
                <a:ext cx="284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537160" y="2120760"/>
                <a:ext cx="334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84680" y="2120760"/>
                <a:ext cx="2880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27520" y="2120760"/>
                <a:ext cx="320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75400" y="2120760"/>
                <a:ext cx="284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718240" y="2120760"/>
                <a:ext cx="316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64320" y="2120760"/>
                <a:ext cx="298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08600" y="2120760"/>
                <a:ext cx="3168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54680" y="2120760"/>
                <a:ext cx="3024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02200" y="2120760"/>
                <a:ext cx="28800" cy="144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45040" y="212076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lnTo>
                      <a:pt x="18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92920" y="2120760"/>
                <a:ext cx="28440" cy="190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35760" y="2120760"/>
                <a:ext cx="28440" cy="190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3280" y="2120760"/>
                <a:ext cx="28440" cy="190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26120" y="2120760"/>
                <a:ext cx="28440" cy="190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73640" y="2120760"/>
                <a:ext cx="28800" cy="190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16480" y="2124000"/>
                <a:ext cx="2880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62560" y="2124000"/>
                <a:ext cx="302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07200" y="2124000"/>
                <a:ext cx="284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53280" y="2124000"/>
                <a:ext cx="2988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97560" y="2124000"/>
                <a:ext cx="2880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443640" y="2124000"/>
                <a:ext cx="284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88280" y="2124000"/>
                <a:ext cx="284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534000" y="2124000"/>
                <a:ext cx="2880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76840" y="2124000"/>
                <a:ext cx="3348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624720" y="2124000"/>
                <a:ext cx="284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67560" y="2124000"/>
                <a:ext cx="3312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15080" y="2124000"/>
                <a:ext cx="2880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57920" y="2124000"/>
                <a:ext cx="3348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05440" y="2124000"/>
                <a:ext cx="2880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848640" y="2124000"/>
                <a:ext cx="3312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96160" y="2124000"/>
                <a:ext cx="2844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39000" y="2124000"/>
                <a:ext cx="3168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986520" y="2124000"/>
                <a:ext cx="28800" cy="15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029360" y="21240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5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759040" y="2109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59040" y="213984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759040" y="2173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59040" y="2203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59040" y="22320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59040" y="2265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59040" y="22953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759040" y="23256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9040" y="2359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59040" y="2389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59040" y="24192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59040" y="2452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59040" y="248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59040" y="25113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59040" y="2544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759040" y="2575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59040" y="26049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59040" y="2638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59040" y="26686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59040" y="2698920"/>
                <a:ext cx="7920" cy="108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59040" y="2732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759040" y="2760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759040" y="27907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759040" y="2824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759040" y="2854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59040" y="28843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759040" y="2917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759040" y="29480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759040" y="297828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759040" y="3011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759040" y="3040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759040" y="2109960"/>
              <a:ext cx="727200" cy="4074840"/>
              <a:chOff x="2759040" y="2109960"/>
              <a:chExt cx="727200" cy="4074840"/>
            </a:xfrm>
          </p:grpSpPr>
          <p:sp>
            <p:nvSpPr>
              <p:cNvPr id="523" name=""/>
              <p:cNvSpPr/>
              <p:nvPr/>
            </p:nvSpPr>
            <p:spPr>
              <a:xfrm>
                <a:off x="2759040" y="30751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59040" y="3103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59040" y="3133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59040" y="3166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59040" y="3197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59040" y="3227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759040" y="3260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759040" y="3290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59040" y="3319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59040" y="3354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59040" y="3382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59040" y="3413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59040" y="34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590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59040" y="3506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759040" y="3540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59040" y="3570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59040" y="3598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59040" y="3632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759040" y="3662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759040" y="3692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9040" y="3726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59040" y="3755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59040" y="3786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59040" y="38196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759040" y="3849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59040" y="3878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59040" y="3911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59040" y="3941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59040" y="3971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59040" y="4005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59040" y="4035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759040" y="40654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759040" y="40989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759040" y="41292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59040" y="4157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59040" y="419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759040" y="422100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59040" y="425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59040" y="4284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759040" y="4314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59040" y="43448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759040" y="4378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759040" y="4408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59040" y="4437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59040" y="4470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59040" y="4500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59040" y="4530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759040" y="4564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759040" y="4594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59040" y="4624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759040" y="4657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59040" y="4686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59040" y="4716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759040" y="4749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759040" y="4780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759040" y="48099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759040" y="4843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759040" y="4873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59040" y="49039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759040" y="4937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59040" y="4965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759040" y="4995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759040" y="5029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759040" y="5059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759040" y="5089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759040" y="5122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759040" y="5153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59040" y="5183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759040" y="5216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59040" y="5245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59040" y="5275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759040" y="5308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759040" y="5338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759040" y="5369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759040" y="5402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59040" y="5432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759040" y="54626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759040" y="5495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759040" y="5524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759040" y="5554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759040" y="5587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759040" y="5618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759040" y="56484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59040" y="5681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59040" y="5711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59040" y="57420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59040" y="5775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59040" y="580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59040" y="5834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59040" y="5867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59040" y="5897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59040" y="5927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59040" y="596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759040" y="5991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59040" y="6019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59040" y="6054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59040" y="6083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59040" y="6113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59040" y="61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59040" y="6176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478320" y="2109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78320" y="213984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78320" y="2173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78320" y="2203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78320" y="22320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478320" y="2265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78320" y="22953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78320" y="23256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478320" y="2359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78320" y="2389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478320" y="24192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78320" y="2452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478320" y="248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78320" y="25113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478320" y="2544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478320" y="2575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478320" y="26049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78320" y="2638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478320" y="26686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478320" y="2698920"/>
                <a:ext cx="7920" cy="108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78320" y="2732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78320" y="2760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78320" y="27907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478320" y="2824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78320" y="2854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78320" y="28843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78320" y="2917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78320" y="29480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78320" y="297828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78320" y="3011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78320" y="3040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78320" y="30751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78320" y="3103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478320" y="3133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78320" y="3166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78320" y="3197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478320" y="3227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478320" y="3260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78320" y="3290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78320" y="3319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78320" y="3354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78320" y="3382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478320" y="3413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478320" y="34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4783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78320" y="3506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478320" y="3540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78320" y="3570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478320" y="3598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78320" y="3632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78320" y="3662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78320" y="3692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478320" y="3726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8320" y="3755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78320" y="3786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478320" y="38196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78320" y="3849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78320" y="3878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78320" y="3911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78320" y="3941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78320" y="3971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78320" y="4005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78320" y="4035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478320" y="40654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78320" y="40989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478320" y="41292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478320" y="4157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78320" y="419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78320" y="422100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478320" y="425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78320" y="4284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78320" y="4314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78320" y="43448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478320" y="4378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78320" y="4408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78320" y="4437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478320" y="4470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478320" y="4500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78320" y="4530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478320" y="4564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478320" y="4594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78320" y="4624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78320" y="4657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78320" y="4686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78320" y="4716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78320" y="4749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78320" y="4780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478320" y="48099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478320" y="4843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478320" y="4873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478320" y="49039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478320" y="4937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478320" y="4965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478320" y="4995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478320" y="5029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478320" y="5059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478320" y="5089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478320" y="5122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478320" y="5153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3478320" y="2109960"/>
              <a:ext cx="1441440" cy="4074840"/>
              <a:chOff x="3478320" y="2109960"/>
              <a:chExt cx="1441440" cy="4074840"/>
            </a:xfrm>
          </p:grpSpPr>
          <p:sp>
            <p:nvSpPr>
              <p:cNvPr id="724" name=""/>
              <p:cNvSpPr/>
              <p:nvPr/>
            </p:nvSpPr>
            <p:spPr>
              <a:xfrm>
                <a:off x="3478320" y="5183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478320" y="5216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478320" y="5245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478320" y="5275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78320" y="5308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478320" y="5338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478320" y="5369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478320" y="5402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478320" y="5432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478320" y="54626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478320" y="5495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478320" y="5524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478320" y="5554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478320" y="5587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78320" y="5618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478320" y="56484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478320" y="5681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478320" y="5711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478320" y="57420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478320" y="5775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478320" y="580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478320" y="5834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478320" y="5867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478320" y="5897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478320" y="5927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478320" y="596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78320" y="5991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78320" y="6019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78320" y="6054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78320" y="6083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478320" y="6113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78320" y="61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78320" y="6176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97240" y="2109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97240" y="213984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197240" y="2173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197240" y="2203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97240" y="22320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197240" y="2265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97240" y="22953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97240" y="23256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97240" y="2359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97240" y="2389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97240" y="24192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197240" y="2452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97240" y="248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97240" y="25113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97240" y="2544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97240" y="2575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197240" y="26049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97240" y="2638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197240" y="26686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197240" y="2698920"/>
                <a:ext cx="7920" cy="108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197240" y="2732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7240" y="2760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197240" y="27907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197240" y="2824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197240" y="2854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197240" y="28843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97240" y="2917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197240" y="29480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197240" y="297828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197240" y="3011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197240" y="3040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197240" y="30751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97240" y="3103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197240" y="3133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97240" y="3166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197240" y="3197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197240" y="3227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197240" y="3260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197240" y="3290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197240" y="3319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197240" y="3354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197240" y="3382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197240" y="3413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197240" y="34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972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97240" y="3506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97240" y="3540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197240" y="3570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197240" y="3598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197240" y="3632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97240" y="3662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197240" y="3692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97240" y="3726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197240" y="3755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197240" y="3786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197240" y="38196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197240" y="3849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197240" y="3878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97240" y="3911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197240" y="3941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197240" y="3971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197240" y="4005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197240" y="4035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197240" y="40654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97240" y="40989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97240" y="41292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197240" y="4157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197240" y="419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97240" y="422100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197240" y="425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97240" y="4284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97240" y="4314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7240" y="43448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197240" y="4378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197240" y="4408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197240" y="4437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197240" y="4470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197240" y="4500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197240" y="4530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197240" y="4564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97240" y="4594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197240" y="4624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97240" y="4657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197240" y="4686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97240" y="4716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7240" y="4749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197240" y="4780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197240" y="48099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97240" y="4843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97240" y="4873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197240" y="49039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197240" y="4937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197240" y="4965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197240" y="4995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197240" y="5029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197240" y="5059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197240" y="5089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197240" y="5122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197240" y="5153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197240" y="5183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97240" y="5216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197240" y="5245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197240" y="5275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197240" y="5308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97240" y="5338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97240" y="5369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197240" y="5402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97240" y="5432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97240" y="54626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97240" y="5495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97240" y="5524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97240" y="5554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97240" y="5587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97240" y="5618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97240" y="56484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97240" y="5681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97240" y="5711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97240" y="57420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97240" y="5775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97240" y="580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97240" y="5834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97240" y="5867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97240" y="5897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97240" y="5927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97240" y="596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97240" y="5991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97240" y="6019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97240" y="6054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97240" y="6083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97240" y="6113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97240" y="61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97240" y="6176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911840" y="2109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11840" y="213984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911840" y="2173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911840" y="2203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911840" y="22320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911840" y="2265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11840" y="22953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911840" y="23256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911840" y="2359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911840" y="2389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11840" y="24192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911840" y="2452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911840" y="248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11840" y="25113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11840" y="2544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911840" y="2575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911840" y="26049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11840" y="2638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1840" y="26686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11840" y="2698920"/>
                <a:ext cx="7920" cy="108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911840" y="2732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911840" y="2760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911840" y="27907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11840" y="2824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911840" y="2854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911840" y="28843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911840" y="2917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911840" y="29480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911840" y="297828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11840" y="3011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11840" y="3040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911840" y="30751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911840" y="3103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911840" y="3133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911840" y="3166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2044800" y="2109960"/>
              <a:ext cx="4313160" cy="4074840"/>
              <a:chOff x="2044800" y="2109960"/>
              <a:chExt cx="4313160" cy="4074840"/>
            </a:xfrm>
          </p:grpSpPr>
          <p:sp>
            <p:nvSpPr>
              <p:cNvPr id="925" name=""/>
              <p:cNvSpPr/>
              <p:nvPr/>
            </p:nvSpPr>
            <p:spPr>
              <a:xfrm>
                <a:off x="5630760" y="5308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30760" y="5338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30760" y="5369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630760" y="5402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630760" y="5432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630760" y="54626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630760" y="5495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630760" y="5524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630760" y="5554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630760" y="5587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630760" y="5618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630760" y="56484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30760" y="5681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30760" y="5711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630760" y="57420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30760" y="5775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630760" y="580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30760" y="5834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630760" y="5867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630760" y="5897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630760" y="5927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630760" y="596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630760" y="5991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30760" y="6019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630760" y="6054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630760" y="6083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630760" y="6113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630760" y="61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30760" y="6176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50040" y="2109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50040" y="213984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350040" y="2173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350040" y="2203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350040" y="22320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350040" y="2265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350040" y="22953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350040" y="23256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350040" y="2359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50040" y="2389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50040" y="241920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350040" y="2452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350040" y="248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350040" y="25113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350040" y="2544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350040" y="2575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350040" y="260496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350040" y="2638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350040" y="26686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350040" y="2698920"/>
                <a:ext cx="7920" cy="108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350040" y="2732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350040" y="2760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50040" y="27907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350040" y="2824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350040" y="2854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350040" y="288432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350040" y="2917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350040" y="29480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350040" y="2978280"/>
                <a:ext cx="7920" cy="11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350040" y="3011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350040" y="3040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50040" y="30751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350040" y="3103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350040" y="3133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350040" y="3166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350040" y="3197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50040" y="3227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350040" y="3260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350040" y="3290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350040" y="3319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350040" y="3354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350040" y="3382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350040" y="3413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350040" y="34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3500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350040" y="3506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350040" y="3540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350040" y="3570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350040" y="3598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350040" y="3632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350040" y="3662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350040" y="3692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350040" y="3726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350040" y="3755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350040" y="3786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350040" y="38196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350040" y="3849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350040" y="3878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50040" y="3911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350040" y="3941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350040" y="3971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350040" y="4005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350040" y="4035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350040" y="40654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350040" y="40989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350040" y="412920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350040" y="4157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350040" y="41911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350040" y="422100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350040" y="425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350040" y="4284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350040" y="43149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350040" y="43448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350040" y="43783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350040" y="4408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350040" y="44370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350040" y="4470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50040" y="4500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0040" y="45306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350040" y="4564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350040" y="45943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350040" y="46245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350040" y="465768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350040" y="46864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50040" y="47163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50040" y="4749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50040" y="47800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50040" y="480996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350040" y="4843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350040" y="4873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350040" y="490392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350040" y="4937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350040" y="49658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350040" y="49957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350040" y="5029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350040" y="5059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350040" y="50896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350040" y="5122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350040" y="515304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350040" y="5183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350040" y="5216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350040" y="52452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350040" y="52754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350040" y="5308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350040" y="5338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50040" y="53690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350040" y="5402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350040" y="54324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350040" y="54626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350040" y="5495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350040" y="5524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50040" y="55548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350040" y="5587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350040" y="5618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350040" y="564840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350040" y="5681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350040" y="57117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350040" y="57420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50040" y="57754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350040" y="580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350040" y="58341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50040" y="5867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350040" y="5897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50040" y="59277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350040" y="59612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350040" y="599112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50040" y="6019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350040" y="605484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50040" y="60832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50040" y="6113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50040" y="614664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50040" y="617688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04480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0732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10168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1351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163600" y="25639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19240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255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2543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2860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3162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3446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3763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4051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43540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4670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4955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523960" y="25639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5574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5858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146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478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6766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7050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7385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7669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957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8288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85768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8861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9178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9480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9764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0081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0384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06720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0988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1273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1575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1892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2044800" y="2563920"/>
              <a:ext cx="5005440" cy="465120"/>
              <a:chOff x="2044800" y="2563920"/>
              <a:chExt cx="5005440" cy="465120"/>
            </a:xfrm>
          </p:grpSpPr>
          <p:sp>
            <p:nvSpPr>
              <p:cNvPr id="1126" name=""/>
              <p:cNvSpPr/>
              <p:nvPr/>
            </p:nvSpPr>
            <p:spPr>
              <a:xfrm>
                <a:off x="32180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2479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279600" y="25639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3084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33684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3703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987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27560" y="2563920"/>
                <a:ext cx="1080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4606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4894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51792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55140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57984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60828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6417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6702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69900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7306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7609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926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8210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512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8829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9117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9402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97368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021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0305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06404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0924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1212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544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8320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116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2451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2735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3020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3340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3639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3927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4244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4546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4830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5147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5435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57344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6054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6339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623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958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7242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530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7862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8150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84344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769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053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80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672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957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2452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0562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0864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11488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1465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1768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2084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2372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2657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29920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3276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3560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3895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4180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4468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4799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087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5371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5706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5990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627520" y="25639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6595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8944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182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7499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78016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086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402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90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993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9310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9594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896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0213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49800" y="25639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786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1117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1405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1689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024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2308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2596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2928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32160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35004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3831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4119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44040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720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5023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531120" y="2563920"/>
                <a:ext cx="1080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5628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59124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621480" y="25639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6531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68196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71508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7438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77232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80544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83424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86268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89616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92460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953400" y="25639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98652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015320" y="25639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043760" y="25639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04480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0732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10168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1351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163600" y="302256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19240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2255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2543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2860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3162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446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763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051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3540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670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4955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523960" y="302256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5574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858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6146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6478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6766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27050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7385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7669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7957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8288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85768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8861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9178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9480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9764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081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384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6720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988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1273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1575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1892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2180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2479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279600" y="302256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3084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33684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3703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3987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427560" y="3022560"/>
                <a:ext cx="1080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4606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4894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51792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55140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57984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0828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417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6702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69900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7306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7609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7926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8210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8512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8829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9117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9402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97368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0021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0305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06404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924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212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1544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18320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2044800" y="3022560"/>
              <a:ext cx="5005440" cy="461880"/>
              <a:chOff x="2044800" y="3022560"/>
              <a:chExt cx="5005440" cy="461880"/>
            </a:xfrm>
          </p:grpSpPr>
          <p:sp>
            <p:nvSpPr>
              <p:cNvPr id="1327" name=""/>
              <p:cNvSpPr/>
              <p:nvPr/>
            </p:nvSpPr>
            <p:spPr>
              <a:xfrm>
                <a:off x="42116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2451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2735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3020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3340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3639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3927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4244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4546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4830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5147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5435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57344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6054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6339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6623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6958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7242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7530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7862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8150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4344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769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9053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93380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9672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9957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02452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0562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0864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11488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1465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1768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084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372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657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9920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3276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3560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3895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4180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4468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4799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5087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5371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5706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990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627520" y="302256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6595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68944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7182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7499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78016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086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8402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90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993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9310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594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9896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0213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049800" y="302256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0786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1117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1405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689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2024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308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2596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2928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32160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5004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831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119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4040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720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5023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531120" y="3022560"/>
                <a:ext cx="1080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5628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59124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621480" y="302256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6531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68196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1508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7438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77232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80544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83424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86268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89616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2460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53400" y="302256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8652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015320" y="302256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043760" y="302256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480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0732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0168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1351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163600" y="34765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240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2255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2543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2860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3162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3446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3763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4051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43540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4670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4955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523960" y="34765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5574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5858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6146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6478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6766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7050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7385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669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7957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8288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85768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8861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9178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9480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9764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0081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0384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6720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988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1273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1575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1892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2180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479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79600" y="34765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3084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33684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703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3987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427560" y="3476520"/>
                <a:ext cx="1080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606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4894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51792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55140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57984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60828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6417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6702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69900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7306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7609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7926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8210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512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8829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9117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402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7368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0021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0305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06404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924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1212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1544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18320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2116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2451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2735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020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340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3639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927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4244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4546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4830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5147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5435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57344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6054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6339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6623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6958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7242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7530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7862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8150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84344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8769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9053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93380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9672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9957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02452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0562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0864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11488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1465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1768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2044800" y="3476520"/>
              <a:ext cx="5005440" cy="462240"/>
              <a:chOff x="2044800" y="3476520"/>
              <a:chExt cx="5005440" cy="462240"/>
            </a:xfrm>
          </p:grpSpPr>
          <p:sp>
            <p:nvSpPr>
              <p:cNvPr id="1528" name=""/>
              <p:cNvSpPr/>
              <p:nvPr/>
            </p:nvSpPr>
            <p:spPr>
              <a:xfrm>
                <a:off x="52084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2372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2657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29920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3276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3560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3895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180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68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4799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087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371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706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90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27520" y="34765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6595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68944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7182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7499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78016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086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8402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8690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93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9310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9594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9896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0213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049800" y="347652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0786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1117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1405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1689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2024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2308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2596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2928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32160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35004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3831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119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44040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4720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5023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531120" y="3476520"/>
                <a:ext cx="1080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5628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59124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621480" y="347652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6531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68196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71508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7438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7232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80544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83424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86268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89616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92460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953400" y="347652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98652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15320" y="347652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43760" y="347652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04480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0732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0168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1351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63600" y="3930480"/>
                <a:ext cx="82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9240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2255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2543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2860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3162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3446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3763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4051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43540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4670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4955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523960" y="3930480"/>
                <a:ext cx="82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5574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5858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6146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6478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6766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7050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7385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7669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7957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8288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5768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8861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9178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9480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9764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0081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0384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06720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0988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1273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1575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1892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2180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2479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279600" y="3930480"/>
                <a:ext cx="82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084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684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703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987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427560" y="3930480"/>
                <a:ext cx="1080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4606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4894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51792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55140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57984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0828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417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702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9900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7306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7609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926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8210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8512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8829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9117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9402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97368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0021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305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06404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0924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212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1544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18320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2116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2451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2735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3020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3340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3639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3927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4244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4546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4830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5147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5435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57344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6054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6339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6623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6958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242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30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7862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8150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84344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8769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053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93380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9672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9957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02452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0562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0864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11488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1465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1768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2084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2372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2657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29920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276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3560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3895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4180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4468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4799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5087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5371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706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990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627520" y="3930480"/>
                <a:ext cx="82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6595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68944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182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7499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78016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8086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8402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8690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8993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310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9594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9896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0213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49800" y="3930480"/>
                <a:ext cx="82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0786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1117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405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1689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2044800" y="3930480"/>
              <a:ext cx="5005440" cy="916200"/>
              <a:chOff x="2044800" y="3930480"/>
              <a:chExt cx="5005440" cy="916200"/>
            </a:xfrm>
          </p:grpSpPr>
          <p:sp>
            <p:nvSpPr>
              <p:cNvPr id="1729" name=""/>
              <p:cNvSpPr/>
              <p:nvPr/>
            </p:nvSpPr>
            <p:spPr>
              <a:xfrm>
                <a:off x="62024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2308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2596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2928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32160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35004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3831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4119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44040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4720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5023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531120" y="3930480"/>
                <a:ext cx="1080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5628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59124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621480" y="3930480"/>
                <a:ext cx="1116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6531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68196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71508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7438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77232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80544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83424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86268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89616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92460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953400" y="3930480"/>
                <a:ext cx="79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98652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015320" y="3930480"/>
                <a:ext cx="612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043760" y="3930480"/>
                <a:ext cx="6480" cy="8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04480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0732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10168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1351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163600" y="438156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19240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255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2543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2860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3162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3446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3763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4051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43540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4670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4955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523960" y="438156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5574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5858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6146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6478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6766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7050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7385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7669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7957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8288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85768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861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9178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480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9764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0081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384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6720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0988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1273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1575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1892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2180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2479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279600" y="438156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084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33684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3703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3987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427560" y="4381560"/>
                <a:ext cx="1080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4606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4894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51792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55140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57984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60828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6417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702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69900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7306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7609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7926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210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8512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8829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9117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9402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7368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0021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0305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06404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924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1212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1544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18320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2116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451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2735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3020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3340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3639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3927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44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546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830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5147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5435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57344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6054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339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623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6958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242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530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7862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150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84344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8769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9053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93380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9672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9957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02452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0562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0864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11488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1465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1768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2084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2372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2657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29920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3276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3560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3895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4180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4468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4799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5087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5371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5706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5990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627520" y="438156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6595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68944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7182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7499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78016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8086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8402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8690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993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9310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9594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9896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0213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049800" y="4381560"/>
                <a:ext cx="82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0786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1117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1405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1689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2024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2308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2596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2928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32160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35004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3831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119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44040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4720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5023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531120" y="4381560"/>
                <a:ext cx="1080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5628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59124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621480" y="4381560"/>
                <a:ext cx="1116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6531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68196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71508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7438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77232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80544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83424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86268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89616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92460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953400" y="4381560"/>
                <a:ext cx="79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98652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015320" y="4381560"/>
                <a:ext cx="612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043760" y="4381560"/>
                <a:ext cx="6480" cy="79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04480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0732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10168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1351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2033640" y="4840200"/>
              <a:ext cx="5016600" cy="457200"/>
              <a:chOff x="2033640" y="4840200"/>
              <a:chExt cx="5016600" cy="457200"/>
            </a:xfrm>
          </p:grpSpPr>
          <p:sp>
            <p:nvSpPr>
              <p:cNvPr id="1930" name=""/>
              <p:cNvSpPr/>
              <p:nvPr/>
            </p:nvSpPr>
            <p:spPr>
              <a:xfrm>
                <a:off x="2163600" y="484020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19240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2255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2543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2860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3162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3446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3763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4051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3540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4670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955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523960" y="484020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5574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5858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6146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6478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6766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050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7385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7669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7957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8288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85768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8861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9178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9480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9764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0081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0384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06720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988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1273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1575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892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2180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479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279600" y="484020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84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33684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3703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3987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427560" y="4840200"/>
                <a:ext cx="1080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4606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4894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51792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5140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7984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60828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6417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6702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69900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7306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7609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7926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8210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8512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8829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9117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9402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97368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0021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0305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06404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0924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1212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1544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18320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2116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42451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2735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3020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3340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3639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3927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4244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4546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4830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5147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5435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57344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6054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46339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6623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6958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7242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7530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7862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8150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84344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69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9053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93380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9672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957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02452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0562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0864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11488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1465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1768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2084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2372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2657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29920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3276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3560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3895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4180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4468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4799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5087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5371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706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990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627520" y="484020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6595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8944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7182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7499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78016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8086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8402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8690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8993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9310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9594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9896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0213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049800" y="4840200"/>
                <a:ext cx="82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0786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1117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405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689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2024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2308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2596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2928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32160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35004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3831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4119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44040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4720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5023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531120" y="4840200"/>
                <a:ext cx="1080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5628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59124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621480" y="4840200"/>
                <a:ext cx="1116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6531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68196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71508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7438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77232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80544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83424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86268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89616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92460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953400" y="4840200"/>
                <a:ext cx="79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98652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015320" y="4840200"/>
                <a:ext cx="612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043760" y="4840200"/>
                <a:ext cx="6480" cy="6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03364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0667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0955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12400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1556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18592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2176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2464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2748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3083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3367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365200" y="529128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3986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27120" y="529128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59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890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5178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5462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5797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6082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6370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6686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69892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7273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7590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7892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81772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849400" y="529128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782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9084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9401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9685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9988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0304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592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0877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12120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2033640" y="5291280"/>
              <a:ext cx="5010120" cy="468000"/>
              <a:chOff x="2033640" y="5291280"/>
              <a:chExt cx="5010120" cy="468000"/>
            </a:xfrm>
          </p:grpSpPr>
          <p:sp>
            <p:nvSpPr>
              <p:cNvPr id="2131" name=""/>
              <p:cNvSpPr/>
              <p:nvPr/>
            </p:nvSpPr>
            <p:spPr>
              <a:xfrm>
                <a:off x="31496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1780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2115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2400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268800" y="5291280"/>
                <a:ext cx="1080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30192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33072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35916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3926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4210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44952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4815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5114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4024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5719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6021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63060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6622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6910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7242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7530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7814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1492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433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718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9052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3372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625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9956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0244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0528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0845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1148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1432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1752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42051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42339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2656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2940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32432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3560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3848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4132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4467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44751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5036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370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5655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5943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6274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6562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6846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7181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7466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77504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8070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8369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86576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8974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92768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95612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9878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0166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046840" y="5291280"/>
                <a:ext cx="93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0785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1069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1404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1688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973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2308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2592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880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3211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3499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784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00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4032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687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008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306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55948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911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96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6498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6815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7103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7405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7722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8006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8294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8626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91040" y="529128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9198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9529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817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0102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4368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7212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1009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1340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1628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1912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2229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2532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28164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313320" y="529128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3435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372360" y="5291280"/>
                <a:ext cx="1080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4040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4324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462720" y="5291280"/>
                <a:ext cx="93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4944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5232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551640" y="529128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58512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61356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6470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7548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7039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7374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76584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79464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82632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856560" y="529128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88500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9166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94548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975360" y="529128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00740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035840" y="529128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2033640" y="575316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206676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09556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2124000" y="575316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1556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18592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21760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24640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27484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30832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33676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365200" y="575316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39868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427120" y="575316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45592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248904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51784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5462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57976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60820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63700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6686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69892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2736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5904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278928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81772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2849400" y="5753160"/>
                <a:ext cx="82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87820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90844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94012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96856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99880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0304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0592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08772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12120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14964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1780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21156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24000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268800" y="5753160"/>
                <a:ext cx="1080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30192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33072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359160" y="575316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39264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42108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449520" y="575316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48156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51144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540240" y="575316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57192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60216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630600" y="5753160"/>
                <a:ext cx="1116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6622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69108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72420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75300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78144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81492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84336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87180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90528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93372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96252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99564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024440" y="5753160"/>
                <a:ext cx="61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05288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084560" y="5753160"/>
                <a:ext cx="792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114800" y="5753160"/>
                <a:ext cx="6480" cy="6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1" name=""/>
            <p:cNvSpPr/>
            <p:nvPr/>
          </p:nvSpPr>
          <p:spPr>
            <a:xfrm>
              <a:off x="414324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7528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23396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26564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32432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560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41324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44672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5036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53708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56552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59432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65624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68468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4660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75040" y="5753160"/>
              <a:ext cx="1116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83696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865760" y="5753160"/>
              <a:ext cx="1116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89744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92768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956120" y="5753160"/>
              <a:ext cx="1116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9878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0166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07852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10696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6888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25924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34996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1008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44032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46876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5008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55948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59116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64984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68152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4056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77224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80068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82948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891040" y="5753160"/>
              <a:ext cx="82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1984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98176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0102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07212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16284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2296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5320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81640" y="5753160"/>
              <a:ext cx="1116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313320" y="5753160"/>
              <a:ext cx="82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4356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72360" y="5753160"/>
              <a:ext cx="108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40404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462720" y="5753160"/>
              <a:ext cx="936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4944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551640" y="5753160"/>
              <a:ext cx="1116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58512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67548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73740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76584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794640" y="5753160"/>
              <a:ext cx="61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2632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88500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91668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975360" y="5753160"/>
              <a:ext cx="648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007400" y="5753160"/>
              <a:ext cx="792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815120" y="2492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815120" y="2959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815120" y="3408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815120" y="3867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815120" y="4309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815120" y="4772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815120" y="5222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815120" y="56847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815120" y="6138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03688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708280" y="62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425760" y="62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145040" y="62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806920" y="6362640"/>
              <a:ext cx="258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QM(2) - VQM(1) (Normalized Sca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6200000">
              <a:off x="1624320" y="5790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6200000">
              <a:off x="1637280" y="570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6200000">
              <a:off x="1632600" y="562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6200000">
              <a:off x="1650240" y="55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6200000">
              <a:off x="1632600" y="548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6200000">
              <a:off x="1632600" y="5397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6200000">
              <a:off x="1632600" y="531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6200000">
              <a:off x="1653840" y="5247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6200000">
              <a:off x="1637280" y="5184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6200000">
              <a:off x="1632600" y="510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6200000">
              <a:off x="1632600" y="501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rot="16200000">
              <a:off x="1653840" y="495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rot="16200000">
              <a:off x="1658520" y="4916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rot="16200000">
              <a:off x="1632600" y="4855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rot="16200000">
              <a:off x="1632600" y="476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rot="16200000">
              <a:off x="1632600" y="468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rot="16200000">
              <a:off x="1637280" y="4600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rot="16200000">
              <a:off x="1632600" y="45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rot="16200000">
              <a:off x="1653840" y="445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rot="16200000">
              <a:off x="1653840" y="440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1632600" y="434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1632600" y="426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1653840" y="4193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1653840" y="4152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1624320" y="4078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1616040" y="3963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1612080" y="38401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1650240" y="3749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rot="16200000">
              <a:off x="1632600" y="368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rot="16200000">
              <a:off x="1650240" y="3611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rot="16200000">
              <a:off x="1653840" y="3563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rot="16200000">
              <a:off x="1658520" y="3527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rot="16200000">
              <a:off x="1637280" y="3471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1653840" y="341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16200000">
              <a:off x="1620360" y="3330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rot="16200000">
              <a:off x="1632600" y="323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rot="16200000">
              <a:off x="1650240" y="3163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rot="16200000">
              <a:off x="163728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6200000">
              <a:off x="1632600" y="301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rot="16200000">
              <a:off x="1653840" y="2952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rot="16200000">
              <a:off x="1653840" y="2907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rot="16200000">
              <a:off x="1632600" y="284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rot="16200000">
              <a:off x="1632600" y="276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rot="16200000">
              <a:off x="1632600" y="267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rot="16200000">
              <a:off x="1653840" y="260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rot="16200000">
              <a:off x="1624320" y="2535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rot="16200000">
              <a:off x="1616040" y="2422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rot="16200000">
              <a:off x="1612080" y="2298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rot="16200000">
              <a:off x="1650240" y="22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rot="16200000">
              <a:off x="1632600" y="214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rot="16200000">
              <a:off x="1650240" y="2070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852800" y="62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578560" y="62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94240" y="62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010280" y="62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900440" y="204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"/>
          <p:cNvSpPr/>
          <p:nvPr/>
        </p:nvSpPr>
        <p:spPr>
          <a:xfrm>
            <a:off x="1676520" y="3808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1.TR-72-2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sess VQM Resolving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600200" y="1828800"/>
            <a:ext cx="64008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400800" cy="4762440"/>
          </a:xfrm>
          <a:prstGeom prst="rect">
            <a:avLst/>
          </a:prstGeom>
          <a:ln w="0">
            <a:noFill/>
          </a:ln>
        </p:spPr>
      </p:pic>
      <p:sp>
        <p:nvSpPr>
          <p:cNvPr id="2471" name=""/>
          <p:cNvSpPr/>
          <p:nvPr/>
        </p:nvSpPr>
        <p:spPr>
          <a:xfrm>
            <a:off x="1600200" y="1828800"/>
            <a:ext cx="64008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133720" y="38088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1.TR-72-2001 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y Errors for a Particular VQ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Broadcasting Socie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G-2.1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486-D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aft Standard 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ive Measurement of Visual Impairments in Digital Video Using an IEEE‑JND 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Work Done at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 an Absolute Video Quality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Calibrate Video Quality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to the ITU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 QOS Evaluation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ngoing in Several Standards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QEG Is Conducting New Validatio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rogresses as Resources are Committed to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228600" y="5638680"/>
            <a:ext cx="8915400" cy="1067040"/>
            <a:chOff x="228600" y="5638680"/>
            <a:chExt cx="8915400" cy="1067040"/>
          </a:xfrm>
        </p:grpSpPr>
        <p:sp>
          <p:nvSpPr>
            <p:cNvPr id="2478" name=""/>
            <p:cNvSpPr/>
            <p:nvPr/>
          </p:nvSpPr>
          <p:spPr>
            <a:xfrm>
              <a:off x="903240" y="5791320"/>
              <a:ext cx="82407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00"/>
                  </a:solidFill>
                  <a:latin typeface="Arial"/>
                </a:rPr>
                <a:t>IP Cablecom and MEDIACOM 200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9" name="ITU_Logo" descr=""/>
            <p:cNvPicPr/>
            <p:nvPr/>
          </p:nvPicPr>
          <p:blipFill>
            <a:blip r:embed="rId1"/>
            <a:stretch/>
          </p:blipFill>
          <p:spPr>
            <a:xfrm>
              <a:off x="228600" y="5638680"/>
              <a:ext cx="105264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Video Service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evel Agreements,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ive Most Accurate—bu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Method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Methods Cri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Groups Involved in Video Quality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SG9 and SG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21/9 and Q4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1000, G.1010 in SG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R WP 6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1A1 (Committee T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Broadcasting Technolo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Quality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T.500 Methodology for the subjective assessment of the quality of television pi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.910 Subjective video quality assessment methods for multimedia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.911 Subjective audiovisual quality assessment methods for multimedia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.920 Interactive test methods for audiovisual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.930 Principles of a reference impairment system for 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.931 Multimedia communications delay, synchronization and frame rat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143 User requirements for objective perceptual video quality measurements in digital cable tel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144 Objective perceptual video quality measurement techniques for digital cable television in the presence of a full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ation of Objective Video Quality Evaluatio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2514600"/>
            <a:ext cx="2514600" cy="837720"/>
            <a:chOff x="685800" y="2514600"/>
            <a:chExt cx="2514600" cy="837720"/>
          </a:xfrm>
        </p:grpSpPr>
        <p:sp>
          <p:nvSpPr>
            <p:cNvPr id="55" name=""/>
            <p:cNvSpPr/>
            <p:nvPr/>
          </p:nvSpPr>
          <p:spPr>
            <a:xfrm>
              <a:off x="685800" y="2514600"/>
              <a:ext cx="2514600" cy="837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6360" y="270036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U-T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4720" y="270036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U-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7200" y="3352680"/>
            <a:ext cx="2743200" cy="685800"/>
            <a:chOff x="457200" y="3352680"/>
            <a:chExt cx="2743200" cy="685800"/>
          </a:xfrm>
        </p:grpSpPr>
        <p:sp>
          <p:nvSpPr>
            <p:cNvPr id="59" name=""/>
            <p:cNvSpPr/>
            <p:nvPr/>
          </p:nvSpPr>
          <p:spPr>
            <a:xfrm>
              <a:off x="457200" y="3352680"/>
              <a:ext cx="274320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0920" y="350496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1A1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8480" y="350496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E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267080" y="3048120"/>
            <a:ext cx="2057400" cy="2666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4000" y="3581280"/>
            <a:ext cx="210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Q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048120"/>
            <a:ext cx="12193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657600"/>
            <a:ext cx="106668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0400" y="4343040"/>
            <a:ext cx="10666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64832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2400" y="4648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480" y="6248520"/>
            <a:ext cx="6019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4120" y="54864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2280" y="4038480"/>
            <a:ext cx="3276720" cy="685800"/>
            <a:chOff x="152280" y="4038480"/>
            <a:chExt cx="3276720" cy="685800"/>
          </a:xfrm>
        </p:grpSpPr>
        <p:sp>
          <p:nvSpPr>
            <p:cNvPr id="72" name=""/>
            <p:cNvSpPr/>
            <p:nvPr/>
          </p:nvSpPr>
          <p:spPr>
            <a:xfrm>
              <a:off x="152280" y="4038480"/>
              <a:ext cx="30481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560" y="41911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ustry &amp; Academ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flipV="1">
            <a:off x="1752480" y="480060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2590920"/>
            <a:ext cx="3200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057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and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905120"/>
            <a:ext cx="243828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Q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 Quality Experts Gro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in 1997 as Rapporteurs’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U-T SG12, ITU-T SG9, ITU-R WP11E(6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over 200 subscribers to the emai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st meeting in February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QEG Website: www.its.bldrdoc.gov/vq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QEG Phase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Proponent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26,000 Subjective Opinion Sco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Different Source Sequences Processed by 16 Different Video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Independent Laboratories Worldw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QEG Phase I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Winner—8 Way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ed in J.1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Objective Models Described in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 Gbytes of Subjectively Rated Video Available to the Research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QEG Phas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Reference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sion of Expert View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Reference – No-reference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Useful for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conferencing, Streaming, Web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QEG Will Not Determine Winners—Report Results to Standards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56:29Z</dcterms:created>
  <dc:creator>Arthur Webster</dc:creator>
  <dc:description/>
  <dc:language>en-US</dc:language>
  <cp:lastModifiedBy>Arthur Webster</cp:lastModifiedBy>
  <dcterms:modified xsi:type="dcterms:W3CDTF">2002-03-04T19:49:11Z</dcterms:modified>
  <cp:revision>10</cp:revision>
  <dc:subject/>
  <dc:title>Objective and subjective evaluation for telecommunications services and video quality </dc:title>
</cp:coreProperties>
</file>