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34F0-F36F-406F-8C0E-0292C370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590F-0E41-4411-B1F7-E5D45A727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F456-7A74-415A-8E3A-F25E45CCC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D882-3836-44E2-822A-F86AE203D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8586-C99C-4C80-B220-4948E848E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926F4-45EB-4F57-8863-5D8760E2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22667-04A1-4ABC-AF18-37CBA37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D9DF5-0923-4456-8FCD-636CD3A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10E4-57C6-4421-B4A3-BDF0336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4FCC3-F52C-474F-933F-BDD5D01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C9F1E-04DC-4023-A065-5CE6D9E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F9ED0-E7A5-41C2-B3E3-E0EC60C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B796-9A9C-4C5C-AE46-EEAE543B9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9B74-4600-4F96-A96C-D53805BE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A5968-9D09-46EE-87B6-CEA0386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F11DE-5523-4F54-A158-F4FA6F7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B69DB-25A2-4B38-AB72-565C7F25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781E-CCED-4FEF-BA57-7C4699CE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B1B5-7D78-4F5E-869A-521DC85E1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9D39-53C6-44D8-A19C-62909BD9D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5996-4EFD-4925-A34C-2DADDF6CE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BDA4-9698-4EB0-B3C7-6C14CE3E8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5975-5E34-4E15-BB15-298ECDE23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07F1-0215-4878-BA3F-BDE06A436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8ADE-5B0C-494A-96B6-566376CC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B29B-AB62-466F-BC36-00BF23CB5312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180-6C01-481E-AA43-0057E01D970A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EURESCOM P905 (AQUAVIT)</a:t>
            </a:r>
            <a:br>
              <a:rPr sz="4000"/>
            </a:b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Audio and audiovisual quality </a:t>
            </a:r>
            <a:br>
              <a:rPr sz="4000"/>
            </a:b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for mobile service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Harald.Klaus@T-Systems.c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04FD-563B-43F3-B123-785BF67C83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743040" y="1676520"/>
          <a:ext cx="775656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676520"/>
                    <a:ext cx="775656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Subjective test methods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peech quality evaluation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A049-B27E-438D-8970-82D849ED77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Subjective test methods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peech quality evaluation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38" name="11230005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791320" cy="39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3F64-574F-4C8A-AD2F-05546A76F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62120" y="1600200"/>
          <a:ext cx="5524560" cy="39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552456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Subjective test methods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Audio quality evaluation</a:t>
            </a: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DEDF-A066-43CA-92E2-657E9245AF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010280" y="3124080"/>
          <a:ext cx="1952640" cy="21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952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quacchia3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5554800" cy="3363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Subjective test methods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Video &amp; A/V quality evaluation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8937-201E-4316-8D0B-110315575A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Akzeptanztest-UMTS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00520" cy="3876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62080" y="2438280"/>
            <a:ext cx="3048120" cy="1739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joint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Subjective test methods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Acceptability tests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FEB5-D064-4DF1-A85F-9F6D75FF32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Objective test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OSQA (Telecommunication objective speech quality assessm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AQ (Perceptual evaluation of audio qualit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 new video quality assessment model developed by British Tele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62FE-2355-4A07-A107-4700B0B110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743040" y="1676520"/>
            <a:ext cx="3134880" cy="4267080"/>
            <a:chOff x="743040" y="1676520"/>
            <a:chExt cx="3134880" cy="4267080"/>
          </a:xfrm>
        </p:grpSpPr>
        <p:sp>
          <p:nvSpPr>
            <p:cNvPr id="252" name=""/>
            <p:cNvSpPr/>
            <p:nvPr/>
          </p:nvSpPr>
          <p:spPr>
            <a:xfrm>
              <a:off x="907920" y="5486400"/>
              <a:ext cx="2640240" cy="457200"/>
            </a:xfrm>
            <a:prstGeom prst="rect">
              <a:avLst/>
            </a:prstGeom>
            <a:gradFill rotWithShape="0">
              <a:gsLst>
                <a:gs pos="0">
                  <a:srgbClr val="557400"/>
                </a:gs>
                <a:gs pos="100000">
                  <a:srgbClr val="bafc00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07920" y="4495680"/>
              <a:ext cx="29700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narrow band &amp; wideband spee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lnSpc>
                  <a:spcPct val="14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= 96.6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743040" y="1676520"/>
            <a:ext cx="280512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3040" y="1676520"/>
                      <a:ext cx="2805120" cy="2514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256" name=""/>
          <p:cNvGrpSpPr/>
          <p:nvPr/>
        </p:nvGrpSpPr>
        <p:grpSpPr>
          <a:xfrm>
            <a:off x="3713040" y="1682640"/>
            <a:ext cx="2806560" cy="4260960"/>
            <a:chOff x="3713040" y="1682640"/>
            <a:chExt cx="2806560" cy="4260960"/>
          </a:xfrm>
        </p:grpSpPr>
        <p:sp>
          <p:nvSpPr>
            <p:cNvPr id="257" name=""/>
            <p:cNvSpPr/>
            <p:nvPr/>
          </p:nvSpPr>
          <p:spPr>
            <a:xfrm>
              <a:off x="3877920" y="5486400"/>
              <a:ext cx="2558880" cy="457200"/>
            </a:xfrm>
            <a:prstGeom prst="rect">
              <a:avLst/>
            </a:prstGeom>
            <a:gradFill rotWithShape="0">
              <a:gsLst>
                <a:gs pos="0">
                  <a:srgbClr val="557400"/>
                </a:gs>
                <a:gs pos="100000">
                  <a:srgbClr val="bafc00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77920" y="4495680"/>
              <a:ext cx="239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Experiment 2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nly narrow band spee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lnSpc>
                  <a:spcPct val="14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= 95.4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3713040" y="1682640"/>
            <a:ext cx="2806560" cy="2508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13040" y="1682640"/>
                      <a:ext cx="2806560" cy="25084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6684840" y="1676520"/>
            <a:ext cx="2804760" cy="4267080"/>
            <a:chOff x="6684840" y="1676520"/>
            <a:chExt cx="2804760" cy="4267080"/>
          </a:xfrm>
        </p:grpSpPr>
        <p:sp>
          <p:nvSpPr>
            <p:cNvPr id="262" name=""/>
            <p:cNvSpPr/>
            <p:nvPr/>
          </p:nvSpPr>
          <p:spPr>
            <a:xfrm>
              <a:off x="6849360" y="5486400"/>
              <a:ext cx="2474640" cy="457200"/>
            </a:xfrm>
            <a:prstGeom prst="rect">
              <a:avLst/>
            </a:prstGeom>
            <a:gradFill rotWithShape="0">
              <a:gsLst>
                <a:gs pos="0">
                  <a:srgbClr val="557400"/>
                </a:gs>
                <a:gs pos="100000">
                  <a:srgbClr val="bafc00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49360" y="4495680"/>
              <a:ext cx="23925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Experiment 2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nly wideban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peec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1160" indent="-281160" algn="ctr">
                <a:lnSpc>
                  <a:spcPct val="14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98.2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6684840" y="1676520"/>
            <a:ext cx="2804760" cy="2509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4840" y="1676520"/>
                      <a:ext cx="2804760" cy="250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Results of investigations 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orrelation of subjective and objective speech quality (TOSQA)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19D0-CA52-4A18-A6F0-635EE97E6F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816200" y="2362320"/>
          <a:ext cx="594504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2362320"/>
                    <a:ext cx="5945040" cy="349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Results of investigations 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ubjective test results - audio quality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ow quality conditions (average of all sequenc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23B5-12BC-4F0B-B08B-C4DFC46B278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905120" y="2286000"/>
          <a:ext cx="65530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86000"/>
                    <a:ext cx="6553080" cy="350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Results of investigations </a:t>
            </a:r>
            <a:br>
              <a:rPr sz="40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ubjective test results - audio quality</a:t>
            </a:r>
            <a:endParaRPr b="0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 quality conditions (average of all sequenc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9612-EA57-4DB9-804B-4E884C5593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Results of investigations </a:t>
            </a:r>
            <a:br>
              <a:rPr sz="4000"/>
            </a:b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Acceptability test result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and cost are the equally important main factors to the population questioned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nefit of mobility does not compensate for any deficit in qua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ED42-442B-451F-8297-27AF7DF906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 and Objectives of AQUAV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beds of AQUAVI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methods developed in AQUAV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of Investig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FC10-35BA-4842-AF5F-2F649BD38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QUAVIT developed a bundle of improved subjective quality methods for assessment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ech quality (narrowband and wideba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o quality (intermediate and high qu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deo and A/V quality (intermediate and high q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l tests use the same set of mat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ults of all tests can be directly used for compari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82C8-3E24-42B0-BE77-42D0E29FF5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mushra_zug_3" descr=""/>
          <p:cNvPicPr/>
          <p:nvPr/>
        </p:nvPicPr>
        <p:blipFill>
          <a:blip r:embed="rId1"/>
          <a:stretch/>
        </p:blipFill>
        <p:spPr>
          <a:xfrm>
            <a:off x="2438280" y="326880"/>
            <a:ext cx="7464600" cy="5594400"/>
          </a:xfrm>
          <a:prstGeom prst="rect">
            <a:avLst/>
          </a:prstGeom>
          <a:ln w="0">
            <a:noFill/>
          </a:ln>
        </p:spPr>
      </p:pic>
      <p:pic>
        <p:nvPicPr>
          <p:cNvPr id="280" name="mushra_zug_3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3124080" cy="2341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435400" y="30492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1143000"/>
            <a:ext cx="1981080" cy="3020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New test services 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of T-System Nova are based on 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AQUAVIT methods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an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5788-1F8C-4085-8CD5-585EF5F457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ersonal Profil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F873-2F46-4B7B-AD32-DA79A0569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he EURESCOM Project P905 (AQUAVIT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1E25-B435-46F0-8BD8-06CFE7A723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Framework of  EURESCOM P905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QUAVIT = Assessment of Quality for Audio-Visual Signals over IP and UM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art: January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d: December 2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 Partners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814400" cy="728640"/>
          </a:xfrm>
          <a:prstGeom prst="rect">
            <a:avLst/>
          </a:prstGeom>
          <a:ln w="0">
            <a:noFill/>
          </a:ln>
        </p:spPr>
      </p:pic>
      <p:pic>
        <p:nvPicPr>
          <p:cNvPr id="139" name="cselt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722680" cy="681120"/>
          </a:xfrm>
          <a:prstGeom prst="rect">
            <a:avLst/>
          </a:prstGeom>
          <a:ln w="0">
            <a:noFill/>
          </a:ln>
        </p:spPr>
      </p:pic>
      <p:pic>
        <p:nvPicPr>
          <p:cNvPr id="140" name="BT7mmcol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1566720" cy="110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9CD0-56F5-45A2-B344-04FA33D716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Objectives of AQUAVI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velopment of test beds for IP and UM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velopment of subjective and objective test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lity assessment of typical audio-video transmission scenarios for IP and UM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rrelation between subjective and objective quality eval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5D77-74A9-4DC7-AEE6-3C9555D662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56560" y="2133720"/>
            <a:ext cx="825480" cy="3352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73640" y="2832120"/>
            <a:ext cx="122040" cy="1957320"/>
          </a:xfrm>
          <a:prstGeom prst="rect">
            <a:avLst/>
          </a:prstGeom>
          <a:solidFill>
            <a:srgbClr val="33cc33"/>
          </a:solidFill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703760" y="3200400"/>
            <a:ext cx="2822400" cy="1810800"/>
            <a:chOff x="4703760" y="3200400"/>
            <a:chExt cx="2822400" cy="1810800"/>
          </a:xfrm>
        </p:grpSpPr>
        <p:sp>
          <p:nvSpPr>
            <p:cNvPr id="146" name=""/>
            <p:cNvSpPr/>
            <p:nvPr/>
          </p:nvSpPr>
          <p:spPr>
            <a:xfrm>
              <a:off x="4703760" y="3360600"/>
              <a:ext cx="2712240" cy="329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785840" y="3200400"/>
              <a:ext cx="2740320" cy="1810800"/>
              <a:chOff x="4785840" y="3200400"/>
              <a:chExt cx="2740320" cy="1810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785840" y="3449520"/>
                <a:ext cx="689400" cy="145440"/>
              </a:xfrm>
              <a:prstGeom prst="roundRect">
                <a:avLst>
                  <a:gd name="adj" fmla="val 12495"/>
                </a:avLst>
              </a:prstGeom>
              <a:solidFill>
                <a:srgbClr val="cc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cess Un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68200" y="3449520"/>
                <a:ext cx="730440" cy="145440"/>
              </a:xfrm>
              <a:prstGeom prst="roundRect">
                <a:avLst>
                  <a:gd name="adj" fmla="val 12495"/>
                </a:avLst>
              </a:prstGeom>
              <a:solidFill>
                <a:srgbClr val="cc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cess Un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55600" y="3449520"/>
                <a:ext cx="730440" cy="145440"/>
              </a:xfrm>
              <a:prstGeom prst="roundRect">
                <a:avLst>
                  <a:gd name="adj" fmla="val 12495"/>
                </a:avLst>
              </a:prstGeom>
              <a:solidFill>
                <a:srgbClr val="cc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cess Un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61160" y="4451040"/>
                <a:ext cx="1947240" cy="560160"/>
              </a:xfrm>
              <a:prstGeom prst="ellipse">
                <a:avLst/>
              </a:prstGeom>
              <a:solidFill>
                <a:srgbClr val="cc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. Lay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74040" y="3200400"/>
                <a:ext cx="175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L-packetized strea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4897440" y="3935160"/>
                <a:ext cx="2518200" cy="144000"/>
                <a:chOff x="4897440" y="3935160"/>
                <a:chExt cx="2518200" cy="14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897440" y="3935160"/>
                  <a:ext cx="297360" cy="144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89120" y="3935160"/>
                  <a:ext cx="384480" cy="144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768280" y="3935160"/>
                  <a:ext cx="515160" cy="144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77760" y="3935160"/>
                  <a:ext cx="384480" cy="144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856920" y="3935160"/>
                  <a:ext cx="558720" cy="144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A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" name=""/>
          <p:cNvGrpSpPr/>
          <p:nvPr/>
        </p:nvGrpSpPr>
        <p:grpSpPr>
          <a:xfrm>
            <a:off x="1155600" y="2906640"/>
            <a:ext cx="3169800" cy="2104920"/>
            <a:chOff x="1155600" y="2906640"/>
            <a:chExt cx="3169800" cy="2104920"/>
          </a:xfrm>
        </p:grpSpPr>
        <p:grpSp>
          <p:nvGrpSpPr>
            <p:cNvPr id="160" name=""/>
            <p:cNvGrpSpPr/>
            <p:nvPr/>
          </p:nvGrpSpPr>
          <p:grpSpPr>
            <a:xfrm>
              <a:off x="1901520" y="3429000"/>
              <a:ext cx="2423880" cy="150840"/>
              <a:chOff x="1901520" y="3429000"/>
              <a:chExt cx="2423880" cy="150840"/>
            </a:xfrm>
          </p:grpSpPr>
          <p:sp>
            <p:nvSpPr>
              <p:cNvPr id="161" name=""/>
              <p:cNvSpPr/>
              <p:nvPr/>
            </p:nvSpPr>
            <p:spPr>
              <a:xfrm>
                <a:off x="2030400" y="3431880"/>
                <a:ext cx="2207880" cy="145080"/>
              </a:xfrm>
              <a:prstGeom prst="roundRect">
                <a:avLst>
                  <a:gd name="adj" fmla="val 124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ementary Str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01520" y="3429000"/>
                <a:ext cx="2423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01520" y="3579840"/>
                <a:ext cx="2423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094120" y="4451400"/>
              <a:ext cx="1947600" cy="560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ression Lay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900080" y="3925800"/>
              <a:ext cx="2423520" cy="150840"/>
              <a:chOff x="1900080" y="3925800"/>
              <a:chExt cx="2423520" cy="150840"/>
            </a:xfrm>
          </p:grpSpPr>
          <p:sp>
            <p:nvSpPr>
              <p:cNvPr id="166" name=""/>
              <p:cNvSpPr/>
              <p:nvPr/>
            </p:nvSpPr>
            <p:spPr>
              <a:xfrm>
                <a:off x="2029320" y="3928680"/>
                <a:ext cx="2207160" cy="144360"/>
              </a:xfrm>
              <a:prstGeom prst="roundRect">
                <a:avLst>
                  <a:gd name="adj" fmla="val 12495"/>
                </a:avLst>
              </a:prstGeom>
              <a:solidFill>
                <a:srgbClr val="a3f25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Elementary Str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0080" y="3925800"/>
                <a:ext cx="242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0080" y="4076640"/>
                <a:ext cx="242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55600" y="2906640"/>
              <a:ext cx="653040" cy="1806480"/>
            </a:xfrm>
            <a:prstGeom prst="rect">
              <a:avLst/>
            </a:prstGeom>
            <a:solidFill>
              <a:srgbClr val="00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cod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PEG-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estb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66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ing of signals for UMTS on send s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51C8-5B83-4BC1-B978-5A615F9A07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19320" y="2057400"/>
            <a:ext cx="7486200" cy="3422520"/>
            <a:chOff x="1219320" y="2057400"/>
            <a:chExt cx="7486200" cy="3422520"/>
          </a:xfrm>
        </p:grpSpPr>
        <p:sp>
          <p:nvSpPr>
            <p:cNvPr id="173" name=""/>
            <p:cNvSpPr/>
            <p:nvPr/>
          </p:nvSpPr>
          <p:spPr>
            <a:xfrm>
              <a:off x="4271760" y="2971800"/>
              <a:ext cx="921960" cy="387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8040" y="305748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92120" y="4110120"/>
              <a:ext cx="36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92120" y="5181480"/>
              <a:ext cx="361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9320" y="3048120"/>
              <a:ext cx="919080" cy="243180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70800">
              <a:off x="1146600" y="3946680"/>
              <a:ext cx="101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mu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292120" y="3200400"/>
              <a:ext cx="1979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6880" y="2057400"/>
              <a:ext cx="1320120" cy="3841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8880" y="21430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67120" y="2438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5040" y="3854520"/>
              <a:ext cx="576000" cy="512640"/>
            </a:xfrm>
            <a:prstGeom prst="roundRect">
              <a:avLst>
                <a:gd name="adj" fmla="val 2489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3600" y="388620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52560" y="409428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0840" y="4129200"/>
              <a:ext cx="36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6400" y="3897360"/>
              <a:ext cx="1265040" cy="5126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36960" y="403380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IFSDecod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37120" y="4172040"/>
              <a:ext cx="70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740200" y="3809880"/>
              <a:ext cx="957600" cy="512640"/>
              <a:chOff x="5740200" y="3809880"/>
              <a:chExt cx="957600" cy="512640"/>
            </a:xfrm>
          </p:grpSpPr>
          <p:sp>
            <p:nvSpPr>
              <p:cNvPr id="191" name=""/>
              <p:cNvSpPr/>
              <p:nvPr/>
            </p:nvSpPr>
            <p:spPr>
              <a:xfrm>
                <a:off x="5740200" y="3809880"/>
                <a:ext cx="920520" cy="512640"/>
              </a:xfrm>
              <a:prstGeom prst="roundRect">
                <a:avLst>
                  <a:gd name="adj" fmla="val 24898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91680" y="384156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oot Scen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978160" y="4049640"/>
                <a:ext cx="512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813360" y="3962520"/>
              <a:ext cx="47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2240" y="4965840"/>
              <a:ext cx="576000" cy="514080"/>
            </a:xfrm>
            <a:prstGeom prst="roundRect">
              <a:avLst>
                <a:gd name="adj" fmla="val 2489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0800" y="49989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70120" y="52070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5280" y="5194440"/>
              <a:ext cx="363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91120" y="4930920"/>
              <a:ext cx="36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776400" y="4737240"/>
              <a:ext cx="3141000" cy="742320"/>
              <a:chOff x="3776400" y="4737240"/>
              <a:chExt cx="3141000" cy="7423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334920" y="4737240"/>
                <a:ext cx="582480" cy="515520"/>
                <a:chOff x="6334920" y="4737240"/>
                <a:chExt cx="582480" cy="515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334920" y="4737240"/>
                  <a:ext cx="575640" cy="515520"/>
                </a:xfrm>
                <a:prstGeom prst="roundRect">
                  <a:avLst>
                    <a:gd name="adj" fmla="val 24898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424920" y="4770360"/>
                  <a:ext cx="4669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Media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04760" y="4978440"/>
                  <a:ext cx="5126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776400" y="4965480"/>
                <a:ext cx="1434960" cy="514080"/>
                <a:chOff x="3776400" y="4965480"/>
                <a:chExt cx="1434960" cy="5140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3776400" y="4965480"/>
                  <a:ext cx="919080" cy="514080"/>
                  <a:chOff x="3776400" y="4965480"/>
                  <a:chExt cx="919080" cy="5140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3776400" y="4965480"/>
                    <a:ext cx="919080" cy="514080"/>
                  </a:xfrm>
                  <a:prstGeom prst="rect">
                    <a:avLst/>
                  </a:prstGeom>
                  <a:solidFill>
                    <a:srgbClr val="00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942000" y="5104800"/>
                    <a:ext cx="65916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Arial"/>
                      </a:rPr>
                      <a:t>Decoder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4848840" y="5193720"/>
                  <a:ext cx="3625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flipV="1">
                <a:off x="6087240" y="5041440"/>
                <a:ext cx="25416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179320" y="4965480"/>
                <a:ext cx="803880" cy="514080"/>
                <a:chOff x="5179320" y="4965480"/>
                <a:chExt cx="803880" cy="51408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5179320" y="4965480"/>
                  <a:ext cx="803880" cy="514080"/>
                  <a:chOff x="5179320" y="4965480"/>
                  <a:chExt cx="803880" cy="5140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179320" y="4965480"/>
                    <a:ext cx="803880" cy="514080"/>
                  </a:xfrm>
                  <a:prstGeom prst="roundRect">
                    <a:avLst>
                      <a:gd name="adj" fmla="val 24898"/>
                    </a:avLst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364720" y="4998600"/>
                    <a:ext cx="4669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Arial"/>
                      </a:rPr>
                      <a:t>Media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320080" y="5206680"/>
                    <a:ext cx="55836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Arial"/>
                      </a:rPr>
                      <a:t>Stream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5849640" y="4992120"/>
                  <a:ext cx="101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5180040" y="4356000"/>
              <a:ext cx="120744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8080" y="4432320"/>
              <a:ext cx="82080" cy="2286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26000" y="3048120"/>
              <a:ext cx="1379520" cy="243180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76280" y="3079800"/>
              <a:ext cx="7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esen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00040" y="3465360"/>
              <a:ext cx="72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isu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nder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04720" y="4359240"/>
              <a:ext cx="72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nder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71600" y="3073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44920" y="3124080"/>
              <a:ext cx="19807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estb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295280"/>
            <a:ext cx="86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coding of signals for UMTS on receive s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FC86-0AB9-44C5-B1CC-94CA0D33ED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50960" y="1397160"/>
            <a:ext cx="66009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50960" y="1397160"/>
            <a:ext cx="66009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397160"/>
            <a:ext cx="66009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estbeds (3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56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Testb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nning on standard PCs in real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able set of parameters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ding/Dec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t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t and Frame Err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ror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ndows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068800" y="2039760"/>
          <a:ext cx="425628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2039760"/>
                    <a:ext cx="425628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F7E7-7D28-4B0B-ACB4-3D5A832946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Harald Klaus</cp:lastModifiedBy>
  <cp:lastPrinted>2000-09-20T01:32:11Z</cp:lastPrinted>
  <dcterms:modified xsi:type="dcterms:W3CDTF">2002-03-15T14:25:40Z</dcterms:modified>
  <cp:revision>48</cp:revision>
  <dc:subject/>
  <dc:title>PowerPoint Presentation</dc:title>
</cp:coreProperties>
</file>