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8664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9880" y="3196800"/>
            <a:ext cx="8664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988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976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9920" y="60912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9600" y="60912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9880" y="319680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9920" y="319680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9600" y="319680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026D1-3DAD-40F6-961F-956EC574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59880" y="609120"/>
            <a:ext cx="86648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37621-0859-4EFE-945A-DAEC2FFE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86648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858F0-0BE8-4D7B-A49A-9A0AECFA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012D3-6139-45DC-8B25-94E78330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70ADB-B4CF-4A75-B0B9-7A9C47AA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70103-F695-48CC-A4DD-8679CB83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988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75183-FA26-416B-AB2C-41163100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9880" y="609120"/>
            <a:ext cx="86648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9976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541B8-A201-4AD7-AA5F-96897CB0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9880" y="3196800"/>
            <a:ext cx="8664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04A4C-9349-4FEF-9B32-A9F6D6C6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8664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59880" y="3196800"/>
            <a:ext cx="8664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D2C3C-E0B9-41FE-BDC9-EB81D512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988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09976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83C7C-8ECD-4C31-868C-F3878C9B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89920" y="60912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19600" y="60912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59880" y="319680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589920" y="319680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19600" y="319680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56CD0-23DE-4E1A-A402-8D7B7560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86648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988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976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9880" y="3196800"/>
            <a:ext cx="8664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659880" y="5715000"/>
            <a:ext cx="86648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9880" y="609120"/>
            <a:ext cx="86648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1176120" cy="6854760"/>
            <a:chOff x="0" y="0"/>
            <a:chExt cx="1176120" cy="6854760"/>
          </a:xfrm>
        </p:grpSpPr>
        <p:sp>
          <p:nvSpPr>
            <p:cNvPr id="40" name=""/>
            <p:cNvSpPr/>
            <p:nvPr/>
          </p:nvSpPr>
          <p:spPr>
            <a:xfrm>
              <a:off x="0" y="0"/>
              <a:ext cx="1176120" cy="68547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0000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" name=""/>
            <p:cNvGrpSpPr/>
            <p:nvPr/>
          </p:nvGrpSpPr>
          <p:grpSpPr>
            <a:xfrm>
              <a:off x="82440" y="163440"/>
              <a:ext cx="164520" cy="6550200"/>
              <a:chOff x="82440" y="163440"/>
              <a:chExt cx="164520" cy="6550200"/>
            </a:xfrm>
          </p:grpSpPr>
          <p:sp>
            <p:nvSpPr>
              <p:cNvPr id="42" name=""/>
              <p:cNvSpPr/>
              <p:nvPr/>
            </p:nvSpPr>
            <p:spPr>
              <a:xfrm>
                <a:off x="82440" y="175428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440" y="198432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440" y="221148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2440" y="244152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2440" y="2671920"/>
                <a:ext cx="164520" cy="1504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2440" y="28987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440" y="31291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440" y="3359160"/>
                <a:ext cx="164520" cy="1490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2440" y="35863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440" y="381636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2440" y="4046400"/>
                <a:ext cx="164520" cy="14940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2440" y="427212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2440" y="45021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2440" y="472932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2440" y="49593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440" y="51894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2440" y="54165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2440" y="56466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440" y="58770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440" y="61038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440" y="633420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440" y="65628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440" y="163440"/>
                <a:ext cx="164520" cy="14940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440" y="39060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440" y="620640"/>
                <a:ext cx="164520" cy="1526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2440" y="84924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2440" y="10764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2440" y="130644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2440" y="153684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840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2"/>
          </p:nvPr>
        </p:nvSpPr>
        <p:spPr>
          <a:xfrm>
            <a:off x="123840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3"/>
          </p:nvPr>
        </p:nvSpPr>
        <p:spPr>
          <a:xfrm>
            <a:off x="38782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4"/>
          </p:nvPr>
        </p:nvSpPr>
        <p:spPr>
          <a:xfrm>
            <a:off x="759096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3DEB-3067-40D2-BC46-B6D27B8BA2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106200" y="-10591920"/>
            <a:ext cx="10009080" cy="174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5486400"/>
            <a:ext cx="824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990720"/>
            <a:ext cx="93726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3300"/>
                </a:solidFill>
                <a:uFillTx/>
                <a:latin typeface="Arial"/>
              </a:rPr>
              <a:t>Prediction and Monitoring of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0" i="1" lang="en-US" sz="5400" spc="-1" strike="noStrike" u="sng">
                <a:solidFill>
                  <a:srgbClr val="ff3300"/>
                </a:solidFill>
                <a:uFillTx/>
                <a:latin typeface="Arial"/>
              </a:rPr>
              <a:t>Quality for VoIP services</a:t>
            </a:r>
            <a:r>
              <a:rPr b="1" i="1" lang="en-US" sz="5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3600"/>
            </a:br>
            <a:br>
              <a:rPr sz="32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Vincent Barriac – France Télécom R&amp;D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G12 Q.16 Rapporteu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ITU_Logo" descr=""/>
          <p:cNvPicPr/>
          <p:nvPr/>
        </p:nvPicPr>
        <p:blipFill>
          <a:blip r:embed="rId1"/>
          <a:stretch/>
        </p:blipFill>
        <p:spPr>
          <a:xfrm>
            <a:off x="380880" y="5410080"/>
            <a:ext cx="10526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902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 u="sng">
                <a:solidFill>
                  <a:srgbClr val="ff3300"/>
                </a:solidFill>
                <a:uFillTx/>
                <a:latin typeface="Arial"/>
              </a:rPr>
              <a:t>Prediction of end-to-end quality</a:t>
            </a:r>
            <a:br>
              <a:rPr sz="4800"/>
            </a:br>
            <a:r>
              <a:rPr b="0" i="1" lang="fr-FR" sz="4800" spc="-1" strike="noStrike" u="sng">
                <a:solidFill>
                  <a:srgbClr val="ff3300"/>
                </a:solidFill>
                <a:uFillTx/>
                <a:latin typeface="Arial"/>
              </a:rPr>
              <a:t>1 : the E-model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1905120"/>
            <a:ext cx="99028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ITU-T G.107 Recommen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Transmission planning to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800" spc="-1" strike="noStrike">
                <a:solidFill>
                  <a:srgbClr val="ff3300"/>
                </a:solidFill>
                <a:latin typeface="Arial"/>
              </a:rPr>
              <a:t>Subjective effects of all impairments are addi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The E-Model output is a score (R) between 0 and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Takes into account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cc99ff"/>
              </a:buClr>
              <a:buSzPct val="1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ransmission delay and echo (speaker, listener and sideto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cc99ff"/>
              </a:buClr>
              <a:buSzPct val="1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evels (SNR, noise, loudness ratin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cc99ff"/>
              </a:buClr>
              <a:buSzPct val="1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acket l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cc99ff"/>
              </a:buClr>
              <a:buSzPct val="1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ow bit rate coding (Ie facto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ITU_Logo" descr=""/>
          <p:cNvPicPr/>
          <p:nvPr/>
        </p:nvPicPr>
        <p:blipFill>
          <a:blip r:embed="rId1"/>
          <a:stretch/>
        </p:blipFill>
        <p:spPr>
          <a:xfrm>
            <a:off x="304920" y="5791320"/>
            <a:ext cx="1052280" cy="10666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219320" y="6172200"/>
            <a:ext cx="824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90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 u="sng">
                <a:solidFill>
                  <a:srgbClr val="ff3300"/>
                </a:solidFill>
                <a:uFillTx/>
                <a:latin typeface="Arial"/>
              </a:rPr>
              <a:t>E-model Voice Quality Categories according to G.109 Recommend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0" y="2011320"/>
          <a:ext cx="9601200" cy="289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1320"/>
                    <a:ext cx="960120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751320" y="5105520"/>
            <a:ext cx="81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 : transmission quality index calculated with the E-model (G.10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ITU_Logo" descr=""/>
          <p:cNvPicPr/>
          <p:nvPr/>
        </p:nvPicPr>
        <p:blipFill>
          <a:blip r:embed="rId3"/>
          <a:stretch/>
        </p:blipFill>
        <p:spPr>
          <a:xfrm>
            <a:off x="304920" y="5791320"/>
            <a:ext cx="1052280" cy="10666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219320" y="6172200"/>
            <a:ext cx="824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902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 u="sng">
                <a:solidFill>
                  <a:srgbClr val="ff3300"/>
                </a:solidFill>
                <a:uFillTx/>
                <a:latin typeface="Arial"/>
              </a:rPr>
              <a:t>Prediction of end-to-end quality </a:t>
            </a:r>
            <a:br>
              <a:rPr sz="4800"/>
            </a:br>
            <a:r>
              <a:rPr b="0" i="1" lang="fr-FR" sz="4800" spc="-1" strike="noStrike" u="sng">
                <a:solidFill>
                  <a:srgbClr val="ff3300"/>
                </a:solidFill>
                <a:uFillTx/>
                <a:latin typeface="Arial"/>
              </a:rPr>
              <a:t>2 : the call clarity index (CCI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2057400"/>
            <a:ext cx="8991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ITU-T P.562 Recommen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Inspired by the CATNAP/SUBMOD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800" spc="-1" strike="noStrike">
                <a:solidFill>
                  <a:srgbClr val="ff3300"/>
                </a:solidFill>
                <a:latin typeface="Arial"/>
              </a:rPr>
              <a:t>Based on loudness ra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Takes into account the P.561 parameter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cc99ff"/>
              </a:buClr>
              <a:buSzPct val="1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ransmission delay and ec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cc99ff"/>
              </a:buClr>
              <a:buSzPct val="1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evels (SNR, noi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New models similar to the CCI and adapted to the VoIP context are being developed and will be soon standardised under Q.16/12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ITU_Logo" descr=""/>
          <p:cNvPicPr/>
          <p:nvPr/>
        </p:nvPicPr>
        <p:blipFill>
          <a:blip r:embed="rId1"/>
          <a:stretch/>
        </p:blipFill>
        <p:spPr>
          <a:xfrm>
            <a:off x="304920" y="5791320"/>
            <a:ext cx="1052280" cy="10666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219320" y="6172200"/>
            <a:ext cx="824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04760"/>
            <a:ext cx="9902880" cy="82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0" i="1" lang="fr-FR" sz="4800" spc="-1" strike="noStrike" u="sng">
                <a:solidFill>
                  <a:srgbClr val="ff3300"/>
                </a:solidFill>
                <a:uFillTx/>
                <a:latin typeface="Arial"/>
              </a:rPr>
              <a:t>Voice Quality on IP networks (1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9597960" cy="4298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6800" bIns="46800" anchor="t">
            <a:normAutofit/>
          </a:bodyPr>
          <a:p>
            <a:pPr marL="407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he main Voice Quality impairments related to the transmission on IP networks are 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07880" indent="-40788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an important transmission delay (essentially caused by the use of low bit rate coders) 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82720" indent="-339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cho when the loop delay exceeds  40 m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82720" indent="-339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no interactivity possibility beyond 400 ms of one way dela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7880" indent="-40788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he variation of transmission delay (due to packet loss, but not perceptible if less than 30 ms)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ITU_Logo" descr=""/>
          <p:cNvPicPr/>
          <p:nvPr/>
        </p:nvPicPr>
        <p:blipFill>
          <a:blip r:embed="rId1"/>
          <a:stretch/>
        </p:blipFill>
        <p:spPr>
          <a:xfrm>
            <a:off x="304920" y="5791320"/>
            <a:ext cx="1052280" cy="1066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219320" y="5943600"/>
            <a:ext cx="824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04760"/>
            <a:ext cx="9902880" cy="82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0" i="1" lang="fr-FR" sz="4800" spc="-1" strike="noStrike" u="sng">
                <a:solidFill>
                  <a:srgbClr val="ff3300"/>
                </a:solidFill>
                <a:uFillTx/>
                <a:latin typeface="Arial"/>
              </a:rPr>
              <a:t>Voice Quality on IP networks (2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9597960" cy="4299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6800" bIns="46800" anchor="t">
            <a:normAutofit/>
          </a:bodyPr>
          <a:p>
            <a:pPr marL="407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Voice Quality impairments related to the transmission on IP networks are 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07880" indent="-40788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he loss of information (due to packet loss) 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82720" indent="-339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erceptible and annoying from 2 or 3 % of los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82720" indent="-339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difficult to support above 10 %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82720" indent="-339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unbearable above 20 %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7880" indent="-40788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signal distortion (caused by the use of low bit rate coders) 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82720" indent="-339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.g. :G.711 better than G.729, itself better than G.723.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ITU_Logo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1052640" cy="1066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219320" y="5867280"/>
            <a:ext cx="824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90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 u="sng">
                <a:solidFill>
                  <a:srgbClr val="ff3300"/>
                </a:solidFill>
                <a:uFillTx/>
                <a:latin typeface="Arial"/>
              </a:rPr>
              <a:t>The principal metrics for voice quality on IP network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9674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1) End-to-end transmission delay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2) Speech quality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3) Packet loss rate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4) Variation of transmission delay (or jitter)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5) Annoyance due to echo (electrical or acoustical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ITU_Logo" descr=""/>
          <p:cNvPicPr/>
          <p:nvPr/>
        </p:nvPicPr>
        <p:blipFill>
          <a:blip r:embed="rId1"/>
          <a:stretch/>
        </p:blipFill>
        <p:spPr>
          <a:xfrm>
            <a:off x="304920" y="5791320"/>
            <a:ext cx="1052280" cy="1066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219320" y="5867280"/>
            <a:ext cx="824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4880" y="-92520"/>
            <a:ext cx="9512280" cy="155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0" i="1" lang="fr-FR" sz="4800" spc="-1" strike="noStrike" u="sng">
                <a:solidFill>
                  <a:srgbClr val="ff3300"/>
                </a:solidFill>
                <a:uFillTx/>
                <a:latin typeface="Arial"/>
              </a:rPr>
              <a:t>Problems for the evaluation of voice quality in IP network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902880" cy="3124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6800" bIns="46800" anchor="t">
            <a:normAutofit fontScale="92000"/>
          </a:bodyPr>
          <a:p>
            <a:pPr marL="375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Voice quality is time variant («unguaranteed quality»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7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auses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: non constant packet path (and thus transmission time) and network load (and thus packet loss ra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onsequences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: classical subjective and objective assessment methods must evolve to ada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bjective : continuous scoring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bjective : new parameters to characterise and supervise, new measurement tools to develo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ITU_Logo" descr=""/>
          <p:cNvPicPr/>
          <p:nvPr/>
        </p:nvPicPr>
        <p:blipFill>
          <a:blip r:embed="rId1"/>
          <a:stretch/>
        </p:blipFill>
        <p:spPr>
          <a:xfrm>
            <a:off x="304920" y="5791320"/>
            <a:ext cx="1052280" cy="1066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143000" y="5867280"/>
            <a:ext cx="824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 u="sng">
                <a:solidFill>
                  <a:srgbClr val="ff3300"/>
                </a:solidFill>
                <a:uFillTx/>
                <a:latin typeface="Arial"/>
              </a:rPr>
              <a:t>How to measure voice quality ?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90288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62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Two types of tools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6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3300"/>
                </a:solidFill>
                <a:latin typeface="Arial"/>
              </a:rPr>
              <a:t>Non-intrusive (I.N.M.D.)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: on real communication without reference signal, better for the supervision of QoS inside network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81dfd"/>
                </a:solidFill>
                <a:latin typeface="Arial"/>
              </a:rPr>
              <a:t>End-to-end intrusi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: on test calls with reference signal, better fitted for the measurement of quality as perceived by end us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853160" y="4975200"/>
            <a:ext cx="368280" cy="4888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8640" y="4654440"/>
            <a:ext cx="352440" cy="630360"/>
          </a:xfrm>
          <a:custGeom>
            <a:avLst/>
            <a:gdLst>
              <a:gd name="textAreaLeft" fmla="*/ 12600 w 352440"/>
              <a:gd name="textAreaRight" fmla="*/ 339840 w 352440"/>
              <a:gd name="textAreaTop" fmla="*/ 12600 h 630360"/>
              <a:gd name="textAreaBottom" fmla="*/ 617760 h 630360"/>
            </a:gdLst>
            <a:ahLst/>
            <a:rect l="textAreaLeft" t="textAreaTop" r="textAreaRight" b="textAreaBottom"/>
            <a:pathLst>
              <a:path w="21600" h="38616">
                <a:moveTo>
                  <a:pt x="2689" y="0"/>
                </a:moveTo>
                <a:arcTo wR="2689" hR="2689" stAng="16200000" swAng="-5400000"/>
                <a:lnTo>
                  <a:pt x="0" y="35927"/>
                </a:lnTo>
                <a:arcTo wR="2689" hR="2689" stAng="10800000" swAng="-5400000"/>
                <a:lnTo>
                  <a:pt x="18911" y="38616"/>
                </a:lnTo>
                <a:arcTo wR="2689" hR="2689" stAng="5400000" swAng="-5400000"/>
                <a:lnTo>
                  <a:pt x="21600" y="2689"/>
                </a:lnTo>
                <a:arcTo wR="2689" hR="2689" stAng="0" swAng="-5400000"/>
                <a:close/>
              </a:path>
            </a:pathLst>
          </a:custGeom>
          <a:solidFill>
            <a:srgbClr val="00e0e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8640" y="4916520"/>
            <a:ext cx="352440" cy="71280"/>
          </a:xfrm>
          <a:prstGeom prst="rect">
            <a:avLst/>
          </a:prstGeom>
          <a:solidFill>
            <a:srgbClr val="0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8640" y="4962600"/>
            <a:ext cx="352440" cy="314280"/>
          </a:xfrm>
          <a:prstGeom prst="roundRect">
            <a:avLst>
              <a:gd name="adj" fmla="val 9731"/>
            </a:avLst>
          </a:prstGeom>
          <a:solidFill>
            <a:srgbClr val="00e0e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81000" y="4633920"/>
            <a:ext cx="379440" cy="270000"/>
          </a:xfrm>
          <a:custGeom>
            <a:avLst/>
            <a:gdLst/>
            <a:ahLst/>
            <a:rect l="l" t="t" r="r" b="b"/>
            <a:pathLst>
              <a:path w="211" h="128">
                <a:moveTo>
                  <a:pt x="50" y="125"/>
                </a:moveTo>
                <a:lnTo>
                  <a:pt x="50" y="48"/>
                </a:lnTo>
                <a:lnTo>
                  <a:pt x="0" y="22"/>
                </a:lnTo>
                <a:lnTo>
                  <a:pt x="1" y="17"/>
                </a:lnTo>
                <a:lnTo>
                  <a:pt x="2" y="13"/>
                </a:lnTo>
                <a:lnTo>
                  <a:pt x="4" y="9"/>
                </a:lnTo>
                <a:lnTo>
                  <a:pt x="8" y="6"/>
                </a:lnTo>
                <a:lnTo>
                  <a:pt x="12" y="4"/>
                </a:lnTo>
                <a:lnTo>
                  <a:pt x="16" y="1"/>
                </a:lnTo>
                <a:lnTo>
                  <a:pt x="19" y="0"/>
                </a:lnTo>
                <a:lnTo>
                  <a:pt x="21" y="0"/>
                </a:lnTo>
                <a:lnTo>
                  <a:pt x="188" y="0"/>
                </a:lnTo>
                <a:lnTo>
                  <a:pt x="190" y="0"/>
                </a:lnTo>
                <a:lnTo>
                  <a:pt x="195" y="2"/>
                </a:lnTo>
                <a:lnTo>
                  <a:pt x="198" y="4"/>
                </a:lnTo>
                <a:lnTo>
                  <a:pt x="199" y="5"/>
                </a:lnTo>
                <a:lnTo>
                  <a:pt x="202" y="6"/>
                </a:lnTo>
                <a:lnTo>
                  <a:pt x="206" y="10"/>
                </a:lnTo>
                <a:lnTo>
                  <a:pt x="207" y="13"/>
                </a:lnTo>
                <a:lnTo>
                  <a:pt x="208" y="16"/>
                </a:lnTo>
                <a:lnTo>
                  <a:pt x="210" y="20"/>
                </a:lnTo>
                <a:lnTo>
                  <a:pt x="159" y="46"/>
                </a:lnTo>
                <a:lnTo>
                  <a:pt x="159" y="127"/>
                </a:lnTo>
                <a:lnTo>
                  <a:pt x="146" y="127"/>
                </a:lnTo>
                <a:lnTo>
                  <a:pt x="146" y="38"/>
                </a:lnTo>
                <a:lnTo>
                  <a:pt x="63" y="38"/>
                </a:lnTo>
                <a:lnTo>
                  <a:pt x="63" y="127"/>
                </a:lnTo>
                <a:lnTo>
                  <a:pt x="50" y="125"/>
                </a:lnTo>
              </a:path>
            </a:pathLst>
          </a:custGeom>
          <a:solidFill>
            <a:srgbClr val="0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93680" y="5199120"/>
            <a:ext cx="36720" cy="4608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93680" y="5205240"/>
            <a:ext cx="36720" cy="4320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57400" y="5199120"/>
            <a:ext cx="38160" cy="4608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57400" y="5205240"/>
            <a:ext cx="38160" cy="4320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24000" y="5199120"/>
            <a:ext cx="38160" cy="4608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24000" y="5205240"/>
            <a:ext cx="38160" cy="4320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3680" y="5141880"/>
            <a:ext cx="36720" cy="4608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93680" y="5151600"/>
            <a:ext cx="36720" cy="4752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93680" y="5089680"/>
            <a:ext cx="36720" cy="4572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93680" y="5092560"/>
            <a:ext cx="36720" cy="4608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93680" y="5033880"/>
            <a:ext cx="36720" cy="4608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93680" y="5038560"/>
            <a:ext cx="36720" cy="4464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57400" y="5141880"/>
            <a:ext cx="38160" cy="4608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57400" y="5151600"/>
            <a:ext cx="38160" cy="4752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57400" y="5089680"/>
            <a:ext cx="38160" cy="4572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57400" y="5092560"/>
            <a:ext cx="38160" cy="4608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57400" y="5033880"/>
            <a:ext cx="38160" cy="4608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57400" y="5038560"/>
            <a:ext cx="38160" cy="4464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24000" y="5141880"/>
            <a:ext cx="38160" cy="4608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5151600"/>
            <a:ext cx="38160" cy="4752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24000" y="5089680"/>
            <a:ext cx="38160" cy="4572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24000" y="5092560"/>
            <a:ext cx="38160" cy="4608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4000" y="5033880"/>
            <a:ext cx="38160" cy="4608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24000" y="5038560"/>
            <a:ext cx="38160" cy="44640"/>
          </a:xfrm>
          <a:prstGeom prst="rect">
            <a:avLst/>
          </a:prstGeom>
          <a:solidFill>
            <a:srgbClr val="c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82720" y="4718160"/>
            <a:ext cx="144360" cy="161640"/>
          </a:xfrm>
          <a:prstGeom prst="ellipse">
            <a:avLst/>
          </a:prstGeom>
          <a:solidFill>
            <a:srgbClr val="0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65080" y="4729320"/>
            <a:ext cx="55800" cy="137880"/>
          </a:xfrm>
          <a:custGeom>
            <a:avLst/>
            <a:gdLst/>
            <a:ahLst/>
            <a:rect l="l" t="t" r="r" b="b"/>
            <a:pathLst>
              <a:path w="31" h="66">
                <a:moveTo>
                  <a:pt x="28" y="9"/>
                </a:moveTo>
                <a:lnTo>
                  <a:pt x="30" y="57"/>
                </a:lnTo>
                <a:lnTo>
                  <a:pt x="12" y="65"/>
                </a:lnTo>
                <a:lnTo>
                  <a:pt x="8" y="61"/>
                </a:lnTo>
                <a:lnTo>
                  <a:pt x="5" y="55"/>
                </a:lnTo>
                <a:lnTo>
                  <a:pt x="3" y="50"/>
                </a:lnTo>
                <a:lnTo>
                  <a:pt x="1" y="43"/>
                </a:lnTo>
                <a:lnTo>
                  <a:pt x="0" y="39"/>
                </a:lnTo>
                <a:lnTo>
                  <a:pt x="0" y="34"/>
                </a:lnTo>
                <a:lnTo>
                  <a:pt x="0" y="27"/>
                </a:lnTo>
                <a:lnTo>
                  <a:pt x="1" y="22"/>
                </a:lnTo>
                <a:lnTo>
                  <a:pt x="3" y="15"/>
                </a:lnTo>
                <a:lnTo>
                  <a:pt x="5" y="10"/>
                </a:lnTo>
                <a:lnTo>
                  <a:pt x="8" y="5"/>
                </a:lnTo>
                <a:lnTo>
                  <a:pt x="12" y="0"/>
                </a:lnTo>
                <a:lnTo>
                  <a:pt x="28" y="9"/>
                </a:lnTo>
              </a:path>
            </a:pathLst>
          </a:custGeom>
          <a:solidFill>
            <a:srgbClr val="0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20840" y="4718160"/>
            <a:ext cx="149040" cy="161640"/>
          </a:xfrm>
          <a:prstGeom prst="ellipse">
            <a:avLst/>
          </a:prstGeom>
          <a:solidFill>
            <a:srgbClr val="0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2080" y="4729320"/>
            <a:ext cx="56880" cy="137880"/>
          </a:xfrm>
          <a:custGeom>
            <a:avLst/>
            <a:gdLst/>
            <a:ahLst/>
            <a:rect l="l" t="t" r="r" b="b"/>
            <a:pathLst>
              <a:path w="31" h="66">
                <a:moveTo>
                  <a:pt x="0" y="9"/>
                </a:moveTo>
                <a:lnTo>
                  <a:pt x="0" y="57"/>
                </a:lnTo>
                <a:lnTo>
                  <a:pt x="18" y="65"/>
                </a:lnTo>
                <a:lnTo>
                  <a:pt x="20" y="61"/>
                </a:lnTo>
                <a:lnTo>
                  <a:pt x="25" y="55"/>
                </a:lnTo>
                <a:lnTo>
                  <a:pt x="26" y="50"/>
                </a:lnTo>
                <a:lnTo>
                  <a:pt x="30" y="43"/>
                </a:lnTo>
                <a:lnTo>
                  <a:pt x="30" y="39"/>
                </a:lnTo>
                <a:lnTo>
                  <a:pt x="30" y="34"/>
                </a:lnTo>
                <a:lnTo>
                  <a:pt x="30" y="27"/>
                </a:lnTo>
                <a:lnTo>
                  <a:pt x="27" y="22"/>
                </a:lnTo>
                <a:lnTo>
                  <a:pt x="26" y="15"/>
                </a:lnTo>
                <a:lnTo>
                  <a:pt x="24" y="10"/>
                </a:lnTo>
                <a:lnTo>
                  <a:pt x="20" y="5"/>
                </a:lnTo>
                <a:lnTo>
                  <a:pt x="16" y="0"/>
                </a:lnTo>
                <a:lnTo>
                  <a:pt x="0" y="9"/>
                </a:lnTo>
              </a:path>
            </a:pathLst>
          </a:custGeom>
          <a:solidFill>
            <a:srgbClr val="0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52560" y="4705200"/>
            <a:ext cx="479520" cy="66960"/>
          </a:xfrm>
          <a:prstGeom prst="rect">
            <a:avLst/>
          </a:prstGeom>
          <a:solidFill>
            <a:srgbClr val="00e0e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63560" y="4937040"/>
            <a:ext cx="49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350120" y="4048200"/>
            <a:ext cx="771480" cy="56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173480" y="4873680"/>
            <a:ext cx="504720" cy="684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14440" y="4433760"/>
            <a:ext cx="93420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1" y="14381"/>
                </a:moveTo>
                <a:arcTo wR="10800" hR="10800" stAng="9638071" swAng="8517894"/>
                <a:lnTo>
                  <a:pt x="10800" y="10800"/>
                </a:lnTo>
                <a:close/>
              </a:path>
              <a:path fill="none" w="21600" h="21600">
                <a:moveTo>
                  <a:pt x="611" y="14381"/>
                </a:moveTo>
                <a:arcTo wR="10800" hR="10800" stAng="9638071" swAng="8517894"/>
              </a:path>
            </a:pathLst>
          </a:custGeom>
          <a:solidFill>
            <a:srgbClr val="ccff33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35000" y="4330800"/>
            <a:ext cx="1096920" cy="61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5" y="6450"/>
                </a:moveTo>
                <a:arcTo wR="10800" hR="10800" stAng="-9374851" swAng="10552402"/>
                <a:lnTo>
                  <a:pt x="10800" y="10800"/>
                </a:lnTo>
                <a:close/>
              </a:path>
              <a:path fill="none" w="21600" h="21600">
                <a:moveTo>
                  <a:pt x="915" y="6450"/>
                </a:moveTo>
                <a:arcTo wR="10800" hR="10800" stAng="-9374851" swAng="10552402"/>
              </a:path>
            </a:pathLst>
          </a:custGeom>
          <a:solidFill>
            <a:srgbClr val="ccff33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0800000">
            <a:off x="2779560" y="4596480"/>
            <a:ext cx="1492200" cy="66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39" y="19806"/>
                </a:moveTo>
                <a:arcTo wR="10800" hR="10800" stAng="7409886" swAng="8781877"/>
                <a:lnTo>
                  <a:pt x="10800" y="10800"/>
                </a:lnTo>
                <a:close/>
              </a:path>
              <a:path fill="none" w="21600" h="21600">
                <a:moveTo>
                  <a:pt x="4839" y="19806"/>
                </a:moveTo>
                <a:arcTo wR="10800" hR="10800" stAng="7409886" swAng="8781877"/>
              </a:path>
            </a:pathLst>
          </a:custGeom>
          <a:solidFill>
            <a:srgbClr val="ccff33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2730960" y="4833000"/>
            <a:ext cx="112500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69"/>
                </a:moveTo>
                <a:arcTo wR="10800" hR="10800" stAng="-10758333" swAng="8000762"/>
                <a:lnTo>
                  <a:pt x="10800" y="10800"/>
                </a:lnTo>
                <a:close/>
              </a:path>
              <a:path fill="none" w="21600" h="21600">
                <a:moveTo>
                  <a:pt x="1" y="10669"/>
                </a:moveTo>
                <a:arcTo wR="10800" hR="10800" stAng="-10758333" swAng="8000762"/>
              </a:path>
            </a:pathLst>
          </a:custGeom>
          <a:solidFill>
            <a:srgbClr val="ccff33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47920" y="4839120"/>
            <a:ext cx="1008000" cy="65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825" y="20822"/>
                </a:moveTo>
                <a:arcTo wR="10800" hR="10800" stAng="4086988" swAng="6778997"/>
                <a:lnTo>
                  <a:pt x="10800" y="10800"/>
                </a:lnTo>
                <a:close/>
              </a:path>
              <a:path fill="none" w="21600" h="21600">
                <a:moveTo>
                  <a:pt x="14825" y="20822"/>
                </a:moveTo>
                <a:arcTo wR="10800" hR="10800" stAng="4086988" swAng="6778997"/>
              </a:path>
            </a:pathLst>
          </a:custGeom>
          <a:solidFill>
            <a:srgbClr val="ccff33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5560" y="4768560"/>
            <a:ext cx="119664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02" y="21600"/>
                </a:moveTo>
                <a:arcTo wR="10800" hR="10800" stAng="5431205" swAng="6946304"/>
                <a:lnTo>
                  <a:pt x="10800" y="10800"/>
                </a:lnTo>
                <a:close/>
              </a:path>
              <a:path fill="none" w="21600" h="21600">
                <a:moveTo>
                  <a:pt x="10702" y="21600"/>
                </a:moveTo>
                <a:arcTo wR="10800" hR="10800" stAng="5431205" swAng="6946304"/>
              </a:path>
            </a:pathLst>
          </a:custGeom>
          <a:solidFill>
            <a:srgbClr val="ccff33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38160" y="4613400"/>
            <a:ext cx="93996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1" y="17035"/>
                </a:moveTo>
                <a:arcTo wR="10800" hR="10800" stAng="8684337" swAng="7502592"/>
                <a:lnTo>
                  <a:pt x="10800" y="10800"/>
                </a:lnTo>
                <a:close/>
              </a:path>
              <a:path fill="none" w="21600" h="21600">
                <a:moveTo>
                  <a:pt x="1981" y="17035"/>
                </a:moveTo>
                <a:arcTo wR="10800" hR="10800" stAng="8684337" swAng="7502592"/>
              </a:path>
            </a:pathLst>
          </a:custGeom>
          <a:solidFill>
            <a:srgbClr val="ccff33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35000" y="4441680"/>
            <a:ext cx="2211480" cy="995400"/>
          </a:xfrm>
          <a:custGeom>
            <a:avLst/>
            <a:gdLst/>
            <a:ahLst/>
            <a:rect l="l" t="t" r="r" b="b"/>
            <a:pathLst>
              <a:path w="1232" h="471">
                <a:moveTo>
                  <a:pt x="584" y="19"/>
                </a:moveTo>
                <a:lnTo>
                  <a:pt x="0" y="152"/>
                </a:lnTo>
                <a:lnTo>
                  <a:pt x="109" y="368"/>
                </a:lnTo>
                <a:lnTo>
                  <a:pt x="714" y="470"/>
                </a:lnTo>
                <a:lnTo>
                  <a:pt x="1231" y="191"/>
                </a:lnTo>
                <a:lnTo>
                  <a:pt x="909" y="0"/>
                </a:lnTo>
                <a:lnTo>
                  <a:pt x="540" y="19"/>
                </a:lnTo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22680" y="4724280"/>
            <a:ext cx="10047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4040"/>
                <a:tab algn="l" pos="3448080"/>
                <a:tab algn="l" pos="5172120"/>
                <a:tab algn="l" pos="6896160"/>
                <a:tab algn="l" pos="8620200"/>
                <a:tab algn="l" pos="10344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ST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86040" y="5761080"/>
            <a:ext cx="20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4040"/>
                <a:tab algn="l" pos="3448080"/>
                <a:tab algn="l" pos="5172120"/>
                <a:tab algn="l" pos="6896160"/>
                <a:tab algn="l" pos="8620200"/>
                <a:tab algn="l" pos="103442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NAS/VoIP 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16560" y="5180040"/>
            <a:ext cx="57312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7980480" y="3457440"/>
          <a:ext cx="525240" cy="73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80480" y="3457440"/>
                    <a:ext cx="52524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6446880" y="3611520"/>
            <a:ext cx="430200" cy="606600"/>
          </a:xfrm>
          <a:custGeom>
            <a:avLst/>
            <a:gdLst/>
            <a:ahLst/>
            <a:rect l="l" t="t" r="r" b="b"/>
            <a:pathLst>
              <a:path w="167" h="193">
                <a:moveTo>
                  <a:pt x="0" y="192"/>
                </a:moveTo>
                <a:lnTo>
                  <a:pt x="166" y="192"/>
                </a:lnTo>
                <a:lnTo>
                  <a:pt x="166" y="0"/>
                </a:lnTo>
                <a:lnTo>
                  <a:pt x="0" y="0"/>
                </a:lnTo>
                <a:lnTo>
                  <a:pt x="0" y="192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730920" y="3611520"/>
            <a:ext cx="1296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54800" y="3774960"/>
            <a:ext cx="42840" cy="54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8"/>
                </a:moveTo>
                <a:lnTo>
                  <a:pt x="6" y="0"/>
                </a:lnTo>
                <a:lnTo>
                  <a:pt x="16" y="0"/>
                </a:lnTo>
                <a:lnTo>
                  <a:pt x="16" y="8"/>
                </a:lnTo>
                <a:lnTo>
                  <a:pt x="6" y="16"/>
                </a:lnTo>
                <a:lnTo>
                  <a:pt x="6" y="8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43880" y="416412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43880" y="363384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43880" y="364968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43880" y="365904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43880" y="367812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43880" y="368460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43880" y="369900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43880" y="370836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43880" y="372420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43880" y="373068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43880" y="374976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43880" y="375912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43880" y="377496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43880" y="378144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43880" y="379728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43880" y="380700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43880" y="382284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43880" y="383220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43880" y="384660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43880" y="385272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43880" y="387180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43880" y="387828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43880" y="389412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43880" y="390384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43880" y="391968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43880" y="392904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43880" y="394812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43880" y="395460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43880" y="397044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43880" y="397656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43880" y="399420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43880" y="400356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43880" y="401940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43880" y="402588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43880" y="404172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43880" y="405144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43880" y="406728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43880" y="407664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43880" y="409248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43880" y="410220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43880" y="411804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43880" y="412740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43880" y="414180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43880" y="4148280"/>
            <a:ext cx="112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54800" y="4164120"/>
            <a:ext cx="255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54800" y="4133880"/>
            <a:ext cx="255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54800" y="4108320"/>
            <a:ext cx="255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54800" y="4076640"/>
            <a:ext cx="255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54800" y="4051440"/>
            <a:ext cx="255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54800" y="4019400"/>
            <a:ext cx="255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54800" y="3986280"/>
            <a:ext cx="255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54800" y="3960720"/>
            <a:ext cx="255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54800" y="3929040"/>
            <a:ext cx="255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54800" y="3903840"/>
            <a:ext cx="255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54800" y="3871800"/>
            <a:ext cx="255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54800" y="3846600"/>
            <a:ext cx="255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54800" y="3816360"/>
            <a:ext cx="255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54800" y="3643200"/>
            <a:ext cx="247680" cy="52560"/>
          </a:xfrm>
          <a:custGeom>
            <a:avLst/>
            <a:gdLst/>
            <a:ahLst/>
            <a:rect l="l" t="t" r="r" b="b"/>
            <a:pathLst>
              <a:path w="96" h="17">
                <a:moveTo>
                  <a:pt x="82" y="10"/>
                </a:moveTo>
                <a:lnTo>
                  <a:pt x="95" y="10"/>
                </a:lnTo>
                <a:lnTo>
                  <a:pt x="95" y="0"/>
                </a:lnTo>
                <a:lnTo>
                  <a:pt x="82" y="0"/>
                </a:lnTo>
                <a:lnTo>
                  <a:pt x="82" y="10"/>
                </a:lnTo>
                <a:lnTo>
                  <a:pt x="0" y="16"/>
                </a:lnTo>
                <a:lnTo>
                  <a:pt x="24" y="16"/>
                </a:lnTo>
                <a:lnTo>
                  <a:pt x="24" y="0"/>
                </a:lnTo>
                <a:lnTo>
                  <a:pt x="0" y="0"/>
                </a:lnTo>
                <a:lnTo>
                  <a:pt x="0" y="16"/>
                </a:lnTo>
                <a:lnTo>
                  <a:pt x="82" y="1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55640" y="4305240"/>
            <a:ext cx="938520" cy="50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76" y="1770"/>
                </a:moveTo>
                <a:arcTo wR="10800" hR="10800" stAng="-7396034" swAng="8607353"/>
                <a:lnTo>
                  <a:pt x="10800" y="10800"/>
                </a:lnTo>
                <a:close/>
              </a:path>
              <a:path fill="none" w="21600" h="21600">
                <a:moveTo>
                  <a:pt x="4876" y="1770"/>
                </a:moveTo>
                <a:arcTo wR="10800" hR="10800" stAng="-7396034" swAng="8607353"/>
              </a:path>
            </a:pathLst>
          </a:custGeom>
          <a:solidFill>
            <a:srgbClr val="00ffff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73800" y="4175280"/>
            <a:ext cx="1092600" cy="73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4" y="14273"/>
                </a:moveTo>
                <a:arcTo wR="10800" hR="10800" stAng="9674375" swAng="10564691"/>
                <a:lnTo>
                  <a:pt x="10800" y="10800"/>
                </a:lnTo>
                <a:close/>
              </a:path>
              <a:path fill="none" w="21600" h="21600">
                <a:moveTo>
                  <a:pt x="574" y="14273"/>
                </a:moveTo>
                <a:arcTo wR="10800" hR="10800" stAng="9674375" swAng="10564691"/>
              </a:path>
            </a:pathLst>
          </a:custGeom>
          <a:solidFill>
            <a:srgbClr val="00ffff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5133960" y="4495680"/>
            <a:ext cx="1485720" cy="78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80463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804633"/>
              </a:path>
            </a:pathLst>
          </a:custGeom>
          <a:solidFill>
            <a:srgbClr val="00ffff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0800000">
            <a:off x="5558040" y="4774320"/>
            <a:ext cx="1127160" cy="82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231" y="3096"/>
                </a:moveTo>
                <a:arcTo wR="10800" hR="10800" stAng="-8069578" swAng="8069578"/>
                <a:lnTo>
                  <a:pt x="10800" y="10800"/>
                </a:lnTo>
                <a:close/>
              </a:path>
              <a:path fill="none" w="21600" h="21600">
                <a:moveTo>
                  <a:pt x="3231" y="3096"/>
                </a:moveTo>
                <a:arcTo wR="10800" hR="10800" stAng="-8069578" swAng="8069578"/>
              </a:path>
            </a:pathLst>
          </a:custGeom>
          <a:solidFill>
            <a:srgbClr val="00ffff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58440" y="4771440"/>
            <a:ext cx="1013400" cy="7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1"/>
                </a:moveTo>
                <a:arcTo wR="10800" hR="10800" stAng="-18783" swAng="6797227"/>
                <a:lnTo>
                  <a:pt x="10800" y="10800"/>
                </a:lnTo>
                <a:close/>
              </a:path>
              <a:path fill="none" w="21600" h="21600">
                <a:moveTo>
                  <a:pt x="21600" y="10741"/>
                </a:moveTo>
                <a:arcTo wR="10800" hR="10800" stAng="-18783" swAng="6797227"/>
              </a:path>
            </a:pathLst>
          </a:custGeom>
          <a:solidFill>
            <a:srgbClr val="00ffff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86760" y="4682520"/>
            <a:ext cx="1213920" cy="66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548" y="6151"/>
                </a:moveTo>
                <a:arcTo wR="10800" hR="10800" stAng="-1529916" swAng="6960622"/>
                <a:lnTo>
                  <a:pt x="10800" y="10800"/>
                </a:lnTo>
                <a:close/>
              </a:path>
              <a:path fill="none" w="21600" h="21600">
                <a:moveTo>
                  <a:pt x="20548" y="6151"/>
                </a:moveTo>
                <a:arcTo wR="10800" hR="10800" stAng="-1529916" swAng="6960622"/>
              </a:path>
            </a:pathLst>
          </a:custGeom>
          <a:solidFill>
            <a:srgbClr val="00ffff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42360" y="4513320"/>
            <a:ext cx="939240" cy="545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9" y="0"/>
                </a:moveTo>
                <a:arcTo wR="10800" hR="10800" stAng="-5413071" swAng="7548646"/>
                <a:lnTo>
                  <a:pt x="10800" y="10800"/>
                </a:lnTo>
                <a:close/>
              </a:path>
              <a:path fill="none" w="21600" h="21600">
                <a:moveTo>
                  <a:pt x="10759" y="0"/>
                </a:moveTo>
                <a:arcTo wR="10800" hR="10800" stAng="-5413071" swAng="7548646"/>
              </a:path>
            </a:pathLst>
          </a:custGeom>
          <a:solidFill>
            <a:srgbClr val="00ffff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53120" y="4314960"/>
            <a:ext cx="2230200" cy="1182600"/>
          </a:xfrm>
          <a:custGeom>
            <a:avLst/>
            <a:gdLst/>
            <a:ahLst/>
            <a:rect l="l" t="t" r="r" b="b"/>
            <a:pathLst>
              <a:path w="1243" h="561">
                <a:moveTo>
                  <a:pt x="653" y="22"/>
                </a:moveTo>
                <a:lnTo>
                  <a:pt x="1242" y="181"/>
                </a:lnTo>
                <a:lnTo>
                  <a:pt x="1132" y="439"/>
                </a:lnTo>
                <a:lnTo>
                  <a:pt x="522" y="560"/>
                </a:lnTo>
                <a:lnTo>
                  <a:pt x="0" y="226"/>
                </a:lnTo>
                <a:lnTo>
                  <a:pt x="326" y="0"/>
                </a:lnTo>
                <a:lnTo>
                  <a:pt x="696" y="22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32640" y="4932360"/>
            <a:ext cx="218880" cy="3128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26080" y="4606920"/>
            <a:ext cx="1670040" cy="5349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" rIns="3240" tIns="1440" bIns="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59360" y="4343400"/>
            <a:ext cx="5572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3448080"/>
                <a:tab algn="l" pos="5172120"/>
                <a:tab algn="l" pos="6896160"/>
                <a:tab algn="l" pos="8620200"/>
                <a:tab algn="l" pos="10344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3733920"/>
            <a:ext cx="8236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Gatekeep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1447920" y="3657600"/>
            <a:ext cx="807840" cy="566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1487520" y="5451480"/>
            <a:ext cx="807840" cy="566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6"/>
          <a:stretch/>
        </p:blipFill>
        <p:spPr>
          <a:xfrm>
            <a:off x="4143240" y="4022640"/>
            <a:ext cx="808200" cy="567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7"/>
          <a:stretch/>
        </p:blipFill>
        <p:spPr>
          <a:xfrm>
            <a:off x="7937640" y="4746600"/>
            <a:ext cx="807840" cy="5666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228760" y="4129200"/>
            <a:ext cx="303480" cy="34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228760" y="5386320"/>
            <a:ext cx="26352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352400" y="4605480"/>
            <a:ext cx="265320" cy="49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467240" y="4548240"/>
            <a:ext cx="341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16880" y="5100480"/>
            <a:ext cx="43668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8800" y="4286160"/>
            <a:ext cx="824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Telephon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531280" y="3581280"/>
            <a:ext cx="8236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H.32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21080" y="3753000"/>
            <a:ext cx="8226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I.N.M.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3429000"/>
            <a:ext cx="98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End to en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measurement uni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7120" y="4014720"/>
            <a:ext cx="6316560" cy="1552680"/>
          </a:xfrm>
          <a:custGeom>
            <a:avLst/>
            <a:gdLst/>
            <a:ahLst/>
            <a:rect l="l" t="t" r="r" b="b"/>
            <a:pathLst>
              <a:path w="3996" h="978">
                <a:moveTo>
                  <a:pt x="0" y="660"/>
                </a:moveTo>
                <a:cubicBezTo>
                  <a:pt x="178" y="616"/>
                  <a:pt x="736" y="352"/>
                  <a:pt x="1068" y="396"/>
                </a:cubicBezTo>
                <a:cubicBezTo>
                  <a:pt x="1400" y="440"/>
                  <a:pt x="1636" y="870"/>
                  <a:pt x="1992" y="924"/>
                </a:cubicBezTo>
                <a:cubicBezTo>
                  <a:pt x="2348" y="978"/>
                  <a:pt x="2870" y="874"/>
                  <a:pt x="3204" y="720"/>
                </a:cubicBezTo>
                <a:cubicBezTo>
                  <a:pt x="3538" y="566"/>
                  <a:pt x="3831" y="150"/>
                  <a:pt x="3996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183200" y="4586040"/>
            <a:ext cx="245880" cy="57132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56440" y="4905360"/>
            <a:ext cx="1589040" cy="809640"/>
          </a:xfrm>
          <a:custGeom>
            <a:avLst/>
            <a:gdLst/>
            <a:ahLst/>
            <a:rect l="l" t="t" r="r" b="b"/>
            <a:pathLst>
              <a:path w="924" h="510">
                <a:moveTo>
                  <a:pt x="924" y="186"/>
                </a:moveTo>
                <a:cubicBezTo>
                  <a:pt x="794" y="163"/>
                  <a:pt x="304" y="0"/>
                  <a:pt x="152" y="54"/>
                </a:cubicBezTo>
                <a:cubicBezTo>
                  <a:pt x="0" y="108"/>
                  <a:pt x="39" y="415"/>
                  <a:pt x="9" y="510"/>
                </a:cubicBezTo>
              </a:path>
            </a:pathLst>
          </a:custGeom>
          <a:noFill/>
          <a:ln w="50760">
            <a:solidFill>
              <a:srgbClr val="0000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55920" y="4129200"/>
            <a:ext cx="5376960" cy="1263600"/>
          </a:xfrm>
          <a:custGeom>
            <a:avLst/>
            <a:gdLst/>
            <a:ahLst/>
            <a:rect l="l" t="t" r="r" b="b"/>
            <a:pathLst>
              <a:path w="3128" h="796">
                <a:moveTo>
                  <a:pt x="0" y="0"/>
                </a:moveTo>
                <a:cubicBezTo>
                  <a:pt x="125" y="54"/>
                  <a:pt x="526" y="196"/>
                  <a:pt x="750" y="324"/>
                </a:cubicBezTo>
                <a:cubicBezTo>
                  <a:pt x="975" y="452"/>
                  <a:pt x="1094" y="740"/>
                  <a:pt x="1346" y="768"/>
                </a:cubicBezTo>
                <a:cubicBezTo>
                  <a:pt x="1598" y="796"/>
                  <a:pt x="1965" y="537"/>
                  <a:pt x="2262" y="492"/>
                </a:cubicBezTo>
                <a:cubicBezTo>
                  <a:pt x="2559" y="447"/>
                  <a:pt x="2948" y="495"/>
                  <a:pt x="3128" y="496"/>
                </a:cubicBezTo>
              </a:path>
            </a:pathLst>
          </a:custGeom>
          <a:noFill/>
          <a:ln w="50760">
            <a:solidFill>
              <a:srgbClr val="0000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62320" y="5867280"/>
            <a:ext cx="98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End to en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measurement uni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1800" y="5410080"/>
            <a:ext cx="98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End to en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measurement uni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8"/>
          <a:stretch/>
        </p:blipFill>
        <p:spPr>
          <a:xfrm>
            <a:off x="5810400" y="5715000"/>
            <a:ext cx="807840" cy="5666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767640" y="5867280"/>
            <a:ext cx="98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End to en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measurement uni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98600" y="4262400"/>
            <a:ext cx="497160" cy="1447920"/>
          </a:xfrm>
          <a:custGeom>
            <a:avLst/>
            <a:gdLst/>
            <a:ahLst/>
            <a:rect l="l" t="t" r="r" b="b"/>
            <a:pathLst>
              <a:path w="314" h="912">
                <a:moveTo>
                  <a:pt x="12" y="0"/>
                </a:moveTo>
                <a:cubicBezTo>
                  <a:pt x="62" y="76"/>
                  <a:pt x="314" y="304"/>
                  <a:pt x="312" y="456"/>
                </a:cubicBezTo>
                <a:cubicBezTo>
                  <a:pt x="310" y="608"/>
                  <a:pt x="65" y="817"/>
                  <a:pt x="0" y="912"/>
                </a:cubicBezTo>
              </a:path>
            </a:pathLst>
          </a:custGeom>
          <a:noFill/>
          <a:ln w="50760">
            <a:solidFill>
              <a:srgbClr val="0000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ITU_Logo" descr=""/>
          <p:cNvPicPr/>
          <p:nvPr/>
        </p:nvPicPr>
        <p:blipFill>
          <a:blip r:embed="rId9"/>
          <a:stretch/>
        </p:blipFill>
        <p:spPr>
          <a:xfrm>
            <a:off x="304920" y="5791320"/>
            <a:ext cx="1052280" cy="10666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219320" y="6172200"/>
            <a:ext cx="824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 u="sng">
                <a:solidFill>
                  <a:srgbClr val="ff3300"/>
                </a:solidFill>
                <a:uFillTx/>
                <a:latin typeface="Arial"/>
              </a:rPr>
              <a:t>End-to-end assessment :PESQ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990720"/>
            <a:ext cx="990288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ntrusive measurement performed on  speech sig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utput : MOS score (from 1 to 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ne way measurement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oes not take into account propagation tim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not applicable for conversational situations (echo, double talk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ndependent on speaker (male ou female) and langu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akes in consideration propagation delay variations, and thus is applicable to transmission via packet networks (ex. : VoIP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ndependent on the measurement interfac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equires only PCM files at 8 or 16 kHz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tandardised Model (P.862 Recommendation) validated on many subjective databases, recognised as a reliable and cheap alternative to subjective tes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ITU_Logo" descr=""/>
          <p:cNvPicPr/>
          <p:nvPr/>
        </p:nvPicPr>
        <p:blipFill>
          <a:blip r:embed="rId1"/>
          <a:stretch/>
        </p:blipFill>
        <p:spPr>
          <a:xfrm>
            <a:off x="304920" y="5791320"/>
            <a:ext cx="1052280" cy="1066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219320" y="6172200"/>
            <a:ext cx="824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 u="sng">
                <a:solidFill>
                  <a:srgbClr val="ff3300"/>
                </a:solidFill>
                <a:uFillTx/>
                <a:latin typeface="Arial"/>
              </a:rPr>
              <a:t>Non-intrusive monitoring : INMD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066680"/>
            <a:ext cx="990288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Measurement performed on real communications (speech signal + signalling/protocol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Output : call detailed repor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Network interface : T1/E1 (measurement on all time slots and both direction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P.561 Recommend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pecifies the required parameters (speech level, noise level, echo, round trip delay), measurement ranges and accura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o be updated during the 2001-2004 study period to take into account new interfaces (Ethernet) and new parameters (mainly related to Vo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ITU_Logo" descr=""/>
          <p:cNvPicPr/>
          <p:nvPr/>
        </p:nvPicPr>
        <p:blipFill>
          <a:blip r:embed="rId1"/>
          <a:stretch/>
        </p:blipFill>
        <p:spPr>
          <a:xfrm>
            <a:off x="304920" y="5791320"/>
            <a:ext cx="1052280" cy="10666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219320" y="6172200"/>
            <a:ext cx="824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2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 u="sng">
                <a:solidFill>
                  <a:srgbClr val="ff3300"/>
                </a:solidFill>
                <a:uFillTx/>
                <a:latin typeface="Arial"/>
              </a:rPr>
              <a:t>Single ended model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1219320"/>
            <a:ext cx="9902880" cy="47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Measurement performed on  speech signal (need for a discrimination between types of signal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Non-intrusive measurement (no reference signal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Input : standard PCM files (as for P.862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Output : MOS score (idem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rained on subjective databases including conditions with VoIP impairm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Standardisation process running under Q.9/12 (4 or 5 candidate algorithm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ITU_Logo" descr=""/>
          <p:cNvPicPr/>
          <p:nvPr/>
        </p:nvPicPr>
        <p:blipFill>
          <a:blip r:embed="rId1"/>
          <a:stretch/>
        </p:blipFill>
        <p:spPr>
          <a:xfrm>
            <a:off x="304920" y="5791320"/>
            <a:ext cx="1052280" cy="10666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9320" y="6172200"/>
            <a:ext cx="824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07:23:15Z</dcterms:created>
  <dc:creator>Roberto Wilson Meirelles de Castro</dc:creator>
  <dc:description/>
  <dc:language>en-US</dc:language>
  <cp:lastModifiedBy>BARRIAC</cp:lastModifiedBy>
  <cp:lastPrinted>2000-09-20T01:32:11Z</cp:lastPrinted>
  <dcterms:modified xsi:type="dcterms:W3CDTF">2002-03-13T12:56:12Z</dcterms:modified>
  <cp:revision>51</cp:revision>
  <dc:subject/>
  <dc:title>PowerPoint Presentation</dc:title>
</cp:coreProperties>
</file>