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A049390-F3BD-4A28-8229-C9C6DE205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304560" y="4408560"/>
            <a:ext cx="63687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3173-BC1C-41BE-9D22-06ECAA0DF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BFA7-8C24-431C-9D55-E0EAAC9B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897D-7F38-45C1-BD7B-6CCC4E481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79C8-A64F-4F2A-96FE-AA30782DC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1CC0-ED0C-468A-B0CE-91857A48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2710-C1F2-4DB1-A511-FD25FCCF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9D78-4B39-4946-ACAB-BD28692F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4DA8-5419-43A2-ACF2-71D2386A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10D8-014A-42E4-BCDC-82E6B084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3E8C-082D-4A44-90F5-48D9D26D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DA09-5272-40B9-9E7D-ABD00D81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721E-D56B-4D15-8007-05EA847C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91C2-1A1B-4017-A2B9-88B03C377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160" y="533160"/>
            <a:ext cx="7010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3501"/>
              </a:spcBef>
              <a:spcAft>
                <a:spcPts val="35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commendation Y.1541 QoS Classes: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Basis for IP Network QoS Control</a:t>
            </a:r>
            <a:br>
              <a:rPr sz="3200"/>
            </a:br>
            <a:br>
              <a:rPr sz="10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--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eal Seitz, Chair SG 13/WP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29714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 QoS control: key to IP/PSTN network converg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.1541: “Step 1” in achieving QoS enabled IP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6800">
              <a:spcBef>
                <a:spcPts val="1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fy user/application needs via standard IP QoS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6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 the standardized QoS classes to and among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6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ze the QoS classes using network QoS mechanis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SzPct val="12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tandardize QoS signaling protocols using Y.154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ITU_Logo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12034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04760" y="609480"/>
            <a:ext cx="6476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P Network QoS Control: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en Issues and Discussion To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QoS signaling: requirements, principles,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networks signal “consumption” of impairment budge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networks signal commitments to “better” QoS val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network “call” control, availability specific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oS interworking among networks ( IP, FR, ATM 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QoS mechanisms: standardized or proprieta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cast quality digital video on IP-based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749"/>
              </a:spcBef>
              <a:buClr>
                <a:srgbClr val="ff3300"/>
              </a:buClr>
              <a:buSzPct val="15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oordinated effort involving several ITU-T SGs,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TU-R, IETF, other stake holders is warra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ITU_Logo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12034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mportance of IP Network QoS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IP/MM needs are clear, but too demanding for today’s 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c. G.114 -- “Mouth-to-ear” signal transmission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c. G.109 -- Categories of speech transmiss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c. G.1010 --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-user multimedia QoS categor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 QoS solutions exist, but are not widely implem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SVP/intserv -- Controlled load, guarantee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FFSERV -- EF, AF per hop behaviors (PHB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PLS, M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-- Traffic engineering, CoS, QoS, VP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1749"/>
              </a:spcBef>
              <a:buClr>
                <a:srgbClr val="ff3300"/>
              </a:buClr>
              <a:buSzPct val="15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inking user application needs with network QoS     mechanisms would advance PSTN/IP converg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chieving QoS in IP Networks -- Step 1: Quantify User/Application Needs in IP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e subjective descriptions of QoS imperfection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udio: “staticky, warbley, muffled, clippe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ideo: “blurry, jerky, blocky, busy, blotch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measurable IP network/terminal characteristic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cket loss, delay, delay variation,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 compression artifacts, capacity 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749"/>
              </a:spcBef>
              <a:buClr>
                <a:srgbClr val="ff3300"/>
              </a:buClr>
              <a:buSzPct val="15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apture results in a limited set of QoS classe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9080" indent="-5540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tegorize the major IP user application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9080" indent="-5540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n be communicated among networks via sign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9080" indent="-5540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n be implemented with existing IP QoS 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324000"/>
            <a:ext cx="9144000" cy="6533640"/>
            <a:chOff x="0" y="324000"/>
            <a:chExt cx="9144000" cy="6533640"/>
          </a:xfrm>
        </p:grpSpPr>
        <p:grpSp>
          <p:nvGrpSpPr>
            <p:cNvPr id="56" name=""/>
            <p:cNvGrpSpPr/>
            <p:nvPr/>
          </p:nvGrpSpPr>
          <p:grpSpPr>
            <a:xfrm>
              <a:off x="0" y="2404080"/>
              <a:ext cx="9144000" cy="2320920"/>
              <a:chOff x="0" y="2404080"/>
              <a:chExt cx="9144000" cy="2320920"/>
            </a:xfrm>
          </p:grpSpPr>
          <p:sp>
            <p:nvSpPr>
              <p:cNvPr id="57" name=""/>
              <p:cNvSpPr/>
              <p:nvPr/>
            </p:nvSpPr>
            <p:spPr>
              <a:xfrm>
                <a:off x="0" y="4072680"/>
                <a:ext cx="1341720" cy="54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rmin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842240" y="4027320"/>
                <a:ext cx="1301760" cy="54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rmin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801240" y="4304520"/>
                <a:ext cx="1734480" cy="42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Network Q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656000" y="4302000"/>
                <a:ext cx="1667160" cy="42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Network Q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956200" y="4303440"/>
                <a:ext cx="1635120" cy="42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Network Q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723400" y="2923920"/>
                <a:ext cx="169920" cy="921240"/>
              </a:xfrm>
              <a:custGeom>
                <a:avLst/>
                <a:gdLst>
                  <a:gd name="textAreaLeft" fmla="*/ 0 w 169920"/>
                  <a:gd name="textAreaRight" fmla="*/ 61200 w 169920"/>
                  <a:gd name="textAreaTop" fmla="*/ 23760 h 921240"/>
                  <a:gd name="textAreaBottom" fmla="*/ 897480 h 92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992680" y="2670480"/>
                <a:ext cx="3771720" cy="135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Times New Roman"/>
                  </a:rPr>
                  <a:t>Terminal-to-Terminal Q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Times New Roman"/>
                  </a:rPr>
                  <a:t>(Y.1541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   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Speed, Accuracy, Dependabilit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   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Service Availability (Futur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854400" y="3052440"/>
                <a:ext cx="179280" cy="930240"/>
              </a:xfrm>
              <a:custGeom>
                <a:avLst/>
                <a:gdLst>
                  <a:gd name="textAreaLeft" fmla="*/ 114480 w 179280"/>
                  <a:gd name="textAreaRight" fmla="*/ 179640 w 179280"/>
                  <a:gd name="textAreaTop" fmla="*/ 24120 h 930240"/>
                  <a:gd name="textAreaBottom" fmla="*/ 906120 h 930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7176240" y="2404080"/>
                <a:ext cx="1204200" cy="1562040"/>
                <a:chOff x="7176240" y="2404080"/>
                <a:chExt cx="1204200" cy="1562040"/>
              </a:xfrm>
            </p:grpSpPr>
            <p:grpSp>
              <p:nvGrpSpPr>
                <p:cNvPr id="66" name=""/>
                <p:cNvGrpSpPr/>
                <p:nvPr/>
              </p:nvGrpSpPr>
              <p:grpSpPr>
                <a:xfrm>
                  <a:off x="7176240" y="2765520"/>
                  <a:ext cx="1204200" cy="1200600"/>
                  <a:chOff x="7176240" y="2765520"/>
                  <a:chExt cx="1204200" cy="12006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176240" y="2765520"/>
                    <a:ext cx="1192680" cy="12006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8" name=""/>
                  <p:cNvGrpSpPr/>
                  <p:nvPr/>
                </p:nvGrpSpPr>
                <p:grpSpPr>
                  <a:xfrm>
                    <a:off x="7176240" y="2965680"/>
                    <a:ext cx="1204200" cy="784800"/>
                    <a:chOff x="7176240" y="2965680"/>
                    <a:chExt cx="1204200" cy="784800"/>
                  </a:xfrm>
                </p:grpSpPr>
                <p:sp>
                  <p:nvSpPr>
                    <p:cNvPr id="69" name=""/>
                    <p:cNvSpPr/>
                    <p:nvPr/>
                  </p:nvSpPr>
                  <p:spPr>
                    <a:xfrm>
                      <a:off x="7176240" y="3279600"/>
                      <a:ext cx="888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" name=""/>
                    <p:cNvSpPr/>
                    <p:nvPr/>
                  </p:nvSpPr>
                  <p:spPr>
                    <a:xfrm>
                      <a:off x="7176240" y="3750480"/>
                      <a:ext cx="888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" name=""/>
                    <p:cNvSpPr/>
                    <p:nvPr/>
                  </p:nvSpPr>
                  <p:spPr>
                    <a:xfrm flipV="1">
                      <a:off x="8065080" y="3436200"/>
                      <a:ext cx="315360" cy="313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" name=""/>
                    <p:cNvSpPr/>
                    <p:nvPr/>
                  </p:nvSpPr>
                  <p:spPr>
                    <a:xfrm flipV="1">
                      <a:off x="8065080" y="2965680"/>
                      <a:ext cx="315360" cy="313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" name=""/>
                    <p:cNvSpPr/>
                    <p:nvPr/>
                  </p:nvSpPr>
                  <p:spPr>
                    <a:xfrm>
                      <a:off x="7176240" y="3515040"/>
                      <a:ext cx="888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" name=""/>
                    <p:cNvSpPr/>
                    <p:nvPr/>
                  </p:nvSpPr>
                  <p:spPr>
                    <a:xfrm flipV="1">
                      <a:off x="8065080" y="3200760"/>
                      <a:ext cx="315360" cy="313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75" name=""/>
                <p:cNvSpPr/>
                <p:nvPr/>
              </p:nvSpPr>
              <p:spPr>
                <a:xfrm>
                  <a:off x="7625160" y="2404080"/>
                  <a:ext cx="315360" cy="549000"/>
                </a:xfrm>
                <a:prstGeom prst="upDownArrow">
                  <a:avLst>
                    <a:gd name="adj1" fmla="val 50000"/>
                    <a:gd name="adj2" fmla="val 3465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1196640" y="2469240"/>
                <a:ext cx="1346760" cy="1562040"/>
                <a:chOff x="1196640" y="2469240"/>
                <a:chExt cx="1346760" cy="1562040"/>
              </a:xfrm>
            </p:grpSpPr>
            <p:grpSp>
              <p:nvGrpSpPr>
                <p:cNvPr id="77" name=""/>
                <p:cNvGrpSpPr/>
                <p:nvPr/>
              </p:nvGrpSpPr>
              <p:grpSpPr>
                <a:xfrm>
                  <a:off x="1196640" y="2830680"/>
                  <a:ext cx="1346760" cy="1200600"/>
                  <a:chOff x="1196640" y="2830680"/>
                  <a:chExt cx="1346760" cy="120060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>
                    <a:off x="1196640" y="2830680"/>
                    <a:ext cx="1333440" cy="12006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9" name=""/>
                  <p:cNvGrpSpPr/>
                  <p:nvPr/>
                </p:nvGrpSpPr>
                <p:grpSpPr>
                  <a:xfrm>
                    <a:off x="1196640" y="3030840"/>
                    <a:ext cx="1346760" cy="784800"/>
                    <a:chOff x="1196640" y="3030840"/>
                    <a:chExt cx="1346760" cy="784800"/>
                  </a:xfrm>
                </p:grpSpPr>
                <p:sp>
                  <p:nvSpPr>
                    <p:cNvPr id="80" name=""/>
                    <p:cNvSpPr/>
                    <p:nvPr/>
                  </p:nvSpPr>
                  <p:spPr>
                    <a:xfrm>
                      <a:off x="1196640" y="3344760"/>
                      <a:ext cx="9939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" name=""/>
                    <p:cNvSpPr/>
                    <p:nvPr/>
                  </p:nvSpPr>
                  <p:spPr>
                    <a:xfrm>
                      <a:off x="1196640" y="3815640"/>
                      <a:ext cx="9939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" name=""/>
                    <p:cNvSpPr/>
                    <p:nvPr/>
                  </p:nvSpPr>
                  <p:spPr>
                    <a:xfrm flipV="1">
                      <a:off x="2190600" y="3501360"/>
                      <a:ext cx="352800" cy="313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 flipV="1">
                      <a:off x="2190600" y="3030840"/>
                      <a:ext cx="352800" cy="313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1196640" y="3580200"/>
                      <a:ext cx="9939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" name=""/>
                    <p:cNvSpPr/>
                    <p:nvPr/>
                  </p:nvSpPr>
                  <p:spPr>
                    <a:xfrm flipV="1">
                      <a:off x="2190600" y="3265920"/>
                      <a:ext cx="352800" cy="313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86" name=""/>
                <p:cNvSpPr/>
                <p:nvPr/>
              </p:nvSpPr>
              <p:spPr>
                <a:xfrm>
                  <a:off x="1698480" y="2469240"/>
                  <a:ext cx="352440" cy="549000"/>
                </a:xfrm>
                <a:prstGeom prst="upDownArrow">
                  <a:avLst>
                    <a:gd name="adj1" fmla="val 50000"/>
                    <a:gd name="adj2" fmla="val 3101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" name=""/>
            <p:cNvGrpSpPr/>
            <p:nvPr/>
          </p:nvGrpSpPr>
          <p:grpSpPr>
            <a:xfrm>
              <a:off x="1188720" y="324000"/>
              <a:ext cx="7497720" cy="2067120"/>
              <a:chOff x="1188720" y="324000"/>
              <a:chExt cx="7497720" cy="2067120"/>
            </a:xfrm>
          </p:grpSpPr>
          <p:sp>
            <p:nvSpPr>
              <p:cNvPr id="88" name=""/>
              <p:cNvSpPr/>
              <p:nvPr/>
            </p:nvSpPr>
            <p:spPr>
              <a:xfrm>
                <a:off x="2468880" y="324000"/>
                <a:ext cx="4962600" cy="36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.1541 “Mapping” Functio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188720" y="1085040"/>
                <a:ext cx="1783440" cy="1306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Voi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Vide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ata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all Contr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934000" y="1125720"/>
                <a:ext cx="345960" cy="1175400"/>
              </a:xfrm>
              <a:custGeom>
                <a:avLst/>
                <a:gdLst>
                  <a:gd name="textAreaLeft" fmla="*/ 0 w 345960"/>
                  <a:gd name="textAreaRight" fmla="*/ 124920 w 345960"/>
                  <a:gd name="textAreaTop" fmla="*/ 30600 h 1175400"/>
                  <a:gd name="textAreaBottom" fmla="*/ 1144800 h 1175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439440" y="1075680"/>
                <a:ext cx="3052440" cy="126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Customer-Perceived Q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ubjective Descriptor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Objective Estimator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935400" y="1055520"/>
                <a:ext cx="1751040" cy="126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Voi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Vide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ata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all Contr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6565680" y="1125720"/>
                <a:ext cx="291240" cy="1175400"/>
              </a:xfrm>
              <a:custGeom>
                <a:avLst/>
                <a:gdLst>
                  <a:gd name="textAreaLeft" fmla="*/ -360 w 291240"/>
                  <a:gd name="textAreaRight" fmla="*/ 104760 w 291240"/>
                  <a:gd name="textAreaTop" fmla="*/ 30600 h 1175400"/>
                  <a:gd name="textAreaBottom" fmla="*/ 1144800 h 1175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8550"/>
                    </a:lnTo>
                    <a:cubicBezTo>
                      <a:pt x="10800" y="9450"/>
                      <a:pt x="16200" y="10350"/>
                      <a:pt x="21600" y="10350"/>
                    </a:cubicBezTo>
                    <a:cubicBezTo>
                      <a:pt x="16200" y="10350"/>
                      <a:pt x="10800" y="11250"/>
                      <a:pt x="10800" y="1215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1384200" y="3996720"/>
              <a:ext cx="6416640" cy="2860920"/>
              <a:chOff x="1384200" y="3996720"/>
              <a:chExt cx="6416640" cy="2860920"/>
            </a:xfrm>
          </p:grpSpPr>
          <p:sp>
            <p:nvSpPr>
              <p:cNvPr id="95" name=""/>
              <p:cNvSpPr/>
              <p:nvPr/>
            </p:nvSpPr>
            <p:spPr>
              <a:xfrm>
                <a:off x="3359520" y="5522040"/>
                <a:ext cx="34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597280" y="5594400"/>
                <a:ext cx="22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1384200" y="6456240"/>
                <a:ext cx="35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424320" y="6365880"/>
                <a:ext cx="315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391000" y="6360840"/>
                <a:ext cx="40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384200" y="5527080"/>
                <a:ext cx="1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1384200" y="4060800"/>
                <a:ext cx="0" cy="239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800840" y="3996720"/>
                <a:ext cx="0" cy="228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589880" y="5492160"/>
                <a:ext cx="20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513920" y="6291000"/>
                <a:ext cx="28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3700080" y="4854960"/>
                <a:ext cx="1900440" cy="1078560"/>
                <a:chOff x="3700080" y="4854960"/>
                <a:chExt cx="1900440" cy="10785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785760" y="5227200"/>
                  <a:ext cx="1778400" cy="70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" name=""/>
                <p:cNvGrpSpPr/>
                <p:nvPr/>
              </p:nvGrpSpPr>
              <p:grpSpPr>
                <a:xfrm>
                  <a:off x="5113080" y="5306040"/>
                  <a:ext cx="487440" cy="392400"/>
                  <a:chOff x="5113080" y="5306040"/>
                  <a:chExt cx="487440" cy="3924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113080" y="5306040"/>
                    <a:ext cx="482760" cy="3924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113080" y="5511240"/>
                    <a:ext cx="360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5113080" y="5613840"/>
                    <a:ext cx="360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V="1">
                    <a:off x="5473080" y="5408280"/>
                    <a:ext cx="127440" cy="102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V="1">
                    <a:off x="5473080" y="5510880"/>
                    <a:ext cx="127440" cy="102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3700080" y="5227200"/>
                  <a:ext cx="487440" cy="392400"/>
                  <a:chOff x="3700080" y="5227200"/>
                  <a:chExt cx="487440" cy="3924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700080" y="5227200"/>
                    <a:ext cx="482760" cy="3924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700080" y="5432400"/>
                    <a:ext cx="360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700080" y="5535000"/>
                    <a:ext cx="360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flipV="1">
                    <a:off x="4060080" y="5329440"/>
                    <a:ext cx="127440" cy="102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flipV="1">
                    <a:off x="4060080" y="5432040"/>
                    <a:ext cx="127440" cy="102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9" name=""/>
                <p:cNvSpPr/>
                <p:nvPr/>
              </p:nvSpPr>
              <p:spPr>
                <a:xfrm flipH="1" flipV="1" rot="16200000">
                  <a:off x="4528800" y="4198320"/>
                  <a:ext cx="235440" cy="1548720"/>
                </a:xfrm>
                <a:custGeom>
                  <a:avLst/>
                  <a:gdLst>
                    <a:gd name="textAreaLeft" fmla="*/ 150840 w 235440"/>
                    <a:gd name="textAreaRight" fmla="*/ 236160 w 235440"/>
                    <a:gd name="textAreaTop" fmla="*/ 40320 h 1548720"/>
                    <a:gd name="textAreaBottom" fmla="*/ 1508400 h 1548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187520" y="5306040"/>
                  <a:ext cx="889200" cy="549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ontro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et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1556280" y="4854960"/>
                <a:ext cx="1900440" cy="1089720"/>
                <a:chOff x="1556280" y="4854960"/>
                <a:chExt cx="1900440" cy="10897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1642320" y="5238000"/>
                  <a:ext cx="1778040" cy="706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3" name=""/>
                <p:cNvGrpSpPr/>
                <p:nvPr/>
              </p:nvGrpSpPr>
              <p:grpSpPr>
                <a:xfrm>
                  <a:off x="2969280" y="5316480"/>
                  <a:ext cx="487440" cy="392400"/>
                  <a:chOff x="2969280" y="5316480"/>
                  <a:chExt cx="487440" cy="392400"/>
                </a:xfrm>
              </p:grpSpPr>
              <p:sp>
                <p:nvSpPr>
                  <p:cNvPr id="124" name=""/>
                  <p:cNvSpPr/>
                  <p:nvPr/>
                </p:nvSpPr>
                <p:spPr>
                  <a:xfrm>
                    <a:off x="2969280" y="5316480"/>
                    <a:ext cx="482760" cy="3924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2969280" y="5521680"/>
                    <a:ext cx="360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2969280" y="5624280"/>
                    <a:ext cx="360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 flipV="1">
                    <a:off x="3329280" y="5418720"/>
                    <a:ext cx="127440" cy="102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 flipV="1">
                    <a:off x="3329280" y="5521320"/>
                    <a:ext cx="127440" cy="102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9" name=""/>
                <p:cNvGrpSpPr/>
                <p:nvPr/>
              </p:nvGrpSpPr>
              <p:grpSpPr>
                <a:xfrm>
                  <a:off x="1556280" y="5238000"/>
                  <a:ext cx="487440" cy="392400"/>
                  <a:chOff x="1556280" y="5238000"/>
                  <a:chExt cx="487440" cy="39240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1556280" y="5238000"/>
                    <a:ext cx="482760" cy="3924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1556280" y="5443200"/>
                    <a:ext cx="360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1556280" y="5545800"/>
                    <a:ext cx="360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flipV="1">
                    <a:off x="1916280" y="5340240"/>
                    <a:ext cx="127440" cy="102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flipV="1">
                    <a:off x="1916280" y="5442840"/>
                    <a:ext cx="127440" cy="102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5" name=""/>
                <p:cNvSpPr/>
                <p:nvPr/>
              </p:nvSpPr>
              <p:spPr>
                <a:xfrm flipH="1" flipV="1" rot="16200000">
                  <a:off x="2385000" y="4198320"/>
                  <a:ext cx="235440" cy="1548720"/>
                </a:xfrm>
                <a:custGeom>
                  <a:avLst/>
                  <a:gdLst>
                    <a:gd name="textAreaLeft" fmla="*/ 150840 w 235440"/>
                    <a:gd name="textAreaRight" fmla="*/ 236160 w 235440"/>
                    <a:gd name="textAreaTop" fmla="*/ 40320 h 1548720"/>
                    <a:gd name="textAreaBottom" fmla="*/ 1508400 h 1548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043720" y="5316480"/>
                  <a:ext cx="889200" cy="549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ontro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et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3671280" y="6073200"/>
                <a:ext cx="1778400" cy="784440"/>
                <a:chOff x="3671280" y="6073200"/>
                <a:chExt cx="1778400" cy="7844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3671280" y="6151320"/>
                  <a:ext cx="1778400" cy="70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101480" y="6229800"/>
                  <a:ext cx="918000" cy="549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Bear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et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0" name=""/>
                <p:cNvGrpSpPr/>
                <p:nvPr/>
              </p:nvGrpSpPr>
              <p:grpSpPr>
                <a:xfrm>
                  <a:off x="3671280" y="6073200"/>
                  <a:ext cx="487440" cy="392400"/>
                  <a:chOff x="3671280" y="6073200"/>
                  <a:chExt cx="487440" cy="39240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>
                    <a:off x="3671280" y="6073200"/>
                    <a:ext cx="482760" cy="3924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3671280" y="6278400"/>
                    <a:ext cx="360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3671280" y="6381000"/>
                    <a:ext cx="360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flipV="1">
                    <a:off x="4031280" y="6175440"/>
                    <a:ext cx="127440" cy="102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flipV="1">
                    <a:off x="4031280" y="6278040"/>
                    <a:ext cx="127440" cy="102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4904640" y="6073200"/>
                  <a:ext cx="487440" cy="392400"/>
                  <a:chOff x="4904640" y="6073200"/>
                  <a:chExt cx="487440" cy="39240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>
                    <a:off x="4904640" y="6073200"/>
                    <a:ext cx="482760" cy="3924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4904640" y="6278400"/>
                    <a:ext cx="360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4904640" y="6381000"/>
                    <a:ext cx="360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V="1">
                    <a:off x="5264640" y="6175440"/>
                    <a:ext cx="127440" cy="102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flipV="1">
                    <a:off x="5264640" y="6278040"/>
                    <a:ext cx="127440" cy="102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2" name=""/>
              <p:cNvGrpSpPr/>
              <p:nvPr/>
            </p:nvGrpSpPr>
            <p:grpSpPr>
              <a:xfrm>
                <a:off x="1692000" y="6073200"/>
                <a:ext cx="1778400" cy="784440"/>
                <a:chOff x="1692000" y="6073200"/>
                <a:chExt cx="1778400" cy="78444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1692000" y="6151320"/>
                  <a:ext cx="1778400" cy="70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122200" y="6229800"/>
                  <a:ext cx="918000" cy="549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Bear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et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5" name=""/>
                <p:cNvGrpSpPr/>
                <p:nvPr/>
              </p:nvGrpSpPr>
              <p:grpSpPr>
                <a:xfrm>
                  <a:off x="1692000" y="6073200"/>
                  <a:ext cx="487440" cy="392400"/>
                  <a:chOff x="1692000" y="6073200"/>
                  <a:chExt cx="487440" cy="39240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>
                    <a:off x="1692000" y="6073200"/>
                    <a:ext cx="482760" cy="3924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1692000" y="6278400"/>
                    <a:ext cx="360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1692000" y="6381000"/>
                    <a:ext cx="360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flipV="1">
                    <a:off x="2052000" y="6175440"/>
                    <a:ext cx="127440" cy="102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flipV="1">
                    <a:off x="2052000" y="6278040"/>
                    <a:ext cx="127440" cy="102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" name=""/>
                <p:cNvGrpSpPr/>
                <p:nvPr/>
              </p:nvGrpSpPr>
              <p:grpSpPr>
                <a:xfrm>
                  <a:off x="2925360" y="6073200"/>
                  <a:ext cx="487440" cy="392400"/>
                  <a:chOff x="2925360" y="6073200"/>
                  <a:chExt cx="487440" cy="3924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2925360" y="6073200"/>
                    <a:ext cx="482760" cy="3924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2925360" y="6278400"/>
                    <a:ext cx="360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2925360" y="6381000"/>
                    <a:ext cx="360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flipV="1">
                    <a:off x="3285360" y="6175440"/>
                    <a:ext cx="127440" cy="102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flipV="1">
                    <a:off x="3285360" y="6278040"/>
                    <a:ext cx="127440" cy="102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7" name=""/>
              <p:cNvGrpSpPr/>
              <p:nvPr/>
            </p:nvGrpSpPr>
            <p:grpSpPr>
              <a:xfrm>
                <a:off x="5794200" y="5995080"/>
                <a:ext cx="1778400" cy="783720"/>
                <a:chOff x="5794200" y="5995080"/>
                <a:chExt cx="1778400" cy="7837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5794200" y="6073200"/>
                  <a:ext cx="1778400" cy="705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224400" y="6151680"/>
                  <a:ext cx="918000" cy="549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Bear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et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0" name=""/>
                <p:cNvGrpSpPr/>
                <p:nvPr/>
              </p:nvGrpSpPr>
              <p:grpSpPr>
                <a:xfrm>
                  <a:off x="5794200" y="5995080"/>
                  <a:ext cx="487440" cy="392040"/>
                  <a:chOff x="5794200" y="5995080"/>
                  <a:chExt cx="487440" cy="39204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5794200" y="5995080"/>
                    <a:ext cx="482760" cy="39204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5794200" y="6199920"/>
                    <a:ext cx="360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5794200" y="6302520"/>
                    <a:ext cx="360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flipV="1">
                    <a:off x="6154200" y="6097320"/>
                    <a:ext cx="127440" cy="102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flipV="1">
                    <a:off x="6154200" y="6199920"/>
                    <a:ext cx="127440" cy="102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7027560" y="5995080"/>
                  <a:ext cx="487440" cy="392040"/>
                  <a:chOff x="7027560" y="5995080"/>
                  <a:chExt cx="487440" cy="39204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>
                    <a:off x="7027560" y="5995080"/>
                    <a:ext cx="482760" cy="39204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7027560" y="6199920"/>
                    <a:ext cx="360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7027560" y="6302520"/>
                    <a:ext cx="360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flipV="1">
                    <a:off x="7387560" y="6097320"/>
                    <a:ext cx="127440" cy="102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V="1">
                    <a:off x="7387560" y="6199920"/>
                    <a:ext cx="127440" cy="102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2" name=""/>
              <p:cNvGrpSpPr/>
              <p:nvPr/>
            </p:nvGrpSpPr>
            <p:grpSpPr>
              <a:xfrm>
                <a:off x="5806440" y="4854960"/>
                <a:ext cx="1900800" cy="1074960"/>
                <a:chOff x="5806440" y="4854960"/>
                <a:chExt cx="1900800" cy="10749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892120" y="5223600"/>
                  <a:ext cx="1778760" cy="70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4" name=""/>
                <p:cNvGrpSpPr/>
                <p:nvPr/>
              </p:nvGrpSpPr>
              <p:grpSpPr>
                <a:xfrm>
                  <a:off x="7219440" y="5302080"/>
                  <a:ext cx="487800" cy="392400"/>
                  <a:chOff x="7219440" y="5302080"/>
                  <a:chExt cx="487800" cy="39240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7219440" y="5302080"/>
                    <a:ext cx="483120" cy="3924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7219440" y="5507280"/>
                    <a:ext cx="360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7219440" y="5609880"/>
                    <a:ext cx="360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V="1">
                    <a:off x="7579440" y="5404320"/>
                    <a:ext cx="127800" cy="102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flipV="1">
                    <a:off x="7579440" y="5506920"/>
                    <a:ext cx="127800" cy="102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5806440" y="5223600"/>
                  <a:ext cx="487440" cy="392400"/>
                  <a:chOff x="5806440" y="5223600"/>
                  <a:chExt cx="487440" cy="39240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5806440" y="5223600"/>
                    <a:ext cx="482760" cy="3924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5806440" y="5428800"/>
                    <a:ext cx="360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5806440" y="5531400"/>
                    <a:ext cx="360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flipV="1">
                    <a:off x="6166440" y="5325840"/>
                    <a:ext cx="127440" cy="102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flipV="1">
                    <a:off x="6166440" y="5428440"/>
                    <a:ext cx="127440" cy="102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6" name=""/>
                <p:cNvSpPr/>
                <p:nvPr/>
              </p:nvSpPr>
              <p:spPr>
                <a:xfrm flipH="1" flipV="1" rot="16200000">
                  <a:off x="6634440" y="4197960"/>
                  <a:ext cx="235440" cy="1549080"/>
                </a:xfrm>
                <a:custGeom>
                  <a:avLst/>
                  <a:gdLst>
                    <a:gd name="textAreaLeft" fmla="*/ 150840 w 235440"/>
                    <a:gd name="textAreaRight" fmla="*/ 236160 w 235440"/>
                    <a:gd name="textAreaTop" fmla="*/ 40320 h 1549080"/>
                    <a:gd name="textAreaBottom" fmla="*/ 1508760 h 1549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6293880" y="5302080"/>
                  <a:ext cx="889200" cy="549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ontro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et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8" name=""/>
              <p:cNvSpPr/>
              <p:nvPr/>
            </p:nvSpPr>
            <p:spPr>
              <a:xfrm>
                <a:off x="2331720" y="5825520"/>
                <a:ext cx="319680" cy="411120"/>
              </a:xfrm>
              <a:prstGeom prst="upDownArrow">
                <a:avLst>
                  <a:gd name="adj1" fmla="val 50000"/>
                  <a:gd name="adj2" fmla="val 2560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449960" y="5825520"/>
                <a:ext cx="320040" cy="411120"/>
              </a:xfrm>
              <a:prstGeom prst="upDownArrow">
                <a:avLst>
                  <a:gd name="adj1" fmla="val 50000"/>
                  <a:gd name="adj2" fmla="val 2557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522840" y="5794920"/>
                <a:ext cx="319680" cy="411480"/>
              </a:xfrm>
              <a:prstGeom prst="upDownArrow">
                <a:avLst>
                  <a:gd name="adj1" fmla="val 50000"/>
                  <a:gd name="adj2" fmla="val 2562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ble 1/Y.1541 -- IP QoS Class Definitions and Network Performance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38120" y="1447920"/>
          <a:ext cx="8534520" cy="552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447920"/>
                    <a:ext cx="853452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ble 2/Y.1541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uidance for IP QoS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24000" y="1600200"/>
          <a:ext cx="85723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600200"/>
                    <a:ext cx="85723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ttributes of the Y.1541 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P Network QoS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mpass the major IP user application categ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relatable to practical IP network QoS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achieved in realistic network implemen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verifiable at jurisdictional network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0">
              <a:spcBef>
                <a:spcPts val="601"/>
              </a:spcBef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/IWF can measure QoS to ensure values are m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??"/>
              </a:rPr>
              <a:t>Can support QoS negotiation among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1749"/>
              </a:spcBef>
              <a:buClr>
                <a:srgbClr val="ff3300"/>
              </a:buClr>
              <a:buSzPct val="150000"/>
              <a:buFont typeface="Symbol" charset="2"/>
              <a:buChar char="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eet the need for a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lingua franca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to support QoS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nter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chieving QoS in IP Networks -- Step 2: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Signal QoS Classes to/among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the user requesting service to specify QoS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specification of traffic descriptor (Rec. Y.122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requests for basic IP transport: QoS, traf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well-defined apps to be identified ex(im)plici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de whether to take lower QoS or clear 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 dynamic QoS control, not static al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QoS class mapping among diverse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QoS choices for call control, availability (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SzPct val="15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ommunicate the Y.1541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QoS classes direct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mpl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vailable QoS control strategie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ssion control / resource reserv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E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RSVP, RSVP-TE, MPLS CR-LDP, ...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ority queuing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E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DIFFSERV AF, EF PHB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ffic segregation / routing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E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PLS-based VP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ction switching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G 1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Rec. Y.172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1749"/>
              </a:spcBef>
              <a:buClr>
                <a:srgbClr val="ff3300"/>
              </a:buClr>
              <a:buSzPct val="15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echanisms should be activated/controlled by signaling Y.1541 QoS classes among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6858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3049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chieving QoS in IP Networks -- Step 3: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Realize QoS Classes via Network Mech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11:55:14Z</dcterms:created>
  <dc:creator>Neal B. Seitz</dc:creator>
  <dc:description/>
  <dc:language>en-US</dc:language>
  <cp:lastModifiedBy>Neal Seitz</cp:lastModifiedBy>
  <cp:lastPrinted>2002-02-20T14:59:21Z</cp:lastPrinted>
  <dcterms:modified xsi:type="dcterms:W3CDTF">2002-03-02T00:41:43Z</dcterms:modified>
  <cp:revision>167</cp:revision>
  <dc:subject/>
  <dc:title>No Slide Title</dc:title>
</cp:coreProperties>
</file>